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962-EF72-47E8-81E3-A19ED57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7D1-B568-4473-9071-D37BB3C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C07-7CD7-4792-A5DE-EACFA843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083-2E1B-40CE-8657-F9ED905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814-3A61-442C-B4C5-84B4AC1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B4E-E242-4209-9E50-D1F6D938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20B-7CB4-49BB-9338-34F1672D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549-4B57-4F5F-8CD0-01AE8DE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540-3BCF-4EF3-80C4-041341F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980-0F2A-4BA1-AFF0-87FFC04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56F-619A-4981-9639-17301EB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7A2-FA98-462A-BB9B-0630AB9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40B4-911E-49ED-9D08-55B4996E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63560" y="765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党建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8FB-9B8D-4382-A951-DB87ADBC90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556000" y="2201760"/>
            <a:ext cx="4895640" cy="684360"/>
            <a:chOff x="2556000" y="2201760"/>
            <a:chExt cx="4895640" cy="684360"/>
          </a:xfrm>
        </p:grpSpPr>
        <p:sp>
          <p:nvSpPr>
            <p:cNvPr id="49" name="任意多边形 5"/>
            <p:cNvSpPr/>
            <p:nvPr/>
          </p:nvSpPr>
          <p:spPr>
            <a:xfrm>
              <a:off x="2556000" y="220176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6"/>
            <p:cNvSpPr/>
            <p:nvPr/>
          </p:nvSpPr>
          <p:spPr>
            <a:xfrm>
              <a:off x="2603880" y="221832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556000" y="2968560"/>
            <a:ext cx="4895640" cy="682560"/>
            <a:chOff x="2556000" y="2968560"/>
            <a:chExt cx="4895640" cy="682560"/>
          </a:xfrm>
        </p:grpSpPr>
        <p:sp>
          <p:nvSpPr>
            <p:cNvPr id="52" name="任意多边形 8"/>
            <p:cNvSpPr/>
            <p:nvPr/>
          </p:nvSpPr>
          <p:spPr>
            <a:xfrm>
              <a:off x="2556000" y="296856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9"/>
            <p:cNvSpPr/>
            <p:nvPr/>
          </p:nvSpPr>
          <p:spPr>
            <a:xfrm>
              <a:off x="2603880" y="298512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556000" y="3733920"/>
            <a:ext cx="4895640" cy="684000"/>
            <a:chOff x="2556000" y="3733920"/>
            <a:chExt cx="4895640" cy="684000"/>
          </a:xfrm>
        </p:grpSpPr>
        <p:sp>
          <p:nvSpPr>
            <p:cNvPr id="55" name="任意多边形 11"/>
            <p:cNvSpPr/>
            <p:nvPr/>
          </p:nvSpPr>
          <p:spPr>
            <a:xfrm>
              <a:off x="2556000" y="3733920"/>
              <a:ext cx="489564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2"/>
            <p:cNvSpPr/>
            <p:nvPr/>
          </p:nvSpPr>
          <p:spPr>
            <a:xfrm>
              <a:off x="2603880" y="3750480"/>
              <a:ext cx="479952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56000" y="4500720"/>
            <a:ext cx="4895640" cy="682560"/>
            <a:chOff x="2556000" y="4500720"/>
            <a:chExt cx="4895640" cy="682560"/>
          </a:xfrm>
        </p:grpSpPr>
        <p:sp>
          <p:nvSpPr>
            <p:cNvPr id="58" name="任意多边形 14"/>
            <p:cNvSpPr/>
            <p:nvPr/>
          </p:nvSpPr>
          <p:spPr>
            <a:xfrm>
              <a:off x="2556000" y="450072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5"/>
            <p:cNvSpPr/>
            <p:nvPr/>
          </p:nvSpPr>
          <p:spPr>
            <a:xfrm>
              <a:off x="2603880" y="451728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56000" y="5265720"/>
            <a:ext cx="4895640" cy="684360"/>
            <a:chOff x="2556000" y="5265720"/>
            <a:chExt cx="4895640" cy="684360"/>
          </a:xfrm>
        </p:grpSpPr>
        <p:sp>
          <p:nvSpPr>
            <p:cNvPr id="61" name="任意多边形 17"/>
            <p:cNvSpPr/>
            <p:nvPr/>
          </p:nvSpPr>
          <p:spPr>
            <a:xfrm>
              <a:off x="2556000" y="526572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8"/>
            <p:cNvSpPr/>
            <p:nvPr/>
          </p:nvSpPr>
          <p:spPr>
            <a:xfrm>
              <a:off x="2603880" y="528228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19280" y="1395360"/>
            <a:ext cx="5832360" cy="684360"/>
            <a:chOff x="1619280" y="1395360"/>
            <a:chExt cx="5832360" cy="684360"/>
          </a:xfrm>
        </p:grpSpPr>
        <p:sp>
          <p:nvSpPr>
            <p:cNvPr id="64" name="任意多边形 23"/>
            <p:cNvSpPr/>
            <p:nvPr/>
          </p:nvSpPr>
          <p:spPr>
            <a:xfrm>
              <a:off x="1619280" y="1395360"/>
              <a:ext cx="583236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round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654560" y="1408680"/>
              <a:ext cx="5759640" cy="659160"/>
              <a:chOff x="1654560" y="1408680"/>
              <a:chExt cx="5759640" cy="659160"/>
            </a:xfrm>
          </p:grpSpPr>
          <p:pic>
            <p:nvPicPr>
              <p:cNvPr id="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4560" y="1408680"/>
                <a:ext cx="575964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1666080" y="1411560"/>
                <a:ext cx="573804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620720" y="2201760"/>
            <a:ext cx="719280" cy="684360"/>
            <a:chOff x="1620720" y="2201760"/>
            <a:chExt cx="719280" cy="684360"/>
          </a:xfrm>
        </p:grpSpPr>
        <p:sp>
          <p:nvSpPr>
            <p:cNvPr id="69" name="圆角矩形 26"/>
            <p:cNvSpPr/>
            <p:nvPr/>
          </p:nvSpPr>
          <p:spPr>
            <a:xfrm>
              <a:off x="1620720" y="220176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649880" y="2212920"/>
              <a:ext cx="659160" cy="665280"/>
              <a:chOff x="1649880" y="2212920"/>
              <a:chExt cx="659160" cy="665280"/>
            </a:xfrm>
          </p:grpSpPr>
          <p:pic>
            <p:nvPicPr>
              <p:cNvPr id="71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880" y="221292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686960" y="22500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1620720" y="2968560"/>
            <a:ext cx="719280" cy="682560"/>
            <a:chOff x="1620720" y="2968560"/>
            <a:chExt cx="719280" cy="682560"/>
          </a:xfrm>
        </p:grpSpPr>
        <p:sp>
          <p:nvSpPr>
            <p:cNvPr id="74" name="圆角矩形 29"/>
            <p:cNvSpPr/>
            <p:nvPr/>
          </p:nvSpPr>
          <p:spPr>
            <a:xfrm>
              <a:off x="1620720" y="296856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649880" y="2981880"/>
              <a:ext cx="659160" cy="657360"/>
              <a:chOff x="1649880" y="2981880"/>
              <a:chExt cx="659160" cy="657360"/>
            </a:xfrm>
          </p:grpSpPr>
          <p:pic>
            <p:nvPicPr>
              <p:cNvPr id="76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9880" y="2981880"/>
                <a:ext cx="65916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1686960" y="30164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620720" y="3733920"/>
            <a:ext cx="719280" cy="684000"/>
            <a:chOff x="1620720" y="3733920"/>
            <a:chExt cx="719280" cy="684000"/>
          </a:xfrm>
        </p:grpSpPr>
        <p:sp>
          <p:nvSpPr>
            <p:cNvPr id="79" name="圆角矩形 32"/>
            <p:cNvSpPr/>
            <p:nvPr/>
          </p:nvSpPr>
          <p:spPr>
            <a:xfrm>
              <a:off x="1620720" y="3733920"/>
              <a:ext cx="71928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649880" y="3743280"/>
              <a:ext cx="659160" cy="664920"/>
              <a:chOff x="1649880" y="3743280"/>
              <a:chExt cx="659160" cy="664920"/>
            </a:xfrm>
          </p:grpSpPr>
          <p:pic>
            <p:nvPicPr>
              <p:cNvPr id="81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880" y="3743280"/>
                <a:ext cx="65916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1686960" y="378216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1620720" y="4500720"/>
            <a:ext cx="719280" cy="682560"/>
            <a:chOff x="1620720" y="4500720"/>
            <a:chExt cx="719280" cy="682560"/>
          </a:xfrm>
        </p:grpSpPr>
        <p:sp>
          <p:nvSpPr>
            <p:cNvPr id="84" name="圆角矩形 35"/>
            <p:cNvSpPr/>
            <p:nvPr/>
          </p:nvSpPr>
          <p:spPr>
            <a:xfrm>
              <a:off x="1620720" y="450072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649880" y="4512240"/>
              <a:ext cx="659160" cy="663480"/>
              <a:chOff x="1649880" y="4512240"/>
              <a:chExt cx="659160" cy="663480"/>
            </a:xfrm>
          </p:grpSpPr>
          <p:pic>
            <p:nvPicPr>
              <p:cNvPr id="86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49880" y="4512240"/>
                <a:ext cx="65916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686960" y="454860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1620720" y="5265720"/>
            <a:ext cx="719280" cy="684360"/>
            <a:chOff x="1620720" y="5265720"/>
            <a:chExt cx="719280" cy="684360"/>
          </a:xfrm>
        </p:grpSpPr>
        <p:sp>
          <p:nvSpPr>
            <p:cNvPr id="89" name="圆角矩形 38"/>
            <p:cNvSpPr/>
            <p:nvPr/>
          </p:nvSpPr>
          <p:spPr>
            <a:xfrm>
              <a:off x="1620720" y="526572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649880" y="5273280"/>
              <a:ext cx="659160" cy="665280"/>
              <a:chOff x="1649880" y="5273280"/>
              <a:chExt cx="659160" cy="665280"/>
            </a:xfrm>
          </p:grpSpPr>
          <p:pic>
            <p:nvPicPr>
              <p:cNvPr id="91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649880" y="527328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686960" y="53136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39640" y="6237360"/>
            <a:ext cx="504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00:10Z</dcterms:created>
  <dc:creator>幻灯片之家：www.eeppt.com; 雨林木风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9-18T13:16:1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