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9B0C-5C3F-40D5-A37A-5BCE67DE6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A58C-44CA-459A-8656-1975E510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679D-AF24-412C-A0CE-0C267EB33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836B-D7C4-48B2-8AA1-835FECB72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ECD3-2944-4B1F-B422-E0694AA5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76A7-4E70-4EBE-8032-196C8E2C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65E7-88DB-4D0F-A53E-3BFFB76C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408C-0ACE-4E44-979D-AA3857A1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1A8E-09A4-43D1-8D44-C3B2B57D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8A07-4DB6-4EA8-9FEC-31E9C18D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0866-8130-48A6-90B2-37E4F6EA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8BE1-98E9-4E40-A258-450D236A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BACC-69D9-4DE1-BE38-E7E415F2E43E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E9C8-20FB-4A59-96F7-B8E636A27C9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5148360" y="6093000"/>
            <a:ext cx="7189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98800" y="260280"/>
            <a:ext cx="560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4f0e2"/>
                </a:solidFill>
                <a:latin typeface="微软雅黑"/>
                <a:ea typeface="微软雅黑"/>
              </a:rPr>
              <a:t>哆啦</a:t>
            </a:r>
            <a:r>
              <a:rPr b="1" lang="en-US" sz="4000" spc="-1" strike="noStrike">
                <a:solidFill>
                  <a:srgbClr val="f4f0e2"/>
                </a:solidFill>
                <a:latin typeface="微软雅黑"/>
                <a:ea typeface="微软雅黑"/>
              </a:rPr>
              <a:t>a</a:t>
            </a:r>
            <a:r>
              <a:rPr b="1" lang="zh-CN" sz="4000" spc="-1" strike="noStrike">
                <a:solidFill>
                  <a:srgbClr val="f4f0e2"/>
                </a:solidFill>
                <a:latin typeface="微软雅黑"/>
                <a:ea typeface="微软雅黑"/>
              </a:rPr>
              <a:t>梦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68360" y="3357720"/>
            <a:ext cx="5328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EF37-7F91-4DCC-9C69-995A84259A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7T06:25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7:52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