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BF8D-19CB-4351-9FDE-2F1B4A486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6ACC7-19C9-4AF0-8ADA-343DDD4A6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05CA-F4E1-40B8-BAAB-46A0BD855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AA67-6137-47C9-A8CD-6B177526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0AA2-C27B-4792-893F-1AD6E6845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143B-620C-450B-90FA-346FB162C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C498-2E05-46F9-A4C8-453DA182A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0500-631D-4F16-8E49-9B8618415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80B8-FEAA-47F4-93C3-BE4BBCC06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4E56-E41A-46B3-AF60-39C7775F7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0C08-3E34-4BF4-B472-6A0E502D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72F0-F9FD-4B47-8E01-1068EBE30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EE3FA-6AAF-4F16-9D7F-BC85B1BB3B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57200" y="117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动漫卡通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4499-655F-42F5-AB5F-E9B916B213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2411280" y="620640"/>
            <a:ext cx="410400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黑体"/>
              </a:rPr>
              <a:t>Good bye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900000" y="2565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4:49:07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6:38Z</dcterms:modified>
  <cp:revision>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