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363-D5FA-4B66-8128-D67393D0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A25-4555-42BA-AE8B-57D52939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C060-ED51-455C-99C3-20910540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BE9-58E8-4E25-A05D-B616EEFE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C43-820B-4A8C-9160-FA6A8D37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F516-BD9D-4BEB-A6B3-041DBF44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537-3BBE-4237-AFB7-3E50C9D0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FF38-7E65-46F4-B4F6-A401DE05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58B8-B40C-42AE-9E53-F0849DE7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CC3-B769-406D-BA83-E5746330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59C0-A964-43C8-AEEA-D3DA16F7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AF3-F0C0-4619-8E05-FE80F066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4"/>
          <p:cNvSpPr/>
          <p:nvPr/>
        </p:nvSpPr>
        <p:spPr>
          <a:xfrm>
            <a:off x="0" y="-1440"/>
            <a:ext cx="9144000" cy="1742760"/>
          </a:xfrm>
          <a:prstGeom prst="pie">
            <a:avLst/>
          </a:prstGeom>
          <a:gradFill rotWithShape="0">
            <a:gsLst>
              <a:gs pos="0">
                <a:srgbClr val="2041a2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1" name="Rectangle 34"/>
          <p:cNvSpPr/>
          <p:nvPr/>
        </p:nvSpPr>
        <p:spPr>
          <a:xfrm>
            <a:off x="0" y="6551640"/>
            <a:ext cx="9144000" cy="333360"/>
          </a:xfrm>
          <a:prstGeom prst="rect">
            <a:avLst/>
          </a:prstGeom>
          <a:solidFill>
            <a:srgbClr val="1cae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2" name="Freeform 35"/>
          <p:cNvSpPr/>
          <p:nvPr/>
        </p:nvSpPr>
        <p:spPr>
          <a:xfrm>
            <a:off x="0" y="-1440"/>
            <a:ext cx="9158400" cy="13507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cae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4179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4179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4179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4179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4179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" name="Group 36"/>
          <p:cNvGrpSpPr/>
          <p:nvPr/>
        </p:nvGrpSpPr>
        <p:grpSpPr>
          <a:xfrm>
            <a:off x="250920" y="5832360"/>
            <a:ext cx="720360" cy="792000"/>
            <a:chOff x="250920" y="5832360"/>
            <a:chExt cx="720360" cy="792000"/>
          </a:xfrm>
        </p:grpSpPr>
        <p:grpSp>
          <p:nvGrpSpPr>
            <p:cNvPr id="6" name="Group 37"/>
            <p:cNvGrpSpPr/>
            <p:nvPr/>
          </p:nvGrpSpPr>
          <p:grpSpPr>
            <a:xfrm>
              <a:off x="250920" y="5832360"/>
              <a:ext cx="720360" cy="771120"/>
              <a:chOff x="250920" y="5832360"/>
              <a:chExt cx="720360" cy="771120"/>
            </a:xfrm>
          </p:grpSpPr>
          <p:sp>
            <p:nvSpPr>
              <p:cNvPr id="7" name="Oval 38"/>
              <p:cNvSpPr/>
              <p:nvPr/>
            </p:nvSpPr>
            <p:spPr>
              <a:xfrm>
                <a:off x="250920" y="6038640"/>
                <a:ext cx="179280" cy="546120"/>
              </a:xfrm>
              <a:prstGeom prst="ellipse">
                <a:avLst/>
              </a:prstGeom>
              <a:solidFill>
                <a:srgbClr val="1cae49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8" name="Oval 39"/>
              <p:cNvSpPr/>
              <p:nvPr/>
            </p:nvSpPr>
            <p:spPr>
              <a:xfrm>
                <a:off x="456120" y="5832360"/>
                <a:ext cx="308880" cy="771120"/>
              </a:xfrm>
              <a:prstGeom prst="ellipse">
                <a:avLst/>
              </a:prstGeom>
              <a:solidFill>
                <a:srgbClr val="9ac763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9" name="Oval 40"/>
              <p:cNvSpPr/>
              <p:nvPr/>
            </p:nvSpPr>
            <p:spPr>
              <a:xfrm>
                <a:off x="792000" y="6038640"/>
                <a:ext cx="179280" cy="546120"/>
              </a:xfrm>
              <a:prstGeom prst="ellipse">
                <a:avLst/>
              </a:prstGeom>
              <a:solidFill>
                <a:srgbClr val="1cae49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10" name="Freeform 41"/>
            <p:cNvSpPr/>
            <p:nvPr/>
          </p:nvSpPr>
          <p:spPr>
            <a:xfrm>
              <a:off x="545760" y="6247440"/>
              <a:ext cx="147960" cy="37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1" name="Freeform 42"/>
            <p:cNvSpPr/>
            <p:nvPr/>
          </p:nvSpPr>
          <p:spPr>
            <a:xfrm>
              <a:off x="831600" y="6329880"/>
              <a:ext cx="88200" cy="25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2" name="Freeform 43"/>
            <p:cNvSpPr/>
            <p:nvPr/>
          </p:nvSpPr>
          <p:spPr>
            <a:xfrm>
              <a:off x="311760" y="6378480"/>
              <a:ext cx="65880" cy="21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1" descr=""/>
          <p:cNvPicPr/>
          <p:nvPr/>
        </p:nvPicPr>
        <p:blipFill>
          <a:blip r:embed="rId2"/>
          <a:stretch/>
        </p:blipFill>
        <p:spPr>
          <a:xfrm>
            <a:off x="0" y="4076640"/>
            <a:ext cx="9144000" cy="2808360"/>
          </a:xfrm>
          <a:prstGeom prst="rect">
            <a:avLst/>
          </a:prstGeom>
          <a:ln w="0">
            <a:noFill/>
          </a:ln>
        </p:spPr>
      </p:pic>
      <p:pic>
        <p:nvPicPr>
          <p:cNvPr id="50" name="Object 29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641680"/>
          </a:xfrm>
          <a:prstGeom prst="rect">
            <a:avLst/>
          </a:prstGeom>
          <a:ln w="0">
            <a:noFill/>
          </a:ln>
        </p:spPr>
      </p:pic>
      <p:sp>
        <p:nvSpPr>
          <p:cNvPr id="51" name="Oval 32"/>
          <p:cNvSpPr/>
          <p:nvPr/>
        </p:nvSpPr>
        <p:spPr>
          <a:xfrm>
            <a:off x="7667640" y="438120"/>
            <a:ext cx="1162080" cy="11620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cae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4179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4179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4179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4179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4179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179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2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3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B94B-27F9-4BA1-83EA-B54B80AF33B0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5640" y="1628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4179c"/>
                </a:solidFill>
                <a:latin typeface="Arial"/>
              </a:rPr>
              <a:t>大树工作汇报</a:t>
            </a:r>
            <a:r>
              <a:rPr b="0" lang="en-US" sz="4000" spc="-1" strike="noStrike">
                <a:solidFill>
                  <a:srgbClr val="14179c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14179c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14179c"/>
                </a:solidFill>
                <a:latin typeface="Arial"/>
                <a:ea typeface="宋体"/>
              </a:rPr>
              <a:t>在线下载</a:t>
            </a:r>
            <a:endParaRPr b="0" lang="en-US" sz="40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6" name="Group 41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57" name="AutoShape 2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4179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58" name="AutoShape 3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4179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59" name="AutoShape 4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4179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60" name="AutoShape 6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cae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61" name="AutoShape 7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62" name="Oval 8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63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66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64" name="Oval 10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1c378a"/>
                </a:gs>
                <a:gs pos="100000">
                  <a:srgbClr val="33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65" name="Oval 11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366ff">
                    <a:alpha val="0"/>
                  </a:srgbClr>
                </a:gs>
                <a:gs pos="100000">
                  <a:srgbClr val="204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66" name="Oval 12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67" name="Oval 13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ac763"/>
                </a:gs>
                <a:gs pos="50000">
                  <a:srgbClr val="ffffff"/>
                </a:gs>
                <a:gs pos="100000">
                  <a:srgbClr val="9ac7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68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ac76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69" name="Oval 15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ac763"/>
                </a:gs>
                <a:gs pos="50000">
                  <a:srgbClr val="536c36"/>
                </a:gs>
                <a:gs pos="100000">
                  <a:srgbClr val="9ac7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70" name="Oval 16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9ac763">
                    <a:alpha val="0"/>
                  </a:srgbClr>
                </a:gs>
                <a:gs pos="100000">
                  <a:srgbClr val="627e3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71" name="Oval 17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272" name="Group 18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73" name="Oval 19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74" name="Oval 20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75" name="Oval 21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76" name="Oval 22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277" name="Oval 23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1cae49"/>
                </a:gs>
                <a:gs pos="50000">
                  <a:srgbClr val="ffffff"/>
                </a:gs>
                <a:gs pos="100000">
                  <a:srgbClr val="1cae4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78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d5122"/>
                </a:gs>
                <a:gs pos="100000">
                  <a:srgbClr val="1cae49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79" name="Oval 25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1cae49"/>
                </a:gs>
                <a:gs pos="50000">
                  <a:srgbClr val="0f5e28"/>
                </a:gs>
                <a:gs pos="100000">
                  <a:srgbClr val="1cae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80" name="Oval 26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1cae49">
                    <a:alpha val="0"/>
                  </a:srgbClr>
                </a:gs>
                <a:gs pos="100000">
                  <a:srgbClr val="126f2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81" name="Oval 27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282" name="Group 28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83" name="Oval 29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84" name="Oval 30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85" name="Oval 31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86" name="Oval 32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33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88" name="Oval 34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89" name="Oval 35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90" name="Oval 36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91" name="Oval 37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292" name="Text Box 38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93" name="Text Box 39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94" name="Text Box 40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1371600" y="1143000"/>
            <a:ext cx="5715000" cy="5330520"/>
            <a:chOff x="1371600" y="1143000"/>
            <a:chExt cx="5715000" cy="5330520"/>
          </a:xfrm>
        </p:grpSpPr>
        <p:sp>
          <p:nvSpPr>
            <p:cNvPr id="296" name="Rectangle 3"/>
            <p:cNvSpPr/>
            <p:nvPr/>
          </p:nvSpPr>
          <p:spPr>
            <a:xfrm rot="13770000">
              <a:off x="4704120" y="3727440"/>
              <a:ext cx="1015560" cy="1962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97" name="Rectangle 4"/>
            <p:cNvSpPr/>
            <p:nvPr/>
          </p:nvSpPr>
          <p:spPr>
            <a:xfrm rot="20856000">
              <a:off x="2679480" y="3248280"/>
              <a:ext cx="103536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98" name="Rectangle 5"/>
            <p:cNvSpPr/>
            <p:nvPr/>
          </p:nvSpPr>
          <p:spPr>
            <a:xfrm rot="18394200">
              <a:off x="4839120" y="208944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299" name="Group 6"/>
            <p:cNvGrpSpPr/>
            <p:nvPr/>
          </p:nvGrpSpPr>
          <p:grpSpPr>
            <a:xfrm>
              <a:off x="3643560" y="2125080"/>
              <a:ext cx="1652400" cy="1684080"/>
              <a:chOff x="3643560" y="2125080"/>
              <a:chExt cx="1652400" cy="1684080"/>
            </a:xfrm>
          </p:grpSpPr>
          <p:grpSp>
            <p:nvGrpSpPr>
              <p:cNvPr id="300" name="Group 7"/>
              <p:cNvGrpSpPr/>
              <p:nvPr/>
            </p:nvGrpSpPr>
            <p:grpSpPr>
              <a:xfrm>
                <a:off x="3643560" y="2125080"/>
                <a:ext cx="1652400" cy="1684080"/>
                <a:chOff x="3643560" y="2125080"/>
                <a:chExt cx="1652400" cy="1684080"/>
              </a:xfrm>
            </p:grpSpPr>
            <p:sp>
              <p:nvSpPr>
                <p:cNvPr id="301" name="Oval 8"/>
                <p:cNvSpPr/>
                <p:nvPr/>
              </p:nvSpPr>
              <p:spPr>
                <a:xfrm>
                  <a:off x="3643560" y="212508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c763"/>
                    </a:gs>
                    <a:gs pos="100000">
                      <a:srgbClr val="25301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9"/>
                <p:cNvSpPr/>
                <p:nvPr/>
              </p:nvSpPr>
              <p:spPr>
                <a:xfrm>
                  <a:off x="3832200" y="2152800"/>
                  <a:ext cx="1274760" cy="63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ac7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Text Box 10"/>
              <p:cNvSpPr/>
              <p:nvPr/>
            </p:nvSpPr>
            <p:spPr>
              <a:xfrm>
                <a:off x="3750120" y="28573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11"/>
            <p:cNvGrpSpPr/>
            <p:nvPr/>
          </p:nvGrpSpPr>
          <p:grpSpPr>
            <a:xfrm>
              <a:off x="5089320" y="1143000"/>
              <a:ext cx="925200" cy="912240"/>
              <a:chOff x="5089320" y="1143000"/>
              <a:chExt cx="925200" cy="912240"/>
            </a:xfrm>
          </p:grpSpPr>
          <p:grpSp>
            <p:nvGrpSpPr>
              <p:cNvPr id="305" name="Group 12"/>
              <p:cNvGrpSpPr/>
              <p:nvPr/>
            </p:nvGrpSpPr>
            <p:grpSpPr>
              <a:xfrm>
                <a:off x="5089320" y="1143000"/>
                <a:ext cx="894960" cy="912240"/>
                <a:chOff x="5089320" y="1143000"/>
                <a:chExt cx="894960" cy="912240"/>
              </a:xfrm>
            </p:grpSpPr>
            <p:sp>
              <p:nvSpPr>
                <p:cNvPr id="306" name="Oval 13"/>
                <p:cNvSpPr/>
                <p:nvPr/>
              </p:nvSpPr>
              <p:spPr>
                <a:xfrm>
                  <a:off x="5089320" y="1143000"/>
                  <a:ext cx="894960" cy="91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cae49"/>
                    </a:gs>
                    <a:gs pos="100000">
                      <a:srgbClr val="072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14"/>
                <p:cNvSpPr/>
                <p:nvPr/>
              </p:nvSpPr>
              <p:spPr>
                <a:xfrm>
                  <a:off x="5191560" y="1158120"/>
                  <a:ext cx="690480" cy="344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cae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 Box 15"/>
              <p:cNvSpPr/>
              <p:nvPr/>
            </p:nvSpPr>
            <p:spPr>
              <a:xfrm>
                <a:off x="510516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16"/>
            <p:cNvGrpSpPr/>
            <p:nvPr/>
          </p:nvGrpSpPr>
          <p:grpSpPr>
            <a:xfrm>
              <a:off x="1371600" y="2476440"/>
              <a:ext cx="1789920" cy="1894680"/>
              <a:chOff x="1371600" y="2476440"/>
              <a:chExt cx="1789920" cy="1894680"/>
            </a:xfrm>
          </p:grpSpPr>
          <p:grpSp>
            <p:nvGrpSpPr>
              <p:cNvPr id="310" name="Group 17"/>
              <p:cNvGrpSpPr/>
              <p:nvPr/>
            </p:nvGrpSpPr>
            <p:grpSpPr>
              <a:xfrm>
                <a:off x="1371600" y="2476440"/>
                <a:ext cx="1789920" cy="1894680"/>
                <a:chOff x="1371600" y="2476440"/>
                <a:chExt cx="1789920" cy="1894680"/>
              </a:xfrm>
            </p:grpSpPr>
            <p:sp>
              <p:nvSpPr>
                <p:cNvPr id="311" name="Oval 18"/>
                <p:cNvSpPr/>
                <p:nvPr/>
              </p:nvSpPr>
              <p:spPr>
                <a:xfrm>
                  <a:off x="1371600" y="2476440"/>
                  <a:ext cx="178992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7b1b"/>
                    </a:gs>
                    <a:gs pos="100000">
                      <a:srgbClr val="914e1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19"/>
                <p:cNvSpPr/>
                <p:nvPr/>
              </p:nvSpPr>
              <p:spPr>
                <a:xfrm>
                  <a:off x="1576080" y="2507760"/>
                  <a:ext cx="1380600" cy="714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57b1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Text Box 20"/>
              <p:cNvSpPr/>
              <p:nvPr/>
            </p:nvSpPr>
            <p:spPr>
              <a:xfrm>
                <a:off x="1487520" y="33184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21"/>
            <p:cNvGrpSpPr/>
            <p:nvPr/>
          </p:nvGrpSpPr>
          <p:grpSpPr>
            <a:xfrm>
              <a:off x="5020920" y="3879720"/>
              <a:ext cx="2065680" cy="2105280"/>
              <a:chOff x="5020920" y="3879720"/>
              <a:chExt cx="2065680" cy="2105280"/>
            </a:xfrm>
          </p:grpSpPr>
          <p:grpSp>
            <p:nvGrpSpPr>
              <p:cNvPr id="315" name="Group 22"/>
              <p:cNvGrpSpPr/>
              <p:nvPr/>
            </p:nvGrpSpPr>
            <p:grpSpPr>
              <a:xfrm>
                <a:off x="5020920" y="3879720"/>
                <a:ext cx="2065680" cy="2105280"/>
                <a:chOff x="5020920" y="3879720"/>
                <a:chExt cx="2065680" cy="2105280"/>
              </a:xfrm>
            </p:grpSpPr>
            <p:sp>
              <p:nvSpPr>
                <p:cNvPr id="316" name="Oval 23"/>
                <p:cNvSpPr/>
                <p:nvPr/>
              </p:nvSpPr>
              <p:spPr>
                <a:xfrm>
                  <a:off x="5020920" y="3879720"/>
                  <a:ext cx="206568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ff"/>
                    </a:gs>
                    <a:gs pos="100000">
                      <a:srgbClr val="1a34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24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Text Box 25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319" name="Oval 26"/>
            <p:cNvSpPr/>
            <p:nvPr/>
          </p:nvSpPr>
          <p:spPr>
            <a:xfrm>
              <a:off x="1577880" y="444132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20" name="Oval 27"/>
            <p:cNvSpPr/>
            <p:nvPr/>
          </p:nvSpPr>
          <p:spPr>
            <a:xfrm>
              <a:off x="3781440" y="381276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21" name="Oval 28"/>
            <p:cNvSpPr/>
            <p:nvPr/>
          </p:nvSpPr>
          <p:spPr>
            <a:xfrm>
              <a:off x="5365080" y="598536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22" name="Oval 29"/>
            <p:cNvSpPr/>
            <p:nvPr/>
          </p:nvSpPr>
          <p:spPr>
            <a:xfrm>
              <a:off x="5227200" y="2125080"/>
              <a:ext cx="667080" cy="244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5" name="Group 3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26" name="AutoShape 3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7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27" name="AutoShape 4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7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7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7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07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07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2" name="Oval 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3" name="Text Box 1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179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4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179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5" name="Text Box 1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179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6" name="Text Box 1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179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7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179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8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179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39" name="Oval 1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1d8a6"/>
                </a:gs>
                <a:gs pos="100000">
                  <a:srgbClr val="1cae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0" name="Oval 1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1d8a6"/>
                </a:gs>
                <a:gs pos="100000">
                  <a:srgbClr val="1cae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1d8a6"/>
                </a:gs>
                <a:gs pos="100000">
                  <a:srgbClr val="1cae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2" name="Oval 1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91d8a6"/>
                </a:gs>
                <a:gs pos="100000">
                  <a:srgbClr val="1cae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3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1d8a6"/>
                </a:gs>
                <a:gs pos="100000">
                  <a:srgbClr val="1cae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1d8a6"/>
                </a:gs>
                <a:gs pos="100000">
                  <a:srgbClr val="1cae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5" name="Oval 2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ac763"/>
                </a:gs>
                <a:gs pos="50000">
                  <a:srgbClr val="ffffff"/>
                </a:gs>
                <a:gs pos="100000">
                  <a:srgbClr val="9ac7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6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ac76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9ac763"/>
                </a:gs>
                <a:gs pos="50000">
                  <a:srgbClr val="536c36"/>
                </a:gs>
                <a:gs pos="100000">
                  <a:srgbClr val="9ac7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8" name="Oval 25"/>
            <p:cNvSpPr/>
            <p:nvPr/>
          </p:nvSpPr>
          <p:spPr>
            <a:xfrm>
              <a:off x="365760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9ac763">
                    <a:alpha val="0"/>
                  </a:srgbClr>
                </a:gs>
                <a:gs pos="100000">
                  <a:srgbClr val="627e3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49" name="Oval 2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350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1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52" name="Oval 2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53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54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355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5640" y="1197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14179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179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8" name="Group 85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9" name="AutoShape 86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60" name="AutoShape 87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61" name="AutoShape 88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62" name="AutoShape 89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63" name="AutoShape 90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64" name="AutoShape 91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365" name="Group 92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6" name="Oval 93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67" name="Oval 94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68" name="Oval 95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69" name="Oval 96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70" name="Oval 97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371" name="Text Box 98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72" name="Text Box 99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373" name="Group 100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4" name="AutoShape 101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75" name="AutoShape 102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76" name="AutoShape 103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77" name="AutoShape 104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78" name="Oval 105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79" name="Oval 106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0" name="Oval 107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1" name="Oval 108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2" name="Oval 109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3" name="Text Box 110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4" name="Text Box 111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5" name="AutoShape 112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6" name="AutoShape 113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387" name="Group 114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8" name="AutoShape 115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89" name="AutoShape 116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90" name="AutoShape 117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91" name="AutoShape 118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392" name="Group 119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93" name="Oval 120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94" name="Oval 121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95" name="Oval 122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96" name="Oval 123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397" name="Oval 124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398" name="Text Box 125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399" name="Text Box 126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400" name="AutoShape 127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401" name="AutoShape 128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3" name="Group 97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04" name="Group 3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05" name="Rectangle 4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06" name="Rectangle 5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93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08" name="Group 59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09" name="Group 60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10" name="Freeform 61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Freeform 62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Group 63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13" name="Freeform 64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Freeform 65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5" name="Group 66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16" name="Oval 67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17" name="Oval 68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18" name="Oval 69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19" name="Oval 70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20" name="Oval 71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grpSp>
              <p:nvGrpSpPr>
                <p:cNvPr id="421" name="Group 72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22" name="Oval 73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74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75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76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6" name="Text Box 77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27" name="Text Box 78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4179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94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29" name="Group 41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30" name="Group 42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31" name="Freeform 43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Freeform 44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45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34" name="Freeform 46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Freeform 47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Group 48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37" name="Oval 49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38" name="Oval 50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39" name="Oval 51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40" name="Oval 52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41" name="Oval 53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grpSp>
              <p:nvGrpSpPr>
                <p:cNvPr id="442" name="Group 54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43" name="Oval 55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56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57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58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7" name="Text Box 79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48" name="Text Box 80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4179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95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50" name="Group 6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51" name="Group 7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52" name="Freeform 8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Freeform 9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" name="Group 10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55" name="Freeform 11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Freeform 12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7" name="Group 13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58" name="Oval 14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59" name="Oval 1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60" name="Oval 16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61" name="Oval 17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62" name="Oval 18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grpSp>
              <p:nvGrpSpPr>
                <p:cNvPr id="463" name="Group 19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64" name="Oval 20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Oval 21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22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23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8" name="Text Box 81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69" name="Text Box 82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4179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96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71" name="Group 24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72" name="Group 25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73" name="Freeform 26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prstGeom prst="pie">
                    <a:avLst/>
                  </a:pr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Freeform 27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Group 28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76" name="Freeform 29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prstGeom prst="pie">
                    <a:avLst/>
                  </a:pr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Freeform 30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8" name="Oval 31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79" name="Oval 32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80" name="Oval 33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81" name="Oval 34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82" name="Oval 35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grpSp>
            <p:nvGrpSpPr>
              <p:cNvPr id="483" name="Group 36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84" name="Oval 37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85" name="Oval 38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86" name="Oval 39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487" name="Oval 40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83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89" name="Text Box 84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4179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85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91" name="Text Box 86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774c5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92" name="Text Box 87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774c5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93" name="Text Box 88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774c5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494" name="Text Box 89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774c5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cxnSp>
            <p:nvCxnSpPr>
              <p:cNvPr id="495" name="AutoShape 90"/>
              <p:cNvCxnSpPr>
                <a:stCxn id="491" idx="3"/>
                <a:endCxn id="492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774c5"/>
                </a:solidFill>
                <a:miter/>
                <a:tailEnd len="med" type="triangle" w="med"/>
              </a:ln>
            </p:spPr>
          </p:cxnSp>
          <p:cxnSp>
            <p:nvCxnSpPr>
              <p:cNvPr id="496" name="AutoShape 91"/>
              <p:cNvCxnSpPr>
                <a:stCxn id="492" idx="3"/>
                <a:endCxn id="493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774c5"/>
                </a:solidFill>
                <a:miter/>
                <a:tailEnd len="med" type="triangle" w="med"/>
              </a:ln>
            </p:spPr>
          </p:cxnSp>
          <p:cxnSp>
            <p:nvCxnSpPr>
              <p:cNvPr id="497" name="AutoShape 92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774c5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9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0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3f3f3"/>
                </a:gs>
                <a:gs pos="50000">
                  <a:srgbClr val="dddddd"/>
                </a:gs>
                <a:gs pos="100000">
                  <a:srgbClr val="f3f3f3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501" name="Group 5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02" name="AutoShape 6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1cae49"/>
                  </a:gs>
                  <a:gs pos="100000">
                    <a:srgbClr val="14793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03" name="Freeform 7"/>
              <p:cNvSpPr/>
              <p:nvPr/>
            </p:nvSpPr>
            <p:spPr>
              <a:xfrm>
                <a:off x="1875240" y="1711800"/>
                <a:ext cx="563760" cy="531720"/>
              </a:xfrm>
              <a:prstGeom prst="pie">
                <a:avLst/>
              </a:prstGeom>
              <a:gradFill rotWithShape="0">
                <a:gsLst>
                  <a:gs pos="0">
                    <a:srgbClr val="1cae49">
                      <a:alpha val="0"/>
                    </a:srgbClr>
                  </a:gs>
                  <a:gs pos="50000">
                    <a:srgbClr val="83d39c"/>
                  </a:gs>
                  <a:gs pos="100000">
                    <a:srgbClr val="1cae49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04" name="Text Box 8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505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506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07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2f2f2"/>
                </a:gs>
                <a:gs pos="50000">
                  <a:srgbClr val="dddddd"/>
                </a:gs>
                <a:gs pos="100000">
                  <a:srgbClr val="f2f2f2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508" name="Group 12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09" name="AutoShape 13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b90ff"/>
                  </a:gs>
                  <a:gs pos="100000">
                    <a:srgbClr val="3366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10" name="Freeform 14"/>
              <p:cNvSpPr/>
              <p:nvPr/>
            </p:nvSpPr>
            <p:spPr>
              <a:xfrm>
                <a:off x="1875240" y="3242160"/>
                <a:ext cx="563760" cy="531720"/>
              </a:xfrm>
              <a:prstGeom prst="pie">
                <a:avLst/>
              </a:prstGeom>
              <a:gradFill rotWithShape="0">
                <a:gsLst>
                  <a:gs pos="0">
                    <a:srgbClr val="3366ff">
                      <a:alpha val="0"/>
                    </a:srgbClr>
                  </a:gs>
                  <a:gs pos="100000">
                    <a:srgbClr val="a9be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11" name="Text Box 15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512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4179c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513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14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515" name="Group 19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16" name="AutoShape 20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fdb9c"/>
                  </a:gs>
                  <a:gs pos="100000">
                    <a:srgbClr val="9ac76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17" name="Freeform 21"/>
              <p:cNvSpPr/>
              <p:nvPr/>
            </p:nvSpPr>
            <p:spPr>
              <a:xfrm>
                <a:off x="1875240" y="4782240"/>
                <a:ext cx="563760" cy="531720"/>
              </a:xfrm>
              <a:prstGeom prst="pie">
                <a:avLst/>
              </a:prstGeom>
              <a:gradFill rotWithShape="0">
                <a:gsLst>
                  <a:gs pos="0">
                    <a:srgbClr val="9ac763">
                      <a:alpha val="0"/>
                    </a:srgbClr>
                  </a:gs>
                  <a:gs pos="100000">
                    <a:srgbClr val="cee4b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18" name="Text Box 22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519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41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22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41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23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41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24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417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grpSp>
        <p:nvGrpSpPr>
          <p:cNvPr id="525" name="Group 7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26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527" name="Group 9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28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29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30" name="Oval 12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31" name="Oval 13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532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1cae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533" name="Group 15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34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35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36" name="Oval 18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37" name="Oval 19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538" name="Rectangle 20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539" name="Group 21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40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41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42" name="Oval 24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43" name="Oval 25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544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1cae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sp>
        <p:nvSpPr>
          <p:cNvPr id="545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46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47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48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49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79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50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79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51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79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52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79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1413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14179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179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838080" y="2255760"/>
          <a:ext cx="7467480" cy="3198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4179c"/>
                      </a:solidFill>
                    </a:lnR>
                    <a:lnT>
                      <a:noFill/>
                    </a:lnT>
                    <a:lnB w="5760">
                      <a:solidFill>
                        <a:srgbClr val="14179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cae4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cae4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cae4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cae4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cae49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4179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4179c"/>
                      </a:solidFill>
                    </a:lnL>
                    <a:lnR w="5760">
                      <a:solidFill>
                        <a:srgbClr val="14179c"/>
                      </a:solidFill>
                    </a:lnR>
                    <a:lnT w="5760">
                      <a:solidFill>
                        <a:srgbClr val="14179c"/>
                      </a:solidFill>
                    </a:lnT>
                    <a:lnB w="5760">
                      <a:solidFill>
                        <a:srgbClr val="14179c"/>
                      </a:solidFill>
                    </a:lnB>
                    <a:solidFill>
                      <a:srgbClr val="9ac76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57" name="Group 3"/>
          <p:cNvGrpSpPr/>
          <p:nvPr/>
        </p:nvGrpSpPr>
        <p:grpSpPr>
          <a:xfrm>
            <a:off x="1128600" y="1280880"/>
            <a:ext cx="6575400" cy="4665960"/>
            <a:chOff x="1128600" y="1280880"/>
            <a:chExt cx="6575400" cy="4665960"/>
          </a:xfrm>
        </p:grpSpPr>
        <p:sp>
          <p:nvSpPr>
            <p:cNvPr id="558" name="Oval 4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59" name="Oval 5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464646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60" name="Oval 6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61" name="Arc 7"/>
            <p:cNvSpPr/>
            <p:nvPr/>
          </p:nvSpPr>
          <p:spPr>
            <a:xfrm rot="20601600">
              <a:off x="4128840" y="1905120"/>
              <a:ext cx="2849400" cy="1967040"/>
            </a:xfrm>
            <a:prstGeom prst="pie">
              <a:avLst/>
            </a:prstGeom>
            <a:gradFill rotWithShape="0">
              <a:gsLst>
                <a:gs pos="0">
                  <a:srgbClr val="7799ff"/>
                </a:gs>
                <a:gs pos="100000">
                  <a:srgbClr val="3366ff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62" name="Arc 8"/>
            <p:cNvSpPr/>
            <p:nvPr/>
          </p:nvSpPr>
          <p:spPr>
            <a:xfrm flipH="1" rot="20602200">
              <a:off x="1716480" y="3780000"/>
              <a:ext cx="3281400" cy="1476360"/>
            </a:xfrm>
            <a:prstGeom prst="pie">
              <a:avLst/>
            </a:prstGeom>
            <a:gradFill rotWithShape="0">
              <a:gsLst>
                <a:gs pos="0">
                  <a:srgbClr val="116a2c"/>
                </a:gs>
                <a:gs pos="100000">
                  <a:srgbClr val="1cae49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63" name="Arc 9"/>
            <p:cNvSpPr/>
            <p:nvPr/>
          </p:nvSpPr>
          <p:spPr>
            <a:xfrm rot="20601600">
              <a:off x="2653920" y="1987560"/>
              <a:ext cx="3133800" cy="1417680"/>
            </a:xfrm>
            <a:prstGeom prst="pie">
              <a:avLst/>
            </a:prstGeom>
            <a:gradFill rotWithShape="0">
              <a:gsLst>
                <a:gs pos="0">
                  <a:srgbClr val="30616a"/>
                </a:gs>
                <a:gs pos="100000">
                  <a:srgbClr val="5cb8ca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64" name="Arc 10"/>
            <p:cNvSpPr/>
            <p:nvPr/>
          </p:nvSpPr>
          <p:spPr>
            <a:xfrm flipH="1" rot="20602200">
              <a:off x="1370880" y="2514240"/>
              <a:ext cx="2849400" cy="2111400"/>
            </a:xfrm>
            <a:prstGeom prst="pie">
              <a:avLst/>
            </a:prstGeom>
            <a:gradFill rotWithShape="0">
              <a:gsLst>
                <a:gs pos="0">
                  <a:srgbClr val="7d430f"/>
                </a:gs>
                <a:gs pos="100000">
                  <a:srgbClr val="e57b1b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65" name="Oval 11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ececec"/>
                </a:gs>
                <a:gs pos="50000">
                  <a:srgbClr val="b2b2b2"/>
                </a:gs>
                <a:gs pos="100000">
                  <a:srgbClr val="ecece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66" name="Text Box 12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67" name="Text Box 13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68" name="Text Box 14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569" name="Group 15"/>
            <p:cNvGrpSpPr/>
            <p:nvPr/>
          </p:nvGrpSpPr>
          <p:grpSpPr>
            <a:xfrm>
              <a:off x="4293720" y="2466720"/>
              <a:ext cx="3164400" cy="2769120"/>
              <a:chOff x="4293720" y="2466720"/>
              <a:chExt cx="3164400" cy="2769120"/>
            </a:xfrm>
          </p:grpSpPr>
          <p:sp>
            <p:nvSpPr>
              <p:cNvPr id="570" name="Freeform 16"/>
              <p:cNvSpPr/>
              <p:nvPr/>
            </p:nvSpPr>
            <p:spPr>
              <a:xfrm>
                <a:off x="5448240" y="3448440"/>
                <a:ext cx="1773000" cy="1776240"/>
              </a:xfrm>
              <a:prstGeom prst="pie">
                <a:avLst/>
              </a:prstGeom>
              <a:gradFill rotWithShape="0">
                <a:gsLst>
                  <a:gs pos="0">
                    <a:srgbClr val="9ac763"/>
                  </a:gs>
                  <a:gs pos="100000">
                    <a:srgbClr val="5e79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71" name="Arc 17"/>
              <p:cNvSpPr/>
              <p:nvPr/>
            </p:nvSpPr>
            <p:spPr>
              <a:xfrm rot="20539200">
                <a:off x="4511520" y="2837160"/>
                <a:ext cx="2728800" cy="1859040"/>
              </a:xfrm>
              <a:prstGeom prst="pie">
                <a:avLst/>
              </a:prstGeom>
              <a:gradFill rotWithShape="0">
                <a:gsLst>
                  <a:gs pos="0">
                    <a:srgbClr val="475c2e"/>
                  </a:gs>
                  <a:gs pos="100000">
                    <a:srgbClr val="9ac763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72" name="Freeform 18"/>
              <p:cNvSpPr/>
              <p:nvPr/>
            </p:nvSpPr>
            <p:spPr>
              <a:xfrm>
                <a:off x="4582800" y="3924720"/>
                <a:ext cx="924120" cy="1311120"/>
              </a:xfrm>
              <a:prstGeom prst="pie">
                <a:avLst/>
              </a:prstGeom>
              <a:gradFill rotWithShape="0">
                <a:gsLst>
                  <a:gs pos="0">
                    <a:srgbClr val="475c2e"/>
                  </a:gs>
                  <a:gs pos="100000">
                    <a:srgbClr val="9ac7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573" name="Text Box 19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574" name="Text Box 20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75" name="Freeform 21"/>
            <p:cNvSpPr/>
            <p:nvPr/>
          </p:nvSpPr>
          <p:spPr>
            <a:xfrm>
              <a:off x="4427640" y="3990960"/>
              <a:ext cx="838080" cy="1108080"/>
            </a:xfrm>
            <a:prstGeom prst="pie">
              <a:avLst/>
            </a:prstGeom>
            <a:solidFill>
              <a:srgbClr val="14179c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76" name="Oval 22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8" name="Group 33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579" name="AutoShape 3"/>
            <p:cNvSpPr/>
            <p:nvPr/>
          </p:nvSpPr>
          <p:spPr>
            <a:xfrm>
              <a:off x="1905120" y="22100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2362320" y="1447920"/>
              <a:ext cx="44193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cae49"/>
                </a:gs>
                <a:gs pos="50000">
                  <a:srgbClr val="137431"/>
                </a:gs>
                <a:gs pos="100000">
                  <a:srgbClr val="1cae49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581" name="Text Box 5"/>
            <p:cNvSpPr/>
            <p:nvPr/>
          </p:nvSpPr>
          <p:spPr>
            <a:xfrm>
              <a:off x="375588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4179c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582" name="Group 29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83" name="Group 6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84" name="Group 7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85" name="Oval 8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57b1b"/>
                      </a:gs>
                      <a:gs pos="100000">
                        <a:srgbClr val="914e1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Freeform 9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57b1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7" name="Text Box 10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Oval 11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32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590" name="Group 12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591" name="Group 13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592" name="Oval 14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ac763"/>
                      </a:gs>
                      <a:gs pos="100000">
                        <a:srgbClr val="25301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Freeform 15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ac76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4" name="Text Box 16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Oval 17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30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597" name="Group 18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598" name="Oval 19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ff"/>
                    </a:gs>
                    <a:gs pos="100000">
                      <a:srgbClr val="1a34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0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Text Box 21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601" name="Oval 22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31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603" name="Group 23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604" name="Group 24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605" name="Oval 25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1cae49"/>
                      </a:gs>
                      <a:gs pos="100000">
                        <a:srgbClr val="0e592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Freeform 26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cae4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4179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7" name="Text Box 27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" name="Oval 28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8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7b1b"/>
                </a:gs>
                <a:gs pos="100000">
                  <a:srgbClr val="f9e3cf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e57b1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01" name="Text Box 8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102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3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cae49"/>
                </a:gs>
                <a:gs pos="100000">
                  <a:srgbClr val="cfeed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04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1cae4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107" name="Group 14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8" name="AutoShape 15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774c5"/>
                </a:gs>
                <a:gs pos="100000">
                  <a:srgbClr val="cae2f3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09" name="AutoShape 16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33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10" name="Text Box 17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112" name="Group 19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3" name="AutoShape 20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c763"/>
                </a:gs>
                <a:gs pos="100000">
                  <a:srgbClr val="eaf3de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14" name="AutoShape 21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ac76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15" name="Text Box 22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4179c"/>
              </a:solidFill>
              <a:latin typeface="Verdana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4179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WordArt 3"/>
          <p:cNvSpPr txBox="1"/>
          <p:nvPr/>
        </p:nvSpPr>
        <p:spPr>
          <a:xfrm>
            <a:off x="2133720" y="2286000"/>
            <a:ext cx="5340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774c5"/>
                    </a:gs>
                    <a:gs pos="100000">
                      <a:srgbClr val="9ac763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14179c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774c5"/>
                  </a:gs>
                  <a:gs pos="100000">
                    <a:srgbClr val="9ac763"/>
                  </a:gs>
                </a:gsLst>
                <a:lin ang="10800000"/>
              </a:gradFill>
              <a:effectLst>
                <a:outerShdw dist="89604" dir="2700000" blurRad="0" rotWithShape="0">
                  <a:srgbClr val="14179c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1519200"/>
            <a:ext cx="80647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179c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4000" spc="-1" strike="noStrike">
                <a:solidFill>
                  <a:srgbClr val="14179c"/>
                </a:solidFill>
                <a:latin typeface="Verdana"/>
                <a:ea typeface="宋体"/>
              </a:rPr>
              <a:t> </a:t>
            </a:r>
            <a:endParaRPr b="1" lang="en-US" sz="4000" spc="-1" strike="noStrike">
              <a:solidFill>
                <a:srgbClr val="14179c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4179c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1cae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774c5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1cae49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0774c5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1cae49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0774c5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1cae49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0774c5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1cae49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0774c5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0774c5"/>
                </a:solidFill>
                <a:latin typeface="Arial"/>
                <a:ea typeface="宋体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774c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4179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4179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19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21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sp>
        <p:nvSpPr>
          <p:cNvPr id="123" name="Freeform 6"/>
          <p:cNvSpPr/>
          <p:nvPr/>
        </p:nvSpPr>
        <p:spPr>
          <a:xfrm>
            <a:off x="3222720" y="3075120"/>
            <a:ext cx="903240" cy="1241280"/>
          </a:xfrm>
          <a:prstGeom prst="pie">
            <a:avLst/>
          </a:prstGeom>
          <a:gradFill rotWithShape="0">
            <a:gsLst>
              <a:gs pos="0">
                <a:srgbClr val="eeab6e"/>
              </a:gs>
              <a:gs pos="100000">
                <a:srgbClr val="e57b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  <p:grpSp>
        <p:nvGrpSpPr>
          <p:cNvPr id="125" name="Group 21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6" name="Group 9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7" name="Group 10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28" name="Oval 11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9327c"/>
                    </a:gs>
                    <a:gs pos="100000">
                      <a:srgbClr val="3366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  <p:sp>
              <p:nvSpPr>
                <p:cNvPr id="129" name="Oval 12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ff"/>
                    </a:gs>
                    <a:gs pos="100000">
                      <a:srgbClr val="a5bb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4179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Oval 13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1cae49"/>
                  </a:gs>
                  <a:gs pos="100000">
                    <a:srgbClr val="0d512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31" name="Oval 14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0e3bf"/>
                  </a:gs>
                  <a:gs pos="100000">
                    <a:srgbClr val="1cae49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32" name="Oval 15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1cae49">
                      <a:alpha val="48235"/>
                    </a:srgbClr>
                  </a:gs>
                  <a:gs pos="100000">
                    <a:srgbClr val="168a3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33" name="Oval 16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1cae49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134" name="Text Box 17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grpSp>
        <p:nvGrpSpPr>
          <p:cNvPr id="135" name="Group 20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6" name="AutoShape 3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37" name="Text Box 18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sp>
        <p:nvSpPr>
          <p:cNvPr id="138" name="Freeform 8"/>
          <p:cNvSpPr/>
          <p:nvPr/>
        </p:nvSpPr>
        <p:spPr>
          <a:xfrm flipH="1">
            <a:off x="4874400" y="3075120"/>
            <a:ext cx="903240" cy="1241280"/>
          </a:xfrm>
          <a:prstGeom prst="pie">
            <a:avLst/>
          </a:prstGeom>
          <a:gradFill rotWithShape="0">
            <a:gsLst>
              <a:gs pos="0">
                <a:srgbClr val="beceff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41" name="Freeform 4"/>
            <p:cNvSpPr/>
            <p:nvPr/>
          </p:nvSpPr>
          <p:spPr>
            <a:xfrm rot="20241600">
              <a:off x="1392120" y="2801880"/>
              <a:ext cx="6094440" cy="242424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e8e8e8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42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223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43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1cae49"/>
                </a:gs>
                <a:gs pos="100000">
                  <a:srgbClr val="0937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44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e57b1b"/>
                </a:gs>
                <a:gs pos="100000">
                  <a:srgbClr val="522c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45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46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ac763"/>
                </a:gs>
                <a:gs pos="100000">
                  <a:srgbClr val="35452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47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48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49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50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51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52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4179c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53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4179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cxnSp>
          <p:nvCxnSpPr>
            <p:cNvPr id="154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4179c"/>
              </a:solidFill>
              <a:miter/>
            </a:ln>
          </p:spPr>
        </p:cxnSp>
        <p:sp>
          <p:nvSpPr>
            <p:cNvPr id="155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4179c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14179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4179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41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9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ac763"/>
                </a:gs>
                <a:gs pos="50000">
                  <a:srgbClr val="475c2e"/>
                </a:gs>
                <a:gs pos="100000">
                  <a:srgbClr val="9ac7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ac763"/>
                </a:gs>
                <a:gs pos="50000">
                  <a:srgbClr val="475c2e"/>
                </a:gs>
                <a:gs pos="100000">
                  <a:srgbClr val="9ac7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ac763"/>
                </a:gs>
                <a:gs pos="50000">
                  <a:srgbClr val="475c2e"/>
                </a:gs>
                <a:gs pos="100000">
                  <a:srgbClr val="9ac7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2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6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8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7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71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cae49"/>
                </a:gs>
                <a:gs pos="50000">
                  <a:srgbClr val="0d5122"/>
                </a:gs>
                <a:gs pos="100000">
                  <a:srgbClr val="1cae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72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74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182f76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76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9" name="Group 4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0" name="AutoShape 5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ec8e8"/>
                  </a:gs>
                  <a:gs pos="100000">
                    <a:srgbClr val="0774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1" name="AutoShape 6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ec8e8"/>
                  </a:gs>
                  <a:gs pos="100000">
                    <a:srgbClr val="0774c5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2" name="AutoShape 7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ec8e8"/>
                  </a:gs>
                  <a:gs pos="100000">
                    <a:srgbClr val="0774c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3" name="Oval 8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4" name="Oval 9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5" name="Oval 10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3366ff"/>
                  </a:gs>
                  <a:gs pos="50000">
                    <a:srgbClr val="ffffff"/>
                  </a:gs>
                  <a:gs pos="100000">
                    <a:srgbClr val="33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6" name="Oval 11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7" name="Oval 12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3366ff"/>
                  </a:gs>
                  <a:gs pos="50000">
                    <a:srgbClr val="1c378a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188" name="Oval 13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189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ac763"/>
                </a:gs>
                <a:gs pos="50000">
                  <a:srgbClr val="475c2e"/>
                </a:gs>
                <a:gs pos="100000">
                  <a:srgbClr val="9ac7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0" name="AutoShape 15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ac763"/>
                </a:gs>
                <a:gs pos="50000">
                  <a:srgbClr val="475c2e"/>
                </a:gs>
                <a:gs pos="100000">
                  <a:srgbClr val="9ac7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ac763"/>
                </a:gs>
                <a:gs pos="50000">
                  <a:srgbClr val="475c2e"/>
                </a:gs>
                <a:gs pos="100000">
                  <a:srgbClr val="9ac7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2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cae49"/>
                </a:gs>
                <a:gs pos="50000">
                  <a:srgbClr val="0d5122"/>
                </a:gs>
                <a:gs pos="100000">
                  <a:srgbClr val="1cae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3" name="AutoShape 18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cae49"/>
                </a:gs>
                <a:gs pos="50000">
                  <a:srgbClr val="0d5122"/>
                </a:gs>
                <a:gs pos="100000">
                  <a:srgbClr val="1cae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4" name="AutoShape 19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cae49"/>
                </a:gs>
                <a:gs pos="50000">
                  <a:srgbClr val="0d5122"/>
                </a:gs>
                <a:gs pos="100000">
                  <a:srgbClr val="1cae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6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4179c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7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8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00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01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02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30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05" name="Line 3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06" name="Line 4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07" name="Line 5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1417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10" name="Line 8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1417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11" name="Line 9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1417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12" name="Line 10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1417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1417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14" name="Text Box 12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4179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15" name="Text Box 13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4179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16" name="Text Box 14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4179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17" name="Text Box 15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4179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218" name="Group 16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19" name="Freeform 17"/>
              <p:cNvSpPr/>
              <p:nvPr/>
            </p:nvSpPr>
            <p:spPr>
              <a:xfrm>
                <a:off x="7833960" y="2286000"/>
                <a:ext cx="576360" cy="846000"/>
              </a:xfrm>
              <a:prstGeom prst="pie">
                <a:avLst/>
              </a:prstGeom>
              <a:gradFill rotWithShape="0">
                <a:gsLst>
                  <a:gs pos="0">
                    <a:srgbClr val="e57b1b"/>
                  </a:gs>
                  <a:gs pos="50000">
                    <a:srgbClr val="6a390d"/>
                  </a:gs>
                  <a:gs pos="100000">
                    <a:srgbClr val="e57b1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0" name="Freeform 18"/>
              <p:cNvSpPr/>
              <p:nvPr/>
            </p:nvSpPr>
            <p:spPr>
              <a:xfrm>
                <a:off x="5073480" y="2286000"/>
                <a:ext cx="3343320" cy="541440"/>
              </a:xfrm>
              <a:prstGeom prst="pie">
                <a:avLst/>
              </a:prstGeom>
              <a:solidFill>
                <a:srgbClr val="e57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1" name="Freeform 19"/>
              <p:cNvSpPr/>
              <p:nvPr/>
            </p:nvSpPr>
            <p:spPr>
              <a:xfrm>
                <a:off x="7254720" y="3117960"/>
                <a:ext cx="576000" cy="841320"/>
              </a:xfrm>
              <a:prstGeom prst="pie">
                <a:avLst/>
              </a:prstGeom>
              <a:gradFill rotWithShape="0">
                <a:gsLst>
                  <a:gs pos="0">
                    <a:srgbClr val="3366ff"/>
                  </a:gs>
                  <a:gs pos="50000">
                    <a:srgbClr val="182f76"/>
                  </a:gs>
                  <a:gs pos="100000">
                    <a:srgbClr val="33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2" name="Freeform 20"/>
              <p:cNvSpPr/>
              <p:nvPr/>
            </p:nvSpPr>
            <p:spPr>
              <a:xfrm>
                <a:off x="4243320" y="3117960"/>
                <a:ext cx="3593880" cy="539640"/>
              </a:xfrm>
              <a:prstGeom prst="pi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3" name="Freeform 21"/>
              <p:cNvSpPr/>
              <p:nvPr/>
            </p:nvSpPr>
            <p:spPr>
              <a:xfrm>
                <a:off x="6673680" y="3949560"/>
                <a:ext cx="573120" cy="844560"/>
              </a:xfrm>
              <a:prstGeom prst="pie">
                <a:avLst/>
              </a:prstGeom>
              <a:gradFill rotWithShape="0">
                <a:gsLst>
                  <a:gs pos="0">
                    <a:srgbClr val="9ac763"/>
                  </a:gs>
                  <a:gs pos="50000">
                    <a:srgbClr val="475c2e"/>
                  </a:gs>
                  <a:gs pos="100000">
                    <a:srgbClr val="9ac7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4" name="Freeform 22"/>
              <p:cNvSpPr/>
              <p:nvPr/>
            </p:nvSpPr>
            <p:spPr>
              <a:xfrm>
                <a:off x="6095880" y="4782960"/>
                <a:ext cx="577800" cy="846360"/>
              </a:xfrm>
              <a:prstGeom prst="pie">
                <a:avLst/>
              </a:prstGeom>
              <a:gradFill rotWithShape="0">
                <a:gsLst>
                  <a:gs pos="0">
                    <a:srgbClr val="1cae49"/>
                  </a:gs>
                  <a:gs pos="50000">
                    <a:srgbClr val="0d5122"/>
                  </a:gs>
                  <a:gs pos="100000">
                    <a:srgbClr val="1cae4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5" name="Freeform 23"/>
              <p:cNvSpPr/>
              <p:nvPr/>
            </p:nvSpPr>
            <p:spPr>
              <a:xfrm>
                <a:off x="2592000" y="4788000"/>
                <a:ext cx="4081680" cy="539640"/>
              </a:xfrm>
              <a:prstGeom prst="pie">
                <a:avLst/>
              </a:prstGeom>
              <a:solidFill>
                <a:srgbClr val="1cae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6" name="Freeform 24"/>
              <p:cNvSpPr/>
              <p:nvPr/>
            </p:nvSpPr>
            <p:spPr>
              <a:xfrm>
                <a:off x="3184200" y="2440080"/>
                <a:ext cx="1838520" cy="2722320"/>
              </a:xfrm>
              <a:prstGeom prst="pie">
                <a:avLst/>
              </a:pr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7" name="Rectangle 25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e57b1b"/>
                  </a:gs>
                  <a:gs pos="50000">
                    <a:srgbClr val="a65914"/>
                  </a:gs>
                  <a:gs pos="100000">
                    <a:srgbClr val="e57b1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8" name="Rectangle 26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50000">
                    <a:srgbClr val="254ab9"/>
                  </a:gs>
                  <a:gs pos="100000">
                    <a:srgbClr val="33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29" name="Freeform 27"/>
              <p:cNvSpPr/>
              <p:nvPr/>
            </p:nvSpPr>
            <p:spPr>
              <a:xfrm>
                <a:off x="3419280" y="3949560"/>
                <a:ext cx="3833640" cy="544680"/>
              </a:xfrm>
              <a:prstGeom prst="pie">
                <a:avLst/>
              </a:prstGeom>
              <a:solidFill>
                <a:srgbClr val="9ac7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30" name="Rectangle 28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9ac763"/>
                  </a:gs>
                  <a:gs pos="50000">
                    <a:srgbClr val="709048"/>
                  </a:gs>
                  <a:gs pos="100000">
                    <a:srgbClr val="9ac7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31" name="Rectangle 29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1cae49"/>
                  </a:gs>
                  <a:gs pos="50000">
                    <a:srgbClr val="147e35"/>
                  </a:gs>
                  <a:gs pos="100000">
                    <a:srgbClr val="1cae4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3" name="Group 24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34" name="Freeform 3"/>
            <p:cNvSpPr/>
            <p:nvPr/>
          </p:nvSpPr>
          <p:spPr>
            <a:xfrm>
              <a:off x="5073480" y="1219320"/>
              <a:ext cx="1467000" cy="11552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4574ff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35" name="AutoShape 4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e57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36" name="AutoShape 5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a390d"/>
                </a:gs>
                <a:gs pos="50000">
                  <a:srgbClr val="e57b1b"/>
                </a:gs>
                <a:gs pos="100000">
                  <a:srgbClr val="6a39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37" name="AutoShape 6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38" name="AutoShape 7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39" name="AutoShape 8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40" name="AutoShape 9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2f76"/>
                </a:gs>
                <a:gs pos="5000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41" name="AutoShape 10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42" name="AutoShape 11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2492280" y="1720440"/>
              <a:ext cx="1467000" cy="1157040"/>
            </a:xfrm>
            <a:prstGeom prst="pie">
              <a:avLst/>
            </a:prstGeom>
            <a:gradFill rotWithShape="0">
              <a:gsLst>
                <a:gs pos="0">
                  <a:srgbClr val="9ac763"/>
                </a:gs>
                <a:gs pos="100000">
                  <a:srgbClr val="c5dfa5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44" name="Text Box 13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45" name="Text Box 14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4179c"/>
                </a:solidFill>
                <a:latin typeface="Arial"/>
              </a:endParaRPr>
            </a:p>
          </p:txBody>
        </p:sp>
        <p:grpSp>
          <p:nvGrpSpPr>
            <p:cNvPr id="246" name="Group 15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47" name="AutoShape 16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ac76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48" name="AutoShape 17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4d26"/>
                  </a:gs>
                  <a:gs pos="50000">
                    <a:srgbClr val="9ac763"/>
                  </a:gs>
                  <a:gs pos="100000">
                    <a:srgbClr val="3c4d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49" name="AutoShape 18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50" name="AutoShape 19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51" name="Text Box 20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  <p:sp>
            <p:nvSpPr>
              <p:cNvPr id="252" name="Text Box 21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14179c"/>
                  </a:solidFill>
                  <a:latin typeface="Arial"/>
                </a:endParaRPr>
              </a:p>
            </p:txBody>
          </p:sp>
        </p:grpSp>
        <p:sp>
          <p:nvSpPr>
            <p:cNvPr id="253" name="Text Box 22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  <p:sp>
          <p:nvSpPr>
            <p:cNvPr id="254" name="Text Box 23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4179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5:50:45Z</dcterms:created>
  <dc:creator>幻灯片之家:www.eeppt.com</dc:creator>
  <dc:description>幻灯片之家:www.eeppt.com</dc:description>
  <cp:keywords>幻灯片之家:www.eeppt.com</cp:keywords>
  <dc:language>en-US</dc:language>
  <cp:lastModifiedBy/>
  <dcterms:modified xsi:type="dcterms:W3CDTF">2015-09-18T13:19:02Z</dcterms:modified>
  <cp:revision>4</cp:revision>
  <dc:subject>幻灯片之家:www.eeppt.com</dc:subject>
  <dc:title>幻灯片之家: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