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png" ContentType="image/png"/>
  <Override PartName="/ppt/media/image4.gif" ContentType="image/gif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6471-A595-4443-B0B4-A4F6410B1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BF74-F9AE-486C-8DF8-754671A0E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7BF3-DC7D-44C1-948E-40996E99C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2167-9753-4FF3-B927-62C1278C8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410FD-CA0F-4686-9D0E-4D4ED69FD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F6EBA-24F0-48EC-A255-85219BDEE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A9A93-B371-4217-A63F-C937294F8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F228B-D495-46C6-AB88-5047178A2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5F49B-AC69-4859-95AF-5D612D119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84239-3C31-4A19-85B2-AD6C554CE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19A86-4EF4-4B0D-BFE4-BE2514307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98F8-6063-4EB6-9BC1-02CF183BF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3FDC9-B9E0-4B06-B797-1D3015E4E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EA8D7-3236-4515-806D-3E3643F85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B9071-B19E-45D5-A153-4770B44FA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30D0A-B321-4CD4-8035-00B0C2C24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E477C-686E-412C-8CA2-9BB9BDDE3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0181-ADE8-4736-A0F4-A81A7AA58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AA9E-66FF-43F4-9699-1EB41A51A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39E9-A681-4BF5-AA10-BF3D9F63A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EE6B-D63D-43F3-BA80-1742E1EEF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B6F1-EB8C-4E8A-8BEA-36FEBBA4E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0D51-0050-41ED-8E9F-4D114DB79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9D42-BE72-43FB-AE7A-63376C4E1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素彩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http://www.sc115.com-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3DBCB-55F3-43DB-91A3-4B53366827F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BE6E8-5EE7-442F-9FD7-473E8684250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04560" y="3886200"/>
            <a:ext cx="88390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83" name="WordArt 5"/>
          <p:cNvSpPr txBox="1"/>
          <p:nvPr/>
        </p:nvSpPr>
        <p:spPr>
          <a:xfrm>
            <a:off x="2666880" y="1905120"/>
            <a:ext cx="42674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Exploring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pic>
        <p:nvPicPr>
          <p:cNvPr id="84" name="Picture 7" descr="shuttle_cruising_md_clr"/>
          <p:cNvPicPr/>
          <p:nvPr/>
        </p:nvPicPr>
        <p:blipFill>
          <a:blip r:embed="rId2"/>
          <a:stretch/>
        </p:blipFill>
        <p:spPr>
          <a:xfrm>
            <a:off x="0" y="41148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85" name="startrek_tos.mid" descr=""/>
          <p:cNvPicPr/>
          <p:nvPr/>
        </p:nvPicPr>
        <p:blipFill>
          <a:blip r:embed="rId3"/>
          <a:stretch/>
        </p:blipFill>
        <p:spPr>
          <a:xfrm>
            <a:off x="1143000" y="1752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solar_system_line_lg_clr"/>
          <p:cNvPicPr/>
          <p:nvPr/>
        </p:nvPicPr>
        <p:blipFill>
          <a:blip r:embed="rId4"/>
          <a:stretch/>
        </p:blipFill>
        <p:spPr>
          <a:xfrm>
            <a:off x="1447920" y="0"/>
            <a:ext cx="6858000" cy="25480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17640" y="4437000"/>
            <a:ext cx="506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动态宇宙探索卡通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模板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9754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87 E">
                                      <p:cBhvr>
                                        <p:cTn id="10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8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2290-0B67-45A3-9B8F-C57354B26F7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94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3T23:47:04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6:37Z</dcterms:modified>
  <cp:revision>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