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2A2-3EDC-45A2-A6ED-F02E057E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789-F088-4E80-A33C-7C8D2C4C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35B-3235-4413-899C-D0512FDC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11D-AAEC-4EBA-9139-DD1A0C19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8A2F-ADFB-4770-8AB6-E87B7F24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778-5771-4F36-B992-33A5A54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72BE-665E-4AD8-96ED-9748ABF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713-698A-4DCF-B190-B92F743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A648-8D26-4C12-9EB0-8BB2EBF3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DF63-E6EB-48C3-B422-E3D6D8B0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90DB-56AA-498B-BC53-7AAFA186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CBD-50D7-44AA-A2AD-98C3ED79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93CC-8F09-483B-B5E1-69777708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615F-287E-4609-81C0-BE2B1736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01F-9D19-4D89-81A2-29E0C3B4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9890-52CC-41DA-8226-7A8ABFB9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64BC-A222-468D-B4CD-D39F8ADB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1ED-7044-4A4F-9295-5816585F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894-37AA-410B-96EE-1B11526C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A97-C416-40A9-A59C-C95486C2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DC1-BC8F-445D-A575-47914FF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C12-6437-47A7-AE0E-433BAA3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E00-0519-4AB3-88D1-83C6A14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1B6-607D-4B19-8463-CDA2F8D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461-9CC1-413C-AB35-4D572780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A6BC-AF7C-42C5-AED9-E49AC02D5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1.jpg"/>
          <p:cNvPicPr/>
          <p:nvPr/>
        </p:nvPicPr>
        <p:blipFill>
          <a:blip r:embed="rId1"/>
          <a:stretch/>
        </p:blipFill>
        <p:spPr>
          <a:xfrm>
            <a:off x="0" y="15840"/>
            <a:ext cx="7543800" cy="5645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5866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科学掌握地震知识有备无患受用一生。地震是一种突发的自然灾害，人们大多是在毫无防备的情况下遭遇地震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7360" y="2286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地震知识卡通</a:t>
            </a:r>
            <a:r>
              <a:rPr b="0" lang="en-US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争做青年志愿者互助减灾保平安。防震减灾是一项社会公益事业，维系着每一个社区和家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9.jpg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273640"/>
          </a:xfrm>
          <a:prstGeom prst="rect">
            <a:avLst/>
          </a:prstGeom>
          <a:ln w="0">
            <a:noFill/>
          </a:ln>
        </p:spPr>
      </p:pic>
      <p:sp>
        <p:nvSpPr>
          <p:cNvPr id="11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谣言止于智者轻信源于无知。地震谣言的制造和传播是另外一种与地震有关的灾害，地震谣传如果蔓延开来，轻则会使一些人惶惶不安，影响正常的工作和生活；重则有可能出现大量搭建防震棚、抢购物品、人员外流、停工停产等事件，影响社会安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内容占位符 3" descr="2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67120" y="914400"/>
            <a:ext cx="1219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新屋设防旧房加固防患未然有保护。通常房屋的抗震加固要从加强抗震强度，提高房屋结构的稳定性和变形能力三个方面入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3" descr="3.jpg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家中常备应急箱化险为夷派用场。处于地震多发区和地震重点监视防御区的家庭，应该准备一个防震应急包，把它放在随手可以拿到的地方，以便地震发生时能够随身携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" descr="4.jpg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遇到地震要冷静逃生不可乘电梯。发生地震的时候，如果正好在室内，应保持镇定并选择较理想的地方就近躲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5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5638680"/>
          </a:xfrm>
          <a:prstGeom prst="rect">
            <a:avLst/>
          </a:prstGeom>
          <a:ln w="0">
            <a:noFill/>
          </a:ln>
        </p:spPr>
      </p:pic>
      <p:sp>
        <p:nvSpPr>
          <p:cNvPr id="9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6400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7480" y="990720"/>
            <a:ext cx="1524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教室避震就近藏盲目乱跑无希望。在学校等人员集中场所遇到地震时，如果正在上课，学生应听从老师的指挥，迅速抱头、闭眼、就近躲在各自的课桌底下沿边角处，待地震过后再有次序地撤离到外面的空地上，切勿盲目乱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" descr="6.jpg"/>
          <p:cNvPicPr/>
          <p:nvPr/>
        </p:nvPicPr>
        <p:blipFill>
          <a:blip r:embed="rId1"/>
          <a:stretch/>
        </p:blipFill>
        <p:spPr>
          <a:xfrm>
            <a:off x="228600" y="152280"/>
            <a:ext cx="6724800" cy="5913720"/>
          </a:xfrm>
          <a:prstGeom prst="rect">
            <a:avLst/>
          </a:prstGeom>
          <a:ln w="0">
            <a:noFill/>
          </a:ln>
        </p:spPr>
      </p:pic>
      <p:sp>
        <p:nvSpPr>
          <p:cNvPr id="10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8520" y="1143000"/>
            <a:ext cx="175284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身在高楼勿近窗结实支撑物下藏、地震到来时，如果正好在公共场所，千万不要紧张慌乱，到处乱跑。应用手或其他物品保护好头部，就近躲在结实的支撑物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" descr="7.jpg"/>
          <p:cNvPicPr/>
          <p:nvPr/>
        </p:nvPicPr>
        <p:blipFill>
          <a:blip r:embed="rId1"/>
          <a:stretch/>
        </p:blipFill>
        <p:spPr>
          <a:xfrm>
            <a:off x="0" y="503280"/>
            <a:ext cx="7162920" cy="6095880"/>
          </a:xfrm>
          <a:prstGeom prst="rect">
            <a:avLst/>
          </a:prstGeom>
          <a:ln w="0">
            <a:noFill/>
          </a:ln>
        </p:spPr>
      </p:pic>
      <p:sp>
        <p:nvSpPr>
          <p:cNvPr id="10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52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67480" y="807840"/>
            <a:ext cx="152424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抓住一线光芒带来无限生机。黑暗的埋压环境，让遇险人员看不到周围，自救无处下手，这时应该冷静下来，仔细观察一下周围有没有光的缝隙，只要是透亮的地方，哪怕再小，也很可能是压埋物体最薄弱的地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" descr="8.jpg"/>
          <p:cNvPicPr/>
          <p:nvPr/>
        </p:nvPicPr>
        <p:blipFill>
          <a:blip r:embed="rId1"/>
          <a:stretch/>
        </p:blipFill>
        <p:spPr>
          <a:xfrm>
            <a:off x="304920" y="762120"/>
            <a:ext cx="6840360" cy="5526000"/>
          </a:xfrm>
          <a:prstGeom prst="rect">
            <a:avLst/>
          </a:prstGeom>
          <a:ln w="0">
            <a:noFill/>
          </a:ln>
        </p:spPr>
      </p:pic>
      <p:sp>
        <p:nvSpPr>
          <p:cNvPr id="10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2E4A-BE1F-4F09-9046-247D9C9FB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7:51:2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7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