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289-4D60-4D60-BE7C-F5E390619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CA4-250F-4E7C-881B-FE343E27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1BF6-0DAE-4480-BF29-8CE51C3D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950-D613-40BE-AFE5-7677A7ED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5C73-25BE-4125-9EFE-1FD78789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3AD-5C4C-41FA-A141-1A422592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CFD-9AB5-42A8-99A2-317BCDE6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80AD-24D7-4599-8639-C7AD53ED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30E-7B1C-44F2-99D6-488506C8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C5BB-AEF8-45C1-ADAB-0E259E73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0CF7-99C9-4173-8C2B-52529F78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3AD-AF59-4D0F-84D5-A6C6965F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B23F-56CD-4B9B-9F79-D3F1408C8E6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8E73-1B4E-4940-B481-E483DFCDFE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5651640" y="2065320"/>
            <a:ext cx="3492360" cy="4792680"/>
          </a:xfrm>
          <a:prstGeom prst="rect">
            <a:avLst/>
          </a:prstGeom>
          <a:ln w="0">
            <a:noFill/>
          </a:ln>
        </p:spPr>
      </p:pic>
      <p:sp>
        <p:nvSpPr>
          <p:cNvPr id="42" name="矩形 12"/>
          <p:cNvSpPr/>
          <p:nvPr/>
        </p:nvSpPr>
        <p:spPr>
          <a:xfrm rot="1288800">
            <a:off x="-2171880" y="-2681280"/>
            <a:ext cx="8582040" cy="1056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 rot="20721000">
            <a:off x="472320" y="50385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Designer</a:t>
            </a:r>
            <a:r>
              <a:rPr b="0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：</a:t>
            </a:r>
            <a:r>
              <a:rPr b="0" lang="en-US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Andy G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 rot="20721000">
            <a:off x="326520" y="1843920"/>
            <a:ext cx="47451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冰河世纪主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 rot="20721000">
            <a:off x="-276120" y="984960"/>
            <a:ext cx="672624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儿童节卡通</a:t>
            </a:r>
            <a:r>
              <a:rPr b="1" lang="en-US" sz="4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88920" y="61372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内容占位符 3" descr=""/>
          <p:cNvPicPr/>
          <p:nvPr/>
        </p:nvPicPr>
        <p:blipFill>
          <a:blip r:embed="rId1"/>
          <a:stretch/>
        </p:blipFill>
        <p:spPr>
          <a:xfrm>
            <a:off x="6300720" y="4506840"/>
            <a:ext cx="2843280" cy="2351160"/>
          </a:xfrm>
          <a:prstGeom prst="rect">
            <a:avLst/>
          </a:prstGeom>
          <a:ln w="0">
            <a:noFill/>
          </a:ln>
        </p:spPr>
      </p:pic>
      <p:sp>
        <p:nvSpPr>
          <p:cNvPr id="48" name="流程图: 摘录 8"/>
          <p:cNvSpPr/>
          <p:nvPr/>
        </p:nvSpPr>
        <p:spPr>
          <a:xfrm rot="5400000">
            <a:off x="-970200" y="512640"/>
            <a:ext cx="8702640" cy="6762600"/>
          </a:xfrm>
          <a:prstGeom prst="flowChartExtra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 rot="1994400">
            <a:off x="1936440" y="1170720"/>
            <a:ext cx="51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9646"/>
                </a:solidFill>
                <a:latin typeface="方正喵呜体"/>
                <a:ea typeface="方正喵呜体"/>
              </a:rPr>
              <a:t>六一国际儿童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95280" y="163044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六一国际儿童节（又称儿童节，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International Children's Day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），它是保障世界各国儿童的生存权、保健权和受教育权，为了改善儿童的生活，为了反对虐杀儿童和毒害儿童的节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内容占位符 4" descr=""/>
          <p:cNvPicPr/>
          <p:nvPr/>
        </p:nvPicPr>
        <p:blipFill>
          <a:blip r:embed="rId1"/>
          <a:stretch/>
        </p:blipFill>
        <p:spPr>
          <a:xfrm>
            <a:off x="0" y="3990960"/>
            <a:ext cx="2962440" cy="2867040"/>
          </a:xfrm>
          <a:prstGeom prst="rect">
            <a:avLst/>
          </a:prstGeom>
          <a:ln w="0">
            <a:noFill/>
          </a:ln>
        </p:spPr>
      </p:pic>
      <p:sp>
        <p:nvSpPr>
          <p:cNvPr id="52" name="矩形 9"/>
          <p:cNvSpPr/>
          <p:nvPr/>
        </p:nvSpPr>
        <p:spPr>
          <a:xfrm rot="20769000">
            <a:off x="2749680" y="622080"/>
            <a:ext cx="10296360" cy="67849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 rot="20753400">
            <a:off x="45684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9646"/>
                </a:solidFill>
                <a:latin typeface="方正喵呜体"/>
                <a:ea typeface="方正喵呜体"/>
              </a:rPr>
              <a:t>六一国际儿童节的由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5"/>
          <p:cNvSpPr/>
          <p:nvPr/>
        </p:nvSpPr>
        <p:spPr>
          <a:xfrm rot="20873400">
            <a:off x="3102120" y="1667880"/>
            <a:ext cx="5327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第二次世界大战结束后，世界各地经济萧条，成千上万的工人失业，过着饥寒交迫的生活。儿童的处境更糟，有的得了传染病，一批批地死去；有的则被迫当童工，受尽折磨，生活和生命得不到保障。为了给全世界儿童争取生存、保障和受教育的权利，加强各国儿童的友谊，国际民主妇女联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            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合会于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1949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11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月在莫斯科召开了执委会，正式决定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月日为国际儿童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内容占位符 4" descr=""/>
          <p:cNvPicPr/>
          <p:nvPr/>
        </p:nvPicPr>
        <p:blipFill>
          <a:blip r:embed="rId1"/>
          <a:srcRect l="30170" t="12534" r="31108" b="25861"/>
          <a:stretch/>
        </p:blipFill>
        <p:spPr>
          <a:xfrm>
            <a:off x="0" y="3549600"/>
            <a:ext cx="2771640" cy="3308400"/>
          </a:xfrm>
          <a:prstGeom prst="rect">
            <a:avLst/>
          </a:prstGeom>
          <a:ln w="0">
            <a:noFill/>
          </a:ln>
        </p:spPr>
      </p:pic>
      <p:sp>
        <p:nvSpPr>
          <p:cNvPr id="56" name="椭圆形标注 8"/>
          <p:cNvSpPr/>
          <p:nvPr/>
        </p:nvSpPr>
        <p:spPr>
          <a:xfrm>
            <a:off x="2620800" y="549360"/>
            <a:ext cx="6659640" cy="4824360"/>
          </a:xfrm>
          <a:prstGeom prst="wedgeEllipseCallout">
            <a:avLst>
              <a:gd name="adj1" fmla="val -53958"/>
              <a:gd name="adj2" fmla="val 24074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03640" y="5517720"/>
            <a:ext cx="51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9646"/>
                </a:solidFill>
                <a:latin typeface="方正喵呜体"/>
                <a:ea typeface="方正喵呜体"/>
              </a:rPr>
              <a:t>儿童权利保护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3182760" y="1227240"/>
            <a:ext cx="5494680" cy="34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各国政府普遍关注儿童的未来，保护儿童的权益。联合国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1990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年通过的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儿童权利公约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，中国是参与制定国和签约国之一。在批准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儿童权利公约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的同一年，中国颁布了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中华人民共和国未成年人保护法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，这对维护少年儿童的权益起到了积极的作用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200" y="5454360"/>
            <a:ext cx="51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9646"/>
                </a:solidFill>
                <a:latin typeface="方正喵呜体"/>
                <a:ea typeface="方正喵呜体"/>
              </a:rPr>
              <a:t>日本儿童节的风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内容占位符 4" descr=""/>
          <p:cNvPicPr/>
          <p:nvPr/>
        </p:nvPicPr>
        <p:blipFill>
          <a:blip r:embed="rId1"/>
          <a:srcRect l="45465" t="11535" r="0" b="62025"/>
          <a:stretch/>
        </p:blipFill>
        <p:spPr>
          <a:xfrm>
            <a:off x="5746680" y="0"/>
            <a:ext cx="3397320" cy="1871640"/>
          </a:xfrm>
          <a:prstGeom prst="rect">
            <a:avLst/>
          </a:prstGeom>
          <a:ln w="0">
            <a:noFill/>
          </a:ln>
        </p:spPr>
      </p:pic>
      <p:sp>
        <p:nvSpPr>
          <p:cNvPr id="61" name="云形标注 5"/>
          <p:cNvSpPr/>
          <p:nvPr/>
        </p:nvSpPr>
        <p:spPr>
          <a:xfrm rot="11687400">
            <a:off x="874800" y="1798200"/>
            <a:ext cx="7029360" cy="3386160"/>
          </a:xfrm>
          <a:prstGeom prst="cloudCallout">
            <a:avLst>
              <a:gd name="adj1" fmla="val -31828"/>
              <a:gd name="adj2" fmla="val 7105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 rot="951600">
            <a:off x="2274840" y="2441520"/>
            <a:ext cx="4902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三月三日是女孩子的节日，叫ひな祭り，这一天女孩子会得到人偶，女孩子也打扮的漂漂亮亮的像洋娃娃似的</a:t>
            </a:r>
            <a:r>
              <a:rPr b="0" lang="zh-CN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；</a:t>
            </a:r>
            <a:r>
              <a:rPr b="0" lang="ja-JP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 五月五日是男孩子的节日，有男孩子的家里家家要升鲤鱼旗鲤のぼり含鲤鱼跳龙门之意</a:t>
            </a:r>
            <a:r>
              <a:rPr b="0" lang="zh-CN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；</a:t>
            </a:r>
            <a:r>
              <a:rPr b="0" lang="ja-JP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 真正的儿童节是</a:t>
            </a:r>
            <a:r>
              <a:rPr b="0" lang="en-US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11</a:t>
            </a:r>
            <a:r>
              <a:rPr b="0" lang="ja-JP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15</a:t>
            </a:r>
            <a:r>
              <a:rPr b="0" lang="ja-JP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日，又叫七五三，这一天</a:t>
            </a:r>
            <a:r>
              <a:rPr b="0" lang="en-US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3</a:t>
            </a:r>
            <a:r>
              <a:rPr b="0" lang="ja-JP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岁、</a:t>
            </a:r>
            <a:r>
              <a:rPr b="0" lang="en-US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5</a:t>
            </a:r>
            <a:r>
              <a:rPr b="0" lang="ja-JP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岁的男孩子和</a:t>
            </a:r>
            <a:r>
              <a:rPr b="0" lang="en-US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3</a:t>
            </a:r>
            <a:r>
              <a:rPr b="0" lang="ja-JP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岁、</a:t>
            </a:r>
            <a:r>
              <a:rPr b="0" lang="en-US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7</a:t>
            </a:r>
            <a:r>
              <a:rPr b="0" lang="ja-JP" sz="1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岁的女孩子要到寺庙参拜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内容占位符 4" descr=""/>
          <p:cNvPicPr/>
          <p:nvPr/>
        </p:nvPicPr>
        <p:blipFill>
          <a:blip r:embed="rId1"/>
          <a:srcRect l="24465" t="21015" r="6220" b="20867"/>
          <a:stretch/>
        </p:blipFill>
        <p:spPr>
          <a:xfrm rot="19444800">
            <a:off x="5700600" y="4498560"/>
            <a:ext cx="3300480" cy="1555920"/>
          </a:xfrm>
          <a:prstGeom prst="rect">
            <a:avLst/>
          </a:prstGeom>
          <a:ln w="0">
            <a:noFill/>
          </a:ln>
        </p:spPr>
      </p:pic>
      <p:sp>
        <p:nvSpPr>
          <p:cNvPr id="64" name="流程图: 延期 8"/>
          <p:cNvSpPr/>
          <p:nvPr/>
        </p:nvSpPr>
        <p:spPr>
          <a:xfrm rot="20295000">
            <a:off x="-2049480" y="1507680"/>
            <a:ext cx="8875800" cy="5229360"/>
          </a:xfrm>
          <a:prstGeom prst="flowChartDelay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79646"/>
                </a:solidFill>
                <a:latin typeface="方正喵呜体"/>
                <a:ea typeface="方正喵呜体"/>
              </a:rPr>
              <a:t>伊斯兰国家：快乐的“糖果节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6"/>
          <p:cNvSpPr/>
          <p:nvPr/>
        </p:nvSpPr>
        <p:spPr>
          <a:xfrm rot="20141400">
            <a:off x="-25200" y="24343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大多数伊斯兰国家都将斋月后第</a:t>
            </a:r>
            <a:r>
              <a:rPr b="0" lang="en-US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天定为“糖果节”，对孩子们来说，这也是最快乐的儿童节。“糖果节”一般为期三天，小朋友们三五成群，到附近的各家各户索要糖果。按照当地民俗，大人们不能拒绝儿童的要求，所以孩子们这一天总是能满载而归，欢天喜地。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1459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内容占位符 5" descr=""/>
          <p:cNvPicPr/>
          <p:nvPr/>
        </p:nvPicPr>
        <p:blipFill>
          <a:blip r:embed="rId1"/>
          <a:srcRect l="2476" t="0" r="0" b="52801"/>
          <a:stretch/>
        </p:blipFill>
        <p:spPr>
          <a:xfrm>
            <a:off x="-33480" y="4797360"/>
            <a:ext cx="3194280" cy="2060640"/>
          </a:xfrm>
          <a:prstGeom prst="rect">
            <a:avLst/>
          </a:prstGeom>
          <a:ln w="0">
            <a:noFill/>
          </a:ln>
        </p:spPr>
      </p:pic>
      <p:sp>
        <p:nvSpPr>
          <p:cNvPr id="69" name="椭圆 7"/>
          <p:cNvSpPr/>
          <p:nvPr/>
        </p:nvSpPr>
        <p:spPr>
          <a:xfrm rot="955200">
            <a:off x="1395000" y="1928520"/>
            <a:ext cx="11809440" cy="5040360"/>
          </a:xfrm>
          <a:prstGeom prst="ellipse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79646"/>
                </a:solidFill>
                <a:latin typeface="方正喵呜体"/>
                <a:ea typeface="方正喵呜体"/>
              </a:rPr>
              <a:t>伊拉克：不知道还有儿童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5"/>
          <p:cNvSpPr/>
          <p:nvPr/>
        </p:nvSpPr>
        <p:spPr>
          <a:xfrm rot="1092000">
            <a:off x="3333960" y="272088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当世界上许多国家的小朋友在欢庆儿童节的时候，伊拉克儿童大多根本不知道世界上还有一个属于他们自己的节日。他们仍一如既往，或在学校上课，或在作坊打工，或沿街乞讨。在被忽略的儿童节里，伊拉克幼儿园、小学里没有任何节日气氛，自然也不会有庆祝活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9A8-9B49-465C-BBE1-959FA0FBDB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18"/>
          <p:cNvSpPr/>
          <p:nvPr/>
        </p:nvSpPr>
        <p:spPr>
          <a:xfrm>
            <a:off x="3276720" y="0"/>
            <a:ext cx="5867280" cy="685800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14760" y="1052280"/>
            <a:ext cx="45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方正喵呜体"/>
                <a:ea typeface="方正喵呜体"/>
              </a:rPr>
              <a:t>谢谢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内容占位符 3" descr=""/>
          <p:cNvPicPr/>
          <p:nvPr/>
        </p:nvPicPr>
        <p:blipFill>
          <a:blip r:embed="rId1"/>
          <a:stretch/>
        </p:blipFill>
        <p:spPr>
          <a:xfrm>
            <a:off x="108000" y="4660920"/>
            <a:ext cx="2660760" cy="2192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01:05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16Z</dcterms:modified>
  <cp:revision>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