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22.png" ContentType="image/png"/>
  <Override PartName="/ppt/media/image21.png" ContentType="image/png"/>
  <Override PartName="/ppt/media/image13.jpeg" ContentType="image/jpeg"/>
  <Override PartName="/ppt/media/image23.png" ContentType="image/png"/>
  <Override PartName="/ppt/media/image5.png" ContentType="image/png"/>
  <Override PartName="/ppt/media/image10.png" ContentType="image/png"/>
  <Override PartName="/ppt/media/image27.png" ContentType="image/png"/>
  <Override PartName="/ppt/media/image30.wmf" ContentType="image/x-wmf"/>
  <Override PartName="/ppt/media/image29.png" ContentType="image/png"/>
  <Override PartName="/ppt/media/image6.png" ContentType="image/png"/>
  <Override PartName="/ppt/media/image4.png" ContentType="image/png"/>
  <Override PartName="/ppt/media/image12.jpeg" ContentType="image/jpeg"/>
  <Override PartName="/ppt/media/image7.png" ContentType="image/png"/>
  <Override PartName="/ppt/media/image14.jpeg" ContentType="image/jpeg"/>
  <Override PartName="/ppt/media/image8.png" ContentType="image/png"/>
  <Override PartName="/ppt/media/image9.png" ContentType="image/png"/>
  <Override PartName="/ppt/media/image31.jpeg" ContentType="image/jpeg"/>
  <Override PartName="/ppt/media/image2.png" ContentType="image/png"/>
  <Override PartName="/ppt/media/image25.png" ContentType="image/png"/>
  <Override PartName="/ppt/media/image3.png" ContentType="image/png"/>
  <Override PartName="/ppt/media/image26.png" ContentType="image/png"/>
  <Override PartName="/ppt/media/image1.png" ContentType="image/png"/>
  <Override PartName="/ppt/media/image24.png" ContentType="image/png"/>
  <Override PartName="/ppt/media/image11.jpeg" ContentType="image/jpeg"/>
  <Override PartName="/ppt/media/image15.jpeg" ContentType="image/jpeg"/>
  <Override PartName="/ppt/media/image16.png" ContentType="image/png"/>
  <Override PartName="/ppt/media/image17.png" ContentType="image/png"/>
  <Override PartName="/ppt/media/image18.png" ContentType="image/png"/>
  <Override PartName="/ppt/media/image20.png" ContentType="image/png"/>
  <Override PartName="/ppt/media/image28.jpeg" ContentType="image/jpeg"/>
  <Override PartName="/ppt/media/image19.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495B12-771B-4A1B-9231-024C5537C6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293D49-56AD-4DA7-A043-F9953ED787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E52F00-B7D5-423F-ABFB-4753D8500B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6475D7-AA82-472B-93D1-6D0F840361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C3F0EE-F8CC-45BA-9479-7886B59143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3D7F4E-44CE-4B80-A7CF-5CECDE317E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537E5C-6211-41EF-8A75-3EF3E9D3D6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29B71-5081-4EE7-9075-01BBBF8220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96B1E3-6559-4BF0-B23A-75C5ABEEDD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426380-8E93-46F2-A02A-C16327C22E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003D81-D4E4-4164-8ED3-0DCA5BC6F9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F6AF5A-B001-4A0C-A03D-A3D36CDFAD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27A094-9ECF-442C-AE0D-1DFCA5DA9E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5E2892-A7AE-4F76-920F-1E6AFFECF0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4EB02A-02BB-44D2-92FC-3FEE9E34E9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AEF903-A000-4C7D-8502-9B620C7E74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EC4C07-BF3E-4499-88D3-648EA6A5D6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1BC0D2-550B-4B6D-A91F-60443FEBCB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4463BC-9679-4AA9-85D8-36D8B0785C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ECA7D1-9577-4447-A069-ED08307427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40A956-E268-4A7A-A6C7-A5540A1A8C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FD51F3-EF71-4C74-BB67-1BB986D9DC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3FBD78-6D54-4F58-9796-B43D303413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B2D7B5-9323-4D7E-BEB4-51CD48553E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B72FEEF-8FA0-498F-83C8-8E1BA38E83A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D5C117-28AD-48CB-AF14-7ECE48856D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E08F30-CA6E-4955-A6A4-7EBA4BF687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5F72CC-D4C9-43E3-9635-D927B0A4F7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6F493B-0CAC-464E-8E6B-68A02276BE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7E0875-326A-4209-9568-7C4324E28E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FCEAA1-445B-4A12-BE00-C3838D28C0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6EBD0F-77CB-4566-98DD-4A6529E0AF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C94719-7CBB-478C-9FE2-8E53B14DE5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94890A-D11D-4551-AC59-5BD8949E38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B4D5E9A-A408-49BD-BAEC-D5E384E5B44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CC890E7-3BCF-4386-A6D6-4303BA628AA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E7656CF-4A42-424D-9F83-79E2023FAB3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27475B-4A6D-46E1-B776-AC68895FBC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48F176-1649-4FF1-AFC5-622C2CBA9E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8CEF44-B07B-4106-B8FE-703D9C7AE1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63C0AF-A224-4D67-8136-F08541469D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1104FD-D823-4953-BCC6-4DCB4FECE1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529103-26E3-49A4-8072-2AD6AA601B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55FAAC-D3F8-408D-8BB5-5E67C9188A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693C0B-509E-4E2C-8F3E-6A29880B4E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4EE414-60FE-4123-A459-98B0021E1F2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1997419-7A01-4C3F-9BD1-B446D2EA607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977D130-3CCF-48B8-8704-D512155844F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A2987AD-6B06-4142-9E22-48FCD00898B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E5BC820-3EE8-439C-BF1B-E34029B1512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631E961-79CA-46AF-881B-F10997B759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9D4B9F-0EC1-44DD-A9A2-26C2F82317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DE0B468-D559-473C-96FF-5DA5711396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516E12-8C07-4218-B4CB-F56E0B8E5B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D14522-6394-4A49-8BEE-794BB580E2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01B8AF-EA10-4AD8-BD2B-85DA2678C8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82AEBC-448F-4F00-B07B-3044DD64E1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52900E5-9409-4ED4-8A9D-7E05348745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218B8A9-3A90-4654-BD67-A7699DB195F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009E3C3-8EA0-4907-95DF-7F962524DD6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slideLayout" Target="../slideLayouts/slideLayout1.xml"/><Relationship Id="rId13" Type="http://schemas.openxmlformats.org/officeDocument/2006/relationships/slideLayout" Target="../slideLayouts/slideLayout2.xml"/><Relationship Id="rId14" Type="http://schemas.openxmlformats.org/officeDocument/2006/relationships/slideLayout" Target="../slideLayouts/slideLayout3.xml"/><Relationship Id="rId15" Type="http://schemas.openxmlformats.org/officeDocument/2006/relationships/slideLayout" Target="../slideLayouts/slideLayout4.xml"/><Relationship Id="rId16" Type="http://schemas.openxmlformats.org/officeDocument/2006/relationships/slideLayout" Target="../slideLayouts/slideLayout5.xml"/><Relationship Id="rId17" Type="http://schemas.openxmlformats.org/officeDocument/2006/relationships/slideLayout" Target="../slideLayouts/slideLayout6.xml"/><Relationship Id="rId18" Type="http://schemas.openxmlformats.org/officeDocument/2006/relationships/slideLayout" Target="../slideLayouts/slideLayout7.xml"/><Relationship Id="rId19" Type="http://schemas.openxmlformats.org/officeDocument/2006/relationships/slideLayout" Target="../slideLayouts/slideLayout8.xml"/><Relationship Id="rId20" Type="http://schemas.openxmlformats.org/officeDocument/2006/relationships/slideLayout" Target="../slideLayouts/slideLayout9.xml"/><Relationship Id="rId21" Type="http://schemas.openxmlformats.org/officeDocument/2006/relationships/slideLayout" Target="../slideLayouts/slideLayout10.xml"/><Relationship Id="rId22" Type="http://schemas.openxmlformats.org/officeDocument/2006/relationships/slideLayout" Target="../slideLayouts/slideLayout11.xml"/><Relationship Id="rId2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slideLayout" Target="../slideLayouts/slideLayout49.xml"/><Relationship Id="rId13" Type="http://schemas.openxmlformats.org/officeDocument/2006/relationships/slideLayout" Target="../slideLayouts/slideLayout50.xml"/><Relationship Id="rId14" Type="http://schemas.openxmlformats.org/officeDocument/2006/relationships/slideLayout" Target="../slideLayouts/slideLayout51.xml"/><Relationship Id="rId15" Type="http://schemas.openxmlformats.org/officeDocument/2006/relationships/slideLayout" Target="../slideLayouts/slideLayout52.xml"/><Relationship Id="rId16" Type="http://schemas.openxmlformats.org/officeDocument/2006/relationships/slideLayout" Target="../slideLayouts/slideLayout53.xml"/><Relationship Id="rId17" Type="http://schemas.openxmlformats.org/officeDocument/2006/relationships/slideLayout" Target="../slideLayouts/slideLayout54.xml"/><Relationship Id="rId18" Type="http://schemas.openxmlformats.org/officeDocument/2006/relationships/slideLayout" Target="../slideLayouts/slideLayout55.xml"/><Relationship Id="rId19" Type="http://schemas.openxmlformats.org/officeDocument/2006/relationships/slideLayout" Target="../slideLayouts/slideLayout56.xml"/><Relationship Id="rId20" Type="http://schemas.openxmlformats.org/officeDocument/2006/relationships/slideLayout" Target="../slideLayouts/slideLayout57.xml"/><Relationship Id="rId21" Type="http://schemas.openxmlformats.org/officeDocument/2006/relationships/slideLayout" Target="../slideLayouts/slideLayout58.xml"/><Relationship Id="rId22" Type="http://schemas.openxmlformats.org/officeDocument/2006/relationships/slideLayout" Target="../slideLayouts/slideLayout59.xml"/><Relationship Id="rId2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8.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4cb"/>
        </a:solidFill>
      </p:bgPr>
    </p:bg>
    <p:spTree>
      <p:nvGrpSpPr>
        <p:cNvPr id="1" name=""/>
        <p:cNvGrpSpPr/>
        <p:nvPr/>
      </p:nvGrpSpPr>
      <p:grpSpPr>
        <a:xfrm>
          <a:off x="0" y="0"/>
          <a:ext cx="0" cy="0"/>
          <a:chOff x="0" y="0"/>
          <a:chExt cx="0" cy="0"/>
        </a:xfrm>
      </p:grpSpPr>
      <p:pic>
        <p:nvPicPr>
          <p:cNvPr id="0" name="Picture 63" descr="02"/>
          <p:cNvPicPr/>
          <p:nvPr/>
        </p:nvPicPr>
        <p:blipFill>
          <a:blip r:embed="rId2"/>
          <a:stretch/>
        </p:blipFill>
        <p:spPr>
          <a:xfrm>
            <a:off x="2411280" y="2997360"/>
            <a:ext cx="3527640" cy="3262320"/>
          </a:xfrm>
          <a:prstGeom prst="rect">
            <a:avLst/>
          </a:prstGeom>
          <a:ln w="0">
            <a:noFill/>
          </a:ln>
        </p:spPr>
      </p:pic>
      <p:pic>
        <p:nvPicPr>
          <p:cNvPr id="1" name="Picture 57" descr="08"/>
          <p:cNvPicPr/>
          <p:nvPr/>
        </p:nvPicPr>
        <p:blipFill>
          <a:blip r:embed="rId3"/>
          <a:stretch/>
        </p:blipFill>
        <p:spPr>
          <a:xfrm>
            <a:off x="4788000" y="3789360"/>
            <a:ext cx="731880" cy="2376360"/>
          </a:xfrm>
          <a:prstGeom prst="rect">
            <a:avLst/>
          </a:prstGeom>
          <a:ln w="0">
            <a:noFill/>
          </a:ln>
        </p:spPr>
      </p:pic>
      <p:pic>
        <p:nvPicPr>
          <p:cNvPr id="2" name="Picture 61" descr="04"/>
          <p:cNvPicPr/>
          <p:nvPr/>
        </p:nvPicPr>
        <p:blipFill>
          <a:blip r:embed="rId4"/>
          <a:stretch/>
        </p:blipFill>
        <p:spPr>
          <a:xfrm>
            <a:off x="6372360" y="3860640"/>
            <a:ext cx="2395440" cy="2264040"/>
          </a:xfrm>
          <a:prstGeom prst="rect">
            <a:avLst/>
          </a:prstGeom>
          <a:ln w="0">
            <a:noFill/>
          </a:ln>
        </p:spPr>
      </p:pic>
      <p:pic>
        <p:nvPicPr>
          <p:cNvPr id="3" name="Picture 58" descr="07"/>
          <p:cNvPicPr/>
          <p:nvPr/>
        </p:nvPicPr>
        <p:blipFill>
          <a:blip r:embed="rId5"/>
          <a:stretch/>
        </p:blipFill>
        <p:spPr>
          <a:xfrm>
            <a:off x="6804000" y="3097080"/>
            <a:ext cx="1079640" cy="692280"/>
          </a:xfrm>
          <a:prstGeom prst="rect">
            <a:avLst/>
          </a:prstGeom>
          <a:ln w="0">
            <a:noFill/>
          </a:ln>
        </p:spPr>
      </p:pic>
      <p:pic>
        <p:nvPicPr>
          <p:cNvPr id="4" name="Picture 59" descr="06"/>
          <p:cNvPicPr/>
          <p:nvPr/>
        </p:nvPicPr>
        <p:blipFill>
          <a:blip r:embed="rId6"/>
          <a:stretch/>
        </p:blipFill>
        <p:spPr>
          <a:xfrm>
            <a:off x="4427640" y="2492280"/>
            <a:ext cx="1052280" cy="1214640"/>
          </a:xfrm>
          <a:prstGeom prst="rect">
            <a:avLst/>
          </a:prstGeom>
          <a:ln w="0">
            <a:noFill/>
          </a:ln>
        </p:spPr>
      </p:pic>
      <p:pic>
        <p:nvPicPr>
          <p:cNvPr id="5" name="Picture 60" descr="05"/>
          <p:cNvPicPr/>
          <p:nvPr/>
        </p:nvPicPr>
        <p:blipFill>
          <a:blip r:embed="rId7"/>
          <a:stretch/>
        </p:blipFill>
        <p:spPr>
          <a:xfrm>
            <a:off x="179280" y="4292640"/>
            <a:ext cx="1281240" cy="1297080"/>
          </a:xfrm>
          <a:prstGeom prst="rect">
            <a:avLst/>
          </a:prstGeom>
          <a:ln w="0">
            <a:noFill/>
          </a:ln>
        </p:spPr>
      </p:pic>
      <p:pic>
        <p:nvPicPr>
          <p:cNvPr id="6" name="Picture 62" descr="03"/>
          <p:cNvPicPr/>
          <p:nvPr/>
        </p:nvPicPr>
        <p:blipFill>
          <a:blip r:embed="rId8"/>
          <a:stretch/>
        </p:blipFill>
        <p:spPr>
          <a:xfrm>
            <a:off x="5003640" y="4253040"/>
            <a:ext cx="2376720" cy="2271600"/>
          </a:xfrm>
          <a:prstGeom prst="rect">
            <a:avLst/>
          </a:prstGeom>
          <a:ln w="0">
            <a:noFill/>
          </a:ln>
        </p:spPr>
      </p:pic>
      <p:pic>
        <p:nvPicPr>
          <p:cNvPr id="7" name="Picture 64" descr="01"/>
          <p:cNvPicPr/>
          <p:nvPr/>
        </p:nvPicPr>
        <p:blipFill>
          <a:blip r:embed="rId9"/>
          <a:stretch/>
        </p:blipFill>
        <p:spPr>
          <a:xfrm>
            <a:off x="1484280" y="4222800"/>
            <a:ext cx="2224080" cy="2374920"/>
          </a:xfrm>
          <a:prstGeom prst="rect">
            <a:avLst/>
          </a:prstGeom>
          <a:ln w="0">
            <a:noFill/>
          </a:ln>
        </p:spPr>
      </p:pic>
      <p:pic>
        <p:nvPicPr>
          <p:cNvPr id="8" name="Picture 56" descr="09"/>
          <p:cNvPicPr/>
          <p:nvPr/>
        </p:nvPicPr>
        <p:blipFill>
          <a:blip r:embed="rId10"/>
          <a:stretch/>
        </p:blipFill>
        <p:spPr>
          <a:xfrm>
            <a:off x="966960" y="1973160"/>
            <a:ext cx="2381040" cy="2751120"/>
          </a:xfrm>
          <a:prstGeom prst="rect">
            <a:avLst/>
          </a:prstGeom>
          <a:ln w="0">
            <a:noFill/>
          </a:ln>
        </p:spPr>
      </p:pic>
      <p:pic>
        <p:nvPicPr>
          <p:cNvPr id="9" name="Picture 55" descr="10"/>
          <p:cNvPicPr/>
          <p:nvPr/>
        </p:nvPicPr>
        <p:blipFill>
          <a:blip r:embed="rId11"/>
          <a:stretch/>
        </p:blipFill>
        <p:spPr>
          <a:xfrm>
            <a:off x="5364000" y="2544840"/>
            <a:ext cx="2184480" cy="2684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2"/>
    <p:sldLayoutId id="2147483650" r:id="rId13"/>
    <p:sldLayoutId id="2147483651" r:id="rId14"/>
    <p:sldLayoutId id="2147483652" r:id="rId15"/>
    <p:sldLayoutId id="2147483653" r:id="rId16"/>
    <p:sldLayoutId id="2147483654" r:id="rId17"/>
    <p:sldLayoutId id="2147483655" r:id="rId18"/>
    <p:sldLayoutId id="2147483656" r:id="rId19"/>
    <p:sldLayoutId id="2147483657" r:id="rId20"/>
    <p:sldLayoutId id="2147483658" r:id="rId21"/>
    <p:sldLayoutId id="2147483659" r:id="rId22"/>
    <p:sldLayoutId id="2147483660" r:id="rId2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6" name="Picture 139" descr="sub2"/>
          <p:cNvPicPr/>
          <p:nvPr/>
        </p:nvPicPr>
        <p:blipFill>
          <a:blip r:embed="rId3"/>
          <a:stretch/>
        </p:blipFill>
        <p:spPr>
          <a:xfrm>
            <a:off x="0" y="0"/>
            <a:ext cx="9144000" cy="871560"/>
          </a:xfrm>
          <a:prstGeom prst="rect">
            <a:avLst/>
          </a:prstGeom>
          <a:ln w="0">
            <a:noFill/>
          </a:ln>
        </p:spPr>
      </p:pic>
      <p:pic>
        <p:nvPicPr>
          <p:cNvPr id="47" name="Picture 137" descr="sub2 copy"/>
          <p:cNvPicPr/>
          <p:nvPr/>
        </p:nvPicPr>
        <p:blipFill>
          <a:blip r:embed="rId4"/>
          <a:stretch/>
        </p:blipFill>
        <p:spPr>
          <a:xfrm>
            <a:off x="0" y="0"/>
            <a:ext cx="9144000" cy="6858000"/>
          </a:xfrm>
          <a:prstGeom prst="rect">
            <a:avLst/>
          </a:prstGeom>
          <a:ln w="0">
            <a:noFill/>
          </a:ln>
        </p:spPr>
      </p:pic>
      <p:sp>
        <p:nvSpPr>
          <p:cNvPr id="48"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 name="PlaceHolder 2"/>
          <p:cNvSpPr>
            <a:spLocks noGrp="1"/>
          </p:cNvSpPr>
          <p:nvPr>
            <p:ph type="body"/>
          </p:nvPr>
        </p:nvSpPr>
        <p:spPr>
          <a:xfrm>
            <a:off x="46836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0"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3346D-009B-4175-A272-3D4172FB1D26}"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grpSp>
        <p:nvGrpSpPr>
          <p:cNvPr id="52" name=""/>
          <p:cNvGrpSpPr/>
          <p:nvPr/>
        </p:nvGrpSpPr>
        <p:grpSpPr>
          <a:xfrm>
            <a:off x="326880" y="6408720"/>
            <a:ext cx="2340000" cy="260280"/>
            <a:chOff x="326880" y="6408720"/>
            <a:chExt cx="2340000" cy="260280"/>
          </a:xfrm>
        </p:grpSpPr>
        <p:sp>
          <p:nvSpPr>
            <p:cNvPr id="53" name="WordArt 124"/>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90000"/>
                    </a:srgbClr>
                  </a:solidFill>
                  <a:latin typeface="Impact"/>
                </a:rPr>
                <a:t>' LOGO '</a:t>
              </a:r>
              <a:endParaRPr b="0" lang="en-US" sz="1400" spc="-1" strike="noStrike">
                <a:ln w="0">
                  <a:noFill/>
                </a:ln>
                <a:solidFill>
                  <a:srgbClr val="333333">
                    <a:alpha val="90000"/>
                  </a:srgbClr>
                </a:solidFill>
                <a:latin typeface="Impact"/>
                <a:ea typeface="Impact"/>
              </a:endParaRPr>
            </a:p>
          </p:txBody>
        </p:sp>
        <p:sp>
          <p:nvSpPr>
            <p:cNvPr id="54" name="WordArt 125"/>
            <p:cNvSpPr txBox="1"/>
            <p:nvPr/>
          </p:nvSpPr>
          <p:spPr>
            <a:xfrm>
              <a:off x="136980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sp>
        <p:nvSpPr>
          <p:cNvPr id="55" name="PlaceHolder 5"/>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25c00"/>
                </a:solidFill>
                <a:latin typeface="HY헤드라인M"/>
              </a:rPr>
              <a:t>Click to edit the title text format</a:t>
            </a:r>
            <a:endParaRPr b="0" lang="en-US" sz="3000" spc="-1" strike="noStrike">
              <a:solidFill>
                <a:srgbClr val="325c00"/>
              </a:solidFill>
              <a:latin typeface="HY헤드라인M"/>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2" name="Picture 164" descr="sub"/>
          <p:cNvPicPr/>
          <p:nvPr/>
        </p:nvPicPr>
        <p:blipFill>
          <a:blip r:embed="rId3"/>
          <a:stretch/>
        </p:blipFill>
        <p:spPr>
          <a:xfrm>
            <a:off x="0" y="0"/>
            <a:ext cx="9144000" cy="871560"/>
          </a:xfrm>
          <a:prstGeom prst="rect">
            <a:avLst/>
          </a:prstGeom>
          <a:ln w="0">
            <a:noFill/>
          </a:ln>
        </p:spPr>
      </p:pic>
      <p:sp>
        <p:nvSpPr>
          <p:cNvPr id="93" name="PlaceHolder 1"/>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4"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5"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6"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4754B-7987-4EB0-8529-3CCFE6B2AB5D}"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sp>
        <p:nvSpPr>
          <p:cNvPr id="97" name="PlaceHolder 5"/>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5cc8"/>
                </a:solidFill>
                <a:latin typeface="HY헤드라인M"/>
              </a:rPr>
              <a:t>Click to edit the title text format</a:t>
            </a:r>
            <a:endParaRPr b="0" lang="en-US" sz="3000" spc="-1" strike="noStrike">
              <a:solidFill>
                <a:srgbClr val="005cc8"/>
              </a:solidFill>
              <a:latin typeface="HY헤드라인M"/>
            </a:endParaRPr>
          </a:p>
        </p:txBody>
      </p:sp>
      <p:grpSp>
        <p:nvGrpSpPr>
          <p:cNvPr id="98" name=""/>
          <p:cNvGrpSpPr/>
          <p:nvPr/>
        </p:nvGrpSpPr>
        <p:grpSpPr>
          <a:xfrm>
            <a:off x="326880" y="6408720"/>
            <a:ext cx="2340000" cy="260280"/>
            <a:chOff x="326880" y="6408720"/>
            <a:chExt cx="2340000" cy="260280"/>
          </a:xfrm>
        </p:grpSpPr>
        <p:sp>
          <p:nvSpPr>
            <p:cNvPr id="99" name="WordArt 156"/>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90000"/>
                    </a:srgbClr>
                  </a:solidFill>
                  <a:latin typeface="Impact"/>
                </a:rPr>
                <a:t>' LOGO '</a:t>
              </a:r>
              <a:endParaRPr b="0" lang="en-US" sz="1400" spc="-1" strike="noStrike">
                <a:ln w="0">
                  <a:noFill/>
                </a:ln>
                <a:solidFill>
                  <a:srgbClr val="333333">
                    <a:alpha val="90000"/>
                  </a:srgbClr>
                </a:solidFill>
                <a:latin typeface="Impact"/>
                <a:ea typeface="Impact"/>
              </a:endParaRPr>
            </a:p>
          </p:txBody>
        </p:sp>
        <p:sp>
          <p:nvSpPr>
            <p:cNvPr id="100" name="WordArt 157"/>
            <p:cNvSpPr txBox="1"/>
            <p:nvPr/>
          </p:nvSpPr>
          <p:spPr>
            <a:xfrm>
              <a:off x="136980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cb"/>
            </a:gs>
            <a:gs pos="100000">
              <a:srgbClr val="fffbeb"/>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body"/>
          </p:nvPr>
        </p:nvSpPr>
        <p:spPr>
          <a:xfrm>
            <a:off x="457200" y="1125000"/>
            <a:ext cx="8229600" cy="49676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38" name="PlaceHolder 2"/>
          <p:cNvSpPr>
            <a:spLocks noGrp="1"/>
          </p:cNvSpPr>
          <p:nvPr>
            <p:ph type="title"/>
          </p:nvPr>
        </p:nvSpPr>
        <p:spPr>
          <a:xfrm>
            <a:off x="455400" y="274680"/>
            <a:ext cx="821988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533"/>
                </a:solidFill>
                <a:latin typeface="HY헤드라인M"/>
              </a:rPr>
              <a:t>Click to edit the title text format</a:t>
            </a:r>
            <a:endParaRPr b="0" lang="en-US" sz="3000" spc="-1" strike="noStrike">
              <a:solidFill>
                <a:srgbClr val="002533"/>
              </a:solidFill>
              <a:latin typeface="HY헤드라인M"/>
            </a:endParaRPr>
          </a:p>
        </p:txBody>
      </p:sp>
      <p:sp>
        <p:nvSpPr>
          <p:cNvPr id="139"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40"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41"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45F93-8D64-4E71-A699-A1DF056532DE}"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grpSp>
        <p:nvGrpSpPr>
          <p:cNvPr id="142" name=""/>
          <p:cNvGrpSpPr/>
          <p:nvPr/>
        </p:nvGrpSpPr>
        <p:grpSpPr>
          <a:xfrm>
            <a:off x="326880" y="6408720"/>
            <a:ext cx="2340000" cy="260280"/>
            <a:chOff x="326880" y="6408720"/>
            <a:chExt cx="2340000" cy="260280"/>
          </a:xfrm>
        </p:grpSpPr>
        <p:sp>
          <p:nvSpPr>
            <p:cNvPr id="143" name="WordArt 113"/>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90000"/>
                    </a:srgbClr>
                  </a:solidFill>
                  <a:latin typeface="Impact"/>
                </a:rPr>
                <a:t>' LOGO '</a:t>
              </a:r>
              <a:endParaRPr b="0" lang="en-US" sz="1400" spc="-1" strike="noStrike">
                <a:ln w="0">
                  <a:noFill/>
                </a:ln>
                <a:solidFill>
                  <a:srgbClr val="333333">
                    <a:alpha val="90000"/>
                  </a:srgbClr>
                </a:solidFill>
                <a:latin typeface="Impact"/>
                <a:ea typeface="Impact"/>
              </a:endParaRPr>
            </a:p>
          </p:txBody>
        </p:sp>
        <p:sp>
          <p:nvSpPr>
            <p:cNvPr id="144" name="WordArt 114"/>
            <p:cNvSpPr txBox="1"/>
            <p:nvPr/>
          </p:nvSpPr>
          <p:spPr>
            <a:xfrm>
              <a:off x="136980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grpSp>
        <p:nvGrpSpPr>
          <p:cNvPr id="145" name=""/>
          <p:cNvGrpSpPr/>
          <p:nvPr/>
        </p:nvGrpSpPr>
        <p:grpSpPr>
          <a:xfrm>
            <a:off x="6568920" y="5305320"/>
            <a:ext cx="2467080" cy="1219320"/>
            <a:chOff x="6568920" y="5305320"/>
            <a:chExt cx="2467080" cy="1219320"/>
          </a:xfrm>
        </p:grpSpPr>
        <p:pic>
          <p:nvPicPr>
            <p:cNvPr id="146" name="Picture 127" descr="02"/>
            <p:cNvPicPr/>
            <p:nvPr/>
          </p:nvPicPr>
          <p:blipFill>
            <a:blip r:embed="rId2"/>
            <a:stretch/>
          </p:blipFill>
          <p:spPr>
            <a:xfrm>
              <a:off x="6882840" y="5305320"/>
              <a:ext cx="1194840" cy="1104840"/>
            </a:xfrm>
            <a:prstGeom prst="rect">
              <a:avLst/>
            </a:prstGeom>
            <a:ln w="0">
              <a:noFill/>
            </a:ln>
          </p:spPr>
        </p:pic>
        <p:pic>
          <p:nvPicPr>
            <p:cNvPr id="147" name="Picture 128" descr="04"/>
            <p:cNvPicPr/>
            <p:nvPr/>
          </p:nvPicPr>
          <p:blipFill>
            <a:blip r:embed="rId3"/>
            <a:stretch/>
          </p:blipFill>
          <p:spPr>
            <a:xfrm>
              <a:off x="8224560" y="5597640"/>
              <a:ext cx="811440" cy="766440"/>
            </a:xfrm>
            <a:prstGeom prst="rect">
              <a:avLst/>
            </a:prstGeom>
            <a:ln w="0">
              <a:noFill/>
            </a:ln>
          </p:spPr>
        </p:pic>
        <p:pic>
          <p:nvPicPr>
            <p:cNvPr id="148" name="Picture 129" descr="03"/>
            <p:cNvPicPr/>
            <p:nvPr/>
          </p:nvPicPr>
          <p:blipFill>
            <a:blip r:embed="rId4"/>
            <a:stretch/>
          </p:blipFill>
          <p:spPr>
            <a:xfrm>
              <a:off x="7760880" y="5730480"/>
              <a:ext cx="804960" cy="769320"/>
            </a:xfrm>
            <a:prstGeom prst="rect">
              <a:avLst/>
            </a:prstGeom>
            <a:ln w="0">
              <a:noFill/>
            </a:ln>
          </p:spPr>
        </p:pic>
        <p:pic>
          <p:nvPicPr>
            <p:cNvPr id="149" name="Picture 130" descr="01"/>
            <p:cNvPicPr/>
            <p:nvPr/>
          </p:nvPicPr>
          <p:blipFill>
            <a:blip r:embed="rId5"/>
            <a:stretch/>
          </p:blipFill>
          <p:spPr>
            <a:xfrm>
              <a:off x="6568920" y="5720400"/>
              <a:ext cx="753120" cy="80424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body"/>
          </p:nvPr>
        </p:nvSpPr>
        <p:spPr>
          <a:xfrm>
            <a:off x="539640" y="1197000"/>
            <a:ext cx="8136000" cy="4929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87"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88"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89"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23398-F5B0-48B7-96B2-D51D160BA88A}"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sp>
        <p:nvSpPr>
          <p:cNvPr id="190" name="PlaceHolder 5"/>
          <p:cNvSpPr>
            <a:spLocks noGrp="1"/>
          </p:cNvSpPr>
          <p:nvPr>
            <p:ph type="title"/>
          </p:nvPr>
        </p:nvSpPr>
        <p:spPr>
          <a:xfrm>
            <a:off x="539640" y="274680"/>
            <a:ext cx="81360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a50021"/>
                </a:solidFill>
                <a:latin typeface="HY헤드라인M"/>
              </a:rPr>
              <a:t>Click to edit the title text format</a:t>
            </a:r>
            <a:endParaRPr b="0" lang="en-US" sz="3000" spc="-1" strike="noStrike">
              <a:solidFill>
                <a:srgbClr val="a50021"/>
              </a:solidFill>
              <a:latin typeface="HY헤드라인M"/>
            </a:endParaRPr>
          </a:p>
        </p:txBody>
      </p:sp>
      <p:grpSp>
        <p:nvGrpSpPr>
          <p:cNvPr id="191" name=""/>
          <p:cNvGrpSpPr/>
          <p:nvPr/>
        </p:nvGrpSpPr>
        <p:grpSpPr>
          <a:xfrm>
            <a:off x="326880" y="6408720"/>
            <a:ext cx="2340000" cy="260280"/>
            <a:chOff x="326880" y="6408720"/>
            <a:chExt cx="2340000" cy="260280"/>
          </a:xfrm>
        </p:grpSpPr>
        <p:sp>
          <p:nvSpPr>
            <p:cNvPr id="192" name="WordArt 71"/>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90000"/>
                    </a:srgbClr>
                  </a:solidFill>
                  <a:latin typeface="Impact"/>
                </a:rPr>
                <a:t>' LOGO '</a:t>
              </a:r>
              <a:endParaRPr b="0" lang="en-US" sz="1400" spc="-1" strike="noStrike">
                <a:ln w="0">
                  <a:noFill/>
                </a:ln>
                <a:solidFill>
                  <a:srgbClr val="333333">
                    <a:alpha val="90000"/>
                  </a:srgbClr>
                </a:solidFill>
                <a:latin typeface="Impact"/>
                <a:ea typeface="Impact"/>
              </a:endParaRPr>
            </a:p>
          </p:txBody>
        </p:sp>
        <p:sp>
          <p:nvSpPr>
            <p:cNvPr id="193" name="WordArt 72"/>
            <p:cNvSpPr txBox="1"/>
            <p:nvPr/>
          </p:nvSpPr>
          <p:spPr>
            <a:xfrm>
              <a:off x="136980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grpSp>
        <p:nvGrpSpPr>
          <p:cNvPr id="194" name=""/>
          <p:cNvGrpSpPr/>
          <p:nvPr/>
        </p:nvGrpSpPr>
        <p:grpSpPr>
          <a:xfrm>
            <a:off x="6156360" y="5113440"/>
            <a:ext cx="2755800" cy="1483920"/>
            <a:chOff x="6156360" y="5113440"/>
            <a:chExt cx="2755800" cy="1483920"/>
          </a:xfrm>
        </p:grpSpPr>
        <p:pic>
          <p:nvPicPr>
            <p:cNvPr id="195" name="Picture 73" descr="02"/>
            <p:cNvPicPr/>
            <p:nvPr/>
          </p:nvPicPr>
          <p:blipFill>
            <a:blip r:embed="rId2"/>
            <a:stretch/>
          </p:blipFill>
          <p:spPr>
            <a:xfrm>
              <a:off x="6872400" y="5441760"/>
              <a:ext cx="1131840" cy="1046880"/>
            </a:xfrm>
            <a:prstGeom prst="rect">
              <a:avLst/>
            </a:prstGeom>
            <a:ln w="0">
              <a:noFill/>
            </a:ln>
          </p:spPr>
        </p:pic>
        <p:pic>
          <p:nvPicPr>
            <p:cNvPr id="196" name="Picture 74" descr="08"/>
            <p:cNvPicPr/>
            <p:nvPr/>
          </p:nvPicPr>
          <p:blipFill>
            <a:blip r:embed="rId3"/>
            <a:stretch/>
          </p:blipFill>
          <p:spPr>
            <a:xfrm>
              <a:off x="7634880" y="5696280"/>
              <a:ext cx="234720" cy="762480"/>
            </a:xfrm>
            <a:prstGeom prst="rect">
              <a:avLst/>
            </a:prstGeom>
            <a:ln w="0">
              <a:noFill/>
            </a:ln>
          </p:spPr>
        </p:pic>
        <p:pic>
          <p:nvPicPr>
            <p:cNvPr id="197" name="Picture 75" descr="04"/>
            <p:cNvPicPr/>
            <p:nvPr/>
          </p:nvPicPr>
          <p:blipFill>
            <a:blip r:embed="rId4"/>
            <a:stretch/>
          </p:blipFill>
          <p:spPr>
            <a:xfrm>
              <a:off x="8143560" y="5719320"/>
              <a:ext cx="768600" cy="726480"/>
            </a:xfrm>
            <a:prstGeom prst="rect">
              <a:avLst/>
            </a:prstGeom>
            <a:ln w="0">
              <a:noFill/>
            </a:ln>
          </p:spPr>
        </p:pic>
        <p:pic>
          <p:nvPicPr>
            <p:cNvPr id="198" name="Picture 76" descr="07"/>
            <p:cNvPicPr/>
            <p:nvPr/>
          </p:nvPicPr>
          <p:blipFill>
            <a:blip r:embed="rId5"/>
            <a:stretch/>
          </p:blipFill>
          <p:spPr>
            <a:xfrm>
              <a:off x="8282160" y="5474160"/>
              <a:ext cx="346320" cy="222120"/>
            </a:xfrm>
            <a:prstGeom prst="rect">
              <a:avLst/>
            </a:prstGeom>
            <a:ln w="0">
              <a:noFill/>
            </a:ln>
          </p:spPr>
        </p:pic>
        <p:pic>
          <p:nvPicPr>
            <p:cNvPr id="199" name="Picture 77" descr="06"/>
            <p:cNvPicPr/>
            <p:nvPr/>
          </p:nvPicPr>
          <p:blipFill>
            <a:blip r:embed="rId6"/>
            <a:stretch/>
          </p:blipFill>
          <p:spPr>
            <a:xfrm>
              <a:off x="7519320" y="5279760"/>
              <a:ext cx="337680" cy="389520"/>
            </a:xfrm>
            <a:prstGeom prst="rect">
              <a:avLst/>
            </a:prstGeom>
            <a:ln w="0">
              <a:noFill/>
            </a:ln>
          </p:spPr>
        </p:pic>
        <p:pic>
          <p:nvPicPr>
            <p:cNvPr id="200" name="Picture 78" descr="05"/>
            <p:cNvPicPr/>
            <p:nvPr/>
          </p:nvPicPr>
          <p:blipFill>
            <a:blip r:embed="rId7"/>
            <a:stretch/>
          </p:blipFill>
          <p:spPr>
            <a:xfrm>
              <a:off x="6156360" y="5857920"/>
              <a:ext cx="411120" cy="416160"/>
            </a:xfrm>
            <a:prstGeom prst="rect">
              <a:avLst/>
            </a:prstGeom>
            <a:ln w="0">
              <a:noFill/>
            </a:ln>
          </p:spPr>
        </p:pic>
        <p:pic>
          <p:nvPicPr>
            <p:cNvPr id="201" name="Picture 79" descr="03"/>
            <p:cNvPicPr/>
            <p:nvPr/>
          </p:nvPicPr>
          <p:blipFill>
            <a:blip r:embed="rId8"/>
            <a:stretch/>
          </p:blipFill>
          <p:spPr>
            <a:xfrm>
              <a:off x="7704360" y="5844960"/>
              <a:ext cx="762480" cy="729000"/>
            </a:xfrm>
            <a:prstGeom prst="rect">
              <a:avLst/>
            </a:prstGeom>
            <a:ln w="0">
              <a:noFill/>
            </a:ln>
          </p:spPr>
        </p:pic>
        <p:pic>
          <p:nvPicPr>
            <p:cNvPr id="202" name="Picture 80" descr="01"/>
            <p:cNvPicPr/>
            <p:nvPr/>
          </p:nvPicPr>
          <p:blipFill>
            <a:blip r:embed="rId9"/>
            <a:stretch/>
          </p:blipFill>
          <p:spPr>
            <a:xfrm>
              <a:off x="6575040" y="5835240"/>
              <a:ext cx="713520" cy="762120"/>
            </a:xfrm>
            <a:prstGeom prst="rect">
              <a:avLst/>
            </a:prstGeom>
            <a:ln w="0">
              <a:noFill/>
            </a:ln>
          </p:spPr>
        </p:pic>
        <p:pic>
          <p:nvPicPr>
            <p:cNvPr id="203" name="Picture 81" descr="09"/>
            <p:cNvPicPr/>
            <p:nvPr/>
          </p:nvPicPr>
          <p:blipFill>
            <a:blip r:embed="rId10"/>
            <a:stretch/>
          </p:blipFill>
          <p:spPr>
            <a:xfrm>
              <a:off x="6408720" y="5113440"/>
              <a:ext cx="763920" cy="883080"/>
            </a:xfrm>
            <a:prstGeom prst="rect">
              <a:avLst/>
            </a:prstGeom>
            <a:ln w="0">
              <a:noFill/>
            </a:ln>
          </p:spPr>
        </p:pic>
        <p:pic>
          <p:nvPicPr>
            <p:cNvPr id="204" name="Picture 82" descr="10"/>
            <p:cNvPicPr/>
            <p:nvPr/>
          </p:nvPicPr>
          <p:blipFill>
            <a:blip r:embed="rId11"/>
            <a:stretch/>
          </p:blipFill>
          <p:spPr>
            <a:xfrm>
              <a:off x="7819920" y="5296680"/>
              <a:ext cx="700920" cy="861480"/>
            </a:xfrm>
            <a:prstGeom prst="rect">
              <a:avLst/>
            </a:prstGeom>
            <a:ln w="0">
              <a:noFill/>
            </a:ln>
          </p:spPr>
        </p:pic>
      </p:grpSp>
      <p:sp>
        <p:nvSpPr>
          <p:cNvPr id="205" name="Rectangle 84"/>
          <p:cNvSpPr/>
          <p:nvPr/>
        </p:nvSpPr>
        <p:spPr>
          <a:xfrm>
            <a:off x="0" y="0"/>
            <a:ext cx="9144000" cy="189000"/>
          </a:xfrm>
          <a:prstGeom prst="rect">
            <a:avLst/>
          </a:prstGeom>
          <a:solidFill>
            <a:srgbClr val="d5070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701" r:id="rId12"/>
    <p:sldLayoutId id="2147483702" r:id="rId13"/>
    <p:sldLayoutId id="2147483703" r:id="rId14"/>
    <p:sldLayoutId id="2147483704" r:id="rId15"/>
    <p:sldLayoutId id="2147483705" r:id="rId16"/>
    <p:sldLayoutId id="2147483706" r:id="rId17"/>
    <p:sldLayoutId id="2147483707" r:id="rId18"/>
    <p:sldLayoutId id="2147483708" r:id="rId19"/>
    <p:sldLayoutId id="2147483709" r:id="rId20"/>
    <p:sldLayoutId id="2147483710" r:id="rId21"/>
    <p:sldLayoutId id="2147483711" r:id="rId22"/>
    <p:sldLayoutId id="2147483712" r:id="rId2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2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244"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45"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46"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42123-B0C2-4EF2-8AA5-51A066A3C62B}" type="slidenum">
              <a:rPr b="0" lang="ko-KR" sz="1200" spc="-1" strike="noStrike">
                <a:solidFill>
                  <a:srgbClr val="898989"/>
                </a:solidFill>
                <a:latin typeface="Gulim"/>
              </a:rPr>
              <a:t>&lt;number&gt;</a:t>
            </a:fld>
            <a:endParaRPr b="0" lang="en-US" sz="1200" spc="-1" strike="noStrike">
              <a:solidFill>
                <a:srgbClr val="000000"/>
              </a:solidFill>
              <a:latin typeface="Gulim"/>
            </a:endParaRPr>
          </a:p>
        </p:txBody>
      </p:sp>
      <p:pic>
        <p:nvPicPr>
          <p:cNvPr id="247" name="Picture 2" descr="Untitled-1"/>
          <p:cNvPicPr/>
          <p:nvPr/>
        </p:nvPicPr>
        <p:blipFill>
          <a:blip r:embed="rId2"/>
          <a:stretch/>
        </p:blipFill>
        <p:spPr>
          <a:xfrm>
            <a:off x="0" y="0"/>
            <a:ext cx="9144000" cy="685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www.eeppt.com/moban/" TargetMode="External"/><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9.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30.wmf"/><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www.eeppt.com/moban/" TargetMode="External"/><Relationship Id="rId3"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hyperlink" Target="http://www.eeppt.com/moban/" TargetMode="External"/><Relationship Id="rId5"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63.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5.jpe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10.png"/><Relationship Id="rId6"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hyperlink" Target="http://www.eeppt.com/moban/" TargetMode="External"/><Relationship Id="rId9"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9.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4cb"/>
        </a:solidFill>
      </p:bgPr>
    </p:bg>
    <p:spTree>
      <p:nvGrpSpPr>
        <p:cNvPr id="1" name=""/>
        <p:cNvGrpSpPr/>
        <p:nvPr/>
      </p:nvGrpSpPr>
      <p:grpSpPr>
        <a:xfrm>
          <a:off x="0" y="0"/>
          <a:ext cx="0" cy="0"/>
          <a:chOff x="0" y="0"/>
          <a:chExt cx="0" cy="0"/>
        </a:xfrm>
      </p:grpSpPr>
      <p:sp>
        <p:nvSpPr>
          <p:cNvPr id="284" name="Rectangle 56"/>
          <p:cNvSpPr/>
          <p:nvPr/>
        </p:nvSpPr>
        <p:spPr>
          <a:xfrm>
            <a:off x="69840" y="1023840"/>
            <a:ext cx="9074160" cy="749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300" spc="-1" strike="noStrike">
                <a:solidFill>
                  <a:srgbClr val="000000"/>
                </a:solidFill>
                <a:latin typeface="Arial"/>
                <a:ea typeface="宋体"/>
              </a:rPr>
              <a:t> </a:t>
            </a:r>
            <a:endParaRPr b="0" lang="en-US" sz="5300" spc="-1" strike="noStrike">
              <a:solidFill>
                <a:srgbClr val="000000"/>
              </a:solidFill>
              <a:latin typeface="Gulim"/>
            </a:endParaRPr>
          </a:p>
        </p:txBody>
      </p:sp>
      <p:sp>
        <p:nvSpPr>
          <p:cNvPr id="285" name="Rectangle 126"/>
          <p:cNvSpPr/>
          <p:nvPr/>
        </p:nvSpPr>
        <p:spPr>
          <a:xfrm>
            <a:off x="34920" y="587520"/>
            <a:ext cx="9109080" cy="50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6"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
        <p:nvSpPr>
          <p:cNvPr id="287" name=""/>
          <p:cNvSpPr/>
          <p:nvPr/>
        </p:nvSpPr>
        <p:spPr>
          <a:xfrm>
            <a:off x="36360" y="645480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Gulim"/>
            </a:endParaRPr>
          </a:p>
        </p:txBody>
      </p:sp>
      <p:sp>
        <p:nvSpPr>
          <p:cNvPr id="288" name=""/>
          <p:cNvSpPr/>
          <p:nvPr/>
        </p:nvSpPr>
        <p:spPr>
          <a:xfrm>
            <a:off x="2306520" y="476280"/>
            <a:ext cx="35334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Gulim"/>
              </a:rPr>
              <a:t>儿童教育卡通</a:t>
            </a:r>
            <a:r>
              <a:rPr b="0" lang="zh-CN" sz="4000" spc="-1" strike="noStrike">
                <a:solidFill>
                  <a:srgbClr val="000000"/>
                </a:solidFill>
                <a:latin typeface="Gulim"/>
                <a:ea typeface="宋体"/>
              </a:rPr>
              <a:t>幻灯片下载</a:t>
            </a:r>
            <a:endParaRPr b="0" lang="en-US" sz="4000" spc="-1" strike="noStrike">
              <a:solidFill>
                <a:srgbClr val="000000"/>
              </a:solidFill>
              <a:latin typeface="Gulim"/>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4" name="AutoShape 679"/>
          <p:cNvSpPr/>
          <p:nvPr/>
        </p:nvSpPr>
        <p:spPr>
          <a:xfrm>
            <a:off x="431640" y="1268280"/>
            <a:ext cx="8280720" cy="2232000"/>
          </a:xfrm>
          <a:prstGeom prst="roundRect">
            <a:avLst>
              <a:gd name="adj" fmla="val 4319"/>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5" name="AutoShape 680"/>
          <p:cNvSpPr/>
          <p:nvPr/>
        </p:nvSpPr>
        <p:spPr>
          <a:xfrm>
            <a:off x="684360" y="1590840"/>
            <a:ext cx="2482560" cy="1584000"/>
          </a:xfrm>
          <a:prstGeom prst="roundRect">
            <a:avLst>
              <a:gd name="adj" fmla="val 11417"/>
            </a:avLst>
          </a:prstGeom>
          <a:gradFill rotWithShape="0">
            <a:gsLst>
              <a:gs pos="0">
                <a:srgbClr val="f5e0cf"/>
              </a:gs>
              <a:gs pos="100000">
                <a:srgbClr val="f5e0cf"/>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6" name="AutoShape 681"/>
          <p:cNvSpPr/>
          <p:nvPr/>
        </p:nvSpPr>
        <p:spPr>
          <a:xfrm>
            <a:off x="684360" y="1484280"/>
            <a:ext cx="2482560" cy="934920"/>
          </a:xfrm>
          <a:prstGeom prst="roundRect">
            <a:avLst>
              <a:gd name="adj" fmla="val 11417"/>
            </a:avLst>
          </a:prstGeom>
          <a:gradFill rotWithShape="0">
            <a:gsLst>
              <a:gs pos="0">
                <a:srgbClr val="f5e0cf"/>
              </a:gs>
              <a:gs pos="100000">
                <a:srgbClr val="f5e0cf"/>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7" name="AutoShape 682"/>
          <p:cNvSpPr/>
          <p:nvPr/>
        </p:nvSpPr>
        <p:spPr>
          <a:xfrm>
            <a:off x="720720" y="1519200"/>
            <a:ext cx="2411280" cy="863640"/>
          </a:xfrm>
          <a:prstGeom prst="roundRect">
            <a:avLst>
              <a:gd name="adj" fmla="val 11417"/>
            </a:avLst>
          </a:prstGeom>
          <a:gradFill rotWithShape="0">
            <a:gsLst>
              <a:gs pos="0">
                <a:srgbClr val="a50021"/>
              </a:gs>
              <a:gs pos="100000">
                <a:srgbClr val="87001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8" name="AutoShape 683"/>
          <p:cNvSpPr/>
          <p:nvPr/>
        </p:nvSpPr>
        <p:spPr>
          <a:xfrm>
            <a:off x="3348000" y="1590840"/>
            <a:ext cx="2482920" cy="1584000"/>
          </a:xfrm>
          <a:prstGeom prst="roundRect">
            <a:avLst>
              <a:gd name="adj" fmla="val 11417"/>
            </a:avLst>
          </a:prstGeom>
          <a:gradFill rotWithShape="0">
            <a:gsLst>
              <a:gs pos="0">
                <a:srgbClr val="fff4cb"/>
              </a:gs>
              <a:gs pos="100000">
                <a:srgbClr val="fff4cb"/>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9" name="AutoShape 684"/>
          <p:cNvSpPr/>
          <p:nvPr/>
        </p:nvSpPr>
        <p:spPr>
          <a:xfrm>
            <a:off x="3348000" y="1484280"/>
            <a:ext cx="2482920" cy="934920"/>
          </a:xfrm>
          <a:prstGeom prst="roundRect">
            <a:avLst>
              <a:gd name="adj" fmla="val 11417"/>
            </a:avLst>
          </a:prstGeom>
          <a:gradFill rotWithShape="0">
            <a:gsLst>
              <a:gs pos="0">
                <a:srgbClr val="fff4cb"/>
              </a:gs>
              <a:gs pos="100000">
                <a:srgbClr val="fff4cb"/>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0" name="AutoShape 685"/>
          <p:cNvSpPr/>
          <p:nvPr/>
        </p:nvSpPr>
        <p:spPr>
          <a:xfrm>
            <a:off x="3384720" y="1519200"/>
            <a:ext cx="2411280" cy="863640"/>
          </a:xfrm>
          <a:prstGeom prst="roundRect">
            <a:avLst>
              <a:gd name="adj" fmla="val 11417"/>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1" name="AutoShape 686"/>
          <p:cNvSpPr/>
          <p:nvPr/>
        </p:nvSpPr>
        <p:spPr>
          <a:xfrm>
            <a:off x="6012000" y="1590840"/>
            <a:ext cx="2482560" cy="1584000"/>
          </a:xfrm>
          <a:prstGeom prst="roundRect">
            <a:avLst>
              <a:gd name="adj" fmla="val 11417"/>
            </a:avLst>
          </a:prstGeom>
          <a:gradFill rotWithShape="0">
            <a:gsLst>
              <a:gs pos="0">
                <a:srgbClr val="d8e7ec"/>
              </a:gs>
              <a:gs pos="100000">
                <a:srgbClr val="d8e7ec"/>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2" name="AutoShape 687"/>
          <p:cNvSpPr/>
          <p:nvPr/>
        </p:nvSpPr>
        <p:spPr>
          <a:xfrm>
            <a:off x="6012000" y="1484280"/>
            <a:ext cx="2482560" cy="934920"/>
          </a:xfrm>
          <a:prstGeom prst="roundRect">
            <a:avLst>
              <a:gd name="adj" fmla="val 11417"/>
            </a:avLst>
          </a:prstGeom>
          <a:gradFill rotWithShape="0">
            <a:gsLst>
              <a:gs pos="0">
                <a:srgbClr val="d8e7ec"/>
              </a:gs>
              <a:gs pos="100000">
                <a:srgbClr val="d8e7ec"/>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3" name="AutoShape 688"/>
          <p:cNvSpPr/>
          <p:nvPr/>
        </p:nvSpPr>
        <p:spPr>
          <a:xfrm>
            <a:off x="6048360" y="1519200"/>
            <a:ext cx="2411280" cy="863640"/>
          </a:xfrm>
          <a:prstGeom prst="roundRect">
            <a:avLst>
              <a:gd name="adj" fmla="val 11417"/>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4" name="AutoShape 689"/>
          <p:cNvSpPr/>
          <p:nvPr/>
        </p:nvSpPr>
        <p:spPr>
          <a:xfrm>
            <a:off x="431640" y="3681360"/>
            <a:ext cx="8280720" cy="2411640"/>
          </a:xfrm>
          <a:prstGeom prst="roundRect">
            <a:avLst>
              <a:gd name="adj" fmla="val 5620"/>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5" name="AutoShape 690"/>
          <p:cNvSpPr/>
          <p:nvPr/>
        </p:nvSpPr>
        <p:spPr>
          <a:xfrm>
            <a:off x="684360" y="5556240"/>
            <a:ext cx="7775280" cy="357120"/>
          </a:xfrm>
          <a:prstGeom prst="roundRect">
            <a:avLst>
              <a:gd name="adj" fmla="val 50000"/>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6" name="AutoShape 691"/>
          <p:cNvSpPr/>
          <p:nvPr/>
        </p:nvSpPr>
        <p:spPr>
          <a:xfrm>
            <a:off x="684360" y="5162400"/>
            <a:ext cx="7775280" cy="357480"/>
          </a:xfrm>
          <a:prstGeom prst="roundRect">
            <a:avLst>
              <a:gd name="adj" fmla="val 50000"/>
            </a:avLst>
          </a:prstGeom>
          <a:solidFill>
            <a:srgbClr val="ff9900">
              <a:alpha val="2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7" name="AutoShape 692"/>
          <p:cNvSpPr/>
          <p:nvPr/>
        </p:nvSpPr>
        <p:spPr>
          <a:xfrm>
            <a:off x="684360" y="4767120"/>
            <a:ext cx="7775280" cy="357480"/>
          </a:xfrm>
          <a:prstGeom prst="roundRect">
            <a:avLst>
              <a:gd name="adj" fmla="val 50000"/>
            </a:avLst>
          </a:prstGeom>
          <a:solidFill>
            <a:srgbClr val="0099cc">
              <a:alpha val="2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8" name="AutoShape 693"/>
          <p:cNvSpPr/>
          <p:nvPr/>
        </p:nvSpPr>
        <p:spPr>
          <a:xfrm>
            <a:off x="684360" y="4370400"/>
            <a:ext cx="7775280" cy="357120"/>
          </a:xfrm>
          <a:prstGeom prst="roundRect">
            <a:avLst>
              <a:gd name="adj" fmla="val 50000"/>
            </a:avLst>
          </a:prstGeom>
          <a:solidFill>
            <a:srgbClr val="fff4cb">
              <a:alpha val="48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79" name=""/>
          <p:cNvGrpSpPr/>
          <p:nvPr/>
        </p:nvGrpSpPr>
        <p:grpSpPr>
          <a:xfrm>
            <a:off x="900000" y="1698480"/>
            <a:ext cx="2089080" cy="431640"/>
            <a:chOff x="900000" y="1698480"/>
            <a:chExt cx="2089080" cy="431640"/>
          </a:xfrm>
        </p:grpSpPr>
        <p:sp>
          <p:nvSpPr>
            <p:cNvPr id="480" name="WordArt 695"/>
            <p:cNvSpPr txBox="1"/>
            <p:nvPr/>
          </p:nvSpPr>
          <p:spPr>
            <a:xfrm>
              <a:off x="1044360" y="1698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81" name="WordArt 696"/>
            <p:cNvSpPr txBox="1"/>
            <p:nvPr/>
          </p:nvSpPr>
          <p:spPr>
            <a:xfrm>
              <a:off x="900000" y="1996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nvGrpSpPr>
          <p:cNvPr id="482" name=""/>
          <p:cNvGrpSpPr/>
          <p:nvPr/>
        </p:nvGrpSpPr>
        <p:grpSpPr>
          <a:xfrm>
            <a:off x="3564000" y="1698480"/>
            <a:ext cx="2089080" cy="431640"/>
            <a:chOff x="3564000" y="1698480"/>
            <a:chExt cx="2089080" cy="431640"/>
          </a:xfrm>
        </p:grpSpPr>
        <p:sp>
          <p:nvSpPr>
            <p:cNvPr id="483" name="WordArt 698"/>
            <p:cNvSpPr txBox="1"/>
            <p:nvPr/>
          </p:nvSpPr>
          <p:spPr>
            <a:xfrm>
              <a:off x="3708360" y="1698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84" name="WordArt 699"/>
            <p:cNvSpPr txBox="1"/>
            <p:nvPr/>
          </p:nvSpPr>
          <p:spPr>
            <a:xfrm>
              <a:off x="3564000" y="1996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nvGrpSpPr>
          <p:cNvPr id="485" name=""/>
          <p:cNvGrpSpPr/>
          <p:nvPr/>
        </p:nvGrpSpPr>
        <p:grpSpPr>
          <a:xfrm>
            <a:off x="6227640" y="1698480"/>
            <a:ext cx="2089080" cy="431640"/>
            <a:chOff x="6227640" y="1698480"/>
            <a:chExt cx="2089080" cy="431640"/>
          </a:xfrm>
        </p:grpSpPr>
        <p:sp>
          <p:nvSpPr>
            <p:cNvPr id="486" name="WordArt 701"/>
            <p:cNvSpPr txBox="1"/>
            <p:nvPr/>
          </p:nvSpPr>
          <p:spPr>
            <a:xfrm>
              <a:off x="6372000" y="1698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87" name="WordArt 702"/>
            <p:cNvSpPr txBox="1"/>
            <p:nvPr/>
          </p:nvSpPr>
          <p:spPr>
            <a:xfrm>
              <a:off x="6227640" y="1996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sp>
        <p:nvSpPr>
          <p:cNvPr id="488" name="WordArt 703"/>
          <p:cNvSpPr txBox="1"/>
          <p:nvPr/>
        </p:nvSpPr>
        <p:spPr>
          <a:xfrm>
            <a:off x="1403280" y="2706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89" name="WordArt 704"/>
          <p:cNvSpPr txBox="1"/>
          <p:nvPr/>
        </p:nvSpPr>
        <p:spPr>
          <a:xfrm>
            <a:off x="4140360" y="2706840"/>
            <a:ext cx="93636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90" name="WordArt 705"/>
          <p:cNvSpPr txBox="1"/>
          <p:nvPr/>
        </p:nvSpPr>
        <p:spPr>
          <a:xfrm>
            <a:off x="6804000" y="2706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91" name="WordArt 706"/>
          <p:cNvSpPr txBox="1"/>
          <p:nvPr/>
        </p:nvSpPr>
        <p:spPr>
          <a:xfrm>
            <a:off x="3564000" y="3860640"/>
            <a:ext cx="2016000" cy="28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65000"/>
                  </a:srgbClr>
                </a:solidFill>
                <a:latin typeface="Arial Black"/>
              </a:rPr>
              <a:t>TITLE LIST</a:t>
            </a:r>
            <a:endParaRPr b="0" lang="en-US" sz="1400" spc="-1" strike="noStrike">
              <a:ln w="0">
                <a:noFill/>
              </a:ln>
              <a:solidFill>
                <a:srgbClr val="000000">
                  <a:alpha val="65000"/>
                </a:srgbClr>
              </a:solidFill>
              <a:latin typeface="Arial Black"/>
              <a:ea typeface="Arial Black"/>
            </a:endParaRPr>
          </a:p>
        </p:txBody>
      </p:sp>
      <p:sp>
        <p:nvSpPr>
          <p:cNvPr id="492" name="WordArt 707"/>
          <p:cNvSpPr txBox="1"/>
          <p:nvPr/>
        </p:nvSpPr>
        <p:spPr>
          <a:xfrm>
            <a:off x="3348000" y="44658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93" name="WordArt 708"/>
          <p:cNvSpPr txBox="1"/>
          <p:nvPr/>
        </p:nvSpPr>
        <p:spPr>
          <a:xfrm>
            <a:off x="3348000" y="48690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94" name="WordArt 709"/>
          <p:cNvSpPr txBox="1"/>
          <p:nvPr/>
        </p:nvSpPr>
        <p:spPr>
          <a:xfrm>
            <a:off x="3348000" y="522936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95" name="WordArt 710"/>
          <p:cNvSpPr txBox="1"/>
          <p:nvPr/>
        </p:nvSpPr>
        <p:spPr>
          <a:xfrm>
            <a:off x="3348000" y="56610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96"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sp>
        <p:nvSpPr>
          <p:cNvPr id="497"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5cc8"/>
                </a:solidFill>
                <a:latin typeface="HY헤드라인M"/>
              </a:rPr>
              <a:t>Click To Type Slide Title</a:t>
            </a:r>
            <a:endParaRPr b="0" lang="en-US" sz="2600" spc="-1" strike="noStrike">
              <a:solidFill>
                <a:srgbClr val="005cc8"/>
              </a:solidFill>
              <a:latin typeface="HY헤드라인M"/>
            </a:endParaRPr>
          </a:p>
        </p:txBody>
      </p:sp>
      <p:sp>
        <p:nvSpPr>
          <p:cNvPr id="499" name="AutoShape 804"/>
          <p:cNvSpPr/>
          <p:nvPr/>
        </p:nvSpPr>
        <p:spPr>
          <a:xfrm>
            <a:off x="2973240" y="2201760"/>
            <a:ext cx="3254400" cy="43344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0" name="AutoShape 805"/>
          <p:cNvSpPr/>
          <p:nvPr/>
        </p:nvSpPr>
        <p:spPr>
          <a:xfrm>
            <a:off x="3297240" y="1484280"/>
            <a:ext cx="2540160" cy="971640"/>
          </a:xfrm>
          <a:prstGeom prst="roundRect">
            <a:avLst>
              <a:gd name="adj" fmla="val 11764"/>
            </a:avLst>
          </a:prstGeom>
          <a:gradFill rotWithShape="0">
            <a:gsLst>
              <a:gs pos="0">
                <a:srgbClr val="b2b2b2"/>
              </a:gs>
              <a:gs pos="100000">
                <a:srgbClr val="77777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1" name="AutoShape 806"/>
          <p:cNvSpPr/>
          <p:nvPr/>
        </p:nvSpPr>
        <p:spPr>
          <a:xfrm>
            <a:off x="3425760" y="1808280"/>
            <a:ext cx="2281320" cy="576000"/>
          </a:xfrm>
          <a:prstGeom prst="roundRect">
            <a:avLst>
              <a:gd name="adj" fmla="val 15806"/>
            </a:avLst>
          </a:prstGeom>
          <a:gradFill rotWithShape="0">
            <a:gsLst>
              <a:gs pos="0">
                <a:srgbClr val="a50021"/>
              </a:gs>
              <a:gs pos="100000">
                <a:srgbClr val="87001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2" name="WordArt 815"/>
          <p:cNvSpPr txBox="1"/>
          <p:nvPr/>
        </p:nvSpPr>
        <p:spPr>
          <a:xfrm>
            <a:off x="3780000" y="19875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503" name="WordArt 822"/>
          <p:cNvSpPr txBox="1"/>
          <p:nvPr/>
        </p:nvSpPr>
        <p:spPr>
          <a:xfrm>
            <a:off x="1908000" y="206064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504" name="WordArt 823"/>
          <p:cNvSpPr txBox="1"/>
          <p:nvPr/>
        </p:nvSpPr>
        <p:spPr>
          <a:xfrm>
            <a:off x="6661080" y="20606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505" name="WordArt 824"/>
          <p:cNvSpPr txBox="1"/>
          <p:nvPr/>
        </p:nvSpPr>
        <p:spPr>
          <a:xfrm>
            <a:off x="4211640" y="15559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TEXT</a:t>
            </a:r>
            <a:endParaRPr b="0" lang="en-US" sz="1400" spc="-1" strike="noStrike">
              <a:ln w="0">
                <a:noFill/>
              </a:ln>
              <a:solidFill>
                <a:srgbClr val="000000">
                  <a:alpha val="80000"/>
                </a:srgbClr>
              </a:solidFill>
              <a:latin typeface="Arial Black"/>
              <a:ea typeface="Arial Black"/>
            </a:endParaRPr>
          </a:p>
        </p:txBody>
      </p:sp>
      <p:sp>
        <p:nvSpPr>
          <p:cNvPr id="506" name="Freeform 825"/>
          <p:cNvSpPr/>
          <p:nvPr/>
        </p:nvSpPr>
        <p:spPr>
          <a:xfrm>
            <a:off x="1835280" y="1987560"/>
            <a:ext cx="1368360" cy="1441440"/>
          </a:xfrm>
          <a:custGeom>
            <a:avLst/>
            <a:gdLst>
              <a:gd name="textAreaLeft" fmla="*/ 0 w 1368360"/>
              <a:gd name="textAreaRight" fmla="*/ 1368720 w 1368360"/>
              <a:gd name="textAreaTop" fmla="*/ 0 h 1441440"/>
              <a:gd name="textAreaBottom" fmla="*/ 1441800 h 1441440"/>
            </a:gdLst>
            <a:ahLst/>
            <a:rect l="textAreaLeft" t="textAreaTop" r="textAreaRight" b="textAreaBottom"/>
            <a:pathLst>
              <a:path w="1315" h="544">
                <a:moveTo>
                  <a:pt x="0" y="544"/>
                </a:moveTo>
                <a:lnTo>
                  <a:pt x="0" y="0"/>
                </a:lnTo>
                <a:lnTo>
                  <a:pt x="1315" y="0"/>
                </a:lnTo>
              </a:path>
            </a:pathLst>
          </a:custGeom>
          <a:noFill/>
          <a:ln cap="rnd" w="25560">
            <a:solidFill>
              <a:srgbClr val="000000"/>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07" name="Freeform 832"/>
          <p:cNvSpPr/>
          <p:nvPr/>
        </p:nvSpPr>
        <p:spPr>
          <a:xfrm flipH="1">
            <a:off x="5903280" y="1987560"/>
            <a:ext cx="1476360" cy="1441440"/>
          </a:xfrm>
          <a:custGeom>
            <a:avLst/>
            <a:gdLst>
              <a:gd name="textAreaLeft" fmla="*/ -360 w 1476360"/>
              <a:gd name="textAreaRight" fmla="*/ 1476360 w 1476360"/>
              <a:gd name="textAreaTop" fmla="*/ 0 h 1441440"/>
              <a:gd name="textAreaBottom" fmla="*/ 1441800 h 1441440"/>
            </a:gdLst>
            <a:ahLst/>
            <a:rect l="textAreaLeft" t="textAreaTop" r="textAreaRight" b="textAreaBottom"/>
            <a:pathLst>
              <a:path w="1315" h="544">
                <a:moveTo>
                  <a:pt x="0" y="544"/>
                </a:moveTo>
                <a:lnTo>
                  <a:pt x="0" y="0"/>
                </a:lnTo>
                <a:lnTo>
                  <a:pt x="1315" y="0"/>
                </a:lnTo>
              </a:path>
            </a:pathLst>
          </a:custGeom>
          <a:noFill/>
          <a:ln cap="rnd" w="25560">
            <a:solidFill>
              <a:srgbClr val="000000"/>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08" name="Line 6"/>
          <p:cNvSpPr/>
          <p:nvPr/>
        </p:nvSpPr>
        <p:spPr>
          <a:xfrm>
            <a:off x="5867280" y="4130640"/>
            <a:ext cx="1152720" cy="0"/>
          </a:xfrm>
          <a:prstGeom prst="line">
            <a:avLst/>
          </a:prstGeom>
          <a:ln w="101520">
            <a:solidFill>
              <a:srgbClr val="bfbfb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09" name="Line 7"/>
          <p:cNvSpPr/>
          <p:nvPr/>
        </p:nvSpPr>
        <p:spPr>
          <a:xfrm>
            <a:off x="2089080" y="4130640"/>
            <a:ext cx="1187640" cy="0"/>
          </a:xfrm>
          <a:prstGeom prst="line">
            <a:avLst/>
          </a:prstGeom>
          <a:ln w="101520">
            <a:solidFill>
              <a:srgbClr val="bfbfb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10" name="Oval 8"/>
          <p:cNvSpPr/>
          <p:nvPr/>
        </p:nvSpPr>
        <p:spPr>
          <a:xfrm>
            <a:off x="3348000" y="4564080"/>
            <a:ext cx="2311560" cy="102564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1" name="Oval 20"/>
          <p:cNvSpPr/>
          <p:nvPr/>
        </p:nvSpPr>
        <p:spPr>
          <a:xfrm>
            <a:off x="3419640" y="2944800"/>
            <a:ext cx="2311200" cy="2322360"/>
          </a:xfrm>
          <a:prstGeom prst="ellipse">
            <a:avLst/>
          </a:prstGeom>
          <a:gradFill rotWithShape="0">
            <a:gsLst>
              <a:gs pos="0">
                <a:srgbClr val="f69926"/>
              </a:gs>
              <a:gs pos="100000">
                <a:srgbClr val="72471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2" name="Oval 21"/>
          <p:cNvSpPr/>
          <p:nvPr/>
        </p:nvSpPr>
        <p:spPr>
          <a:xfrm>
            <a:off x="4284720" y="3087720"/>
            <a:ext cx="433440" cy="433440"/>
          </a:xfrm>
          <a:prstGeom prst="ellipse">
            <a:avLst/>
          </a:prstGeom>
          <a:gradFill rotWithShape="0">
            <a:gsLst>
              <a:gs pos="0">
                <a:srgbClr val="ffffff">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13" name=""/>
          <p:cNvGrpSpPr/>
          <p:nvPr/>
        </p:nvGrpSpPr>
        <p:grpSpPr>
          <a:xfrm>
            <a:off x="3924360" y="3664080"/>
            <a:ext cx="1368000" cy="900720"/>
            <a:chOff x="3924360" y="3664080"/>
            <a:chExt cx="1368000" cy="900720"/>
          </a:xfrm>
        </p:grpSpPr>
        <p:sp>
          <p:nvSpPr>
            <p:cNvPr id="514" name="WordArt 23"/>
            <p:cNvSpPr txBox="1"/>
            <p:nvPr/>
          </p:nvSpPr>
          <p:spPr>
            <a:xfrm>
              <a:off x="4098960" y="366408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15" name="WordArt 24"/>
            <p:cNvSpPr txBox="1"/>
            <p:nvPr/>
          </p:nvSpPr>
          <p:spPr>
            <a:xfrm>
              <a:off x="3924360" y="405252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ADD CONTENTS</a:t>
              </a:r>
              <a:endParaRPr b="1" i="1" lang="en-US" sz="800" spc="-1" strike="noStrike">
                <a:ln w="0">
                  <a:noFill/>
                </a:ln>
                <a:solidFill>
                  <a:srgbClr val="ffffff"/>
                </a:solidFill>
                <a:latin typeface="Arial"/>
                <a:ea typeface="Arial"/>
              </a:endParaRPr>
            </a:p>
          </p:txBody>
        </p:sp>
      </p:grpSp>
      <p:sp>
        <p:nvSpPr>
          <p:cNvPr id="516" name="AutoShape 14"/>
          <p:cNvSpPr/>
          <p:nvPr/>
        </p:nvSpPr>
        <p:spPr>
          <a:xfrm>
            <a:off x="746280" y="4641840"/>
            <a:ext cx="2253960" cy="590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7" name="AutoShape 15"/>
          <p:cNvSpPr/>
          <p:nvPr/>
        </p:nvSpPr>
        <p:spPr>
          <a:xfrm>
            <a:off x="942840" y="317016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gradFill rotWithShape="0">
            <a:gsLst>
              <a:gs pos="0">
                <a:srgbClr val="0099cc"/>
              </a:gs>
              <a:gs pos="100000">
                <a:srgbClr val="0079a2"/>
              </a:gs>
            </a:gsLst>
            <a:lin ang="5400000"/>
          </a:gradFill>
          <a:ln w="158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8" name="AutoShape 19"/>
          <p:cNvSpPr/>
          <p:nvPr/>
        </p:nvSpPr>
        <p:spPr>
          <a:xfrm>
            <a:off x="1039680" y="3270240"/>
            <a:ext cx="1570320" cy="53820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19" name=""/>
          <p:cNvGrpSpPr/>
          <p:nvPr/>
        </p:nvGrpSpPr>
        <p:grpSpPr>
          <a:xfrm>
            <a:off x="1136520" y="3857760"/>
            <a:ext cx="1373040" cy="489960"/>
            <a:chOff x="1136520" y="3857760"/>
            <a:chExt cx="1373040" cy="489960"/>
          </a:xfrm>
        </p:grpSpPr>
        <p:sp>
          <p:nvSpPr>
            <p:cNvPr id="520" name="WordArt 27"/>
            <p:cNvSpPr txBox="1"/>
            <p:nvPr/>
          </p:nvSpPr>
          <p:spPr>
            <a:xfrm>
              <a:off x="1311840" y="3857760"/>
              <a:ext cx="1026360" cy="299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21" name="WordArt 28"/>
            <p:cNvSpPr txBox="1"/>
            <p:nvPr/>
          </p:nvSpPr>
          <p:spPr>
            <a:xfrm>
              <a:off x="1136520" y="419220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522" name="AutoShape 14"/>
          <p:cNvSpPr/>
          <p:nvPr/>
        </p:nvSpPr>
        <p:spPr>
          <a:xfrm>
            <a:off x="6286680" y="4632480"/>
            <a:ext cx="2253960" cy="590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3" name="AutoShape 15"/>
          <p:cNvSpPr/>
          <p:nvPr/>
        </p:nvSpPr>
        <p:spPr>
          <a:xfrm>
            <a:off x="6483240" y="316080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gradFill rotWithShape="0">
            <a:gsLst>
              <a:gs pos="0">
                <a:srgbClr val="0099cc"/>
              </a:gs>
              <a:gs pos="100000">
                <a:srgbClr val="0088b6"/>
              </a:gs>
            </a:gsLst>
            <a:lin ang="5400000"/>
          </a:gradFill>
          <a:ln w="158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4" name="AutoShape 19"/>
          <p:cNvSpPr/>
          <p:nvPr/>
        </p:nvSpPr>
        <p:spPr>
          <a:xfrm>
            <a:off x="6580080" y="3260880"/>
            <a:ext cx="1570320" cy="53784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25" name=""/>
          <p:cNvGrpSpPr/>
          <p:nvPr/>
        </p:nvGrpSpPr>
        <p:grpSpPr>
          <a:xfrm>
            <a:off x="6676920" y="3848040"/>
            <a:ext cx="1373040" cy="490320"/>
            <a:chOff x="6676920" y="3848040"/>
            <a:chExt cx="1373040" cy="490320"/>
          </a:xfrm>
        </p:grpSpPr>
        <p:sp>
          <p:nvSpPr>
            <p:cNvPr id="526" name="WordArt 27"/>
            <p:cNvSpPr txBox="1"/>
            <p:nvPr/>
          </p:nvSpPr>
          <p:spPr>
            <a:xfrm>
              <a:off x="6852240" y="3848040"/>
              <a:ext cx="1026360" cy="29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27" name="WordArt 28"/>
            <p:cNvSpPr txBox="1"/>
            <p:nvPr/>
          </p:nvSpPr>
          <p:spPr>
            <a:xfrm>
              <a:off x="6676920" y="418284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528"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9" name="AutoShape 541"/>
          <p:cNvSpPr/>
          <p:nvPr/>
        </p:nvSpPr>
        <p:spPr>
          <a:xfrm>
            <a:off x="539640" y="1916280"/>
            <a:ext cx="8102880" cy="973080"/>
          </a:xfrm>
          <a:custGeom>
            <a:avLst/>
            <a:gdLst>
              <a:gd name="textAreaLeft" fmla="*/ 1109520 w 8102880"/>
              <a:gd name="textAreaRight" fmla="*/ 6993360 w 8102880"/>
              <a:gd name="textAreaTop" fmla="*/ 133200 h 973080"/>
              <a:gd name="textAreaBottom" fmla="*/ 839880 h 973080"/>
            </a:gdLst>
            <a:ahLst/>
            <a:rect l="textAreaLeft" t="textAreaTop" r="textAreaRight" b="textAreaBottom"/>
            <a:pathLst>
              <a:path w="21600" h="21600">
                <a:moveTo>
                  <a:pt x="0" y="0"/>
                </a:moveTo>
                <a:lnTo>
                  <a:pt x="2315" y="21600"/>
                </a:lnTo>
                <a:lnTo>
                  <a:pt x="19285" y="21600"/>
                </a:lnTo>
                <a:lnTo>
                  <a:pt x="21600" y="0"/>
                </a:lnTo>
                <a:lnTo>
                  <a:pt x="0" y="0"/>
                </a:lnTo>
                <a:close/>
              </a:path>
            </a:pathLst>
          </a:custGeom>
          <a:gradFill rotWithShape="0">
            <a:gsLst>
              <a:gs pos="0">
                <a:srgbClr val="b2b2b2"/>
              </a:gs>
              <a:gs pos="100000">
                <a:srgbClr val="000000">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30" name="AutoShape 542"/>
          <p:cNvSpPr/>
          <p:nvPr/>
        </p:nvSpPr>
        <p:spPr>
          <a:xfrm>
            <a:off x="469800" y="1268280"/>
            <a:ext cx="8244000" cy="828720"/>
          </a:xfrm>
          <a:prstGeom prst="roundRect">
            <a:avLst>
              <a:gd name="adj" fmla="val 50000"/>
            </a:avLst>
          </a:prstGeom>
          <a:solidFill>
            <a:srgbClr val="b2b2b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1" name="Freeform 543"/>
          <p:cNvSpPr/>
          <p:nvPr/>
        </p:nvSpPr>
        <p:spPr>
          <a:xfrm>
            <a:off x="504720" y="1305000"/>
            <a:ext cx="8172720" cy="431640"/>
          </a:xfrm>
          <a:custGeom>
            <a:avLst/>
            <a:gdLst/>
            <a:ahLst/>
            <a:rect l="l" t="t" r="r" b="b"/>
            <a:pathLst>
              <a:path w="12020" h="636">
                <a:moveTo>
                  <a:pt x="12020" y="636"/>
                </a:moveTo>
                <a:lnTo>
                  <a:pt x="12020" y="636"/>
                </a:lnTo>
                <a:lnTo>
                  <a:pt x="12018" y="604"/>
                </a:lnTo>
                <a:lnTo>
                  <a:pt x="12016" y="570"/>
                </a:lnTo>
                <a:lnTo>
                  <a:pt x="12012" y="540"/>
                </a:lnTo>
                <a:lnTo>
                  <a:pt x="12006" y="508"/>
                </a:lnTo>
                <a:lnTo>
                  <a:pt x="12000" y="476"/>
                </a:lnTo>
                <a:lnTo>
                  <a:pt x="11990" y="446"/>
                </a:lnTo>
                <a:lnTo>
                  <a:pt x="11980" y="418"/>
                </a:lnTo>
                <a:lnTo>
                  <a:pt x="11970" y="388"/>
                </a:lnTo>
                <a:lnTo>
                  <a:pt x="11956" y="360"/>
                </a:lnTo>
                <a:lnTo>
                  <a:pt x="11942" y="332"/>
                </a:lnTo>
                <a:lnTo>
                  <a:pt x="11928" y="306"/>
                </a:lnTo>
                <a:lnTo>
                  <a:pt x="11910" y="280"/>
                </a:lnTo>
                <a:lnTo>
                  <a:pt x="11892" y="254"/>
                </a:lnTo>
                <a:lnTo>
                  <a:pt x="11874" y="230"/>
                </a:lnTo>
                <a:lnTo>
                  <a:pt x="11854" y="208"/>
                </a:lnTo>
                <a:lnTo>
                  <a:pt x="11832" y="186"/>
                </a:lnTo>
                <a:lnTo>
                  <a:pt x="11810" y="164"/>
                </a:lnTo>
                <a:lnTo>
                  <a:pt x="11788" y="144"/>
                </a:lnTo>
                <a:lnTo>
                  <a:pt x="11764" y="126"/>
                </a:lnTo>
                <a:lnTo>
                  <a:pt x="11738" y="108"/>
                </a:lnTo>
                <a:lnTo>
                  <a:pt x="11712" y="92"/>
                </a:lnTo>
                <a:lnTo>
                  <a:pt x="11686" y="76"/>
                </a:lnTo>
                <a:lnTo>
                  <a:pt x="11658" y="62"/>
                </a:lnTo>
                <a:lnTo>
                  <a:pt x="11630" y="50"/>
                </a:lnTo>
                <a:lnTo>
                  <a:pt x="11602" y="38"/>
                </a:lnTo>
                <a:lnTo>
                  <a:pt x="11572" y="28"/>
                </a:lnTo>
                <a:lnTo>
                  <a:pt x="11542" y="20"/>
                </a:lnTo>
                <a:lnTo>
                  <a:pt x="11512" y="12"/>
                </a:lnTo>
                <a:lnTo>
                  <a:pt x="11480" y="6"/>
                </a:lnTo>
                <a:lnTo>
                  <a:pt x="11448" y="2"/>
                </a:lnTo>
                <a:lnTo>
                  <a:pt x="11416" y="0"/>
                </a:lnTo>
                <a:lnTo>
                  <a:pt x="11384" y="0"/>
                </a:lnTo>
                <a:lnTo>
                  <a:pt x="636" y="0"/>
                </a:lnTo>
                <a:lnTo>
                  <a:pt x="636" y="0"/>
                </a:lnTo>
                <a:lnTo>
                  <a:pt x="604" y="0"/>
                </a:lnTo>
                <a:lnTo>
                  <a:pt x="572" y="2"/>
                </a:lnTo>
                <a:lnTo>
                  <a:pt x="540" y="6"/>
                </a:lnTo>
                <a:lnTo>
                  <a:pt x="508" y="12"/>
                </a:lnTo>
                <a:lnTo>
                  <a:pt x="478" y="20"/>
                </a:lnTo>
                <a:lnTo>
                  <a:pt x="448" y="28"/>
                </a:lnTo>
                <a:lnTo>
                  <a:pt x="418" y="38"/>
                </a:lnTo>
                <a:lnTo>
                  <a:pt x="390" y="50"/>
                </a:lnTo>
                <a:lnTo>
                  <a:pt x="362" y="62"/>
                </a:lnTo>
                <a:lnTo>
                  <a:pt x="334" y="76"/>
                </a:lnTo>
                <a:lnTo>
                  <a:pt x="308" y="92"/>
                </a:lnTo>
                <a:lnTo>
                  <a:pt x="282" y="108"/>
                </a:lnTo>
                <a:lnTo>
                  <a:pt x="256" y="126"/>
                </a:lnTo>
                <a:lnTo>
                  <a:pt x="232" y="144"/>
                </a:lnTo>
                <a:lnTo>
                  <a:pt x="210" y="164"/>
                </a:lnTo>
                <a:lnTo>
                  <a:pt x="188" y="186"/>
                </a:lnTo>
                <a:lnTo>
                  <a:pt x="166" y="208"/>
                </a:lnTo>
                <a:lnTo>
                  <a:pt x="146" y="230"/>
                </a:lnTo>
                <a:lnTo>
                  <a:pt x="128" y="254"/>
                </a:lnTo>
                <a:lnTo>
                  <a:pt x="110" y="280"/>
                </a:lnTo>
                <a:lnTo>
                  <a:pt x="92" y="306"/>
                </a:lnTo>
                <a:lnTo>
                  <a:pt x="78" y="332"/>
                </a:lnTo>
                <a:lnTo>
                  <a:pt x="64" y="360"/>
                </a:lnTo>
                <a:lnTo>
                  <a:pt x="50" y="388"/>
                </a:lnTo>
                <a:lnTo>
                  <a:pt x="40" y="418"/>
                </a:lnTo>
                <a:lnTo>
                  <a:pt x="30" y="446"/>
                </a:lnTo>
                <a:lnTo>
                  <a:pt x="20" y="476"/>
                </a:lnTo>
                <a:lnTo>
                  <a:pt x="14" y="508"/>
                </a:lnTo>
                <a:lnTo>
                  <a:pt x="8" y="540"/>
                </a:lnTo>
                <a:lnTo>
                  <a:pt x="4" y="570"/>
                </a:lnTo>
                <a:lnTo>
                  <a:pt x="2" y="604"/>
                </a:lnTo>
                <a:lnTo>
                  <a:pt x="0" y="636"/>
                </a:lnTo>
                <a:lnTo>
                  <a:pt x="12020" y="636"/>
                </a:lnTo>
                <a:close/>
              </a:path>
            </a:pathLst>
          </a:custGeom>
          <a:gradFill rotWithShape="0">
            <a:gsLst>
              <a:gs pos="0">
                <a:srgbClr val="ffffff">
                  <a:alpha val="3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32" name="AutoShape 544"/>
          <p:cNvSpPr/>
          <p:nvPr/>
        </p:nvSpPr>
        <p:spPr>
          <a:xfrm>
            <a:off x="538200" y="4329000"/>
            <a:ext cx="8102520" cy="1476360"/>
          </a:xfrm>
          <a:prstGeom prst="roundRect">
            <a:avLst>
              <a:gd name="adj" fmla="val 16667"/>
            </a:avLst>
          </a:prstGeom>
          <a:solidFill>
            <a:srgbClr val="c0c0c0">
              <a:alpha val="50000"/>
            </a:srgbClr>
          </a:solidFill>
          <a:ln cap="rnd" w="19080">
            <a:solidFill>
              <a:srgbClr val="c0c0c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3" name="AutoShape 545"/>
          <p:cNvSpPr/>
          <p:nvPr/>
        </p:nvSpPr>
        <p:spPr>
          <a:xfrm>
            <a:off x="504720" y="2673360"/>
            <a:ext cx="8172720" cy="1224000"/>
          </a:xfrm>
          <a:prstGeom prst="roundRect">
            <a:avLst>
              <a:gd name="adj" fmla="val 50000"/>
            </a:avLst>
          </a:prstGeom>
          <a:gradFill rotWithShape="0">
            <a:gsLst>
              <a:gs pos="0">
                <a:srgbClr val="ffffff"/>
              </a:gs>
              <a:gs pos="100000">
                <a:srgbClr val="000000">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4" name="AutoShape 546"/>
          <p:cNvSpPr/>
          <p:nvPr/>
        </p:nvSpPr>
        <p:spPr>
          <a:xfrm>
            <a:off x="504720" y="3502080"/>
            <a:ext cx="2916360" cy="374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5" name="AutoShape 547"/>
          <p:cNvSpPr/>
          <p:nvPr/>
        </p:nvSpPr>
        <p:spPr>
          <a:xfrm>
            <a:off x="720720" y="2852640"/>
            <a:ext cx="2482920" cy="828720"/>
          </a:xfrm>
          <a:prstGeom prst="roundRect">
            <a:avLst>
              <a:gd name="adj" fmla="val 50000"/>
            </a:avLst>
          </a:prstGeom>
          <a:gradFill rotWithShape="0">
            <a:gsLst>
              <a:gs pos="0">
                <a:srgbClr val="f5e0cf"/>
              </a:gs>
              <a:gs pos="100000">
                <a:srgbClr val="a3958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6" name="AutoShape 548"/>
          <p:cNvSpPr/>
          <p:nvPr/>
        </p:nvSpPr>
        <p:spPr>
          <a:xfrm>
            <a:off x="793800" y="2925720"/>
            <a:ext cx="2338200" cy="684360"/>
          </a:xfrm>
          <a:prstGeom prst="roundRect">
            <a:avLst>
              <a:gd name="adj" fmla="val 50000"/>
            </a:avLst>
          </a:prstGeom>
          <a:gradFill rotWithShape="0">
            <a:gsLst>
              <a:gs pos="0">
                <a:srgbClr val="f69d26"/>
              </a:gs>
              <a:gs pos="100000">
                <a:srgbClr val="ca811f"/>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7" name="AutoShape 549"/>
          <p:cNvSpPr/>
          <p:nvPr/>
        </p:nvSpPr>
        <p:spPr>
          <a:xfrm>
            <a:off x="3454560" y="3897360"/>
            <a:ext cx="2269800" cy="431640"/>
          </a:xfrm>
          <a:prstGeom prst="downArrow">
            <a:avLst>
              <a:gd name="adj1" fmla="val 49926"/>
              <a:gd name="adj2" fmla="val 68213"/>
            </a:avLst>
          </a:prstGeom>
          <a:solidFill>
            <a:srgbClr val="ffb3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8" name="AutoShape 550"/>
          <p:cNvSpPr/>
          <p:nvPr/>
        </p:nvSpPr>
        <p:spPr>
          <a:xfrm>
            <a:off x="3132000" y="3500280"/>
            <a:ext cx="2916360" cy="374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9" name="AutoShape 551"/>
          <p:cNvSpPr/>
          <p:nvPr/>
        </p:nvSpPr>
        <p:spPr>
          <a:xfrm>
            <a:off x="3348000" y="2852640"/>
            <a:ext cx="2482920" cy="828720"/>
          </a:xfrm>
          <a:prstGeom prst="roundRect">
            <a:avLst>
              <a:gd name="adj" fmla="val 50000"/>
            </a:avLst>
          </a:prstGeom>
          <a:gradFill rotWithShape="0">
            <a:gsLst>
              <a:gs pos="0">
                <a:srgbClr val="ffb3c1"/>
              </a:gs>
              <a:gs pos="100000">
                <a:srgbClr val="aa778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0" name="AutoShape 552"/>
          <p:cNvSpPr/>
          <p:nvPr/>
        </p:nvSpPr>
        <p:spPr>
          <a:xfrm>
            <a:off x="3419640" y="2924280"/>
            <a:ext cx="2338200" cy="684000"/>
          </a:xfrm>
          <a:prstGeom prst="roundRect">
            <a:avLst>
              <a:gd name="adj" fmla="val 50000"/>
            </a:avLst>
          </a:prstGeom>
          <a:gradFill rotWithShape="0">
            <a:gsLst>
              <a:gs pos="0">
                <a:srgbClr val="a50021"/>
              </a:gs>
              <a:gs pos="100000">
                <a:srgbClr val="87001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1" name="AutoShape 553"/>
          <p:cNvSpPr/>
          <p:nvPr/>
        </p:nvSpPr>
        <p:spPr>
          <a:xfrm>
            <a:off x="5796000" y="3502080"/>
            <a:ext cx="2916360" cy="374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2" name="AutoShape 554"/>
          <p:cNvSpPr/>
          <p:nvPr/>
        </p:nvSpPr>
        <p:spPr>
          <a:xfrm>
            <a:off x="5977080" y="2852640"/>
            <a:ext cx="2482560" cy="828720"/>
          </a:xfrm>
          <a:prstGeom prst="roundRect">
            <a:avLst>
              <a:gd name="adj" fmla="val 50000"/>
            </a:avLst>
          </a:prstGeom>
          <a:gradFill rotWithShape="0">
            <a:gsLst>
              <a:gs pos="0">
                <a:srgbClr val="d8e7ec"/>
              </a:gs>
              <a:gs pos="100000">
                <a:srgbClr val="909a9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3" name="AutoShape 555"/>
          <p:cNvSpPr/>
          <p:nvPr/>
        </p:nvSpPr>
        <p:spPr>
          <a:xfrm>
            <a:off x="6049800" y="2925720"/>
            <a:ext cx="2338560" cy="684360"/>
          </a:xfrm>
          <a:prstGeom prst="roundRect">
            <a:avLst>
              <a:gd name="adj" fmla="val 50000"/>
            </a:avLst>
          </a:prstGeom>
          <a:gradFill rotWithShape="0">
            <a:gsLst>
              <a:gs pos="0">
                <a:srgbClr val="0099cc"/>
              </a:gs>
              <a:gs pos="100000">
                <a:srgbClr val="007da7"/>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4" name="AutoShape 556"/>
          <p:cNvSpPr/>
          <p:nvPr/>
        </p:nvSpPr>
        <p:spPr>
          <a:xfrm>
            <a:off x="755640" y="4545000"/>
            <a:ext cx="7669080" cy="468360"/>
          </a:xfrm>
          <a:prstGeom prst="roundRect">
            <a:avLst>
              <a:gd name="adj" fmla="val 50000"/>
            </a:avLst>
          </a:prstGeom>
          <a:gradFill rotWithShape="0">
            <a:gsLst>
              <a:gs pos="0">
                <a:srgbClr val="0099cc"/>
              </a:gs>
              <a:gs pos="100000">
                <a:srgbClr val="007da7"/>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5" name="AutoShape 557"/>
          <p:cNvSpPr/>
          <p:nvPr/>
        </p:nvSpPr>
        <p:spPr>
          <a:xfrm>
            <a:off x="755640" y="5121360"/>
            <a:ext cx="7669080" cy="468360"/>
          </a:xfrm>
          <a:prstGeom prst="roundRect">
            <a:avLst>
              <a:gd name="adj" fmla="val 50000"/>
            </a:avLst>
          </a:prstGeom>
          <a:gradFill rotWithShape="0">
            <a:gsLst>
              <a:gs pos="0">
                <a:srgbClr val="f69d26"/>
              </a:gs>
              <a:gs pos="100000">
                <a:srgbClr val="ca811f"/>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6" name="WordArt 558"/>
          <p:cNvSpPr txBox="1"/>
          <p:nvPr/>
        </p:nvSpPr>
        <p:spPr>
          <a:xfrm>
            <a:off x="3782880" y="1482840"/>
            <a:ext cx="1581120" cy="40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TITLE</a:t>
            </a:r>
            <a:endParaRPr b="0" lang="en-US" sz="1400" spc="-1" strike="noStrike">
              <a:ln w="0">
                <a:noFill/>
              </a:ln>
              <a:solidFill>
                <a:srgbClr val="333333">
                  <a:alpha val="75000"/>
                </a:srgbClr>
              </a:solidFill>
              <a:latin typeface="Arial Black"/>
              <a:ea typeface="Arial Black"/>
            </a:endParaRPr>
          </a:p>
        </p:txBody>
      </p:sp>
      <p:grpSp>
        <p:nvGrpSpPr>
          <p:cNvPr id="547" name=""/>
          <p:cNvGrpSpPr/>
          <p:nvPr/>
        </p:nvGrpSpPr>
        <p:grpSpPr>
          <a:xfrm>
            <a:off x="1476360" y="3068640"/>
            <a:ext cx="1008000" cy="360000"/>
            <a:chOff x="1476360" y="3068640"/>
            <a:chExt cx="1008000" cy="360000"/>
          </a:xfrm>
        </p:grpSpPr>
        <p:sp>
          <p:nvSpPr>
            <p:cNvPr id="548" name="WordArt 560"/>
            <p:cNvSpPr txBox="1"/>
            <p:nvPr/>
          </p:nvSpPr>
          <p:spPr>
            <a:xfrm>
              <a:off x="1604880" y="306864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49" name="WordArt 561"/>
            <p:cNvSpPr txBox="1"/>
            <p:nvPr/>
          </p:nvSpPr>
          <p:spPr>
            <a:xfrm>
              <a:off x="1476360" y="331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50" name=""/>
          <p:cNvGrpSpPr/>
          <p:nvPr/>
        </p:nvGrpSpPr>
        <p:grpSpPr>
          <a:xfrm>
            <a:off x="4067280" y="3068640"/>
            <a:ext cx="1008000" cy="360000"/>
            <a:chOff x="4067280" y="3068640"/>
            <a:chExt cx="1008000" cy="360000"/>
          </a:xfrm>
        </p:grpSpPr>
        <p:sp>
          <p:nvSpPr>
            <p:cNvPr id="551" name="WordArt 563"/>
            <p:cNvSpPr txBox="1"/>
            <p:nvPr/>
          </p:nvSpPr>
          <p:spPr>
            <a:xfrm>
              <a:off x="4195800" y="306864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52" name="WordArt 564"/>
            <p:cNvSpPr txBox="1"/>
            <p:nvPr/>
          </p:nvSpPr>
          <p:spPr>
            <a:xfrm>
              <a:off x="4067280" y="331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53" name=""/>
          <p:cNvGrpSpPr/>
          <p:nvPr/>
        </p:nvGrpSpPr>
        <p:grpSpPr>
          <a:xfrm>
            <a:off x="6732720" y="3068640"/>
            <a:ext cx="1008000" cy="360000"/>
            <a:chOff x="6732720" y="3068640"/>
            <a:chExt cx="1008000" cy="360000"/>
          </a:xfrm>
        </p:grpSpPr>
        <p:sp>
          <p:nvSpPr>
            <p:cNvPr id="554" name="WordArt 566"/>
            <p:cNvSpPr txBox="1"/>
            <p:nvPr/>
          </p:nvSpPr>
          <p:spPr>
            <a:xfrm>
              <a:off x="6861240" y="306864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55" name="WordArt 567"/>
            <p:cNvSpPr txBox="1"/>
            <p:nvPr/>
          </p:nvSpPr>
          <p:spPr>
            <a:xfrm>
              <a:off x="6732720" y="331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556" name="WordArt 568"/>
          <p:cNvSpPr txBox="1"/>
          <p:nvPr/>
        </p:nvSpPr>
        <p:spPr>
          <a:xfrm>
            <a:off x="3419640" y="4724280"/>
            <a:ext cx="244764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557" name="WordArt 569"/>
          <p:cNvSpPr txBox="1"/>
          <p:nvPr/>
        </p:nvSpPr>
        <p:spPr>
          <a:xfrm>
            <a:off x="3419640" y="530064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558"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sp>
        <p:nvSpPr>
          <p:cNvPr id="559"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5cc8"/>
                </a:solidFill>
                <a:latin typeface="HY헤드라인M"/>
              </a:rPr>
              <a:t>Click To Type Slide Title</a:t>
            </a:r>
            <a:endParaRPr b="0" lang="en-US" sz="2600" spc="-1" strike="noStrike">
              <a:solidFill>
                <a:srgbClr val="005cc8"/>
              </a:solidFill>
              <a:latin typeface="HY헤드라인M"/>
            </a:endParaRPr>
          </a:p>
        </p:txBody>
      </p:sp>
      <p:sp>
        <p:nvSpPr>
          <p:cNvPr id="561" name="AutoShape 32"/>
          <p:cNvSpPr/>
          <p:nvPr/>
        </p:nvSpPr>
        <p:spPr>
          <a:xfrm>
            <a:off x="324000" y="1268280"/>
            <a:ext cx="8496000" cy="4824720"/>
          </a:xfrm>
          <a:prstGeom prst="roundRect">
            <a:avLst>
              <a:gd name="adj" fmla="val 6444"/>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2" name="AutoShape 36"/>
          <p:cNvSpPr/>
          <p:nvPr/>
        </p:nvSpPr>
        <p:spPr>
          <a:xfrm>
            <a:off x="2614680" y="1484280"/>
            <a:ext cx="1888920" cy="792360"/>
          </a:xfrm>
          <a:prstGeom prst="roundRect">
            <a:avLst>
              <a:gd name="adj" fmla="val 12343"/>
            </a:avLst>
          </a:prstGeom>
          <a:gradFill rotWithShape="0">
            <a:gsLst>
              <a:gs pos="0">
                <a:srgbClr val="0099cc"/>
              </a:gs>
              <a:gs pos="100000">
                <a:srgbClr val="007da7"/>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3" name="AutoShape 37"/>
          <p:cNvSpPr/>
          <p:nvPr/>
        </p:nvSpPr>
        <p:spPr>
          <a:xfrm>
            <a:off x="4600440" y="1484280"/>
            <a:ext cx="1889280" cy="792360"/>
          </a:xfrm>
          <a:prstGeom prst="roundRect">
            <a:avLst>
              <a:gd name="adj" fmla="val 12343"/>
            </a:avLst>
          </a:prstGeom>
          <a:gradFill rotWithShape="0">
            <a:gsLst>
              <a:gs pos="0">
                <a:srgbClr val="f69d26"/>
              </a:gs>
              <a:gs pos="100000">
                <a:srgbClr val="ca811f"/>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4" name="AutoShape 38"/>
          <p:cNvSpPr/>
          <p:nvPr/>
        </p:nvSpPr>
        <p:spPr>
          <a:xfrm>
            <a:off x="6588000" y="1484280"/>
            <a:ext cx="1889280" cy="792360"/>
          </a:xfrm>
          <a:prstGeom prst="roundRect">
            <a:avLst>
              <a:gd name="adj" fmla="val 12343"/>
            </a:avLst>
          </a:prstGeom>
          <a:gradFill rotWithShape="0">
            <a:gsLst>
              <a:gs pos="0">
                <a:srgbClr val="a50021"/>
              </a:gs>
              <a:gs pos="100000">
                <a:srgbClr val="87001b"/>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5" name="AutoShape 43"/>
          <p:cNvSpPr/>
          <p:nvPr/>
        </p:nvSpPr>
        <p:spPr>
          <a:xfrm>
            <a:off x="628560" y="1484280"/>
            <a:ext cx="1889280" cy="79236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6" name="AutoShape 44"/>
          <p:cNvSpPr/>
          <p:nvPr/>
        </p:nvSpPr>
        <p:spPr>
          <a:xfrm>
            <a:off x="628560" y="2384280"/>
            <a:ext cx="1889280" cy="79236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7" name="AutoShape 45"/>
          <p:cNvSpPr/>
          <p:nvPr/>
        </p:nvSpPr>
        <p:spPr>
          <a:xfrm>
            <a:off x="628560" y="3284640"/>
            <a:ext cx="1889280" cy="79200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8" name="AutoShape 46"/>
          <p:cNvSpPr/>
          <p:nvPr/>
        </p:nvSpPr>
        <p:spPr>
          <a:xfrm>
            <a:off x="628560" y="4184640"/>
            <a:ext cx="1889280" cy="79200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9" name="AutoShape 47"/>
          <p:cNvSpPr/>
          <p:nvPr/>
        </p:nvSpPr>
        <p:spPr>
          <a:xfrm>
            <a:off x="628560" y="5084640"/>
            <a:ext cx="1889280" cy="79236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70" name=""/>
          <p:cNvGrpSpPr/>
          <p:nvPr/>
        </p:nvGrpSpPr>
        <p:grpSpPr>
          <a:xfrm>
            <a:off x="2614680" y="2384280"/>
            <a:ext cx="5862600" cy="792000"/>
            <a:chOff x="2614680" y="2384280"/>
            <a:chExt cx="5862600" cy="792000"/>
          </a:xfrm>
        </p:grpSpPr>
        <p:sp>
          <p:nvSpPr>
            <p:cNvPr id="571" name="AutoShape 48"/>
            <p:cNvSpPr/>
            <p:nvPr/>
          </p:nvSpPr>
          <p:spPr>
            <a:xfrm>
              <a:off x="2614680" y="238428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2" name="AutoShape 49"/>
            <p:cNvSpPr/>
            <p:nvPr/>
          </p:nvSpPr>
          <p:spPr>
            <a:xfrm>
              <a:off x="4600800" y="238428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3" name="AutoShape 50"/>
            <p:cNvSpPr/>
            <p:nvPr/>
          </p:nvSpPr>
          <p:spPr>
            <a:xfrm>
              <a:off x="6588360" y="238428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74" name=""/>
          <p:cNvGrpSpPr/>
          <p:nvPr/>
        </p:nvGrpSpPr>
        <p:grpSpPr>
          <a:xfrm>
            <a:off x="2614680" y="3284640"/>
            <a:ext cx="5862600" cy="792000"/>
            <a:chOff x="2614680" y="3284640"/>
            <a:chExt cx="5862600" cy="792000"/>
          </a:xfrm>
        </p:grpSpPr>
        <p:sp>
          <p:nvSpPr>
            <p:cNvPr id="575" name="AutoShape 53"/>
            <p:cNvSpPr/>
            <p:nvPr/>
          </p:nvSpPr>
          <p:spPr>
            <a:xfrm>
              <a:off x="2614680" y="328464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6" name="AutoShape 54"/>
            <p:cNvSpPr/>
            <p:nvPr/>
          </p:nvSpPr>
          <p:spPr>
            <a:xfrm>
              <a:off x="4600800" y="32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7" name="AutoShape 55"/>
            <p:cNvSpPr/>
            <p:nvPr/>
          </p:nvSpPr>
          <p:spPr>
            <a:xfrm>
              <a:off x="6588360" y="32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78" name=""/>
          <p:cNvGrpSpPr/>
          <p:nvPr/>
        </p:nvGrpSpPr>
        <p:grpSpPr>
          <a:xfrm>
            <a:off x="2614680" y="4184640"/>
            <a:ext cx="5862600" cy="792000"/>
            <a:chOff x="2614680" y="4184640"/>
            <a:chExt cx="5862600" cy="792000"/>
          </a:xfrm>
        </p:grpSpPr>
        <p:sp>
          <p:nvSpPr>
            <p:cNvPr id="579" name="AutoShape 57"/>
            <p:cNvSpPr/>
            <p:nvPr/>
          </p:nvSpPr>
          <p:spPr>
            <a:xfrm>
              <a:off x="2614680" y="418464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0" name="AutoShape 58"/>
            <p:cNvSpPr/>
            <p:nvPr/>
          </p:nvSpPr>
          <p:spPr>
            <a:xfrm>
              <a:off x="4600800" y="41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1" name="AutoShape 59"/>
            <p:cNvSpPr/>
            <p:nvPr/>
          </p:nvSpPr>
          <p:spPr>
            <a:xfrm>
              <a:off x="6588360" y="41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82" name=""/>
          <p:cNvGrpSpPr/>
          <p:nvPr/>
        </p:nvGrpSpPr>
        <p:grpSpPr>
          <a:xfrm>
            <a:off x="2614680" y="5084640"/>
            <a:ext cx="5862600" cy="792000"/>
            <a:chOff x="2614680" y="5084640"/>
            <a:chExt cx="5862600" cy="792000"/>
          </a:xfrm>
        </p:grpSpPr>
        <p:sp>
          <p:nvSpPr>
            <p:cNvPr id="583" name="AutoShape 61"/>
            <p:cNvSpPr/>
            <p:nvPr/>
          </p:nvSpPr>
          <p:spPr>
            <a:xfrm>
              <a:off x="2614680" y="508464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4" name="AutoShape 62"/>
            <p:cNvSpPr/>
            <p:nvPr/>
          </p:nvSpPr>
          <p:spPr>
            <a:xfrm>
              <a:off x="4600800" y="50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5" name="AutoShape 63"/>
            <p:cNvSpPr/>
            <p:nvPr/>
          </p:nvSpPr>
          <p:spPr>
            <a:xfrm>
              <a:off x="6588360" y="50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86" name="WordArt 64"/>
          <p:cNvSpPr txBox="1"/>
          <p:nvPr/>
        </p:nvSpPr>
        <p:spPr>
          <a:xfrm>
            <a:off x="1039680" y="1744560"/>
            <a:ext cx="1059120" cy="26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TITLE</a:t>
            </a:r>
            <a:endParaRPr b="0" lang="en-US" sz="1400" spc="-1" strike="noStrike">
              <a:ln w="0">
                <a:noFill/>
              </a:ln>
              <a:solidFill>
                <a:srgbClr val="333333">
                  <a:alpha val="75000"/>
                </a:srgbClr>
              </a:solidFill>
              <a:latin typeface="Arial Black"/>
              <a:ea typeface="Arial Black"/>
            </a:endParaRPr>
          </a:p>
        </p:txBody>
      </p:sp>
      <p:grpSp>
        <p:nvGrpSpPr>
          <p:cNvPr id="587" name=""/>
          <p:cNvGrpSpPr/>
          <p:nvPr/>
        </p:nvGrpSpPr>
        <p:grpSpPr>
          <a:xfrm>
            <a:off x="3046320" y="1700280"/>
            <a:ext cx="1008000" cy="360000"/>
            <a:chOff x="3046320" y="1700280"/>
            <a:chExt cx="1008000" cy="360000"/>
          </a:xfrm>
        </p:grpSpPr>
        <p:sp>
          <p:nvSpPr>
            <p:cNvPr id="588" name="WordArt 66"/>
            <p:cNvSpPr txBox="1"/>
            <p:nvPr/>
          </p:nvSpPr>
          <p:spPr>
            <a:xfrm>
              <a:off x="3174840" y="170028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89" name="WordArt 67"/>
            <p:cNvSpPr txBox="1"/>
            <p:nvPr/>
          </p:nvSpPr>
          <p:spPr>
            <a:xfrm>
              <a:off x="3046320" y="194616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90" name=""/>
          <p:cNvGrpSpPr/>
          <p:nvPr/>
        </p:nvGrpSpPr>
        <p:grpSpPr>
          <a:xfrm>
            <a:off x="5003640" y="1700280"/>
            <a:ext cx="1008360" cy="360000"/>
            <a:chOff x="5003640" y="1700280"/>
            <a:chExt cx="1008360" cy="360000"/>
          </a:xfrm>
        </p:grpSpPr>
        <p:sp>
          <p:nvSpPr>
            <p:cNvPr id="591" name="WordArt 69"/>
            <p:cNvSpPr txBox="1"/>
            <p:nvPr/>
          </p:nvSpPr>
          <p:spPr>
            <a:xfrm>
              <a:off x="5132160" y="1700280"/>
              <a:ext cx="75348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92" name="WordArt 70"/>
            <p:cNvSpPr txBox="1"/>
            <p:nvPr/>
          </p:nvSpPr>
          <p:spPr>
            <a:xfrm>
              <a:off x="5003640" y="1946160"/>
              <a:ext cx="100836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93" name=""/>
          <p:cNvGrpSpPr/>
          <p:nvPr/>
        </p:nvGrpSpPr>
        <p:grpSpPr>
          <a:xfrm>
            <a:off x="6986520" y="1700280"/>
            <a:ext cx="1008000" cy="360000"/>
            <a:chOff x="6986520" y="1700280"/>
            <a:chExt cx="1008000" cy="360000"/>
          </a:xfrm>
        </p:grpSpPr>
        <p:sp>
          <p:nvSpPr>
            <p:cNvPr id="594" name="WordArt 72"/>
            <p:cNvSpPr txBox="1"/>
            <p:nvPr/>
          </p:nvSpPr>
          <p:spPr>
            <a:xfrm>
              <a:off x="7115040" y="170028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95" name="WordArt 73"/>
            <p:cNvSpPr txBox="1"/>
            <p:nvPr/>
          </p:nvSpPr>
          <p:spPr>
            <a:xfrm>
              <a:off x="6986520" y="194616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96" name=""/>
          <p:cNvGrpSpPr/>
          <p:nvPr/>
        </p:nvGrpSpPr>
        <p:grpSpPr>
          <a:xfrm>
            <a:off x="3044880" y="2708280"/>
            <a:ext cx="1006560" cy="2838600"/>
            <a:chOff x="3044880" y="2708280"/>
            <a:chExt cx="1006560" cy="2838600"/>
          </a:xfrm>
        </p:grpSpPr>
        <p:sp>
          <p:nvSpPr>
            <p:cNvPr id="597" name="WordArt 78"/>
            <p:cNvSpPr txBox="1"/>
            <p:nvPr/>
          </p:nvSpPr>
          <p:spPr>
            <a:xfrm>
              <a:off x="304488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98" name="WordArt 79"/>
            <p:cNvSpPr txBox="1"/>
            <p:nvPr/>
          </p:nvSpPr>
          <p:spPr>
            <a:xfrm>
              <a:off x="304488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99" name="WordArt 80"/>
            <p:cNvSpPr txBox="1"/>
            <p:nvPr/>
          </p:nvSpPr>
          <p:spPr>
            <a:xfrm>
              <a:off x="304488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00" name="WordArt 81"/>
            <p:cNvSpPr txBox="1"/>
            <p:nvPr/>
          </p:nvSpPr>
          <p:spPr>
            <a:xfrm>
              <a:off x="3044880" y="54039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nvGrpSpPr>
          <p:cNvPr id="601" name=""/>
          <p:cNvGrpSpPr/>
          <p:nvPr/>
        </p:nvGrpSpPr>
        <p:grpSpPr>
          <a:xfrm>
            <a:off x="1039680" y="2708280"/>
            <a:ext cx="1006560" cy="2838600"/>
            <a:chOff x="1039680" y="2708280"/>
            <a:chExt cx="1006560" cy="2838600"/>
          </a:xfrm>
        </p:grpSpPr>
        <p:sp>
          <p:nvSpPr>
            <p:cNvPr id="602" name="WordArt 84"/>
            <p:cNvSpPr txBox="1"/>
            <p:nvPr/>
          </p:nvSpPr>
          <p:spPr>
            <a:xfrm>
              <a:off x="103968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03" name="WordArt 85"/>
            <p:cNvSpPr txBox="1"/>
            <p:nvPr/>
          </p:nvSpPr>
          <p:spPr>
            <a:xfrm>
              <a:off x="103968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04" name="WordArt 86"/>
            <p:cNvSpPr txBox="1"/>
            <p:nvPr/>
          </p:nvSpPr>
          <p:spPr>
            <a:xfrm>
              <a:off x="103968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05" name="WordArt 87"/>
            <p:cNvSpPr txBox="1"/>
            <p:nvPr/>
          </p:nvSpPr>
          <p:spPr>
            <a:xfrm>
              <a:off x="1039680" y="54039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nvGrpSpPr>
          <p:cNvPr id="606" name=""/>
          <p:cNvGrpSpPr/>
          <p:nvPr/>
        </p:nvGrpSpPr>
        <p:grpSpPr>
          <a:xfrm>
            <a:off x="5003640" y="2708280"/>
            <a:ext cx="1006560" cy="2838600"/>
            <a:chOff x="5003640" y="2708280"/>
            <a:chExt cx="1006560" cy="2838600"/>
          </a:xfrm>
        </p:grpSpPr>
        <p:sp>
          <p:nvSpPr>
            <p:cNvPr id="607" name="WordArt 89"/>
            <p:cNvSpPr txBox="1"/>
            <p:nvPr/>
          </p:nvSpPr>
          <p:spPr>
            <a:xfrm>
              <a:off x="500364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08" name="WordArt 90"/>
            <p:cNvSpPr txBox="1"/>
            <p:nvPr/>
          </p:nvSpPr>
          <p:spPr>
            <a:xfrm>
              <a:off x="500364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09" name="WordArt 91"/>
            <p:cNvSpPr txBox="1"/>
            <p:nvPr/>
          </p:nvSpPr>
          <p:spPr>
            <a:xfrm>
              <a:off x="500364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10" name="WordArt 92"/>
            <p:cNvSpPr txBox="1"/>
            <p:nvPr/>
          </p:nvSpPr>
          <p:spPr>
            <a:xfrm>
              <a:off x="5003640" y="54039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nvGrpSpPr>
          <p:cNvPr id="611" name=""/>
          <p:cNvGrpSpPr/>
          <p:nvPr/>
        </p:nvGrpSpPr>
        <p:grpSpPr>
          <a:xfrm>
            <a:off x="7034040" y="2708280"/>
            <a:ext cx="1006560" cy="2838600"/>
            <a:chOff x="7034040" y="2708280"/>
            <a:chExt cx="1006560" cy="2838600"/>
          </a:xfrm>
        </p:grpSpPr>
        <p:sp>
          <p:nvSpPr>
            <p:cNvPr id="612" name="WordArt 94"/>
            <p:cNvSpPr txBox="1"/>
            <p:nvPr/>
          </p:nvSpPr>
          <p:spPr>
            <a:xfrm>
              <a:off x="703404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13" name="WordArt 95"/>
            <p:cNvSpPr txBox="1"/>
            <p:nvPr/>
          </p:nvSpPr>
          <p:spPr>
            <a:xfrm>
              <a:off x="703404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14" name="WordArt 96"/>
            <p:cNvSpPr txBox="1"/>
            <p:nvPr/>
          </p:nvSpPr>
          <p:spPr>
            <a:xfrm>
              <a:off x="703404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15" name="WordArt 97"/>
            <p:cNvSpPr txBox="1"/>
            <p:nvPr/>
          </p:nvSpPr>
          <p:spPr>
            <a:xfrm>
              <a:off x="7034040" y="54039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sp>
        <p:nvSpPr>
          <p:cNvPr id="616"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7" name="AutoShape 640"/>
          <p:cNvSpPr/>
          <p:nvPr/>
        </p:nvSpPr>
        <p:spPr>
          <a:xfrm>
            <a:off x="468360" y="1484280"/>
            <a:ext cx="8280360" cy="649440"/>
          </a:xfrm>
          <a:prstGeom prst="roundRect">
            <a:avLst>
              <a:gd name="adj" fmla="val 50000"/>
            </a:avLst>
          </a:prstGeom>
          <a:gradFill rotWithShape="0">
            <a:gsLst>
              <a:gs pos="0">
                <a:srgbClr val="a50021"/>
              </a:gs>
              <a:gs pos="100000">
                <a:srgbClr val="87001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8" name="AutoShape 641"/>
          <p:cNvSpPr/>
          <p:nvPr/>
        </p:nvSpPr>
        <p:spPr>
          <a:xfrm>
            <a:off x="431640" y="2347920"/>
            <a:ext cx="1656000" cy="1619280"/>
          </a:xfrm>
          <a:prstGeom prst="roundRect">
            <a:avLst>
              <a:gd name="adj" fmla="val 12343"/>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9" name="AutoShape 642"/>
          <p:cNvSpPr/>
          <p:nvPr/>
        </p:nvSpPr>
        <p:spPr>
          <a:xfrm>
            <a:off x="431640" y="4040280"/>
            <a:ext cx="1656000" cy="1619280"/>
          </a:xfrm>
          <a:prstGeom prst="roundRect">
            <a:avLst>
              <a:gd name="adj" fmla="val 12343"/>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0" name="AutoShape 643"/>
          <p:cNvSpPr/>
          <p:nvPr/>
        </p:nvSpPr>
        <p:spPr>
          <a:xfrm>
            <a:off x="2158920" y="2347920"/>
            <a:ext cx="1656000" cy="1619280"/>
          </a:xfrm>
          <a:prstGeom prst="roundRect">
            <a:avLst>
              <a:gd name="adj" fmla="val 12343"/>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1" name="AutoShape 644"/>
          <p:cNvSpPr/>
          <p:nvPr/>
        </p:nvSpPr>
        <p:spPr>
          <a:xfrm>
            <a:off x="2158920" y="4040280"/>
            <a:ext cx="1656000" cy="1619280"/>
          </a:xfrm>
          <a:prstGeom prst="roundRect">
            <a:avLst>
              <a:gd name="adj" fmla="val 12343"/>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2" name="AutoShape 645"/>
          <p:cNvSpPr/>
          <p:nvPr/>
        </p:nvSpPr>
        <p:spPr>
          <a:xfrm>
            <a:off x="3887640" y="2347920"/>
            <a:ext cx="1656000" cy="1619280"/>
          </a:xfrm>
          <a:prstGeom prst="roundRect">
            <a:avLst>
              <a:gd name="adj" fmla="val 12343"/>
            </a:avLst>
          </a:prstGeom>
          <a:gradFill rotWithShape="0">
            <a:gsLst>
              <a:gs pos="0">
                <a:srgbClr val="a50021"/>
              </a:gs>
              <a:gs pos="100000">
                <a:srgbClr val="87001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3" name="AutoShape 646"/>
          <p:cNvSpPr/>
          <p:nvPr/>
        </p:nvSpPr>
        <p:spPr>
          <a:xfrm>
            <a:off x="3887640" y="4040280"/>
            <a:ext cx="1656000" cy="1619280"/>
          </a:xfrm>
          <a:prstGeom prst="roundRect">
            <a:avLst>
              <a:gd name="adj" fmla="val 12343"/>
            </a:avLst>
          </a:prstGeom>
          <a:gradFill rotWithShape="0">
            <a:gsLst>
              <a:gs pos="0">
                <a:srgbClr val="a50021"/>
              </a:gs>
              <a:gs pos="100000">
                <a:srgbClr val="87001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4" name="AutoShape 647"/>
          <p:cNvSpPr/>
          <p:nvPr/>
        </p:nvSpPr>
        <p:spPr>
          <a:xfrm>
            <a:off x="5977080" y="2347920"/>
            <a:ext cx="2735280" cy="3313080"/>
          </a:xfrm>
          <a:custGeom>
            <a:avLst/>
            <a:gdLst>
              <a:gd name="textAreaLeft" fmla="*/ 43200 w 2735280"/>
              <a:gd name="textAreaRight" fmla="*/ 2692080 w 2735280"/>
              <a:gd name="textAreaTop" fmla="*/ 43200 h 3313080"/>
              <a:gd name="textAreaBottom" fmla="*/ 3269880 h 3313080"/>
            </a:gdLst>
            <a:ahLst/>
            <a:rect l="textAreaLeft" t="textAreaTop" r="textAreaRight" b="textAreaBottom"/>
            <a:pathLst>
              <a:path w="21600" h="26162">
                <a:moveTo>
                  <a:pt x="1167" y="0"/>
                </a:moveTo>
                <a:arcTo wR="1167" hR="1167" stAng="16200000" swAng="-5400000"/>
                <a:lnTo>
                  <a:pt x="0" y="24995"/>
                </a:lnTo>
                <a:arcTo wR="1167" hR="1167" stAng="10800000" swAng="-5400000"/>
                <a:lnTo>
                  <a:pt x="20433" y="26162"/>
                </a:lnTo>
                <a:arcTo wR="1167" hR="1167" stAng="5400000" swAng="-5400000"/>
                <a:lnTo>
                  <a:pt x="21600" y="1167"/>
                </a:lnTo>
                <a:arcTo wR="1167" hR="1167" stAng="0" swAng="-5400000"/>
                <a:close/>
              </a:path>
            </a:pathLst>
          </a:custGeom>
          <a:gradFill rotWithShape="0">
            <a:gsLst>
              <a:gs pos="0">
                <a:srgbClr val="dddddd"/>
              </a:gs>
              <a:gs pos="100000">
                <a:srgbClr val="f4f4f4"/>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5" name="AutoShape 648"/>
          <p:cNvSpPr/>
          <p:nvPr/>
        </p:nvSpPr>
        <p:spPr>
          <a:xfrm rot="5400000">
            <a:off x="4642560" y="3825000"/>
            <a:ext cx="2270160" cy="395280"/>
          </a:xfrm>
          <a:prstGeom prst="triangle">
            <a:avLst>
              <a:gd name="adj" fmla="val 50000"/>
            </a:avLst>
          </a:prstGeom>
          <a:gradFill rotWithShape="0">
            <a:gsLst>
              <a:gs pos="0">
                <a:srgbClr val="416483"/>
              </a:gs>
              <a:gs pos="100000">
                <a:srgbClr val="1e2e3d">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6" name="AutoShape 649"/>
          <p:cNvSpPr/>
          <p:nvPr/>
        </p:nvSpPr>
        <p:spPr>
          <a:xfrm>
            <a:off x="503280" y="241920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7" name="AutoShape 650"/>
          <p:cNvSpPr/>
          <p:nvPr/>
        </p:nvSpPr>
        <p:spPr>
          <a:xfrm>
            <a:off x="2232000" y="2419200"/>
            <a:ext cx="151308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8" name="AutoShape 651"/>
          <p:cNvSpPr/>
          <p:nvPr/>
        </p:nvSpPr>
        <p:spPr>
          <a:xfrm>
            <a:off x="3959280" y="241920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9" name="AutoShape 652"/>
          <p:cNvSpPr/>
          <p:nvPr/>
        </p:nvSpPr>
        <p:spPr>
          <a:xfrm>
            <a:off x="503280" y="411156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0" name="AutoShape 653"/>
          <p:cNvSpPr/>
          <p:nvPr/>
        </p:nvSpPr>
        <p:spPr>
          <a:xfrm>
            <a:off x="2232000" y="4111560"/>
            <a:ext cx="151308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1" name="AutoShape 654"/>
          <p:cNvSpPr/>
          <p:nvPr/>
        </p:nvSpPr>
        <p:spPr>
          <a:xfrm>
            <a:off x="3959280" y="411156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2" name="AutoShape 655"/>
          <p:cNvSpPr/>
          <p:nvPr/>
        </p:nvSpPr>
        <p:spPr>
          <a:xfrm>
            <a:off x="6048360" y="2419200"/>
            <a:ext cx="2592360" cy="1836720"/>
          </a:xfrm>
          <a:prstGeom prst="roundRect">
            <a:avLst>
              <a:gd name="adj" fmla="val 8213"/>
            </a:avLst>
          </a:prstGeom>
          <a:solidFill>
            <a:srgbClr val="ffffff"/>
          </a:solidFill>
          <a:ln w="158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3" name="WordArt 656"/>
          <p:cNvSpPr txBox="1"/>
          <p:nvPr/>
        </p:nvSpPr>
        <p:spPr>
          <a:xfrm>
            <a:off x="68436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34" name="WordArt 657"/>
          <p:cNvSpPr txBox="1"/>
          <p:nvPr/>
        </p:nvSpPr>
        <p:spPr>
          <a:xfrm>
            <a:off x="241128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35" name="WordArt 658"/>
          <p:cNvSpPr txBox="1"/>
          <p:nvPr/>
        </p:nvSpPr>
        <p:spPr>
          <a:xfrm>
            <a:off x="6588000" y="313992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36" name="WordArt 659"/>
          <p:cNvSpPr txBox="1"/>
          <p:nvPr/>
        </p:nvSpPr>
        <p:spPr>
          <a:xfrm>
            <a:off x="68436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37" name="WordArt 660"/>
          <p:cNvSpPr txBox="1"/>
          <p:nvPr/>
        </p:nvSpPr>
        <p:spPr>
          <a:xfrm>
            <a:off x="241128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38" name="WordArt 661"/>
          <p:cNvSpPr txBox="1"/>
          <p:nvPr/>
        </p:nvSpPr>
        <p:spPr>
          <a:xfrm>
            <a:off x="414036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39" name="WordArt 662"/>
          <p:cNvSpPr txBox="1"/>
          <p:nvPr/>
        </p:nvSpPr>
        <p:spPr>
          <a:xfrm>
            <a:off x="414036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grpSp>
        <p:nvGrpSpPr>
          <p:cNvPr id="640" name=""/>
          <p:cNvGrpSpPr/>
          <p:nvPr/>
        </p:nvGrpSpPr>
        <p:grpSpPr>
          <a:xfrm>
            <a:off x="826920" y="3573360"/>
            <a:ext cx="863640" cy="276120"/>
            <a:chOff x="826920" y="3573360"/>
            <a:chExt cx="863640" cy="276120"/>
          </a:xfrm>
        </p:grpSpPr>
        <p:sp>
          <p:nvSpPr>
            <p:cNvPr id="641" name="WordArt 664"/>
            <p:cNvSpPr txBox="1"/>
            <p:nvPr/>
          </p:nvSpPr>
          <p:spPr>
            <a:xfrm>
              <a:off x="93708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42" name="WordArt 665"/>
            <p:cNvSpPr txBox="1"/>
            <p:nvPr/>
          </p:nvSpPr>
          <p:spPr>
            <a:xfrm>
              <a:off x="82692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43" name=""/>
          <p:cNvGrpSpPr/>
          <p:nvPr/>
        </p:nvGrpSpPr>
        <p:grpSpPr>
          <a:xfrm>
            <a:off x="2556000" y="3573360"/>
            <a:ext cx="863640" cy="276120"/>
            <a:chOff x="2556000" y="3573360"/>
            <a:chExt cx="863640" cy="276120"/>
          </a:xfrm>
        </p:grpSpPr>
        <p:sp>
          <p:nvSpPr>
            <p:cNvPr id="644" name="WordArt 667"/>
            <p:cNvSpPr txBox="1"/>
            <p:nvPr/>
          </p:nvSpPr>
          <p:spPr>
            <a:xfrm>
              <a:off x="266616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45" name="WordArt 668"/>
            <p:cNvSpPr txBox="1"/>
            <p:nvPr/>
          </p:nvSpPr>
          <p:spPr>
            <a:xfrm>
              <a:off x="255600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46" name=""/>
          <p:cNvGrpSpPr/>
          <p:nvPr/>
        </p:nvGrpSpPr>
        <p:grpSpPr>
          <a:xfrm>
            <a:off x="4284720" y="3573360"/>
            <a:ext cx="863640" cy="276120"/>
            <a:chOff x="4284720" y="3573360"/>
            <a:chExt cx="863640" cy="276120"/>
          </a:xfrm>
        </p:grpSpPr>
        <p:sp>
          <p:nvSpPr>
            <p:cNvPr id="647" name="WordArt 670"/>
            <p:cNvSpPr txBox="1"/>
            <p:nvPr/>
          </p:nvSpPr>
          <p:spPr>
            <a:xfrm>
              <a:off x="439488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48" name="WordArt 671"/>
            <p:cNvSpPr txBox="1"/>
            <p:nvPr/>
          </p:nvSpPr>
          <p:spPr>
            <a:xfrm>
              <a:off x="428472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49" name=""/>
          <p:cNvGrpSpPr/>
          <p:nvPr/>
        </p:nvGrpSpPr>
        <p:grpSpPr>
          <a:xfrm>
            <a:off x="826920" y="5229360"/>
            <a:ext cx="863640" cy="275760"/>
            <a:chOff x="826920" y="5229360"/>
            <a:chExt cx="863640" cy="275760"/>
          </a:xfrm>
        </p:grpSpPr>
        <p:sp>
          <p:nvSpPr>
            <p:cNvPr id="650" name="WordArt 673"/>
            <p:cNvSpPr txBox="1"/>
            <p:nvPr/>
          </p:nvSpPr>
          <p:spPr>
            <a:xfrm>
              <a:off x="937080" y="522936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51" name="WordArt 674"/>
            <p:cNvSpPr txBox="1"/>
            <p:nvPr/>
          </p:nvSpPr>
          <p:spPr>
            <a:xfrm>
              <a:off x="82692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52" name=""/>
          <p:cNvGrpSpPr/>
          <p:nvPr/>
        </p:nvGrpSpPr>
        <p:grpSpPr>
          <a:xfrm>
            <a:off x="2556000" y="5229360"/>
            <a:ext cx="863640" cy="275760"/>
            <a:chOff x="2556000" y="5229360"/>
            <a:chExt cx="863640" cy="275760"/>
          </a:xfrm>
        </p:grpSpPr>
        <p:sp>
          <p:nvSpPr>
            <p:cNvPr id="653" name="WordArt 676"/>
            <p:cNvSpPr txBox="1"/>
            <p:nvPr/>
          </p:nvSpPr>
          <p:spPr>
            <a:xfrm>
              <a:off x="2666160" y="522936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54" name="WordArt 677"/>
            <p:cNvSpPr txBox="1"/>
            <p:nvPr/>
          </p:nvSpPr>
          <p:spPr>
            <a:xfrm>
              <a:off x="255600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55" name=""/>
          <p:cNvGrpSpPr/>
          <p:nvPr/>
        </p:nvGrpSpPr>
        <p:grpSpPr>
          <a:xfrm>
            <a:off x="4284720" y="5229360"/>
            <a:ext cx="863640" cy="275760"/>
            <a:chOff x="4284720" y="5229360"/>
            <a:chExt cx="863640" cy="275760"/>
          </a:xfrm>
        </p:grpSpPr>
        <p:sp>
          <p:nvSpPr>
            <p:cNvPr id="656" name="WordArt 679"/>
            <p:cNvSpPr txBox="1"/>
            <p:nvPr/>
          </p:nvSpPr>
          <p:spPr>
            <a:xfrm>
              <a:off x="4394880" y="522936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57" name="WordArt 680"/>
            <p:cNvSpPr txBox="1"/>
            <p:nvPr/>
          </p:nvSpPr>
          <p:spPr>
            <a:xfrm>
              <a:off x="428472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58" name=""/>
          <p:cNvGrpSpPr/>
          <p:nvPr/>
        </p:nvGrpSpPr>
        <p:grpSpPr>
          <a:xfrm>
            <a:off x="6588000" y="4641840"/>
            <a:ext cx="1584000" cy="586800"/>
            <a:chOff x="6588000" y="4641840"/>
            <a:chExt cx="1584000" cy="586800"/>
          </a:xfrm>
        </p:grpSpPr>
        <p:sp>
          <p:nvSpPr>
            <p:cNvPr id="659" name="WordArt 682"/>
            <p:cNvSpPr txBox="1"/>
            <p:nvPr/>
          </p:nvSpPr>
          <p:spPr>
            <a:xfrm>
              <a:off x="6790320" y="4641840"/>
              <a:ext cx="1183680" cy="35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TEXT</a:t>
              </a:r>
              <a:endParaRPr b="0" lang="en-US" sz="1400" spc="-1" strike="noStrike">
                <a:ln w="0">
                  <a:noFill/>
                </a:ln>
                <a:solidFill>
                  <a:srgbClr val="000000">
                    <a:alpha val="80000"/>
                  </a:srgbClr>
                </a:solidFill>
                <a:latin typeface="Arial Black"/>
                <a:ea typeface="Arial Black"/>
              </a:endParaRPr>
            </a:p>
          </p:txBody>
        </p:sp>
        <p:sp>
          <p:nvSpPr>
            <p:cNvPr id="660" name="WordArt 683"/>
            <p:cNvSpPr txBox="1"/>
            <p:nvPr/>
          </p:nvSpPr>
          <p:spPr>
            <a:xfrm>
              <a:off x="6588000" y="5042520"/>
              <a:ext cx="1584000" cy="18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ADD CONTENTS</a:t>
              </a:r>
              <a:endParaRPr b="0" lang="en-US" sz="1400" spc="-1" strike="noStrike">
                <a:ln w="0">
                  <a:noFill/>
                </a:ln>
                <a:solidFill>
                  <a:srgbClr val="000000">
                    <a:alpha val="80000"/>
                  </a:srgbClr>
                </a:solidFill>
                <a:latin typeface="Arial Black"/>
                <a:ea typeface="Arial Black"/>
              </a:endParaRPr>
            </a:p>
          </p:txBody>
        </p:sp>
      </p:grpSp>
      <p:sp>
        <p:nvSpPr>
          <p:cNvPr id="661" name="WordArt 684"/>
          <p:cNvSpPr txBox="1"/>
          <p:nvPr/>
        </p:nvSpPr>
        <p:spPr>
          <a:xfrm>
            <a:off x="2762280" y="1655640"/>
            <a:ext cx="3897360" cy="260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662"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sp>
        <p:nvSpPr>
          <p:cNvPr id="663"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4" name="Arc 682"/>
          <p:cNvSpPr/>
          <p:nvPr/>
        </p:nvSpPr>
        <p:spPr>
          <a:xfrm rot="18746400">
            <a:off x="3442320" y="1231200"/>
            <a:ext cx="1014480" cy="1003320"/>
          </a:xfrm>
          <a:custGeom>
            <a:avLst/>
            <a:gdLst>
              <a:gd name="textAreaLeft" fmla="*/ 0 w 1014480"/>
              <a:gd name="textAreaRight" fmla="*/ 1014840 w 1014480"/>
              <a:gd name="textAreaTop" fmla="*/ 0 h 1003320"/>
              <a:gd name="textAreaBottom" fmla="*/ 1003680 h 1003320"/>
            </a:gdLst>
            <a:ahLst/>
            <a:rect l="textAreaLeft" t="textAreaTop" r="textAreaRight" b="textAreaBottom"/>
            <a:pathLst>
              <a:path fill="none" w="21600" h="21356">
                <a:moveTo>
                  <a:pt x="3237" y="-1"/>
                </a:moveTo>
                <a:cubicBezTo>
                  <a:pt x="13795" y="1600"/>
                  <a:pt x="21600" y="10676"/>
                  <a:pt x="21600" y="21356"/>
                </a:cubicBezTo>
              </a:path>
              <a:path stroke="0" w="21600" h="21356">
                <a:moveTo>
                  <a:pt x="3237" y="-1"/>
                </a:moveTo>
                <a:cubicBezTo>
                  <a:pt x="13795" y="1600"/>
                  <a:pt x="21600" y="10676"/>
                  <a:pt x="21600" y="21356"/>
                </a:cubicBezTo>
                <a:lnTo>
                  <a:pt x="0" y="21356"/>
                </a:lnTo>
                <a:lnTo>
                  <a:pt x="3237"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65" name="Freeform 673"/>
          <p:cNvSpPr/>
          <p:nvPr/>
        </p:nvSpPr>
        <p:spPr>
          <a:xfrm rot="21274800">
            <a:off x="4092120" y="1690200"/>
            <a:ext cx="2629080" cy="2630520"/>
          </a:xfrm>
          <a:custGeom>
            <a:avLst/>
            <a:gdLst>
              <a:gd name="textAreaLeft" fmla="*/ 0 w 2629080"/>
              <a:gd name="textAreaRight" fmla="*/ 2629440 w 2629080"/>
              <a:gd name="textAreaTop" fmla="*/ 0 h 2630520"/>
              <a:gd name="textAreaBottom" fmla="*/ 2630880 h 263052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ff899f">
              <a:alpha val="4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66" name="Freeform 675"/>
          <p:cNvSpPr/>
          <p:nvPr/>
        </p:nvSpPr>
        <p:spPr>
          <a:xfrm rot="21274800">
            <a:off x="828360" y="1760040"/>
            <a:ext cx="3429000" cy="3429000"/>
          </a:xfrm>
          <a:custGeom>
            <a:avLst/>
            <a:gdLst>
              <a:gd name="textAreaLeft" fmla="*/ 0 w 3429000"/>
              <a:gd name="textAreaRight" fmla="*/ 3429360 w 3429000"/>
              <a:gd name="textAreaTop" fmla="*/ 0 h 3429000"/>
              <a:gd name="textAreaBottom" fmla="*/ 3429360 h 342900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ff9900">
              <a:alpha val="4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67" name="Oval 676"/>
          <p:cNvSpPr/>
          <p:nvPr/>
        </p:nvSpPr>
        <p:spPr>
          <a:xfrm rot="21274800">
            <a:off x="1195200" y="2126880"/>
            <a:ext cx="2695320" cy="2693880"/>
          </a:xfrm>
          <a:prstGeom prst="ellipse">
            <a:avLst/>
          </a:prstGeom>
          <a:gradFill rotWithShape="0">
            <a:gsLst>
              <a:gs pos="0">
                <a:srgbClr val="f69d26"/>
              </a:gs>
              <a:gs pos="100000">
                <a:srgbClr val="ca811f"/>
              </a:gs>
            </a:gsLst>
            <a:lin ang="572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8" name="Oval 677"/>
          <p:cNvSpPr/>
          <p:nvPr/>
        </p:nvSpPr>
        <p:spPr>
          <a:xfrm rot="21274800">
            <a:off x="4505400" y="2104920"/>
            <a:ext cx="1801800" cy="1801800"/>
          </a:xfrm>
          <a:prstGeom prst="ellipse">
            <a:avLst/>
          </a:prstGeom>
          <a:gradFill rotWithShape="0">
            <a:gsLst>
              <a:gs pos="0">
                <a:srgbClr val="a50021"/>
              </a:gs>
              <a:gs pos="100000">
                <a:srgbClr val="87001b"/>
              </a:gs>
            </a:gsLst>
            <a:lin ang="572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9" name="Freeform 679"/>
          <p:cNvSpPr/>
          <p:nvPr/>
        </p:nvSpPr>
        <p:spPr>
          <a:xfrm rot="21274800">
            <a:off x="5581800" y="3787560"/>
            <a:ext cx="2303280" cy="2305080"/>
          </a:xfrm>
          <a:custGeom>
            <a:avLst/>
            <a:gdLst>
              <a:gd name="textAreaLeft" fmla="*/ 0 w 2303280"/>
              <a:gd name="textAreaRight" fmla="*/ 2303640 w 2303280"/>
              <a:gd name="textAreaTop" fmla="*/ 0 h 2305080"/>
              <a:gd name="textAreaBottom" fmla="*/ 2305440 h 230508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0099cc">
              <a:alpha val="4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70" name="Oval 680"/>
          <p:cNvSpPr/>
          <p:nvPr/>
        </p:nvSpPr>
        <p:spPr>
          <a:xfrm rot="21274800">
            <a:off x="5943600" y="4151160"/>
            <a:ext cx="1577880" cy="1578240"/>
          </a:xfrm>
          <a:prstGeom prst="ellipse">
            <a:avLst/>
          </a:prstGeom>
          <a:gradFill rotWithShape="0">
            <a:gsLst>
              <a:gs pos="0">
                <a:srgbClr val="0099cc"/>
              </a:gs>
              <a:gs pos="100000">
                <a:srgbClr val="007da7"/>
              </a:gs>
            </a:gsLst>
            <a:lin ang="572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1" name="Arc 681"/>
          <p:cNvSpPr/>
          <p:nvPr/>
        </p:nvSpPr>
        <p:spPr>
          <a:xfrm rot="7501200">
            <a:off x="4029840" y="3719880"/>
            <a:ext cx="1906560" cy="1549440"/>
          </a:xfrm>
          <a:custGeom>
            <a:avLst/>
            <a:gdLst>
              <a:gd name="textAreaLeft" fmla="*/ 0 w 1906560"/>
              <a:gd name="textAreaRight" fmla="*/ 1906920 w 1906560"/>
              <a:gd name="textAreaTop" fmla="*/ 0 h 1549440"/>
              <a:gd name="textAreaBottom" fmla="*/ 1549800 h 1549440"/>
            </a:gdLst>
            <a:ahLst/>
            <a:rect l="textAreaLeft" t="textAreaTop" r="textAreaRight" b="textAreaBottom"/>
            <a:pathLst>
              <a:path fill="none" w="21600" h="15695">
                <a:moveTo>
                  <a:pt x="14840" y="-1"/>
                </a:moveTo>
                <a:cubicBezTo>
                  <a:pt x="19155" y="4079"/>
                  <a:pt x="21600" y="9756"/>
                  <a:pt x="21600" y="15695"/>
                </a:cubicBezTo>
              </a:path>
              <a:path stroke="0" w="21600" h="15695">
                <a:moveTo>
                  <a:pt x="14840" y="-1"/>
                </a:moveTo>
                <a:cubicBezTo>
                  <a:pt x="19155" y="4079"/>
                  <a:pt x="21600" y="9756"/>
                  <a:pt x="21600" y="15695"/>
                </a:cubicBezTo>
                <a:lnTo>
                  <a:pt x="0" y="15695"/>
                </a:lnTo>
                <a:lnTo>
                  <a:pt x="14840"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72" name="Arc 683"/>
          <p:cNvSpPr/>
          <p:nvPr/>
        </p:nvSpPr>
        <p:spPr>
          <a:xfrm rot="256800">
            <a:off x="6907320" y="2855520"/>
            <a:ext cx="620640" cy="898560"/>
          </a:xfrm>
          <a:custGeom>
            <a:avLst/>
            <a:gdLst>
              <a:gd name="textAreaLeft" fmla="*/ 0 w 620640"/>
              <a:gd name="textAreaRight" fmla="*/ 620640 w 620640"/>
              <a:gd name="textAreaTop" fmla="*/ 0 h 898560"/>
              <a:gd name="textAreaBottom" fmla="*/ 898920 h 898560"/>
            </a:gdLst>
            <a:ahLst/>
            <a:rect l="textAreaLeft" t="textAreaTop" r="textAreaRight" b="textAreaBottom"/>
            <a:pathLst>
              <a:path fill="none" w="21600" h="31203">
                <a:moveTo>
                  <a:pt x="3237" y="-1"/>
                </a:moveTo>
                <a:cubicBezTo>
                  <a:pt x="13795" y="1600"/>
                  <a:pt x="21600" y="10676"/>
                  <a:pt x="21600" y="21356"/>
                </a:cubicBezTo>
                <a:cubicBezTo>
                  <a:pt x="21600" y="24780"/>
                  <a:pt x="20785" y="28155"/>
                  <a:pt x="19224" y="31202"/>
                </a:cubicBezTo>
              </a:path>
              <a:path stroke="0" w="21600" h="31203">
                <a:moveTo>
                  <a:pt x="3237" y="-1"/>
                </a:moveTo>
                <a:cubicBezTo>
                  <a:pt x="13795" y="1600"/>
                  <a:pt x="21600" y="10676"/>
                  <a:pt x="21600" y="21356"/>
                </a:cubicBezTo>
                <a:cubicBezTo>
                  <a:pt x="21600" y="24780"/>
                  <a:pt x="20785" y="28155"/>
                  <a:pt x="19224" y="31202"/>
                </a:cubicBezTo>
                <a:lnTo>
                  <a:pt x="0" y="21356"/>
                </a:lnTo>
                <a:lnTo>
                  <a:pt x="3237"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73" name="WordArt 685"/>
          <p:cNvSpPr txBox="1"/>
          <p:nvPr/>
        </p:nvSpPr>
        <p:spPr>
          <a:xfrm>
            <a:off x="2052720" y="3025800"/>
            <a:ext cx="10080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74" name="WordArt 686"/>
          <p:cNvSpPr txBox="1"/>
          <p:nvPr/>
        </p:nvSpPr>
        <p:spPr>
          <a:xfrm>
            <a:off x="2052720" y="3414600"/>
            <a:ext cx="1008000" cy="51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1. CONTENTS</a:t>
            </a:r>
            <a:endParaRPr b="0"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2. CONTENTS</a:t>
            </a:r>
            <a:endParaRPr b="0"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3. CONTENTS</a:t>
            </a:r>
            <a:endParaRPr b="0" lang="en-US" sz="1400" spc="-1" strike="noStrike">
              <a:ln w="0">
                <a:noFill/>
              </a:ln>
              <a:solidFill>
                <a:srgbClr val="ffffff"/>
              </a:solidFill>
              <a:latin typeface="Arial Black"/>
              <a:ea typeface="Arial Black"/>
            </a:endParaRPr>
          </a:p>
        </p:txBody>
      </p:sp>
      <p:sp>
        <p:nvSpPr>
          <p:cNvPr id="675" name="WordArt 688"/>
          <p:cNvSpPr txBox="1"/>
          <p:nvPr/>
        </p:nvSpPr>
        <p:spPr>
          <a:xfrm>
            <a:off x="4933800" y="2593800"/>
            <a:ext cx="100836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76" name="WordArt 689"/>
          <p:cNvSpPr txBox="1"/>
          <p:nvPr/>
        </p:nvSpPr>
        <p:spPr>
          <a:xfrm>
            <a:off x="4933800" y="2982960"/>
            <a:ext cx="100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1. CONTENTS</a:t>
            </a:r>
            <a:endParaRPr b="0"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2. CONTENTS</a:t>
            </a:r>
            <a:endParaRPr b="0"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3. CONTENTS</a:t>
            </a:r>
            <a:endParaRPr b="0" lang="en-US" sz="1400" spc="-1" strike="noStrike">
              <a:ln w="0">
                <a:noFill/>
              </a:ln>
              <a:solidFill>
                <a:srgbClr val="ffffff"/>
              </a:solidFill>
              <a:latin typeface="Arial Black"/>
              <a:ea typeface="Arial Black"/>
            </a:endParaRPr>
          </a:p>
        </p:txBody>
      </p:sp>
      <p:sp>
        <p:nvSpPr>
          <p:cNvPr id="677" name="WordArt 691"/>
          <p:cNvSpPr txBox="1"/>
          <p:nvPr/>
        </p:nvSpPr>
        <p:spPr>
          <a:xfrm>
            <a:off x="6300720" y="4610160"/>
            <a:ext cx="792360" cy="239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78" name="WordArt 692"/>
          <p:cNvSpPr txBox="1"/>
          <p:nvPr/>
        </p:nvSpPr>
        <p:spPr>
          <a:xfrm>
            <a:off x="6300720" y="4915080"/>
            <a:ext cx="792360" cy="40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1. CONTENTS</a:t>
            </a:r>
            <a:endParaRPr b="0"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2. CONTENTS</a:t>
            </a:r>
            <a:endParaRPr b="0"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3. CONTENTS</a:t>
            </a:r>
            <a:endParaRPr b="0" lang="en-US" sz="1400" spc="-1" strike="noStrike">
              <a:ln w="0">
                <a:noFill/>
              </a:ln>
              <a:solidFill>
                <a:srgbClr val="ffffff"/>
              </a:solidFill>
              <a:latin typeface="Arial Black"/>
              <a:ea typeface="Arial Black"/>
            </a:endParaRPr>
          </a:p>
        </p:txBody>
      </p:sp>
      <p:sp>
        <p:nvSpPr>
          <p:cNvPr id="679" name="WordArt 693"/>
          <p:cNvSpPr txBox="1"/>
          <p:nvPr/>
        </p:nvSpPr>
        <p:spPr>
          <a:xfrm>
            <a:off x="4429080" y="48261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80" name="WordArt 694"/>
          <p:cNvSpPr txBox="1"/>
          <p:nvPr/>
        </p:nvSpPr>
        <p:spPr>
          <a:xfrm>
            <a:off x="3708360" y="16574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81" name="WordArt 695"/>
          <p:cNvSpPr txBox="1"/>
          <p:nvPr/>
        </p:nvSpPr>
        <p:spPr>
          <a:xfrm>
            <a:off x="7308720" y="2593800"/>
            <a:ext cx="64800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82"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5cc8"/>
                </a:solidFill>
                <a:latin typeface="HY헤드라인M"/>
              </a:rPr>
              <a:t>Click To Type Slide Title</a:t>
            </a:r>
            <a:endParaRPr b="0" lang="en-US" sz="2600" spc="-1" strike="noStrike">
              <a:solidFill>
                <a:srgbClr val="005cc8"/>
              </a:solidFill>
              <a:latin typeface="HY헤드라인M"/>
            </a:endParaRPr>
          </a:p>
        </p:txBody>
      </p:sp>
      <p:sp>
        <p:nvSpPr>
          <p:cNvPr id="683"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4" name="AutoShape 670"/>
          <p:cNvSpPr/>
          <p:nvPr/>
        </p:nvSpPr>
        <p:spPr>
          <a:xfrm>
            <a:off x="324000" y="4400640"/>
            <a:ext cx="8496000" cy="1728720"/>
          </a:xfrm>
          <a:prstGeom prst="roundRect">
            <a:avLst>
              <a:gd name="adj" fmla="val 10139"/>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5" name="AutoShape 671"/>
          <p:cNvSpPr/>
          <p:nvPr/>
        </p:nvSpPr>
        <p:spPr>
          <a:xfrm>
            <a:off x="324000" y="1482840"/>
            <a:ext cx="8496000" cy="2881080"/>
          </a:xfrm>
          <a:prstGeom prst="roundRect">
            <a:avLst>
              <a:gd name="adj" fmla="val 6444"/>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6" name="AutoShape 672"/>
          <p:cNvSpPr/>
          <p:nvPr/>
        </p:nvSpPr>
        <p:spPr>
          <a:xfrm>
            <a:off x="1546200" y="1268280"/>
            <a:ext cx="6086520" cy="395280"/>
          </a:xfrm>
          <a:prstGeom prst="roundRect">
            <a:avLst>
              <a:gd name="adj" fmla="val 50000"/>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7" name="AutoShape 673"/>
          <p:cNvSpPr/>
          <p:nvPr/>
        </p:nvSpPr>
        <p:spPr>
          <a:xfrm>
            <a:off x="576360" y="1808280"/>
            <a:ext cx="3924360" cy="2411280"/>
          </a:xfrm>
          <a:prstGeom prst="roundRect">
            <a:avLst>
              <a:gd name="adj" fmla="val 6963"/>
            </a:avLst>
          </a:prstGeom>
          <a:gradFill rotWithShape="0">
            <a:gsLst>
              <a:gs pos="0">
                <a:srgbClr val="ca811f"/>
              </a:gs>
              <a:gs pos="100000">
                <a:srgbClr val="f69d2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8" name="AutoShape 674"/>
          <p:cNvSpPr/>
          <p:nvPr/>
        </p:nvSpPr>
        <p:spPr>
          <a:xfrm>
            <a:off x="4643280" y="1808280"/>
            <a:ext cx="3924360" cy="2411280"/>
          </a:xfrm>
          <a:prstGeom prst="roundRect">
            <a:avLst>
              <a:gd name="adj" fmla="val 6134"/>
            </a:avLst>
          </a:prstGeom>
          <a:gradFill rotWithShape="0">
            <a:gsLst>
              <a:gs pos="0">
                <a:srgbClr val="87001b"/>
              </a:gs>
              <a:gs pos="100000">
                <a:srgbClr val="a50021"/>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9" name="AutoShape 675"/>
          <p:cNvSpPr/>
          <p:nvPr/>
        </p:nvSpPr>
        <p:spPr>
          <a:xfrm>
            <a:off x="684360" y="1916280"/>
            <a:ext cx="3708360" cy="1618920"/>
          </a:xfrm>
          <a:prstGeom prst="roundRect">
            <a:avLst>
              <a:gd name="adj" fmla="val 5616"/>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0" name="AutoShape 676"/>
          <p:cNvSpPr/>
          <p:nvPr/>
        </p:nvSpPr>
        <p:spPr>
          <a:xfrm>
            <a:off x="4751280" y="1916280"/>
            <a:ext cx="3708360" cy="1618920"/>
          </a:xfrm>
          <a:prstGeom prst="roundRect">
            <a:avLst>
              <a:gd name="adj" fmla="val 5616"/>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1" name="AutoShape 677"/>
          <p:cNvSpPr/>
          <p:nvPr/>
        </p:nvSpPr>
        <p:spPr>
          <a:xfrm>
            <a:off x="576360" y="4545000"/>
            <a:ext cx="3924360" cy="1224000"/>
          </a:xfrm>
          <a:prstGeom prst="roundRect">
            <a:avLst>
              <a:gd name="adj" fmla="val 12412"/>
            </a:avLst>
          </a:prstGeom>
          <a:gradFill rotWithShape="0">
            <a:gsLst>
              <a:gs pos="0">
                <a:srgbClr val="ffff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2" name="AutoShape 678"/>
          <p:cNvSpPr/>
          <p:nvPr/>
        </p:nvSpPr>
        <p:spPr>
          <a:xfrm>
            <a:off x="647640" y="4616280"/>
            <a:ext cx="3780000" cy="324000"/>
          </a:xfrm>
          <a:prstGeom prst="roundRect">
            <a:avLst>
              <a:gd name="adj" fmla="val 50000"/>
            </a:avLst>
          </a:prstGeom>
          <a:solidFill>
            <a:srgbClr val="0099cc">
              <a:alpha val="2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3" name="AutoShape 679"/>
          <p:cNvSpPr/>
          <p:nvPr/>
        </p:nvSpPr>
        <p:spPr>
          <a:xfrm>
            <a:off x="4643280" y="4545000"/>
            <a:ext cx="3924360" cy="1224000"/>
          </a:xfrm>
          <a:prstGeom prst="roundRect">
            <a:avLst>
              <a:gd name="adj" fmla="val 12412"/>
            </a:avLst>
          </a:prstGeom>
          <a:gradFill rotWithShape="0">
            <a:gsLst>
              <a:gs pos="0">
                <a:srgbClr val="ffff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4" name="AutoShape 680"/>
          <p:cNvSpPr/>
          <p:nvPr/>
        </p:nvSpPr>
        <p:spPr>
          <a:xfrm>
            <a:off x="4714920" y="4616280"/>
            <a:ext cx="3779640" cy="324000"/>
          </a:xfrm>
          <a:prstGeom prst="roundRect">
            <a:avLst>
              <a:gd name="adj" fmla="val 50000"/>
            </a:avLst>
          </a:prstGeom>
          <a:solidFill>
            <a:srgbClr val="0099cc">
              <a:alpha val="2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5" name="WordArt 681"/>
          <p:cNvSpPr txBox="1"/>
          <p:nvPr/>
        </p:nvSpPr>
        <p:spPr>
          <a:xfrm>
            <a:off x="3780000" y="1374840"/>
            <a:ext cx="1584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ITLE LIST</a:t>
            </a:r>
            <a:endParaRPr b="0" lang="en-US" sz="1400" spc="-1" strike="noStrike">
              <a:ln w="0">
                <a:noFill/>
              </a:ln>
              <a:solidFill>
                <a:srgbClr val="ffffff"/>
              </a:solidFill>
              <a:latin typeface="Arial Black"/>
              <a:ea typeface="Arial Black"/>
            </a:endParaRPr>
          </a:p>
        </p:txBody>
      </p:sp>
      <p:sp>
        <p:nvSpPr>
          <p:cNvPr id="696" name="WordArt 682"/>
          <p:cNvSpPr txBox="1"/>
          <p:nvPr/>
        </p:nvSpPr>
        <p:spPr>
          <a:xfrm>
            <a:off x="1763640" y="375120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697" name="WordArt 683"/>
          <p:cNvSpPr txBox="1"/>
          <p:nvPr/>
        </p:nvSpPr>
        <p:spPr>
          <a:xfrm>
            <a:off x="5867280" y="375120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698" name="WordArt 684"/>
          <p:cNvSpPr txBox="1"/>
          <p:nvPr/>
        </p:nvSpPr>
        <p:spPr>
          <a:xfrm>
            <a:off x="1763640" y="260028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99" name="WordArt 685"/>
          <p:cNvSpPr txBox="1"/>
          <p:nvPr/>
        </p:nvSpPr>
        <p:spPr>
          <a:xfrm>
            <a:off x="5867280" y="260028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700" name="WordArt 686"/>
          <p:cNvSpPr txBox="1"/>
          <p:nvPr/>
        </p:nvSpPr>
        <p:spPr>
          <a:xfrm>
            <a:off x="1692360" y="468792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Arial Black"/>
              </a:rPr>
              <a:t>CONTENTS</a:t>
            </a:r>
            <a:endParaRPr b="0" lang="en-US" sz="1400" spc="-1" strike="noStrike">
              <a:ln w="0">
                <a:noFill/>
              </a:ln>
              <a:solidFill>
                <a:srgbClr val="333333"/>
              </a:solidFill>
              <a:latin typeface="Arial Black"/>
              <a:ea typeface="Arial Black"/>
            </a:endParaRPr>
          </a:p>
        </p:txBody>
      </p:sp>
      <p:sp>
        <p:nvSpPr>
          <p:cNvPr id="701" name="WordArt 687"/>
          <p:cNvSpPr txBox="1"/>
          <p:nvPr/>
        </p:nvSpPr>
        <p:spPr>
          <a:xfrm>
            <a:off x="5940360" y="468792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Arial Black"/>
              </a:rPr>
              <a:t>CONTENTS</a:t>
            </a:r>
            <a:endParaRPr b="0" lang="en-US" sz="1400" spc="-1" strike="noStrike">
              <a:ln w="0">
                <a:noFill/>
              </a:ln>
              <a:solidFill>
                <a:srgbClr val="333333"/>
              </a:solidFill>
              <a:latin typeface="Arial Black"/>
              <a:ea typeface="Arial Black"/>
            </a:endParaRPr>
          </a:p>
        </p:txBody>
      </p:sp>
      <p:sp>
        <p:nvSpPr>
          <p:cNvPr id="702" name="WordArt 688"/>
          <p:cNvSpPr txBox="1"/>
          <p:nvPr/>
        </p:nvSpPr>
        <p:spPr>
          <a:xfrm>
            <a:off x="1835280" y="5113440"/>
            <a:ext cx="136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01. ADD CONTENTS</a:t>
            </a:r>
            <a:endParaRPr b="0"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02. ADD CONTENTS</a:t>
            </a:r>
            <a:endParaRPr b="0"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03. ADD CONTENTS</a:t>
            </a:r>
            <a:endParaRPr b="0" lang="en-US" sz="1400" spc="-1" strike="noStrike">
              <a:ln w="0">
                <a:noFill/>
              </a:ln>
              <a:solidFill>
                <a:srgbClr val="000000">
                  <a:alpha val="80000"/>
                </a:srgbClr>
              </a:solidFill>
              <a:latin typeface="Arial Black"/>
              <a:ea typeface="Arial Black"/>
            </a:endParaRPr>
          </a:p>
        </p:txBody>
      </p:sp>
      <p:sp>
        <p:nvSpPr>
          <p:cNvPr id="703" name="WordArt 689"/>
          <p:cNvSpPr txBox="1"/>
          <p:nvPr/>
        </p:nvSpPr>
        <p:spPr>
          <a:xfrm>
            <a:off x="5940360" y="5113440"/>
            <a:ext cx="136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01. ADD CONTENTS</a:t>
            </a:r>
            <a:endParaRPr b="0"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02. ADD CONTENTS</a:t>
            </a:r>
            <a:endParaRPr b="0"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03. ADD CONTENTS</a:t>
            </a:r>
            <a:endParaRPr b="0" lang="en-US" sz="1400" spc="-1" strike="noStrike">
              <a:ln w="0">
                <a:noFill/>
              </a:ln>
              <a:solidFill>
                <a:srgbClr val="000000">
                  <a:alpha val="80000"/>
                </a:srgbClr>
              </a:solidFill>
              <a:latin typeface="Arial Black"/>
              <a:ea typeface="Arial Black"/>
            </a:endParaRPr>
          </a:p>
        </p:txBody>
      </p:sp>
      <p:sp>
        <p:nvSpPr>
          <p:cNvPr id="704"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5cc8"/>
                </a:solidFill>
                <a:latin typeface="HY헤드라인M"/>
              </a:rPr>
              <a:t>Click To Type Slide Title</a:t>
            </a:r>
            <a:endParaRPr b="0" lang="en-US" sz="2600" spc="-1" strike="noStrike">
              <a:solidFill>
                <a:srgbClr val="005cc8"/>
              </a:solidFill>
              <a:latin typeface="HY헤드라인M"/>
            </a:endParaRPr>
          </a:p>
        </p:txBody>
      </p:sp>
      <p:sp>
        <p:nvSpPr>
          <p:cNvPr id="706" name="AutoShape 207"/>
          <p:cNvSpPr/>
          <p:nvPr/>
        </p:nvSpPr>
        <p:spPr>
          <a:xfrm>
            <a:off x="2411280" y="1413000"/>
            <a:ext cx="6337440" cy="4392360"/>
          </a:xfrm>
          <a:prstGeom prst="roundRect">
            <a:avLst>
              <a:gd name="adj" fmla="val 4171"/>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7" name="AutoShape 217"/>
          <p:cNvSpPr/>
          <p:nvPr/>
        </p:nvSpPr>
        <p:spPr>
          <a:xfrm>
            <a:off x="2624040" y="4352760"/>
            <a:ext cx="580716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8" name="AutoShape 218"/>
          <p:cNvSpPr/>
          <p:nvPr/>
        </p:nvSpPr>
        <p:spPr>
          <a:xfrm>
            <a:off x="2720880" y="5394240"/>
            <a:ext cx="580716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9" name="AutoShape 213"/>
          <p:cNvSpPr/>
          <p:nvPr/>
        </p:nvSpPr>
        <p:spPr>
          <a:xfrm>
            <a:off x="2766960" y="3286080"/>
            <a:ext cx="580716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0" name="AutoShape 181"/>
          <p:cNvSpPr/>
          <p:nvPr/>
        </p:nvSpPr>
        <p:spPr>
          <a:xfrm>
            <a:off x="2521080" y="4869000"/>
            <a:ext cx="6137280" cy="720720"/>
          </a:xfrm>
          <a:prstGeom prst="roundRect">
            <a:avLst>
              <a:gd name="adj" fmla="val 50000"/>
            </a:avLst>
          </a:prstGeom>
          <a:gradFill rotWithShape="0">
            <a:gsLst>
              <a:gs pos="0">
                <a:srgbClr val="0099cc"/>
              </a:gs>
              <a:gs pos="100000">
                <a:srgbClr val="007da7"/>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1" name="AutoShape 182"/>
          <p:cNvSpPr/>
          <p:nvPr/>
        </p:nvSpPr>
        <p:spPr>
          <a:xfrm>
            <a:off x="2521080" y="2709720"/>
            <a:ext cx="6137280" cy="720720"/>
          </a:xfrm>
          <a:prstGeom prst="roundRect">
            <a:avLst>
              <a:gd name="adj" fmla="val 50000"/>
            </a:avLst>
          </a:prstGeom>
          <a:gradFill rotWithShape="0">
            <a:gsLst>
              <a:gs pos="0">
                <a:srgbClr val="f69d26"/>
              </a:gs>
              <a:gs pos="100000">
                <a:srgbClr val="ca811f"/>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2" name="AutoShape 183"/>
          <p:cNvSpPr/>
          <p:nvPr/>
        </p:nvSpPr>
        <p:spPr>
          <a:xfrm>
            <a:off x="2521080" y="3789360"/>
            <a:ext cx="6137280" cy="720720"/>
          </a:xfrm>
          <a:prstGeom prst="roundRect">
            <a:avLst>
              <a:gd name="adj" fmla="val 50000"/>
            </a:avLst>
          </a:prstGeom>
          <a:gradFill rotWithShape="0">
            <a:gsLst>
              <a:gs pos="0">
                <a:srgbClr val="a50021"/>
              </a:gs>
              <a:gs pos="100000">
                <a:srgbClr val="87001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3" name="AutoShape 202"/>
          <p:cNvSpPr/>
          <p:nvPr/>
        </p:nvSpPr>
        <p:spPr>
          <a:xfrm>
            <a:off x="2762280" y="4984920"/>
            <a:ext cx="5689440" cy="490320"/>
          </a:xfrm>
          <a:prstGeom prst="roundRect">
            <a:avLst>
              <a:gd name="adj" fmla="val 50000"/>
            </a:avLst>
          </a:prstGeom>
          <a:solidFill>
            <a:srgbClr val="ffffff">
              <a:alpha val="46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4" name="AutoShape 203"/>
          <p:cNvSpPr/>
          <p:nvPr/>
        </p:nvSpPr>
        <p:spPr>
          <a:xfrm>
            <a:off x="2762280" y="2824200"/>
            <a:ext cx="5689440" cy="490680"/>
          </a:xfrm>
          <a:prstGeom prst="roundRect">
            <a:avLst>
              <a:gd name="adj" fmla="val 50000"/>
            </a:avLst>
          </a:prstGeom>
          <a:solidFill>
            <a:srgbClr val="ffffff">
              <a:alpha val="46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5" name="AutoShape 204"/>
          <p:cNvSpPr/>
          <p:nvPr/>
        </p:nvSpPr>
        <p:spPr>
          <a:xfrm>
            <a:off x="2762280" y="3903840"/>
            <a:ext cx="5689440" cy="490320"/>
          </a:xfrm>
          <a:prstGeom prst="roundRect">
            <a:avLst>
              <a:gd name="adj" fmla="val 50000"/>
            </a:avLst>
          </a:prstGeom>
          <a:solidFill>
            <a:srgbClr val="ffffff">
              <a:alpha val="69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6" name="AutoShape 132"/>
          <p:cNvSpPr/>
          <p:nvPr/>
        </p:nvSpPr>
        <p:spPr>
          <a:xfrm>
            <a:off x="324000" y="1341360"/>
            <a:ext cx="2016000" cy="4608720"/>
          </a:xfrm>
          <a:prstGeom prst="upArrow">
            <a:avLst>
              <a:gd name="adj1" fmla="val 66296"/>
              <a:gd name="adj2" fmla="val 58432"/>
            </a:avLst>
          </a:prstGeom>
          <a:gradFill rotWithShape="0">
            <a:gsLst>
              <a:gs pos="0">
                <a:srgbClr val="ff9933">
                  <a:alpha val="50196"/>
                </a:srgbClr>
              </a:gs>
              <a:gs pos="100000">
                <a:srgbClr val="764718">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17" name=""/>
          <p:cNvGrpSpPr/>
          <p:nvPr/>
        </p:nvGrpSpPr>
        <p:grpSpPr>
          <a:xfrm>
            <a:off x="865080" y="4776840"/>
            <a:ext cx="903240" cy="906480"/>
            <a:chOff x="865080" y="4776840"/>
            <a:chExt cx="903240" cy="906480"/>
          </a:xfrm>
        </p:grpSpPr>
        <p:sp>
          <p:nvSpPr>
            <p:cNvPr id="718" name="Oval 148"/>
            <p:cNvSpPr/>
            <p:nvPr/>
          </p:nvSpPr>
          <p:spPr>
            <a:xfrm>
              <a:off x="865080" y="4776840"/>
              <a:ext cx="903240" cy="906480"/>
            </a:xfrm>
            <a:prstGeom prst="ellipse">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9" name="Oval 149"/>
            <p:cNvSpPr/>
            <p:nvPr/>
          </p:nvSpPr>
          <p:spPr>
            <a:xfrm>
              <a:off x="1184400" y="4795200"/>
              <a:ext cx="240480" cy="242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20" name="Oval 150"/>
          <p:cNvSpPr/>
          <p:nvPr/>
        </p:nvSpPr>
        <p:spPr>
          <a:xfrm>
            <a:off x="865080" y="3695760"/>
            <a:ext cx="903240" cy="906480"/>
          </a:xfrm>
          <a:prstGeom prst="ellipse">
            <a:avLst/>
          </a:prstGeom>
          <a:gradFill rotWithShape="0">
            <a:gsLst>
              <a:gs pos="0">
                <a:srgbClr val="a50021"/>
              </a:gs>
              <a:gs pos="100000">
                <a:srgbClr val="87001b"/>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1" name="Oval 151"/>
          <p:cNvSpPr/>
          <p:nvPr/>
        </p:nvSpPr>
        <p:spPr>
          <a:xfrm>
            <a:off x="1184400" y="3714840"/>
            <a:ext cx="241200" cy="2412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22" name=""/>
          <p:cNvGrpSpPr/>
          <p:nvPr/>
        </p:nvGrpSpPr>
        <p:grpSpPr>
          <a:xfrm>
            <a:off x="865080" y="2616120"/>
            <a:ext cx="903240" cy="906480"/>
            <a:chOff x="865080" y="2616120"/>
            <a:chExt cx="903240" cy="906480"/>
          </a:xfrm>
        </p:grpSpPr>
        <p:sp>
          <p:nvSpPr>
            <p:cNvPr id="723" name="Oval 152"/>
            <p:cNvSpPr/>
            <p:nvPr/>
          </p:nvSpPr>
          <p:spPr>
            <a:xfrm>
              <a:off x="865080" y="2616120"/>
              <a:ext cx="903240" cy="906480"/>
            </a:xfrm>
            <a:prstGeom prst="ellipse">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4" name="Oval 153"/>
            <p:cNvSpPr/>
            <p:nvPr/>
          </p:nvSpPr>
          <p:spPr>
            <a:xfrm>
              <a:off x="1184400" y="2634480"/>
              <a:ext cx="240480" cy="242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25" name="Line 186"/>
          <p:cNvSpPr/>
          <p:nvPr/>
        </p:nvSpPr>
        <p:spPr>
          <a:xfrm flipH="1">
            <a:off x="1847520" y="306864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26" name="Line 187"/>
          <p:cNvSpPr/>
          <p:nvPr/>
        </p:nvSpPr>
        <p:spPr>
          <a:xfrm flipH="1">
            <a:off x="1847520" y="414972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27" name="Line 188"/>
          <p:cNvSpPr/>
          <p:nvPr/>
        </p:nvSpPr>
        <p:spPr>
          <a:xfrm flipH="1">
            <a:off x="1847520" y="522936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728" name=""/>
          <p:cNvGrpSpPr/>
          <p:nvPr/>
        </p:nvGrpSpPr>
        <p:grpSpPr>
          <a:xfrm>
            <a:off x="911160" y="2932200"/>
            <a:ext cx="792360" cy="275760"/>
            <a:chOff x="911160" y="2932200"/>
            <a:chExt cx="792360" cy="275760"/>
          </a:xfrm>
        </p:grpSpPr>
        <p:sp>
          <p:nvSpPr>
            <p:cNvPr id="729" name="WordArt 190"/>
            <p:cNvSpPr txBox="1"/>
            <p:nvPr/>
          </p:nvSpPr>
          <p:spPr>
            <a:xfrm>
              <a:off x="1012320" y="2932200"/>
              <a:ext cx="59220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30" name="WordArt 191"/>
            <p:cNvSpPr txBox="1"/>
            <p:nvPr/>
          </p:nvSpPr>
          <p:spPr>
            <a:xfrm>
              <a:off x="911160" y="3120480"/>
              <a:ext cx="79236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731" name=""/>
          <p:cNvGrpSpPr/>
          <p:nvPr/>
        </p:nvGrpSpPr>
        <p:grpSpPr>
          <a:xfrm>
            <a:off x="911160" y="4011480"/>
            <a:ext cx="792360" cy="276120"/>
            <a:chOff x="911160" y="4011480"/>
            <a:chExt cx="792360" cy="276120"/>
          </a:xfrm>
        </p:grpSpPr>
        <p:sp>
          <p:nvSpPr>
            <p:cNvPr id="732" name="WordArt 193"/>
            <p:cNvSpPr txBox="1"/>
            <p:nvPr/>
          </p:nvSpPr>
          <p:spPr>
            <a:xfrm>
              <a:off x="1012320" y="4011480"/>
              <a:ext cx="59220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33" name="WordArt 194"/>
            <p:cNvSpPr txBox="1"/>
            <p:nvPr/>
          </p:nvSpPr>
          <p:spPr>
            <a:xfrm>
              <a:off x="911160" y="4200120"/>
              <a:ext cx="79236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734" name=""/>
          <p:cNvGrpSpPr/>
          <p:nvPr/>
        </p:nvGrpSpPr>
        <p:grpSpPr>
          <a:xfrm>
            <a:off x="911160" y="5092560"/>
            <a:ext cx="792360" cy="276120"/>
            <a:chOff x="911160" y="5092560"/>
            <a:chExt cx="792360" cy="276120"/>
          </a:xfrm>
        </p:grpSpPr>
        <p:sp>
          <p:nvSpPr>
            <p:cNvPr id="735" name="WordArt 196"/>
            <p:cNvSpPr txBox="1"/>
            <p:nvPr/>
          </p:nvSpPr>
          <p:spPr>
            <a:xfrm>
              <a:off x="1012320" y="5092560"/>
              <a:ext cx="59220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36" name="WordArt 197"/>
            <p:cNvSpPr txBox="1"/>
            <p:nvPr/>
          </p:nvSpPr>
          <p:spPr>
            <a:xfrm>
              <a:off x="911160" y="5281200"/>
              <a:ext cx="79236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737" name="WordArt 201"/>
          <p:cNvSpPr txBox="1"/>
          <p:nvPr/>
        </p:nvSpPr>
        <p:spPr>
          <a:xfrm>
            <a:off x="3314880" y="298764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738" name="WordArt 205"/>
          <p:cNvSpPr txBox="1"/>
          <p:nvPr/>
        </p:nvSpPr>
        <p:spPr>
          <a:xfrm>
            <a:off x="3313080" y="406728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739" name="WordArt 206"/>
          <p:cNvSpPr txBox="1"/>
          <p:nvPr/>
        </p:nvSpPr>
        <p:spPr>
          <a:xfrm>
            <a:off x="3311640" y="514836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740" name="AutoShape 208"/>
          <p:cNvSpPr/>
          <p:nvPr/>
        </p:nvSpPr>
        <p:spPr>
          <a:xfrm>
            <a:off x="2602080" y="1569960"/>
            <a:ext cx="5976720" cy="851040"/>
          </a:xfrm>
          <a:prstGeom prst="roundRect">
            <a:avLst>
              <a:gd name="adj" fmla="val 17352"/>
            </a:avLst>
          </a:prstGeom>
          <a:solidFill>
            <a:srgbClr val="ffffff"/>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41" name=""/>
          <p:cNvGrpSpPr/>
          <p:nvPr/>
        </p:nvGrpSpPr>
        <p:grpSpPr>
          <a:xfrm>
            <a:off x="4572000" y="1785960"/>
            <a:ext cx="2089080" cy="431640"/>
            <a:chOff x="4572000" y="1785960"/>
            <a:chExt cx="2089080" cy="431640"/>
          </a:xfrm>
        </p:grpSpPr>
        <p:sp>
          <p:nvSpPr>
            <p:cNvPr id="742" name="WordArt 210"/>
            <p:cNvSpPr txBox="1"/>
            <p:nvPr/>
          </p:nvSpPr>
          <p:spPr>
            <a:xfrm>
              <a:off x="4716360" y="178596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743" name="WordArt 211"/>
            <p:cNvSpPr txBox="1"/>
            <p:nvPr/>
          </p:nvSpPr>
          <p:spPr>
            <a:xfrm>
              <a:off x="4572000" y="208440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CLICK TO ADD CONTENTS !</a:t>
              </a:r>
              <a:endParaRPr b="1" lang="en-US" sz="800" spc="-1" strike="noStrike">
                <a:ln w="0">
                  <a:noFill/>
                </a:ln>
                <a:solidFill>
                  <a:srgbClr val="000000"/>
                </a:solidFill>
                <a:latin typeface="Arial"/>
                <a:ea typeface="Arial"/>
              </a:endParaRPr>
            </a:p>
          </p:txBody>
        </p:sp>
      </p:grpSp>
      <p:sp>
        <p:nvSpPr>
          <p:cNvPr id="744"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sp>
        <p:nvSpPr>
          <p:cNvPr id="746" name="Rectangle 20"/>
          <p:cNvSpPr/>
          <p:nvPr/>
        </p:nvSpPr>
        <p:spPr>
          <a:xfrm>
            <a:off x="784080" y="2602080"/>
            <a:ext cx="2376720" cy="2124000"/>
          </a:xfrm>
          <a:prstGeom prst="rect">
            <a:avLst/>
          </a:prstGeom>
          <a:solidFill>
            <a:srgbClr val="969696">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7" name="Oval 21"/>
          <p:cNvSpPr/>
          <p:nvPr/>
        </p:nvSpPr>
        <p:spPr>
          <a:xfrm>
            <a:off x="784080" y="1413000"/>
            <a:ext cx="2376720" cy="2376360"/>
          </a:xfrm>
          <a:prstGeom prst="ellipse">
            <a:avLst/>
          </a:prstGeom>
          <a:gradFill rotWithShape="0">
            <a:gsLst>
              <a:gs pos="0">
                <a:srgbClr val="74c7e3"/>
              </a:gs>
              <a:gs pos="100000">
                <a:srgbClr val="0099c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8" name="Freeform 22"/>
          <p:cNvSpPr/>
          <p:nvPr/>
        </p:nvSpPr>
        <p:spPr>
          <a:xfrm>
            <a:off x="779400" y="5022720"/>
            <a:ext cx="2386080" cy="932040"/>
          </a:xfrm>
          <a:custGeom>
            <a:avLst/>
            <a:gdLst>
              <a:gd name="textAreaLeft" fmla="*/ 0 w 2386080"/>
              <a:gd name="textAreaRight" fmla="*/ 2386440 w 2386080"/>
              <a:gd name="textAreaTop" fmla="*/ 0 h 932040"/>
              <a:gd name="textAreaBottom" fmla="*/ 932400 h 93204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41000d"/>
              </a:gs>
              <a:gs pos="100000">
                <a:srgbClr val="a5002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49" name="Freeform 23"/>
          <p:cNvSpPr/>
          <p:nvPr/>
        </p:nvSpPr>
        <p:spPr>
          <a:xfrm>
            <a:off x="779400" y="5022720"/>
            <a:ext cx="2386080" cy="621000"/>
          </a:xfrm>
          <a:custGeom>
            <a:avLst/>
            <a:gdLst>
              <a:gd name="textAreaLeft" fmla="*/ 0 w 2386080"/>
              <a:gd name="textAreaRight" fmla="*/ 2386440 w 2386080"/>
              <a:gd name="textAreaTop" fmla="*/ 0 h 621000"/>
              <a:gd name="textAreaBottom" fmla="*/ 621360 h 62100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50" name="Oval 24"/>
          <p:cNvSpPr/>
          <p:nvPr/>
        </p:nvSpPr>
        <p:spPr>
          <a:xfrm>
            <a:off x="892080" y="551016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1" name="Freeform 25"/>
          <p:cNvSpPr/>
          <p:nvPr/>
        </p:nvSpPr>
        <p:spPr>
          <a:xfrm>
            <a:off x="779400" y="4667400"/>
            <a:ext cx="2386080" cy="931680"/>
          </a:xfrm>
          <a:custGeom>
            <a:avLst/>
            <a:gdLst>
              <a:gd name="textAreaLeft" fmla="*/ 0 w 2386080"/>
              <a:gd name="textAreaRight" fmla="*/ 2386440 w 2386080"/>
              <a:gd name="textAreaTop" fmla="*/ 0 h 931680"/>
              <a:gd name="textAreaBottom" fmla="*/ 932040 h 93168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643c14"/>
              </a:gs>
              <a:gs pos="100000">
                <a:srgbClr val="ff993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52" name="Freeform 26"/>
          <p:cNvSpPr/>
          <p:nvPr/>
        </p:nvSpPr>
        <p:spPr>
          <a:xfrm>
            <a:off x="779400" y="4667400"/>
            <a:ext cx="2386080" cy="620640"/>
          </a:xfrm>
          <a:custGeom>
            <a:avLst/>
            <a:gdLst>
              <a:gd name="textAreaLeft" fmla="*/ 0 w 2386080"/>
              <a:gd name="textAreaRight" fmla="*/ 2386440 w 2386080"/>
              <a:gd name="textAreaTop" fmla="*/ 0 h 620640"/>
              <a:gd name="textAreaBottom" fmla="*/ 621000 h 62064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53" name="Oval 27"/>
          <p:cNvSpPr/>
          <p:nvPr/>
        </p:nvSpPr>
        <p:spPr>
          <a:xfrm>
            <a:off x="892080" y="515448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4" name="Freeform 28"/>
          <p:cNvSpPr/>
          <p:nvPr/>
        </p:nvSpPr>
        <p:spPr>
          <a:xfrm>
            <a:off x="779400" y="4309920"/>
            <a:ext cx="2386080" cy="932040"/>
          </a:xfrm>
          <a:custGeom>
            <a:avLst/>
            <a:gdLst>
              <a:gd name="textAreaLeft" fmla="*/ 0 w 2386080"/>
              <a:gd name="textAreaRight" fmla="*/ 2386440 w 2386080"/>
              <a:gd name="textAreaTop" fmla="*/ 0 h 932040"/>
              <a:gd name="textAreaBottom" fmla="*/ 932400 h 93204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285064"/>
              </a:gs>
              <a:gs pos="100000">
                <a:srgbClr val="66ccf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55" name="Freeform 29"/>
          <p:cNvSpPr/>
          <p:nvPr/>
        </p:nvSpPr>
        <p:spPr>
          <a:xfrm>
            <a:off x="779400" y="4309920"/>
            <a:ext cx="2386080" cy="621000"/>
          </a:xfrm>
          <a:custGeom>
            <a:avLst/>
            <a:gdLst>
              <a:gd name="textAreaLeft" fmla="*/ 0 w 2386080"/>
              <a:gd name="textAreaRight" fmla="*/ 2386440 w 2386080"/>
              <a:gd name="textAreaTop" fmla="*/ 0 h 621000"/>
              <a:gd name="textAreaBottom" fmla="*/ 621360 h 62100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56" name="Oval 30"/>
          <p:cNvSpPr/>
          <p:nvPr/>
        </p:nvSpPr>
        <p:spPr>
          <a:xfrm>
            <a:off x="892080" y="479736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7" name="Freeform 31"/>
          <p:cNvSpPr/>
          <p:nvPr/>
        </p:nvSpPr>
        <p:spPr>
          <a:xfrm rot="10800000">
            <a:off x="766440" y="4676400"/>
            <a:ext cx="2413080" cy="243000"/>
          </a:xfrm>
          <a:custGeom>
            <a:avLst/>
            <a:gdLst>
              <a:gd name="textAreaLeft" fmla="*/ 0 w 2413080"/>
              <a:gd name="textAreaRight" fmla="*/ 2413440 w 2413080"/>
              <a:gd name="textAreaTop" fmla="*/ 0 h 243000"/>
              <a:gd name="textAreaBottom" fmla="*/ 243360 h 2430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50196"/>
                </a:srgbClr>
              </a:gs>
              <a:gs pos="100000">
                <a:srgbClr val="767676">
                  <a:alpha val="0"/>
                </a:srgbClr>
              </a:gs>
            </a:gsLst>
            <a:lin ang="162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58" name="Arc 32"/>
          <p:cNvSpPr/>
          <p:nvPr/>
        </p:nvSpPr>
        <p:spPr>
          <a:xfrm>
            <a:off x="1973160" y="1413000"/>
            <a:ext cx="1187640" cy="1187280"/>
          </a:xfrm>
          <a:custGeom>
            <a:avLst/>
            <a:gdLst>
              <a:gd name="textAreaLeft" fmla="*/ 0 w 1187640"/>
              <a:gd name="textAreaRight" fmla="*/ 1188000 w 1187640"/>
              <a:gd name="textAreaTop" fmla="*/ 0 h 1187280"/>
              <a:gd name="textAreaBottom" fmla="*/ 1187280 h 1187280"/>
            </a:gdLst>
            <a:ahLst/>
            <a:rect l="textAreaLeft" t="textAreaTop" r="textAreaRight" b="textAreaBottom"/>
            <a:pathLst>
              <a:path fill="none" w="21601" h="21600">
                <a:moveTo>
                  <a:pt x="-1" y="0"/>
                </a:moveTo>
                <a:cubicBezTo>
                  <a:pt x="11929" y="0"/>
                  <a:pt x="21600" y="9670"/>
                  <a:pt x="21600" y="21600"/>
                </a:cubicBezTo>
              </a:path>
              <a:path stroke="0" w="21601" h="21600">
                <a:moveTo>
                  <a:pt x="-1" y="0"/>
                </a:moveTo>
                <a:cubicBezTo>
                  <a:pt x="11929" y="0"/>
                  <a:pt x="21600" y="9670"/>
                  <a:pt x="21600" y="21600"/>
                </a:cubicBezTo>
                <a:lnTo>
                  <a:pt x="0" y="21600"/>
                </a:lnTo>
                <a:lnTo>
                  <a:pt x="-1" y="0"/>
                </a:lnTo>
                <a:close/>
              </a:path>
            </a:pathLst>
          </a:custGeom>
          <a:gradFill rotWithShape="0">
            <a:gsLst>
              <a:gs pos="0">
                <a:srgbClr val="f9be6e"/>
              </a:gs>
              <a:gs pos="100000">
                <a:srgbClr val="f69d2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59" name="Arc 33"/>
          <p:cNvSpPr/>
          <p:nvPr/>
        </p:nvSpPr>
        <p:spPr>
          <a:xfrm>
            <a:off x="1973160" y="2552760"/>
            <a:ext cx="1187640" cy="654120"/>
          </a:xfrm>
          <a:custGeom>
            <a:avLst/>
            <a:gdLst>
              <a:gd name="textAreaLeft" fmla="*/ 0 w 1187640"/>
              <a:gd name="textAreaRight" fmla="*/ 1188000 w 1187640"/>
              <a:gd name="textAreaTop" fmla="*/ 0 h 654120"/>
              <a:gd name="textAreaBottom" fmla="*/ 654120 h 654120"/>
            </a:gdLst>
            <a:ahLst/>
            <a:rect l="textAreaLeft" t="textAreaTop" r="textAreaRight" b="textAreaBottom"/>
            <a:pathLst>
              <a:path fill="none" w="21600" h="11907">
                <a:moveTo>
                  <a:pt x="21580" y="-1"/>
                </a:moveTo>
                <a:cubicBezTo>
                  <a:pt x="21593" y="307"/>
                  <a:pt x="21600" y="614"/>
                  <a:pt x="21600" y="922"/>
                </a:cubicBezTo>
                <a:cubicBezTo>
                  <a:pt x="21600" y="4786"/>
                  <a:pt x="20563" y="8579"/>
                  <a:pt x="18598" y="11907"/>
                </a:cubicBezTo>
              </a:path>
              <a:path stroke="0" w="21600" h="11907">
                <a:moveTo>
                  <a:pt x="21580" y="-1"/>
                </a:moveTo>
                <a:cubicBezTo>
                  <a:pt x="21593" y="307"/>
                  <a:pt x="21600" y="614"/>
                  <a:pt x="21600" y="922"/>
                </a:cubicBezTo>
                <a:cubicBezTo>
                  <a:pt x="21600" y="4786"/>
                  <a:pt x="20563" y="8579"/>
                  <a:pt x="18598" y="11907"/>
                </a:cubicBezTo>
                <a:lnTo>
                  <a:pt x="0" y="922"/>
                </a:lnTo>
                <a:lnTo>
                  <a:pt x="21580" y="-1"/>
                </a:lnTo>
                <a:close/>
              </a:path>
            </a:pathLst>
          </a:custGeom>
          <a:gradFill rotWithShape="0">
            <a:gsLst>
              <a:gs pos="0">
                <a:srgbClr val="a50021"/>
              </a:gs>
              <a:gs pos="100000">
                <a:srgbClr val="87001b"/>
              </a:gs>
            </a:gsLst>
            <a:lin ang="5400000"/>
          </a:gradFill>
          <a:ln w="190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60" name="Oval 34"/>
          <p:cNvSpPr/>
          <p:nvPr/>
        </p:nvSpPr>
        <p:spPr>
          <a:xfrm>
            <a:off x="784080" y="1413000"/>
            <a:ext cx="2376720" cy="23763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1" name="Line 35"/>
          <p:cNvSpPr/>
          <p:nvPr/>
        </p:nvSpPr>
        <p:spPr>
          <a:xfrm flipV="1">
            <a:off x="784080" y="2565360"/>
            <a:ext cx="0" cy="20527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62" name="Line 36"/>
          <p:cNvSpPr/>
          <p:nvPr/>
        </p:nvSpPr>
        <p:spPr>
          <a:xfrm flipV="1">
            <a:off x="3160800" y="2565360"/>
            <a:ext cx="0" cy="20527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63" name="Freeform 37"/>
          <p:cNvSpPr/>
          <p:nvPr/>
        </p:nvSpPr>
        <p:spPr>
          <a:xfrm>
            <a:off x="892080" y="1461960"/>
            <a:ext cx="2160720" cy="779760"/>
          </a:xfrm>
          <a:custGeom>
            <a:avLst/>
            <a:gdLst>
              <a:gd name="textAreaLeft" fmla="*/ 0 w 2160720"/>
              <a:gd name="textAreaRight" fmla="*/ 2161080 w 2160720"/>
              <a:gd name="textAreaTop" fmla="*/ 0 h 779760"/>
              <a:gd name="textAreaBottom" fmla="*/ 780120 h 7797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64" name="WordArt 39"/>
          <p:cNvSpPr txBox="1"/>
          <p:nvPr/>
        </p:nvSpPr>
        <p:spPr>
          <a:xfrm>
            <a:off x="1216080" y="4941720"/>
            <a:ext cx="1511280" cy="217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Design Inspiration</a:t>
            </a:r>
            <a:endParaRPr b="0" lang="en-US" sz="800" spc="-1" strike="noStrike">
              <a:ln w="0">
                <a:noFill/>
              </a:ln>
              <a:solidFill>
                <a:srgbClr val="ffffff"/>
              </a:solidFill>
              <a:latin typeface="Arial Black"/>
              <a:ea typeface="Arial Black"/>
            </a:endParaRPr>
          </a:p>
        </p:txBody>
      </p:sp>
      <p:sp>
        <p:nvSpPr>
          <p:cNvPr id="765" name="WordArt 40"/>
          <p:cNvSpPr txBox="1"/>
          <p:nvPr/>
        </p:nvSpPr>
        <p:spPr>
          <a:xfrm>
            <a:off x="1287360" y="5302080"/>
            <a:ext cx="1368360" cy="217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Clarity &amp; Impact</a:t>
            </a:r>
            <a:endParaRPr b="0" lang="en-US" sz="800" spc="-1" strike="noStrike">
              <a:ln w="0">
                <a:noFill/>
              </a:ln>
              <a:solidFill>
                <a:srgbClr val="ffffff"/>
              </a:solidFill>
              <a:latin typeface="Arial Black"/>
              <a:ea typeface="Arial Black"/>
            </a:endParaRPr>
          </a:p>
        </p:txBody>
      </p:sp>
      <p:sp>
        <p:nvSpPr>
          <p:cNvPr id="766" name="WordArt 41"/>
          <p:cNvSpPr txBox="1"/>
          <p:nvPr/>
        </p:nvSpPr>
        <p:spPr>
          <a:xfrm>
            <a:off x="1287360" y="5661000"/>
            <a:ext cx="136836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Premium Design</a:t>
            </a:r>
            <a:endParaRPr b="0" lang="en-US" sz="800" spc="-1" strike="noStrike">
              <a:ln w="0">
                <a:noFill/>
              </a:ln>
              <a:solidFill>
                <a:srgbClr val="ffffff"/>
              </a:solidFill>
              <a:latin typeface="Arial Black"/>
              <a:ea typeface="Arial Black"/>
            </a:endParaRPr>
          </a:p>
        </p:txBody>
      </p:sp>
      <p:sp>
        <p:nvSpPr>
          <p:cNvPr id="767" name="Freeform 42"/>
          <p:cNvSpPr/>
          <p:nvPr/>
        </p:nvSpPr>
        <p:spPr>
          <a:xfrm>
            <a:off x="2511360" y="1521000"/>
            <a:ext cx="5654880" cy="576000"/>
          </a:xfrm>
          <a:custGeom>
            <a:avLst/>
            <a:gdLst>
              <a:gd name="textAreaLeft" fmla="*/ 0 w 5654880"/>
              <a:gd name="textAreaRight" fmla="*/ 5654880 w 5654880"/>
              <a:gd name="textAreaTop" fmla="*/ 0 h 576000"/>
              <a:gd name="textAreaBottom" fmla="*/ 576360 h 576000"/>
            </a:gdLst>
            <a:ahLst/>
            <a:rect l="textAreaLeft" t="textAreaTop" r="textAreaRight" b="textAreaBottom"/>
            <a:pathLst>
              <a:path w="3198" h="363">
                <a:moveTo>
                  <a:pt x="0" y="363"/>
                </a:moveTo>
                <a:lnTo>
                  <a:pt x="363" y="0"/>
                </a:lnTo>
                <a:lnTo>
                  <a:pt x="3198" y="0"/>
                </a:lnTo>
              </a:path>
            </a:pathLst>
          </a:custGeom>
          <a:noFill/>
          <a:ln w="25560">
            <a:solidFill>
              <a:srgbClr val="333333"/>
            </a:solidFill>
            <a:round/>
            <a:headEnd len="med" type="oval"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68" name="Line 43"/>
          <p:cNvSpPr/>
          <p:nvPr/>
        </p:nvSpPr>
        <p:spPr>
          <a:xfrm>
            <a:off x="2873520" y="2817720"/>
            <a:ext cx="5292720" cy="0"/>
          </a:xfrm>
          <a:prstGeom prst="line">
            <a:avLst/>
          </a:prstGeom>
          <a:ln w="25560">
            <a:solidFill>
              <a:srgbClr val="333333"/>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69" name="Freeform 44"/>
          <p:cNvSpPr/>
          <p:nvPr/>
        </p:nvSpPr>
        <p:spPr>
          <a:xfrm>
            <a:off x="2195640" y="3292560"/>
            <a:ext cx="5976720" cy="611280"/>
          </a:xfrm>
          <a:custGeom>
            <a:avLst/>
            <a:gdLst>
              <a:gd name="textAreaLeft" fmla="*/ 0 w 5976720"/>
              <a:gd name="textAreaRight" fmla="*/ 5977080 w 5976720"/>
              <a:gd name="textAreaTop" fmla="*/ 0 h 611280"/>
              <a:gd name="textAreaBottom" fmla="*/ 611280 h 611280"/>
            </a:gdLst>
            <a:ahLst/>
            <a:rect l="textAreaLeft" t="textAreaTop" r="textAreaRight" b="textAreaBottom"/>
            <a:pathLst>
              <a:path w="3356" h="385">
                <a:moveTo>
                  <a:pt x="0" y="0"/>
                </a:moveTo>
                <a:lnTo>
                  <a:pt x="385" y="385"/>
                </a:lnTo>
                <a:lnTo>
                  <a:pt x="3356" y="385"/>
                </a:lnTo>
              </a:path>
            </a:pathLst>
          </a:custGeom>
          <a:noFill/>
          <a:ln w="25560">
            <a:solidFill>
              <a:srgbClr val="333333"/>
            </a:solidFill>
            <a:round/>
            <a:headEnd len="med" type="oval"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70" name="Text Box 45"/>
          <p:cNvSpPr/>
          <p:nvPr/>
        </p:nvSpPr>
        <p:spPr>
          <a:xfrm>
            <a:off x="4932360" y="159372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Stylish templates can be</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a valuable aid to creative professionals</a:t>
            </a:r>
            <a:endParaRPr b="0" lang="en-US" sz="1000" spc="-1" strike="noStrike">
              <a:solidFill>
                <a:srgbClr val="000000"/>
              </a:solidFill>
              <a:latin typeface="Gulim"/>
            </a:endParaRPr>
          </a:p>
        </p:txBody>
      </p:sp>
      <p:sp>
        <p:nvSpPr>
          <p:cNvPr id="771" name="Text Box 46"/>
          <p:cNvSpPr/>
          <p:nvPr/>
        </p:nvSpPr>
        <p:spPr>
          <a:xfrm>
            <a:off x="4932360" y="239076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Enrich your powerpoint Presentations and</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 </a:t>
            </a:r>
            <a:r>
              <a:rPr b="0" lang="en-US" sz="1000" spc="-1" strike="noStrike">
                <a:solidFill>
                  <a:srgbClr val="333333"/>
                </a:solidFill>
                <a:latin typeface="Arial Black"/>
              </a:rPr>
              <a:t>captivate your viewing audience</a:t>
            </a:r>
            <a:endParaRPr b="0" lang="en-US" sz="1000" spc="-1" strike="noStrike">
              <a:solidFill>
                <a:srgbClr val="000000"/>
              </a:solidFill>
              <a:latin typeface="Gulim"/>
            </a:endParaRPr>
          </a:p>
        </p:txBody>
      </p:sp>
      <p:sp>
        <p:nvSpPr>
          <p:cNvPr id="772" name="Text Box 47"/>
          <p:cNvSpPr/>
          <p:nvPr/>
        </p:nvSpPr>
        <p:spPr>
          <a:xfrm>
            <a:off x="4932360" y="347184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Each work is featured with simplicity</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but supreme beauty</a:t>
            </a:r>
            <a:endParaRPr b="0" lang="en-US" sz="1000" spc="-1" strike="noStrike">
              <a:solidFill>
                <a:srgbClr val="000000"/>
              </a:solidFill>
              <a:latin typeface="Gulim"/>
            </a:endParaRPr>
          </a:p>
        </p:txBody>
      </p:sp>
      <p:grpSp>
        <p:nvGrpSpPr>
          <p:cNvPr id="773" name=""/>
          <p:cNvGrpSpPr/>
          <p:nvPr/>
        </p:nvGrpSpPr>
        <p:grpSpPr>
          <a:xfrm>
            <a:off x="3652920" y="4076640"/>
            <a:ext cx="4519440" cy="1800360"/>
            <a:chOff x="3652920" y="4076640"/>
            <a:chExt cx="4519440" cy="1800360"/>
          </a:xfrm>
        </p:grpSpPr>
        <p:sp>
          <p:nvSpPr>
            <p:cNvPr id="774" name="AutoShape 48"/>
            <p:cNvSpPr/>
            <p:nvPr/>
          </p:nvSpPr>
          <p:spPr>
            <a:xfrm>
              <a:off x="3652920" y="4076640"/>
              <a:ext cx="4464000" cy="1800360"/>
            </a:xfrm>
            <a:prstGeom prst="roundRect">
              <a:avLst>
                <a:gd name="adj" fmla="val 4171"/>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5" name="AutoShape 49"/>
            <p:cNvSpPr/>
            <p:nvPr/>
          </p:nvSpPr>
          <p:spPr>
            <a:xfrm>
              <a:off x="3772080" y="4284720"/>
              <a:ext cx="4209840" cy="395280"/>
            </a:xfrm>
            <a:prstGeom prst="roundRect">
              <a:avLst>
                <a:gd name="adj" fmla="val 50000"/>
              </a:avLst>
            </a:prstGeom>
            <a:solidFill>
              <a:srgbClr val="ffffff"/>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6" name="AutoShape 58"/>
            <p:cNvSpPr/>
            <p:nvPr/>
          </p:nvSpPr>
          <p:spPr>
            <a:xfrm>
              <a:off x="3772080" y="5013360"/>
              <a:ext cx="4209840" cy="395280"/>
            </a:xfrm>
            <a:prstGeom prst="roundRect">
              <a:avLst>
                <a:gd name="adj" fmla="val 50000"/>
              </a:avLst>
            </a:prstGeom>
            <a:solidFill>
              <a:srgbClr val="ffffff"/>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7" name="Text Box 38"/>
            <p:cNvSpPr/>
            <p:nvPr/>
          </p:nvSpPr>
          <p:spPr>
            <a:xfrm>
              <a:off x="3881520" y="5429160"/>
              <a:ext cx="4290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Catch The feel of Design in contemporary colors and styles.</a:t>
              </a:r>
              <a:endParaRPr b="0" lang="en-US" sz="1200" spc="-1" strike="noStrike">
                <a:solidFill>
                  <a:srgbClr val="000000"/>
                </a:solidFill>
                <a:latin typeface="Gulim"/>
              </a:endParaRPr>
            </a:p>
          </p:txBody>
        </p:sp>
        <p:sp>
          <p:nvSpPr>
            <p:cNvPr id="778" name="Rectangle 53"/>
            <p:cNvSpPr/>
            <p:nvPr/>
          </p:nvSpPr>
          <p:spPr>
            <a:xfrm>
              <a:off x="3871440" y="4668840"/>
              <a:ext cx="3230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Feel the touch of Design on the cutting edge.</a:t>
              </a:r>
              <a:endParaRPr b="0" lang="en-US" sz="1200" spc="-1" strike="noStrike">
                <a:solidFill>
                  <a:srgbClr val="000000"/>
                </a:solidFill>
                <a:latin typeface="Gulim"/>
              </a:endParaRPr>
            </a:p>
          </p:txBody>
        </p:sp>
        <p:sp>
          <p:nvSpPr>
            <p:cNvPr id="779" name="Rectangle 55"/>
            <p:cNvSpPr/>
            <p:nvPr/>
          </p:nvSpPr>
          <p:spPr>
            <a:xfrm>
              <a:off x="4078800" y="4292640"/>
              <a:ext cx="23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Creative Visual Aids!</a:t>
              </a:r>
              <a:endParaRPr b="0" lang="en-US" sz="1800" spc="-1" strike="noStrike">
                <a:solidFill>
                  <a:srgbClr val="000000"/>
                </a:solidFill>
                <a:latin typeface="Gulim"/>
              </a:endParaRPr>
            </a:p>
          </p:txBody>
        </p:sp>
        <p:sp>
          <p:nvSpPr>
            <p:cNvPr id="780" name="Rectangle 57"/>
            <p:cNvSpPr/>
            <p:nvPr/>
          </p:nvSpPr>
          <p:spPr>
            <a:xfrm>
              <a:off x="4133160" y="5045040"/>
              <a:ext cx="316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Pictures speak 1,000 words!</a:t>
              </a:r>
              <a:endParaRPr b="0" lang="en-US" sz="1800" spc="-1" strike="noStrike">
                <a:solidFill>
                  <a:srgbClr val="000000"/>
                </a:solidFill>
                <a:latin typeface="Gulim"/>
              </a:endParaRPr>
            </a:p>
          </p:txBody>
        </p:sp>
      </p:grpSp>
      <p:sp>
        <p:nvSpPr>
          <p:cNvPr id="781"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
        <p:nvSpPr>
          <p:cNvPr id="782" name=""/>
          <p:cNvSpPr/>
          <p:nvPr/>
        </p:nvSpPr>
        <p:spPr>
          <a:xfrm>
            <a:off x="1835280" y="1052640"/>
            <a:ext cx="532764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Gulim"/>
              </a:rPr>
              <a:t> </a:t>
            </a:r>
            <a:r>
              <a:rPr b="0" lang="ko-KR" sz="1600" spc="-1" strike="noStrike" u="sng">
                <a:solidFill>
                  <a:srgbClr val="009999"/>
                </a:solidFill>
                <a:uFillTx/>
                <a:latin typeface="Gulim"/>
                <a:hlinkClick r:id="rId2"/>
              </a:rPr>
              <a:t>免费ppt模板</a:t>
            </a:r>
            <a:r>
              <a:rPr b="0" lang="zh-CN" sz="1600" spc="-1" strike="noStrike">
                <a:solidFill>
                  <a:srgbClr val="000000"/>
                </a:solidFill>
                <a:latin typeface="Gulim"/>
              </a:rPr>
              <a:t> </a:t>
            </a:r>
            <a:r>
              <a:rPr b="0" lang="zh-CN" sz="1600" spc="-1" strike="noStrike">
                <a:solidFill>
                  <a:srgbClr val="000000"/>
                </a:solidFill>
                <a:latin typeface="Gulim"/>
              </a:rPr>
              <a:t>http://www.eeppt.com/moban/</a:t>
            </a:r>
            <a:endParaRPr b="0" lang="en-US" sz="1600" spc="-1" strike="noStrike">
              <a:solidFill>
                <a:srgbClr val="000000"/>
              </a:solidFill>
              <a:latin typeface="Gulim"/>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5cc8"/>
                </a:solidFill>
                <a:latin typeface="HY헤드라인M"/>
              </a:rPr>
              <a:t>Click To Type Slide Title</a:t>
            </a:r>
            <a:endParaRPr b="0" lang="en-US" sz="2600" spc="-1" strike="noStrike">
              <a:solidFill>
                <a:srgbClr val="005cc8"/>
              </a:solidFill>
              <a:latin typeface="HY헤드라인M"/>
            </a:endParaRPr>
          </a:p>
        </p:txBody>
      </p:sp>
      <p:sp>
        <p:nvSpPr>
          <p:cNvPr id="784" name="AutoShape 772"/>
          <p:cNvSpPr/>
          <p:nvPr/>
        </p:nvSpPr>
        <p:spPr>
          <a:xfrm>
            <a:off x="324000" y="378468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5" name="AutoShape 773"/>
          <p:cNvSpPr/>
          <p:nvPr/>
        </p:nvSpPr>
        <p:spPr>
          <a:xfrm>
            <a:off x="2038320" y="18129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6" name="AutoShape 774"/>
          <p:cNvSpPr/>
          <p:nvPr/>
        </p:nvSpPr>
        <p:spPr>
          <a:xfrm>
            <a:off x="2324160" y="1384200"/>
            <a:ext cx="2144520" cy="682560"/>
          </a:xfrm>
          <a:prstGeom prst="roundRect">
            <a:avLst>
              <a:gd name="adj" fmla="val 50000"/>
            </a:avLst>
          </a:prstGeom>
          <a:gradFill rotWithShape="0">
            <a:gsLst>
              <a:gs pos="0">
                <a:srgbClr val="f5e0cf"/>
              </a:gs>
              <a:gs pos="100000">
                <a:srgbClr val="a3958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7" name="AutoShape 775"/>
          <p:cNvSpPr/>
          <p:nvPr/>
        </p:nvSpPr>
        <p:spPr>
          <a:xfrm>
            <a:off x="2421000" y="1474920"/>
            <a:ext cx="1954080" cy="495000"/>
          </a:xfrm>
          <a:prstGeom prst="roundRect">
            <a:avLst>
              <a:gd name="adj" fmla="val 50000"/>
            </a:avLst>
          </a:prstGeom>
          <a:gradFill rotWithShape="0">
            <a:gsLst>
              <a:gs pos="0">
                <a:srgbClr val="f69d26"/>
              </a:gs>
              <a:gs pos="100000">
                <a:srgbClr val="ca811f"/>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8" name="AutoShape 776"/>
          <p:cNvSpPr/>
          <p:nvPr/>
        </p:nvSpPr>
        <p:spPr>
          <a:xfrm>
            <a:off x="4513320" y="18129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9" name="AutoShape 777"/>
          <p:cNvSpPr/>
          <p:nvPr/>
        </p:nvSpPr>
        <p:spPr>
          <a:xfrm>
            <a:off x="4657680" y="1384200"/>
            <a:ext cx="2092320" cy="682560"/>
          </a:xfrm>
          <a:prstGeom prst="roundRect">
            <a:avLst>
              <a:gd name="adj" fmla="val 50000"/>
            </a:avLst>
          </a:prstGeom>
          <a:gradFill rotWithShape="0">
            <a:gsLst>
              <a:gs pos="0">
                <a:srgbClr val="ffb3c1"/>
              </a:gs>
              <a:gs pos="100000">
                <a:srgbClr val="aa778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0" name="AutoShape 778"/>
          <p:cNvSpPr/>
          <p:nvPr/>
        </p:nvSpPr>
        <p:spPr>
          <a:xfrm>
            <a:off x="4753080" y="1474920"/>
            <a:ext cx="1903320" cy="495000"/>
          </a:xfrm>
          <a:prstGeom prst="roundRect">
            <a:avLst>
              <a:gd name="adj" fmla="val 50000"/>
            </a:avLst>
          </a:prstGeom>
          <a:gradFill rotWithShape="0">
            <a:gsLst>
              <a:gs pos="0">
                <a:srgbClr val="a50021"/>
              </a:gs>
              <a:gs pos="100000">
                <a:srgbClr val="87001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1" name="Oval 779"/>
          <p:cNvSpPr/>
          <p:nvPr/>
        </p:nvSpPr>
        <p:spPr>
          <a:xfrm>
            <a:off x="3132000" y="4606920"/>
            <a:ext cx="2820960" cy="1154160"/>
          </a:xfrm>
          <a:prstGeom prst="ellipse">
            <a:avLst/>
          </a:prstGeom>
          <a:gradFill rotWithShape="0">
            <a:gsLst>
              <a:gs pos="0">
                <a:srgbClr val="000000">
                  <a:alpha val="83137"/>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2" name="AutoShape 780"/>
          <p:cNvSpPr/>
          <p:nvPr/>
        </p:nvSpPr>
        <p:spPr>
          <a:xfrm>
            <a:off x="2038320" y="58863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3" name="AutoShape 781"/>
          <p:cNvSpPr/>
          <p:nvPr/>
        </p:nvSpPr>
        <p:spPr>
          <a:xfrm>
            <a:off x="2324160" y="5457960"/>
            <a:ext cx="2144520" cy="682560"/>
          </a:xfrm>
          <a:prstGeom prst="roundRect">
            <a:avLst>
              <a:gd name="adj" fmla="val 50000"/>
            </a:avLst>
          </a:prstGeom>
          <a:gradFill rotWithShape="0">
            <a:gsLst>
              <a:gs pos="0">
                <a:srgbClr val="ffb3c1"/>
              </a:gs>
              <a:gs pos="100000">
                <a:srgbClr val="aa778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4" name="AutoShape 782"/>
          <p:cNvSpPr/>
          <p:nvPr/>
        </p:nvSpPr>
        <p:spPr>
          <a:xfrm>
            <a:off x="2421000" y="5548320"/>
            <a:ext cx="1954080" cy="495360"/>
          </a:xfrm>
          <a:prstGeom prst="roundRect">
            <a:avLst>
              <a:gd name="adj" fmla="val 50000"/>
            </a:avLst>
          </a:prstGeom>
          <a:gradFill rotWithShape="0">
            <a:gsLst>
              <a:gs pos="0">
                <a:srgbClr val="a50021"/>
              </a:gs>
              <a:gs pos="100000">
                <a:srgbClr val="87001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5" name="AutoShape 783"/>
          <p:cNvSpPr/>
          <p:nvPr/>
        </p:nvSpPr>
        <p:spPr>
          <a:xfrm>
            <a:off x="4513320" y="58863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6" name="AutoShape 784"/>
          <p:cNvSpPr/>
          <p:nvPr/>
        </p:nvSpPr>
        <p:spPr>
          <a:xfrm>
            <a:off x="4657680" y="5457960"/>
            <a:ext cx="2092320" cy="682560"/>
          </a:xfrm>
          <a:prstGeom prst="roundRect">
            <a:avLst>
              <a:gd name="adj" fmla="val 50000"/>
            </a:avLst>
          </a:prstGeom>
          <a:gradFill rotWithShape="0">
            <a:gsLst>
              <a:gs pos="0">
                <a:srgbClr val="f5e0cf"/>
              </a:gs>
              <a:gs pos="100000">
                <a:srgbClr val="a3958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7" name="AutoShape 785"/>
          <p:cNvSpPr/>
          <p:nvPr/>
        </p:nvSpPr>
        <p:spPr>
          <a:xfrm>
            <a:off x="4753080" y="5548320"/>
            <a:ext cx="1903320" cy="495360"/>
          </a:xfrm>
          <a:prstGeom prst="roundRect">
            <a:avLst>
              <a:gd name="adj" fmla="val 50000"/>
            </a:avLst>
          </a:prstGeom>
          <a:gradFill rotWithShape="0">
            <a:gsLst>
              <a:gs pos="0">
                <a:srgbClr val="f69d26"/>
              </a:gs>
              <a:gs pos="100000">
                <a:srgbClr val="ca811f"/>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8" name="AutoShape 786"/>
          <p:cNvSpPr/>
          <p:nvPr/>
        </p:nvSpPr>
        <p:spPr>
          <a:xfrm>
            <a:off x="574560" y="3355920"/>
            <a:ext cx="2144880" cy="682560"/>
          </a:xfrm>
          <a:prstGeom prst="roundRect">
            <a:avLst>
              <a:gd name="adj" fmla="val 50000"/>
            </a:avLst>
          </a:prstGeom>
          <a:gradFill rotWithShape="0">
            <a:gsLst>
              <a:gs pos="0">
                <a:srgbClr val="ffb3c1"/>
              </a:gs>
              <a:gs pos="100000">
                <a:srgbClr val="aa778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9" name="AutoShape 787"/>
          <p:cNvSpPr/>
          <p:nvPr/>
        </p:nvSpPr>
        <p:spPr>
          <a:xfrm>
            <a:off x="671400" y="3446640"/>
            <a:ext cx="1954440" cy="495000"/>
          </a:xfrm>
          <a:prstGeom prst="roundRect">
            <a:avLst>
              <a:gd name="adj" fmla="val 50000"/>
            </a:avLst>
          </a:prstGeom>
          <a:gradFill rotWithShape="0">
            <a:gsLst>
              <a:gs pos="0">
                <a:srgbClr val="a50021"/>
              </a:gs>
              <a:gs pos="100000">
                <a:srgbClr val="87001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0" name="AutoShape 788"/>
          <p:cNvSpPr/>
          <p:nvPr/>
        </p:nvSpPr>
        <p:spPr>
          <a:xfrm>
            <a:off x="6264360" y="378468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1" name="AutoShape 789"/>
          <p:cNvSpPr/>
          <p:nvPr/>
        </p:nvSpPr>
        <p:spPr>
          <a:xfrm>
            <a:off x="6408720" y="3355920"/>
            <a:ext cx="2092320" cy="682560"/>
          </a:xfrm>
          <a:prstGeom prst="roundRect">
            <a:avLst>
              <a:gd name="adj" fmla="val 50000"/>
            </a:avLst>
          </a:prstGeom>
          <a:gradFill rotWithShape="0">
            <a:gsLst>
              <a:gs pos="0">
                <a:srgbClr val="ffb3c1"/>
              </a:gs>
              <a:gs pos="100000">
                <a:srgbClr val="aa778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2" name="AutoShape 790"/>
          <p:cNvSpPr/>
          <p:nvPr/>
        </p:nvSpPr>
        <p:spPr>
          <a:xfrm>
            <a:off x="6504120" y="3446640"/>
            <a:ext cx="1903320" cy="495000"/>
          </a:xfrm>
          <a:prstGeom prst="roundRect">
            <a:avLst>
              <a:gd name="adj" fmla="val 50000"/>
            </a:avLst>
          </a:prstGeom>
          <a:gradFill rotWithShape="0">
            <a:gsLst>
              <a:gs pos="0">
                <a:srgbClr val="a50021"/>
              </a:gs>
              <a:gs pos="100000">
                <a:srgbClr val="87001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3" name="AutoShape 791"/>
          <p:cNvSpPr/>
          <p:nvPr/>
        </p:nvSpPr>
        <p:spPr>
          <a:xfrm rot="10800000">
            <a:off x="2751120" y="3301560"/>
            <a:ext cx="719280" cy="863640"/>
          </a:xfrm>
          <a:prstGeom prst="rightArrow">
            <a:avLst>
              <a:gd name="adj1" fmla="val 50000"/>
              <a:gd name="adj2" fmla="val 46139"/>
            </a:avLst>
          </a:prstGeom>
          <a:gradFill rotWithShape="0">
            <a:gsLst>
              <a:gs pos="0">
                <a:srgbClr val="0099cc">
                  <a:alpha val="50196"/>
                </a:srgbClr>
              </a:gs>
              <a:gs pos="100000">
                <a:srgbClr val="00475e">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4" name="AutoShape 792"/>
          <p:cNvSpPr/>
          <p:nvPr/>
        </p:nvSpPr>
        <p:spPr>
          <a:xfrm>
            <a:off x="5638680" y="3301920"/>
            <a:ext cx="719280" cy="863640"/>
          </a:xfrm>
          <a:prstGeom prst="rightArrow">
            <a:avLst>
              <a:gd name="adj1" fmla="val 50000"/>
              <a:gd name="adj2" fmla="val 46139"/>
            </a:avLst>
          </a:prstGeom>
          <a:gradFill rotWithShape="0">
            <a:gsLst>
              <a:gs pos="0">
                <a:srgbClr val="0099cc">
                  <a:alpha val="50196"/>
                </a:srgbClr>
              </a:gs>
              <a:gs pos="100000">
                <a:srgbClr val="00475e">
                  <a:alpha val="0"/>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5" name="WordArt 793"/>
          <p:cNvSpPr txBox="1"/>
          <p:nvPr/>
        </p:nvSpPr>
        <p:spPr>
          <a:xfrm>
            <a:off x="887400" y="358920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806" name="WordArt 794"/>
          <p:cNvSpPr txBox="1"/>
          <p:nvPr/>
        </p:nvSpPr>
        <p:spPr>
          <a:xfrm>
            <a:off x="2614680" y="56991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807" name="WordArt 795"/>
          <p:cNvSpPr txBox="1"/>
          <p:nvPr/>
        </p:nvSpPr>
        <p:spPr>
          <a:xfrm>
            <a:off x="4919760" y="56991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808" name="WordArt 796"/>
          <p:cNvSpPr txBox="1"/>
          <p:nvPr/>
        </p:nvSpPr>
        <p:spPr>
          <a:xfrm>
            <a:off x="2614680" y="16002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809" name="WordArt 797"/>
          <p:cNvSpPr txBox="1"/>
          <p:nvPr/>
        </p:nvSpPr>
        <p:spPr>
          <a:xfrm>
            <a:off x="4919760" y="16002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810" name="WordArt 798"/>
          <p:cNvSpPr txBox="1"/>
          <p:nvPr/>
        </p:nvSpPr>
        <p:spPr>
          <a:xfrm>
            <a:off x="6647040" y="35892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811" name="Freeform 799"/>
          <p:cNvSpPr/>
          <p:nvPr/>
        </p:nvSpPr>
        <p:spPr>
          <a:xfrm rot="1800000">
            <a:off x="4716360" y="2165400"/>
            <a:ext cx="1073160" cy="762120"/>
          </a:xfrm>
          <a:custGeom>
            <a:avLst/>
            <a:gdLst>
              <a:gd name="textAreaLeft" fmla="*/ 0 w 1073160"/>
              <a:gd name="textAreaRight" fmla="*/ 1073520 w 1073160"/>
              <a:gd name="textAreaTop" fmla="*/ 0 h 762120"/>
              <a:gd name="textAreaBottom" fmla="*/ 762480 h 76212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099cc">
                  <a:alpha val="50196"/>
                </a:srgbClr>
              </a:gs>
              <a:gs pos="100000">
                <a:srgbClr val="00475e">
                  <a:alpha val="0"/>
                </a:srgbClr>
              </a:gs>
            </a:gsLst>
            <a:lin ang="36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12" name="Freeform 800"/>
          <p:cNvSpPr/>
          <p:nvPr/>
        </p:nvSpPr>
        <p:spPr>
          <a:xfrm rot="20700000">
            <a:off x="3348000" y="2108160"/>
            <a:ext cx="1073160" cy="762120"/>
          </a:xfrm>
          <a:custGeom>
            <a:avLst/>
            <a:gdLst>
              <a:gd name="textAreaLeft" fmla="*/ 0 w 1073160"/>
              <a:gd name="textAreaRight" fmla="*/ 1073520 w 1073160"/>
              <a:gd name="textAreaTop" fmla="*/ 0 h 762120"/>
              <a:gd name="textAreaBottom" fmla="*/ 762480 h 76212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099cc">
                  <a:alpha val="50196"/>
                </a:srgbClr>
              </a:gs>
              <a:gs pos="100000">
                <a:srgbClr val="00475e">
                  <a:alpha val="0"/>
                </a:srgbClr>
              </a:gs>
            </a:gsLst>
            <a:lin ang="63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13" name="Freeform 801"/>
          <p:cNvSpPr/>
          <p:nvPr/>
        </p:nvSpPr>
        <p:spPr>
          <a:xfrm rot="9000000">
            <a:off x="5002920" y="4613040"/>
            <a:ext cx="1073160" cy="761760"/>
          </a:xfrm>
          <a:custGeom>
            <a:avLst/>
            <a:gdLst>
              <a:gd name="textAreaLeft" fmla="*/ 0 w 1073160"/>
              <a:gd name="textAreaRight" fmla="*/ 1073520 w 1073160"/>
              <a:gd name="textAreaTop" fmla="*/ 0 h 761760"/>
              <a:gd name="textAreaBottom" fmla="*/ 762120 h 76176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099cc">
                  <a:alpha val="50196"/>
                </a:srgbClr>
              </a:gs>
              <a:gs pos="100000">
                <a:srgbClr val="00475e">
                  <a:alpha val="0"/>
                </a:srgbClr>
              </a:gs>
            </a:gsLst>
            <a:lin ang="180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14" name="Freeform 802"/>
          <p:cNvSpPr/>
          <p:nvPr/>
        </p:nvSpPr>
        <p:spPr>
          <a:xfrm rot="12600000">
            <a:off x="3002760" y="4613040"/>
            <a:ext cx="1073160" cy="761760"/>
          </a:xfrm>
          <a:custGeom>
            <a:avLst/>
            <a:gdLst>
              <a:gd name="textAreaLeft" fmla="*/ 0 w 1073160"/>
              <a:gd name="textAreaRight" fmla="*/ 1073520 w 1073160"/>
              <a:gd name="textAreaTop" fmla="*/ 0 h 761760"/>
              <a:gd name="textAreaBottom" fmla="*/ 762120 h 76176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099cc">
                  <a:alpha val="50196"/>
                </a:srgbClr>
              </a:gs>
              <a:gs pos="100000">
                <a:srgbClr val="00475e">
                  <a:alpha val="0"/>
                </a:srgbClr>
              </a:gs>
            </a:gsLst>
            <a:lin ang="14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15" name="Oval 803"/>
          <p:cNvSpPr/>
          <p:nvPr/>
        </p:nvSpPr>
        <p:spPr>
          <a:xfrm>
            <a:off x="3132000" y="2381400"/>
            <a:ext cx="2803680" cy="2817720"/>
          </a:xfrm>
          <a:prstGeom prst="ellipse">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816" name="Picture 804" descr="그림1"/>
          <p:cNvPicPr/>
          <p:nvPr/>
        </p:nvPicPr>
        <p:blipFill>
          <a:blip r:embed="rId2"/>
          <a:stretch/>
        </p:blipFill>
        <p:spPr>
          <a:xfrm>
            <a:off x="3122640" y="2371680"/>
            <a:ext cx="2819520" cy="2819520"/>
          </a:xfrm>
          <a:prstGeom prst="rect">
            <a:avLst/>
          </a:prstGeom>
          <a:ln w="0">
            <a:noFill/>
          </a:ln>
        </p:spPr>
      </p:pic>
      <p:sp>
        <p:nvSpPr>
          <p:cNvPr id="817" name="Oval 805"/>
          <p:cNvSpPr/>
          <p:nvPr/>
        </p:nvSpPr>
        <p:spPr>
          <a:xfrm>
            <a:off x="4276800" y="2413080"/>
            <a:ext cx="490320" cy="490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18" name=""/>
          <p:cNvGrpSpPr/>
          <p:nvPr/>
        </p:nvGrpSpPr>
        <p:grpSpPr>
          <a:xfrm>
            <a:off x="3695760" y="3230640"/>
            <a:ext cx="1655280" cy="1090080"/>
            <a:chOff x="3695760" y="3230640"/>
            <a:chExt cx="1655280" cy="1090080"/>
          </a:xfrm>
        </p:grpSpPr>
        <p:sp>
          <p:nvSpPr>
            <p:cNvPr id="819" name="WordArt 807"/>
            <p:cNvSpPr txBox="1"/>
            <p:nvPr/>
          </p:nvSpPr>
          <p:spPr>
            <a:xfrm>
              <a:off x="3907080" y="3230640"/>
              <a:ext cx="1236960" cy="36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20" name="WordArt 808"/>
            <p:cNvSpPr txBox="1"/>
            <p:nvPr/>
          </p:nvSpPr>
          <p:spPr>
            <a:xfrm>
              <a:off x="3695760" y="3700800"/>
              <a:ext cx="1655280" cy="61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sp>
        <p:nvSpPr>
          <p:cNvPr id="821"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PlaceHolder 1"/>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Gulim"/>
              </a:rPr>
              <a:t>How To Edit The Logo?</a:t>
            </a:r>
            <a:endParaRPr b="0" lang="en-US" sz="2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If you need to create a logo or design that you would like to include on every page, then you will need to custom tailor your presentation. This task can be easily done in SLIDE MASTER View.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o open the SLIDE MASTER, from the VIEW menu, select MASTER and from the sub-menu select SLIDE MASTER.</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he SLIDE MASTER View enables you to enter information that appears on every slide in your presentation.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       </a:t>
            </a:r>
            <a:r>
              <a:rPr b="0" lang="en-US" sz="1400" spc="-1" strike="noStrike">
                <a:solidFill>
                  <a:srgbClr val="000000"/>
                </a:solidFill>
                <a:latin typeface="Arial Black"/>
                <a:ea typeface="Gulim"/>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Each work is featured with simplicity but supreme beauty.</a:t>
            </a:r>
            <a:endParaRPr b="0" lang="en-US" sz="1400" spc="-1" strike="noStrike">
              <a:solidFill>
                <a:srgbClr val="000000"/>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0" name="PlaceHolder 2"/>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5cc8"/>
                </a:solidFill>
                <a:latin typeface="HY헤드라인M"/>
              </a:rPr>
              <a:t>Click To Type Slide Title</a:t>
            </a:r>
            <a:endParaRPr b="0" lang="en-US" sz="2600" spc="-1" strike="noStrike">
              <a:solidFill>
                <a:srgbClr val="005cc8"/>
              </a:solidFill>
              <a:latin typeface="HY헤드라인M"/>
            </a:endParaRPr>
          </a:p>
        </p:txBody>
      </p:sp>
      <p:sp>
        <p:nvSpPr>
          <p:cNvPr id="291"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sp>
        <p:nvSpPr>
          <p:cNvPr id="823" name="AutoShape 58"/>
          <p:cNvSpPr/>
          <p:nvPr/>
        </p:nvSpPr>
        <p:spPr>
          <a:xfrm>
            <a:off x="0" y="2367000"/>
            <a:ext cx="8532720" cy="1800360"/>
          </a:xfrm>
          <a:prstGeom prst="rightArrow">
            <a:avLst>
              <a:gd name="adj1" fmla="val 46843"/>
              <a:gd name="adj2" fmla="val 58278"/>
            </a:avLst>
          </a:prstGeom>
          <a:gradFill rotWithShape="0">
            <a:gsLst>
              <a:gs pos="0">
                <a:srgbClr val="f69d26"/>
              </a:gs>
              <a:gs pos="100000">
                <a:srgbClr val="ca811f"/>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4" name="WordArt 74"/>
          <p:cNvSpPr txBox="1"/>
          <p:nvPr/>
        </p:nvSpPr>
        <p:spPr>
          <a:xfrm>
            <a:off x="264960" y="3213000"/>
            <a:ext cx="86364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a50021"/>
                </a:solidFill>
                <a:latin typeface="Arial Black"/>
              </a:rPr>
              <a:t>HISTORY</a:t>
            </a:r>
            <a:endParaRPr b="0" lang="en-US" sz="1800" spc="-1" strike="noStrike">
              <a:ln w="0">
                <a:noFill/>
              </a:ln>
              <a:solidFill>
                <a:srgbClr val="a50021"/>
              </a:solidFill>
              <a:latin typeface="Arial Black"/>
              <a:ea typeface="Arial Black"/>
            </a:endParaRPr>
          </a:p>
        </p:txBody>
      </p:sp>
      <p:sp>
        <p:nvSpPr>
          <p:cNvPr id="825" name="WordArt 75"/>
          <p:cNvSpPr txBox="1"/>
          <p:nvPr/>
        </p:nvSpPr>
        <p:spPr>
          <a:xfrm>
            <a:off x="159696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1980</a:t>
            </a:r>
            <a:endParaRPr b="0" lang="en-US" sz="1800" spc="-1" strike="noStrike">
              <a:ln w="0">
                <a:noFill/>
              </a:ln>
              <a:solidFill>
                <a:srgbClr val="ffffff"/>
              </a:solidFill>
              <a:latin typeface="Arial Black"/>
              <a:ea typeface="Arial Black"/>
            </a:endParaRPr>
          </a:p>
        </p:txBody>
      </p:sp>
      <p:sp>
        <p:nvSpPr>
          <p:cNvPr id="826" name="WordArt 76"/>
          <p:cNvSpPr txBox="1"/>
          <p:nvPr/>
        </p:nvSpPr>
        <p:spPr>
          <a:xfrm>
            <a:off x="2749680" y="3174840"/>
            <a:ext cx="79200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1990</a:t>
            </a:r>
            <a:endParaRPr b="0" lang="en-US" sz="1800" spc="-1" strike="noStrike">
              <a:ln w="0">
                <a:noFill/>
              </a:ln>
              <a:solidFill>
                <a:srgbClr val="ffffff"/>
              </a:solidFill>
              <a:latin typeface="Arial Black"/>
              <a:ea typeface="Arial Black"/>
            </a:endParaRPr>
          </a:p>
        </p:txBody>
      </p:sp>
      <p:sp>
        <p:nvSpPr>
          <p:cNvPr id="827" name="WordArt 77"/>
          <p:cNvSpPr txBox="1"/>
          <p:nvPr/>
        </p:nvSpPr>
        <p:spPr>
          <a:xfrm>
            <a:off x="390204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2000</a:t>
            </a:r>
            <a:endParaRPr b="0" lang="en-US" sz="1800" spc="-1" strike="noStrike">
              <a:ln w="0">
                <a:noFill/>
              </a:ln>
              <a:solidFill>
                <a:srgbClr val="ffffff"/>
              </a:solidFill>
              <a:latin typeface="Arial Black"/>
              <a:ea typeface="Arial Black"/>
            </a:endParaRPr>
          </a:p>
        </p:txBody>
      </p:sp>
      <p:sp>
        <p:nvSpPr>
          <p:cNvPr id="828" name="WordArt 78"/>
          <p:cNvSpPr txBox="1"/>
          <p:nvPr/>
        </p:nvSpPr>
        <p:spPr>
          <a:xfrm>
            <a:off x="505296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2010</a:t>
            </a:r>
            <a:endParaRPr b="0" lang="en-US" sz="1800" spc="-1" strike="noStrike">
              <a:ln w="0">
                <a:noFill/>
              </a:ln>
              <a:solidFill>
                <a:srgbClr val="ffffff"/>
              </a:solidFill>
              <a:latin typeface="Arial Black"/>
              <a:ea typeface="Arial Black"/>
            </a:endParaRPr>
          </a:p>
        </p:txBody>
      </p:sp>
      <p:sp>
        <p:nvSpPr>
          <p:cNvPr id="829" name="WordArt 79"/>
          <p:cNvSpPr txBox="1"/>
          <p:nvPr/>
        </p:nvSpPr>
        <p:spPr>
          <a:xfrm>
            <a:off x="6205680" y="3174840"/>
            <a:ext cx="79200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2020</a:t>
            </a:r>
            <a:endParaRPr b="0" lang="en-US" sz="1800" spc="-1" strike="noStrike">
              <a:ln w="0">
                <a:noFill/>
              </a:ln>
              <a:solidFill>
                <a:srgbClr val="ffffff"/>
              </a:solidFill>
              <a:latin typeface="Arial Black"/>
              <a:ea typeface="Arial Black"/>
            </a:endParaRPr>
          </a:p>
        </p:txBody>
      </p:sp>
      <p:sp>
        <p:nvSpPr>
          <p:cNvPr id="830" name="Line 80"/>
          <p:cNvSpPr/>
          <p:nvPr/>
        </p:nvSpPr>
        <p:spPr>
          <a:xfrm flipV="1">
            <a:off x="199404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1" name="Line 81"/>
          <p:cNvSpPr/>
          <p:nvPr/>
        </p:nvSpPr>
        <p:spPr>
          <a:xfrm flipV="1">
            <a:off x="429732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2" name="Line 82"/>
          <p:cNvSpPr/>
          <p:nvPr/>
        </p:nvSpPr>
        <p:spPr>
          <a:xfrm flipV="1">
            <a:off x="660240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3" name="Line 83"/>
          <p:cNvSpPr/>
          <p:nvPr/>
        </p:nvSpPr>
        <p:spPr>
          <a:xfrm flipV="1">
            <a:off x="5450040" y="3609720"/>
            <a:ext cx="0" cy="1260360"/>
          </a:xfrm>
          <a:prstGeom prst="line">
            <a:avLst/>
          </a:prstGeom>
          <a:ln cap="rnd" w="19080">
            <a:solidFill>
              <a:srgbClr val="333333"/>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4" name="AutoShape 84"/>
          <p:cNvSpPr/>
          <p:nvPr/>
        </p:nvSpPr>
        <p:spPr>
          <a:xfrm>
            <a:off x="517680" y="3862440"/>
            <a:ext cx="2376360" cy="2176560"/>
          </a:xfrm>
          <a:prstGeom prst="roundRect">
            <a:avLst>
              <a:gd name="adj" fmla="val 5528"/>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5" name="Text Box 85"/>
          <p:cNvSpPr/>
          <p:nvPr/>
        </p:nvSpPr>
        <p:spPr>
          <a:xfrm>
            <a:off x="2028960" y="155736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 Appealing</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tivate your viewing audience - PowerPoint Templates &amp; Backgrounds, Sleek Diagram &amp; Charts For Your Presentation</a:t>
            </a:r>
            <a:endParaRPr b="0" lang="en-US" sz="1000" spc="-1" strike="noStrike">
              <a:solidFill>
                <a:srgbClr val="000000"/>
              </a:solidFill>
              <a:latin typeface="Gulim"/>
            </a:endParaRPr>
          </a:p>
        </p:txBody>
      </p:sp>
      <p:sp>
        <p:nvSpPr>
          <p:cNvPr id="836" name="Text Box 86"/>
          <p:cNvSpPr/>
          <p:nvPr/>
        </p:nvSpPr>
        <p:spPr>
          <a:xfrm>
            <a:off x="4334040" y="1557360"/>
            <a:ext cx="194436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ubtle Touch</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endy Design in contemporary colors and styles - PowerPoint Templates &amp; Backgrounds, PowerPoint Diagrams &amp; Charts for your Presentation</a:t>
            </a:r>
            <a:endParaRPr b="0" lang="en-US" sz="1000" spc="-1" strike="noStrike">
              <a:solidFill>
                <a:srgbClr val="000000"/>
              </a:solidFill>
              <a:latin typeface="Gulim"/>
            </a:endParaRPr>
          </a:p>
        </p:txBody>
      </p:sp>
      <p:sp>
        <p:nvSpPr>
          <p:cNvPr id="837" name="Text Box 87"/>
          <p:cNvSpPr/>
          <p:nvPr/>
        </p:nvSpPr>
        <p:spPr>
          <a:xfrm>
            <a:off x="6637320" y="1557360"/>
            <a:ext cx="1944720" cy="977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9d26"/>
                </a:solidFill>
                <a:latin typeface="Arial Black"/>
              </a:rPr>
              <a:t>Animation PowerPoint</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imation PowerPoint Templates &amp; Backgrounds for Your Impressive Presentation</a:t>
            </a:r>
            <a:endParaRPr b="0" lang="en-US" sz="1000" spc="-1" strike="noStrike">
              <a:solidFill>
                <a:srgbClr val="000000"/>
              </a:solidFill>
              <a:latin typeface="Gulim"/>
            </a:endParaRPr>
          </a:p>
        </p:txBody>
      </p:sp>
      <p:sp>
        <p:nvSpPr>
          <p:cNvPr id="838" name="Text Box 88"/>
          <p:cNvSpPr/>
          <p:nvPr/>
        </p:nvSpPr>
        <p:spPr>
          <a:xfrm>
            <a:off x="3181320" y="378936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Ready to Use</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mense visual appeal - Premade PowerPoint Templates, Professional quality templates in a couple of clicks away!</a:t>
            </a:r>
            <a:endParaRPr b="0" lang="en-US" sz="1000" spc="-1" strike="noStrike">
              <a:solidFill>
                <a:srgbClr val="000000"/>
              </a:solidFill>
              <a:latin typeface="Gulim"/>
            </a:endParaRPr>
          </a:p>
        </p:txBody>
      </p:sp>
      <p:sp>
        <p:nvSpPr>
          <p:cNvPr id="839" name="Text Box 89"/>
          <p:cNvSpPr/>
          <p:nvPr/>
        </p:nvSpPr>
        <p:spPr>
          <a:xfrm>
            <a:off x="5484960" y="3789360"/>
            <a:ext cx="1944720" cy="91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Diversity of Culture</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erience the diversity of arts and culture - predesigned PowerPoint Design Templates &amp; Diagrams and Layout Slides</a:t>
            </a:r>
            <a:endParaRPr b="0" lang="en-US" sz="1000" spc="-1" strike="noStrike">
              <a:solidFill>
                <a:srgbClr val="000000"/>
              </a:solidFill>
              <a:latin typeface="Gulim"/>
            </a:endParaRPr>
          </a:p>
        </p:txBody>
      </p:sp>
      <p:sp>
        <p:nvSpPr>
          <p:cNvPr id="840" name="WordArt 90"/>
          <p:cNvSpPr txBox="1"/>
          <p:nvPr/>
        </p:nvSpPr>
        <p:spPr>
          <a:xfrm>
            <a:off x="696960" y="4057560"/>
            <a:ext cx="504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1980</a:t>
            </a:r>
            <a:endParaRPr b="0" lang="en-US" sz="1800" spc="-1" strike="noStrike">
              <a:ln w="0">
                <a:noFill/>
              </a:ln>
              <a:solidFill>
                <a:srgbClr val="333333"/>
              </a:solidFill>
              <a:latin typeface="Arial Black"/>
              <a:ea typeface="Arial Black"/>
            </a:endParaRPr>
          </a:p>
        </p:txBody>
      </p:sp>
      <p:sp>
        <p:nvSpPr>
          <p:cNvPr id="841" name="WordArt 91"/>
          <p:cNvSpPr txBox="1"/>
          <p:nvPr/>
        </p:nvSpPr>
        <p:spPr>
          <a:xfrm>
            <a:off x="696960" y="4352760"/>
            <a:ext cx="504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1990</a:t>
            </a:r>
            <a:endParaRPr b="0" lang="en-US" sz="1800" spc="-1" strike="noStrike">
              <a:ln w="0">
                <a:noFill/>
              </a:ln>
              <a:solidFill>
                <a:srgbClr val="333333"/>
              </a:solidFill>
              <a:latin typeface="Arial Black"/>
              <a:ea typeface="Arial Black"/>
            </a:endParaRPr>
          </a:p>
        </p:txBody>
      </p:sp>
      <p:sp>
        <p:nvSpPr>
          <p:cNvPr id="842" name="WordArt 92"/>
          <p:cNvSpPr txBox="1"/>
          <p:nvPr/>
        </p:nvSpPr>
        <p:spPr>
          <a:xfrm>
            <a:off x="696960" y="46483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2000</a:t>
            </a:r>
            <a:endParaRPr b="0" lang="en-US" sz="1800" spc="-1" strike="noStrike">
              <a:ln w="0">
                <a:noFill/>
              </a:ln>
              <a:solidFill>
                <a:srgbClr val="333333"/>
              </a:solidFill>
              <a:latin typeface="Arial Black"/>
              <a:ea typeface="Arial Black"/>
            </a:endParaRPr>
          </a:p>
        </p:txBody>
      </p:sp>
      <p:sp>
        <p:nvSpPr>
          <p:cNvPr id="843" name="WordArt 93"/>
          <p:cNvSpPr txBox="1"/>
          <p:nvPr/>
        </p:nvSpPr>
        <p:spPr>
          <a:xfrm>
            <a:off x="696960" y="49435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2010</a:t>
            </a:r>
            <a:endParaRPr b="0" lang="en-US" sz="1800" spc="-1" strike="noStrike">
              <a:ln w="0">
                <a:noFill/>
              </a:ln>
              <a:solidFill>
                <a:srgbClr val="333333"/>
              </a:solidFill>
              <a:latin typeface="Arial Black"/>
              <a:ea typeface="Arial Black"/>
            </a:endParaRPr>
          </a:p>
        </p:txBody>
      </p:sp>
      <p:sp>
        <p:nvSpPr>
          <p:cNvPr id="844" name="WordArt 94"/>
          <p:cNvSpPr txBox="1"/>
          <p:nvPr/>
        </p:nvSpPr>
        <p:spPr>
          <a:xfrm>
            <a:off x="696960" y="52387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69d26"/>
                </a:solidFill>
                <a:latin typeface="Arial Black"/>
              </a:rPr>
              <a:t>2020</a:t>
            </a:r>
            <a:endParaRPr b="0" lang="en-US" sz="1800" spc="-1" strike="noStrike">
              <a:ln w="0">
                <a:noFill/>
              </a:ln>
              <a:solidFill>
                <a:srgbClr val="f69d26"/>
              </a:solidFill>
              <a:latin typeface="Arial Black"/>
              <a:ea typeface="Arial Black"/>
            </a:endParaRPr>
          </a:p>
        </p:txBody>
      </p:sp>
      <p:sp>
        <p:nvSpPr>
          <p:cNvPr id="845" name="Text Box 95"/>
          <p:cNvSpPr/>
          <p:nvPr/>
        </p:nvSpPr>
        <p:spPr>
          <a:xfrm>
            <a:off x="1238400" y="3981600"/>
            <a:ext cx="143964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Visual Appealing</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Ready to Use</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Subtle Touch</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Diversity of Culture</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Animation PowerPoint</a:t>
            </a:r>
            <a:endParaRPr b="0" lang="en-US" sz="1000" spc="-1" strike="noStrike">
              <a:solidFill>
                <a:srgbClr val="000000"/>
              </a:solidFill>
              <a:latin typeface="Gulim"/>
            </a:endParaRPr>
          </a:p>
        </p:txBody>
      </p:sp>
      <p:grpSp>
        <p:nvGrpSpPr>
          <p:cNvPr id="846" name=""/>
          <p:cNvGrpSpPr/>
          <p:nvPr/>
        </p:nvGrpSpPr>
        <p:grpSpPr>
          <a:xfrm>
            <a:off x="912960" y="5484960"/>
            <a:ext cx="71280" cy="358560"/>
            <a:chOff x="912960" y="5484960"/>
            <a:chExt cx="71280" cy="358560"/>
          </a:xfrm>
        </p:grpSpPr>
        <p:sp>
          <p:nvSpPr>
            <p:cNvPr id="847" name="Oval 96"/>
            <p:cNvSpPr/>
            <p:nvPr/>
          </p:nvSpPr>
          <p:spPr>
            <a:xfrm>
              <a:off x="912960" y="548496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8" name="Oval 97"/>
            <p:cNvSpPr/>
            <p:nvPr/>
          </p:nvSpPr>
          <p:spPr>
            <a:xfrm>
              <a:off x="912960" y="562788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9" name="Oval 98"/>
            <p:cNvSpPr/>
            <p:nvPr/>
          </p:nvSpPr>
          <p:spPr>
            <a:xfrm>
              <a:off x="912960" y="577224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50" name="Line 99"/>
          <p:cNvSpPr/>
          <p:nvPr/>
        </p:nvSpPr>
        <p:spPr>
          <a:xfrm flipV="1">
            <a:off x="3144960" y="3609720"/>
            <a:ext cx="0" cy="1260360"/>
          </a:xfrm>
          <a:prstGeom prst="line">
            <a:avLst/>
          </a:prstGeom>
          <a:ln cap="rnd" w="19080">
            <a:solidFill>
              <a:srgbClr val="333333"/>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51"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2" name="Line 410"/>
          <p:cNvSpPr/>
          <p:nvPr/>
        </p:nvSpPr>
        <p:spPr>
          <a:xfrm flipV="1">
            <a:off x="4606920" y="3282840"/>
            <a:ext cx="0" cy="1152720"/>
          </a:xfrm>
          <a:prstGeom prst="line">
            <a:avLst/>
          </a:prstGeom>
          <a:ln w="633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53" name="Freeform 411"/>
          <p:cNvSpPr/>
          <p:nvPr/>
        </p:nvSpPr>
        <p:spPr>
          <a:xfrm flipH="1">
            <a:off x="6588000" y="3282840"/>
            <a:ext cx="503280" cy="1295640"/>
          </a:xfrm>
          <a:custGeom>
            <a:avLst/>
            <a:gdLst>
              <a:gd name="textAreaLeft" fmla="*/ 360 w 503280"/>
              <a:gd name="textAreaRight" fmla="*/ 504000 w 503280"/>
              <a:gd name="textAreaTop" fmla="*/ 0 h 1295640"/>
              <a:gd name="textAreaBottom" fmla="*/ 1296000 h 1295640"/>
            </a:gdLst>
            <a:ahLst/>
            <a:rect l="textAreaLeft" t="textAreaTop" r="textAreaRight" b="textAreaBottom"/>
            <a:pathLst>
              <a:path w="318" h="816">
                <a:moveTo>
                  <a:pt x="318" y="816"/>
                </a:moveTo>
                <a:lnTo>
                  <a:pt x="0" y="816"/>
                </a:lnTo>
                <a:lnTo>
                  <a:pt x="0" y="0"/>
                </a:lnTo>
              </a:path>
            </a:pathLst>
          </a:custGeom>
          <a:noFill/>
          <a:ln w="63360">
            <a:solidFill>
              <a:srgbClr val="0099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54" name="Freeform 412"/>
          <p:cNvSpPr/>
          <p:nvPr/>
        </p:nvSpPr>
        <p:spPr>
          <a:xfrm>
            <a:off x="2050920" y="3282840"/>
            <a:ext cx="505080" cy="1295640"/>
          </a:xfrm>
          <a:custGeom>
            <a:avLst/>
            <a:gdLst>
              <a:gd name="textAreaLeft" fmla="*/ 0 w 505080"/>
              <a:gd name="textAreaRight" fmla="*/ 505440 w 505080"/>
              <a:gd name="textAreaTop" fmla="*/ 0 h 1295640"/>
              <a:gd name="textAreaBottom" fmla="*/ 1296000 h 1295640"/>
            </a:gdLst>
            <a:ahLst/>
            <a:rect l="textAreaLeft" t="textAreaTop" r="textAreaRight" b="textAreaBottom"/>
            <a:pathLst>
              <a:path w="318" h="816">
                <a:moveTo>
                  <a:pt x="318" y="816"/>
                </a:moveTo>
                <a:lnTo>
                  <a:pt x="0" y="816"/>
                </a:lnTo>
                <a:lnTo>
                  <a:pt x="0" y="0"/>
                </a:lnTo>
              </a:path>
            </a:pathLst>
          </a:custGeom>
          <a:noFill/>
          <a:ln w="63360">
            <a:solidFill>
              <a:srgbClr val="ff9933"/>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55" name="AutoShape 413"/>
          <p:cNvSpPr/>
          <p:nvPr/>
        </p:nvSpPr>
        <p:spPr>
          <a:xfrm>
            <a:off x="846000" y="1455840"/>
            <a:ext cx="7488360" cy="1785960"/>
          </a:xfrm>
          <a:prstGeom prst="roundRect">
            <a:avLst>
              <a:gd name="adj" fmla="val 12343"/>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6" name="AutoShape 414"/>
          <p:cNvSpPr/>
          <p:nvPr/>
        </p:nvSpPr>
        <p:spPr>
          <a:xfrm>
            <a:off x="932040" y="1577880"/>
            <a:ext cx="2382840" cy="1533600"/>
          </a:xfrm>
          <a:prstGeom prst="roundRect">
            <a:avLst>
              <a:gd name="adj" fmla="val 11417"/>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7" name="AutoShape 415"/>
          <p:cNvSpPr/>
          <p:nvPr/>
        </p:nvSpPr>
        <p:spPr>
          <a:xfrm>
            <a:off x="3398760" y="1577880"/>
            <a:ext cx="2382840" cy="1533600"/>
          </a:xfrm>
          <a:prstGeom prst="roundRect">
            <a:avLst>
              <a:gd name="adj" fmla="val 11417"/>
            </a:avLst>
          </a:prstGeom>
          <a:gradFill rotWithShape="0">
            <a:gsLst>
              <a:gs pos="0">
                <a:srgbClr val="a50021"/>
              </a:gs>
              <a:gs pos="100000">
                <a:srgbClr val="87001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8" name="AutoShape 416"/>
          <p:cNvSpPr/>
          <p:nvPr/>
        </p:nvSpPr>
        <p:spPr>
          <a:xfrm>
            <a:off x="5867280" y="1577880"/>
            <a:ext cx="2382840" cy="1533600"/>
          </a:xfrm>
          <a:prstGeom prst="roundRect">
            <a:avLst>
              <a:gd name="adj" fmla="val 11417"/>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59" name=""/>
          <p:cNvGrpSpPr/>
          <p:nvPr/>
        </p:nvGrpSpPr>
        <p:grpSpPr>
          <a:xfrm>
            <a:off x="3941640" y="1854360"/>
            <a:ext cx="1368360" cy="900720"/>
            <a:chOff x="3941640" y="1854360"/>
            <a:chExt cx="1368360" cy="900720"/>
          </a:xfrm>
        </p:grpSpPr>
        <p:sp>
          <p:nvSpPr>
            <p:cNvPr id="860" name="WordArt 418"/>
            <p:cNvSpPr txBox="1"/>
            <p:nvPr/>
          </p:nvSpPr>
          <p:spPr>
            <a:xfrm>
              <a:off x="4116240" y="1854360"/>
              <a:ext cx="102276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61" name="WordArt 419"/>
            <p:cNvSpPr txBox="1"/>
            <p:nvPr/>
          </p:nvSpPr>
          <p:spPr>
            <a:xfrm>
              <a:off x="3941640" y="2242800"/>
              <a:ext cx="136836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862" name=""/>
          <p:cNvGrpSpPr/>
          <p:nvPr/>
        </p:nvGrpSpPr>
        <p:grpSpPr>
          <a:xfrm>
            <a:off x="1420920" y="1854360"/>
            <a:ext cx="1368000" cy="900720"/>
            <a:chOff x="1420920" y="1854360"/>
            <a:chExt cx="1368000" cy="900720"/>
          </a:xfrm>
        </p:grpSpPr>
        <p:sp>
          <p:nvSpPr>
            <p:cNvPr id="863" name="WordArt 421"/>
            <p:cNvSpPr txBox="1"/>
            <p:nvPr/>
          </p:nvSpPr>
          <p:spPr>
            <a:xfrm>
              <a:off x="1595520" y="185436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64" name="WordArt 422"/>
            <p:cNvSpPr txBox="1"/>
            <p:nvPr/>
          </p:nvSpPr>
          <p:spPr>
            <a:xfrm>
              <a:off x="1420920" y="224280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865" name=""/>
          <p:cNvGrpSpPr/>
          <p:nvPr/>
        </p:nvGrpSpPr>
        <p:grpSpPr>
          <a:xfrm>
            <a:off x="6389640" y="1854360"/>
            <a:ext cx="1368000" cy="900720"/>
            <a:chOff x="6389640" y="1854360"/>
            <a:chExt cx="1368000" cy="900720"/>
          </a:xfrm>
        </p:grpSpPr>
        <p:sp>
          <p:nvSpPr>
            <p:cNvPr id="866" name="WordArt 424"/>
            <p:cNvSpPr txBox="1"/>
            <p:nvPr/>
          </p:nvSpPr>
          <p:spPr>
            <a:xfrm>
              <a:off x="6564240" y="185436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67" name="WordArt 425"/>
            <p:cNvSpPr txBox="1"/>
            <p:nvPr/>
          </p:nvSpPr>
          <p:spPr>
            <a:xfrm>
              <a:off x="6389640" y="224280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868" name=""/>
          <p:cNvGrpSpPr/>
          <p:nvPr/>
        </p:nvGrpSpPr>
        <p:grpSpPr>
          <a:xfrm>
            <a:off x="2340000" y="3697200"/>
            <a:ext cx="1794960" cy="1404720"/>
            <a:chOff x="2340000" y="3697200"/>
            <a:chExt cx="1794960" cy="1404720"/>
          </a:xfrm>
        </p:grpSpPr>
        <p:sp>
          <p:nvSpPr>
            <p:cNvPr id="869" name="AutoShape 427"/>
            <p:cNvSpPr/>
            <p:nvPr/>
          </p:nvSpPr>
          <p:spPr>
            <a:xfrm rot="10800000">
              <a:off x="2340000" y="3697200"/>
              <a:ext cx="1794960" cy="1404720"/>
            </a:xfrm>
            <a:prstGeom prst="hexagon">
              <a:avLst>
                <a:gd name="adj" fmla="val 31945"/>
                <a:gd name="vf" fmla="val 115470"/>
              </a:avLst>
            </a:prstGeom>
            <a:gradFill rotWithShape="0">
              <a:gsLst>
                <a:gs pos="0">
                  <a:srgbClr val="ff9933"/>
                </a:gs>
                <a:gs pos="50000">
                  <a:srgbClr val="d17d2a"/>
                </a:gs>
                <a:gs pos="100000">
                  <a:srgbClr val="ff9933"/>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0" name="AutoShape 428"/>
            <p:cNvSpPr/>
            <p:nvPr/>
          </p:nvSpPr>
          <p:spPr>
            <a:xfrm rot="10800000">
              <a:off x="2341800" y="3699000"/>
              <a:ext cx="1793160" cy="1402920"/>
            </a:xfrm>
            <a:prstGeom prst="hexagon">
              <a:avLst>
                <a:gd name="adj" fmla="val 31954"/>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71" name=""/>
          <p:cNvGrpSpPr/>
          <p:nvPr/>
        </p:nvGrpSpPr>
        <p:grpSpPr>
          <a:xfrm>
            <a:off x="5056200" y="3703680"/>
            <a:ext cx="1792080" cy="1399680"/>
            <a:chOff x="5056200" y="3703680"/>
            <a:chExt cx="1792080" cy="1399680"/>
          </a:xfrm>
        </p:grpSpPr>
        <p:sp>
          <p:nvSpPr>
            <p:cNvPr id="872" name="AutoShape 430"/>
            <p:cNvSpPr/>
            <p:nvPr/>
          </p:nvSpPr>
          <p:spPr>
            <a:xfrm rot="10800000">
              <a:off x="5056200" y="3703680"/>
              <a:ext cx="1792080" cy="1399680"/>
            </a:xfrm>
            <a:prstGeom prst="hexagon">
              <a:avLst>
                <a:gd name="adj" fmla="val 32009"/>
                <a:gd name="vf" fmla="val 115470"/>
              </a:avLst>
            </a:prstGeom>
            <a:gradFill rotWithShape="0">
              <a:gsLst>
                <a:gs pos="0">
                  <a:srgbClr val="0099cc"/>
                </a:gs>
                <a:gs pos="50000">
                  <a:srgbClr val="006b8e"/>
                </a:gs>
                <a:gs pos="100000">
                  <a:srgbClr val="0099cc"/>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3" name="AutoShape 431"/>
            <p:cNvSpPr/>
            <p:nvPr/>
          </p:nvSpPr>
          <p:spPr>
            <a:xfrm rot="10800000">
              <a:off x="5056200" y="3703680"/>
              <a:ext cx="1792080" cy="1399680"/>
            </a:xfrm>
            <a:prstGeom prst="hexagon">
              <a:avLst>
                <a:gd name="adj" fmla="val 32009"/>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74" name="AutoShape 432"/>
          <p:cNvSpPr/>
          <p:nvPr/>
        </p:nvSpPr>
        <p:spPr>
          <a:xfrm rot="10800000">
            <a:off x="3697200" y="4398480"/>
            <a:ext cx="1797120" cy="1405080"/>
          </a:xfrm>
          <a:prstGeom prst="hexagon">
            <a:avLst>
              <a:gd name="adj" fmla="val 31975"/>
              <a:gd name="vf" fmla="val 115470"/>
            </a:avLst>
          </a:prstGeom>
          <a:solidFill>
            <a:srgbClr val="a5002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5" name="AutoShape 433"/>
          <p:cNvSpPr/>
          <p:nvPr/>
        </p:nvSpPr>
        <p:spPr>
          <a:xfrm rot="10800000">
            <a:off x="3695400" y="4402080"/>
            <a:ext cx="1795320" cy="1403280"/>
          </a:xfrm>
          <a:prstGeom prst="hexagon">
            <a:avLst>
              <a:gd name="adj" fmla="val 31984"/>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6" name="WordArt 434"/>
          <p:cNvSpPr txBox="1"/>
          <p:nvPr/>
        </p:nvSpPr>
        <p:spPr>
          <a:xfrm>
            <a:off x="4172040" y="5011560"/>
            <a:ext cx="86652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77" name="WordArt 435"/>
          <p:cNvSpPr txBox="1"/>
          <p:nvPr/>
        </p:nvSpPr>
        <p:spPr>
          <a:xfrm>
            <a:off x="2805120" y="4290840"/>
            <a:ext cx="86688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78" name="WordArt 436"/>
          <p:cNvSpPr txBox="1"/>
          <p:nvPr/>
        </p:nvSpPr>
        <p:spPr>
          <a:xfrm>
            <a:off x="5541840" y="4290840"/>
            <a:ext cx="86688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79"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5cc8"/>
                </a:solidFill>
                <a:latin typeface="HY헤드라인M"/>
              </a:rPr>
              <a:t>Click To Type Slide Title</a:t>
            </a:r>
            <a:endParaRPr b="0" lang="en-US" sz="2600" spc="-1" strike="noStrike">
              <a:solidFill>
                <a:srgbClr val="005cc8"/>
              </a:solidFill>
              <a:latin typeface="HY헤드라인M"/>
            </a:endParaRPr>
          </a:p>
        </p:txBody>
      </p:sp>
      <p:sp>
        <p:nvSpPr>
          <p:cNvPr id="880"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881" name=""/>
          <p:cNvGrpSpPr/>
          <p:nvPr/>
        </p:nvGrpSpPr>
        <p:grpSpPr>
          <a:xfrm>
            <a:off x="607680" y="4950000"/>
            <a:ext cx="8280720" cy="808920"/>
            <a:chOff x="607680" y="4950000"/>
            <a:chExt cx="8280720" cy="808920"/>
          </a:xfrm>
        </p:grpSpPr>
        <p:sp>
          <p:nvSpPr>
            <p:cNvPr id="882" name="AutoShape 940"/>
            <p:cNvSpPr/>
            <p:nvPr/>
          </p:nvSpPr>
          <p:spPr>
            <a:xfrm rot="10800000">
              <a:off x="607680" y="4949640"/>
              <a:ext cx="8280360" cy="452160"/>
            </a:xfrm>
            <a:custGeom>
              <a:avLst/>
              <a:gdLst>
                <a:gd name="textAreaLeft" fmla="*/ 1012680 w 8280360"/>
                <a:gd name="textAreaRight" fmla="*/ 7267680 w 8280360"/>
                <a:gd name="textAreaTop" fmla="*/ 55440 h 452160"/>
                <a:gd name="textAreaBottom" fmla="*/ 396720 h 452160"/>
              </a:gdLst>
              <a:ahLst/>
              <a:rect l="textAreaLeft" t="textAreaTop" r="textAreaRight" b="textAreaBottom"/>
              <a:pathLst>
                <a:path w="21600" h="21600">
                  <a:moveTo>
                    <a:pt x="0" y="0"/>
                  </a:moveTo>
                  <a:lnTo>
                    <a:pt x="1686" y="21600"/>
                  </a:lnTo>
                  <a:lnTo>
                    <a:pt x="19914" y="21600"/>
                  </a:lnTo>
                  <a:lnTo>
                    <a:pt x="21600" y="0"/>
                  </a:lnTo>
                  <a:lnTo>
                    <a:pt x="0" y="0"/>
                  </a:lnTo>
                  <a:close/>
                </a:path>
              </a:pathLst>
            </a:cu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83" name="Rectangle 941"/>
            <p:cNvSpPr/>
            <p:nvPr/>
          </p:nvSpPr>
          <p:spPr>
            <a:xfrm>
              <a:off x="608040" y="5398920"/>
              <a:ext cx="8280360" cy="360000"/>
            </a:xfrm>
            <a:prstGeom prst="rect">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84"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pic>
        <p:nvPicPr>
          <p:cNvPr id="885" name="Object 939" descr=""/>
          <p:cNvPicPr/>
          <p:nvPr/>
        </p:nvPicPr>
        <p:blipFill>
          <a:blip r:embed="rId2"/>
          <a:stretch/>
        </p:blipFill>
        <p:spPr>
          <a:xfrm>
            <a:off x="108000" y="1052640"/>
            <a:ext cx="8712000" cy="4867200"/>
          </a:xfrm>
          <a:prstGeom prst="rect">
            <a:avLst/>
          </a:prstGeom>
          <a:ln w="0">
            <a:noFill/>
          </a:ln>
        </p:spPr>
      </p:pic>
      <p:sp>
        <p:nvSpPr>
          <p:cNvPr id="886" name="Text Box 15"/>
          <p:cNvSpPr/>
          <p:nvPr/>
        </p:nvSpPr>
        <p:spPr>
          <a:xfrm>
            <a:off x="4278600" y="6016680"/>
            <a:ext cx="35647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파워포인트</a:t>
            </a:r>
            <a:r>
              <a:rPr b="0" lang="en-US" sz="1200" spc="-1" strike="noStrike">
                <a:solidFill>
                  <a:srgbClr val="000000"/>
                </a:solidFill>
                <a:latin typeface="HY헤드라인M"/>
                <a:ea typeface="HY헤드라인M"/>
              </a:rPr>
              <a:t>2003</a:t>
            </a:r>
            <a:r>
              <a:rPr b="0" lang="ko-KR" sz="1200" spc="-1" strike="noStrike">
                <a:solidFill>
                  <a:srgbClr val="000000"/>
                </a:solidFill>
                <a:latin typeface="HY헤드라인M"/>
                <a:ea typeface="HY헤드라인M"/>
              </a:rPr>
              <a:t>에서 만든 막대그래프 입니다</a:t>
            </a:r>
            <a:r>
              <a:rPr b="0" lang="en-US" sz="1200" spc="-1" strike="noStrike">
                <a:solidFill>
                  <a:srgbClr val="000000"/>
                </a:solidFill>
                <a:latin typeface="HY헤드라인M"/>
                <a:ea typeface="HY헤드라인M"/>
              </a:rPr>
              <a:t>.</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더블클릭하시면 엑셀과 연동되어 데이터값을 입력하여 변형 할수 있습니다</a:t>
            </a:r>
            <a:r>
              <a:rPr b="0" lang="en-US" sz="1200" spc="-1" strike="noStrike">
                <a:solidFill>
                  <a:srgbClr val="000000"/>
                </a:solidFill>
                <a:latin typeface="HY헤드라인M"/>
                <a:ea typeface="HY헤드라인M"/>
              </a:rPr>
              <a:t>.</a:t>
            </a:r>
            <a:endParaRPr b="0" lang="en-US" sz="1200" spc="-1" strike="noStrike">
              <a:solidFill>
                <a:srgbClr val="000000"/>
              </a:solidFill>
              <a:latin typeface="Gulim"/>
            </a:endParaRPr>
          </a:p>
        </p:txBody>
      </p:sp>
      <p:sp>
        <p:nvSpPr>
          <p:cNvPr id="887"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888" name=""/>
          <p:cNvGrpSpPr/>
          <p:nvPr/>
        </p:nvGrpSpPr>
        <p:grpSpPr>
          <a:xfrm>
            <a:off x="4319640" y="981000"/>
            <a:ext cx="1955880" cy="1955880"/>
            <a:chOff x="4319640" y="981000"/>
            <a:chExt cx="1955880" cy="1955880"/>
          </a:xfrm>
        </p:grpSpPr>
        <p:sp>
          <p:nvSpPr>
            <p:cNvPr id="889" name="Freeform 76"/>
            <p:cNvSpPr/>
            <p:nvPr/>
          </p:nvSpPr>
          <p:spPr>
            <a:xfrm>
              <a:off x="5005440" y="1666800"/>
              <a:ext cx="584280" cy="584280"/>
            </a:xfrm>
            <a:custGeom>
              <a:avLst/>
              <a:gdLst/>
              <a:ahLst/>
              <a:rect l="l" t="t" r="r" b="b"/>
              <a:pathLst>
                <a:path w="368" h="368">
                  <a:moveTo>
                    <a:pt x="0" y="184"/>
                  </a:moveTo>
                  <a:lnTo>
                    <a:pt x="0" y="184"/>
                  </a:lnTo>
                  <a:lnTo>
                    <a:pt x="0" y="202"/>
                  </a:lnTo>
                  <a:lnTo>
                    <a:pt x="4" y="222"/>
                  </a:lnTo>
                  <a:lnTo>
                    <a:pt x="8" y="238"/>
                  </a:lnTo>
                  <a:lnTo>
                    <a:pt x="14" y="256"/>
                  </a:lnTo>
                  <a:lnTo>
                    <a:pt x="22" y="272"/>
                  </a:lnTo>
                  <a:lnTo>
                    <a:pt x="32" y="286"/>
                  </a:lnTo>
                  <a:lnTo>
                    <a:pt x="42" y="300"/>
                  </a:lnTo>
                  <a:lnTo>
                    <a:pt x="54" y="314"/>
                  </a:lnTo>
                  <a:lnTo>
                    <a:pt x="68" y="326"/>
                  </a:lnTo>
                  <a:lnTo>
                    <a:pt x="82" y="336"/>
                  </a:lnTo>
                  <a:lnTo>
                    <a:pt x="96" y="346"/>
                  </a:lnTo>
                  <a:lnTo>
                    <a:pt x="112" y="354"/>
                  </a:lnTo>
                  <a:lnTo>
                    <a:pt x="130" y="360"/>
                  </a:lnTo>
                  <a:lnTo>
                    <a:pt x="146" y="364"/>
                  </a:lnTo>
                  <a:lnTo>
                    <a:pt x="166" y="368"/>
                  </a:lnTo>
                  <a:lnTo>
                    <a:pt x="184" y="368"/>
                  </a:lnTo>
                  <a:lnTo>
                    <a:pt x="202" y="368"/>
                  </a:lnTo>
                  <a:lnTo>
                    <a:pt x="222" y="364"/>
                  </a:lnTo>
                  <a:lnTo>
                    <a:pt x="238" y="360"/>
                  </a:lnTo>
                  <a:lnTo>
                    <a:pt x="256" y="354"/>
                  </a:lnTo>
                  <a:lnTo>
                    <a:pt x="272" y="346"/>
                  </a:lnTo>
                  <a:lnTo>
                    <a:pt x="286" y="336"/>
                  </a:lnTo>
                  <a:lnTo>
                    <a:pt x="300" y="326"/>
                  </a:lnTo>
                  <a:lnTo>
                    <a:pt x="314" y="314"/>
                  </a:lnTo>
                  <a:lnTo>
                    <a:pt x="326" y="300"/>
                  </a:lnTo>
                  <a:lnTo>
                    <a:pt x="336" y="286"/>
                  </a:lnTo>
                  <a:lnTo>
                    <a:pt x="346" y="272"/>
                  </a:lnTo>
                  <a:lnTo>
                    <a:pt x="354" y="256"/>
                  </a:lnTo>
                  <a:lnTo>
                    <a:pt x="360" y="238"/>
                  </a:lnTo>
                  <a:lnTo>
                    <a:pt x="364" y="222"/>
                  </a:lnTo>
                  <a:lnTo>
                    <a:pt x="368" y="202"/>
                  </a:lnTo>
                  <a:lnTo>
                    <a:pt x="368" y="184"/>
                  </a:lnTo>
                  <a:lnTo>
                    <a:pt x="368" y="166"/>
                  </a:lnTo>
                  <a:lnTo>
                    <a:pt x="364" y="146"/>
                  </a:lnTo>
                  <a:lnTo>
                    <a:pt x="360" y="130"/>
                  </a:lnTo>
                  <a:lnTo>
                    <a:pt x="354" y="112"/>
                  </a:lnTo>
                  <a:lnTo>
                    <a:pt x="346" y="96"/>
                  </a:lnTo>
                  <a:lnTo>
                    <a:pt x="336" y="82"/>
                  </a:lnTo>
                  <a:lnTo>
                    <a:pt x="326" y="68"/>
                  </a:lnTo>
                  <a:lnTo>
                    <a:pt x="314" y="54"/>
                  </a:lnTo>
                  <a:lnTo>
                    <a:pt x="300" y="42"/>
                  </a:lnTo>
                  <a:lnTo>
                    <a:pt x="286" y="32"/>
                  </a:lnTo>
                  <a:lnTo>
                    <a:pt x="272" y="22"/>
                  </a:lnTo>
                  <a:lnTo>
                    <a:pt x="256" y="14"/>
                  </a:lnTo>
                  <a:lnTo>
                    <a:pt x="238" y="8"/>
                  </a:lnTo>
                  <a:lnTo>
                    <a:pt x="222" y="4"/>
                  </a:lnTo>
                  <a:lnTo>
                    <a:pt x="202" y="0"/>
                  </a:lnTo>
                  <a:lnTo>
                    <a:pt x="184" y="0"/>
                  </a:lnTo>
                  <a:lnTo>
                    <a:pt x="166" y="0"/>
                  </a:lnTo>
                  <a:lnTo>
                    <a:pt x="146" y="4"/>
                  </a:lnTo>
                  <a:lnTo>
                    <a:pt x="130" y="8"/>
                  </a:lnTo>
                  <a:lnTo>
                    <a:pt x="112" y="14"/>
                  </a:lnTo>
                  <a:lnTo>
                    <a:pt x="96" y="22"/>
                  </a:lnTo>
                  <a:lnTo>
                    <a:pt x="82" y="32"/>
                  </a:lnTo>
                  <a:lnTo>
                    <a:pt x="68" y="42"/>
                  </a:lnTo>
                  <a:lnTo>
                    <a:pt x="54" y="54"/>
                  </a:lnTo>
                  <a:lnTo>
                    <a:pt x="42" y="68"/>
                  </a:lnTo>
                  <a:lnTo>
                    <a:pt x="32" y="82"/>
                  </a:lnTo>
                  <a:lnTo>
                    <a:pt x="22" y="96"/>
                  </a:lnTo>
                  <a:lnTo>
                    <a:pt x="14" y="112"/>
                  </a:lnTo>
                  <a:lnTo>
                    <a:pt x="8" y="130"/>
                  </a:lnTo>
                  <a:lnTo>
                    <a:pt x="4" y="146"/>
                  </a:lnTo>
                  <a:lnTo>
                    <a:pt x="0" y="166"/>
                  </a:lnTo>
                  <a:lnTo>
                    <a:pt x="0" y="184"/>
                  </a:lnTo>
                  <a:close/>
                  <a:moveTo>
                    <a:pt x="80" y="184"/>
                  </a:moveTo>
                  <a:lnTo>
                    <a:pt x="80" y="184"/>
                  </a:lnTo>
                  <a:lnTo>
                    <a:pt x="82" y="164"/>
                  </a:lnTo>
                  <a:lnTo>
                    <a:pt x="88" y="144"/>
                  </a:lnTo>
                  <a:lnTo>
                    <a:pt x="98" y="126"/>
                  </a:lnTo>
                  <a:lnTo>
                    <a:pt x="110" y="110"/>
                  </a:lnTo>
                  <a:lnTo>
                    <a:pt x="126" y="98"/>
                  </a:lnTo>
                  <a:lnTo>
                    <a:pt x="144" y="88"/>
                  </a:lnTo>
                  <a:lnTo>
                    <a:pt x="164" y="82"/>
                  </a:lnTo>
                  <a:lnTo>
                    <a:pt x="184" y="80"/>
                  </a:lnTo>
                  <a:lnTo>
                    <a:pt x="204" y="82"/>
                  </a:lnTo>
                  <a:lnTo>
                    <a:pt x="224" y="88"/>
                  </a:lnTo>
                  <a:lnTo>
                    <a:pt x="242" y="98"/>
                  </a:lnTo>
                  <a:lnTo>
                    <a:pt x="258" y="110"/>
                  </a:lnTo>
                  <a:lnTo>
                    <a:pt x="270" y="126"/>
                  </a:lnTo>
                  <a:lnTo>
                    <a:pt x="280" y="144"/>
                  </a:lnTo>
                  <a:lnTo>
                    <a:pt x="286" y="164"/>
                  </a:lnTo>
                  <a:lnTo>
                    <a:pt x="288" y="184"/>
                  </a:lnTo>
                  <a:lnTo>
                    <a:pt x="286" y="204"/>
                  </a:lnTo>
                  <a:lnTo>
                    <a:pt x="280" y="224"/>
                  </a:lnTo>
                  <a:lnTo>
                    <a:pt x="270" y="242"/>
                  </a:lnTo>
                  <a:lnTo>
                    <a:pt x="258" y="258"/>
                  </a:lnTo>
                  <a:lnTo>
                    <a:pt x="242" y="270"/>
                  </a:lnTo>
                  <a:lnTo>
                    <a:pt x="224" y="280"/>
                  </a:lnTo>
                  <a:lnTo>
                    <a:pt x="204" y="286"/>
                  </a:lnTo>
                  <a:lnTo>
                    <a:pt x="184" y="288"/>
                  </a:lnTo>
                  <a:lnTo>
                    <a:pt x="164" y="286"/>
                  </a:lnTo>
                  <a:lnTo>
                    <a:pt x="144" y="280"/>
                  </a:lnTo>
                  <a:lnTo>
                    <a:pt x="126" y="270"/>
                  </a:lnTo>
                  <a:lnTo>
                    <a:pt x="110" y="258"/>
                  </a:lnTo>
                  <a:lnTo>
                    <a:pt x="98" y="242"/>
                  </a:lnTo>
                  <a:lnTo>
                    <a:pt x="88" y="224"/>
                  </a:lnTo>
                  <a:lnTo>
                    <a:pt x="82" y="204"/>
                  </a:lnTo>
                  <a:lnTo>
                    <a:pt x="80" y="184"/>
                  </a:lnTo>
                  <a:close/>
                </a:path>
              </a:pathLst>
            </a:custGeom>
            <a:solidFill>
              <a:srgbClr val="c0c0c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0" name="Freeform 77"/>
            <p:cNvSpPr/>
            <p:nvPr/>
          </p:nvSpPr>
          <p:spPr>
            <a:xfrm>
              <a:off x="4776840" y="1438200"/>
              <a:ext cx="1041480" cy="1041480"/>
            </a:xfrm>
            <a:custGeom>
              <a:avLst/>
              <a:gdLst/>
              <a:ahLst/>
              <a:rect l="l" t="t" r="r" b="b"/>
              <a:pathLst>
                <a:path w="656" h="656">
                  <a:moveTo>
                    <a:pt x="0" y="328"/>
                  </a:moveTo>
                  <a:lnTo>
                    <a:pt x="0" y="328"/>
                  </a:lnTo>
                  <a:lnTo>
                    <a:pt x="2" y="362"/>
                  </a:lnTo>
                  <a:lnTo>
                    <a:pt x="6" y="394"/>
                  </a:lnTo>
                  <a:lnTo>
                    <a:pt x="14" y="426"/>
                  </a:lnTo>
                  <a:lnTo>
                    <a:pt x="26" y="456"/>
                  </a:lnTo>
                  <a:lnTo>
                    <a:pt x="40" y="484"/>
                  </a:lnTo>
                  <a:lnTo>
                    <a:pt x="56" y="512"/>
                  </a:lnTo>
                  <a:lnTo>
                    <a:pt x="74" y="536"/>
                  </a:lnTo>
                  <a:lnTo>
                    <a:pt x="96" y="560"/>
                  </a:lnTo>
                  <a:lnTo>
                    <a:pt x="120" y="582"/>
                  </a:lnTo>
                  <a:lnTo>
                    <a:pt x="144" y="600"/>
                  </a:lnTo>
                  <a:lnTo>
                    <a:pt x="172" y="616"/>
                  </a:lnTo>
                  <a:lnTo>
                    <a:pt x="200" y="630"/>
                  </a:lnTo>
                  <a:lnTo>
                    <a:pt x="230" y="642"/>
                  </a:lnTo>
                  <a:lnTo>
                    <a:pt x="262" y="650"/>
                  </a:lnTo>
                  <a:lnTo>
                    <a:pt x="294" y="654"/>
                  </a:lnTo>
                  <a:lnTo>
                    <a:pt x="328" y="656"/>
                  </a:lnTo>
                  <a:lnTo>
                    <a:pt x="362" y="654"/>
                  </a:lnTo>
                  <a:lnTo>
                    <a:pt x="394" y="650"/>
                  </a:lnTo>
                  <a:lnTo>
                    <a:pt x="426" y="642"/>
                  </a:lnTo>
                  <a:lnTo>
                    <a:pt x="456" y="630"/>
                  </a:lnTo>
                  <a:lnTo>
                    <a:pt x="484" y="616"/>
                  </a:lnTo>
                  <a:lnTo>
                    <a:pt x="512" y="600"/>
                  </a:lnTo>
                  <a:lnTo>
                    <a:pt x="536" y="582"/>
                  </a:lnTo>
                  <a:lnTo>
                    <a:pt x="560" y="560"/>
                  </a:lnTo>
                  <a:lnTo>
                    <a:pt x="582" y="536"/>
                  </a:lnTo>
                  <a:lnTo>
                    <a:pt x="600" y="512"/>
                  </a:lnTo>
                  <a:lnTo>
                    <a:pt x="616" y="484"/>
                  </a:lnTo>
                  <a:lnTo>
                    <a:pt x="630" y="456"/>
                  </a:lnTo>
                  <a:lnTo>
                    <a:pt x="642" y="426"/>
                  </a:lnTo>
                  <a:lnTo>
                    <a:pt x="650" y="394"/>
                  </a:lnTo>
                  <a:lnTo>
                    <a:pt x="654" y="362"/>
                  </a:lnTo>
                  <a:lnTo>
                    <a:pt x="656" y="328"/>
                  </a:lnTo>
                  <a:lnTo>
                    <a:pt x="654" y="294"/>
                  </a:lnTo>
                  <a:lnTo>
                    <a:pt x="650" y="262"/>
                  </a:lnTo>
                  <a:lnTo>
                    <a:pt x="642" y="230"/>
                  </a:lnTo>
                  <a:lnTo>
                    <a:pt x="630" y="200"/>
                  </a:lnTo>
                  <a:lnTo>
                    <a:pt x="616" y="172"/>
                  </a:lnTo>
                  <a:lnTo>
                    <a:pt x="600" y="144"/>
                  </a:lnTo>
                  <a:lnTo>
                    <a:pt x="582" y="120"/>
                  </a:lnTo>
                  <a:lnTo>
                    <a:pt x="560" y="96"/>
                  </a:lnTo>
                  <a:lnTo>
                    <a:pt x="536" y="74"/>
                  </a:lnTo>
                  <a:lnTo>
                    <a:pt x="512" y="56"/>
                  </a:lnTo>
                  <a:lnTo>
                    <a:pt x="484" y="40"/>
                  </a:lnTo>
                  <a:lnTo>
                    <a:pt x="456" y="26"/>
                  </a:lnTo>
                  <a:lnTo>
                    <a:pt x="426" y="14"/>
                  </a:lnTo>
                  <a:lnTo>
                    <a:pt x="394" y="6"/>
                  </a:lnTo>
                  <a:lnTo>
                    <a:pt x="362" y="2"/>
                  </a:lnTo>
                  <a:lnTo>
                    <a:pt x="328" y="0"/>
                  </a:lnTo>
                  <a:lnTo>
                    <a:pt x="294" y="2"/>
                  </a:lnTo>
                  <a:lnTo>
                    <a:pt x="262" y="6"/>
                  </a:lnTo>
                  <a:lnTo>
                    <a:pt x="230" y="14"/>
                  </a:lnTo>
                  <a:lnTo>
                    <a:pt x="200" y="26"/>
                  </a:lnTo>
                  <a:lnTo>
                    <a:pt x="172" y="40"/>
                  </a:lnTo>
                  <a:lnTo>
                    <a:pt x="144" y="56"/>
                  </a:lnTo>
                  <a:lnTo>
                    <a:pt x="120" y="74"/>
                  </a:lnTo>
                  <a:lnTo>
                    <a:pt x="96" y="96"/>
                  </a:lnTo>
                  <a:lnTo>
                    <a:pt x="74" y="120"/>
                  </a:lnTo>
                  <a:lnTo>
                    <a:pt x="56" y="144"/>
                  </a:lnTo>
                  <a:lnTo>
                    <a:pt x="40" y="172"/>
                  </a:lnTo>
                  <a:lnTo>
                    <a:pt x="26" y="200"/>
                  </a:lnTo>
                  <a:lnTo>
                    <a:pt x="14" y="230"/>
                  </a:lnTo>
                  <a:lnTo>
                    <a:pt x="6" y="262"/>
                  </a:lnTo>
                  <a:lnTo>
                    <a:pt x="2" y="294"/>
                  </a:lnTo>
                  <a:lnTo>
                    <a:pt x="0" y="328"/>
                  </a:lnTo>
                  <a:close/>
                  <a:moveTo>
                    <a:pt x="80" y="328"/>
                  </a:moveTo>
                  <a:lnTo>
                    <a:pt x="80" y="328"/>
                  </a:lnTo>
                  <a:lnTo>
                    <a:pt x="82" y="302"/>
                  </a:lnTo>
                  <a:lnTo>
                    <a:pt x="86" y="278"/>
                  </a:lnTo>
                  <a:lnTo>
                    <a:pt x="92" y="254"/>
                  </a:lnTo>
                  <a:lnTo>
                    <a:pt x="100" y="232"/>
                  </a:lnTo>
                  <a:lnTo>
                    <a:pt x="110" y="210"/>
                  </a:lnTo>
                  <a:lnTo>
                    <a:pt x="122" y="190"/>
                  </a:lnTo>
                  <a:lnTo>
                    <a:pt x="136" y="170"/>
                  </a:lnTo>
                  <a:lnTo>
                    <a:pt x="152" y="152"/>
                  </a:lnTo>
                  <a:lnTo>
                    <a:pt x="170" y="136"/>
                  </a:lnTo>
                  <a:lnTo>
                    <a:pt x="190" y="122"/>
                  </a:lnTo>
                  <a:lnTo>
                    <a:pt x="210" y="110"/>
                  </a:lnTo>
                  <a:lnTo>
                    <a:pt x="232" y="100"/>
                  </a:lnTo>
                  <a:lnTo>
                    <a:pt x="254" y="92"/>
                  </a:lnTo>
                  <a:lnTo>
                    <a:pt x="278" y="86"/>
                  </a:lnTo>
                  <a:lnTo>
                    <a:pt x="302" y="82"/>
                  </a:lnTo>
                  <a:lnTo>
                    <a:pt x="328" y="80"/>
                  </a:lnTo>
                  <a:lnTo>
                    <a:pt x="354" y="82"/>
                  </a:lnTo>
                  <a:lnTo>
                    <a:pt x="378" y="86"/>
                  </a:lnTo>
                  <a:lnTo>
                    <a:pt x="402" y="92"/>
                  </a:lnTo>
                  <a:lnTo>
                    <a:pt x="424" y="100"/>
                  </a:lnTo>
                  <a:lnTo>
                    <a:pt x="446" y="110"/>
                  </a:lnTo>
                  <a:lnTo>
                    <a:pt x="466" y="122"/>
                  </a:lnTo>
                  <a:lnTo>
                    <a:pt x="486" y="136"/>
                  </a:lnTo>
                  <a:lnTo>
                    <a:pt x="504" y="152"/>
                  </a:lnTo>
                  <a:lnTo>
                    <a:pt x="520" y="170"/>
                  </a:lnTo>
                  <a:lnTo>
                    <a:pt x="534" y="190"/>
                  </a:lnTo>
                  <a:lnTo>
                    <a:pt x="546" y="210"/>
                  </a:lnTo>
                  <a:lnTo>
                    <a:pt x="556" y="232"/>
                  </a:lnTo>
                  <a:lnTo>
                    <a:pt x="564" y="254"/>
                  </a:lnTo>
                  <a:lnTo>
                    <a:pt x="570" y="278"/>
                  </a:lnTo>
                  <a:lnTo>
                    <a:pt x="574" y="302"/>
                  </a:lnTo>
                  <a:lnTo>
                    <a:pt x="576" y="328"/>
                  </a:lnTo>
                  <a:lnTo>
                    <a:pt x="574" y="354"/>
                  </a:lnTo>
                  <a:lnTo>
                    <a:pt x="570" y="378"/>
                  </a:lnTo>
                  <a:lnTo>
                    <a:pt x="564" y="402"/>
                  </a:lnTo>
                  <a:lnTo>
                    <a:pt x="556" y="424"/>
                  </a:lnTo>
                  <a:lnTo>
                    <a:pt x="546" y="446"/>
                  </a:lnTo>
                  <a:lnTo>
                    <a:pt x="534" y="466"/>
                  </a:lnTo>
                  <a:lnTo>
                    <a:pt x="520" y="486"/>
                  </a:lnTo>
                  <a:lnTo>
                    <a:pt x="504" y="504"/>
                  </a:lnTo>
                  <a:lnTo>
                    <a:pt x="486" y="520"/>
                  </a:lnTo>
                  <a:lnTo>
                    <a:pt x="466" y="534"/>
                  </a:lnTo>
                  <a:lnTo>
                    <a:pt x="446" y="546"/>
                  </a:lnTo>
                  <a:lnTo>
                    <a:pt x="424" y="556"/>
                  </a:lnTo>
                  <a:lnTo>
                    <a:pt x="402" y="564"/>
                  </a:lnTo>
                  <a:lnTo>
                    <a:pt x="378" y="570"/>
                  </a:lnTo>
                  <a:lnTo>
                    <a:pt x="354" y="574"/>
                  </a:lnTo>
                  <a:lnTo>
                    <a:pt x="328" y="576"/>
                  </a:lnTo>
                  <a:lnTo>
                    <a:pt x="302" y="574"/>
                  </a:lnTo>
                  <a:lnTo>
                    <a:pt x="278" y="570"/>
                  </a:lnTo>
                  <a:lnTo>
                    <a:pt x="254" y="564"/>
                  </a:lnTo>
                  <a:lnTo>
                    <a:pt x="232" y="556"/>
                  </a:lnTo>
                  <a:lnTo>
                    <a:pt x="210" y="546"/>
                  </a:lnTo>
                  <a:lnTo>
                    <a:pt x="190" y="534"/>
                  </a:lnTo>
                  <a:lnTo>
                    <a:pt x="170" y="520"/>
                  </a:lnTo>
                  <a:lnTo>
                    <a:pt x="152" y="504"/>
                  </a:lnTo>
                  <a:lnTo>
                    <a:pt x="136" y="486"/>
                  </a:lnTo>
                  <a:lnTo>
                    <a:pt x="122" y="466"/>
                  </a:lnTo>
                  <a:lnTo>
                    <a:pt x="110" y="446"/>
                  </a:lnTo>
                  <a:lnTo>
                    <a:pt x="100" y="424"/>
                  </a:lnTo>
                  <a:lnTo>
                    <a:pt x="92" y="402"/>
                  </a:lnTo>
                  <a:lnTo>
                    <a:pt x="86" y="378"/>
                  </a:lnTo>
                  <a:lnTo>
                    <a:pt x="82" y="354"/>
                  </a:lnTo>
                  <a:lnTo>
                    <a:pt x="80" y="328"/>
                  </a:lnTo>
                  <a:close/>
                </a:path>
              </a:pathLst>
            </a:custGeom>
            <a:solidFill>
              <a:srgbClr val="c0c0c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1" name="Freeform 78"/>
            <p:cNvSpPr/>
            <p:nvPr/>
          </p:nvSpPr>
          <p:spPr>
            <a:xfrm>
              <a:off x="4548240" y="1209600"/>
              <a:ext cx="1498680" cy="1498680"/>
            </a:xfrm>
            <a:custGeom>
              <a:avLst/>
              <a:gdLst>
                <a:gd name="textAreaLeft" fmla="*/ 0 w 1498680"/>
                <a:gd name="textAreaRight" fmla="*/ 1499040 w 1498680"/>
                <a:gd name="textAreaTop" fmla="*/ 0 h 1498680"/>
                <a:gd name="textAreaBottom" fmla="*/ 1499040 h 1498680"/>
              </a:gdLst>
              <a:ahLst/>
              <a:rect l="textAreaLeft" t="textAreaTop" r="textAreaRight" b="textAreaBottom"/>
              <a:pathLst>
                <a:path w="944" h="944">
                  <a:moveTo>
                    <a:pt x="0" y="472"/>
                  </a:moveTo>
                  <a:lnTo>
                    <a:pt x="0" y="472"/>
                  </a:lnTo>
                  <a:lnTo>
                    <a:pt x="0" y="496"/>
                  </a:lnTo>
                  <a:lnTo>
                    <a:pt x="2" y="520"/>
                  </a:lnTo>
                  <a:lnTo>
                    <a:pt x="6" y="544"/>
                  </a:lnTo>
                  <a:lnTo>
                    <a:pt x="10" y="568"/>
                  </a:lnTo>
                  <a:lnTo>
                    <a:pt x="22" y="612"/>
                  </a:lnTo>
                  <a:lnTo>
                    <a:pt x="38" y="656"/>
                  </a:lnTo>
                  <a:lnTo>
                    <a:pt x="58" y="696"/>
                  </a:lnTo>
                  <a:lnTo>
                    <a:pt x="80" y="736"/>
                  </a:lnTo>
                  <a:lnTo>
                    <a:pt x="108" y="772"/>
                  </a:lnTo>
                  <a:lnTo>
                    <a:pt x="138" y="806"/>
                  </a:lnTo>
                  <a:lnTo>
                    <a:pt x="172" y="836"/>
                  </a:lnTo>
                  <a:lnTo>
                    <a:pt x="208" y="864"/>
                  </a:lnTo>
                  <a:lnTo>
                    <a:pt x="248" y="886"/>
                  </a:lnTo>
                  <a:lnTo>
                    <a:pt x="288" y="906"/>
                  </a:lnTo>
                  <a:lnTo>
                    <a:pt x="332" y="922"/>
                  </a:lnTo>
                  <a:lnTo>
                    <a:pt x="376" y="934"/>
                  </a:lnTo>
                  <a:lnTo>
                    <a:pt x="400" y="938"/>
                  </a:lnTo>
                  <a:lnTo>
                    <a:pt x="424" y="942"/>
                  </a:lnTo>
                  <a:lnTo>
                    <a:pt x="448" y="944"/>
                  </a:lnTo>
                  <a:lnTo>
                    <a:pt x="472" y="944"/>
                  </a:lnTo>
                  <a:lnTo>
                    <a:pt x="496" y="944"/>
                  </a:lnTo>
                  <a:lnTo>
                    <a:pt x="520" y="942"/>
                  </a:lnTo>
                  <a:lnTo>
                    <a:pt x="544" y="938"/>
                  </a:lnTo>
                  <a:lnTo>
                    <a:pt x="568" y="934"/>
                  </a:lnTo>
                  <a:lnTo>
                    <a:pt x="612" y="922"/>
                  </a:lnTo>
                  <a:lnTo>
                    <a:pt x="656" y="906"/>
                  </a:lnTo>
                  <a:lnTo>
                    <a:pt x="696" y="886"/>
                  </a:lnTo>
                  <a:lnTo>
                    <a:pt x="736" y="864"/>
                  </a:lnTo>
                  <a:lnTo>
                    <a:pt x="772" y="836"/>
                  </a:lnTo>
                  <a:lnTo>
                    <a:pt x="806" y="806"/>
                  </a:lnTo>
                  <a:lnTo>
                    <a:pt x="836" y="772"/>
                  </a:lnTo>
                  <a:lnTo>
                    <a:pt x="864" y="736"/>
                  </a:lnTo>
                  <a:lnTo>
                    <a:pt x="886" y="696"/>
                  </a:lnTo>
                  <a:lnTo>
                    <a:pt x="906" y="656"/>
                  </a:lnTo>
                  <a:lnTo>
                    <a:pt x="922" y="612"/>
                  </a:lnTo>
                  <a:lnTo>
                    <a:pt x="934" y="568"/>
                  </a:lnTo>
                  <a:lnTo>
                    <a:pt x="938" y="544"/>
                  </a:lnTo>
                  <a:lnTo>
                    <a:pt x="942" y="520"/>
                  </a:lnTo>
                  <a:lnTo>
                    <a:pt x="944" y="496"/>
                  </a:lnTo>
                  <a:lnTo>
                    <a:pt x="944" y="472"/>
                  </a:lnTo>
                  <a:lnTo>
                    <a:pt x="944" y="448"/>
                  </a:lnTo>
                  <a:lnTo>
                    <a:pt x="942" y="424"/>
                  </a:lnTo>
                  <a:lnTo>
                    <a:pt x="938" y="400"/>
                  </a:lnTo>
                  <a:lnTo>
                    <a:pt x="934" y="376"/>
                  </a:lnTo>
                  <a:lnTo>
                    <a:pt x="922" y="332"/>
                  </a:lnTo>
                  <a:lnTo>
                    <a:pt x="906" y="288"/>
                  </a:lnTo>
                  <a:lnTo>
                    <a:pt x="886" y="248"/>
                  </a:lnTo>
                  <a:lnTo>
                    <a:pt x="864" y="208"/>
                  </a:lnTo>
                  <a:lnTo>
                    <a:pt x="836" y="172"/>
                  </a:lnTo>
                  <a:lnTo>
                    <a:pt x="806" y="138"/>
                  </a:lnTo>
                  <a:lnTo>
                    <a:pt x="772" y="108"/>
                  </a:lnTo>
                  <a:lnTo>
                    <a:pt x="736" y="80"/>
                  </a:lnTo>
                  <a:lnTo>
                    <a:pt x="696" y="58"/>
                  </a:lnTo>
                  <a:lnTo>
                    <a:pt x="656" y="38"/>
                  </a:lnTo>
                  <a:lnTo>
                    <a:pt x="612" y="22"/>
                  </a:lnTo>
                  <a:lnTo>
                    <a:pt x="568" y="10"/>
                  </a:lnTo>
                  <a:lnTo>
                    <a:pt x="544" y="6"/>
                  </a:lnTo>
                  <a:lnTo>
                    <a:pt x="520" y="2"/>
                  </a:lnTo>
                  <a:lnTo>
                    <a:pt x="496" y="0"/>
                  </a:lnTo>
                  <a:lnTo>
                    <a:pt x="472" y="0"/>
                  </a:lnTo>
                  <a:lnTo>
                    <a:pt x="448" y="0"/>
                  </a:lnTo>
                  <a:lnTo>
                    <a:pt x="424" y="2"/>
                  </a:lnTo>
                  <a:lnTo>
                    <a:pt x="400" y="6"/>
                  </a:lnTo>
                  <a:lnTo>
                    <a:pt x="376" y="10"/>
                  </a:lnTo>
                  <a:lnTo>
                    <a:pt x="332" y="22"/>
                  </a:lnTo>
                  <a:lnTo>
                    <a:pt x="288" y="38"/>
                  </a:lnTo>
                  <a:lnTo>
                    <a:pt x="248" y="58"/>
                  </a:lnTo>
                  <a:lnTo>
                    <a:pt x="208" y="80"/>
                  </a:lnTo>
                  <a:lnTo>
                    <a:pt x="172" y="108"/>
                  </a:lnTo>
                  <a:lnTo>
                    <a:pt x="138" y="138"/>
                  </a:lnTo>
                  <a:lnTo>
                    <a:pt x="108" y="172"/>
                  </a:lnTo>
                  <a:lnTo>
                    <a:pt x="80" y="208"/>
                  </a:lnTo>
                  <a:lnTo>
                    <a:pt x="58" y="248"/>
                  </a:lnTo>
                  <a:lnTo>
                    <a:pt x="38" y="288"/>
                  </a:lnTo>
                  <a:lnTo>
                    <a:pt x="22" y="332"/>
                  </a:lnTo>
                  <a:lnTo>
                    <a:pt x="10" y="376"/>
                  </a:lnTo>
                  <a:lnTo>
                    <a:pt x="6" y="400"/>
                  </a:lnTo>
                  <a:lnTo>
                    <a:pt x="2" y="424"/>
                  </a:lnTo>
                  <a:lnTo>
                    <a:pt x="0" y="448"/>
                  </a:lnTo>
                  <a:lnTo>
                    <a:pt x="0" y="472"/>
                  </a:lnTo>
                  <a:close/>
                  <a:moveTo>
                    <a:pt x="80" y="472"/>
                  </a:moveTo>
                  <a:lnTo>
                    <a:pt x="80" y="472"/>
                  </a:lnTo>
                  <a:lnTo>
                    <a:pt x="82" y="432"/>
                  </a:lnTo>
                  <a:lnTo>
                    <a:pt x="88" y="394"/>
                  </a:lnTo>
                  <a:lnTo>
                    <a:pt x="98" y="356"/>
                  </a:lnTo>
                  <a:lnTo>
                    <a:pt x="110" y="320"/>
                  </a:lnTo>
                  <a:lnTo>
                    <a:pt x="128" y="286"/>
                  </a:lnTo>
                  <a:lnTo>
                    <a:pt x="148" y="252"/>
                  </a:lnTo>
                  <a:lnTo>
                    <a:pt x="170" y="222"/>
                  </a:lnTo>
                  <a:lnTo>
                    <a:pt x="194" y="194"/>
                  </a:lnTo>
                  <a:lnTo>
                    <a:pt x="222" y="170"/>
                  </a:lnTo>
                  <a:lnTo>
                    <a:pt x="252" y="148"/>
                  </a:lnTo>
                  <a:lnTo>
                    <a:pt x="286" y="128"/>
                  </a:lnTo>
                  <a:lnTo>
                    <a:pt x="320" y="110"/>
                  </a:lnTo>
                  <a:lnTo>
                    <a:pt x="356" y="98"/>
                  </a:lnTo>
                  <a:lnTo>
                    <a:pt x="394" y="88"/>
                  </a:lnTo>
                  <a:lnTo>
                    <a:pt x="432" y="82"/>
                  </a:lnTo>
                  <a:lnTo>
                    <a:pt x="472" y="80"/>
                  </a:lnTo>
                  <a:lnTo>
                    <a:pt x="512" y="82"/>
                  </a:lnTo>
                  <a:lnTo>
                    <a:pt x="550" y="88"/>
                  </a:lnTo>
                  <a:lnTo>
                    <a:pt x="588" y="98"/>
                  </a:lnTo>
                  <a:lnTo>
                    <a:pt x="624" y="110"/>
                  </a:lnTo>
                  <a:lnTo>
                    <a:pt x="658" y="128"/>
                  </a:lnTo>
                  <a:lnTo>
                    <a:pt x="692" y="148"/>
                  </a:lnTo>
                  <a:lnTo>
                    <a:pt x="722" y="170"/>
                  </a:lnTo>
                  <a:lnTo>
                    <a:pt x="750" y="194"/>
                  </a:lnTo>
                  <a:lnTo>
                    <a:pt x="774" y="222"/>
                  </a:lnTo>
                  <a:lnTo>
                    <a:pt x="796" y="252"/>
                  </a:lnTo>
                  <a:lnTo>
                    <a:pt x="816" y="286"/>
                  </a:lnTo>
                  <a:lnTo>
                    <a:pt x="834" y="320"/>
                  </a:lnTo>
                  <a:lnTo>
                    <a:pt x="846" y="356"/>
                  </a:lnTo>
                  <a:lnTo>
                    <a:pt x="856" y="394"/>
                  </a:lnTo>
                  <a:lnTo>
                    <a:pt x="862" y="432"/>
                  </a:lnTo>
                  <a:lnTo>
                    <a:pt x="864" y="472"/>
                  </a:lnTo>
                  <a:lnTo>
                    <a:pt x="862" y="512"/>
                  </a:lnTo>
                  <a:lnTo>
                    <a:pt x="856" y="550"/>
                  </a:lnTo>
                  <a:lnTo>
                    <a:pt x="846" y="588"/>
                  </a:lnTo>
                  <a:lnTo>
                    <a:pt x="834" y="624"/>
                  </a:lnTo>
                  <a:lnTo>
                    <a:pt x="816" y="658"/>
                  </a:lnTo>
                  <a:lnTo>
                    <a:pt x="796" y="692"/>
                  </a:lnTo>
                  <a:lnTo>
                    <a:pt x="774" y="722"/>
                  </a:lnTo>
                  <a:lnTo>
                    <a:pt x="750" y="750"/>
                  </a:lnTo>
                  <a:lnTo>
                    <a:pt x="722" y="774"/>
                  </a:lnTo>
                  <a:lnTo>
                    <a:pt x="692" y="796"/>
                  </a:lnTo>
                  <a:lnTo>
                    <a:pt x="658" y="816"/>
                  </a:lnTo>
                  <a:lnTo>
                    <a:pt x="624" y="834"/>
                  </a:lnTo>
                  <a:lnTo>
                    <a:pt x="588" y="846"/>
                  </a:lnTo>
                  <a:lnTo>
                    <a:pt x="550" y="856"/>
                  </a:lnTo>
                  <a:lnTo>
                    <a:pt x="512" y="862"/>
                  </a:lnTo>
                  <a:lnTo>
                    <a:pt x="472" y="864"/>
                  </a:lnTo>
                  <a:lnTo>
                    <a:pt x="432" y="862"/>
                  </a:lnTo>
                  <a:lnTo>
                    <a:pt x="394" y="856"/>
                  </a:lnTo>
                  <a:lnTo>
                    <a:pt x="356" y="846"/>
                  </a:lnTo>
                  <a:lnTo>
                    <a:pt x="320" y="834"/>
                  </a:lnTo>
                  <a:lnTo>
                    <a:pt x="286" y="816"/>
                  </a:lnTo>
                  <a:lnTo>
                    <a:pt x="252" y="796"/>
                  </a:lnTo>
                  <a:lnTo>
                    <a:pt x="222" y="774"/>
                  </a:lnTo>
                  <a:lnTo>
                    <a:pt x="194" y="750"/>
                  </a:lnTo>
                  <a:lnTo>
                    <a:pt x="170" y="722"/>
                  </a:lnTo>
                  <a:lnTo>
                    <a:pt x="148" y="692"/>
                  </a:lnTo>
                  <a:lnTo>
                    <a:pt x="128" y="658"/>
                  </a:lnTo>
                  <a:lnTo>
                    <a:pt x="110" y="624"/>
                  </a:lnTo>
                  <a:lnTo>
                    <a:pt x="98" y="588"/>
                  </a:lnTo>
                  <a:lnTo>
                    <a:pt x="88" y="550"/>
                  </a:lnTo>
                  <a:lnTo>
                    <a:pt x="82" y="512"/>
                  </a:lnTo>
                  <a:lnTo>
                    <a:pt x="80" y="472"/>
                  </a:lnTo>
                  <a:close/>
                </a:path>
              </a:pathLst>
            </a:custGeom>
            <a:solidFill>
              <a:srgbClr val="c0c0c0">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2" name="Freeform 79"/>
            <p:cNvSpPr/>
            <p:nvPr/>
          </p:nvSpPr>
          <p:spPr>
            <a:xfrm>
              <a:off x="4319640" y="981000"/>
              <a:ext cx="1955880" cy="1955880"/>
            </a:xfrm>
            <a:custGeom>
              <a:avLst/>
              <a:gdLst>
                <a:gd name="textAreaLeft" fmla="*/ 0 w 1955880"/>
                <a:gd name="textAreaRight" fmla="*/ 1956240 w 1955880"/>
                <a:gd name="textAreaTop" fmla="*/ 0 h 1955880"/>
                <a:gd name="textAreaBottom" fmla="*/ 1956240 h 1955880"/>
              </a:gdLst>
              <a:ahLst/>
              <a:rect l="textAreaLeft" t="textAreaTop" r="textAreaRight" b="textAreaBottom"/>
              <a:pathLst>
                <a:path w="1232" h="1232">
                  <a:moveTo>
                    <a:pt x="0" y="616"/>
                  </a:moveTo>
                  <a:lnTo>
                    <a:pt x="0" y="616"/>
                  </a:lnTo>
                  <a:lnTo>
                    <a:pt x="0" y="648"/>
                  </a:lnTo>
                  <a:lnTo>
                    <a:pt x="4" y="678"/>
                  </a:lnTo>
                  <a:lnTo>
                    <a:pt x="8" y="710"/>
                  </a:lnTo>
                  <a:lnTo>
                    <a:pt x="12" y="740"/>
                  </a:lnTo>
                  <a:lnTo>
                    <a:pt x="20" y="770"/>
                  </a:lnTo>
                  <a:lnTo>
                    <a:pt x="28" y="798"/>
                  </a:lnTo>
                  <a:lnTo>
                    <a:pt x="38" y="828"/>
                  </a:lnTo>
                  <a:lnTo>
                    <a:pt x="48" y="856"/>
                  </a:lnTo>
                  <a:lnTo>
                    <a:pt x="60" y="882"/>
                  </a:lnTo>
                  <a:lnTo>
                    <a:pt x="74" y="910"/>
                  </a:lnTo>
                  <a:lnTo>
                    <a:pt x="90" y="936"/>
                  </a:lnTo>
                  <a:lnTo>
                    <a:pt x="106" y="960"/>
                  </a:lnTo>
                  <a:lnTo>
                    <a:pt x="122" y="984"/>
                  </a:lnTo>
                  <a:lnTo>
                    <a:pt x="140" y="1008"/>
                  </a:lnTo>
                  <a:lnTo>
                    <a:pt x="160" y="1030"/>
                  </a:lnTo>
                  <a:lnTo>
                    <a:pt x="180" y="1052"/>
                  </a:lnTo>
                  <a:lnTo>
                    <a:pt x="202" y="1072"/>
                  </a:lnTo>
                  <a:lnTo>
                    <a:pt x="224" y="1092"/>
                  </a:lnTo>
                  <a:lnTo>
                    <a:pt x="248" y="1110"/>
                  </a:lnTo>
                  <a:lnTo>
                    <a:pt x="272" y="1126"/>
                  </a:lnTo>
                  <a:lnTo>
                    <a:pt x="296" y="1142"/>
                  </a:lnTo>
                  <a:lnTo>
                    <a:pt x="322" y="1158"/>
                  </a:lnTo>
                  <a:lnTo>
                    <a:pt x="350" y="1172"/>
                  </a:lnTo>
                  <a:lnTo>
                    <a:pt x="376" y="1184"/>
                  </a:lnTo>
                  <a:lnTo>
                    <a:pt x="404" y="1194"/>
                  </a:lnTo>
                  <a:lnTo>
                    <a:pt x="434" y="1204"/>
                  </a:lnTo>
                  <a:lnTo>
                    <a:pt x="462" y="1212"/>
                  </a:lnTo>
                  <a:lnTo>
                    <a:pt x="492" y="1220"/>
                  </a:lnTo>
                  <a:lnTo>
                    <a:pt x="522" y="1224"/>
                  </a:lnTo>
                  <a:lnTo>
                    <a:pt x="554" y="1228"/>
                  </a:lnTo>
                  <a:lnTo>
                    <a:pt x="584" y="1232"/>
                  </a:lnTo>
                  <a:lnTo>
                    <a:pt x="616" y="1232"/>
                  </a:lnTo>
                  <a:lnTo>
                    <a:pt x="648" y="1232"/>
                  </a:lnTo>
                  <a:lnTo>
                    <a:pt x="678" y="1228"/>
                  </a:lnTo>
                  <a:lnTo>
                    <a:pt x="710" y="1224"/>
                  </a:lnTo>
                  <a:lnTo>
                    <a:pt x="740" y="1220"/>
                  </a:lnTo>
                  <a:lnTo>
                    <a:pt x="770" y="1212"/>
                  </a:lnTo>
                  <a:lnTo>
                    <a:pt x="798" y="1204"/>
                  </a:lnTo>
                  <a:lnTo>
                    <a:pt x="828" y="1194"/>
                  </a:lnTo>
                  <a:lnTo>
                    <a:pt x="856" y="1184"/>
                  </a:lnTo>
                  <a:lnTo>
                    <a:pt x="882" y="1172"/>
                  </a:lnTo>
                  <a:lnTo>
                    <a:pt x="910" y="1158"/>
                  </a:lnTo>
                  <a:lnTo>
                    <a:pt x="936" y="1142"/>
                  </a:lnTo>
                  <a:lnTo>
                    <a:pt x="960" y="1126"/>
                  </a:lnTo>
                  <a:lnTo>
                    <a:pt x="984" y="1110"/>
                  </a:lnTo>
                  <a:lnTo>
                    <a:pt x="1008" y="1092"/>
                  </a:lnTo>
                  <a:lnTo>
                    <a:pt x="1030" y="1072"/>
                  </a:lnTo>
                  <a:lnTo>
                    <a:pt x="1052" y="1052"/>
                  </a:lnTo>
                  <a:lnTo>
                    <a:pt x="1072" y="1030"/>
                  </a:lnTo>
                  <a:lnTo>
                    <a:pt x="1092" y="1008"/>
                  </a:lnTo>
                  <a:lnTo>
                    <a:pt x="1110" y="984"/>
                  </a:lnTo>
                  <a:lnTo>
                    <a:pt x="1126" y="960"/>
                  </a:lnTo>
                  <a:lnTo>
                    <a:pt x="1142" y="936"/>
                  </a:lnTo>
                  <a:lnTo>
                    <a:pt x="1158" y="910"/>
                  </a:lnTo>
                  <a:lnTo>
                    <a:pt x="1172" y="882"/>
                  </a:lnTo>
                  <a:lnTo>
                    <a:pt x="1184" y="856"/>
                  </a:lnTo>
                  <a:lnTo>
                    <a:pt x="1194" y="828"/>
                  </a:lnTo>
                  <a:lnTo>
                    <a:pt x="1204" y="798"/>
                  </a:lnTo>
                  <a:lnTo>
                    <a:pt x="1212" y="770"/>
                  </a:lnTo>
                  <a:lnTo>
                    <a:pt x="1220" y="740"/>
                  </a:lnTo>
                  <a:lnTo>
                    <a:pt x="1224" y="710"/>
                  </a:lnTo>
                  <a:lnTo>
                    <a:pt x="1228" y="678"/>
                  </a:lnTo>
                  <a:lnTo>
                    <a:pt x="1232" y="648"/>
                  </a:lnTo>
                  <a:lnTo>
                    <a:pt x="1232" y="616"/>
                  </a:lnTo>
                  <a:lnTo>
                    <a:pt x="1232" y="584"/>
                  </a:lnTo>
                  <a:lnTo>
                    <a:pt x="1228" y="554"/>
                  </a:lnTo>
                  <a:lnTo>
                    <a:pt x="1224" y="522"/>
                  </a:lnTo>
                  <a:lnTo>
                    <a:pt x="1220" y="492"/>
                  </a:lnTo>
                  <a:lnTo>
                    <a:pt x="1212" y="462"/>
                  </a:lnTo>
                  <a:lnTo>
                    <a:pt x="1204" y="434"/>
                  </a:lnTo>
                  <a:lnTo>
                    <a:pt x="1194" y="404"/>
                  </a:lnTo>
                  <a:lnTo>
                    <a:pt x="1184" y="376"/>
                  </a:lnTo>
                  <a:lnTo>
                    <a:pt x="1172" y="350"/>
                  </a:lnTo>
                  <a:lnTo>
                    <a:pt x="1158" y="322"/>
                  </a:lnTo>
                  <a:lnTo>
                    <a:pt x="1142" y="296"/>
                  </a:lnTo>
                  <a:lnTo>
                    <a:pt x="1126" y="272"/>
                  </a:lnTo>
                  <a:lnTo>
                    <a:pt x="1110" y="248"/>
                  </a:lnTo>
                  <a:lnTo>
                    <a:pt x="1092" y="224"/>
                  </a:lnTo>
                  <a:lnTo>
                    <a:pt x="1072" y="202"/>
                  </a:lnTo>
                  <a:lnTo>
                    <a:pt x="1052" y="180"/>
                  </a:lnTo>
                  <a:lnTo>
                    <a:pt x="1030" y="160"/>
                  </a:lnTo>
                  <a:lnTo>
                    <a:pt x="1008" y="140"/>
                  </a:lnTo>
                  <a:lnTo>
                    <a:pt x="984" y="122"/>
                  </a:lnTo>
                  <a:lnTo>
                    <a:pt x="960" y="106"/>
                  </a:lnTo>
                  <a:lnTo>
                    <a:pt x="936" y="90"/>
                  </a:lnTo>
                  <a:lnTo>
                    <a:pt x="910" y="74"/>
                  </a:lnTo>
                  <a:lnTo>
                    <a:pt x="882" y="60"/>
                  </a:lnTo>
                  <a:lnTo>
                    <a:pt x="856" y="48"/>
                  </a:lnTo>
                  <a:lnTo>
                    <a:pt x="828" y="38"/>
                  </a:lnTo>
                  <a:lnTo>
                    <a:pt x="798" y="28"/>
                  </a:lnTo>
                  <a:lnTo>
                    <a:pt x="770" y="20"/>
                  </a:lnTo>
                  <a:lnTo>
                    <a:pt x="740" y="12"/>
                  </a:lnTo>
                  <a:lnTo>
                    <a:pt x="710" y="8"/>
                  </a:lnTo>
                  <a:lnTo>
                    <a:pt x="678" y="4"/>
                  </a:lnTo>
                  <a:lnTo>
                    <a:pt x="648" y="0"/>
                  </a:lnTo>
                  <a:lnTo>
                    <a:pt x="616" y="0"/>
                  </a:lnTo>
                  <a:lnTo>
                    <a:pt x="584" y="0"/>
                  </a:lnTo>
                  <a:lnTo>
                    <a:pt x="554" y="4"/>
                  </a:lnTo>
                  <a:lnTo>
                    <a:pt x="522" y="8"/>
                  </a:lnTo>
                  <a:lnTo>
                    <a:pt x="492" y="12"/>
                  </a:lnTo>
                  <a:lnTo>
                    <a:pt x="462" y="20"/>
                  </a:lnTo>
                  <a:lnTo>
                    <a:pt x="434" y="28"/>
                  </a:lnTo>
                  <a:lnTo>
                    <a:pt x="404" y="38"/>
                  </a:lnTo>
                  <a:lnTo>
                    <a:pt x="376" y="48"/>
                  </a:lnTo>
                  <a:lnTo>
                    <a:pt x="350" y="60"/>
                  </a:lnTo>
                  <a:lnTo>
                    <a:pt x="322" y="74"/>
                  </a:lnTo>
                  <a:lnTo>
                    <a:pt x="296" y="90"/>
                  </a:lnTo>
                  <a:lnTo>
                    <a:pt x="272" y="106"/>
                  </a:lnTo>
                  <a:lnTo>
                    <a:pt x="248" y="122"/>
                  </a:lnTo>
                  <a:lnTo>
                    <a:pt x="224" y="140"/>
                  </a:lnTo>
                  <a:lnTo>
                    <a:pt x="202" y="160"/>
                  </a:lnTo>
                  <a:lnTo>
                    <a:pt x="180" y="180"/>
                  </a:lnTo>
                  <a:lnTo>
                    <a:pt x="160" y="202"/>
                  </a:lnTo>
                  <a:lnTo>
                    <a:pt x="140" y="224"/>
                  </a:lnTo>
                  <a:lnTo>
                    <a:pt x="122" y="248"/>
                  </a:lnTo>
                  <a:lnTo>
                    <a:pt x="106" y="272"/>
                  </a:lnTo>
                  <a:lnTo>
                    <a:pt x="90" y="296"/>
                  </a:lnTo>
                  <a:lnTo>
                    <a:pt x="74" y="322"/>
                  </a:lnTo>
                  <a:lnTo>
                    <a:pt x="60" y="350"/>
                  </a:lnTo>
                  <a:lnTo>
                    <a:pt x="48" y="376"/>
                  </a:lnTo>
                  <a:lnTo>
                    <a:pt x="38" y="404"/>
                  </a:lnTo>
                  <a:lnTo>
                    <a:pt x="28" y="434"/>
                  </a:lnTo>
                  <a:lnTo>
                    <a:pt x="20" y="462"/>
                  </a:lnTo>
                  <a:lnTo>
                    <a:pt x="12" y="492"/>
                  </a:lnTo>
                  <a:lnTo>
                    <a:pt x="8" y="522"/>
                  </a:lnTo>
                  <a:lnTo>
                    <a:pt x="4" y="554"/>
                  </a:lnTo>
                  <a:lnTo>
                    <a:pt x="0" y="584"/>
                  </a:lnTo>
                  <a:lnTo>
                    <a:pt x="0" y="616"/>
                  </a:lnTo>
                  <a:close/>
                  <a:moveTo>
                    <a:pt x="80" y="616"/>
                  </a:moveTo>
                  <a:lnTo>
                    <a:pt x="80" y="616"/>
                  </a:lnTo>
                  <a:lnTo>
                    <a:pt x="80" y="588"/>
                  </a:lnTo>
                  <a:lnTo>
                    <a:pt x="82" y="562"/>
                  </a:lnTo>
                  <a:lnTo>
                    <a:pt x="86" y="534"/>
                  </a:lnTo>
                  <a:lnTo>
                    <a:pt x="90" y="508"/>
                  </a:lnTo>
                  <a:lnTo>
                    <a:pt x="96" y="482"/>
                  </a:lnTo>
                  <a:lnTo>
                    <a:pt x="104" y="456"/>
                  </a:lnTo>
                  <a:lnTo>
                    <a:pt x="112" y="432"/>
                  </a:lnTo>
                  <a:lnTo>
                    <a:pt x="122" y="408"/>
                  </a:lnTo>
                  <a:lnTo>
                    <a:pt x="132" y="384"/>
                  </a:lnTo>
                  <a:lnTo>
                    <a:pt x="144" y="360"/>
                  </a:lnTo>
                  <a:lnTo>
                    <a:pt x="158" y="338"/>
                  </a:lnTo>
                  <a:lnTo>
                    <a:pt x="172" y="316"/>
                  </a:lnTo>
                  <a:lnTo>
                    <a:pt x="186" y="296"/>
                  </a:lnTo>
                  <a:lnTo>
                    <a:pt x="202" y="276"/>
                  </a:lnTo>
                  <a:lnTo>
                    <a:pt x="220" y="256"/>
                  </a:lnTo>
                  <a:lnTo>
                    <a:pt x="238" y="238"/>
                  </a:lnTo>
                  <a:lnTo>
                    <a:pt x="256" y="220"/>
                  </a:lnTo>
                  <a:lnTo>
                    <a:pt x="276" y="202"/>
                  </a:lnTo>
                  <a:lnTo>
                    <a:pt x="296" y="186"/>
                  </a:lnTo>
                  <a:lnTo>
                    <a:pt x="316" y="172"/>
                  </a:lnTo>
                  <a:lnTo>
                    <a:pt x="338" y="158"/>
                  </a:lnTo>
                  <a:lnTo>
                    <a:pt x="360" y="144"/>
                  </a:lnTo>
                  <a:lnTo>
                    <a:pt x="384" y="132"/>
                  </a:lnTo>
                  <a:lnTo>
                    <a:pt x="408" y="122"/>
                  </a:lnTo>
                  <a:lnTo>
                    <a:pt x="432" y="112"/>
                  </a:lnTo>
                  <a:lnTo>
                    <a:pt x="456" y="104"/>
                  </a:lnTo>
                  <a:lnTo>
                    <a:pt x="482" y="96"/>
                  </a:lnTo>
                  <a:lnTo>
                    <a:pt x="508" y="90"/>
                  </a:lnTo>
                  <a:lnTo>
                    <a:pt x="534" y="86"/>
                  </a:lnTo>
                  <a:lnTo>
                    <a:pt x="562" y="82"/>
                  </a:lnTo>
                  <a:lnTo>
                    <a:pt x="588" y="80"/>
                  </a:lnTo>
                  <a:lnTo>
                    <a:pt x="616" y="80"/>
                  </a:lnTo>
                  <a:lnTo>
                    <a:pt x="644" y="80"/>
                  </a:lnTo>
                  <a:lnTo>
                    <a:pt x="670" y="82"/>
                  </a:lnTo>
                  <a:lnTo>
                    <a:pt x="698" y="86"/>
                  </a:lnTo>
                  <a:lnTo>
                    <a:pt x="724" y="90"/>
                  </a:lnTo>
                  <a:lnTo>
                    <a:pt x="750" y="96"/>
                  </a:lnTo>
                  <a:lnTo>
                    <a:pt x="776" y="104"/>
                  </a:lnTo>
                  <a:lnTo>
                    <a:pt x="800" y="112"/>
                  </a:lnTo>
                  <a:lnTo>
                    <a:pt x="824" y="122"/>
                  </a:lnTo>
                  <a:lnTo>
                    <a:pt x="848" y="132"/>
                  </a:lnTo>
                  <a:lnTo>
                    <a:pt x="872" y="144"/>
                  </a:lnTo>
                  <a:lnTo>
                    <a:pt x="894" y="158"/>
                  </a:lnTo>
                  <a:lnTo>
                    <a:pt x="916" y="172"/>
                  </a:lnTo>
                  <a:lnTo>
                    <a:pt x="936" y="186"/>
                  </a:lnTo>
                  <a:lnTo>
                    <a:pt x="956" y="202"/>
                  </a:lnTo>
                  <a:lnTo>
                    <a:pt x="976" y="220"/>
                  </a:lnTo>
                  <a:lnTo>
                    <a:pt x="994" y="238"/>
                  </a:lnTo>
                  <a:lnTo>
                    <a:pt x="1012" y="256"/>
                  </a:lnTo>
                  <a:lnTo>
                    <a:pt x="1030" y="276"/>
                  </a:lnTo>
                  <a:lnTo>
                    <a:pt x="1046" y="296"/>
                  </a:lnTo>
                  <a:lnTo>
                    <a:pt x="1060" y="316"/>
                  </a:lnTo>
                  <a:lnTo>
                    <a:pt x="1074" y="338"/>
                  </a:lnTo>
                  <a:lnTo>
                    <a:pt x="1088" y="360"/>
                  </a:lnTo>
                  <a:lnTo>
                    <a:pt x="1100" y="384"/>
                  </a:lnTo>
                  <a:lnTo>
                    <a:pt x="1110" y="408"/>
                  </a:lnTo>
                  <a:lnTo>
                    <a:pt x="1120" y="432"/>
                  </a:lnTo>
                  <a:lnTo>
                    <a:pt x="1128" y="456"/>
                  </a:lnTo>
                  <a:lnTo>
                    <a:pt x="1136" y="482"/>
                  </a:lnTo>
                  <a:lnTo>
                    <a:pt x="1142" y="508"/>
                  </a:lnTo>
                  <a:lnTo>
                    <a:pt x="1146" y="534"/>
                  </a:lnTo>
                  <a:lnTo>
                    <a:pt x="1150" y="562"/>
                  </a:lnTo>
                  <a:lnTo>
                    <a:pt x="1152" y="588"/>
                  </a:lnTo>
                  <a:lnTo>
                    <a:pt x="1152" y="616"/>
                  </a:lnTo>
                  <a:lnTo>
                    <a:pt x="1152" y="644"/>
                  </a:lnTo>
                  <a:lnTo>
                    <a:pt x="1150" y="670"/>
                  </a:lnTo>
                  <a:lnTo>
                    <a:pt x="1146" y="698"/>
                  </a:lnTo>
                  <a:lnTo>
                    <a:pt x="1142" y="724"/>
                  </a:lnTo>
                  <a:lnTo>
                    <a:pt x="1136" y="750"/>
                  </a:lnTo>
                  <a:lnTo>
                    <a:pt x="1128" y="776"/>
                  </a:lnTo>
                  <a:lnTo>
                    <a:pt x="1120" y="800"/>
                  </a:lnTo>
                  <a:lnTo>
                    <a:pt x="1110" y="824"/>
                  </a:lnTo>
                  <a:lnTo>
                    <a:pt x="1100" y="848"/>
                  </a:lnTo>
                  <a:lnTo>
                    <a:pt x="1088" y="872"/>
                  </a:lnTo>
                  <a:lnTo>
                    <a:pt x="1074" y="894"/>
                  </a:lnTo>
                  <a:lnTo>
                    <a:pt x="1060" y="916"/>
                  </a:lnTo>
                  <a:lnTo>
                    <a:pt x="1046" y="936"/>
                  </a:lnTo>
                  <a:lnTo>
                    <a:pt x="1030" y="956"/>
                  </a:lnTo>
                  <a:lnTo>
                    <a:pt x="1012" y="976"/>
                  </a:lnTo>
                  <a:lnTo>
                    <a:pt x="994" y="994"/>
                  </a:lnTo>
                  <a:lnTo>
                    <a:pt x="976" y="1012"/>
                  </a:lnTo>
                  <a:lnTo>
                    <a:pt x="956" y="1030"/>
                  </a:lnTo>
                  <a:lnTo>
                    <a:pt x="936" y="1046"/>
                  </a:lnTo>
                  <a:lnTo>
                    <a:pt x="916" y="1060"/>
                  </a:lnTo>
                  <a:lnTo>
                    <a:pt x="894" y="1074"/>
                  </a:lnTo>
                  <a:lnTo>
                    <a:pt x="872" y="1088"/>
                  </a:lnTo>
                  <a:lnTo>
                    <a:pt x="848" y="1100"/>
                  </a:lnTo>
                  <a:lnTo>
                    <a:pt x="824" y="1110"/>
                  </a:lnTo>
                  <a:lnTo>
                    <a:pt x="800" y="1120"/>
                  </a:lnTo>
                  <a:lnTo>
                    <a:pt x="776" y="1128"/>
                  </a:lnTo>
                  <a:lnTo>
                    <a:pt x="750" y="1136"/>
                  </a:lnTo>
                  <a:lnTo>
                    <a:pt x="724" y="1142"/>
                  </a:lnTo>
                  <a:lnTo>
                    <a:pt x="698" y="1146"/>
                  </a:lnTo>
                  <a:lnTo>
                    <a:pt x="670" y="1150"/>
                  </a:lnTo>
                  <a:lnTo>
                    <a:pt x="644" y="1152"/>
                  </a:lnTo>
                  <a:lnTo>
                    <a:pt x="616" y="1152"/>
                  </a:lnTo>
                  <a:lnTo>
                    <a:pt x="588" y="1152"/>
                  </a:lnTo>
                  <a:lnTo>
                    <a:pt x="562" y="1150"/>
                  </a:lnTo>
                  <a:lnTo>
                    <a:pt x="534" y="1146"/>
                  </a:lnTo>
                  <a:lnTo>
                    <a:pt x="508" y="1142"/>
                  </a:lnTo>
                  <a:lnTo>
                    <a:pt x="482" y="1136"/>
                  </a:lnTo>
                  <a:lnTo>
                    <a:pt x="456" y="1128"/>
                  </a:lnTo>
                  <a:lnTo>
                    <a:pt x="432" y="1120"/>
                  </a:lnTo>
                  <a:lnTo>
                    <a:pt x="408" y="1110"/>
                  </a:lnTo>
                  <a:lnTo>
                    <a:pt x="384" y="1100"/>
                  </a:lnTo>
                  <a:lnTo>
                    <a:pt x="360" y="1088"/>
                  </a:lnTo>
                  <a:lnTo>
                    <a:pt x="338" y="1074"/>
                  </a:lnTo>
                  <a:lnTo>
                    <a:pt x="316" y="1060"/>
                  </a:lnTo>
                  <a:lnTo>
                    <a:pt x="296" y="1046"/>
                  </a:lnTo>
                  <a:lnTo>
                    <a:pt x="276" y="1030"/>
                  </a:lnTo>
                  <a:lnTo>
                    <a:pt x="256" y="1012"/>
                  </a:lnTo>
                  <a:lnTo>
                    <a:pt x="238" y="994"/>
                  </a:lnTo>
                  <a:lnTo>
                    <a:pt x="220" y="976"/>
                  </a:lnTo>
                  <a:lnTo>
                    <a:pt x="202" y="956"/>
                  </a:lnTo>
                  <a:lnTo>
                    <a:pt x="186" y="936"/>
                  </a:lnTo>
                  <a:lnTo>
                    <a:pt x="172" y="916"/>
                  </a:lnTo>
                  <a:lnTo>
                    <a:pt x="158" y="894"/>
                  </a:lnTo>
                  <a:lnTo>
                    <a:pt x="144" y="872"/>
                  </a:lnTo>
                  <a:lnTo>
                    <a:pt x="132" y="848"/>
                  </a:lnTo>
                  <a:lnTo>
                    <a:pt x="122" y="824"/>
                  </a:lnTo>
                  <a:lnTo>
                    <a:pt x="112" y="800"/>
                  </a:lnTo>
                  <a:lnTo>
                    <a:pt x="104" y="776"/>
                  </a:lnTo>
                  <a:lnTo>
                    <a:pt x="96" y="750"/>
                  </a:lnTo>
                  <a:lnTo>
                    <a:pt x="90" y="724"/>
                  </a:lnTo>
                  <a:lnTo>
                    <a:pt x="86" y="698"/>
                  </a:lnTo>
                  <a:lnTo>
                    <a:pt x="82" y="670"/>
                  </a:lnTo>
                  <a:lnTo>
                    <a:pt x="80" y="644"/>
                  </a:lnTo>
                  <a:lnTo>
                    <a:pt x="80" y="616"/>
                  </a:lnTo>
                  <a:close/>
                </a:path>
              </a:pathLst>
            </a:custGeom>
            <a:solidFill>
              <a:srgbClr val="c0c0c0">
                <a:alpha val="1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893" name="AutoShape 71"/>
          <p:cNvSpPr/>
          <p:nvPr/>
        </p:nvSpPr>
        <p:spPr>
          <a:xfrm rot="18900000">
            <a:off x="2997000" y="1233000"/>
            <a:ext cx="1152360" cy="4608720"/>
          </a:xfrm>
          <a:prstGeom prst="rightArrow">
            <a:avLst>
              <a:gd name="adj1" fmla="val 50000"/>
              <a:gd name="adj2" fmla="val 25000"/>
            </a:avLst>
          </a:prstGeom>
          <a:gradFill rotWithShape="0">
            <a:gsLst>
              <a:gs pos="0">
                <a:srgbClr val="0099cc"/>
              </a:gs>
              <a:gs pos="100000">
                <a:srgbClr val="007da7"/>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94" name="Freeform 75"/>
          <p:cNvSpPr/>
          <p:nvPr/>
        </p:nvSpPr>
        <p:spPr>
          <a:xfrm>
            <a:off x="1366920" y="4124160"/>
            <a:ext cx="1625400" cy="1602000"/>
          </a:xfrm>
          <a:custGeom>
            <a:avLst/>
            <a:gdLst>
              <a:gd name="textAreaLeft" fmla="*/ 0 w 1625400"/>
              <a:gd name="textAreaRight" fmla="*/ 1625760 w 1625400"/>
              <a:gd name="textAreaTop" fmla="*/ 0 h 1602000"/>
              <a:gd name="textAreaBottom" fmla="*/ 1602360 h 1602000"/>
            </a:gdLst>
            <a:ahLst/>
            <a:rect l="textAreaLeft" t="textAreaTop" r="textAreaRight" b="textAreaBottom"/>
            <a:pathLst>
              <a:path w="1024" h="1076">
                <a:moveTo>
                  <a:pt x="1024" y="1076"/>
                </a:moveTo>
                <a:lnTo>
                  <a:pt x="1024" y="1076"/>
                </a:lnTo>
                <a:lnTo>
                  <a:pt x="1024" y="1040"/>
                </a:lnTo>
                <a:lnTo>
                  <a:pt x="1022" y="986"/>
                </a:lnTo>
                <a:lnTo>
                  <a:pt x="1018" y="934"/>
                </a:lnTo>
                <a:lnTo>
                  <a:pt x="1012" y="884"/>
                </a:lnTo>
                <a:lnTo>
                  <a:pt x="1004" y="832"/>
                </a:lnTo>
                <a:lnTo>
                  <a:pt x="992" y="782"/>
                </a:lnTo>
                <a:lnTo>
                  <a:pt x="978" y="734"/>
                </a:lnTo>
                <a:lnTo>
                  <a:pt x="962" y="686"/>
                </a:lnTo>
                <a:lnTo>
                  <a:pt x="944" y="638"/>
                </a:lnTo>
                <a:lnTo>
                  <a:pt x="924" y="592"/>
                </a:lnTo>
                <a:lnTo>
                  <a:pt x="900" y="548"/>
                </a:lnTo>
                <a:lnTo>
                  <a:pt x="876" y="506"/>
                </a:lnTo>
                <a:lnTo>
                  <a:pt x="850" y="464"/>
                </a:lnTo>
                <a:lnTo>
                  <a:pt x="820" y="422"/>
                </a:lnTo>
                <a:lnTo>
                  <a:pt x="790" y="384"/>
                </a:lnTo>
                <a:lnTo>
                  <a:pt x="758" y="346"/>
                </a:lnTo>
                <a:lnTo>
                  <a:pt x="724" y="310"/>
                </a:lnTo>
                <a:lnTo>
                  <a:pt x="690" y="276"/>
                </a:lnTo>
                <a:lnTo>
                  <a:pt x="652" y="242"/>
                </a:lnTo>
                <a:lnTo>
                  <a:pt x="614" y="212"/>
                </a:lnTo>
                <a:lnTo>
                  <a:pt x="574" y="182"/>
                </a:lnTo>
                <a:lnTo>
                  <a:pt x="532" y="156"/>
                </a:lnTo>
                <a:lnTo>
                  <a:pt x="488" y="130"/>
                </a:lnTo>
                <a:lnTo>
                  <a:pt x="444" y="108"/>
                </a:lnTo>
                <a:lnTo>
                  <a:pt x="400" y="86"/>
                </a:lnTo>
                <a:lnTo>
                  <a:pt x="352" y="68"/>
                </a:lnTo>
                <a:lnTo>
                  <a:pt x="306" y="50"/>
                </a:lnTo>
                <a:lnTo>
                  <a:pt x="256" y="36"/>
                </a:lnTo>
                <a:lnTo>
                  <a:pt x="206" y="24"/>
                </a:lnTo>
                <a:lnTo>
                  <a:pt x="156" y="14"/>
                </a:lnTo>
                <a:lnTo>
                  <a:pt x="104" y="8"/>
                </a:lnTo>
                <a:lnTo>
                  <a:pt x="52" y="2"/>
                </a:lnTo>
                <a:lnTo>
                  <a:pt x="0" y="0"/>
                </a:lnTo>
                <a:lnTo>
                  <a:pt x="0" y="1076"/>
                </a:lnTo>
                <a:lnTo>
                  <a:pt x="1024" y="1076"/>
                </a:lnTo>
                <a:close/>
              </a:path>
            </a:pathLst>
          </a:custGeom>
          <a:gradFill rotWithShape="0">
            <a:gsLst>
              <a:gs pos="0">
                <a:srgbClr val="0099cc"/>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95"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5cc8"/>
                </a:solidFill>
                <a:latin typeface="HY헤드라인M"/>
              </a:rPr>
              <a:t>Click To Type Slide Title</a:t>
            </a:r>
            <a:endParaRPr b="0" lang="en-US" sz="2600" spc="-1" strike="noStrike">
              <a:solidFill>
                <a:srgbClr val="005cc8"/>
              </a:solidFill>
              <a:latin typeface="HY헤드라인M"/>
            </a:endParaRPr>
          </a:p>
        </p:txBody>
      </p:sp>
      <p:sp>
        <p:nvSpPr>
          <p:cNvPr id="896" name="Text Box 73"/>
          <p:cNvSpPr/>
          <p:nvPr/>
        </p:nvSpPr>
        <p:spPr>
          <a:xfrm>
            <a:off x="5224320" y="2125800"/>
            <a:ext cx="3203640" cy="328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nim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ook to your presentation Animation PowerPoint Templates &amp; Backgrounds for Your Impressive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Easy Search</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asy to use and functional search engine helps you locate the right templates quickly saving you time</a:t>
            </a:r>
            <a:endParaRPr b="0" lang="en-US" sz="1200" spc="-1" strike="noStrike">
              <a:solidFill>
                <a:srgbClr val="000000"/>
              </a:solidFill>
              <a:latin typeface="Gulim"/>
            </a:endParaRPr>
          </a:p>
        </p:txBody>
      </p:sp>
      <p:sp>
        <p:nvSpPr>
          <p:cNvPr id="897" name="Text Box 74"/>
          <p:cNvSpPr/>
          <p:nvPr/>
        </p:nvSpPr>
        <p:spPr>
          <a:xfrm>
            <a:off x="1944720" y="5972040"/>
            <a:ext cx="33480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offer you what you want, when you want</a:t>
            </a:r>
            <a:endParaRPr b="0" lang="en-US" sz="1000" spc="-1" strike="noStrike">
              <a:solidFill>
                <a:srgbClr val="000000"/>
              </a:solidFill>
              <a:latin typeface="Gulim"/>
            </a:endParaRPr>
          </a:p>
        </p:txBody>
      </p:sp>
      <p:sp>
        <p:nvSpPr>
          <p:cNvPr id="898" name="Text Box 55"/>
          <p:cNvSpPr/>
          <p:nvPr/>
        </p:nvSpPr>
        <p:spPr>
          <a:xfrm>
            <a:off x="448200" y="2330280"/>
            <a:ext cx="787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Clarity &amp;</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Impact</a:t>
            </a:r>
            <a:endParaRPr b="0" lang="en-US" sz="1200" spc="-1" strike="noStrike">
              <a:solidFill>
                <a:srgbClr val="000000"/>
              </a:solidFill>
              <a:latin typeface="Gulim"/>
            </a:endParaRPr>
          </a:p>
        </p:txBody>
      </p:sp>
      <p:sp>
        <p:nvSpPr>
          <p:cNvPr id="899" name="Text Box 56"/>
          <p:cNvSpPr/>
          <p:nvPr/>
        </p:nvSpPr>
        <p:spPr>
          <a:xfrm>
            <a:off x="421920" y="2951280"/>
            <a:ext cx="842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Premium</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Design</a:t>
            </a:r>
            <a:endParaRPr b="0" lang="en-US" sz="1200" spc="-1" strike="noStrike">
              <a:solidFill>
                <a:srgbClr val="000000"/>
              </a:solidFill>
              <a:latin typeface="Gulim"/>
            </a:endParaRPr>
          </a:p>
        </p:txBody>
      </p:sp>
      <p:sp>
        <p:nvSpPr>
          <p:cNvPr id="900" name="Text Box 57"/>
          <p:cNvSpPr/>
          <p:nvPr/>
        </p:nvSpPr>
        <p:spPr>
          <a:xfrm>
            <a:off x="627840" y="3564000"/>
            <a:ext cx="6332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ubtle</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Touch</a:t>
            </a:r>
            <a:endParaRPr b="0" lang="en-US" sz="1200" spc="-1" strike="noStrike">
              <a:solidFill>
                <a:srgbClr val="000000"/>
              </a:solidFill>
              <a:latin typeface="Gulim"/>
            </a:endParaRPr>
          </a:p>
        </p:txBody>
      </p:sp>
      <p:sp>
        <p:nvSpPr>
          <p:cNvPr id="901" name="Text Box 58"/>
          <p:cNvSpPr/>
          <p:nvPr/>
        </p:nvSpPr>
        <p:spPr>
          <a:xfrm>
            <a:off x="343080" y="4716360"/>
            <a:ext cx="9061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isual</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Appealing</a:t>
            </a:r>
            <a:endParaRPr b="0" lang="en-US" sz="1200" spc="-1" strike="noStrike">
              <a:solidFill>
                <a:srgbClr val="000000"/>
              </a:solidFill>
              <a:latin typeface="Gulim"/>
            </a:endParaRPr>
          </a:p>
        </p:txBody>
      </p:sp>
      <p:sp>
        <p:nvSpPr>
          <p:cNvPr id="902" name="Oval 60"/>
          <p:cNvSpPr/>
          <p:nvPr/>
        </p:nvSpPr>
        <p:spPr>
          <a:xfrm>
            <a:off x="1476360" y="4211640"/>
            <a:ext cx="355680" cy="35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3" name="Freeform 61"/>
          <p:cNvSpPr/>
          <p:nvPr/>
        </p:nvSpPr>
        <p:spPr>
          <a:xfrm>
            <a:off x="1370160" y="4124160"/>
            <a:ext cx="1118880" cy="482760"/>
          </a:xfrm>
          <a:custGeom>
            <a:avLst/>
            <a:gdLst>
              <a:gd name="textAreaLeft" fmla="*/ 0 w 1118880"/>
              <a:gd name="textAreaRight" fmla="*/ 1119240 w 1118880"/>
              <a:gd name="textAreaTop" fmla="*/ 0 h 482760"/>
              <a:gd name="textAreaBottom" fmla="*/ 483120 h 48276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04" name="AutoShape 62"/>
          <p:cNvSpPr/>
          <p:nvPr/>
        </p:nvSpPr>
        <p:spPr>
          <a:xfrm rot="2700000">
            <a:off x="-868680" y="3486600"/>
            <a:ext cx="4481640" cy="4476960"/>
          </a:xfrm>
          <a:custGeom>
            <a:avLst/>
            <a:gdLst>
              <a:gd name="textAreaLeft" fmla="*/ 345960 w 4481640"/>
              <a:gd name="textAreaRight" fmla="*/ 4135680 w 4481640"/>
              <a:gd name="textAreaTop" fmla="*/ 0 h 4476960"/>
              <a:gd name="textAreaBottom" fmla="*/ 1338480 h 4476960"/>
            </a:gdLst>
            <a:ahLst/>
            <a:rect l="textAreaLeft" t="textAreaTop" r="textAreaRight" b="textAreaBottom"/>
            <a:pathLst>
              <a:path w="18469" h="5074">
                <a:moveTo>
                  <a:pt x="5024" y="5073"/>
                </a:moveTo>
                <a:cubicBezTo>
                  <a:pt x="6551" y="3533"/>
                  <a:pt x="8630" y="2666"/>
                  <a:pt x="10800" y="2667"/>
                </a:cubicBezTo>
                <a:cubicBezTo>
                  <a:pt x="12969" y="2667"/>
                  <a:pt x="15048" y="3533"/>
                  <a:pt x="16575" y="5073"/>
                </a:cubicBezTo>
                <a:lnTo>
                  <a:pt x="18469" y="3195"/>
                </a:lnTo>
                <a:cubicBezTo>
                  <a:pt x="16441" y="1150"/>
                  <a:pt x="13680" y="-1"/>
                  <a:pt x="10799" y="0"/>
                </a:cubicBezTo>
                <a:cubicBezTo>
                  <a:pt x="7919" y="0"/>
                  <a:pt x="5158" y="1150"/>
                  <a:pt x="3130" y="3195"/>
                </a:cubicBezTo>
                <a:lnTo>
                  <a:pt x="5024" y="5073"/>
                </a:lnTo>
                <a:close/>
              </a:path>
            </a:pathLst>
          </a:custGeom>
          <a:solidFill>
            <a:srgbClr val="ffb3c1">
              <a:alpha val="25000"/>
            </a:srgbClr>
          </a:soli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Gulim"/>
            </a:endParaRPr>
          </a:p>
        </p:txBody>
      </p:sp>
      <p:sp>
        <p:nvSpPr>
          <p:cNvPr id="905" name="AutoShape 63"/>
          <p:cNvSpPr/>
          <p:nvPr/>
        </p:nvSpPr>
        <p:spPr>
          <a:xfrm rot="2700000">
            <a:off x="-1488960" y="2866680"/>
            <a:ext cx="5727600" cy="5721480"/>
          </a:xfrm>
          <a:custGeom>
            <a:avLst/>
            <a:gdLst>
              <a:gd name="textAreaLeft" fmla="*/ 442800 w 5727600"/>
              <a:gd name="textAreaRight" fmla="*/ 5284800 w 5727600"/>
              <a:gd name="textAreaTop" fmla="*/ 0 h 5721480"/>
              <a:gd name="textAreaBottom" fmla="*/ 1644480 h 5721480"/>
            </a:gdLst>
            <a:ahLst/>
            <a:rect l="textAreaLeft" t="textAreaTop" r="textAreaRight" b="textAreaBottom"/>
            <a:pathLst>
              <a:path w="18470" h="4744">
                <a:moveTo>
                  <a:pt x="4689" y="4743"/>
                </a:moveTo>
                <a:cubicBezTo>
                  <a:pt x="6304" y="3113"/>
                  <a:pt x="8504" y="2195"/>
                  <a:pt x="10800" y="2196"/>
                </a:cubicBezTo>
                <a:cubicBezTo>
                  <a:pt x="13095" y="2196"/>
                  <a:pt x="15295" y="3113"/>
                  <a:pt x="16910" y="4743"/>
                </a:cubicBezTo>
                <a:lnTo>
                  <a:pt x="18470" y="3197"/>
                </a:lnTo>
                <a:cubicBezTo>
                  <a:pt x="16442" y="1151"/>
                  <a:pt x="13680" y="-1"/>
                  <a:pt x="10799" y="0"/>
                </a:cubicBezTo>
                <a:cubicBezTo>
                  <a:pt x="7919" y="0"/>
                  <a:pt x="5157" y="1151"/>
                  <a:pt x="3129" y="3197"/>
                </a:cubicBezTo>
                <a:lnTo>
                  <a:pt x="4689" y="4743"/>
                </a:lnTo>
                <a:close/>
              </a:path>
            </a:pathLst>
          </a:custGeom>
          <a:solidFill>
            <a:srgbClr val="ff9900">
              <a:alpha val="25000"/>
            </a:srgbClr>
          </a:soli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Gulim"/>
            </a:endParaRPr>
          </a:p>
        </p:txBody>
      </p:sp>
      <p:sp>
        <p:nvSpPr>
          <p:cNvPr id="906" name="AutoShape 64"/>
          <p:cNvSpPr/>
          <p:nvPr/>
        </p:nvSpPr>
        <p:spPr>
          <a:xfrm rot="2700000">
            <a:off x="-2119680" y="2232720"/>
            <a:ext cx="6981840" cy="6980400"/>
          </a:xfrm>
          <a:custGeom>
            <a:avLst/>
            <a:gdLst>
              <a:gd name="textAreaLeft" fmla="*/ 545760 w 6981840"/>
              <a:gd name="textAreaRight" fmla="*/ 6436080 w 6981840"/>
              <a:gd name="textAreaTop" fmla="*/ 0 h 6980400"/>
              <a:gd name="textAreaBottom" fmla="*/ 1930680 h 6980400"/>
            </a:gdLst>
            <a:ahLst/>
            <a:rect l="textAreaLeft" t="textAreaTop" r="textAreaRight" b="textAreaBottom"/>
            <a:pathLst>
              <a:path w="18448" h="4450">
                <a:moveTo>
                  <a:pt x="4430" y="4449"/>
                </a:moveTo>
                <a:cubicBezTo>
                  <a:pt x="6117" y="2756"/>
                  <a:pt x="8409" y="1804"/>
                  <a:pt x="10800" y="1805"/>
                </a:cubicBezTo>
                <a:cubicBezTo>
                  <a:pt x="13190" y="1805"/>
                  <a:pt x="15482" y="2756"/>
                  <a:pt x="17169" y="4449"/>
                </a:cubicBezTo>
                <a:lnTo>
                  <a:pt x="18448" y="3174"/>
                </a:lnTo>
                <a:cubicBezTo>
                  <a:pt x="16421" y="1142"/>
                  <a:pt x="13669" y="-1"/>
                  <a:pt x="10799" y="0"/>
                </a:cubicBezTo>
                <a:cubicBezTo>
                  <a:pt x="7930" y="0"/>
                  <a:pt x="5178" y="1142"/>
                  <a:pt x="3151" y="3174"/>
                </a:cubicBezTo>
                <a:lnTo>
                  <a:pt x="4430" y="4449"/>
                </a:lnTo>
                <a:close/>
              </a:path>
            </a:pathLst>
          </a:custGeom>
          <a:gradFill rotWithShape="0">
            <a:gsLst>
              <a:gs pos="0">
                <a:srgbClr val="ffffff">
                  <a:alpha val="90196"/>
                </a:srgbClr>
              </a:gs>
              <a:gs pos="100000">
                <a:srgbClr val="ffffff">
                  <a:alpha val="50196"/>
                </a:srgbClr>
              </a:gs>
            </a:gsLst>
            <a:lin ang="270000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Gulim"/>
            </a:endParaRPr>
          </a:p>
        </p:txBody>
      </p:sp>
      <p:sp>
        <p:nvSpPr>
          <p:cNvPr id="907" name="Freeform 65"/>
          <p:cNvSpPr/>
          <p:nvPr/>
        </p:nvSpPr>
        <p:spPr>
          <a:xfrm>
            <a:off x="1370160" y="2268360"/>
            <a:ext cx="2503440" cy="1078200"/>
          </a:xfrm>
          <a:custGeom>
            <a:avLst/>
            <a:gdLst>
              <a:gd name="textAreaLeft" fmla="*/ 0 w 2503440"/>
              <a:gd name="textAreaRight" fmla="*/ 2503800 w 2503440"/>
              <a:gd name="textAreaTop" fmla="*/ 0 h 1078200"/>
              <a:gd name="textAreaBottom" fmla="*/ 1078560 h 107820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08" name="Freeform 66"/>
          <p:cNvSpPr/>
          <p:nvPr/>
        </p:nvSpPr>
        <p:spPr>
          <a:xfrm>
            <a:off x="1370160" y="2892600"/>
            <a:ext cx="2009520" cy="865080"/>
          </a:xfrm>
          <a:custGeom>
            <a:avLst/>
            <a:gdLst>
              <a:gd name="textAreaLeft" fmla="*/ 0 w 2009520"/>
              <a:gd name="textAreaRight" fmla="*/ 2009880 w 2009520"/>
              <a:gd name="textAreaTop" fmla="*/ 0 h 865080"/>
              <a:gd name="textAreaBottom" fmla="*/ 865440 h 86508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09" name="Freeform 67"/>
          <p:cNvSpPr/>
          <p:nvPr/>
        </p:nvSpPr>
        <p:spPr>
          <a:xfrm>
            <a:off x="1370160" y="3517920"/>
            <a:ext cx="1581120" cy="681120"/>
          </a:xfrm>
          <a:custGeom>
            <a:avLst/>
            <a:gdLst>
              <a:gd name="textAreaLeft" fmla="*/ 0 w 1581120"/>
              <a:gd name="textAreaRight" fmla="*/ 1581480 w 1581120"/>
              <a:gd name="textAreaTop" fmla="*/ 0 h 681120"/>
              <a:gd name="textAreaBottom" fmla="*/ 681480 h 68112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10" name="Freeform 68"/>
          <p:cNvSpPr/>
          <p:nvPr/>
        </p:nvSpPr>
        <p:spPr>
          <a:xfrm>
            <a:off x="1370160" y="1692360"/>
            <a:ext cx="4070160" cy="4033800"/>
          </a:xfrm>
          <a:custGeom>
            <a:avLst/>
            <a:gdLst>
              <a:gd name="textAreaLeft" fmla="*/ 0 w 4070160"/>
              <a:gd name="textAreaRight" fmla="*/ 4070520 w 4070160"/>
              <a:gd name="textAreaTop" fmla="*/ 0 h 4033800"/>
              <a:gd name="textAreaBottom" fmla="*/ 4034160 h 4033800"/>
            </a:gdLst>
            <a:ahLst/>
            <a:rect l="textAreaLeft" t="textAreaTop" r="textAreaRight" b="textAreaBottom"/>
            <a:pathLst>
              <a:path w="3016" h="2767">
                <a:moveTo>
                  <a:pt x="0" y="0"/>
                </a:moveTo>
                <a:lnTo>
                  <a:pt x="0" y="2767"/>
                </a:lnTo>
                <a:lnTo>
                  <a:pt x="3016" y="2767"/>
                </a:lnTo>
              </a:path>
            </a:pathLst>
          </a:custGeom>
          <a:noFill/>
          <a:ln cap="rnd" w="38160">
            <a:solidFill>
              <a:srgbClr val="c0c0c0"/>
            </a:solidFill>
            <a:custDash>
              <a:ds d="100000" sp="1000"/>
            </a:custDash>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11" name="WordArt 69"/>
          <p:cNvSpPr txBox="1"/>
          <p:nvPr/>
        </p:nvSpPr>
        <p:spPr>
          <a:xfrm rot="2700000">
            <a:off x="-640800" y="2821680"/>
            <a:ext cx="5332320" cy="4552920"/>
          </a:xfrm>
          <a:prstGeom prst="rect">
            <a:avLst/>
          </a:prstGeom>
        </p:spPr>
        <p:txBody>
          <a:bodyPr wrap="none" fromWordArt="1" lIns="90000" rIns="90000" tIns="46800" bIns="46800" anchor="t" anchorCtr="1">
            <a:prstTxWarp prst="textArchUp">
              <a:avLst>
                <a:gd name="adj" fmla="val 142797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Immense Visual Appeal</a:t>
            </a:r>
            <a:endParaRPr b="0" lang="en-US" sz="800" spc="-1" strike="noStrike">
              <a:ln w="0">
                <a:noFill/>
              </a:ln>
              <a:solidFill>
                <a:srgbClr val="000000"/>
              </a:solidFill>
              <a:latin typeface="Arial Black"/>
              <a:ea typeface="Arial Black"/>
            </a:endParaRPr>
          </a:p>
        </p:txBody>
      </p:sp>
      <p:sp>
        <p:nvSpPr>
          <p:cNvPr id="912" name="WordArt 70"/>
          <p:cNvSpPr txBox="1"/>
          <p:nvPr/>
        </p:nvSpPr>
        <p:spPr>
          <a:xfrm rot="2700000">
            <a:off x="-695880" y="3285360"/>
            <a:ext cx="4632480" cy="4376880"/>
          </a:xfrm>
          <a:prstGeom prst="rect">
            <a:avLst/>
          </a:prstGeom>
        </p:spPr>
        <p:txBody>
          <a:bodyPr wrap="none" fromWordArt="1" lIns="90000" rIns="90000" tIns="46800" bIns="46800" anchor="t" anchorCtr="1">
            <a:prstTxWarp prst="textArchUp">
              <a:avLst>
                <a:gd name="adj" fmla="val 1427971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Eye-Catching Visual</a:t>
            </a:r>
            <a:endParaRPr b="0" lang="en-US" sz="800" spc="-1" strike="noStrike">
              <a:ln w="0">
                <a:noFill/>
              </a:ln>
              <a:solidFill>
                <a:srgbClr val="000000"/>
              </a:solidFill>
              <a:latin typeface="Arial Black"/>
              <a:ea typeface="Arial Black"/>
            </a:endParaRPr>
          </a:p>
        </p:txBody>
      </p:sp>
      <p:sp>
        <p:nvSpPr>
          <p:cNvPr id="913" name="WordArt 71"/>
          <p:cNvSpPr txBox="1"/>
          <p:nvPr/>
        </p:nvSpPr>
        <p:spPr>
          <a:xfrm rot="2700000">
            <a:off x="119880" y="3980880"/>
            <a:ext cx="3324240" cy="2668320"/>
          </a:xfrm>
          <a:prstGeom prst="rect">
            <a:avLst/>
          </a:prstGeom>
        </p:spPr>
        <p:txBody>
          <a:bodyPr wrap="none" fromWordArt="1" lIns="90000" rIns="90000" tIns="46800" bIns="46800" anchor="t" anchorCtr="1">
            <a:prstTxWarp prst="textArchUp">
              <a:avLst>
                <a:gd name="adj" fmla="val 148030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Easy To Use</a:t>
            </a:r>
            <a:endParaRPr b="0" lang="en-US" sz="800" spc="-1" strike="noStrike">
              <a:ln w="0">
                <a:noFill/>
              </a:ln>
              <a:solidFill>
                <a:srgbClr val="000000"/>
              </a:solidFill>
              <a:latin typeface="Arial Black"/>
              <a:ea typeface="Arial Black"/>
            </a:endParaRPr>
          </a:p>
        </p:txBody>
      </p:sp>
      <p:sp>
        <p:nvSpPr>
          <p:cNvPr id="914" name="WordArt 72"/>
          <p:cNvSpPr txBox="1"/>
          <p:nvPr/>
        </p:nvSpPr>
        <p:spPr>
          <a:xfrm rot="2700000">
            <a:off x="-469800" y="4213080"/>
            <a:ext cx="3162240" cy="3486240"/>
          </a:xfrm>
          <a:prstGeom prst="rect">
            <a:avLst/>
          </a:prstGeom>
        </p:spPr>
        <p:txBody>
          <a:bodyPr wrap="none" fromWordArt="1" lIns="90000" rIns="90000" tIns="46800" bIns="46800" anchor="t" anchorCtr="1">
            <a:prstTxWarp prst="textArchUp">
              <a:avLst>
                <a:gd name="adj" fmla="val 142797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Universal Design</a:t>
            </a:r>
            <a:endParaRPr b="0" lang="en-US" sz="800" spc="-1" strike="noStrike">
              <a:ln w="0">
                <a:noFill/>
              </a:ln>
              <a:solidFill>
                <a:srgbClr val="000000"/>
              </a:solidFill>
              <a:latin typeface="Arial Black"/>
              <a:ea typeface="Arial Black"/>
            </a:endParaRPr>
          </a:p>
        </p:txBody>
      </p:sp>
      <p:sp>
        <p:nvSpPr>
          <p:cNvPr id="915"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grpSp>
        <p:nvGrpSpPr>
          <p:cNvPr id="917" name=""/>
          <p:cNvGrpSpPr/>
          <p:nvPr/>
        </p:nvGrpSpPr>
        <p:grpSpPr>
          <a:xfrm>
            <a:off x="631800" y="1197000"/>
            <a:ext cx="3290760" cy="2516040"/>
            <a:chOff x="631800" y="1197000"/>
            <a:chExt cx="3290760" cy="2516040"/>
          </a:xfrm>
        </p:grpSpPr>
        <p:sp>
          <p:nvSpPr>
            <p:cNvPr id="918" name="Freeform 91"/>
            <p:cNvSpPr/>
            <p:nvPr/>
          </p:nvSpPr>
          <p:spPr>
            <a:xfrm>
              <a:off x="2984400" y="2994120"/>
              <a:ext cx="196920" cy="120600"/>
            </a:xfrm>
            <a:custGeom>
              <a:avLst/>
              <a:gdLst>
                <a:gd name="textAreaLeft" fmla="*/ 0 w 196920"/>
                <a:gd name="textAreaRight" fmla="*/ 197280 w 196920"/>
                <a:gd name="textAreaTop" fmla="*/ 0 h 120600"/>
                <a:gd name="textAreaBottom" fmla="*/ 120960 h 120600"/>
              </a:gdLst>
              <a:ahLst/>
              <a:rect l="textAreaLeft" t="textAreaTop" r="textAreaRight" b="textAreaBottom"/>
              <a:pathLst>
                <a:path w="124" h="76">
                  <a:moveTo>
                    <a:pt x="12" y="76"/>
                  </a:moveTo>
                  <a:lnTo>
                    <a:pt x="0" y="49"/>
                  </a:lnTo>
                  <a:lnTo>
                    <a:pt x="8" y="19"/>
                  </a:lnTo>
                  <a:lnTo>
                    <a:pt x="58" y="0"/>
                  </a:lnTo>
                  <a:lnTo>
                    <a:pt x="124" y="19"/>
                  </a:lnTo>
                  <a:lnTo>
                    <a:pt x="112" y="54"/>
                  </a:lnTo>
                  <a:lnTo>
                    <a:pt x="62" y="54"/>
                  </a:lnTo>
                  <a:lnTo>
                    <a:pt x="56" y="58"/>
                  </a:lnTo>
                  <a:lnTo>
                    <a:pt x="42" y="66"/>
                  </a:lnTo>
                  <a:lnTo>
                    <a:pt x="35" y="70"/>
                  </a:lnTo>
                  <a:lnTo>
                    <a:pt x="26" y="75"/>
                  </a:lnTo>
                  <a:lnTo>
                    <a:pt x="18" y="76"/>
                  </a:lnTo>
                  <a:lnTo>
                    <a:pt x="12" y="76"/>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19" name="Freeform 92"/>
            <p:cNvSpPr/>
            <p:nvPr/>
          </p:nvSpPr>
          <p:spPr>
            <a:xfrm>
              <a:off x="2365200" y="1890720"/>
              <a:ext cx="567000" cy="671400"/>
            </a:xfrm>
            <a:custGeom>
              <a:avLst/>
              <a:gdLst>
                <a:gd name="textAreaLeft" fmla="*/ 0 w 567000"/>
                <a:gd name="textAreaRight" fmla="*/ 567360 w 567000"/>
                <a:gd name="textAreaTop" fmla="*/ 0 h 671400"/>
                <a:gd name="textAreaBottom" fmla="*/ 671760 h 671400"/>
              </a:gdLst>
              <a:ahLst/>
              <a:rect l="textAreaLeft" t="textAreaTop" r="textAreaRight" b="textAreaBottom"/>
              <a:pathLst>
                <a:path w="357" h="423">
                  <a:moveTo>
                    <a:pt x="261" y="423"/>
                  </a:moveTo>
                  <a:lnTo>
                    <a:pt x="234" y="389"/>
                  </a:lnTo>
                  <a:lnTo>
                    <a:pt x="231" y="362"/>
                  </a:lnTo>
                  <a:lnTo>
                    <a:pt x="181" y="339"/>
                  </a:lnTo>
                  <a:lnTo>
                    <a:pt x="142" y="301"/>
                  </a:lnTo>
                  <a:lnTo>
                    <a:pt x="131" y="279"/>
                  </a:lnTo>
                  <a:lnTo>
                    <a:pt x="173" y="262"/>
                  </a:lnTo>
                  <a:lnTo>
                    <a:pt x="188" y="205"/>
                  </a:lnTo>
                  <a:lnTo>
                    <a:pt x="176" y="140"/>
                  </a:lnTo>
                  <a:lnTo>
                    <a:pt x="104" y="148"/>
                  </a:lnTo>
                  <a:lnTo>
                    <a:pt x="47" y="125"/>
                  </a:lnTo>
                  <a:lnTo>
                    <a:pt x="0" y="68"/>
                  </a:lnTo>
                  <a:lnTo>
                    <a:pt x="24" y="26"/>
                  </a:lnTo>
                  <a:lnTo>
                    <a:pt x="62" y="95"/>
                  </a:lnTo>
                  <a:lnTo>
                    <a:pt x="60" y="92"/>
                  </a:lnTo>
                  <a:lnTo>
                    <a:pt x="59" y="84"/>
                  </a:lnTo>
                  <a:lnTo>
                    <a:pt x="59" y="81"/>
                  </a:lnTo>
                  <a:lnTo>
                    <a:pt x="60" y="78"/>
                  </a:lnTo>
                  <a:lnTo>
                    <a:pt x="62" y="77"/>
                  </a:lnTo>
                  <a:lnTo>
                    <a:pt x="66" y="75"/>
                  </a:lnTo>
                  <a:lnTo>
                    <a:pt x="68" y="75"/>
                  </a:lnTo>
                  <a:lnTo>
                    <a:pt x="69" y="72"/>
                  </a:lnTo>
                  <a:lnTo>
                    <a:pt x="69" y="65"/>
                  </a:lnTo>
                  <a:lnTo>
                    <a:pt x="68" y="54"/>
                  </a:lnTo>
                  <a:lnTo>
                    <a:pt x="66" y="42"/>
                  </a:lnTo>
                  <a:lnTo>
                    <a:pt x="60" y="21"/>
                  </a:lnTo>
                  <a:lnTo>
                    <a:pt x="59" y="11"/>
                  </a:lnTo>
                  <a:lnTo>
                    <a:pt x="63" y="8"/>
                  </a:lnTo>
                  <a:lnTo>
                    <a:pt x="74" y="3"/>
                  </a:lnTo>
                  <a:lnTo>
                    <a:pt x="80" y="1"/>
                  </a:lnTo>
                  <a:lnTo>
                    <a:pt x="86" y="0"/>
                  </a:lnTo>
                  <a:lnTo>
                    <a:pt x="90" y="3"/>
                  </a:lnTo>
                  <a:lnTo>
                    <a:pt x="92" y="6"/>
                  </a:lnTo>
                  <a:lnTo>
                    <a:pt x="93" y="14"/>
                  </a:lnTo>
                  <a:lnTo>
                    <a:pt x="93" y="23"/>
                  </a:lnTo>
                  <a:lnTo>
                    <a:pt x="92" y="41"/>
                  </a:lnTo>
                  <a:lnTo>
                    <a:pt x="93" y="50"/>
                  </a:lnTo>
                  <a:lnTo>
                    <a:pt x="98" y="57"/>
                  </a:lnTo>
                  <a:lnTo>
                    <a:pt x="101" y="60"/>
                  </a:lnTo>
                  <a:lnTo>
                    <a:pt x="106" y="62"/>
                  </a:lnTo>
                  <a:lnTo>
                    <a:pt x="110" y="63"/>
                  </a:lnTo>
                  <a:lnTo>
                    <a:pt x="116" y="63"/>
                  </a:lnTo>
                  <a:lnTo>
                    <a:pt x="127" y="63"/>
                  </a:lnTo>
                  <a:lnTo>
                    <a:pt x="137" y="62"/>
                  </a:lnTo>
                  <a:lnTo>
                    <a:pt x="145" y="59"/>
                  </a:lnTo>
                  <a:lnTo>
                    <a:pt x="151" y="56"/>
                  </a:lnTo>
                  <a:lnTo>
                    <a:pt x="160" y="51"/>
                  </a:lnTo>
                  <a:lnTo>
                    <a:pt x="161" y="48"/>
                  </a:lnTo>
                  <a:lnTo>
                    <a:pt x="246" y="71"/>
                  </a:lnTo>
                  <a:lnTo>
                    <a:pt x="250" y="77"/>
                  </a:lnTo>
                  <a:lnTo>
                    <a:pt x="261" y="89"/>
                  </a:lnTo>
                  <a:lnTo>
                    <a:pt x="267" y="98"/>
                  </a:lnTo>
                  <a:lnTo>
                    <a:pt x="271" y="107"/>
                  </a:lnTo>
                  <a:lnTo>
                    <a:pt x="274" y="118"/>
                  </a:lnTo>
                  <a:lnTo>
                    <a:pt x="276" y="130"/>
                  </a:lnTo>
                  <a:lnTo>
                    <a:pt x="279" y="181"/>
                  </a:lnTo>
                  <a:lnTo>
                    <a:pt x="280" y="209"/>
                  </a:lnTo>
                  <a:lnTo>
                    <a:pt x="338" y="220"/>
                  </a:lnTo>
                  <a:lnTo>
                    <a:pt x="357" y="286"/>
                  </a:lnTo>
                  <a:lnTo>
                    <a:pt x="326" y="294"/>
                  </a:lnTo>
                  <a:lnTo>
                    <a:pt x="307" y="279"/>
                  </a:lnTo>
                  <a:lnTo>
                    <a:pt x="280" y="267"/>
                  </a:lnTo>
                  <a:lnTo>
                    <a:pt x="280" y="274"/>
                  </a:lnTo>
                  <a:lnTo>
                    <a:pt x="280" y="291"/>
                  </a:lnTo>
                  <a:lnTo>
                    <a:pt x="282" y="298"/>
                  </a:lnTo>
                  <a:lnTo>
                    <a:pt x="283" y="307"/>
                  </a:lnTo>
                  <a:lnTo>
                    <a:pt x="286" y="313"/>
                  </a:lnTo>
                  <a:lnTo>
                    <a:pt x="289" y="315"/>
                  </a:lnTo>
                  <a:lnTo>
                    <a:pt x="291" y="316"/>
                  </a:lnTo>
                  <a:lnTo>
                    <a:pt x="301" y="318"/>
                  </a:lnTo>
                  <a:lnTo>
                    <a:pt x="304" y="319"/>
                  </a:lnTo>
                  <a:lnTo>
                    <a:pt x="307" y="322"/>
                  </a:lnTo>
                  <a:lnTo>
                    <a:pt x="309" y="325"/>
                  </a:lnTo>
                  <a:lnTo>
                    <a:pt x="310" y="331"/>
                  </a:lnTo>
                  <a:lnTo>
                    <a:pt x="310" y="351"/>
                  </a:lnTo>
                  <a:lnTo>
                    <a:pt x="310" y="363"/>
                  </a:lnTo>
                  <a:lnTo>
                    <a:pt x="307" y="372"/>
                  </a:lnTo>
                  <a:lnTo>
                    <a:pt x="304" y="380"/>
                  </a:lnTo>
                  <a:lnTo>
                    <a:pt x="301" y="384"/>
                  </a:lnTo>
                  <a:lnTo>
                    <a:pt x="294" y="392"/>
                  </a:lnTo>
                  <a:lnTo>
                    <a:pt x="291" y="393"/>
                  </a:lnTo>
                  <a:lnTo>
                    <a:pt x="291" y="423"/>
                  </a:lnTo>
                  <a:lnTo>
                    <a:pt x="261" y="423"/>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0" name="Freeform 93"/>
            <p:cNvSpPr/>
            <p:nvPr/>
          </p:nvSpPr>
          <p:spPr>
            <a:xfrm>
              <a:off x="2676600" y="1197000"/>
              <a:ext cx="1245960" cy="1428840"/>
            </a:xfrm>
            <a:custGeom>
              <a:avLst/>
              <a:gdLst>
                <a:gd name="textAreaLeft" fmla="*/ 0 w 1245960"/>
                <a:gd name="textAreaRight" fmla="*/ 1246320 w 1245960"/>
                <a:gd name="textAreaTop" fmla="*/ 0 h 1428840"/>
                <a:gd name="textAreaBottom" fmla="*/ 1429200 h 1428840"/>
              </a:gdLst>
              <a:ahLst/>
              <a:rect l="textAreaLeft" t="textAreaTop" r="textAreaRight" b="textAreaBottom"/>
              <a:pathLst>
                <a:path w="785" h="900">
                  <a:moveTo>
                    <a:pt x="368" y="848"/>
                  </a:moveTo>
                  <a:lnTo>
                    <a:pt x="328" y="781"/>
                  </a:lnTo>
                  <a:lnTo>
                    <a:pt x="291" y="731"/>
                  </a:lnTo>
                  <a:lnTo>
                    <a:pt x="291" y="646"/>
                  </a:lnTo>
                  <a:lnTo>
                    <a:pt x="294" y="567"/>
                  </a:lnTo>
                  <a:lnTo>
                    <a:pt x="294" y="508"/>
                  </a:lnTo>
                  <a:lnTo>
                    <a:pt x="256" y="535"/>
                  </a:lnTo>
                  <a:lnTo>
                    <a:pt x="256" y="478"/>
                  </a:lnTo>
                  <a:lnTo>
                    <a:pt x="229" y="378"/>
                  </a:lnTo>
                  <a:lnTo>
                    <a:pt x="199" y="318"/>
                  </a:lnTo>
                  <a:lnTo>
                    <a:pt x="126" y="301"/>
                  </a:lnTo>
                  <a:lnTo>
                    <a:pt x="62" y="268"/>
                  </a:lnTo>
                  <a:lnTo>
                    <a:pt x="23" y="241"/>
                  </a:lnTo>
                  <a:lnTo>
                    <a:pt x="62" y="229"/>
                  </a:lnTo>
                  <a:lnTo>
                    <a:pt x="0" y="191"/>
                  </a:lnTo>
                  <a:lnTo>
                    <a:pt x="0" y="184"/>
                  </a:lnTo>
                  <a:lnTo>
                    <a:pt x="1" y="176"/>
                  </a:lnTo>
                  <a:lnTo>
                    <a:pt x="3" y="169"/>
                  </a:lnTo>
                  <a:lnTo>
                    <a:pt x="7" y="160"/>
                  </a:lnTo>
                  <a:lnTo>
                    <a:pt x="12" y="152"/>
                  </a:lnTo>
                  <a:lnTo>
                    <a:pt x="16" y="149"/>
                  </a:lnTo>
                  <a:lnTo>
                    <a:pt x="21" y="148"/>
                  </a:lnTo>
                  <a:lnTo>
                    <a:pt x="26" y="146"/>
                  </a:lnTo>
                  <a:lnTo>
                    <a:pt x="30" y="145"/>
                  </a:lnTo>
                  <a:lnTo>
                    <a:pt x="44" y="145"/>
                  </a:lnTo>
                  <a:lnTo>
                    <a:pt x="62" y="142"/>
                  </a:lnTo>
                  <a:lnTo>
                    <a:pt x="99" y="134"/>
                  </a:lnTo>
                  <a:lnTo>
                    <a:pt x="145" y="122"/>
                  </a:lnTo>
                  <a:lnTo>
                    <a:pt x="166" y="101"/>
                  </a:lnTo>
                  <a:lnTo>
                    <a:pt x="182" y="83"/>
                  </a:lnTo>
                  <a:lnTo>
                    <a:pt x="194" y="72"/>
                  </a:lnTo>
                  <a:lnTo>
                    <a:pt x="205" y="63"/>
                  </a:lnTo>
                  <a:lnTo>
                    <a:pt x="218" y="53"/>
                  </a:lnTo>
                  <a:lnTo>
                    <a:pt x="226" y="47"/>
                  </a:lnTo>
                  <a:lnTo>
                    <a:pt x="235" y="42"/>
                  </a:lnTo>
                  <a:lnTo>
                    <a:pt x="246" y="39"/>
                  </a:lnTo>
                  <a:lnTo>
                    <a:pt x="256" y="38"/>
                  </a:lnTo>
                  <a:lnTo>
                    <a:pt x="267" y="38"/>
                  </a:lnTo>
                  <a:lnTo>
                    <a:pt x="279" y="36"/>
                  </a:lnTo>
                  <a:lnTo>
                    <a:pt x="298" y="32"/>
                  </a:lnTo>
                  <a:lnTo>
                    <a:pt x="316" y="29"/>
                  </a:lnTo>
                  <a:lnTo>
                    <a:pt x="333" y="27"/>
                  </a:lnTo>
                  <a:lnTo>
                    <a:pt x="340" y="29"/>
                  </a:lnTo>
                  <a:lnTo>
                    <a:pt x="350" y="33"/>
                  </a:lnTo>
                  <a:lnTo>
                    <a:pt x="371" y="45"/>
                  </a:lnTo>
                  <a:lnTo>
                    <a:pt x="389" y="59"/>
                  </a:lnTo>
                  <a:lnTo>
                    <a:pt x="396" y="63"/>
                  </a:lnTo>
                  <a:lnTo>
                    <a:pt x="401" y="65"/>
                  </a:lnTo>
                  <a:lnTo>
                    <a:pt x="413" y="63"/>
                  </a:lnTo>
                  <a:lnTo>
                    <a:pt x="428" y="62"/>
                  </a:lnTo>
                  <a:lnTo>
                    <a:pt x="435" y="59"/>
                  </a:lnTo>
                  <a:lnTo>
                    <a:pt x="443" y="56"/>
                  </a:lnTo>
                  <a:lnTo>
                    <a:pt x="450" y="51"/>
                  </a:lnTo>
                  <a:lnTo>
                    <a:pt x="455" y="45"/>
                  </a:lnTo>
                  <a:lnTo>
                    <a:pt x="461" y="41"/>
                  </a:lnTo>
                  <a:lnTo>
                    <a:pt x="470" y="35"/>
                  </a:lnTo>
                  <a:lnTo>
                    <a:pt x="482" y="30"/>
                  </a:lnTo>
                  <a:lnTo>
                    <a:pt x="494" y="27"/>
                  </a:lnTo>
                  <a:lnTo>
                    <a:pt x="520" y="21"/>
                  </a:lnTo>
                  <a:lnTo>
                    <a:pt x="539" y="20"/>
                  </a:lnTo>
                  <a:lnTo>
                    <a:pt x="557" y="17"/>
                  </a:lnTo>
                  <a:lnTo>
                    <a:pt x="582" y="12"/>
                  </a:lnTo>
                  <a:lnTo>
                    <a:pt x="624" y="3"/>
                  </a:lnTo>
                  <a:lnTo>
                    <a:pt x="643" y="0"/>
                  </a:lnTo>
                  <a:lnTo>
                    <a:pt x="655" y="0"/>
                  </a:lnTo>
                  <a:lnTo>
                    <a:pt x="669" y="0"/>
                  </a:lnTo>
                  <a:lnTo>
                    <a:pt x="681" y="0"/>
                  </a:lnTo>
                  <a:lnTo>
                    <a:pt x="692" y="3"/>
                  </a:lnTo>
                  <a:lnTo>
                    <a:pt x="696" y="5"/>
                  </a:lnTo>
                  <a:lnTo>
                    <a:pt x="699" y="8"/>
                  </a:lnTo>
                  <a:lnTo>
                    <a:pt x="702" y="11"/>
                  </a:lnTo>
                  <a:lnTo>
                    <a:pt x="704" y="15"/>
                  </a:lnTo>
                  <a:lnTo>
                    <a:pt x="704" y="23"/>
                  </a:lnTo>
                  <a:lnTo>
                    <a:pt x="704" y="29"/>
                  </a:lnTo>
                  <a:lnTo>
                    <a:pt x="702" y="35"/>
                  </a:lnTo>
                  <a:lnTo>
                    <a:pt x="702" y="42"/>
                  </a:lnTo>
                  <a:lnTo>
                    <a:pt x="704" y="51"/>
                  </a:lnTo>
                  <a:lnTo>
                    <a:pt x="710" y="63"/>
                  </a:lnTo>
                  <a:lnTo>
                    <a:pt x="719" y="80"/>
                  </a:lnTo>
                  <a:lnTo>
                    <a:pt x="734" y="102"/>
                  </a:lnTo>
                  <a:lnTo>
                    <a:pt x="752" y="128"/>
                  </a:lnTo>
                  <a:lnTo>
                    <a:pt x="765" y="152"/>
                  </a:lnTo>
                  <a:lnTo>
                    <a:pt x="776" y="175"/>
                  </a:lnTo>
                  <a:lnTo>
                    <a:pt x="782" y="194"/>
                  </a:lnTo>
                  <a:lnTo>
                    <a:pt x="785" y="209"/>
                  </a:lnTo>
                  <a:lnTo>
                    <a:pt x="785" y="217"/>
                  </a:lnTo>
                  <a:lnTo>
                    <a:pt x="785" y="223"/>
                  </a:lnTo>
                  <a:lnTo>
                    <a:pt x="783" y="228"/>
                  </a:lnTo>
                  <a:lnTo>
                    <a:pt x="780" y="231"/>
                  </a:lnTo>
                  <a:lnTo>
                    <a:pt x="777" y="232"/>
                  </a:lnTo>
                  <a:lnTo>
                    <a:pt x="773" y="234"/>
                  </a:lnTo>
                  <a:lnTo>
                    <a:pt x="755" y="234"/>
                  </a:lnTo>
                  <a:lnTo>
                    <a:pt x="749" y="235"/>
                  </a:lnTo>
                  <a:lnTo>
                    <a:pt x="743" y="238"/>
                  </a:lnTo>
                  <a:lnTo>
                    <a:pt x="740" y="246"/>
                  </a:lnTo>
                  <a:lnTo>
                    <a:pt x="737" y="258"/>
                  </a:lnTo>
                  <a:lnTo>
                    <a:pt x="735" y="274"/>
                  </a:lnTo>
                  <a:lnTo>
                    <a:pt x="734" y="298"/>
                  </a:lnTo>
                  <a:lnTo>
                    <a:pt x="734" y="470"/>
                  </a:lnTo>
                  <a:lnTo>
                    <a:pt x="735" y="506"/>
                  </a:lnTo>
                  <a:lnTo>
                    <a:pt x="735" y="529"/>
                  </a:lnTo>
                  <a:lnTo>
                    <a:pt x="734" y="550"/>
                  </a:lnTo>
                  <a:lnTo>
                    <a:pt x="732" y="570"/>
                  </a:lnTo>
                  <a:lnTo>
                    <a:pt x="728" y="588"/>
                  </a:lnTo>
                  <a:lnTo>
                    <a:pt x="725" y="594"/>
                  </a:lnTo>
                  <a:lnTo>
                    <a:pt x="722" y="598"/>
                  </a:lnTo>
                  <a:lnTo>
                    <a:pt x="717" y="603"/>
                  </a:lnTo>
                  <a:lnTo>
                    <a:pt x="711" y="604"/>
                  </a:lnTo>
                  <a:lnTo>
                    <a:pt x="687" y="607"/>
                  </a:lnTo>
                  <a:lnTo>
                    <a:pt x="660" y="612"/>
                  </a:lnTo>
                  <a:lnTo>
                    <a:pt x="648" y="616"/>
                  </a:lnTo>
                  <a:lnTo>
                    <a:pt x="636" y="621"/>
                  </a:lnTo>
                  <a:lnTo>
                    <a:pt x="625" y="627"/>
                  </a:lnTo>
                  <a:lnTo>
                    <a:pt x="616" y="634"/>
                  </a:lnTo>
                  <a:lnTo>
                    <a:pt x="606" y="643"/>
                  </a:lnTo>
                  <a:lnTo>
                    <a:pt x="595" y="649"/>
                  </a:lnTo>
                  <a:lnTo>
                    <a:pt x="574" y="663"/>
                  </a:lnTo>
                  <a:lnTo>
                    <a:pt x="554" y="674"/>
                  </a:lnTo>
                  <a:lnTo>
                    <a:pt x="547" y="680"/>
                  </a:lnTo>
                  <a:lnTo>
                    <a:pt x="542" y="684"/>
                  </a:lnTo>
                  <a:lnTo>
                    <a:pt x="535" y="704"/>
                  </a:lnTo>
                  <a:lnTo>
                    <a:pt x="532" y="711"/>
                  </a:lnTo>
                  <a:lnTo>
                    <a:pt x="527" y="711"/>
                  </a:lnTo>
                  <a:lnTo>
                    <a:pt x="517" y="711"/>
                  </a:lnTo>
                  <a:lnTo>
                    <a:pt x="511" y="713"/>
                  </a:lnTo>
                  <a:lnTo>
                    <a:pt x="506" y="716"/>
                  </a:lnTo>
                  <a:lnTo>
                    <a:pt x="500" y="720"/>
                  </a:lnTo>
                  <a:lnTo>
                    <a:pt x="497" y="726"/>
                  </a:lnTo>
                  <a:lnTo>
                    <a:pt x="488" y="744"/>
                  </a:lnTo>
                  <a:lnTo>
                    <a:pt x="475" y="768"/>
                  </a:lnTo>
                  <a:lnTo>
                    <a:pt x="469" y="781"/>
                  </a:lnTo>
                  <a:lnTo>
                    <a:pt x="464" y="794"/>
                  </a:lnTo>
                  <a:lnTo>
                    <a:pt x="460" y="806"/>
                  </a:lnTo>
                  <a:lnTo>
                    <a:pt x="460" y="818"/>
                  </a:lnTo>
                  <a:lnTo>
                    <a:pt x="460" y="862"/>
                  </a:lnTo>
                  <a:lnTo>
                    <a:pt x="461" y="878"/>
                  </a:lnTo>
                  <a:lnTo>
                    <a:pt x="460" y="891"/>
                  </a:lnTo>
                  <a:lnTo>
                    <a:pt x="458" y="894"/>
                  </a:lnTo>
                  <a:lnTo>
                    <a:pt x="455" y="895"/>
                  </a:lnTo>
                  <a:lnTo>
                    <a:pt x="446" y="897"/>
                  </a:lnTo>
                  <a:lnTo>
                    <a:pt x="432" y="898"/>
                  </a:lnTo>
                  <a:lnTo>
                    <a:pt x="419" y="900"/>
                  </a:lnTo>
                  <a:lnTo>
                    <a:pt x="393" y="900"/>
                  </a:lnTo>
                  <a:lnTo>
                    <a:pt x="383" y="898"/>
                  </a:lnTo>
                  <a:lnTo>
                    <a:pt x="368" y="848"/>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1" name="Freeform 94"/>
            <p:cNvSpPr/>
            <p:nvPr/>
          </p:nvSpPr>
          <p:spPr>
            <a:xfrm>
              <a:off x="631800" y="2033640"/>
              <a:ext cx="2408400" cy="1679400"/>
            </a:xfrm>
            <a:custGeom>
              <a:avLst/>
              <a:gdLst>
                <a:gd name="textAreaLeft" fmla="*/ 0 w 2408400"/>
                <a:gd name="textAreaRight" fmla="*/ 2408760 w 2408400"/>
                <a:gd name="textAreaTop" fmla="*/ 0 h 1679400"/>
                <a:gd name="textAreaBottom" fmla="*/ 1679760 h 1679400"/>
              </a:gdLst>
              <a:ahLst/>
              <a:rect l="textAreaLeft" t="textAreaTop" r="textAreaRight" b="textAreaBottom"/>
              <a:pathLst>
                <a:path w="1517" h="1058">
                  <a:moveTo>
                    <a:pt x="815" y="971"/>
                  </a:moveTo>
                  <a:lnTo>
                    <a:pt x="815" y="971"/>
                  </a:lnTo>
                  <a:lnTo>
                    <a:pt x="828" y="971"/>
                  </a:lnTo>
                  <a:lnTo>
                    <a:pt x="842" y="974"/>
                  </a:lnTo>
                  <a:lnTo>
                    <a:pt x="854" y="977"/>
                  </a:lnTo>
                  <a:lnTo>
                    <a:pt x="861" y="980"/>
                  </a:lnTo>
                  <a:lnTo>
                    <a:pt x="883" y="996"/>
                  </a:lnTo>
                  <a:lnTo>
                    <a:pt x="893" y="1005"/>
                  </a:lnTo>
                  <a:lnTo>
                    <a:pt x="898" y="1007"/>
                  </a:lnTo>
                  <a:lnTo>
                    <a:pt x="902" y="1007"/>
                  </a:lnTo>
                  <a:lnTo>
                    <a:pt x="913" y="1001"/>
                  </a:lnTo>
                  <a:lnTo>
                    <a:pt x="917" y="1001"/>
                  </a:lnTo>
                  <a:lnTo>
                    <a:pt x="919" y="1001"/>
                  </a:lnTo>
                  <a:lnTo>
                    <a:pt x="920" y="1002"/>
                  </a:lnTo>
                  <a:lnTo>
                    <a:pt x="934" y="1018"/>
                  </a:lnTo>
                  <a:lnTo>
                    <a:pt x="947" y="1031"/>
                  </a:lnTo>
                  <a:lnTo>
                    <a:pt x="949" y="1033"/>
                  </a:lnTo>
                  <a:lnTo>
                    <a:pt x="949" y="1034"/>
                  </a:lnTo>
                  <a:lnTo>
                    <a:pt x="949" y="1039"/>
                  </a:lnTo>
                  <a:lnTo>
                    <a:pt x="950" y="1042"/>
                  </a:lnTo>
                  <a:lnTo>
                    <a:pt x="953" y="1045"/>
                  </a:lnTo>
                  <a:lnTo>
                    <a:pt x="958" y="1048"/>
                  </a:lnTo>
                  <a:lnTo>
                    <a:pt x="967" y="1051"/>
                  </a:lnTo>
                  <a:lnTo>
                    <a:pt x="967" y="1043"/>
                  </a:lnTo>
                  <a:lnTo>
                    <a:pt x="968" y="1037"/>
                  </a:lnTo>
                  <a:lnTo>
                    <a:pt x="970" y="1031"/>
                  </a:lnTo>
                  <a:lnTo>
                    <a:pt x="974" y="1025"/>
                  </a:lnTo>
                  <a:lnTo>
                    <a:pt x="982" y="1016"/>
                  </a:lnTo>
                  <a:lnTo>
                    <a:pt x="993" y="1007"/>
                  </a:lnTo>
                  <a:lnTo>
                    <a:pt x="1005" y="1001"/>
                  </a:lnTo>
                  <a:lnTo>
                    <a:pt x="1017" y="996"/>
                  </a:lnTo>
                  <a:lnTo>
                    <a:pt x="1039" y="992"/>
                  </a:lnTo>
                  <a:lnTo>
                    <a:pt x="1051" y="989"/>
                  </a:lnTo>
                  <a:lnTo>
                    <a:pt x="1060" y="987"/>
                  </a:lnTo>
                  <a:lnTo>
                    <a:pt x="1077" y="989"/>
                  </a:lnTo>
                  <a:lnTo>
                    <a:pt x="1088" y="990"/>
                  </a:lnTo>
                  <a:lnTo>
                    <a:pt x="1097" y="992"/>
                  </a:lnTo>
                  <a:lnTo>
                    <a:pt x="1103" y="992"/>
                  </a:lnTo>
                  <a:lnTo>
                    <a:pt x="1109" y="995"/>
                  </a:lnTo>
                  <a:lnTo>
                    <a:pt x="1125" y="1001"/>
                  </a:lnTo>
                  <a:lnTo>
                    <a:pt x="1146" y="1010"/>
                  </a:lnTo>
                  <a:lnTo>
                    <a:pt x="1166" y="1057"/>
                  </a:lnTo>
                  <a:lnTo>
                    <a:pt x="1170" y="1057"/>
                  </a:lnTo>
                  <a:lnTo>
                    <a:pt x="1181" y="1058"/>
                  </a:lnTo>
                  <a:lnTo>
                    <a:pt x="1187" y="1058"/>
                  </a:lnTo>
                  <a:lnTo>
                    <a:pt x="1191" y="1057"/>
                  </a:lnTo>
                  <a:lnTo>
                    <a:pt x="1194" y="1054"/>
                  </a:lnTo>
                  <a:lnTo>
                    <a:pt x="1196" y="1049"/>
                  </a:lnTo>
                  <a:lnTo>
                    <a:pt x="1196" y="968"/>
                  </a:lnTo>
                  <a:lnTo>
                    <a:pt x="1198" y="953"/>
                  </a:lnTo>
                  <a:lnTo>
                    <a:pt x="1204" y="935"/>
                  </a:lnTo>
                  <a:lnTo>
                    <a:pt x="1211" y="915"/>
                  </a:lnTo>
                  <a:lnTo>
                    <a:pt x="1222" y="894"/>
                  </a:lnTo>
                  <a:lnTo>
                    <a:pt x="1238" y="861"/>
                  </a:lnTo>
                  <a:lnTo>
                    <a:pt x="1246" y="846"/>
                  </a:lnTo>
                  <a:lnTo>
                    <a:pt x="1261" y="835"/>
                  </a:lnTo>
                  <a:lnTo>
                    <a:pt x="1267" y="831"/>
                  </a:lnTo>
                  <a:lnTo>
                    <a:pt x="1271" y="829"/>
                  </a:lnTo>
                  <a:lnTo>
                    <a:pt x="1279" y="828"/>
                  </a:lnTo>
                  <a:lnTo>
                    <a:pt x="1282" y="829"/>
                  </a:lnTo>
                  <a:lnTo>
                    <a:pt x="1283" y="831"/>
                  </a:lnTo>
                  <a:lnTo>
                    <a:pt x="1323" y="823"/>
                  </a:lnTo>
                  <a:lnTo>
                    <a:pt x="1332" y="799"/>
                  </a:lnTo>
                  <a:lnTo>
                    <a:pt x="1345" y="766"/>
                  </a:lnTo>
                  <a:lnTo>
                    <a:pt x="1350" y="755"/>
                  </a:lnTo>
                  <a:lnTo>
                    <a:pt x="1356" y="745"/>
                  </a:lnTo>
                  <a:lnTo>
                    <a:pt x="1365" y="731"/>
                  </a:lnTo>
                  <a:lnTo>
                    <a:pt x="1381" y="718"/>
                  </a:lnTo>
                  <a:lnTo>
                    <a:pt x="1396" y="709"/>
                  </a:lnTo>
                  <a:lnTo>
                    <a:pt x="1404" y="706"/>
                  </a:lnTo>
                  <a:lnTo>
                    <a:pt x="1410" y="704"/>
                  </a:lnTo>
                  <a:lnTo>
                    <a:pt x="1413" y="704"/>
                  </a:lnTo>
                  <a:lnTo>
                    <a:pt x="1416" y="703"/>
                  </a:lnTo>
                  <a:lnTo>
                    <a:pt x="1419" y="698"/>
                  </a:lnTo>
                  <a:lnTo>
                    <a:pt x="1424" y="691"/>
                  </a:lnTo>
                  <a:lnTo>
                    <a:pt x="1425" y="683"/>
                  </a:lnTo>
                  <a:lnTo>
                    <a:pt x="1428" y="669"/>
                  </a:lnTo>
                  <a:lnTo>
                    <a:pt x="1430" y="662"/>
                  </a:lnTo>
                  <a:lnTo>
                    <a:pt x="1383" y="662"/>
                  </a:lnTo>
                  <a:lnTo>
                    <a:pt x="1357" y="654"/>
                  </a:lnTo>
                  <a:lnTo>
                    <a:pt x="1374" y="635"/>
                  </a:lnTo>
                  <a:lnTo>
                    <a:pt x="1389" y="620"/>
                  </a:lnTo>
                  <a:lnTo>
                    <a:pt x="1396" y="614"/>
                  </a:lnTo>
                  <a:lnTo>
                    <a:pt x="1402" y="609"/>
                  </a:lnTo>
                  <a:lnTo>
                    <a:pt x="1410" y="606"/>
                  </a:lnTo>
                  <a:lnTo>
                    <a:pt x="1421" y="605"/>
                  </a:lnTo>
                  <a:lnTo>
                    <a:pt x="1443" y="602"/>
                  </a:lnTo>
                  <a:lnTo>
                    <a:pt x="1472" y="602"/>
                  </a:lnTo>
                  <a:lnTo>
                    <a:pt x="1517" y="562"/>
                  </a:lnTo>
                  <a:lnTo>
                    <a:pt x="1502" y="519"/>
                  </a:lnTo>
                  <a:lnTo>
                    <a:pt x="1491" y="484"/>
                  </a:lnTo>
                  <a:lnTo>
                    <a:pt x="1488" y="469"/>
                  </a:lnTo>
                  <a:lnTo>
                    <a:pt x="1487" y="460"/>
                  </a:lnTo>
                  <a:lnTo>
                    <a:pt x="1485" y="455"/>
                  </a:lnTo>
                  <a:lnTo>
                    <a:pt x="1484" y="451"/>
                  </a:lnTo>
                  <a:lnTo>
                    <a:pt x="1476" y="437"/>
                  </a:lnTo>
                  <a:lnTo>
                    <a:pt x="1464" y="424"/>
                  </a:lnTo>
                  <a:lnTo>
                    <a:pt x="1452" y="409"/>
                  </a:lnTo>
                  <a:lnTo>
                    <a:pt x="1428" y="383"/>
                  </a:lnTo>
                  <a:lnTo>
                    <a:pt x="1418" y="371"/>
                  </a:lnTo>
                  <a:lnTo>
                    <a:pt x="1410" y="418"/>
                  </a:lnTo>
                  <a:lnTo>
                    <a:pt x="1402" y="415"/>
                  </a:lnTo>
                  <a:lnTo>
                    <a:pt x="1386" y="409"/>
                  </a:lnTo>
                  <a:lnTo>
                    <a:pt x="1377" y="404"/>
                  </a:lnTo>
                  <a:lnTo>
                    <a:pt x="1368" y="398"/>
                  </a:lnTo>
                  <a:lnTo>
                    <a:pt x="1362" y="391"/>
                  </a:lnTo>
                  <a:lnTo>
                    <a:pt x="1357" y="383"/>
                  </a:lnTo>
                  <a:lnTo>
                    <a:pt x="1353" y="374"/>
                  </a:lnTo>
                  <a:lnTo>
                    <a:pt x="1347" y="364"/>
                  </a:lnTo>
                  <a:lnTo>
                    <a:pt x="1339" y="354"/>
                  </a:lnTo>
                  <a:lnTo>
                    <a:pt x="1330" y="344"/>
                  </a:lnTo>
                  <a:lnTo>
                    <a:pt x="1320" y="333"/>
                  </a:lnTo>
                  <a:lnTo>
                    <a:pt x="1308" y="323"/>
                  </a:lnTo>
                  <a:lnTo>
                    <a:pt x="1294" y="314"/>
                  </a:lnTo>
                  <a:lnTo>
                    <a:pt x="1280" y="306"/>
                  </a:lnTo>
                  <a:lnTo>
                    <a:pt x="1273" y="305"/>
                  </a:lnTo>
                  <a:lnTo>
                    <a:pt x="1267" y="305"/>
                  </a:lnTo>
                  <a:lnTo>
                    <a:pt x="1261" y="308"/>
                  </a:lnTo>
                  <a:lnTo>
                    <a:pt x="1256" y="312"/>
                  </a:lnTo>
                  <a:lnTo>
                    <a:pt x="1250" y="318"/>
                  </a:lnTo>
                  <a:lnTo>
                    <a:pt x="1246" y="324"/>
                  </a:lnTo>
                  <a:lnTo>
                    <a:pt x="1240" y="341"/>
                  </a:lnTo>
                  <a:lnTo>
                    <a:pt x="1234" y="359"/>
                  </a:lnTo>
                  <a:lnTo>
                    <a:pt x="1229" y="376"/>
                  </a:lnTo>
                  <a:lnTo>
                    <a:pt x="1226" y="391"/>
                  </a:lnTo>
                  <a:lnTo>
                    <a:pt x="1226" y="433"/>
                  </a:lnTo>
                  <a:lnTo>
                    <a:pt x="1223" y="505"/>
                  </a:lnTo>
                  <a:lnTo>
                    <a:pt x="1208" y="555"/>
                  </a:lnTo>
                  <a:lnTo>
                    <a:pt x="1188" y="559"/>
                  </a:lnTo>
                  <a:lnTo>
                    <a:pt x="1166" y="513"/>
                  </a:lnTo>
                  <a:lnTo>
                    <a:pt x="1154" y="508"/>
                  </a:lnTo>
                  <a:lnTo>
                    <a:pt x="1127" y="495"/>
                  </a:lnTo>
                  <a:lnTo>
                    <a:pt x="1113" y="486"/>
                  </a:lnTo>
                  <a:lnTo>
                    <a:pt x="1101" y="478"/>
                  </a:lnTo>
                  <a:lnTo>
                    <a:pt x="1092" y="471"/>
                  </a:lnTo>
                  <a:lnTo>
                    <a:pt x="1091" y="466"/>
                  </a:lnTo>
                  <a:lnTo>
                    <a:pt x="1089" y="463"/>
                  </a:lnTo>
                  <a:lnTo>
                    <a:pt x="1089" y="460"/>
                  </a:lnTo>
                  <a:lnTo>
                    <a:pt x="1086" y="457"/>
                  </a:lnTo>
                  <a:lnTo>
                    <a:pt x="1080" y="449"/>
                  </a:lnTo>
                  <a:lnTo>
                    <a:pt x="1062" y="431"/>
                  </a:lnTo>
                  <a:lnTo>
                    <a:pt x="1053" y="421"/>
                  </a:lnTo>
                  <a:lnTo>
                    <a:pt x="1044" y="412"/>
                  </a:lnTo>
                  <a:lnTo>
                    <a:pt x="1038" y="401"/>
                  </a:lnTo>
                  <a:lnTo>
                    <a:pt x="1036" y="395"/>
                  </a:lnTo>
                  <a:lnTo>
                    <a:pt x="1035" y="391"/>
                  </a:lnTo>
                  <a:lnTo>
                    <a:pt x="1035" y="386"/>
                  </a:lnTo>
                  <a:lnTo>
                    <a:pt x="1033" y="383"/>
                  </a:lnTo>
                  <a:lnTo>
                    <a:pt x="1032" y="382"/>
                  </a:lnTo>
                  <a:lnTo>
                    <a:pt x="1030" y="380"/>
                  </a:lnTo>
                  <a:lnTo>
                    <a:pt x="1024" y="380"/>
                  </a:lnTo>
                  <a:lnTo>
                    <a:pt x="1018" y="382"/>
                  </a:lnTo>
                  <a:lnTo>
                    <a:pt x="1012" y="385"/>
                  </a:lnTo>
                  <a:lnTo>
                    <a:pt x="1006" y="386"/>
                  </a:lnTo>
                  <a:lnTo>
                    <a:pt x="1005" y="385"/>
                  </a:lnTo>
                  <a:lnTo>
                    <a:pt x="1003" y="385"/>
                  </a:lnTo>
                  <a:lnTo>
                    <a:pt x="1002" y="382"/>
                  </a:lnTo>
                  <a:lnTo>
                    <a:pt x="1002" y="379"/>
                  </a:lnTo>
                  <a:lnTo>
                    <a:pt x="1002" y="371"/>
                  </a:lnTo>
                  <a:lnTo>
                    <a:pt x="1005" y="364"/>
                  </a:lnTo>
                  <a:lnTo>
                    <a:pt x="1011" y="347"/>
                  </a:lnTo>
                  <a:lnTo>
                    <a:pt x="1017" y="332"/>
                  </a:lnTo>
                  <a:lnTo>
                    <a:pt x="1020" y="324"/>
                  </a:lnTo>
                  <a:lnTo>
                    <a:pt x="1020" y="318"/>
                  </a:lnTo>
                  <a:lnTo>
                    <a:pt x="1021" y="306"/>
                  </a:lnTo>
                  <a:lnTo>
                    <a:pt x="1023" y="300"/>
                  </a:lnTo>
                  <a:lnTo>
                    <a:pt x="1024" y="294"/>
                  </a:lnTo>
                  <a:lnTo>
                    <a:pt x="1029" y="288"/>
                  </a:lnTo>
                  <a:lnTo>
                    <a:pt x="1033" y="282"/>
                  </a:lnTo>
                  <a:lnTo>
                    <a:pt x="1039" y="276"/>
                  </a:lnTo>
                  <a:lnTo>
                    <a:pt x="1047" y="272"/>
                  </a:lnTo>
                  <a:lnTo>
                    <a:pt x="1065" y="264"/>
                  </a:lnTo>
                  <a:lnTo>
                    <a:pt x="1084" y="257"/>
                  </a:lnTo>
                  <a:lnTo>
                    <a:pt x="1104" y="249"/>
                  </a:lnTo>
                  <a:lnTo>
                    <a:pt x="1062" y="214"/>
                  </a:lnTo>
                  <a:lnTo>
                    <a:pt x="1112" y="207"/>
                  </a:lnTo>
                  <a:lnTo>
                    <a:pt x="1118" y="205"/>
                  </a:lnTo>
                  <a:lnTo>
                    <a:pt x="1124" y="201"/>
                  </a:lnTo>
                  <a:lnTo>
                    <a:pt x="1131" y="195"/>
                  </a:lnTo>
                  <a:lnTo>
                    <a:pt x="1142" y="186"/>
                  </a:lnTo>
                  <a:lnTo>
                    <a:pt x="1152" y="172"/>
                  </a:lnTo>
                  <a:lnTo>
                    <a:pt x="1164" y="154"/>
                  </a:lnTo>
                  <a:lnTo>
                    <a:pt x="1176" y="130"/>
                  </a:lnTo>
                  <a:lnTo>
                    <a:pt x="1182" y="119"/>
                  </a:lnTo>
                  <a:lnTo>
                    <a:pt x="1185" y="109"/>
                  </a:lnTo>
                  <a:lnTo>
                    <a:pt x="1187" y="100"/>
                  </a:lnTo>
                  <a:lnTo>
                    <a:pt x="1187" y="92"/>
                  </a:lnTo>
                  <a:lnTo>
                    <a:pt x="1185" y="86"/>
                  </a:lnTo>
                  <a:lnTo>
                    <a:pt x="1184" y="82"/>
                  </a:lnTo>
                  <a:lnTo>
                    <a:pt x="1181" y="79"/>
                  </a:lnTo>
                  <a:lnTo>
                    <a:pt x="1176" y="76"/>
                  </a:lnTo>
                  <a:lnTo>
                    <a:pt x="1167" y="73"/>
                  </a:lnTo>
                  <a:lnTo>
                    <a:pt x="1160" y="73"/>
                  </a:lnTo>
                  <a:lnTo>
                    <a:pt x="1151" y="73"/>
                  </a:lnTo>
                  <a:lnTo>
                    <a:pt x="1149" y="77"/>
                  </a:lnTo>
                  <a:lnTo>
                    <a:pt x="1143" y="89"/>
                  </a:lnTo>
                  <a:lnTo>
                    <a:pt x="1134" y="104"/>
                  </a:lnTo>
                  <a:lnTo>
                    <a:pt x="1127" y="112"/>
                  </a:lnTo>
                  <a:lnTo>
                    <a:pt x="1119" y="119"/>
                  </a:lnTo>
                  <a:lnTo>
                    <a:pt x="1115" y="122"/>
                  </a:lnTo>
                  <a:lnTo>
                    <a:pt x="1110" y="124"/>
                  </a:lnTo>
                  <a:lnTo>
                    <a:pt x="1104" y="125"/>
                  </a:lnTo>
                  <a:lnTo>
                    <a:pt x="1100" y="125"/>
                  </a:lnTo>
                  <a:lnTo>
                    <a:pt x="1088" y="122"/>
                  </a:lnTo>
                  <a:lnTo>
                    <a:pt x="1077" y="119"/>
                  </a:lnTo>
                  <a:lnTo>
                    <a:pt x="1066" y="113"/>
                  </a:lnTo>
                  <a:lnTo>
                    <a:pt x="1059" y="109"/>
                  </a:lnTo>
                  <a:lnTo>
                    <a:pt x="1051" y="104"/>
                  </a:lnTo>
                  <a:lnTo>
                    <a:pt x="1047" y="94"/>
                  </a:lnTo>
                  <a:lnTo>
                    <a:pt x="1039" y="70"/>
                  </a:lnTo>
                  <a:lnTo>
                    <a:pt x="1035" y="56"/>
                  </a:lnTo>
                  <a:lnTo>
                    <a:pt x="1030" y="46"/>
                  </a:lnTo>
                  <a:lnTo>
                    <a:pt x="1024" y="38"/>
                  </a:lnTo>
                  <a:lnTo>
                    <a:pt x="1023" y="37"/>
                  </a:lnTo>
                  <a:lnTo>
                    <a:pt x="1020" y="35"/>
                  </a:lnTo>
                  <a:lnTo>
                    <a:pt x="1017" y="34"/>
                  </a:lnTo>
                  <a:lnTo>
                    <a:pt x="1014" y="29"/>
                  </a:lnTo>
                  <a:lnTo>
                    <a:pt x="1011" y="25"/>
                  </a:lnTo>
                  <a:lnTo>
                    <a:pt x="1011" y="18"/>
                  </a:lnTo>
                  <a:lnTo>
                    <a:pt x="1009" y="6"/>
                  </a:lnTo>
                  <a:lnTo>
                    <a:pt x="1009" y="0"/>
                  </a:lnTo>
                  <a:lnTo>
                    <a:pt x="982" y="0"/>
                  </a:lnTo>
                  <a:lnTo>
                    <a:pt x="970" y="20"/>
                  </a:lnTo>
                  <a:lnTo>
                    <a:pt x="962" y="43"/>
                  </a:lnTo>
                  <a:lnTo>
                    <a:pt x="964" y="47"/>
                  </a:lnTo>
                  <a:lnTo>
                    <a:pt x="971" y="58"/>
                  </a:lnTo>
                  <a:lnTo>
                    <a:pt x="976" y="65"/>
                  </a:lnTo>
                  <a:lnTo>
                    <a:pt x="984" y="71"/>
                  </a:lnTo>
                  <a:lnTo>
                    <a:pt x="993" y="79"/>
                  </a:lnTo>
                  <a:lnTo>
                    <a:pt x="1005" y="85"/>
                  </a:lnTo>
                  <a:lnTo>
                    <a:pt x="1011" y="88"/>
                  </a:lnTo>
                  <a:lnTo>
                    <a:pt x="1015" y="91"/>
                  </a:lnTo>
                  <a:lnTo>
                    <a:pt x="1017" y="94"/>
                  </a:lnTo>
                  <a:lnTo>
                    <a:pt x="1018" y="98"/>
                  </a:lnTo>
                  <a:lnTo>
                    <a:pt x="1020" y="101"/>
                  </a:lnTo>
                  <a:lnTo>
                    <a:pt x="1018" y="104"/>
                  </a:lnTo>
                  <a:lnTo>
                    <a:pt x="1015" y="112"/>
                  </a:lnTo>
                  <a:lnTo>
                    <a:pt x="1011" y="118"/>
                  </a:lnTo>
                  <a:lnTo>
                    <a:pt x="1006" y="122"/>
                  </a:lnTo>
                  <a:lnTo>
                    <a:pt x="1002" y="127"/>
                  </a:lnTo>
                  <a:lnTo>
                    <a:pt x="974" y="127"/>
                  </a:lnTo>
                  <a:lnTo>
                    <a:pt x="952" y="127"/>
                  </a:lnTo>
                  <a:lnTo>
                    <a:pt x="922" y="127"/>
                  </a:lnTo>
                  <a:lnTo>
                    <a:pt x="896" y="125"/>
                  </a:lnTo>
                  <a:lnTo>
                    <a:pt x="875" y="122"/>
                  </a:lnTo>
                  <a:lnTo>
                    <a:pt x="858" y="122"/>
                  </a:lnTo>
                  <a:lnTo>
                    <a:pt x="845" y="124"/>
                  </a:lnTo>
                  <a:lnTo>
                    <a:pt x="836" y="125"/>
                  </a:lnTo>
                  <a:lnTo>
                    <a:pt x="833" y="127"/>
                  </a:lnTo>
                  <a:lnTo>
                    <a:pt x="825" y="147"/>
                  </a:lnTo>
                  <a:lnTo>
                    <a:pt x="798" y="147"/>
                  </a:lnTo>
                  <a:lnTo>
                    <a:pt x="748" y="147"/>
                  </a:lnTo>
                  <a:lnTo>
                    <a:pt x="744" y="145"/>
                  </a:lnTo>
                  <a:lnTo>
                    <a:pt x="739" y="141"/>
                  </a:lnTo>
                  <a:lnTo>
                    <a:pt x="736" y="135"/>
                  </a:lnTo>
                  <a:lnTo>
                    <a:pt x="735" y="128"/>
                  </a:lnTo>
                  <a:lnTo>
                    <a:pt x="733" y="116"/>
                  </a:lnTo>
                  <a:lnTo>
                    <a:pt x="733" y="112"/>
                  </a:lnTo>
                  <a:lnTo>
                    <a:pt x="730" y="107"/>
                  </a:lnTo>
                  <a:lnTo>
                    <a:pt x="724" y="98"/>
                  </a:lnTo>
                  <a:lnTo>
                    <a:pt x="718" y="94"/>
                  </a:lnTo>
                  <a:lnTo>
                    <a:pt x="712" y="88"/>
                  </a:lnTo>
                  <a:lnTo>
                    <a:pt x="705" y="82"/>
                  </a:lnTo>
                  <a:lnTo>
                    <a:pt x="694" y="77"/>
                  </a:lnTo>
                  <a:lnTo>
                    <a:pt x="685" y="74"/>
                  </a:lnTo>
                  <a:lnTo>
                    <a:pt x="676" y="73"/>
                  </a:lnTo>
                  <a:lnTo>
                    <a:pt x="667" y="73"/>
                  </a:lnTo>
                  <a:lnTo>
                    <a:pt x="658" y="73"/>
                  </a:lnTo>
                  <a:lnTo>
                    <a:pt x="644" y="76"/>
                  </a:lnTo>
                  <a:lnTo>
                    <a:pt x="634" y="77"/>
                  </a:lnTo>
                  <a:lnTo>
                    <a:pt x="620" y="74"/>
                  </a:lnTo>
                  <a:lnTo>
                    <a:pt x="601" y="67"/>
                  </a:lnTo>
                  <a:lnTo>
                    <a:pt x="590" y="62"/>
                  </a:lnTo>
                  <a:lnTo>
                    <a:pt x="581" y="56"/>
                  </a:lnTo>
                  <a:lnTo>
                    <a:pt x="572" y="50"/>
                  </a:lnTo>
                  <a:lnTo>
                    <a:pt x="565" y="43"/>
                  </a:lnTo>
                  <a:lnTo>
                    <a:pt x="559" y="37"/>
                  </a:lnTo>
                  <a:lnTo>
                    <a:pt x="550" y="34"/>
                  </a:lnTo>
                  <a:lnTo>
                    <a:pt x="541" y="34"/>
                  </a:lnTo>
                  <a:lnTo>
                    <a:pt x="533" y="34"/>
                  </a:lnTo>
                  <a:lnTo>
                    <a:pt x="518" y="37"/>
                  </a:lnTo>
                  <a:lnTo>
                    <a:pt x="512" y="40"/>
                  </a:lnTo>
                  <a:lnTo>
                    <a:pt x="462" y="85"/>
                  </a:lnTo>
                  <a:lnTo>
                    <a:pt x="412" y="97"/>
                  </a:lnTo>
                  <a:lnTo>
                    <a:pt x="381" y="77"/>
                  </a:lnTo>
                  <a:lnTo>
                    <a:pt x="343" y="55"/>
                  </a:lnTo>
                  <a:lnTo>
                    <a:pt x="308" y="40"/>
                  </a:lnTo>
                  <a:lnTo>
                    <a:pt x="259" y="40"/>
                  </a:lnTo>
                  <a:lnTo>
                    <a:pt x="194" y="35"/>
                  </a:lnTo>
                  <a:lnTo>
                    <a:pt x="152" y="5"/>
                  </a:lnTo>
                  <a:lnTo>
                    <a:pt x="90" y="35"/>
                  </a:lnTo>
                  <a:lnTo>
                    <a:pt x="82" y="80"/>
                  </a:lnTo>
                  <a:lnTo>
                    <a:pt x="18" y="92"/>
                  </a:lnTo>
                  <a:lnTo>
                    <a:pt x="0" y="119"/>
                  </a:lnTo>
                  <a:lnTo>
                    <a:pt x="25" y="154"/>
                  </a:lnTo>
                  <a:lnTo>
                    <a:pt x="72" y="189"/>
                  </a:lnTo>
                  <a:lnTo>
                    <a:pt x="18" y="196"/>
                  </a:lnTo>
                  <a:lnTo>
                    <a:pt x="33" y="241"/>
                  </a:lnTo>
                  <a:lnTo>
                    <a:pt x="79" y="241"/>
                  </a:lnTo>
                  <a:lnTo>
                    <a:pt x="75" y="284"/>
                  </a:lnTo>
                  <a:lnTo>
                    <a:pt x="30" y="329"/>
                  </a:lnTo>
                  <a:lnTo>
                    <a:pt x="30" y="361"/>
                  </a:lnTo>
                  <a:lnTo>
                    <a:pt x="64" y="388"/>
                  </a:lnTo>
                  <a:lnTo>
                    <a:pt x="90" y="403"/>
                  </a:lnTo>
                  <a:lnTo>
                    <a:pt x="114" y="403"/>
                  </a:lnTo>
                  <a:lnTo>
                    <a:pt x="97" y="433"/>
                  </a:lnTo>
                  <a:lnTo>
                    <a:pt x="102" y="471"/>
                  </a:lnTo>
                  <a:lnTo>
                    <a:pt x="147" y="471"/>
                  </a:lnTo>
                  <a:lnTo>
                    <a:pt x="167" y="437"/>
                  </a:lnTo>
                  <a:lnTo>
                    <a:pt x="209" y="391"/>
                  </a:lnTo>
                  <a:lnTo>
                    <a:pt x="229" y="361"/>
                  </a:lnTo>
                  <a:lnTo>
                    <a:pt x="256" y="371"/>
                  </a:lnTo>
                  <a:lnTo>
                    <a:pt x="289" y="368"/>
                  </a:lnTo>
                  <a:lnTo>
                    <a:pt x="324" y="368"/>
                  </a:lnTo>
                  <a:lnTo>
                    <a:pt x="346" y="395"/>
                  </a:lnTo>
                  <a:lnTo>
                    <a:pt x="393" y="395"/>
                  </a:lnTo>
                  <a:lnTo>
                    <a:pt x="427" y="406"/>
                  </a:lnTo>
                  <a:lnTo>
                    <a:pt x="488" y="463"/>
                  </a:lnTo>
                  <a:lnTo>
                    <a:pt x="530" y="520"/>
                  </a:lnTo>
                  <a:lnTo>
                    <a:pt x="542" y="570"/>
                  </a:lnTo>
                  <a:lnTo>
                    <a:pt x="592" y="632"/>
                  </a:lnTo>
                  <a:lnTo>
                    <a:pt x="599" y="674"/>
                  </a:lnTo>
                  <a:lnTo>
                    <a:pt x="599" y="719"/>
                  </a:lnTo>
                  <a:lnTo>
                    <a:pt x="607" y="727"/>
                  </a:lnTo>
                  <a:lnTo>
                    <a:pt x="613" y="734"/>
                  </a:lnTo>
                  <a:lnTo>
                    <a:pt x="619" y="745"/>
                  </a:lnTo>
                  <a:lnTo>
                    <a:pt x="625" y="758"/>
                  </a:lnTo>
                  <a:lnTo>
                    <a:pt x="626" y="766"/>
                  </a:lnTo>
                  <a:lnTo>
                    <a:pt x="626" y="775"/>
                  </a:lnTo>
                  <a:lnTo>
                    <a:pt x="626" y="784"/>
                  </a:lnTo>
                  <a:lnTo>
                    <a:pt x="625" y="793"/>
                  </a:lnTo>
                  <a:lnTo>
                    <a:pt x="623" y="804"/>
                  </a:lnTo>
                  <a:lnTo>
                    <a:pt x="619" y="816"/>
                  </a:lnTo>
                  <a:lnTo>
                    <a:pt x="614" y="826"/>
                  </a:lnTo>
                  <a:lnTo>
                    <a:pt x="611" y="835"/>
                  </a:lnTo>
                  <a:lnTo>
                    <a:pt x="611" y="843"/>
                  </a:lnTo>
                  <a:lnTo>
                    <a:pt x="611" y="849"/>
                  </a:lnTo>
                  <a:lnTo>
                    <a:pt x="611" y="853"/>
                  </a:lnTo>
                  <a:lnTo>
                    <a:pt x="614" y="856"/>
                  </a:lnTo>
                  <a:lnTo>
                    <a:pt x="620" y="862"/>
                  </a:lnTo>
                  <a:lnTo>
                    <a:pt x="634" y="871"/>
                  </a:lnTo>
                  <a:lnTo>
                    <a:pt x="640" y="876"/>
                  </a:lnTo>
                  <a:lnTo>
                    <a:pt x="641" y="880"/>
                  </a:lnTo>
                  <a:lnTo>
                    <a:pt x="641" y="885"/>
                  </a:lnTo>
                  <a:lnTo>
                    <a:pt x="643" y="889"/>
                  </a:lnTo>
                  <a:lnTo>
                    <a:pt x="644" y="895"/>
                  </a:lnTo>
                  <a:lnTo>
                    <a:pt x="655" y="912"/>
                  </a:lnTo>
                  <a:lnTo>
                    <a:pt x="670" y="933"/>
                  </a:lnTo>
                  <a:lnTo>
                    <a:pt x="687" y="956"/>
                  </a:lnTo>
                  <a:lnTo>
                    <a:pt x="717" y="957"/>
                  </a:lnTo>
                  <a:lnTo>
                    <a:pt x="727" y="959"/>
                  </a:lnTo>
                  <a:lnTo>
                    <a:pt x="736" y="960"/>
                  </a:lnTo>
                  <a:lnTo>
                    <a:pt x="745" y="965"/>
                  </a:lnTo>
                  <a:lnTo>
                    <a:pt x="754" y="966"/>
                  </a:lnTo>
                  <a:lnTo>
                    <a:pt x="777" y="969"/>
                  </a:lnTo>
                  <a:lnTo>
                    <a:pt x="798" y="971"/>
                  </a:lnTo>
                  <a:lnTo>
                    <a:pt x="815" y="971"/>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922" name="Freeform 96"/>
          <p:cNvSpPr/>
          <p:nvPr/>
        </p:nvSpPr>
        <p:spPr>
          <a:xfrm>
            <a:off x="2984400" y="2995560"/>
            <a:ext cx="196920" cy="120600"/>
          </a:xfrm>
          <a:custGeom>
            <a:avLst/>
            <a:gdLst>
              <a:gd name="textAreaLeft" fmla="*/ 0 w 196920"/>
              <a:gd name="textAreaRight" fmla="*/ 197280 w 196920"/>
              <a:gd name="textAreaTop" fmla="*/ 0 h 120600"/>
              <a:gd name="textAreaBottom" fmla="*/ 120960 h 120600"/>
            </a:gdLst>
            <a:ahLst/>
            <a:rect l="textAreaLeft" t="textAreaTop" r="textAreaRight" b="textAreaBottom"/>
            <a:pathLst>
              <a:path w="124" h="76">
                <a:moveTo>
                  <a:pt x="12" y="76"/>
                </a:moveTo>
                <a:lnTo>
                  <a:pt x="0" y="49"/>
                </a:lnTo>
                <a:lnTo>
                  <a:pt x="8" y="19"/>
                </a:lnTo>
                <a:lnTo>
                  <a:pt x="58" y="0"/>
                </a:lnTo>
                <a:lnTo>
                  <a:pt x="124" y="19"/>
                </a:lnTo>
                <a:lnTo>
                  <a:pt x="112" y="54"/>
                </a:lnTo>
                <a:lnTo>
                  <a:pt x="62" y="54"/>
                </a:lnTo>
                <a:lnTo>
                  <a:pt x="56" y="58"/>
                </a:lnTo>
                <a:lnTo>
                  <a:pt x="42" y="66"/>
                </a:lnTo>
                <a:lnTo>
                  <a:pt x="35" y="70"/>
                </a:lnTo>
                <a:lnTo>
                  <a:pt x="26" y="75"/>
                </a:lnTo>
                <a:lnTo>
                  <a:pt x="18" y="76"/>
                </a:lnTo>
                <a:lnTo>
                  <a:pt x="12" y="76"/>
                </a:lnTo>
                <a:close/>
              </a:path>
            </a:pathLst>
          </a:custGeom>
          <a:solidFill>
            <a:srgbClr val="cc002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3" name="Freeform 97"/>
          <p:cNvSpPr/>
          <p:nvPr/>
        </p:nvSpPr>
        <p:spPr>
          <a:xfrm>
            <a:off x="2365200" y="1892160"/>
            <a:ext cx="567000" cy="671760"/>
          </a:xfrm>
          <a:custGeom>
            <a:avLst/>
            <a:gdLst>
              <a:gd name="textAreaLeft" fmla="*/ 0 w 567000"/>
              <a:gd name="textAreaRight" fmla="*/ 567360 w 567000"/>
              <a:gd name="textAreaTop" fmla="*/ 0 h 671760"/>
              <a:gd name="textAreaBottom" fmla="*/ 672120 h 671760"/>
            </a:gdLst>
            <a:ahLst/>
            <a:rect l="textAreaLeft" t="textAreaTop" r="textAreaRight" b="textAreaBottom"/>
            <a:pathLst>
              <a:path w="357" h="423">
                <a:moveTo>
                  <a:pt x="261" y="423"/>
                </a:moveTo>
                <a:lnTo>
                  <a:pt x="234" y="389"/>
                </a:lnTo>
                <a:lnTo>
                  <a:pt x="231" y="362"/>
                </a:lnTo>
                <a:lnTo>
                  <a:pt x="181" y="339"/>
                </a:lnTo>
                <a:lnTo>
                  <a:pt x="142" y="301"/>
                </a:lnTo>
                <a:lnTo>
                  <a:pt x="131" y="279"/>
                </a:lnTo>
                <a:lnTo>
                  <a:pt x="173" y="262"/>
                </a:lnTo>
                <a:lnTo>
                  <a:pt x="188" y="205"/>
                </a:lnTo>
                <a:lnTo>
                  <a:pt x="176" y="140"/>
                </a:lnTo>
                <a:lnTo>
                  <a:pt x="104" y="148"/>
                </a:lnTo>
                <a:lnTo>
                  <a:pt x="47" y="125"/>
                </a:lnTo>
                <a:lnTo>
                  <a:pt x="0" y="68"/>
                </a:lnTo>
                <a:lnTo>
                  <a:pt x="24" y="26"/>
                </a:lnTo>
                <a:lnTo>
                  <a:pt x="62" y="95"/>
                </a:lnTo>
                <a:lnTo>
                  <a:pt x="60" y="92"/>
                </a:lnTo>
                <a:lnTo>
                  <a:pt x="59" y="84"/>
                </a:lnTo>
                <a:lnTo>
                  <a:pt x="59" y="81"/>
                </a:lnTo>
                <a:lnTo>
                  <a:pt x="60" y="78"/>
                </a:lnTo>
                <a:lnTo>
                  <a:pt x="62" y="77"/>
                </a:lnTo>
                <a:lnTo>
                  <a:pt x="66" y="75"/>
                </a:lnTo>
                <a:lnTo>
                  <a:pt x="68" y="75"/>
                </a:lnTo>
                <a:lnTo>
                  <a:pt x="69" y="72"/>
                </a:lnTo>
                <a:lnTo>
                  <a:pt x="69" y="65"/>
                </a:lnTo>
                <a:lnTo>
                  <a:pt x="68" y="54"/>
                </a:lnTo>
                <a:lnTo>
                  <a:pt x="66" y="42"/>
                </a:lnTo>
                <a:lnTo>
                  <a:pt x="60" y="21"/>
                </a:lnTo>
                <a:lnTo>
                  <a:pt x="59" y="11"/>
                </a:lnTo>
                <a:lnTo>
                  <a:pt x="63" y="8"/>
                </a:lnTo>
                <a:lnTo>
                  <a:pt x="74" y="3"/>
                </a:lnTo>
                <a:lnTo>
                  <a:pt x="80" y="1"/>
                </a:lnTo>
                <a:lnTo>
                  <a:pt x="86" y="0"/>
                </a:lnTo>
                <a:lnTo>
                  <a:pt x="90" y="3"/>
                </a:lnTo>
                <a:lnTo>
                  <a:pt x="92" y="6"/>
                </a:lnTo>
                <a:lnTo>
                  <a:pt x="93" y="14"/>
                </a:lnTo>
                <a:lnTo>
                  <a:pt x="93" y="23"/>
                </a:lnTo>
                <a:lnTo>
                  <a:pt x="92" y="41"/>
                </a:lnTo>
                <a:lnTo>
                  <a:pt x="93" y="50"/>
                </a:lnTo>
                <a:lnTo>
                  <a:pt x="98" y="57"/>
                </a:lnTo>
                <a:lnTo>
                  <a:pt x="101" y="60"/>
                </a:lnTo>
                <a:lnTo>
                  <a:pt x="106" y="62"/>
                </a:lnTo>
                <a:lnTo>
                  <a:pt x="110" y="63"/>
                </a:lnTo>
                <a:lnTo>
                  <a:pt x="116" y="63"/>
                </a:lnTo>
                <a:lnTo>
                  <a:pt x="127" y="63"/>
                </a:lnTo>
                <a:lnTo>
                  <a:pt x="137" y="62"/>
                </a:lnTo>
                <a:lnTo>
                  <a:pt x="145" y="59"/>
                </a:lnTo>
                <a:lnTo>
                  <a:pt x="151" y="56"/>
                </a:lnTo>
                <a:lnTo>
                  <a:pt x="160" y="51"/>
                </a:lnTo>
                <a:lnTo>
                  <a:pt x="161" y="48"/>
                </a:lnTo>
                <a:lnTo>
                  <a:pt x="246" y="71"/>
                </a:lnTo>
                <a:lnTo>
                  <a:pt x="250" y="77"/>
                </a:lnTo>
                <a:lnTo>
                  <a:pt x="261" y="89"/>
                </a:lnTo>
                <a:lnTo>
                  <a:pt x="267" y="98"/>
                </a:lnTo>
                <a:lnTo>
                  <a:pt x="271" y="107"/>
                </a:lnTo>
                <a:lnTo>
                  <a:pt x="274" y="118"/>
                </a:lnTo>
                <a:lnTo>
                  <a:pt x="276" y="130"/>
                </a:lnTo>
                <a:lnTo>
                  <a:pt x="279" y="181"/>
                </a:lnTo>
                <a:lnTo>
                  <a:pt x="280" y="209"/>
                </a:lnTo>
                <a:lnTo>
                  <a:pt x="338" y="220"/>
                </a:lnTo>
                <a:lnTo>
                  <a:pt x="357" y="286"/>
                </a:lnTo>
                <a:lnTo>
                  <a:pt x="326" y="294"/>
                </a:lnTo>
                <a:lnTo>
                  <a:pt x="307" y="279"/>
                </a:lnTo>
                <a:lnTo>
                  <a:pt x="280" y="267"/>
                </a:lnTo>
                <a:lnTo>
                  <a:pt x="280" y="274"/>
                </a:lnTo>
                <a:lnTo>
                  <a:pt x="280" y="291"/>
                </a:lnTo>
                <a:lnTo>
                  <a:pt x="282" y="298"/>
                </a:lnTo>
                <a:lnTo>
                  <a:pt x="283" y="307"/>
                </a:lnTo>
                <a:lnTo>
                  <a:pt x="286" y="313"/>
                </a:lnTo>
                <a:lnTo>
                  <a:pt x="289" y="315"/>
                </a:lnTo>
                <a:lnTo>
                  <a:pt x="291" y="316"/>
                </a:lnTo>
                <a:lnTo>
                  <a:pt x="301" y="318"/>
                </a:lnTo>
                <a:lnTo>
                  <a:pt x="304" y="319"/>
                </a:lnTo>
                <a:lnTo>
                  <a:pt x="307" y="322"/>
                </a:lnTo>
                <a:lnTo>
                  <a:pt x="309" y="325"/>
                </a:lnTo>
                <a:lnTo>
                  <a:pt x="310" y="331"/>
                </a:lnTo>
                <a:lnTo>
                  <a:pt x="310" y="351"/>
                </a:lnTo>
                <a:lnTo>
                  <a:pt x="310" y="363"/>
                </a:lnTo>
                <a:lnTo>
                  <a:pt x="307" y="372"/>
                </a:lnTo>
                <a:lnTo>
                  <a:pt x="304" y="380"/>
                </a:lnTo>
                <a:lnTo>
                  <a:pt x="301" y="384"/>
                </a:lnTo>
                <a:lnTo>
                  <a:pt x="294" y="392"/>
                </a:lnTo>
                <a:lnTo>
                  <a:pt x="291" y="393"/>
                </a:lnTo>
                <a:lnTo>
                  <a:pt x="291" y="423"/>
                </a:lnTo>
                <a:lnTo>
                  <a:pt x="261" y="423"/>
                </a:lnTo>
                <a:close/>
              </a:path>
            </a:pathLst>
          </a:custGeom>
          <a:solidFill>
            <a:srgbClr val="cc002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4" name="Freeform 98"/>
          <p:cNvSpPr/>
          <p:nvPr/>
        </p:nvSpPr>
        <p:spPr>
          <a:xfrm>
            <a:off x="2676600" y="1198440"/>
            <a:ext cx="1245960" cy="1428840"/>
          </a:xfrm>
          <a:custGeom>
            <a:avLst/>
            <a:gdLst>
              <a:gd name="textAreaLeft" fmla="*/ 0 w 1245960"/>
              <a:gd name="textAreaRight" fmla="*/ 1246320 w 1245960"/>
              <a:gd name="textAreaTop" fmla="*/ 0 h 1428840"/>
              <a:gd name="textAreaBottom" fmla="*/ 1429200 h 1428840"/>
            </a:gdLst>
            <a:ahLst/>
            <a:rect l="textAreaLeft" t="textAreaTop" r="textAreaRight" b="textAreaBottom"/>
            <a:pathLst>
              <a:path w="785" h="900">
                <a:moveTo>
                  <a:pt x="368" y="848"/>
                </a:moveTo>
                <a:lnTo>
                  <a:pt x="328" y="781"/>
                </a:lnTo>
                <a:lnTo>
                  <a:pt x="291" y="731"/>
                </a:lnTo>
                <a:lnTo>
                  <a:pt x="291" y="646"/>
                </a:lnTo>
                <a:lnTo>
                  <a:pt x="294" y="567"/>
                </a:lnTo>
                <a:lnTo>
                  <a:pt x="294" y="508"/>
                </a:lnTo>
                <a:lnTo>
                  <a:pt x="256" y="535"/>
                </a:lnTo>
                <a:lnTo>
                  <a:pt x="256" y="478"/>
                </a:lnTo>
                <a:lnTo>
                  <a:pt x="229" y="378"/>
                </a:lnTo>
                <a:lnTo>
                  <a:pt x="199" y="318"/>
                </a:lnTo>
                <a:lnTo>
                  <a:pt x="126" y="301"/>
                </a:lnTo>
                <a:lnTo>
                  <a:pt x="62" y="268"/>
                </a:lnTo>
                <a:lnTo>
                  <a:pt x="23" y="241"/>
                </a:lnTo>
                <a:lnTo>
                  <a:pt x="62" y="229"/>
                </a:lnTo>
                <a:lnTo>
                  <a:pt x="0" y="191"/>
                </a:lnTo>
                <a:lnTo>
                  <a:pt x="0" y="184"/>
                </a:lnTo>
                <a:lnTo>
                  <a:pt x="1" y="176"/>
                </a:lnTo>
                <a:lnTo>
                  <a:pt x="3" y="169"/>
                </a:lnTo>
                <a:lnTo>
                  <a:pt x="7" y="160"/>
                </a:lnTo>
                <a:lnTo>
                  <a:pt x="12" y="152"/>
                </a:lnTo>
                <a:lnTo>
                  <a:pt x="16" y="149"/>
                </a:lnTo>
                <a:lnTo>
                  <a:pt x="21" y="148"/>
                </a:lnTo>
                <a:lnTo>
                  <a:pt x="26" y="146"/>
                </a:lnTo>
                <a:lnTo>
                  <a:pt x="30" y="145"/>
                </a:lnTo>
                <a:lnTo>
                  <a:pt x="44" y="145"/>
                </a:lnTo>
                <a:lnTo>
                  <a:pt x="62" y="142"/>
                </a:lnTo>
                <a:lnTo>
                  <a:pt x="99" y="134"/>
                </a:lnTo>
                <a:lnTo>
                  <a:pt x="145" y="122"/>
                </a:lnTo>
                <a:lnTo>
                  <a:pt x="166" y="101"/>
                </a:lnTo>
                <a:lnTo>
                  <a:pt x="182" y="83"/>
                </a:lnTo>
                <a:lnTo>
                  <a:pt x="194" y="72"/>
                </a:lnTo>
                <a:lnTo>
                  <a:pt x="205" y="63"/>
                </a:lnTo>
                <a:lnTo>
                  <a:pt x="218" y="53"/>
                </a:lnTo>
                <a:lnTo>
                  <a:pt x="226" y="47"/>
                </a:lnTo>
                <a:lnTo>
                  <a:pt x="235" y="42"/>
                </a:lnTo>
                <a:lnTo>
                  <a:pt x="246" y="39"/>
                </a:lnTo>
                <a:lnTo>
                  <a:pt x="256" y="38"/>
                </a:lnTo>
                <a:lnTo>
                  <a:pt x="267" y="38"/>
                </a:lnTo>
                <a:lnTo>
                  <a:pt x="279" y="36"/>
                </a:lnTo>
                <a:lnTo>
                  <a:pt x="298" y="32"/>
                </a:lnTo>
                <a:lnTo>
                  <a:pt x="316" y="29"/>
                </a:lnTo>
                <a:lnTo>
                  <a:pt x="333" y="27"/>
                </a:lnTo>
                <a:lnTo>
                  <a:pt x="340" y="29"/>
                </a:lnTo>
                <a:lnTo>
                  <a:pt x="350" y="33"/>
                </a:lnTo>
                <a:lnTo>
                  <a:pt x="371" y="45"/>
                </a:lnTo>
                <a:lnTo>
                  <a:pt x="389" y="59"/>
                </a:lnTo>
                <a:lnTo>
                  <a:pt x="396" y="63"/>
                </a:lnTo>
                <a:lnTo>
                  <a:pt x="401" y="65"/>
                </a:lnTo>
                <a:lnTo>
                  <a:pt x="413" y="63"/>
                </a:lnTo>
                <a:lnTo>
                  <a:pt x="428" y="62"/>
                </a:lnTo>
                <a:lnTo>
                  <a:pt x="435" y="59"/>
                </a:lnTo>
                <a:lnTo>
                  <a:pt x="443" y="56"/>
                </a:lnTo>
                <a:lnTo>
                  <a:pt x="450" y="51"/>
                </a:lnTo>
                <a:lnTo>
                  <a:pt x="455" y="45"/>
                </a:lnTo>
                <a:lnTo>
                  <a:pt x="461" y="41"/>
                </a:lnTo>
                <a:lnTo>
                  <a:pt x="470" y="35"/>
                </a:lnTo>
                <a:lnTo>
                  <a:pt x="482" y="30"/>
                </a:lnTo>
                <a:lnTo>
                  <a:pt x="494" y="27"/>
                </a:lnTo>
                <a:lnTo>
                  <a:pt x="520" y="21"/>
                </a:lnTo>
                <a:lnTo>
                  <a:pt x="539" y="20"/>
                </a:lnTo>
                <a:lnTo>
                  <a:pt x="557" y="17"/>
                </a:lnTo>
                <a:lnTo>
                  <a:pt x="582" y="12"/>
                </a:lnTo>
                <a:lnTo>
                  <a:pt x="624" y="3"/>
                </a:lnTo>
                <a:lnTo>
                  <a:pt x="643" y="0"/>
                </a:lnTo>
                <a:lnTo>
                  <a:pt x="655" y="0"/>
                </a:lnTo>
                <a:lnTo>
                  <a:pt x="669" y="0"/>
                </a:lnTo>
                <a:lnTo>
                  <a:pt x="681" y="0"/>
                </a:lnTo>
                <a:lnTo>
                  <a:pt x="692" y="3"/>
                </a:lnTo>
                <a:lnTo>
                  <a:pt x="696" y="5"/>
                </a:lnTo>
                <a:lnTo>
                  <a:pt x="699" y="8"/>
                </a:lnTo>
                <a:lnTo>
                  <a:pt x="702" y="11"/>
                </a:lnTo>
                <a:lnTo>
                  <a:pt x="704" y="15"/>
                </a:lnTo>
                <a:lnTo>
                  <a:pt x="704" y="23"/>
                </a:lnTo>
                <a:lnTo>
                  <a:pt x="704" y="29"/>
                </a:lnTo>
                <a:lnTo>
                  <a:pt x="702" y="35"/>
                </a:lnTo>
                <a:lnTo>
                  <a:pt x="702" y="42"/>
                </a:lnTo>
                <a:lnTo>
                  <a:pt x="704" y="51"/>
                </a:lnTo>
                <a:lnTo>
                  <a:pt x="710" y="63"/>
                </a:lnTo>
                <a:lnTo>
                  <a:pt x="719" y="80"/>
                </a:lnTo>
                <a:lnTo>
                  <a:pt x="734" y="102"/>
                </a:lnTo>
                <a:lnTo>
                  <a:pt x="752" y="128"/>
                </a:lnTo>
                <a:lnTo>
                  <a:pt x="765" y="152"/>
                </a:lnTo>
                <a:lnTo>
                  <a:pt x="776" y="175"/>
                </a:lnTo>
                <a:lnTo>
                  <a:pt x="782" y="194"/>
                </a:lnTo>
                <a:lnTo>
                  <a:pt x="785" y="209"/>
                </a:lnTo>
                <a:lnTo>
                  <a:pt x="785" y="217"/>
                </a:lnTo>
                <a:lnTo>
                  <a:pt x="785" y="223"/>
                </a:lnTo>
                <a:lnTo>
                  <a:pt x="783" y="228"/>
                </a:lnTo>
                <a:lnTo>
                  <a:pt x="780" y="231"/>
                </a:lnTo>
                <a:lnTo>
                  <a:pt x="777" y="232"/>
                </a:lnTo>
                <a:lnTo>
                  <a:pt x="773" y="234"/>
                </a:lnTo>
                <a:lnTo>
                  <a:pt x="755" y="234"/>
                </a:lnTo>
                <a:lnTo>
                  <a:pt x="749" y="235"/>
                </a:lnTo>
                <a:lnTo>
                  <a:pt x="743" y="238"/>
                </a:lnTo>
                <a:lnTo>
                  <a:pt x="740" y="246"/>
                </a:lnTo>
                <a:lnTo>
                  <a:pt x="737" y="258"/>
                </a:lnTo>
                <a:lnTo>
                  <a:pt x="735" y="274"/>
                </a:lnTo>
                <a:lnTo>
                  <a:pt x="734" y="298"/>
                </a:lnTo>
                <a:lnTo>
                  <a:pt x="734" y="470"/>
                </a:lnTo>
                <a:lnTo>
                  <a:pt x="735" y="506"/>
                </a:lnTo>
                <a:lnTo>
                  <a:pt x="735" y="529"/>
                </a:lnTo>
                <a:lnTo>
                  <a:pt x="734" y="550"/>
                </a:lnTo>
                <a:lnTo>
                  <a:pt x="732" y="570"/>
                </a:lnTo>
                <a:lnTo>
                  <a:pt x="728" y="588"/>
                </a:lnTo>
                <a:lnTo>
                  <a:pt x="725" y="594"/>
                </a:lnTo>
                <a:lnTo>
                  <a:pt x="722" y="598"/>
                </a:lnTo>
                <a:lnTo>
                  <a:pt x="717" y="603"/>
                </a:lnTo>
                <a:lnTo>
                  <a:pt x="711" y="604"/>
                </a:lnTo>
                <a:lnTo>
                  <a:pt x="687" y="607"/>
                </a:lnTo>
                <a:lnTo>
                  <a:pt x="660" y="612"/>
                </a:lnTo>
                <a:lnTo>
                  <a:pt x="648" y="616"/>
                </a:lnTo>
                <a:lnTo>
                  <a:pt x="636" y="621"/>
                </a:lnTo>
                <a:lnTo>
                  <a:pt x="625" y="627"/>
                </a:lnTo>
                <a:lnTo>
                  <a:pt x="616" y="634"/>
                </a:lnTo>
                <a:lnTo>
                  <a:pt x="606" y="643"/>
                </a:lnTo>
                <a:lnTo>
                  <a:pt x="595" y="649"/>
                </a:lnTo>
                <a:lnTo>
                  <a:pt x="574" y="663"/>
                </a:lnTo>
                <a:lnTo>
                  <a:pt x="554" y="674"/>
                </a:lnTo>
                <a:lnTo>
                  <a:pt x="547" y="680"/>
                </a:lnTo>
                <a:lnTo>
                  <a:pt x="542" y="684"/>
                </a:lnTo>
                <a:lnTo>
                  <a:pt x="535" y="704"/>
                </a:lnTo>
                <a:lnTo>
                  <a:pt x="532" y="711"/>
                </a:lnTo>
                <a:lnTo>
                  <a:pt x="527" y="711"/>
                </a:lnTo>
                <a:lnTo>
                  <a:pt x="517" y="711"/>
                </a:lnTo>
                <a:lnTo>
                  <a:pt x="511" y="713"/>
                </a:lnTo>
                <a:lnTo>
                  <a:pt x="506" y="716"/>
                </a:lnTo>
                <a:lnTo>
                  <a:pt x="500" y="720"/>
                </a:lnTo>
                <a:lnTo>
                  <a:pt x="497" y="726"/>
                </a:lnTo>
                <a:lnTo>
                  <a:pt x="488" y="744"/>
                </a:lnTo>
                <a:lnTo>
                  <a:pt x="475" y="768"/>
                </a:lnTo>
                <a:lnTo>
                  <a:pt x="469" y="781"/>
                </a:lnTo>
                <a:lnTo>
                  <a:pt x="464" y="794"/>
                </a:lnTo>
                <a:lnTo>
                  <a:pt x="460" y="806"/>
                </a:lnTo>
                <a:lnTo>
                  <a:pt x="460" y="818"/>
                </a:lnTo>
                <a:lnTo>
                  <a:pt x="460" y="862"/>
                </a:lnTo>
                <a:lnTo>
                  <a:pt x="461" y="878"/>
                </a:lnTo>
                <a:lnTo>
                  <a:pt x="460" y="891"/>
                </a:lnTo>
                <a:lnTo>
                  <a:pt x="458" y="894"/>
                </a:lnTo>
                <a:lnTo>
                  <a:pt x="455" y="895"/>
                </a:lnTo>
                <a:lnTo>
                  <a:pt x="446" y="897"/>
                </a:lnTo>
                <a:lnTo>
                  <a:pt x="432" y="898"/>
                </a:lnTo>
                <a:lnTo>
                  <a:pt x="419" y="900"/>
                </a:lnTo>
                <a:lnTo>
                  <a:pt x="393" y="900"/>
                </a:lnTo>
                <a:lnTo>
                  <a:pt x="383" y="898"/>
                </a:lnTo>
                <a:lnTo>
                  <a:pt x="368" y="848"/>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5" name="Freeform 99"/>
          <p:cNvSpPr/>
          <p:nvPr/>
        </p:nvSpPr>
        <p:spPr>
          <a:xfrm>
            <a:off x="631800" y="2035080"/>
            <a:ext cx="2408400" cy="1679760"/>
          </a:xfrm>
          <a:custGeom>
            <a:avLst/>
            <a:gdLst>
              <a:gd name="textAreaLeft" fmla="*/ 0 w 2408400"/>
              <a:gd name="textAreaRight" fmla="*/ 2408760 w 2408400"/>
              <a:gd name="textAreaTop" fmla="*/ 0 h 1679760"/>
              <a:gd name="textAreaBottom" fmla="*/ 1680120 h 1679760"/>
            </a:gdLst>
            <a:ahLst/>
            <a:rect l="textAreaLeft" t="textAreaTop" r="textAreaRight" b="textAreaBottom"/>
            <a:pathLst>
              <a:path w="1517" h="1058">
                <a:moveTo>
                  <a:pt x="815" y="971"/>
                </a:moveTo>
                <a:lnTo>
                  <a:pt x="815" y="971"/>
                </a:lnTo>
                <a:lnTo>
                  <a:pt x="828" y="971"/>
                </a:lnTo>
                <a:lnTo>
                  <a:pt x="842" y="974"/>
                </a:lnTo>
                <a:lnTo>
                  <a:pt x="854" y="977"/>
                </a:lnTo>
                <a:lnTo>
                  <a:pt x="861" y="980"/>
                </a:lnTo>
                <a:lnTo>
                  <a:pt x="883" y="996"/>
                </a:lnTo>
                <a:lnTo>
                  <a:pt x="893" y="1005"/>
                </a:lnTo>
                <a:lnTo>
                  <a:pt x="898" y="1007"/>
                </a:lnTo>
                <a:lnTo>
                  <a:pt x="902" y="1007"/>
                </a:lnTo>
                <a:lnTo>
                  <a:pt x="913" y="1001"/>
                </a:lnTo>
                <a:lnTo>
                  <a:pt x="917" y="1001"/>
                </a:lnTo>
                <a:lnTo>
                  <a:pt x="919" y="1001"/>
                </a:lnTo>
                <a:lnTo>
                  <a:pt x="920" y="1002"/>
                </a:lnTo>
                <a:lnTo>
                  <a:pt x="934" y="1018"/>
                </a:lnTo>
                <a:lnTo>
                  <a:pt x="947" y="1031"/>
                </a:lnTo>
                <a:lnTo>
                  <a:pt x="949" y="1033"/>
                </a:lnTo>
                <a:lnTo>
                  <a:pt x="949" y="1034"/>
                </a:lnTo>
                <a:lnTo>
                  <a:pt x="949" y="1039"/>
                </a:lnTo>
                <a:lnTo>
                  <a:pt x="950" y="1042"/>
                </a:lnTo>
                <a:lnTo>
                  <a:pt x="953" y="1045"/>
                </a:lnTo>
                <a:lnTo>
                  <a:pt x="958" y="1048"/>
                </a:lnTo>
                <a:lnTo>
                  <a:pt x="967" y="1051"/>
                </a:lnTo>
                <a:lnTo>
                  <a:pt x="967" y="1043"/>
                </a:lnTo>
                <a:lnTo>
                  <a:pt x="968" y="1037"/>
                </a:lnTo>
                <a:lnTo>
                  <a:pt x="970" y="1031"/>
                </a:lnTo>
                <a:lnTo>
                  <a:pt x="974" y="1025"/>
                </a:lnTo>
                <a:lnTo>
                  <a:pt x="982" y="1016"/>
                </a:lnTo>
                <a:lnTo>
                  <a:pt x="993" y="1007"/>
                </a:lnTo>
                <a:lnTo>
                  <a:pt x="1005" y="1001"/>
                </a:lnTo>
                <a:lnTo>
                  <a:pt x="1017" y="996"/>
                </a:lnTo>
                <a:lnTo>
                  <a:pt x="1039" y="992"/>
                </a:lnTo>
                <a:lnTo>
                  <a:pt x="1051" y="989"/>
                </a:lnTo>
                <a:lnTo>
                  <a:pt x="1060" y="987"/>
                </a:lnTo>
                <a:lnTo>
                  <a:pt x="1077" y="989"/>
                </a:lnTo>
                <a:lnTo>
                  <a:pt x="1088" y="990"/>
                </a:lnTo>
                <a:lnTo>
                  <a:pt x="1097" y="992"/>
                </a:lnTo>
                <a:lnTo>
                  <a:pt x="1103" y="992"/>
                </a:lnTo>
                <a:lnTo>
                  <a:pt x="1109" y="995"/>
                </a:lnTo>
                <a:lnTo>
                  <a:pt x="1125" y="1001"/>
                </a:lnTo>
                <a:lnTo>
                  <a:pt x="1146" y="1010"/>
                </a:lnTo>
                <a:lnTo>
                  <a:pt x="1166" y="1057"/>
                </a:lnTo>
                <a:lnTo>
                  <a:pt x="1170" y="1057"/>
                </a:lnTo>
                <a:lnTo>
                  <a:pt x="1181" y="1058"/>
                </a:lnTo>
                <a:lnTo>
                  <a:pt x="1187" y="1058"/>
                </a:lnTo>
                <a:lnTo>
                  <a:pt x="1191" y="1057"/>
                </a:lnTo>
                <a:lnTo>
                  <a:pt x="1194" y="1054"/>
                </a:lnTo>
                <a:lnTo>
                  <a:pt x="1196" y="1049"/>
                </a:lnTo>
                <a:lnTo>
                  <a:pt x="1196" y="968"/>
                </a:lnTo>
                <a:lnTo>
                  <a:pt x="1198" y="953"/>
                </a:lnTo>
                <a:lnTo>
                  <a:pt x="1204" y="935"/>
                </a:lnTo>
                <a:lnTo>
                  <a:pt x="1211" y="915"/>
                </a:lnTo>
                <a:lnTo>
                  <a:pt x="1222" y="894"/>
                </a:lnTo>
                <a:lnTo>
                  <a:pt x="1238" y="861"/>
                </a:lnTo>
                <a:lnTo>
                  <a:pt x="1246" y="846"/>
                </a:lnTo>
                <a:lnTo>
                  <a:pt x="1261" y="835"/>
                </a:lnTo>
                <a:lnTo>
                  <a:pt x="1267" y="831"/>
                </a:lnTo>
                <a:lnTo>
                  <a:pt x="1271" y="829"/>
                </a:lnTo>
                <a:lnTo>
                  <a:pt x="1279" y="828"/>
                </a:lnTo>
                <a:lnTo>
                  <a:pt x="1282" y="829"/>
                </a:lnTo>
                <a:lnTo>
                  <a:pt x="1283" y="831"/>
                </a:lnTo>
                <a:lnTo>
                  <a:pt x="1323" y="823"/>
                </a:lnTo>
                <a:lnTo>
                  <a:pt x="1332" y="799"/>
                </a:lnTo>
                <a:lnTo>
                  <a:pt x="1345" y="766"/>
                </a:lnTo>
                <a:lnTo>
                  <a:pt x="1350" y="755"/>
                </a:lnTo>
                <a:lnTo>
                  <a:pt x="1356" y="745"/>
                </a:lnTo>
                <a:lnTo>
                  <a:pt x="1365" y="731"/>
                </a:lnTo>
                <a:lnTo>
                  <a:pt x="1381" y="718"/>
                </a:lnTo>
                <a:lnTo>
                  <a:pt x="1396" y="709"/>
                </a:lnTo>
                <a:lnTo>
                  <a:pt x="1404" y="706"/>
                </a:lnTo>
                <a:lnTo>
                  <a:pt x="1410" y="704"/>
                </a:lnTo>
                <a:lnTo>
                  <a:pt x="1413" y="704"/>
                </a:lnTo>
                <a:lnTo>
                  <a:pt x="1416" y="703"/>
                </a:lnTo>
                <a:lnTo>
                  <a:pt x="1419" y="698"/>
                </a:lnTo>
                <a:lnTo>
                  <a:pt x="1424" y="691"/>
                </a:lnTo>
                <a:lnTo>
                  <a:pt x="1425" y="683"/>
                </a:lnTo>
                <a:lnTo>
                  <a:pt x="1428" y="669"/>
                </a:lnTo>
                <a:lnTo>
                  <a:pt x="1430" y="662"/>
                </a:lnTo>
                <a:lnTo>
                  <a:pt x="1383" y="662"/>
                </a:lnTo>
                <a:lnTo>
                  <a:pt x="1357" y="654"/>
                </a:lnTo>
                <a:lnTo>
                  <a:pt x="1374" y="635"/>
                </a:lnTo>
                <a:lnTo>
                  <a:pt x="1389" y="620"/>
                </a:lnTo>
                <a:lnTo>
                  <a:pt x="1396" y="614"/>
                </a:lnTo>
                <a:lnTo>
                  <a:pt x="1402" y="609"/>
                </a:lnTo>
                <a:lnTo>
                  <a:pt x="1410" y="606"/>
                </a:lnTo>
                <a:lnTo>
                  <a:pt x="1421" y="605"/>
                </a:lnTo>
                <a:lnTo>
                  <a:pt x="1443" y="602"/>
                </a:lnTo>
                <a:lnTo>
                  <a:pt x="1472" y="602"/>
                </a:lnTo>
                <a:lnTo>
                  <a:pt x="1517" y="562"/>
                </a:lnTo>
                <a:lnTo>
                  <a:pt x="1502" y="519"/>
                </a:lnTo>
                <a:lnTo>
                  <a:pt x="1491" y="484"/>
                </a:lnTo>
                <a:lnTo>
                  <a:pt x="1488" y="469"/>
                </a:lnTo>
                <a:lnTo>
                  <a:pt x="1487" y="460"/>
                </a:lnTo>
                <a:lnTo>
                  <a:pt x="1485" y="455"/>
                </a:lnTo>
                <a:lnTo>
                  <a:pt x="1484" y="451"/>
                </a:lnTo>
                <a:lnTo>
                  <a:pt x="1476" y="437"/>
                </a:lnTo>
                <a:lnTo>
                  <a:pt x="1464" y="424"/>
                </a:lnTo>
                <a:lnTo>
                  <a:pt x="1452" y="409"/>
                </a:lnTo>
                <a:lnTo>
                  <a:pt x="1428" y="383"/>
                </a:lnTo>
                <a:lnTo>
                  <a:pt x="1418" y="371"/>
                </a:lnTo>
                <a:lnTo>
                  <a:pt x="1410" y="418"/>
                </a:lnTo>
                <a:lnTo>
                  <a:pt x="1402" y="415"/>
                </a:lnTo>
                <a:lnTo>
                  <a:pt x="1386" y="409"/>
                </a:lnTo>
                <a:lnTo>
                  <a:pt x="1377" y="404"/>
                </a:lnTo>
                <a:lnTo>
                  <a:pt x="1368" y="398"/>
                </a:lnTo>
                <a:lnTo>
                  <a:pt x="1362" y="391"/>
                </a:lnTo>
                <a:lnTo>
                  <a:pt x="1357" y="383"/>
                </a:lnTo>
                <a:lnTo>
                  <a:pt x="1353" y="374"/>
                </a:lnTo>
                <a:lnTo>
                  <a:pt x="1347" y="364"/>
                </a:lnTo>
                <a:lnTo>
                  <a:pt x="1339" y="354"/>
                </a:lnTo>
                <a:lnTo>
                  <a:pt x="1330" y="344"/>
                </a:lnTo>
                <a:lnTo>
                  <a:pt x="1320" y="333"/>
                </a:lnTo>
                <a:lnTo>
                  <a:pt x="1308" y="323"/>
                </a:lnTo>
                <a:lnTo>
                  <a:pt x="1294" y="314"/>
                </a:lnTo>
                <a:lnTo>
                  <a:pt x="1280" y="306"/>
                </a:lnTo>
                <a:lnTo>
                  <a:pt x="1273" y="305"/>
                </a:lnTo>
                <a:lnTo>
                  <a:pt x="1267" y="305"/>
                </a:lnTo>
                <a:lnTo>
                  <a:pt x="1261" y="308"/>
                </a:lnTo>
                <a:lnTo>
                  <a:pt x="1256" y="312"/>
                </a:lnTo>
                <a:lnTo>
                  <a:pt x="1250" y="318"/>
                </a:lnTo>
                <a:lnTo>
                  <a:pt x="1246" y="324"/>
                </a:lnTo>
                <a:lnTo>
                  <a:pt x="1240" y="341"/>
                </a:lnTo>
                <a:lnTo>
                  <a:pt x="1234" y="359"/>
                </a:lnTo>
                <a:lnTo>
                  <a:pt x="1229" y="376"/>
                </a:lnTo>
                <a:lnTo>
                  <a:pt x="1226" y="391"/>
                </a:lnTo>
                <a:lnTo>
                  <a:pt x="1226" y="433"/>
                </a:lnTo>
                <a:lnTo>
                  <a:pt x="1223" y="505"/>
                </a:lnTo>
                <a:lnTo>
                  <a:pt x="1208" y="555"/>
                </a:lnTo>
                <a:lnTo>
                  <a:pt x="1188" y="559"/>
                </a:lnTo>
                <a:lnTo>
                  <a:pt x="1166" y="513"/>
                </a:lnTo>
                <a:lnTo>
                  <a:pt x="1154" y="508"/>
                </a:lnTo>
                <a:lnTo>
                  <a:pt x="1127" y="495"/>
                </a:lnTo>
                <a:lnTo>
                  <a:pt x="1113" y="486"/>
                </a:lnTo>
                <a:lnTo>
                  <a:pt x="1101" y="478"/>
                </a:lnTo>
                <a:lnTo>
                  <a:pt x="1092" y="471"/>
                </a:lnTo>
                <a:lnTo>
                  <a:pt x="1091" y="466"/>
                </a:lnTo>
                <a:lnTo>
                  <a:pt x="1089" y="463"/>
                </a:lnTo>
                <a:lnTo>
                  <a:pt x="1089" y="460"/>
                </a:lnTo>
                <a:lnTo>
                  <a:pt x="1086" y="457"/>
                </a:lnTo>
                <a:lnTo>
                  <a:pt x="1080" y="449"/>
                </a:lnTo>
                <a:lnTo>
                  <a:pt x="1062" y="431"/>
                </a:lnTo>
                <a:lnTo>
                  <a:pt x="1053" y="421"/>
                </a:lnTo>
                <a:lnTo>
                  <a:pt x="1044" y="412"/>
                </a:lnTo>
                <a:lnTo>
                  <a:pt x="1038" y="401"/>
                </a:lnTo>
                <a:lnTo>
                  <a:pt x="1036" y="395"/>
                </a:lnTo>
                <a:lnTo>
                  <a:pt x="1035" y="391"/>
                </a:lnTo>
                <a:lnTo>
                  <a:pt x="1035" y="386"/>
                </a:lnTo>
                <a:lnTo>
                  <a:pt x="1033" y="383"/>
                </a:lnTo>
                <a:lnTo>
                  <a:pt x="1032" y="382"/>
                </a:lnTo>
                <a:lnTo>
                  <a:pt x="1030" y="380"/>
                </a:lnTo>
                <a:lnTo>
                  <a:pt x="1024" y="380"/>
                </a:lnTo>
                <a:lnTo>
                  <a:pt x="1018" y="382"/>
                </a:lnTo>
                <a:lnTo>
                  <a:pt x="1012" y="385"/>
                </a:lnTo>
                <a:lnTo>
                  <a:pt x="1006" y="386"/>
                </a:lnTo>
                <a:lnTo>
                  <a:pt x="1005" y="385"/>
                </a:lnTo>
                <a:lnTo>
                  <a:pt x="1003" y="385"/>
                </a:lnTo>
                <a:lnTo>
                  <a:pt x="1002" y="382"/>
                </a:lnTo>
                <a:lnTo>
                  <a:pt x="1002" y="379"/>
                </a:lnTo>
                <a:lnTo>
                  <a:pt x="1002" y="371"/>
                </a:lnTo>
                <a:lnTo>
                  <a:pt x="1005" y="364"/>
                </a:lnTo>
                <a:lnTo>
                  <a:pt x="1011" y="347"/>
                </a:lnTo>
                <a:lnTo>
                  <a:pt x="1017" y="332"/>
                </a:lnTo>
                <a:lnTo>
                  <a:pt x="1020" y="324"/>
                </a:lnTo>
                <a:lnTo>
                  <a:pt x="1020" y="318"/>
                </a:lnTo>
                <a:lnTo>
                  <a:pt x="1021" y="306"/>
                </a:lnTo>
                <a:lnTo>
                  <a:pt x="1023" y="300"/>
                </a:lnTo>
                <a:lnTo>
                  <a:pt x="1024" y="294"/>
                </a:lnTo>
                <a:lnTo>
                  <a:pt x="1029" y="288"/>
                </a:lnTo>
                <a:lnTo>
                  <a:pt x="1033" y="282"/>
                </a:lnTo>
                <a:lnTo>
                  <a:pt x="1039" y="276"/>
                </a:lnTo>
                <a:lnTo>
                  <a:pt x="1047" y="272"/>
                </a:lnTo>
                <a:lnTo>
                  <a:pt x="1065" y="264"/>
                </a:lnTo>
                <a:lnTo>
                  <a:pt x="1084" y="257"/>
                </a:lnTo>
                <a:lnTo>
                  <a:pt x="1104" y="249"/>
                </a:lnTo>
                <a:lnTo>
                  <a:pt x="1062" y="214"/>
                </a:lnTo>
                <a:lnTo>
                  <a:pt x="1112" y="207"/>
                </a:lnTo>
                <a:lnTo>
                  <a:pt x="1118" y="205"/>
                </a:lnTo>
                <a:lnTo>
                  <a:pt x="1124" y="201"/>
                </a:lnTo>
                <a:lnTo>
                  <a:pt x="1131" y="195"/>
                </a:lnTo>
                <a:lnTo>
                  <a:pt x="1142" y="186"/>
                </a:lnTo>
                <a:lnTo>
                  <a:pt x="1152" y="172"/>
                </a:lnTo>
                <a:lnTo>
                  <a:pt x="1164" y="154"/>
                </a:lnTo>
                <a:lnTo>
                  <a:pt x="1176" y="130"/>
                </a:lnTo>
                <a:lnTo>
                  <a:pt x="1182" y="119"/>
                </a:lnTo>
                <a:lnTo>
                  <a:pt x="1185" y="109"/>
                </a:lnTo>
                <a:lnTo>
                  <a:pt x="1187" y="100"/>
                </a:lnTo>
                <a:lnTo>
                  <a:pt x="1187" y="92"/>
                </a:lnTo>
                <a:lnTo>
                  <a:pt x="1185" y="86"/>
                </a:lnTo>
                <a:lnTo>
                  <a:pt x="1184" y="82"/>
                </a:lnTo>
                <a:lnTo>
                  <a:pt x="1181" y="79"/>
                </a:lnTo>
                <a:lnTo>
                  <a:pt x="1176" y="76"/>
                </a:lnTo>
                <a:lnTo>
                  <a:pt x="1167" y="73"/>
                </a:lnTo>
                <a:lnTo>
                  <a:pt x="1160" y="73"/>
                </a:lnTo>
                <a:lnTo>
                  <a:pt x="1151" y="73"/>
                </a:lnTo>
                <a:lnTo>
                  <a:pt x="1149" y="77"/>
                </a:lnTo>
                <a:lnTo>
                  <a:pt x="1143" y="89"/>
                </a:lnTo>
                <a:lnTo>
                  <a:pt x="1134" y="104"/>
                </a:lnTo>
                <a:lnTo>
                  <a:pt x="1127" y="112"/>
                </a:lnTo>
                <a:lnTo>
                  <a:pt x="1119" y="119"/>
                </a:lnTo>
                <a:lnTo>
                  <a:pt x="1115" y="122"/>
                </a:lnTo>
                <a:lnTo>
                  <a:pt x="1110" y="124"/>
                </a:lnTo>
                <a:lnTo>
                  <a:pt x="1104" y="125"/>
                </a:lnTo>
                <a:lnTo>
                  <a:pt x="1100" y="125"/>
                </a:lnTo>
                <a:lnTo>
                  <a:pt x="1088" y="122"/>
                </a:lnTo>
                <a:lnTo>
                  <a:pt x="1077" y="119"/>
                </a:lnTo>
                <a:lnTo>
                  <a:pt x="1066" y="113"/>
                </a:lnTo>
                <a:lnTo>
                  <a:pt x="1059" y="109"/>
                </a:lnTo>
                <a:lnTo>
                  <a:pt x="1051" y="104"/>
                </a:lnTo>
                <a:lnTo>
                  <a:pt x="1047" y="94"/>
                </a:lnTo>
                <a:lnTo>
                  <a:pt x="1039" y="70"/>
                </a:lnTo>
                <a:lnTo>
                  <a:pt x="1035" y="56"/>
                </a:lnTo>
                <a:lnTo>
                  <a:pt x="1030" y="46"/>
                </a:lnTo>
                <a:lnTo>
                  <a:pt x="1024" y="38"/>
                </a:lnTo>
                <a:lnTo>
                  <a:pt x="1023" y="37"/>
                </a:lnTo>
                <a:lnTo>
                  <a:pt x="1020" y="35"/>
                </a:lnTo>
                <a:lnTo>
                  <a:pt x="1017" y="34"/>
                </a:lnTo>
                <a:lnTo>
                  <a:pt x="1014" y="29"/>
                </a:lnTo>
                <a:lnTo>
                  <a:pt x="1011" y="25"/>
                </a:lnTo>
                <a:lnTo>
                  <a:pt x="1011" y="18"/>
                </a:lnTo>
                <a:lnTo>
                  <a:pt x="1009" y="6"/>
                </a:lnTo>
                <a:lnTo>
                  <a:pt x="1009" y="0"/>
                </a:lnTo>
                <a:lnTo>
                  <a:pt x="982" y="0"/>
                </a:lnTo>
                <a:lnTo>
                  <a:pt x="970" y="20"/>
                </a:lnTo>
                <a:lnTo>
                  <a:pt x="962" y="43"/>
                </a:lnTo>
                <a:lnTo>
                  <a:pt x="964" y="47"/>
                </a:lnTo>
                <a:lnTo>
                  <a:pt x="971" y="58"/>
                </a:lnTo>
                <a:lnTo>
                  <a:pt x="976" y="65"/>
                </a:lnTo>
                <a:lnTo>
                  <a:pt x="984" y="71"/>
                </a:lnTo>
                <a:lnTo>
                  <a:pt x="993" y="79"/>
                </a:lnTo>
                <a:lnTo>
                  <a:pt x="1005" y="85"/>
                </a:lnTo>
                <a:lnTo>
                  <a:pt x="1011" y="88"/>
                </a:lnTo>
                <a:lnTo>
                  <a:pt x="1015" y="91"/>
                </a:lnTo>
                <a:lnTo>
                  <a:pt x="1017" y="94"/>
                </a:lnTo>
                <a:lnTo>
                  <a:pt x="1018" y="98"/>
                </a:lnTo>
                <a:lnTo>
                  <a:pt x="1020" y="101"/>
                </a:lnTo>
                <a:lnTo>
                  <a:pt x="1018" y="104"/>
                </a:lnTo>
                <a:lnTo>
                  <a:pt x="1015" y="112"/>
                </a:lnTo>
                <a:lnTo>
                  <a:pt x="1011" y="118"/>
                </a:lnTo>
                <a:lnTo>
                  <a:pt x="1006" y="122"/>
                </a:lnTo>
                <a:lnTo>
                  <a:pt x="1002" y="127"/>
                </a:lnTo>
                <a:lnTo>
                  <a:pt x="974" y="127"/>
                </a:lnTo>
                <a:lnTo>
                  <a:pt x="952" y="127"/>
                </a:lnTo>
                <a:lnTo>
                  <a:pt x="922" y="127"/>
                </a:lnTo>
                <a:lnTo>
                  <a:pt x="896" y="125"/>
                </a:lnTo>
                <a:lnTo>
                  <a:pt x="875" y="122"/>
                </a:lnTo>
                <a:lnTo>
                  <a:pt x="858" y="122"/>
                </a:lnTo>
                <a:lnTo>
                  <a:pt x="845" y="124"/>
                </a:lnTo>
                <a:lnTo>
                  <a:pt x="836" y="125"/>
                </a:lnTo>
                <a:lnTo>
                  <a:pt x="833" y="127"/>
                </a:lnTo>
                <a:lnTo>
                  <a:pt x="825" y="147"/>
                </a:lnTo>
                <a:lnTo>
                  <a:pt x="798" y="147"/>
                </a:lnTo>
                <a:lnTo>
                  <a:pt x="748" y="147"/>
                </a:lnTo>
                <a:lnTo>
                  <a:pt x="744" y="145"/>
                </a:lnTo>
                <a:lnTo>
                  <a:pt x="739" y="141"/>
                </a:lnTo>
                <a:lnTo>
                  <a:pt x="736" y="135"/>
                </a:lnTo>
                <a:lnTo>
                  <a:pt x="735" y="128"/>
                </a:lnTo>
                <a:lnTo>
                  <a:pt x="733" y="116"/>
                </a:lnTo>
                <a:lnTo>
                  <a:pt x="733" y="112"/>
                </a:lnTo>
                <a:lnTo>
                  <a:pt x="730" y="107"/>
                </a:lnTo>
                <a:lnTo>
                  <a:pt x="724" y="98"/>
                </a:lnTo>
                <a:lnTo>
                  <a:pt x="718" y="94"/>
                </a:lnTo>
                <a:lnTo>
                  <a:pt x="712" y="88"/>
                </a:lnTo>
                <a:lnTo>
                  <a:pt x="705" y="82"/>
                </a:lnTo>
                <a:lnTo>
                  <a:pt x="694" y="77"/>
                </a:lnTo>
                <a:lnTo>
                  <a:pt x="685" y="74"/>
                </a:lnTo>
                <a:lnTo>
                  <a:pt x="676" y="73"/>
                </a:lnTo>
                <a:lnTo>
                  <a:pt x="667" y="73"/>
                </a:lnTo>
                <a:lnTo>
                  <a:pt x="658" y="73"/>
                </a:lnTo>
                <a:lnTo>
                  <a:pt x="644" y="76"/>
                </a:lnTo>
                <a:lnTo>
                  <a:pt x="634" y="77"/>
                </a:lnTo>
                <a:lnTo>
                  <a:pt x="620" y="74"/>
                </a:lnTo>
                <a:lnTo>
                  <a:pt x="601" y="67"/>
                </a:lnTo>
                <a:lnTo>
                  <a:pt x="590" y="62"/>
                </a:lnTo>
                <a:lnTo>
                  <a:pt x="581" y="56"/>
                </a:lnTo>
                <a:lnTo>
                  <a:pt x="572" y="50"/>
                </a:lnTo>
                <a:lnTo>
                  <a:pt x="565" y="43"/>
                </a:lnTo>
                <a:lnTo>
                  <a:pt x="559" y="37"/>
                </a:lnTo>
                <a:lnTo>
                  <a:pt x="550" y="34"/>
                </a:lnTo>
                <a:lnTo>
                  <a:pt x="541" y="34"/>
                </a:lnTo>
                <a:lnTo>
                  <a:pt x="533" y="34"/>
                </a:lnTo>
                <a:lnTo>
                  <a:pt x="518" y="37"/>
                </a:lnTo>
                <a:lnTo>
                  <a:pt x="512" y="40"/>
                </a:lnTo>
                <a:lnTo>
                  <a:pt x="462" y="85"/>
                </a:lnTo>
                <a:lnTo>
                  <a:pt x="412" y="97"/>
                </a:lnTo>
                <a:lnTo>
                  <a:pt x="381" y="77"/>
                </a:lnTo>
                <a:lnTo>
                  <a:pt x="343" y="55"/>
                </a:lnTo>
                <a:lnTo>
                  <a:pt x="308" y="40"/>
                </a:lnTo>
                <a:lnTo>
                  <a:pt x="259" y="40"/>
                </a:lnTo>
                <a:lnTo>
                  <a:pt x="194" y="35"/>
                </a:lnTo>
                <a:lnTo>
                  <a:pt x="152" y="5"/>
                </a:lnTo>
                <a:lnTo>
                  <a:pt x="90" y="35"/>
                </a:lnTo>
                <a:lnTo>
                  <a:pt x="82" y="80"/>
                </a:lnTo>
                <a:lnTo>
                  <a:pt x="18" y="92"/>
                </a:lnTo>
                <a:lnTo>
                  <a:pt x="0" y="119"/>
                </a:lnTo>
                <a:lnTo>
                  <a:pt x="25" y="154"/>
                </a:lnTo>
                <a:lnTo>
                  <a:pt x="72" y="189"/>
                </a:lnTo>
                <a:lnTo>
                  <a:pt x="18" y="196"/>
                </a:lnTo>
                <a:lnTo>
                  <a:pt x="33" y="241"/>
                </a:lnTo>
                <a:lnTo>
                  <a:pt x="79" y="241"/>
                </a:lnTo>
                <a:lnTo>
                  <a:pt x="75" y="284"/>
                </a:lnTo>
                <a:lnTo>
                  <a:pt x="30" y="329"/>
                </a:lnTo>
                <a:lnTo>
                  <a:pt x="30" y="361"/>
                </a:lnTo>
                <a:lnTo>
                  <a:pt x="64" y="388"/>
                </a:lnTo>
                <a:lnTo>
                  <a:pt x="90" y="403"/>
                </a:lnTo>
                <a:lnTo>
                  <a:pt x="114" y="403"/>
                </a:lnTo>
                <a:lnTo>
                  <a:pt x="97" y="433"/>
                </a:lnTo>
                <a:lnTo>
                  <a:pt x="102" y="471"/>
                </a:lnTo>
                <a:lnTo>
                  <a:pt x="147" y="471"/>
                </a:lnTo>
                <a:lnTo>
                  <a:pt x="167" y="437"/>
                </a:lnTo>
                <a:lnTo>
                  <a:pt x="209" y="391"/>
                </a:lnTo>
                <a:lnTo>
                  <a:pt x="229" y="361"/>
                </a:lnTo>
                <a:lnTo>
                  <a:pt x="256" y="371"/>
                </a:lnTo>
                <a:lnTo>
                  <a:pt x="289" y="368"/>
                </a:lnTo>
                <a:lnTo>
                  <a:pt x="324" y="368"/>
                </a:lnTo>
                <a:lnTo>
                  <a:pt x="346" y="395"/>
                </a:lnTo>
                <a:lnTo>
                  <a:pt x="393" y="395"/>
                </a:lnTo>
                <a:lnTo>
                  <a:pt x="427" y="406"/>
                </a:lnTo>
                <a:lnTo>
                  <a:pt x="488" y="463"/>
                </a:lnTo>
                <a:lnTo>
                  <a:pt x="530" y="520"/>
                </a:lnTo>
                <a:lnTo>
                  <a:pt x="542" y="570"/>
                </a:lnTo>
                <a:lnTo>
                  <a:pt x="592" y="632"/>
                </a:lnTo>
                <a:lnTo>
                  <a:pt x="599" y="674"/>
                </a:lnTo>
                <a:lnTo>
                  <a:pt x="599" y="719"/>
                </a:lnTo>
                <a:lnTo>
                  <a:pt x="607" y="727"/>
                </a:lnTo>
                <a:lnTo>
                  <a:pt x="613" y="734"/>
                </a:lnTo>
                <a:lnTo>
                  <a:pt x="619" y="745"/>
                </a:lnTo>
                <a:lnTo>
                  <a:pt x="625" y="758"/>
                </a:lnTo>
                <a:lnTo>
                  <a:pt x="626" y="766"/>
                </a:lnTo>
                <a:lnTo>
                  <a:pt x="626" y="775"/>
                </a:lnTo>
                <a:lnTo>
                  <a:pt x="626" y="784"/>
                </a:lnTo>
                <a:lnTo>
                  <a:pt x="625" y="793"/>
                </a:lnTo>
                <a:lnTo>
                  <a:pt x="623" y="804"/>
                </a:lnTo>
                <a:lnTo>
                  <a:pt x="619" y="816"/>
                </a:lnTo>
                <a:lnTo>
                  <a:pt x="614" y="826"/>
                </a:lnTo>
                <a:lnTo>
                  <a:pt x="611" y="835"/>
                </a:lnTo>
                <a:lnTo>
                  <a:pt x="611" y="843"/>
                </a:lnTo>
                <a:lnTo>
                  <a:pt x="611" y="849"/>
                </a:lnTo>
                <a:lnTo>
                  <a:pt x="611" y="853"/>
                </a:lnTo>
                <a:lnTo>
                  <a:pt x="614" y="856"/>
                </a:lnTo>
                <a:lnTo>
                  <a:pt x="620" y="862"/>
                </a:lnTo>
                <a:lnTo>
                  <a:pt x="634" y="871"/>
                </a:lnTo>
                <a:lnTo>
                  <a:pt x="640" y="876"/>
                </a:lnTo>
                <a:lnTo>
                  <a:pt x="641" y="880"/>
                </a:lnTo>
                <a:lnTo>
                  <a:pt x="641" y="885"/>
                </a:lnTo>
                <a:lnTo>
                  <a:pt x="643" y="889"/>
                </a:lnTo>
                <a:lnTo>
                  <a:pt x="644" y="895"/>
                </a:lnTo>
                <a:lnTo>
                  <a:pt x="655" y="912"/>
                </a:lnTo>
                <a:lnTo>
                  <a:pt x="670" y="933"/>
                </a:lnTo>
                <a:lnTo>
                  <a:pt x="687" y="956"/>
                </a:lnTo>
                <a:lnTo>
                  <a:pt x="717" y="957"/>
                </a:lnTo>
                <a:lnTo>
                  <a:pt x="727" y="959"/>
                </a:lnTo>
                <a:lnTo>
                  <a:pt x="736" y="960"/>
                </a:lnTo>
                <a:lnTo>
                  <a:pt x="745" y="965"/>
                </a:lnTo>
                <a:lnTo>
                  <a:pt x="754" y="966"/>
                </a:lnTo>
                <a:lnTo>
                  <a:pt x="777" y="969"/>
                </a:lnTo>
                <a:lnTo>
                  <a:pt x="798" y="971"/>
                </a:lnTo>
                <a:lnTo>
                  <a:pt x="815" y="971"/>
                </a:lnTo>
                <a:close/>
              </a:path>
            </a:pathLst>
          </a:custGeom>
          <a:solidFill>
            <a:srgbClr val="66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6" name="Freeform 101"/>
          <p:cNvSpPr/>
          <p:nvPr/>
        </p:nvSpPr>
        <p:spPr>
          <a:xfrm>
            <a:off x="1738440" y="3570120"/>
            <a:ext cx="1831680" cy="2195640"/>
          </a:xfrm>
          <a:custGeom>
            <a:avLst/>
            <a:gdLst>
              <a:gd name="textAreaLeft" fmla="*/ 0 w 1831680"/>
              <a:gd name="textAreaRight" fmla="*/ 1832040 w 1831680"/>
              <a:gd name="textAreaTop" fmla="*/ 0 h 2195640"/>
              <a:gd name="textAreaBottom" fmla="*/ 2196000 h 2195640"/>
            </a:gdLst>
            <a:ahLst/>
            <a:rect l="textAreaLeft" t="textAreaTop" r="textAreaRight" b="textAreaBottom"/>
            <a:pathLst>
              <a:path w="1154" h="1383">
                <a:moveTo>
                  <a:pt x="1133" y="544"/>
                </a:moveTo>
                <a:lnTo>
                  <a:pt x="1133" y="544"/>
                </a:lnTo>
                <a:lnTo>
                  <a:pt x="1130" y="536"/>
                </a:lnTo>
                <a:lnTo>
                  <a:pt x="1125" y="532"/>
                </a:lnTo>
                <a:lnTo>
                  <a:pt x="1121" y="529"/>
                </a:lnTo>
                <a:lnTo>
                  <a:pt x="1113" y="529"/>
                </a:lnTo>
                <a:lnTo>
                  <a:pt x="1100" y="530"/>
                </a:lnTo>
                <a:lnTo>
                  <a:pt x="1086" y="533"/>
                </a:lnTo>
                <a:lnTo>
                  <a:pt x="1080" y="533"/>
                </a:lnTo>
                <a:lnTo>
                  <a:pt x="1074" y="535"/>
                </a:lnTo>
                <a:lnTo>
                  <a:pt x="1061" y="541"/>
                </a:lnTo>
                <a:lnTo>
                  <a:pt x="1044" y="548"/>
                </a:lnTo>
                <a:lnTo>
                  <a:pt x="1039" y="542"/>
                </a:lnTo>
                <a:lnTo>
                  <a:pt x="1024" y="529"/>
                </a:lnTo>
                <a:lnTo>
                  <a:pt x="1015" y="521"/>
                </a:lnTo>
                <a:lnTo>
                  <a:pt x="1006" y="515"/>
                </a:lnTo>
                <a:lnTo>
                  <a:pt x="996" y="511"/>
                </a:lnTo>
                <a:lnTo>
                  <a:pt x="987" y="509"/>
                </a:lnTo>
                <a:lnTo>
                  <a:pt x="969" y="509"/>
                </a:lnTo>
                <a:lnTo>
                  <a:pt x="948" y="506"/>
                </a:lnTo>
                <a:lnTo>
                  <a:pt x="940" y="503"/>
                </a:lnTo>
                <a:lnTo>
                  <a:pt x="932" y="500"/>
                </a:lnTo>
                <a:lnTo>
                  <a:pt x="928" y="495"/>
                </a:lnTo>
                <a:lnTo>
                  <a:pt x="926" y="491"/>
                </a:lnTo>
                <a:lnTo>
                  <a:pt x="926" y="477"/>
                </a:lnTo>
                <a:lnTo>
                  <a:pt x="929" y="459"/>
                </a:lnTo>
                <a:lnTo>
                  <a:pt x="929" y="438"/>
                </a:lnTo>
                <a:lnTo>
                  <a:pt x="928" y="426"/>
                </a:lnTo>
                <a:lnTo>
                  <a:pt x="926" y="414"/>
                </a:lnTo>
                <a:lnTo>
                  <a:pt x="923" y="408"/>
                </a:lnTo>
                <a:lnTo>
                  <a:pt x="922" y="404"/>
                </a:lnTo>
                <a:lnTo>
                  <a:pt x="917" y="399"/>
                </a:lnTo>
                <a:lnTo>
                  <a:pt x="914" y="395"/>
                </a:lnTo>
                <a:lnTo>
                  <a:pt x="904" y="388"/>
                </a:lnTo>
                <a:lnTo>
                  <a:pt x="892" y="384"/>
                </a:lnTo>
                <a:lnTo>
                  <a:pt x="880" y="378"/>
                </a:lnTo>
                <a:lnTo>
                  <a:pt x="866" y="372"/>
                </a:lnTo>
                <a:lnTo>
                  <a:pt x="854" y="364"/>
                </a:lnTo>
                <a:lnTo>
                  <a:pt x="842" y="352"/>
                </a:lnTo>
                <a:lnTo>
                  <a:pt x="836" y="346"/>
                </a:lnTo>
                <a:lnTo>
                  <a:pt x="828" y="342"/>
                </a:lnTo>
                <a:lnTo>
                  <a:pt x="819" y="339"/>
                </a:lnTo>
                <a:lnTo>
                  <a:pt x="810" y="336"/>
                </a:lnTo>
                <a:lnTo>
                  <a:pt x="791" y="331"/>
                </a:lnTo>
                <a:lnTo>
                  <a:pt x="771" y="330"/>
                </a:lnTo>
                <a:lnTo>
                  <a:pt x="753" y="331"/>
                </a:lnTo>
                <a:lnTo>
                  <a:pt x="737" y="331"/>
                </a:lnTo>
                <a:lnTo>
                  <a:pt x="715" y="334"/>
                </a:lnTo>
                <a:lnTo>
                  <a:pt x="657" y="330"/>
                </a:lnTo>
                <a:lnTo>
                  <a:pt x="593" y="327"/>
                </a:lnTo>
                <a:lnTo>
                  <a:pt x="586" y="327"/>
                </a:lnTo>
                <a:lnTo>
                  <a:pt x="578" y="331"/>
                </a:lnTo>
                <a:lnTo>
                  <a:pt x="563" y="342"/>
                </a:lnTo>
                <a:lnTo>
                  <a:pt x="550" y="352"/>
                </a:lnTo>
                <a:lnTo>
                  <a:pt x="545" y="355"/>
                </a:lnTo>
                <a:lnTo>
                  <a:pt x="539" y="357"/>
                </a:lnTo>
                <a:lnTo>
                  <a:pt x="535" y="355"/>
                </a:lnTo>
                <a:lnTo>
                  <a:pt x="530" y="354"/>
                </a:lnTo>
                <a:lnTo>
                  <a:pt x="524" y="351"/>
                </a:lnTo>
                <a:lnTo>
                  <a:pt x="518" y="346"/>
                </a:lnTo>
                <a:lnTo>
                  <a:pt x="512" y="339"/>
                </a:lnTo>
                <a:lnTo>
                  <a:pt x="506" y="330"/>
                </a:lnTo>
                <a:lnTo>
                  <a:pt x="500" y="318"/>
                </a:lnTo>
                <a:lnTo>
                  <a:pt x="494" y="303"/>
                </a:lnTo>
                <a:lnTo>
                  <a:pt x="488" y="291"/>
                </a:lnTo>
                <a:lnTo>
                  <a:pt x="483" y="282"/>
                </a:lnTo>
                <a:lnTo>
                  <a:pt x="479" y="275"/>
                </a:lnTo>
                <a:lnTo>
                  <a:pt x="474" y="272"/>
                </a:lnTo>
                <a:lnTo>
                  <a:pt x="470" y="269"/>
                </a:lnTo>
                <a:lnTo>
                  <a:pt x="467" y="266"/>
                </a:lnTo>
                <a:lnTo>
                  <a:pt x="465" y="262"/>
                </a:lnTo>
                <a:lnTo>
                  <a:pt x="464" y="253"/>
                </a:lnTo>
                <a:lnTo>
                  <a:pt x="462" y="248"/>
                </a:lnTo>
                <a:lnTo>
                  <a:pt x="461" y="245"/>
                </a:lnTo>
                <a:lnTo>
                  <a:pt x="458" y="244"/>
                </a:lnTo>
                <a:lnTo>
                  <a:pt x="456" y="242"/>
                </a:lnTo>
                <a:lnTo>
                  <a:pt x="450" y="241"/>
                </a:lnTo>
                <a:lnTo>
                  <a:pt x="444" y="244"/>
                </a:lnTo>
                <a:lnTo>
                  <a:pt x="434" y="250"/>
                </a:lnTo>
                <a:lnTo>
                  <a:pt x="429" y="253"/>
                </a:lnTo>
                <a:lnTo>
                  <a:pt x="432" y="203"/>
                </a:lnTo>
                <a:lnTo>
                  <a:pt x="387" y="173"/>
                </a:lnTo>
                <a:lnTo>
                  <a:pt x="388" y="185"/>
                </a:lnTo>
                <a:lnTo>
                  <a:pt x="388" y="197"/>
                </a:lnTo>
                <a:lnTo>
                  <a:pt x="387" y="202"/>
                </a:lnTo>
                <a:lnTo>
                  <a:pt x="385" y="206"/>
                </a:lnTo>
                <a:lnTo>
                  <a:pt x="382" y="209"/>
                </a:lnTo>
                <a:lnTo>
                  <a:pt x="378" y="212"/>
                </a:lnTo>
                <a:lnTo>
                  <a:pt x="373" y="211"/>
                </a:lnTo>
                <a:lnTo>
                  <a:pt x="366" y="209"/>
                </a:lnTo>
                <a:lnTo>
                  <a:pt x="357" y="203"/>
                </a:lnTo>
                <a:lnTo>
                  <a:pt x="346" y="194"/>
                </a:lnTo>
                <a:lnTo>
                  <a:pt x="333" y="182"/>
                </a:lnTo>
                <a:lnTo>
                  <a:pt x="318" y="165"/>
                </a:lnTo>
                <a:lnTo>
                  <a:pt x="301" y="144"/>
                </a:lnTo>
                <a:lnTo>
                  <a:pt x="289" y="126"/>
                </a:lnTo>
                <a:lnTo>
                  <a:pt x="283" y="110"/>
                </a:lnTo>
                <a:lnTo>
                  <a:pt x="280" y="95"/>
                </a:lnTo>
                <a:lnTo>
                  <a:pt x="271" y="92"/>
                </a:lnTo>
                <a:lnTo>
                  <a:pt x="266" y="89"/>
                </a:lnTo>
                <a:lnTo>
                  <a:pt x="263" y="86"/>
                </a:lnTo>
                <a:lnTo>
                  <a:pt x="262" y="83"/>
                </a:lnTo>
                <a:lnTo>
                  <a:pt x="262" y="78"/>
                </a:lnTo>
                <a:lnTo>
                  <a:pt x="262" y="77"/>
                </a:lnTo>
                <a:lnTo>
                  <a:pt x="260" y="75"/>
                </a:lnTo>
                <a:lnTo>
                  <a:pt x="247" y="62"/>
                </a:lnTo>
                <a:lnTo>
                  <a:pt x="233" y="46"/>
                </a:lnTo>
                <a:lnTo>
                  <a:pt x="232" y="45"/>
                </a:lnTo>
                <a:lnTo>
                  <a:pt x="230" y="45"/>
                </a:lnTo>
                <a:lnTo>
                  <a:pt x="226" y="45"/>
                </a:lnTo>
                <a:lnTo>
                  <a:pt x="215" y="51"/>
                </a:lnTo>
                <a:lnTo>
                  <a:pt x="211" y="51"/>
                </a:lnTo>
                <a:lnTo>
                  <a:pt x="206" y="49"/>
                </a:lnTo>
                <a:lnTo>
                  <a:pt x="196" y="40"/>
                </a:lnTo>
                <a:lnTo>
                  <a:pt x="174" y="24"/>
                </a:lnTo>
                <a:lnTo>
                  <a:pt x="167" y="21"/>
                </a:lnTo>
                <a:lnTo>
                  <a:pt x="155" y="18"/>
                </a:lnTo>
                <a:lnTo>
                  <a:pt x="141" y="15"/>
                </a:lnTo>
                <a:lnTo>
                  <a:pt x="128" y="15"/>
                </a:lnTo>
                <a:lnTo>
                  <a:pt x="111" y="15"/>
                </a:lnTo>
                <a:lnTo>
                  <a:pt x="90" y="13"/>
                </a:lnTo>
                <a:lnTo>
                  <a:pt x="67" y="10"/>
                </a:lnTo>
                <a:lnTo>
                  <a:pt x="58" y="9"/>
                </a:lnTo>
                <a:lnTo>
                  <a:pt x="49" y="4"/>
                </a:lnTo>
                <a:lnTo>
                  <a:pt x="40" y="3"/>
                </a:lnTo>
                <a:lnTo>
                  <a:pt x="30" y="1"/>
                </a:lnTo>
                <a:lnTo>
                  <a:pt x="0" y="0"/>
                </a:lnTo>
                <a:lnTo>
                  <a:pt x="25" y="30"/>
                </a:lnTo>
                <a:lnTo>
                  <a:pt x="49" y="58"/>
                </a:lnTo>
                <a:lnTo>
                  <a:pt x="74" y="86"/>
                </a:lnTo>
                <a:lnTo>
                  <a:pt x="93" y="110"/>
                </a:lnTo>
                <a:lnTo>
                  <a:pt x="110" y="129"/>
                </a:lnTo>
                <a:lnTo>
                  <a:pt x="117" y="135"/>
                </a:lnTo>
                <a:lnTo>
                  <a:pt x="123" y="138"/>
                </a:lnTo>
                <a:lnTo>
                  <a:pt x="126" y="138"/>
                </a:lnTo>
                <a:lnTo>
                  <a:pt x="128" y="135"/>
                </a:lnTo>
                <a:lnTo>
                  <a:pt x="128" y="131"/>
                </a:lnTo>
                <a:lnTo>
                  <a:pt x="126" y="126"/>
                </a:lnTo>
                <a:lnTo>
                  <a:pt x="119" y="113"/>
                </a:lnTo>
                <a:lnTo>
                  <a:pt x="116" y="108"/>
                </a:lnTo>
                <a:lnTo>
                  <a:pt x="111" y="104"/>
                </a:lnTo>
                <a:lnTo>
                  <a:pt x="107" y="99"/>
                </a:lnTo>
                <a:lnTo>
                  <a:pt x="102" y="89"/>
                </a:lnTo>
                <a:lnTo>
                  <a:pt x="96" y="63"/>
                </a:lnTo>
                <a:lnTo>
                  <a:pt x="90" y="39"/>
                </a:lnTo>
                <a:lnTo>
                  <a:pt x="89" y="28"/>
                </a:lnTo>
                <a:lnTo>
                  <a:pt x="113" y="60"/>
                </a:lnTo>
                <a:lnTo>
                  <a:pt x="137" y="89"/>
                </a:lnTo>
                <a:lnTo>
                  <a:pt x="161" y="116"/>
                </a:lnTo>
                <a:lnTo>
                  <a:pt x="176" y="129"/>
                </a:lnTo>
                <a:lnTo>
                  <a:pt x="187" y="135"/>
                </a:lnTo>
                <a:lnTo>
                  <a:pt x="194" y="137"/>
                </a:lnTo>
                <a:lnTo>
                  <a:pt x="197" y="135"/>
                </a:lnTo>
                <a:lnTo>
                  <a:pt x="199" y="135"/>
                </a:lnTo>
                <a:lnTo>
                  <a:pt x="197" y="135"/>
                </a:lnTo>
                <a:lnTo>
                  <a:pt x="190" y="143"/>
                </a:lnTo>
                <a:lnTo>
                  <a:pt x="181" y="155"/>
                </a:lnTo>
                <a:lnTo>
                  <a:pt x="176" y="162"/>
                </a:lnTo>
                <a:lnTo>
                  <a:pt x="173" y="172"/>
                </a:lnTo>
                <a:lnTo>
                  <a:pt x="171" y="179"/>
                </a:lnTo>
                <a:lnTo>
                  <a:pt x="173" y="188"/>
                </a:lnTo>
                <a:lnTo>
                  <a:pt x="174" y="194"/>
                </a:lnTo>
                <a:lnTo>
                  <a:pt x="179" y="199"/>
                </a:lnTo>
                <a:lnTo>
                  <a:pt x="190" y="211"/>
                </a:lnTo>
                <a:lnTo>
                  <a:pt x="205" y="223"/>
                </a:lnTo>
                <a:lnTo>
                  <a:pt x="223" y="235"/>
                </a:lnTo>
                <a:lnTo>
                  <a:pt x="242" y="245"/>
                </a:lnTo>
                <a:lnTo>
                  <a:pt x="260" y="253"/>
                </a:lnTo>
                <a:lnTo>
                  <a:pt x="277" y="259"/>
                </a:lnTo>
                <a:lnTo>
                  <a:pt x="291" y="260"/>
                </a:lnTo>
                <a:lnTo>
                  <a:pt x="345" y="260"/>
                </a:lnTo>
                <a:lnTo>
                  <a:pt x="372" y="300"/>
                </a:lnTo>
                <a:lnTo>
                  <a:pt x="376" y="300"/>
                </a:lnTo>
                <a:lnTo>
                  <a:pt x="381" y="300"/>
                </a:lnTo>
                <a:lnTo>
                  <a:pt x="388" y="303"/>
                </a:lnTo>
                <a:lnTo>
                  <a:pt x="397" y="306"/>
                </a:lnTo>
                <a:lnTo>
                  <a:pt x="407" y="312"/>
                </a:lnTo>
                <a:lnTo>
                  <a:pt x="417" y="321"/>
                </a:lnTo>
                <a:lnTo>
                  <a:pt x="429" y="334"/>
                </a:lnTo>
                <a:lnTo>
                  <a:pt x="435" y="340"/>
                </a:lnTo>
                <a:lnTo>
                  <a:pt x="443" y="348"/>
                </a:lnTo>
                <a:lnTo>
                  <a:pt x="462" y="360"/>
                </a:lnTo>
                <a:lnTo>
                  <a:pt x="483" y="370"/>
                </a:lnTo>
                <a:lnTo>
                  <a:pt x="504" y="381"/>
                </a:lnTo>
                <a:lnTo>
                  <a:pt x="542" y="395"/>
                </a:lnTo>
                <a:lnTo>
                  <a:pt x="559" y="399"/>
                </a:lnTo>
                <a:lnTo>
                  <a:pt x="544" y="441"/>
                </a:lnTo>
                <a:lnTo>
                  <a:pt x="536" y="446"/>
                </a:lnTo>
                <a:lnTo>
                  <a:pt x="523" y="456"/>
                </a:lnTo>
                <a:lnTo>
                  <a:pt x="514" y="465"/>
                </a:lnTo>
                <a:lnTo>
                  <a:pt x="506" y="473"/>
                </a:lnTo>
                <a:lnTo>
                  <a:pt x="500" y="482"/>
                </a:lnTo>
                <a:lnTo>
                  <a:pt x="497" y="491"/>
                </a:lnTo>
                <a:lnTo>
                  <a:pt x="497" y="498"/>
                </a:lnTo>
                <a:lnTo>
                  <a:pt x="497" y="508"/>
                </a:lnTo>
                <a:lnTo>
                  <a:pt x="498" y="517"/>
                </a:lnTo>
                <a:lnTo>
                  <a:pt x="501" y="526"/>
                </a:lnTo>
                <a:lnTo>
                  <a:pt x="509" y="544"/>
                </a:lnTo>
                <a:lnTo>
                  <a:pt x="517" y="563"/>
                </a:lnTo>
                <a:lnTo>
                  <a:pt x="521" y="572"/>
                </a:lnTo>
                <a:lnTo>
                  <a:pt x="527" y="581"/>
                </a:lnTo>
                <a:lnTo>
                  <a:pt x="541" y="595"/>
                </a:lnTo>
                <a:lnTo>
                  <a:pt x="553" y="605"/>
                </a:lnTo>
                <a:lnTo>
                  <a:pt x="556" y="612"/>
                </a:lnTo>
                <a:lnTo>
                  <a:pt x="559" y="616"/>
                </a:lnTo>
                <a:lnTo>
                  <a:pt x="565" y="636"/>
                </a:lnTo>
                <a:lnTo>
                  <a:pt x="569" y="648"/>
                </a:lnTo>
                <a:lnTo>
                  <a:pt x="577" y="661"/>
                </a:lnTo>
                <a:lnTo>
                  <a:pt x="584" y="675"/>
                </a:lnTo>
                <a:lnTo>
                  <a:pt x="595" y="687"/>
                </a:lnTo>
                <a:lnTo>
                  <a:pt x="601" y="691"/>
                </a:lnTo>
                <a:lnTo>
                  <a:pt x="607" y="696"/>
                </a:lnTo>
                <a:lnTo>
                  <a:pt x="613" y="699"/>
                </a:lnTo>
                <a:lnTo>
                  <a:pt x="621" y="700"/>
                </a:lnTo>
                <a:lnTo>
                  <a:pt x="633" y="705"/>
                </a:lnTo>
                <a:lnTo>
                  <a:pt x="643" y="711"/>
                </a:lnTo>
                <a:lnTo>
                  <a:pt x="651" y="718"/>
                </a:lnTo>
                <a:lnTo>
                  <a:pt x="655" y="728"/>
                </a:lnTo>
                <a:lnTo>
                  <a:pt x="660" y="738"/>
                </a:lnTo>
                <a:lnTo>
                  <a:pt x="663" y="749"/>
                </a:lnTo>
                <a:lnTo>
                  <a:pt x="666" y="770"/>
                </a:lnTo>
                <a:lnTo>
                  <a:pt x="669" y="794"/>
                </a:lnTo>
                <a:lnTo>
                  <a:pt x="669" y="824"/>
                </a:lnTo>
                <a:lnTo>
                  <a:pt x="669" y="841"/>
                </a:lnTo>
                <a:lnTo>
                  <a:pt x="666" y="854"/>
                </a:lnTo>
                <a:lnTo>
                  <a:pt x="663" y="866"/>
                </a:lnTo>
                <a:lnTo>
                  <a:pt x="658" y="877"/>
                </a:lnTo>
                <a:lnTo>
                  <a:pt x="654" y="886"/>
                </a:lnTo>
                <a:lnTo>
                  <a:pt x="652" y="898"/>
                </a:lnTo>
                <a:lnTo>
                  <a:pt x="652" y="910"/>
                </a:lnTo>
                <a:lnTo>
                  <a:pt x="652" y="922"/>
                </a:lnTo>
                <a:lnTo>
                  <a:pt x="657" y="943"/>
                </a:lnTo>
                <a:lnTo>
                  <a:pt x="658" y="957"/>
                </a:lnTo>
                <a:lnTo>
                  <a:pt x="657" y="964"/>
                </a:lnTo>
                <a:lnTo>
                  <a:pt x="652" y="976"/>
                </a:lnTo>
                <a:lnTo>
                  <a:pt x="639" y="1005"/>
                </a:lnTo>
                <a:lnTo>
                  <a:pt x="621" y="1045"/>
                </a:lnTo>
                <a:lnTo>
                  <a:pt x="613" y="1217"/>
                </a:lnTo>
                <a:lnTo>
                  <a:pt x="613" y="1354"/>
                </a:lnTo>
                <a:lnTo>
                  <a:pt x="613" y="1360"/>
                </a:lnTo>
                <a:lnTo>
                  <a:pt x="614" y="1366"/>
                </a:lnTo>
                <a:lnTo>
                  <a:pt x="616" y="1369"/>
                </a:lnTo>
                <a:lnTo>
                  <a:pt x="619" y="1374"/>
                </a:lnTo>
                <a:lnTo>
                  <a:pt x="625" y="1378"/>
                </a:lnTo>
                <a:lnTo>
                  <a:pt x="634" y="1381"/>
                </a:lnTo>
                <a:lnTo>
                  <a:pt x="642" y="1383"/>
                </a:lnTo>
                <a:lnTo>
                  <a:pt x="648" y="1383"/>
                </a:lnTo>
                <a:lnTo>
                  <a:pt x="654" y="1381"/>
                </a:lnTo>
                <a:lnTo>
                  <a:pt x="669" y="1368"/>
                </a:lnTo>
                <a:lnTo>
                  <a:pt x="681" y="1354"/>
                </a:lnTo>
                <a:lnTo>
                  <a:pt x="685" y="1347"/>
                </a:lnTo>
                <a:lnTo>
                  <a:pt x="688" y="1339"/>
                </a:lnTo>
                <a:lnTo>
                  <a:pt x="697" y="1324"/>
                </a:lnTo>
                <a:lnTo>
                  <a:pt x="708" y="1306"/>
                </a:lnTo>
                <a:lnTo>
                  <a:pt x="727" y="1279"/>
                </a:lnTo>
                <a:lnTo>
                  <a:pt x="731" y="1271"/>
                </a:lnTo>
                <a:lnTo>
                  <a:pt x="732" y="1262"/>
                </a:lnTo>
                <a:lnTo>
                  <a:pt x="738" y="1237"/>
                </a:lnTo>
                <a:lnTo>
                  <a:pt x="741" y="1205"/>
                </a:lnTo>
                <a:lnTo>
                  <a:pt x="743" y="1175"/>
                </a:lnTo>
                <a:lnTo>
                  <a:pt x="744" y="1163"/>
                </a:lnTo>
                <a:lnTo>
                  <a:pt x="747" y="1152"/>
                </a:lnTo>
                <a:lnTo>
                  <a:pt x="752" y="1143"/>
                </a:lnTo>
                <a:lnTo>
                  <a:pt x="758" y="1137"/>
                </a:lnTo>
                <a:lnTo>
                  <a:pt x="770" y="1127"/>
                </a:lnTo>
                <a:lnTo>
                  <a:pt x="774" y="1121"/>
                </a:lnTo>
                <a:lnTo>
                  <a:pt x="777" y="1113"/>
                </a:lnTo>
                <a:lnTo>
                  <a:pt x="779" y="1107"/>
                </a:lnTo>
                <a:lnTo>
                  <a:pt x="782" y="1100"/>
                </a:lnTo>
                <a:lnTo>
                  <a:pt x="786" y="1094"/>
                </a:lnTo>
                <a:lnTo>
                  <a:pt x="791" y="1086"/>
                </a:lnTo>
                <a:lnTo>
                  <a:pt x="797" y="1080"/>
                </a:lnTo>
                <a:lnTo>
                  <a:pt x="804" y="1076"/>
                </a:lnTo>
                <a:lnTo>
                  <a:pt x="813" y="1071"/>
                </a:lnTo>
                <a:lnTo>
                  <a:pt x="822" y="1068"/>
                </a:lnTo>
                <a:lnTo>
                  <a:pt x="833" y="1065"/>
                </a:lnTo>
                <a:lnTo>
                  <a:pt x="841" y="1061"/>
                </a:lnTo>
                <a:lnTo>
                  <a:pt x="856" y="1051"/>
                </a:lnTo>
                <a:lnTo>
                  <a:pt x="865" y="1044"/>
                </a:lnTo>
                <a:lnTo>
                  <a:pt x="869" y="1041"/>
                </a:lnTo>
                <a:lnTo>
                  <a:pt x="837" y="1011"/>
                </a:lnTo>
                <a:lnTo>
                  <a:pt x="887" y="988"/>
                </a:lnTo>
                <a:lnTo>
                  <a:pt x="896" y="982"/>
                </a:lnTo>
                <a:lnTo>
                  <a:pt x="907" y="973"/>
                </a:lnTo>
                <a:lnTo>
                  <a:pt x="934" y="946"/>
                </a:lnTo>
                <a:lnTo>
                  <a:pt x="961" y="919"/>
                </a:lnTo>
                <a:lnTo>
                  <a:pt x="970" y="908"/>
                </a:lnTo>
                <a:lnTo>
                  <a:pt x="976" y="899"/>
                </a:lnTo>
                <a:lnTo>
                  <a:pt x="982" y="884"/>
                </a:lnTo>
                <a:lnTo>
                  <a:pt x="988" y="868"/>
                </a:lnTo>
                <a:lnTo>
                  <a:pt x="994" y="847"/>
                </a:lnTo>
                <a:lnTo>
                  <a:pt x="1006" y="844"/>
                </a:lnTo>
                <a:lnTo>
                  <a:pt x="1029" y="833"/>
                </a:lnTo>
                <a:lnTo>
                  <a:pt x="1042" y="827"/>
                </a:lnTo>
                <a:lnTo>
                  <a:pt x="1053" y="821"/>
                </a:lnTo>
                <a:lnTo>
                  <a:pt x="1061" y="812"/>
                </a:lnTo>
                <a:lnTo>
                  <a:pt x="1064" y="809"/>
                </a:lnTo>
                <a:lnTo>
                  <a:pt x="1064" y="804"/>
                </a:lnTo>
                <a:lnTo>
                  <a:pt x="1064" y="764"/>
                </a:lnTo>
                <a:lnTo>
                  <a:pt x="1062" y="744"/>
                </a:lnTo>
                <a:lnTo>
                  <a:pt x="1061" y="728"/>
                </a:lnTo>
                <a:lnTo>
                  <a:pt x="1059" y="723"/>
                </a:lnTo>
                <a:lnTo>
                  <a:pt x="1062" y="723"/>
                </a:lnTo>
                <a:lnTo>
                  <a:pt x="1067" y="725"/>
                </a:lnTo>
                <a:lnTo>
                  <a:pt x="1073" y="725"/>
                </a:lnTo>
                <a:lnTo>
                  <a:pt x="1077" y="723"/>
                </a:lnTo>
                <a:lnTo>
                  <a:pt x="1082" y="721"/>
                </a:lnTo>
                <a:lnTo>
                  <a:pt x="1088" y="717"/>
                </a:lnTo>
                <a:lnTo>
                  <a:pt x="1095" y="711"/>
                </a:lnTo>
                <a:lnTo>
                  <a:pt x="1103" y="702"/>
                </a:lnTo>
                <a:lnTo>
                  <a:pt x="1110" y="690"/>
                </a:lnTo>
                <a:lnTo>
                  <a:pt x="1119" y="676"/>
                </a:lnTo>
                <a:lnTo>
                  <a:pt x="1128" y="658"/>
                </a:lnTo>
                <a:lnTo>
                  <a:pt x="1145" y="625"/>
                </a:lnTo>
                <a:lnTo>
                  <a:pt x="1149" y="612"/>
                </a:lnTo>
                <a:lnTo>
                  <a:pt x="1152" y="601"/>
                </a:lnTo>
                <a:lnTo>
                  <a:pt x="1154" y="592"/>
                </a:lnTo>
                <a:lnTo>
                  <a:pt x="1154" y="584"/>
                </a:lnTo>
                <a:lnTo>
                  <a:pt x="1154" y="578"/>
                </a:lnTo>
                <a:lnTo>
                  <a:pt x="1152" y="572"/>
                </a:lnTo>
                <a:lnTo>
                  <a:pt x="1146" y="565"/>
                </a:lnTo>
                <a:lnTo>
                  <a:pt x="1140" y="559"/>
                </a:lnTo>
                <a:lnTo>
                  <a:pt x="1136" y="553"/>
                </a:lnTo>
                <a:lnTo>
                  <a:pt x="1134" y="548"/>
                </a:lnTo>
                <a:lnTo>
                  <a:pt x="1133" y="544"/>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7" name="Freeform 102"/>
          <p:cNvSpPr/>
          <p:nvPr/>
        </p:nvSpPr>
        <p:spPr>
          <a:xfrm>
            <a:off x="1755720" y="3579840"/>
            <a:ext cx="1832040" cy="2195640"/>
          </a:xfrm>
          <a:custGeom>
            <a:avLst/>
            <a:gdLst>
              <a:gd name="textAreaLeft" fmla="*/ 0 w 1832040"/>
              <a:gd name="textAreaRight" fmla="*/ 1832400 w 1832040"/>
              <a:gd name="textAreaTop" fmla="*/ 0 h 2195640"/>
              <a:gd name="textAreaBottom" fmla="*/ 2196000 h 2195640"/>
            </a:gdLst>
            <a:ahLst/>
            <a:rect l="textAreaLeft" t="textAreaTop" r="textAreaRight" b="textAreaBottom"/>
            <a:pathLst>
              <a:path w="1154" h="1383">
                <a:moveTo>
                  <a:pt x="1133" y="544"/>
                </a:moveTo>
                <a:lnTo>
                  <a:pt x="1133" y="544"/>
                </a:lnTo>
                <a:lnTo>
                  <a:pt x="1130" y="536"/>
                </a:lnTo>
                <a:lnTo>
                  <a:pt x="1125" y="532"/>
                </a:lnTo>
                <a:lnTo>
                  <a:pt x="1121" y="529"/>
                </a:lnTo>
                <a:lnTo>
                  <a:pt x="1113" y="529"/>
                </a:lnTo>
                <a:lnTo>
                  <a:pt x="1100" y="530"/>
                </a:lnTo>
                <a:lnTo>
                  <a:pt x="1086" y="533"/>
                </a:lnTo>
                <a:lnTo>
                  <a:pt x="1080" y="533"/>
                </a:lnTo>
                <a:lnTo>
                  <a:pt x="1074" y="535"/>
                </a:lnTo>
                <a:lnTo>
                  <a:pt x="1061" y="541"/>
                </a:lnTo>
                <a:lnTo>
                  <a:pt x="1044" y="548"/>
                </a:lnTo>
                <a:lnTo>
                  <a:pt x="1039" y="542"/>
                </a:lnTo>
                <a:lnTo>
                  <a:pt x="1024" y="529"/>
                </a:lnTo>
                <a:lnTo>
                  <a:pt x="1015" y="521"/>
                </a:lnTo>
                <a:lnTo>
                  <a:pt x="1006" y="515"/>
                </a:lnTo>
                <a:lnTo>
                  <a:pt x="996" y="511"/>
                </a:lnTo>
                <a:lnTo>
                  <a:pt x="987" y="509"/>
                </a:lnTo>
                <a:lnTo>
                  <a:pt x="969" y="509"/>
                </a:lnTo>
                <a:lnTo>
                  <a:pt x="948" y="506"/>
                </a:lnTo>
                <a:lnTo>
                  <a:pt x="940" y="503"/>
                </a:lnTo>
                <a:lnTo>
                  <a:pt x="932" y="500"/>
                </a:lnTo>
                <a:lnTo>
                  <a:pt x="928" y="495"/>
                </a:lnTo>
                <a:lnTo>
                  <a:pt x="926" y="491"/>
                </a:lnTo>
                <a:lnTo>
                  <a:pt x="926" y="477"/>
                </a:lnTo>
                <a:lnTo>
                  <a:pt x="929" y="459"/>
                </a:lnTo>
                <a:lnTo>
                  <a:pt x="929" y="438"/>
                </a:lnTo>
                <a:lnTo>
                  <a:pt x="928" y="426"/>
                </a:lnTo>
                <a:lnTo>
                  <a:pt x="926" y="414"/>
                </a:lnTo>
                <a:lnTo>
                  <a:pt x="923" y="408"/>
                </a:lnTo>
                <a:lnTo>
                  <a:pt x="922" y="404"/>
                </a:lnTo>
                <a:lnTo>
                  <a:pt x="917" y="399"/>
                </a:lnTo>
                <a:lnTo>
                  <a:pt x="914" y="395"/>
                </a:lnTo>
                <a:lnTo>
                  <a:pt x="904" y="388"/>
                </a:lnTo>
                <a:lnTo>
                  <a:pt x="892" y="384"/>
                </a:lnTo>
                <a:lnTo>
                  <a:pt x="880" y="378"/>
                </a:lnTo>
                <a:lnTo>
                  <a:pt x="866" y="372"/>
                </a:lnTo>
                <a:lnTo>
                  <a:pt x="854" y="364"/>
                </a:lnTo>
                <a:lnTo>
                  <a:pt x="842" y="352"/>
                </a:lnTo>
                <a:lnTo>
                  <a:pt x="836" y="346"/>
                </a:lnTo>
                <a:lnTo>
                  <a:pt x="828" y="342"/>
                </a:lnTo>
                <a:lnTo>
                  <a:pt x="819" y="339"/>
                </a:lnTo>
                <a:lnTo>
                  <a:pt x="810" y="336"/>
                </a:lnTo>
                <a:lnTo>
                  <a:pt x="791" y="331"/>
                </a:lnTo>
                <a:lnTo>
                  <a:pt x="771" y="330"/>
                </a:lnTo>
                <a:lnTo>
                  <a:pt x="753" y="331"/>
                </a:lnTo>
                <a:lnTo>
                  <a:pt x="737" y="331"/>
                </a:lnTo>
                <a:lnTo>
                  <a:pt x="715" y="334"/>
                </a:lnTo>
                <a:lnTo>
                  <a:pt x="657" y="330"/>
                </a:lnTo>
                <a:lnTo>
                  <a:pt x="593" y="327"/>
                </a:lnTo>
                <a:lnTo>
                  <a:pt x="586" y="327"/>
                </a:lnTo>
                <a:lnTo>
                  <a:pt x="578" y="331"/>
                </a:lnTo>
                <a:lnTo>
                  <a:pt x="563" y="342"/>
                </a:lnTo>
                <a:lnTo>
                  <a:pt x="550" y="352"/>
                </a:lnTo>
                <a:lnTo>
                  <a:pt x="545" y="355"/>
                </a:lnTo>
                <a:lnTo>
                  <a:pt x="539" y="357"/>
                </a:lnTo>
                <a:lnTo>
                  <a:pt x="535" y="355"/>
                </a:lnTo>
                <a:lnTo>
                  <a:pt x="530" y="354"/>
                </a:lnTo>
                <a:lnTo>
                  <a:pt x="524" y="351"/>
                </a:lnTo>
                <a:lnTo>
                  <a:pt x="518" y="346"/>
                </a:lnTo>
                <a:lnTo>
                  <a:pt x="512" y="339"/>
                </a:lnTo>
                <a:lnTo>
                  <a:pt x="506" y="330"/>
                </a:lnTo>
                <a:lnTo>
                  <a:pt x="500" y="318"/>
                </a:lnTo>
                <a:lnTo>
                  <a:pt x="494" y="303"/>
                </a:lnTo>
                <a:lnTo>
                  <a:pt x="488" y="291"/>
                </a:lnTo>
                <a:lnTo>
                  <a:pt x="483" y="282"/>
                </a:lnTo>
                <a:lnTo>
                  <a:pt x="479" y="275"/>
                </a:lnTo>
                <a:lnTo>
                  <a:pt x="474" y="272"/>
                </a:lnTo>
                <a:lnTo>
                  <a:pt x="470" y="269"/>
                </a:lnTo>
                <a:lnTo>
                  <a:pt x="467" y="266"/>
                </a:lnTo>
                <a:lnTo>
                  <a:pt x="465" y="262"/>
                </a:lnTo>
                <a:lnTo>
                  <a:pt x="464" y="253"/>
                </a:lnTo>
                <a:lnTo>
                  <a:pt x="462" y="248"/>
                </a:lnTo>
                <a:lnTo>
                  <a:pt x="461" y="245"/>
                </a:lnTo>
                <a:lnTo>
                  <a:pt x="458" y="244"/>
                </a:lnTo>
                <a:lnTo>
                  <a:pt x="456" y="242"/>
                </a:lnTo>
                <a:lnTo>
                  <a:pt x="450" y="241"/>
                </a:lnTo>
                <a:lnTo>
                  <a:pt x="444" y="244"/>
                </a:lnTo>
                <a:lnTo>
                  <a:pt x="434" y="250"/>
                </a:lnTo>
                <a:lnTo>
                  <a:pt x="429" y="253"/>
                </a:lnTo>
                <a:lnTo>
                  <a:pt x="432" y="203"/>
                </a:lnTo>
                <a:lnTo>
                  <a:pt x="387" y="173"/>
                </a:lnTo>
                <a:lnTo>
                  <a:pt x="388" y="185"/>
                </a:lnTo>
                <a:lnTo>
                  <a:pt x="388" y="197"/>
                </a:lnTo>
                <a:lnTo>
                  <a:pt x="387" y="202"/>
                </a:lnTo>
                <a:lnTo>
                  <a:pt x="385" y="206"/>
                </a:lnTo>
                <a:lnTo>
                  <a:pt x="382" y="209"/>
                </a:lnTo>
                <a:lnTo>
                  <a:pt x="378" y="212"/>
                </a:lnTo>
                <a:lnTo>
                  <a:pt x="373" y="211"/>
                </a:lnTo>
                <a:lnTo>
                  <a:pt x="366" y="209"/>
                </a:lnTo>
                <a:lnTo>
                  <a:pt x="357" y="203"/>
                </a:lnTo>
                <a:lnTo>
                  <a:pt x="346" y="194"/>
                </a:lnTo>
                <a:lnTo>
                  <a:pt x="333" y="182"/>
                </a:lnTo>
                <a:lnTo>
                  <a:pt x="318" y="165"/>
                </a:lnTo>
                <a:lnTo>
                  <a:pt x="301" y="144"/>
                </a:lnTo>
                <a:lnTo>
                  <a:pt x="289" y="126"/>
                </a:lnTo>
                <a:lnTo>
                  <a:pt x="283" y="110"/>
                </a:lnTo>
                <a:lnTo>
                  <a:pt x="280" y="95"/>
                </a:lnTo>
                <a:lnTo>
                  <a:pt x="271" y="92"/>
                </a:lnTo>
                <a:lnTo>
                  <a:pt x="266" y="89"/>
                </a:lnTo>
                <a:lnTo>
                  <a:pt x="263" y="86"/>
                </a:lnTo>
                <a:lnTo>
                  <a:pt x="262" y="83"/>
                </a:lnTo>
                <a:lnTo>
                  <a:pt x="262" y="78"/>
                </a:lnTo>
                <a:lnTo>
                  <a:pt x="262" y="77"/>
                </a:lnTo>
                <a:lnTo>
                  <a:pt x="260" y="75"/>
                </a:lnTo>
                <a:lnTo>
                  <a:pt x="247" y="62"/>
                </a:lnTo>
                <a:lnTo>
                  <a:pt x="233" y="46"/>
                </a:lnTo>
                <a:lnTo>
                  <a:pt x="232" y="45"/>
                </a:lnTo>
                <a:lnTo>
                  <a:pt x="230" y="45"/>
                </a:lnTo>
                <a:lnTo>
                  <a:pt x="226" y="45"/>
                </a:lnTo>
                <a:lnTo>
                  <a:pt x="215" y="51"/>
                </a:lnTo>
                <a:lnTo>
                  <a:pt x="211" y="51"/>
                </a:lnTo>
                <a:lnTo>
                  <a:pt x="206" y="49"/>
                </a:lnTo>
                <a:lnTo>
                  <a:pt x="196" y="40"/>
                </a:lnTo>
                <a:lnTo>
                  <a:pt x="174" y="24"/>
                </a:lnTo>
                <a:lnTo>
                  <a:pt x="167" y="21"/>
                </a:lnTo>
                <a:lnTo>
                  <a:pt x="155" y="18"/>
                </a:lnTo>
                <a:lnTo>
                  <a:pt x="141" y="15"/>
                </a:lnTo>
                <a:lnTo>
                  <a:pt x="128" y="15"/>
                </a:lnTo>
                <a:lnTo>
                  <a:pt x="111" y="15"/>
                </a:lnTo>
                <a:lnTo>
                  <a:pt x="90" y="13"/>
                </a:lnTo>
                <a:lnTo>
                  <a:pt x="67" y="10"/>
                </a:lnTo>
                <a:lnTo>
                  <a:pt x="58" y="9"/>
                </a:lnTo>
                <a:lnTo>
                  <a:pt x="49" y="4"/>
                </a:lnTo>
                <a:lnTo>
                  <a:pt x="40" y="3"/>
                </a:lnTo>
                <a:lnTo>
                  <a:pt x="30" y="1"/>
                </a:lnTo>
                <a:lnTo>
                  <a:pt x="0" y="0"/>
                </a:lnTo>
                <a:lnTo>
                  <a:pt x="25" y="30"/>
                </a:lnTo>
                <a:lnTo>
                  <a:pt x="49" y="58"/>
                </a:lnTo>
                <a:lnTo>
                  <a:pt x="74" y="86"/>
                </a:lnTo>
                <a:lnTo>
                  <a:pt x="93" y="110"/>
                </a:lnTo>
                <a:lnTo>
                  <a:pt x="110" y="129"/>
                </a:lnTo>
                <a:lnTo>
                  <a:pt x="117" y="135"/>
                </a:lnTo>
                <a:lnTo>
                  <a:pt x="123" y="138"/>
                </a:lnTo>
                <a:lnTo>
                  <a:pt x="126" y="138"/>
                </a:lnTo>
                <a:lnTo>
                  <a:pt x="128" y="135"/>
                </a:lnTo>
                <a:lnTo>
                  <a:pt x="128" y="131"/>
                </a:lnTo>
                <a:lnTo>
                  <a:pt x="126" y="126"/>
                </a:lnTo>
                <a:lnTo>
                  <a:pt x="119" y="113"/>
                </a:lnTo>
                <a:lnTo>
                  <a:pt x="116" y="108"/>
                </a:lnTo>
                <a:lnTo>
                  <a:pt x="111" y="104"/>
                </a:lnTo>
                <a:lnTo>
                  <a:pt x="107" y="99"/>
                </a:lnTo>
                <a:lnTo>
                  <a:pt x="102" y="89"/>
                </a:lnTo>
                <a:lnTo>
                  <a:pt x="96" y="63"/>
                </a:lnTo>
                <a:lnTo>
                  <a:pt x="90" y="39"/>
                </a:lnTo>
                <a:lnTo>
                  <a:pt x="89" y="28"/>
                </a:lnTo>
                <a:lnTo>
                  <a:pt x="113" y="60"/>
                </a:lnTo>
                <a:lnTo>
                  <a:pt x="137" y="89"/>
                </a:lnTo>
                <a:lnTo>
                  <a:pt x="161" y="116"/>
                </a:lnTo>
                <a:lnTo>
                  <a:pt x="176" y="129"/>
                </a:lnTo>
                <a:lnTo>
                  <a:pt x="187" y="135"/>
                </a:lnTo>
                <a:lnTo>
                  <a:pt x="194" y="137"/>
                </a:lnTo>
                <a:lnTo>
                  <a:pt x="197" y="135"/>
                </a:lnTo>
                <a:lnTo>
                  <a:pt x="199" y="135"/>
                </a:lnTo>
                <a:lnTo>
                  <a:pt x="197" y="135"/>
                </a:lnTo>
                <a:lnTo>
                  <a:pt x="190" y="143"/>
                </a:lnTo>
                <a:lnTo>
                  <a:pt x="181" y="155"/>
                </a:lnTo>
                <a:lnTo>
                  <a:pt x="176" y="162"/>
                </a:lnTo>
                <a:lnTo>
                  <a:pt x="173" y="172"/>
                </a:lnTo>
                <a:lnTo>
                  <a:pt x="171" y="179"/>
                </a:lnTo>
                <a:lnTo>
                  <a:pt x="173" y="188"/>
                </a:lnTo>
                <a:lnTo>
                  <a:pt x="174" y="194"/>
                </a:lnTo>
                <a:lnTo>
                  <a:pt x="179" y="199"/>
                </a:lnTo>
                <a:lnTo>
                  <a:pt x="190" y="211"/>
                </a:lnTo>
                <a:lnTo>
                  <a:pt x="205" y="223"/>
                </a:lnTo>
                <a:lnTo>
                  <a:pt x="223" y="235"/>
                </a:lnTo>
                <a:lnTo>
                  <a:pt x="242" y="245"/>
                </a:lnTo>
                <a:lnTo>
                  <a:pt x="260" y="253"/>
                </a:lnTo>
                <a:lnTo>
                  <a:pt x="277" y="259"/>
                </a:lnTo>
                <a:lnTo>
                  <a:pt x="291" y="260"/>
                </a:lnTo>
                <a:lnTo>
                  <a:pt x="345" y="260"/>
                </a:lnTo>
                <a:lnTo>
                  <a:pt x="372" y="300"/>
                </a:lnTo>
                <a:lnTo>
                  <a:pt x="376" y="300"/>
                </a:lnTo>
                <a:lnTo>
                  <a:pt x="381" y="300"/>
                </a:lnTo>
                <a:lnTo>
                  <a:pt x="388" y="303"/>
                </a:lnTo>
                <a:lnTo>
                  <a:pt x="397" y="306"/>
                </a:lnTo>
                <a:lnTo>
                  <a:pt x="407" y="312"/>
                </a:lnTo>
                <a:lnTo>
                  <a:pt x="417" y="321"/>
                </a:lnTo>
                <a:lnTo>
                  <a:pt x="429" y="334"/>
                </a:lnTo>
                <a:lnTo>
                  <a:pt x="435" y="340"/>
                </a:lnTo>
                <a:lnTo>
                  <a:pt x="443" y="348"/>
                </a:lnTo>
                <a:lnTo>
                  <a:pt x="462" y="360"/>
                </a:lnTo>
                <a:lnTo>
                  <a:pt x="483" y="370"/>
                </a:lnTo>
                <a:lnTo>
                  <a:pt x="504" y="381"/>
                </a:lnTo>
                <a:lnTo>
                  <a:pt x="542" y="395"/>
                </a:lnTo>
                <a:lnTo>
                  <a:pt x="559" y="399"/>
                </a:lnTo>
                <a:lnTo>
                  <a:pt x="544" y="441"/>
                </a:lnTo>
                <a:lnTo>
                  <a:pt x="536" y="446"/>
                </a:lnTo>
                <a:lnTo>
                  <a:pt x="523" y="456"/>
                </a:lnTo>
                <a:lnTo>
                  <a:pt x="514" y="465"/>
                </a:lnTo>
                <a:lnTo>
                  <a:pt x="506" y="473"/>
                </a:lnTo>
                <a:lnTo>
                  <a:pt x="500" y="482"/>
                </a:lnTo>
                <a:lnTo>
                  <a:pt x="497" y="491"/>
                </a:lnTo>
                <a:lnTo>
                  <a:pt x="497" y="498"/>
                </a:lnTo>
                <a:lnTo>
                  <a:pt x="497" y="508"/>
                </a:lnTo>
                <a:lnTo>
                  <a:pt x="498" y="517"/>
                </a:lnTo>
                <a:lnTo>
                  <a:pt x="501" y="526"/>
                </a:lnTo>
                <a:lnTo>
                  <a:pt x="509" y="544"/>
                </a:lnTo>
                <a:lnTo>
                  <a:pt x="517" y="563"/>
                </a:lnTo>
                <a:lnTo>
                  <a:pt x="521" y="572"/>
                </a:lnTo>
                <a:lnTo>
                  <a:pt x="527" y="581"/>
                </a:lnTo>
                <a:lnTo>
                  <a:pt x="541" y="595"/>
                </a:lnTo>
                <a:lnTo>
                  <a:pt x="553" y="605"/>
                </a:lnTo>
                <a:lnTo>
                  <a:pt x="556" y="612"/>
                </a:lnTo>
                <a:lnTo>
                  <a:pt x="559" y="616"/>
                </a:lnTo>
                <a:lnTo>
                  <a:pt x="565" y="636"/>
                </a:lnTo>
                <a:lnTo>
                  <a:pt x="569" y="648"/>
                </a:lnTo>
                <a:lnTo>
                  <a:pt x="577" y="661"/>
                </a:lnTo>
                <a:lnTo>
                  <a:pt x="584" y="675"/>
                </a:lnTo>
                <a:lnTo>
                  <a:pt x="595" y="687"/>
                </a:lnTo>
                <a:lnTo>
                  <a:pt x="601" y="691"/>
                </a:lnTo>
                <a:lnTo>
                  <a:pt x="607" y="696"/>
                </a:lnTo>
                <a:lnTo>
                  <a:pt x="613" y="699"/>
                </a:lnTo>
                <a:lnTo>
                  <a:pt x="621" y="700"/>
                </a:lnTo>
                <a:lnTo>
                  <a:pt x="633" y="705"/>
                </a:lnTo>
                <a:lnTo>
                  <a:pt x="643" y="711"/>
                </a:lnTo>
                <a:lnTo>
                  <a:pt x="651" y="718"/>
                </a:lnTo>
                <a:lnTo>
                  <a:pt x="655" y="728"/>
                </a:lnTo>
                <a:lnTo>
                  <a:pt x="660" y="738"/>
                </a:lnTo>
                <a:lnTo>
                  <a:pt x="663" y="749"/>
                </a:lnTo>
                <a:lnTo>
                  <a:pt x="666" y="770"/>
                </a:lnTo>
                <a:lnTo>
                  <a:pt x="669" y="794"/>
                </a:lnTo>
                <a:lnTo>
                  <a:pt x="669" y="824"/>
                </a:lnTo>
                <a:lnTo>
                  <a:pt x="669" y="841"/>
                </a:lnTo>
                <a:lnTo>
                  <a:pt x="666" y="854"/>
                </a:lnTo>
                <a:lnTo>
                  <a:pt x="663" y="866"/>
                </a:lnTo>
                <a:lnTo>
                  <a:pt x="658" y="877"/>
                </a:lnTo>
                <a:lnTo>
                  <a:pt x="654" y="886"/>
                </a:lnTo>
                <a:lnTo>
                  <a:pt x="652" y="898"/>
                </a:lnTo>
                <a:lnTo>
                  <a:pt x="652" y="910"/>
                </a:lnTo>
                <a:lnTo>
                  <a:pt x="652" y="922"/>
                </a:lnTo>
                <a:lnTo>
                  <a:pt x="657" y="943"/>
                </a:lnTo>
                <a:lnTo>
                  <a:pt x="658" y="957"/>
                </a:lnTo>
                <a:lnTo>
                  <a:pt x="657" y="964"/>
                </a:lnTo>
                <a:lnTo>
                  <a:pt x="652" y="976"/>
                </a:lnTo>
                <a:lnTo>
                  <a:pt x="639" y="1005"/>
                </a:lnTo>
                <a:lnTo>
                  <a:pt x="621" y="1045"/>
                </a:lnTo>
                <a:lnTo>
                  <a:pt x="613" y="1217"/>
                </a:lnTo>
                <a:lnTo>
                  <a:pt x="613" y="1354"/>
                </a:lnTo>
                <a:lnTo>
                  <a:pt x="613" y="1360"/>
                </a:lnTo>
                <a:lnTo>
                  <a:pt x="614" y="1366"/>
                </a:lnTo>
                <a:lnTo>
                  <a:pt x="616" y="1369"/>
                </a:lnTo>
                <a:lnTo>
                  <a:pt x="619" y="1374"/>
                </a:lnTo>
                <a:lnTo>
                  <a:pt x="625" y="1378"/>
                </a:lnTo>
                <a:lnTo>
                  <a:pt x="634" y="1381"/>
                </a:lnTo>
                <a:lnTo>
                  <a:pt x="642" y="1383"/>
                </a:lnTo>
                <a:lnTo>
                  <a:pt x="648" y="1383"/>
                </a:lnTo>
                <a:lnTo>
                  <a:pt x="654" y="1381"/>
                </a:lnTo>
                <a:lnTo>
                  <a:pt x="669" y="1368"/>
                </a:lnTo>
                <a:lnTo>
                  <a:pt x="681" y="1354"/>
                </a:lnTo>
                <a:lnTo>
                  <a:pt x="685" y="1347"/>
                </a:lnTo>
                <a:lnTo>
                  <a:pt x="688" y="1339"/>
                </a:lnTo>
                <a:lnTo>
                  <a:pt x="697" y="1324"/>
                </a:lnTo>
                <a:lnTo>
                  <a:pt x="708" y="1306"/>
                </a:lnTo>
                <a:lnTo>
                  <a:pt x="727" y="1279"/>
                </a:lnTo>
                <a:lnTo>
                  <a:pt x="731" y="1271"/>
                </a:lnTo>
                <a:lnTo>
                  <a:pt x="732" y="1262"/>
                </a:lnTo>
                <a:lnTo>
                  <a:pt x="738" y="1237"/>
                </a:lnTo>
                <a:lnTo>
                  <a:pt x="741" y="1205"/>
                </a:lnTo>
                <a:lnTo>
                  <a:pt x="743" y="1175"/>
                </a:lnTo>
                <a:lnTo>
                  <a:pt x="744" y="1163"/>
                </a:lnTo>
                <a:lnTo>
                  <a:pt x="747" y="1152"/>
                </a:lnTo>
                <a:lnTo>
                  <a:pt x="752" y="1143"/>
                </a:lnTo>
                <a:lnTo>
                  <a:pt x="758" y="1137"/>
                </a:lnTo>
                <a:lnTo>
                  <a:pt x="770" y="1127"/>
                </a:lnTo>
                <a:lnTo>
                  <a:pt x="774" y="1121"/>
                </a:lnTo>
                <a:lnTo>
                  <a:pt x="777" y="1113"/>
                </a:lnTo>
                <a:lnTo>
                  <a:pt x="779" y="1107"/>
                </a:lnTo>
                <a:lnTo>
                  <a:pt x="782" y="1100"/>
                </a:lnTo>
                <a:lnTo>
                  <a:pt x="786" y="1094"/>
                </a:lnTo>
                <a:lnTo>
                  <a:pt x="791" y="1086"/>
                </a:lnTo>
                <a:lnTo>
                  <a:pt x="797" y="1080"/>
                </a:lnTo>
                <a:lnTo>
                  <a:pt x="804" y="1076"/>
                </a:lnTo>
                <a:lnTo>
                  <a:pt x="813" y="1071"/>
                </a:lnTo>
                <a:lnTo>
                  <a:pt x="822" y="1068"/>
                </a:lnTo>
                <a:lnTo>
                  <a:pt x="833" y="1065"/>
                </a:lnTo>
                <a:lnTo>
                  <a:pt x="841" y="1061"/>
                </a:lnTo>
                <a:lnTo>
                  <a:pt x="856" y="1051"/>
                </a:lnTo>
                <a:lnTo>
                  <a:pt x="865" y="1044"/>
                </a:lnTo>
                <a:lnTo>
                  <a:pt x="869" y="1041"/>
                </a:lnTo>
                <a:lnTo>
                  <a:pt x="837" y="1011"/>
                </a:lnTo>
                <a:lnTo>
                  <a:pt x="887" y="988"/>
                </a:lnTo>
                <a:lnTo>
                  <a:pt x="896" y="982"/>
                </a:lnTo>
                <a:lnTo>
                  <a:pt x="907" y="973"/>
                </a:lnTo>
                <a:lnTo>
                  <a:pt x="934" y="946"/>
                </a:lnTo>
                <a:lnTo>
                  <a:pt x="961" y="919"/>
                </a:lnTo>
                <a:lnTo>
                  <a:pt x="970" y="908"/>
                </a:lnTo>
                <a:lnTo>
                  <a:pt x="976" y="899"/>
                </a:lnTo>
                <a:lnTo>
                  <a:pt x="982" y="884"/>
                </a:lnTo>
                <a:lnTo>
                  <a:pt x="988" y="868"/>
                </a:lnTo>
                <a:lnTo>
                  <a:pt x="994" y="847"/>
                </a:lnTo>
                <a:lnTo>
                  <a:pt x="1006" y="844"/>
                </a:lnTo>
                <a:lnTo>
                  <a:pt x="1029" y="833"/>
                </a:lnTo>
                <a:lnTo>
                  <a:pt x="1042" y="827"/>
                </a:lnTo>
                <a:lnTo>
                  <a:pt x="1053" y="821"/>
                </a:lnTo>
                <a:lnTo>
                  <a:pt x="1061" y="812"/>
                </a:lnTo>
                <a:lnTo>
                  <a:pt x="1064" y="809"/>
                </a:lnTo>
                <a:lnTo>
                  <a:pt x="1064" y="804"/>
                </a:lnTo>
                <a:lnTo>
                  <a:pt x="1064" y="764"/>
                </a:lnTo>
                <a:lnTo>
                  <a:pt x="1062" y="744"/>
                </a:lnTo>
                <a:lnTo>
                  <a:pt x="1061" y="728"/>
                </a:lnTo>
                <a:lnTo>
                  <a:pt x="1059" y="723"/>
                </a:lnTo>
                <a:lnTo>
                  <a:pt x="1062" y="723"/>
                </a:lnTo>
                <a:lnTo>
                  <a:pt x="1067" y="725"/>
                </a:lnTo>
                <a:lnTo>
                  <a:pt x="1073" y="725"/>
                </a:lnTo>
                <a:lnTo>
                  <a:pt x="1077" y="723"/>
                </a:lnTo>
                <a:lnTo>
                  <a:pt x="1082" y="721"/>
                </a:lnTo>
                <a:lnTo>
                  <a:pt x="1088" y="717"/>
                </a:lnTo>
                <a:lnTo>
                  <a:pt x="1095" y="711"/>
                </a:lnTo>
                <a:lnTo>
                  <a:pt x="1103" y="702"/>
                </a:lnTo>
                <a:lnTo>
                  <a:pt x="1110" y="690"/>
                </a:lnTo>
                <a:lnTo>
                  <a:pt x="1119" y="676"/>
                </a:lnTo>
                <a:lnTo>
                  <a:pt x="1128" y="658"/>
                </a:lnTo>
                <a:lnTo>
                  <a:pt x="1145" y="625"/>
                </a:lnTo>
                <a:lnTo>
                  <a:pt x="1149" y="612"/>
                </a:lnTo>
                <a:lnTo>
                  <a:pt x="1152" y="601"/>
                </a:lnTo>
                <a:lnTo>
                  <a:pt x="1154" y="592"/>
                </a:lnTo>
                <a:lnTo>
                  <a:pt x="1154" y="584"/>
                </a:lnTo>
                <a:lnTo>
                  <a:pt x="1154" y="578"/>
                </a:lnTo>
                <a:lnTo>
                  <a:pt x="1152" y="572"/>
                </a:lnTo>
                <a:lnTo>
                  <a:pt x="1146" y="565"/>
                </a:lnTo>
                <a:lnTo>
                  <a:pt x="1140" y="559"/>
                </a:lnTo>
                <a:lnTo>
                  <a:pt x="1136" y="553"/>
                </a:lnTo>
                <a:lnTo>
                  <a:pt x="1134" y="548"/>
                </a:lnTo>
                <a:lnTo>
                  <a:pt x="1133" y="544"/>
                </a:lnTo>
                <a:close/>
              </a:path>
            </a:pathLst>
          </a:custGeom>
          <a:solidFill>
            <a:srgbClr val="cc002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8" name="AutoShape 103"/>
          <p:cNvSpPr/>
          <p:nvPr/>
        </p:nvSpPr>
        <p:spPr>
          <a:xfrm>
            <a:off x="646200" y="1482840"/>
            <a:ext cx="158436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rth America</a:t>
            </a:r>
            <a:endParaRPr b="0" lang="en-US" sz="1400" spc="-1" strike="noStrike">
              <a:solidFill>
                <a:srgbClr val="000000"/>
              </a:solidFill>
              <a:latin typeface="Gulim"/>
            </a:endParaRPr>
          </a:p>
        </p:txBody>
      </p:sp>
      <p:sp>
        <p:nvSpPr>
          <p:cNvPr id="929" name="AutoShape 104"/>
          <p:cNvSpPr/>
          <p:nvPr/>
        </p:nvSpPr>
        <p:spPr>
          <a:xfrm>
            <a:off x="285840" y="4506840"/>
            <a:ext cx="158436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uth America</a:t>
            </a:r>
            <a:endParaRPr b="0" lang="en-US" sz="1400" spc="-1" strike="noStrike">
              <a:solidFill>
                <a:srgbClr val="000000"/>
              </a:solidFill>
              <a:latin typeface="Gulim"/>
            </a:endParaRPr>
          </a:p>
        </p:txBody>
      </p:sp>
      <p:sp>
        <p:nvSpPr>
          <p:cNvPr id="930" name="Oval 105"/>
          <p:cNvSpPr/>
          <p:nvPr/>
        </p:nvSpPr>
        <p:spPr>
          <a:xfrm>
            <a:off x="1762200" y="2562120"/>
            <a:ext cx="144360" cy="14472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31" name="Oval 106"/>
          <p:cNvSpPr/>
          <p:nvPr/>
        </p:nvSpPr>
        <p:spPr>
          <a:xfrm>
            <a:off x="3130560" y="4578480"/>
            <a:ext cx="14436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932" name="AutoShape 107"/>
          <p:cNvCxnSpPr>
            <a:stCxn id="928" idx="2"/>
            <a:endCxn id="930" idx="0"/>
          </p:cNvCxnSpPr>
          <p:nvPr/>
        </p:nvCxnSpPr>
        <p:spPr>
          <a:xfrm>
            <a:off x="1437840" y="1770120"/>
            <a:ext cx="397800" cy="783360"/>
          </a:xfrm>
          <a:prstGeom prst="straightConnector1">
            <a:avLst/>
          </a:prstGeom>
          <a:ln w="9360">
            <a:solidFill>
              <a:srgbClr val="000000"/>
            </a:solidFill>
            <a:miter/>
          </a:ln>
        </p:spPr>
      </p:cxnSp>
      <p:cxnSp>
        <p:nvCxnSpPr>
          <p:cNvPr id="933" name="AutoShape 108"/>
          <p:cNvCxnSpPr>
            <a:stCxn id="929" idx="3"/>
            <a:endCxn id="931" idx="2"/>
          </p:cNvCxnSpPr>
          <p:nvPr/>
        </p:nvCxnSpPr>
        <p:spPr>
          <a:xfrm>
            <a:off x="1869840" y="4650840"/>
            <a:ext cx="1251720" cy="1080"/>
          </a:xfrm>
          <a:prstGeom prst="straightConnector1">
            <a:avLst/>
          </a:prstGeom>
          <a:ln w="9360">
            <a:solidFill>
              <a:srgbClr val="000000"/>
            </a:solidFill>
            <a:miter/>
          </a:ln>
        </p:spPr>
      </p:cxnSp>
      <p:grpSp>
        <p:nvGrpSpPr>
          <p:cNvPr id="934" name=""/>
          <p:cNvGrpSpPr/>
          <p:nvPr/>
        </p:nvGrpSpPr>
        <p:grpSpPr>
          <a:xfrm>
            <a:off x="4073400" y="1539720"/>
            <a:ext cx="4324320" cy="2014560"/>
            <a:chOff x="4073400" y="1539720"/>
            <a:chExt cx="4324320" cy="2014560"/>
          </a:xfrm>
        </p:grpSpPr>
        <p:sp>
          <p:nvSpPr>
            <p:cNvPr id="935" name="Freeform 110"/>
            <p:cNvSpPr/>
            <p:nvPr/>
          </p:nvSpPr>
          <p:spPr>
            <a:xfrm>
              <a:off x="4073400" y="1539720"/>
              <a:ext cx="4324320" cy="2014560"/>
            </a:xfrm>
            <a:custGeom>
              <a:avLst/>
              <a:gdLst>
                <a:gd name="textAreaLeft" fmla="*/ 0 w 4324320"/>
                <a:gd name="textAreaRight" fmla="*/ 4324680 w 4324320"/>
                <a:gd name="textAreaTop" fmla="*/ 0 h 2014560"/>
                <a:gd name="textAreaBottom" fmla="*/ 2014560 h 2014560"/>
              </a:gdLst>
              <a:ahLst/>
              <a:rect l="textAreaLeft" t="textAreaTop" r="textAreaRight" b="textAreaBottom"/>
              <a:pathLst>
                <a:path w="2724" h="1269">
                  <a:moveTo>
                    <a:pt x="2705" y="500"/>
                  </a:moveTo>
                  <a:lnTo>
                    <a:pt x="2705" y="500"/>
                  </a:lnTo>
                  <a:lnTo>
                    <a:pt x="2711" y="494"/>
                  </a:lnTo>
                  <a:lnTo>
                    <a:pt x="2715" y="488"/>
                  </a:lnTo>
                  <a:lnTo>
                    <a:pt x="2721" y="481"/>
                  </a:lnTo>
                  <a:lnTo>
                    <a:pt x="2724" y="475"/>
                  </a:lnTo>
                  <a:lnTo>
                    <a:pt x="2724" y="472"/>
                  </a:lnTo>
                  <a:lnTo>
                    <a:pt x="2724" y="469"/>
                  </a:lnTo>
                  <a:lnTo>
                    <a:pt x="2723" y="466"/>
                  </a:lnTo>
                  <a:lnTo>
                    <a:pt x="2720" y="464"/>
                  </a:lnTo>
                  <a:lnTo>
                    <a:pt x="2715" y="463"/>
                  </a:lnTo>
                  <a:lnTo>
                    <a:pt x="2708" y="463"/>
                  </a:lnTo>
                  <a:lnTo>
                    <a:pt x="2684" y="461"/>
                  </a:lnTo>
                  <a:lnTo>
                    <a:pt x="2675" y="460"/>
                  </a:lnTo>
                  <a:lnTo>
                    <a:pt x="2667" y="458"/>
                  </a:lnTo>
                  <a:lnTo>
                    <a:pt x="2663" y="455"/>
                  </a:lnTo>
                  <a:lnTo>
                    <a:pt x="2660" y="451"/>
                  </a:lnTo>
                  <a:lnTo>
                    <a:pt x="2658" y="446"/>
                  </a:lnTo>
                  <a:lnTo>
                    <a:pt x="2658" y="440"/>
                  </a:lnTo>
                  <a:lnTo>
                    <a:pt x="2660" y="436"/>
                  </a:lnTo>
                  <a:lnTo>
                    <a:pt x="2658" y="434"/>
                  </a:lnTo>
                  <a:lnTo>
                    <a:pt x="2655" y="429"/>
                  </a:lnTo>
                  <a:lnTo>
                    <a:pt x="2649" y="428"/>
                  </a:lnTo>
                  <a:lnTo>
                    <a:pt x="2641" y="428"/>
                  </a:lnTo>
                  <a:lnTo>
                    <a:pt x="2626" y="429"/>
                  </a:lnTo>
                  <a:lnTo>
                    <a:pt x="2620" y="431"/>
                  </a:lnTo>
                  <a:lnTo>
                    <a:pt x="2571" y="366"/>
                  </a:lnTo>
                  <a:lnTo>
                    <a:pt x="2554" y="363"/>
                  </a:lnTo>
                  <a:lnTo>
                    <a:pt x="2538" y="360"/>
                  </a:lnTo>
                  <a:lnTo>
                    <a:pt x="2519" y="357"/>
                  </a:lnTo>
                  <a:lnTo>
                    <a:pt x="2500" y="356"/>
                  </a:lnTo>
                  <a:lnTo>
                    <a:pt x="2483" y="357"/>
                  </a:lnTo>
                  <a:lnTo>
                    <a:pt x="2477" y="359"/>
                  </a:lnTo>
                  <a:lnTo>
                    <a:pt x="2471" y="362"/>
                  </a:lnTo>
                  <a:lnTo>
                    <a:pt x="2468" y="365"/>
                  </a:lnTo>
                  <a:lnTo>
                    <a:pt x="2468" y="371"/>
                  </a:lnTo>
                  <a:lnTo>
                    <a:pt x="2468" y="380"/>
                  </a:lnTo>
                  <a:lnTo>
                    <a:pt x="2471" y="387"/>
                  </a:lnTo>
                  <a:lnTo>
                    <a:pt x="2474" y="392"/>
                  </a:lnTo>
                  <a:lnTo>
                    <a:pt x="2476" y="395"/>
                  </a:lnTo>
                  <a:lnTo>
                    <a:pt x="2477" y="396"/>
                  </a:lnTo>
                  <a:lnTo>
                    <a:pt x="2477" y="398"/>
                  </a:lnTo>
                  <a:lnTo>
                    <a:pt x="2468" y="401"/>
                  </a:lnTo>
                  <a:lnTo>
                    <a:pt x="2459" y="402"/>
                  </a:lnTo>
                  <a:lnTo>
                    <a:pt x="2452" y="401"/>
                  </a:lnTo>
                  <a:lnTo>
                    <a:pt x="2446" y="398"/>
                  </a:lnTo>
                  <a:lnTo>
                    <a:pt x="2438" y="395"/>
                  </a:lnTo>
                  <a:lnTo>
                    <a:pt x="2431" y="390"/>
                  </a:lnTo>
                  <a:lnTo>
                    <a:pt x="2423" y="386"/>
                  </a:lnTo>
                  <a:lnTo>
                    <a:pt x="2412" y="383"/>
                  </a:lnTo>
                  <a:lnTo>
                    <a:pt x="2402" y="381"/>
                  </a:lnTo>
                  <a:lnTo>
                    <a:pt x="2378" y="381"/>
                  </a:lnTo>
                  <a:lnTo>
                    <a:pt x="2355" y="380"/>
                  </a:lnTo>
                  <a:lnTo>
                    <a:pt x="2330" y="378"/>
                  </a:lnTo>
                  <a:lnTo>
                    <a:pt x="2331" y="369"/>
                  </a:lnTo>
                  <a:lnTo>
                    <a:pt x="2331" y="351"/>
                  </a:lnTo>
                  <a:lnTo>
                    <a:pt x="2331" y="342"/>
                  </a:lnTo>
                  <a:lnTo>
                    <a:pt x="2328" y="333"/>
                  </a:lnTo>
                  <a:lnTo>
                    <a:pt x="2324" y="327"/>
                  </a:lnTo>
                  <a:lnTo>
                    <a:pt x="2322" y="326"/>
                  </a:lnTo>
                  <a:lnTo>
                    <a:pt x="2319" y="324"/>
                  </a:lnTo>
                  <a:lnTo>
                    <a:pt x="2238" y="324"/>
                  </a:lnTo>
                  <a:lnTo>
                    <a:pt x="2191" y="322"/>
                  </a:lnTo>
                  <a:lnTo>
                    <a:pt x="2165" y="321"/>
                  </a:lnTo>
                  <a:lnTo>
                    <a:pt x="2150" y="282"/>
                  </a:lnTo>
                  <a:lnTo>
                    <a:pt x="2120" y="264"/>
                  </a:lnTo>
                  <a:lnTo>
                    <a:pt x="2078" y="252"/>
                  </a:lnTo>
                  <a:lnTo>
                    <a:pt x="2072" y="250"/>
                  </a:lnTo>
                  <a:lnTo>
                    <a:pt x="2060" y="247"/>
                  </a:lnTo>
                  <a:lnTo>
                    <a:pt x="2052" y="246"/>
                  </a:lnTo>
                  <a:lnTo>
                    <a:pt x="2046" y="247"/>
                  </a:lnTo>
                  <a:lnTo>
                    <a:pt x="2042" y="250"/>
                  </a:lnTo>
                  <a:lnTo>
                    <a:pt x="2040" y="253"/>
                  </a:lnTo>
                  <a:lnTo>
                    <a:pt x="2039" y="256"/>
                  </a:lnTo>
                  <a:lnTo>
                    <a:pt x="2034" y="279"/>
                  </a:lnTo>
                  <a:lnTo>
                    <a:pt x="2031" y="286"/>
                  </a:lnTo>
                  <a:lnTo>
                    <a:pt x="2016" y="298"/>
                  </a:lnTo>
                  <a:lnTo>
                    <a:pt x="1986" y="298"/>
                  </a:lnTo>
                  <a:lnTo>
                    <a:pt x="1972" y="297"/>
                  </a:lnTo>
                  <a:lnTo>
                    <a:pt x="1965" y="295"/>
                  </a:lnTo>
                  <a:lnTo>
                    <a:pt x="1957" y="294"/>
                  </a:lnTo>
                  <a:lnTo>
                    <a:pt x="1947" y="298"/>
                  </a:lnTo>
                  <a:lnTo>
                    <a:pt x="1933" y="303"/>
                  </a:lnTo>
                  <a:lnTo>
                    <a:pt x="1921" y="304"/>
                  </a:lnTo>
                  <a:lnTo>
                    <a:pt x="1909" y="306"/>
                  </a:lnTo>
                  <a:lnTo>
                    <a:pt x="1897" y="264"/>
                  </a:lnTo>
                  <a:lnTo>
                    <a:pt x="1879" y="217"/>
                  </a:lnTo>
                  <a:lnTo>
                    <a:pt x="1887" y="187"/>
                  </a:lnTo>
                  <a:lnTo>
                    <a:pt x="1810" y="187"/>
                  </a:lnTo>
                  <a:lnTo>
                    <a:pt x="1802" y="209"/>
                  </a:lnTo>
                  <a:lnTo>
                    <a:pt x="1810" y="229"/>
                  </a:lnTo>
                  <a:lnTo>
                    <a:pt x="1810" y="249"/>
                  </a:lnTo>
                  <a:lnTo>
                    <a:pt x="1781" y="235"/>
                  </a:lnTo>
                  <a:lnTo>
                    <a:pt x="1740" y="217"/>
                  </a:lnTo>
                  <a:lnTo>
                    <a:pt x="1724" y="211"/>
                  </a:lnTo>
                  <a:lnTo>
                    <a:pt x="1701" y="203"/>
                  </a:lnTo>
                  <a:lnTo>
                    <a:pt x="1673" y="194"/>
                  </a:lnTo>
                  <a:lnTo>
                    <a:pt x="1673" y="175"/>
                  </a:lnTo>
                  <a:lnTo>
                    <a:pt x="1653" y="179"/>
                  </a:lnTo>
                  <a:lnTo>
                    <a:pt x="1611" y="209"/>
                  </a:lnTo>
                  <a:lnTo>
                    <a:pt x="1645" y="152"/>
                  </a:lnTo>
                  <a:lnTo>
                    <a:pt x="1673" y="115"/>
                  </a:lnTo>
                  <a:lnTo>
                    <a:pt x="1674" y="107"/>
                  </a:lnTo>
                  <a:lnTo>
                    <a:pt x="1676" y="89"/>
                  </a:lnTo>
                  <a:lnTo>
                    <a:pt x="1677" y="80"/>
                  </a:lnTo>
                  <a:lnTo>
                    <a:pt x="1677" y="71"/>
                  </a:lnTo>
                  <a:lnTo>
                    <a:pt x="1676" y="63"/>
                  </a:lnTo>
                  <a:lnTo>
                    <a:pt x="1674" y="62"/>
                  </a:lnTo>
                  <a:lnTo>
                    <a:pt x="1673" y="60"/>
                  </a:lnTo>
                  <a:lnTo>
                    <a:pt x="1661" y="56"/>
                  </a:lnTo>
                  <a:lnTo>
                    <a:pt x="1648" y="48"/>
                  </a:lnTo>
                  <a:lnTo>
                    <a:pt x="1633" y="38"/>
                  </a:lnTo>
                  <a:lnTo>
                    <a:pt x="1596" y="60"/>
                  </a:lnTo>
                  <a:lnTo>
                    <a:pt x="1576" y="23"/>
                  </a:lnTo>
                  <a:lnTo>
                    <a:pt x="1576" y="0"/>
                  </a:lnTo>
                  <a:lnTo>
                    <a:pt x="1534" y="0"/>
                  </a:lnTo>
                  <a:lnTo>
                    <a:pt x="1514" y="45"/>
                  </a:lnTo>
                  <a:lnTo>
                    <a:pt x="1484" y="92"/>
                  </a:lnTo>
                  <a:lnTo>
                    <a:pt x="1377" y="83"/>
                  </a:lnTo>
                  <a:lnTo>
                    <a:pt x="1290" y="172"/>
                  </a:lnTo>
                  <a:lnTo>
                    <a:pt x="1285" y="214"/>
                  </a:lnTo>
                  <a:lnTo>
                    <a:pt x="1236" y="217"/>
                  </a:lnTo>
                  <a:lnTo>
                    <a:pt x="1234" y="223"/>
                  </a:lnTo>
                  <a:lnTo>
                    <a:pt x="1233" y="237"/>
                  </a:lnTo>
                  <a:lnTo>
                    <a:pt x="1231" y="246"/>
                  </a:lnTo>
                  <a:lnTo>
                    <a:pt x="1233" y="255"/>
                  </a:lnTo>
                  <a:lnTo>
                    <a:pt x="1236" y="264"/>
                  </a:lnTo>
                  <a:lnTo>
                    <a:pt x="1240" y="271"/>
                  </a:lnTo>
                  <a:lnTo>
                    <a:pt x="1252" y="285"/>
                  </a:lnTo>
                  <a:lnTo>
                    <a:pt x="1263" y="295"/>
                  </a:lnTo>
                  <a:lnTo>
                    <a:pt x="1270" y="306"/>
                  </a:lnTo>
                  <a:lnTo>
                    <a:pt x="1273" y="312"/>
                  </a:lnTo>
                  <a:lnTo>
                    <a:pt x="1275" y="316"/>
                  </a:lnTo>
                  <a:lnTo>
                    <a:pt x="1273" y="319"/>
                  </a:lnTo>
                  <a:lnTo>
                    <a:pt x="1272" y="319"/>
                  </a:lnTo>
                  <a:lnTo>
                    <a:pt x="1264" y="318"/>
                  </a:lnTo>
                  <a:lnTo>
                    <a:pt x="1254" y="313"/>
                  </a:lnTo>
                  <a:lnTo>
                    <a:pt x="1242" y="307"/>
                  </a:lnTo>
                  <a:lnTo>
                    <a:pt x="1219" y="294"/>
                  </a:lnTo>
                  <a:lnTo>
                    <a:pt x="1208" y="286"/>
                  </a:lnTo>
                  <a:lnTo>
                    <a:pt x="1171" y="279"/>
                  </a:lnTo>
                  <a:lnTo>
                    <a:pt x="1171" y="363"/>
                  </a:lnTo>
                  <a:lnTo>
                    <a:pt x="1169" y="368"/>
                  </a:lnTo>
                  <a:lnTo>
                    <a:pt x="1168" y="372"/>
                  </a:lnTo>
                  <a:lnTo>
                    <a:pt x="1165" y="378"/>
                  </a:lnTo>
                  <a:lnTo>
                    <a:pt x="1163" y="384"/>
                  </a:lnTo>
                  <a:lnTo>
                    <a:pt x="1165" y="390"/>
                  </a:lnTo>
                  <a:lnTo>
                    <a:pt x="1169" y="396"/>
                  </a:lnTo>
                  <a:lnTo>
                    <a:pt x="1178" y="402"/>
                  </a:lnTo>
                  <a:lnTo>
                    <a:pt x="1193" y="408"/>
                  </a:lnTo>
                  <a:lnTo>
                    <a:pt x="1186" y="431"/>
                  </a:lnTo>
                  <a:lnTo>
                    <a:pt x="1166" y="443"/>
                  </a:lnTo>
                  <a:lnTo>
                    <a:pt x="1160" y="448"/>
                  </a:lnTo>
                  <a:lnTo>
                    <a:pt x="1145" y="461"/>
                  </a:lnTo>
                  <a:lnTo>
                    <a:pt x="1138" y="470"/>
                  </a:lnTo>
                  <a:lnTo>
                    <a:pt x="1130" y="479"/>
                  </a:lnTo>
                  <a:lnTo>
                    <a:pt x="1124" y="488"/>
                  </a:lnTo>
                  <a:lnTo>
                    <a:pt x="1121" y="497"/>
                  </a:lnTo>
                  <a:lnTo>
                    <a:pt x="1124" y="482"/>
                  </a:lnTo>
                  <a:lnTo>
                    <a:pt x="1127" y="451"/>
                  </a:lnTo>
                  <a:lnTo>
                    <a:pt x="1129" y="432"/>
                  </a:lnTo>
                  <a:lnTo>
                    <a:pt x="1127" y="414"/>
                  </a:lnTo>
                  <a:lnTo>
                    <a:pt x="1126" y="407"/>
                  </a:lnTo>
                  <a:lnTo>
                    <a:pt x="1124" y="399"/>
                  </a:lnTo>
                  <a:lnTo>
                    <a:pt x="1121" y="393"/>
                  </a:lnTo>
                  <a:lnTo>
                    <a:pt x="1117" y="390"/>
                  </a:lnTo>
                  <a:lnTo>
                    <a:pt x="1110" y="383"/>
                  </a:lnTo>
                  <a:lnTo>
                    <a:pt x="1110" y="380"/>
                  </a:lnTo>
                  <a:lnTo>
                    <a:pt x="1109" y="377"/>
                  </a:lnTo>
                  <a:lnTo>
                    <a:pt x="1110" y="371"/>
                  </a:lnTo>
                  <a:lnTo>
                    <a:pt x="1115" y="365"/>
                  </a:lnTo>
                  <a:lnTo>
                    <a:pt x="1120" y="362"/>
                  </a:lnTo>
                  <a:lnTo>
                    <a:pt x="1124" y="357"/>
                  </a:lnTo>
                  <a:lnTo>
                    <a:pt x="1129" y="356"/>
                  </a:lnTo>
                  <a:lnTo>
                    <a:pt x="1114" y="274"/>
                  </a:lnTo>
                  <a:lnTo>
                    <a:pt x="1100" y="280"/>
                  </a:lnTo>
                  <a:lnTo>
                    <a:pt x="1086" y="286"/>
                  </a:lnTo>
                  <a:lnTo>
                    <a:pt x="1070" y="295"/>
                  </a:lnTo>
                  <a:lnTo>
                    <a:pt x="1055" y="307"/>
                  </a:lnTo>
                  <a:lnTo>
                    <a:pt x="1047" y="315"/>
                  </a:lnTo>
                  <a:lnTo>
                    <a:pt x="1041" y="324"/>
                  </a:lnTo>
                  <a:lnTo>
                    <a:pt x="1035" y="332"/>
                  </a:lnTo>
                  <a:lnTo>
                    <a:pt x="1032" y="342"/>
                  </a:lnTo>
                  <a:lnTo>
                    <a:pt x="1029" y="351"/>
                  </a:lnTo>
                  <a:lnTo>
                    <a:pt x="1029" y="363"/>
                  </a:lnTo>
                  <a:lnTo>
                    <a:pt x="1032" y="369"/>
                  </a:lnTo>
                  <a:lnTo>
                    <a:pt x="1037" y="386"/>
                  </a:lnTo>
                  <a:lnTo>
                    <a:pt x="1038" y="396"/>
                  </a:lnTo>
                  <a:lnTo>
                    <a:pt x="1040" y="408"/>
                  </a:lnTo>
                  <a:lnTo>
                    <a:pt x="1038" y="420"/>
                  </a:lnTo>
                  <a:lnTo>
                    <a:pt x="1037" y="431"/>
                  </a:lnTo>
                  <a:lnTo>
                    <a:pt x="1034" y="423"/>
                  </a:lnTo>
                  <a:lnTo>
                    <a:pt x="1025" y="405"/>
                  </a:lnTo>
                  <a:lnTo>
                    <a:pt x="1019" y="396"/>
                  </a:lnTo>
                  <a:lnTo>
                    <a:pt x="1013" y="390"/>
                  </a:lnTo>
                  <a:lnTo>
                    <a:pt x="1007" y="386"/>
                  </a:lnTo>
                  <a:lnTo>
                    <a:pt x="1002" y="386"/>
                  </a:lnTo>
                  <a:lnTo>
                    <a:pt x="999" y="386"/>
                  </a:lnTo>
                  <a:lnTo>
                    <a:pt x="991" y="389"/>
                  </a:lnTo>
                  <a:lnTo>
                    <a:pt x="985" y="395"/>
                  </a:lnTo>
                  <a:lnTo>
                    <a:pt x="976" y="405"/>
                  </a:lnTo>
                  <a:lnTo>
                    <a:pt x="970" y="416"/>
                  </a:lnTo>
                  <a:lnTo>
                    <a:pt x="967" y="420"/>
                  </a:lnTo>
                  <a:lnTo>
                    <a:pt x="927" y="413"/>
                  </a:lnTo>
                  <a:lnTo>
                    <a:pt x="900" y="405"/>
                  </a:lnTo>
                  <a:lnTo>
                    <a:pt x="900" y="436"/>
                  </a:lnTo>
                  <a:lnTo>
                    <a:pt x="877" y="440"/>
                  </a:lnTo>
                  <a:lnTo>
                    <a:pt x="857" y="440"/>
                  </a:lnTo>
                  <a:lnTo>
                    <a:pt x="818" y="440"/>
                  </a:lnTo>
                  <a:lnTo>
                    <a:pt x="818" y="478"/>
                  </a:lnTo>
                  <a:lnTo>
                    <a:pt x="777" y="463"/>
                  </a:lnTo>
                  <a:lnTo>
                    <a:pt x="765" y="436"/>
                  </a:lnTo>
                  <a:lnTo>
                    <a:pt x="753" y="451"/>
                  </a:lnTo>
                  <a:lnTo>
                    <a:pt x="750" y="490"/>
                  </a:lnTo>
                  <a:lnTo>
                    <a:pt x="750" y="515"/>
                  </a:lnTo>
                  <a:lnTo>
                    <a:pt x="731" y="520"/>
                  </a:lnTo>
                  <a:lnTo>
                    <a:pt x="704" y="527"/>
                  </a:lnTo>
                  <a:lnTo>
                    <a:pt x="693" y="542"/>
                  </a:lnTo>
                  <a:lnTo>
                    <a:pt x="646" y="573"/>
                  </a:lnTo>
                  <a:lnTo>
                    <a:pt x="624" y="550"/>
                  </a:lnTo>
                  <a:lnTo>
                    <a:pt x="624" y="508"/>
                  </a:lnTo>
                  <a:lnTo>
                    <a:pt x="597" y="490"/>
                  </a:lnTo>
                  <a:lnTo>
                    <a:pt x="600" y="488"/>
                  </a:lnTo>
                  <a:lnTo>
                    <a:pt x="606" y="485"/>
                  </a:lnTo>
                  <a:lnTo>
                    <a:pt x="610" y="485"/>
                  </a:lnTo>
                  <a:lnTo>
                    <a:pt x="615" y="485"/>
                  </a:lnTo>
                  <a:lnTo>
                    <a:pt x="621" y="488"/>
                  </a:lnTo>
                  <a:lnTo>
                    <a:pt x="628" y="493"/>
                  </a:lnTo>
                  <a:lnTo>
                    <a:pt x="636" y="499"/>
                  </a:lnTo>
                  <a:lnTo>
                    <a:pt x="648" y="506"/>
                  </a:lnTo>
                  <a:lnTo>
                    <a:pt x="658" y="511"/>
                  </a:lnTo>
                  <a:lnTo>
                    <a:pt x="664" y="512"/>
                  </a:lnTo>
                  <a:lnTo>
                    <a:pt x="669" y="511"/>
                  </a:lnTo>
                  <a:lnTo>
                    <a:pt x="675" y="509"/>
                  </a:lnTo>
                  <a:lnTo>
                    <a:pt x="678" y="506"/>
                  </a:lnTo>
                  <a:lnTo>
                    <a:pt x="681" y="502"/>
                  </a:lnTo>
                  <a:lnTo>
                    <a:pt x="684" y="493"/>
                  </a:lnTo>
                  <a:lnTo>
                    <a:pt x="684" y="484"/>
                  </a:lnTo>
                  <a:lnTo>
                    <a:pt x="684" y="470"/>
                  </a:lnTo>
                  <a:lnTo>
                    <a:pt x="681" y="455"/>
                  </a:lnTo>
                  <a:lnTo>
                    <a:pt x="678" y="436"/>
                  </a:lnTo>
                  <a:lnTo>
                    <a:pt x="672" y="428"/>
                  </a:lnTo>
                  <a:lnTo>
                    <a:pt x="663" y="420"/>
                  </a:lnTo>
                  <a:lnTo>
                    <a:pt x="652" y="413"/>
                  </a:lnTo>
                  <a:lnTo>
                    <a:pt x="637" y="404"/>
                  </a:lnTo>
                  <a:lnTo>
                    <a:pt x="618" y="396"/>
                  </a:lnTo>
                  <a:lnTo>
                    <a:pt x="607" y="393"/>
                  </a:lnTo>
                  <a:lnTo>
                    <a:pt x="594" y="392"/>
                  </a:lnTo>
                  <a:lnTo>
                    <a:pt x="582" y="390"/>
                  </a:lnTo>
                  <a:lnTo>
                    <a:pt x="567" y="390"/>
                  </a:lnTo>
                  <a:lnTo>
                    <a:pt x="562" y="380"/>
                  </a:lnTo>
                  <a:lnTo>
                    <a:pt x="556" y="372"/>
                  </a:lnTo>
                  <a:lnTo>
                    <a:pt x="548" y="362"/>
                  </a:lnTo>
                  <a:lnTo>
                    <a:pt x="539" y="354"/>
                  </a:lnTo>
                  <a:lnTo>
                    <a:pt x="535" y="350"/>
                  </a:lnTo>
                  <a:lnTo>
                    <a:pt x="529" y="348"/>
                  </a:lnTo>
                  <a:lnTo>
                    <a:pt x="524" y="347"/>
                  </a:lnTo>
                  <a:lnTo>
                    <a:pt x="518" y="347"/>
                  </a:lnTo>
                  <a:lnTo>
                    <a:pt x="512" y="348"/>
                  </a:lnTo>
                  <a:lnTo>
                    <a:pt x="505" y="351"/>
                  </a:lnTo>
                  <a:lnTo>
                    <a:pt x="491" y="360"/>
                  </a:lnTo>
                  <a:lnTo>
                    <a:pt x="476" y="368"/>
                  </a:lnTo>
                  <a:lnTo>
                    <a:pt x="444" y="381"/>
                  </a:lnTo>
                  <a:lnTo>
                    <a:pt x="431" y="387"/>
                  </a:lnTo>
                  <a:lnTo>
                    <a:pt x="420" y="393"/>
                  </a:lnTo>
                  <a:lnTo>
                    <a:pt x="413" y="399"/>
                  </a:lnTo>
                  <a:lnTo>
                    <a:pt x="410" y="402"/>
                  </a:lnTo>
                  <a:lnTo>
                    <a:pt x="410" y="405"/>
                  </a:lnTo>
                  <a:lnTo>
                    <a:pt x="408" y="410"/>
                  </a:lnTo>
                  <a:lnTo>
                    <a:pt x="404" y="416"/>
                  </a:lnTo>
                  <a:lnTo>
                    <a:pt x="398" y="420"/>
                  </a:lnTo>
                  <a:lnTo>
                    <a:pt x="390" y="423"/>
                  </a:lnTo>
                  <a:lnTo>
                    <a:pt x="377" y="429"/>
                  </a:lnTo>
                  <a:lnTo>
                    <a:pt x="371" y="431"/>
                  </a:lnTo>
                  <a:lnTo>
                    <a:pt x="360" y="470"/>
                  </a:lnTo>
                  <a:lnTo>
                    <a:pt x="325" y="497"/>
                  </a:lnTo>
                  <a:lnTo>
                    <a:pt x="271" y="558"/>
                  </a:lnTo>
                  <a:lnTo>
                    <a:pt x="238" y="622"/>
                  </a:lnTo>
                  <a:lnTo>
                    <a:pt x="211" y="639"/>
                  </a:lnTo>
                  <a:lnTo>
                    <a:pt x="203" y="692"/>
                  </a:lnTo>
                  <a:lnTo>
                    <a:pt x="211" y="726"/>
                  </a:lnTo>
                  <a:lnTo>
                    <a:pt x="256" y="741"/>
                  </a:lnTo>
                  <a:lnTo>
                    <a:pt x="291" y="738"/>
                  </a:lnTo>
                  <a:lnTo>
                    <a:pt x="298" y="769"/>
                  </a:lnTo>
                  <a:lnTo>
                    <a:pt x="298" y="799"/>
                  </a:lnTo>
                  <a:lnTo>
                    <a:pt x="345" y="796"/>
                  </a:lnTo>
                  <a:lnTo>
                    <a:pt x="356" y="756"/>
                  </a:lnTo>
                  <a:lnTo>
                    <a:pt x="380" y="707"/>
                  </a:lnTo>
                  <a:lnTo>
                    <a:pt x="375" y="657"/>
                  </a:lnTo>
                  <a:lnTo>
                    <a:pt x="398" y="615"/>
                  </a:lnTo>
                  <a:lnTo>
                    <a:pt x="429" y="573"/>
                  </a:lnTo>
                  <a:lnTo>
                    <a:pt x="455" y="542"/>
                  </a:lnTo>
                  <a:lnTo>
                    <a:pt x="461" y="539"/>
                  </a:lnTo>
                  <a:lnTo>
                    <a:pt x="467" y="536"/>
                  </a:lnTo>
                  <a:lnTo>
                    <a:pt x="473" y="533"/>
                  </a:lnTo>
                  <a:lnTo>
                    <a:pt x="479" y="533"/>
                  </a:lnTo>
                  <a:lnTo>
                    <a:pt x="481" y="535"/>
                  </a:lnTo>
                  <a:lnTo>
                    <a:pt x="484" y="536"/>
                  </a:lnTo>
                  <a:lnTo>
                    <a:pt x="484" y="539"/>
                  </a:lnTo>
                  <a:lnTo>
                    <a:pt x="485" y="542"/>
                  </a:lnTo>
                  <a:lnTo>
                    <a:pt x="482" y="555"/>
                  </a:lnTo>
                  <a:lnTo>
                    <a:pt x="478" y="567"/>
                  </a:lnTo>
                  <a:lnTo>
                    <a:pt x="472" y="577"/>
                  </a:lnTo>
                  <a:lnTo>
                    <a:pt x="466" y="585"/>
                  </a:lnTo>
                  <a:lnTo>
                    <a:pt x="460" y="589"/>
                  </a:lnTo>
                  <a:lnTo>
                    <a:pt x="454" y="592"/>
                  </a:lnTo>
                  <a:lnTo>
                    <a:pt x="449" y="595"/>
                  </a:lnTo>
                  <a:lnTo>
                    <a:pt x="444" y="597"/>
                  </a:lnTo>
                  <a:lnTo>
                    <a:pt x="429" y="642"/>
                  </a:lnTo>
                  <a:lnTo>
                    <a:pt x="429" y="648"/>
                  </a:lnTo>
                  <a:lnTo>
                    <a:pt x="431" y="654"/>
                  </a:lnTo>
                  <a:lnTo>
                    <a:pt x="434" y="662"/>
                  </a:lnTo>
                  <a:lnTo>
                    <a:pt x="440" y="669"/>
                  </a:lnTo>
                  <a:lnTo>
                    <a:pt x="447" y="677"/>
                  </a:lnTo>
                  <a:lnTo>
                    <a:pt x="461" y="681"/>
                  </a:lnTo>
                  <a:lnTo>
                    <a:pt x="469" y="683"/>
                  </a:lnTo>
                  <a:lnTo>
                    <a:pt x="479" y="684"/>
                  </a:lnTo>
                  <a:lnTo>
                    <a:pt x="497" y="686"/>
                  </a:lnTo>
                  <a:lnTo>
                    <a:pt x="512" y="690"/>
                  </a:lnTo>
                  <a:lnTo>
                    <a:pt x="526" y="695"/>
                  </a:lnTo>
                  <a:lnTo>
                    <a:pt x="536" y="699"/>
                  </a:lnTo>
                  <a:lnTo>
                    <a:pt x="550" y="707"/>
                  </a:lnTo>
                  <a:lnTo>
                    <a:pt x="554" y="711"/>
                  </a:lnTo>
                  <a:lnTo>
                    <a:pt x="517" y="722"/>
                  </a:lnTo>
                  <a:lnTo>
                    <a:pt x="475" y="719"/>
                  </a:lnTo>
                  <a:lnTo>
                    <a:pt x="444" y="769"/>
                  </a:lnTo>
                  <a:lnTo>
                    <a:pt x="413" y="784"/>
                  </a:lnTo>
                  <a:lnTo>
                    <a:pt x="410" y="833"/>
                  </a:lnTo>
                  <a:lnTo>
                    <a:pt x="387" y="853"/>
                  </a:lnTo>
                  <a:lnTo>
                    <a:pt x="276" y="848"/>
                  </a:lnTo>
                  <a:lnTo>
                    <a:pt x="276" y="796"/>
                  </a:lnTo>
                  <a:lnTo>
                    <a:pt x="273" y="794"/>
                  </a:lnTo>
                  <a:lnTo>
                    <a:pt x="268" y="794"/>
                  </a:lnTo>
                  <a:lnTo>
                    <a:pt x="264" y="794"/>
                  </a:lnTo>
                  <a:lnTo>
                    <a:pt x="259" y="796"/>
                  </a:lnTo>
                  <a:lnTo>
                    <a:pt x="255" y="800"/>
                  </a:lnTo>
                  <a:lnTo>
                    <a:pt x="252" y="806"/>
                  </a:lnTo>
                  <a:lnTo>
                    <a:pt x="249" y="814"/>
                  </a:lnTo>
                  <a:lnTo>
                    <a:pt x="246" y="833"/>
                  </a:lnTo>
                  <a:lnTo>
                    <a:pt x="243" y="851"/>
                  </a:lnTo>
                  <a:lnTo>
                    <a:pt x="238" y="868"/>
                  </a:lnTo>
                  <a:lnTo>
                    <a:pt x="203" y="883"/>
                  </a:lnTo>
                  <a:lnTo>
                    <a:pt x="172" y="933"/>
                  </a:lnTo>
                  <a:lnTo>
                    <a:pt x="142" y="955"/>
                  </a:lnTo>
                  <a:lnTo>
                    <a:pt x="104" y="960"/>
                  </a:lnTo>
                  <a:lnTo>
                    <a:pt x="92" y="982"/>
                  </a:lnTo>
                  <a:lnTo>
                    <a:pt x="104" y="1020"/>
                  </a:lnTo>
                  <a:lnTo>
                    <a:pt x="107" y="1026"/>
                  </a:lnTo>
                  <a:lnTo>
                    <a:pt x="110" y="1031"/>
                  </a:lnTo>
                  <a:lnTo>
                    <a:pt x="111" y="1038"/>
                  </a:lnTo>
                  <a:lnTo>
                    <a:pt x="113" y="1046"/>
                  </a:lnTo>
                  <a:lnTo>
                    <a:pt x="111" y="1055"/>
                  </a:lnTo>
                  <a:lnTo>
                    <a:pt x="107" y="1062"/>
                  </a:lnTo>
                  <a:lnTo>
                    <a:pt x="104" y="1067"/>
                  </a:lnTo>
                  <a:lnTo>
                    <a:pt x="99" y="1070"/>
                  </a:lnTo>
                  <a:lnTo>
                    <a:pt x="95" y="1073"/>
                  </a:lnTo>
                  <a:lnTo>
                    <a:pt x="89" y="1076"/>
                  </a:lnTo>
                  <a:lnTo>
                    <a:pt x="74" y="1079"/>
                  </a:lnTo>
                  <a:lnTo>
                    <a:pt x="59" y="1080"/>
                  </a:lnTo>
                  <a:lnTo>
                    <a:pt x="44" y="1079"/>
                  </a:lnTo>
                  <a:lnTo>
                    <a:pt x="18" y="1076"/>
                  </a:lnTo>
                  <a:lnTo>
                    <a:pt x="7" y="1074"/>
                  </a:lnTo>
                  <a:lnTo>
                    <a:pt x="0" y="1144"/>
                  </a:lnTo>
                  <a:lnTo>
                    <a:pt x="24" y="1204"/>
                  </a:lnTo>
                  <a:lnTo>
                    <a:pt x="74" y="1193"/>
                  </a:lnTo>
                  <a:lnTo>
                    <a:pt x="127" y="1174"/>
                  </a:lnTo>
                  <a:lnTo>
                    <a:pt x="157" y="1166"/>
                  </a:lnTo>
                  <a:lnTo>
                    <a:pt x="161" y="1132"/>
                  </a:lnTo>
                  <a:lnTo>
                    <a:pt x="184" y="1109"/>
                  </a:lnTo>
                  <a:lnTo>
                    <a:pt x="184" y="1059"/>
                  </a:lnTo>
                  <a:lnTo>
                    <a:pt x="188" y="1062"/>
                  </a:lnTo>
                  <a:lnTo>
                    <a:pt x="194" y="1067"/>
                  </a:lnTo>
                  <a:lnTo>
                    <a:pt x="202" y="1070"/>
                  </a:lnTo>
                  <a:lnTo>
                    <a:pt x="211" y="1073"/>
                  </a:lnTo>
                  <a:lnTo>
                    <a:pt x="223" y="1074"/>
                  </a:lnTo>
                  <a:lnTo>
                    <a:pt x="235" y="1074"/>
                  </a:lnTo>
                  <a:lnTo>
                    <a:pt x="249" y="1070"/>
                  </a:lnTo>
                  <a:lnTo>
                    <a:pt x="256" y="1068"/>
                  </a:lnTo>
                  <a:lnTo>
                    <a:pt x="262" y="1068"/>
                  </a:lnTo>
                  <a:lnTo>
                    <a:pt x="270" y="1068"/>
                  </a:lnTo>
                  <a:lnTo>
                    <a:pt x="276" y="1070"/>
                  </a:lnTo>
                  <a:lnTo>
                    <a:pt x="286" y="1076"/>
                  </a:lnTo>
                  <a:lnTo>
                    <a:pt x="295" y="1083"/>
                  </a:lnTo>
                  <a:lnTo>
                    <a:pt x="303" y="1092"/>
                  </a:lnTo>
                  <a:lnTo>
                    <a:pt x="309" y="1100"/>
                  </a:lnTo>
                  <a:lnTo>
                    <a:pt x="313" y="1109"/>
                  </a:lnTo>
                  <a:lnTo>
                    <a:pt x="345" y="1159"/>
                  </a:lnTo>
                  <a:lnTo>
                    <a:pt x="368" y="1159"/>
                  </a:lnTo>
                  <a:lnTo>
                    <a:pt x="375" y="1136"/>
                  </a:lnTo>
                  <a:lnTo>
                    <a:pt x="353" y="1102"/>
                  </a:lnTo>
                  <a:lnTo>
                    <a:pt x="337" y="1082"/>
                  </a:lnTo>
                  <a:lnTo>
                    <a:pt x="337" y="1062"/>
                  </a:lnTo>
                  <a:lnTo>
                    <a:pt x="348" y="1055"/>
                  </a:lnTo>
                  <a:lnTo>
                    <a:pt x="375" y="1094"/>
                  </a:lnTo>
                  <a:lnTo>
                    <a:pt x="405" y="1117"/>
                  </a:lnTo>
                  <a:lnTo>
                    <a:pt x="417" y="1151"/>
                  </a:lnTo>
                  <a:lnTo>
                    <a:pt x="425" y="1156"/>
                  </a:lnTo>
                  <a:lnTo>
                    <a:pt x="432" y="1160"/>
                  </a:lnTo>
                  <a:lnTo>
                    <a:pt x="441" y="1166"/>
                  </a:lnTo>
                  <a:lnTo>
                    <a:pt x="452" y="1168"/>
                  </a:lnTo>
                  <a:lnTo>
                    <a:pt x="455" y="1169"/>
                  </a:lnTo>
                  <a:lnTo>
                    <a:pt x="460" y="1168"/>
                  </a:lnTo>
                  <a:lnTo>
                    <a:pt x="463" y="1166"/>
                  </a:lnTo>
                  <a:lnTo>
                    <a:pt x="466" y="1165"/>
                  </a:lnTo>
                  <a:lnTo>
                    <a:pt x="467" y="1160"/>
                  </a:lnTo>
                  <a:lnTo>
                    <a:pt x="467" y="1154"/>
                  </a:lnTo>
                  <a:lnTo>
                    <a:pt x="467" y="1132"/>
                  </a:lnTo>
                  <a:lnTo>
                    <a:pt x="469" y="1117"/>
                  </a:lnTo>
                  <a:lnTo>
                    <a:pt x="470" y="1105"/>
                  </a:lnTo>
                  <a:lnTo>
                    <a:pt x="502" y="1117"/>
                  </a:lnTo>
                  <a:lnTo>
                    <a:pt x="524" y="1117"/>
                  </a:lnTo>
                  <a:lnTo>
                    <a:pt x="524" y="1082"/>
                  </a:lnTo>
                  <a:lnTo>
                    <a:pt x="524" y="1055"/>
                  </a:lnTo>
                  <a:lnTo>
                    <a:pt x="532" y="1025"/>
                  </a:lnTo>
                  <a:lnTo>
                    <a:pt x="586" y="1017"/>
                  </a:lnTo>
                  <a:lnTo>
                    <a:pt x="586" y="1023"/>
                  </a:lnTo>
                  <a:lnTo>
                    <a:pt x="588" y="1037"/>
                  </a:lnTo>
                  <a:lnTo>
                    <a:pt x="589" y="1043"/>
                  </a:lnTo>
                  <a:lnTo>
                    <a:pt x="591" y="1049"/>
                  </a:lnTo>
                  <a:lnTo>
                    <a:pt x="594" y="1053"/>
                  </a:lnTo>
                  <a:lnTo>
                    <a:pt x="597" y="1055"/>
                  </a:lnTo>
                  <a:lnTo>
                    <a:pt x="651" y="1055"/>
                  </a:lnTo>
                  <a:lnTo>
                    <a:pt x="628" y="1005"/>
                  </a:lnTo>
                  <a:lnTo>
                    <a:pt x="654" y="1005"/>
                  </a:lnTo>
                  <a:lnTo>
                    <a:pt x="686" y="1055"/>
                  </a:lnTo>
                  <a:lnTo>
                    <a:pt x="687" y="1062"/>
                  </a:lnTo>
                  <a:lnTo>
                    <a:pt x="687" y="1071"/>
                  </a:lnTo>
                  <a:lnTo>
                    <a:pt x="687" y="1080"/>
                  </a:lnTo>
                  <a:lnTo>
                    <a:pt x="684" y="1089"/>
                  </a:lnTo>
                  <a:lnTo>
                    <a:pt x="681" y="1094"/>
                  </a:lnTo>
                  <a:lnTo>
                    <a:pt x="677" y="1097"/>
                  </a:lnTo>
                  <a:lnTo>
                    <a:pt x="672" y="1100"/>
                  </a:lnTo>
                  <a:lnTo>
                    <a:pt x="666" y="1103"/>
                  </a:lnTo>
                  <a:lnTo>
                    <a:pt x="658" y="1105"/>
                  </a:lnTo>
                  <a:lnTo>
                    <a:pt x="651" y="1105"/>
                  </a:lnTo>
                  <a:lnTo>
                    <a:pt x="616" y="1106"/>
                  </a:lnTo>
                  <a:lnTo>
                    <a:pt x="591" y="1109"/>
                  </a:lnTo>
                  <a:lnTo>
                    <a:pt x="567" y="1112"/>
                  </a:lnTo>
                  <a:lnTo>
                    <a:pt x="532" y="1147"/>
                  </a:lnTo>
                  <a:lnTo>
                    <a:pt x="533" y="1156"/>
                  </a:lnTo>
                  <a:lnTo>
                    <a:pt x="536" y="1165"/>
                  </a:lnTo>
                  <a:lnTo>
                    <a:pt x="541" y="1175"/>
                  </a:lnTo>
                  <a:lnTo>
                    <a:pt x="548" y="1186"/>
                  </a:lnTo>
                  <a:lnTo>
                    <a:pt x="554" y="1190"/>
                  </a:lnTo>
                  <a:lnTo>
                    <a:pt x="560" y="1195"/>
                  </a:lnTo>
                  <a:lnTo>
                    <a:pt x="570" y="1199"/>
                  </a:lnTo>
                  <a:lnTo>
                    <a:pt x="579" y="1204"/>
                  </a:lnTo>
                  <a:lnTo>
                    <a:pt x="589" y="1205"/>
                  </a:lnTo>
                  <a:lnTo>
                    <a:pt x="601" y="1209"/>
                  </a:lnTo>
                  <a:lnTo>
                    <a:pt x="607" y="1209"/>
                  </a:lnTo>
                  <a:lnTo>
                    <a:pt x="613" y="1210"/>
                  </a:lnTo>
                  <a:lnTo>
                    <a:pt x="618" y="1213"/>
                  </a:lnTo>
                  <a:lnTo>
                    <a:pt x="621" y="1216"/>
                  </a:lnTo>
                  <a:lnTo>
                    <a:pt x="622" y="1221"/>
                  </a:lnTo>
                  <a:lnTo>
                    <a:pt x="622" y="1225"/>
                  </a:lnTo>
                  <a:lnTo>
                    <a:pt x="622" y="1230"/>
                  </a:lnTo>
                  <a:lnTo>
                    <a:pt x="621" y="1237"/>
                  </a:lnTo>
                  <a:lnTo>
                    <a:pt x="616" y="1245"/>
                  </a:lnTo>
                  <a:lnTo>
                    <a:pt x="612" y="1254"/>
                  </a:lnTo>
                  <a:lnTo>
                    <a:pt x="606" y="1264"/>
                  </a:lnTo>
                  <a:lnTo>
                    <a:pt x="606" y="1269"/>
                  </a:lnTo>
                  <a:lnTo>
                    <a:pt x="619" y="1257"/>
                  </a:lnTo>
                  <a:lnTo>
                    <a:pt x="633" y="1246"/>
                  </a:lnTo>
                  <a:lnTo>
                    <a:pt x="646" y="1240"/>
                  </a:lnTo>
                  <a:lnTo>
                    <a:pt x="652" y="1237"/>
                  </a:lnTo>
                  <a:lnTo>
                    <a:pt x="658" y="1237"/>
                  </a:lnTo>
                  <a:lnTo>
                    <a:pt x="675" y="1237"/>
                  </a:lnTo>
                  <a:lnTo>
                    <a:pt x="690" y="1234"/>
                  </a:lnTo>
                  <a:lnTo>
                    <a:pt x="717" y="1228"/>
                  </a:lnTo>
                  <a:lnTo>
                    <a:pt x="738" y="1222"/>
                  </a:lnTo>
                  <a:lnTo>
                    <a:pt x="750" y="1219"/>
                  </a:lnTo>
                  <a:lnTo>
                    <a:pt x="753" y="1218"/>
                  </a:lnTo>
                  <a:lnTo>
                    <a:pt x="756" y="1215"/>
                  </a:lnTo>
                  <a:lnTo>
                    <a:pt x="762" y="1205"/>
                  </a:lnTo>
                  <a:lnTo>
                    <a:pt x="770" y="1190"/>
                  </a:lnTo>
                  <a:lnTo>
                    <a:pt x="799" y="1207"/>
                  </a:lnTo>
                  <a:lnTo>
                    <a:pt x="821" y="1219"/>
                  </a:lnTo>
                  <a:lnTo>
                    <a:pt x="838" y="1227"/>
                  </a:lnTo>
                  <a:lnTo>
                    <a:pt x="845" y="1228"/>
                  </a:lnTo>
                  <a:lnTo>
                    <a:pt x="854" y="1225"/>
                  </a:lnTo>
                  <a:lnTo>
                    <a:pt x="878" y="1216"/>
                  </a:lnTo>
                  <a:lnTo>
                    <a:pt x="901" y="1207"/>
                  </a:lnTo>
                  <a:lnTo>
                    <a:pt x="909" y="1204"/>
                  </a:lnTo>
                  <a:lnTo>
                    <a:pt x="915" y="1202"/>
                  </a:lnTo>
                  <a:lnTo>
                    <a:pt x="919" y="1204"/>
                  </a:lnTo>
                  <a:lnTo>
                    <a:pt x="925" y="1210"/>
                  </a:lnTo>
                  <a:lnTo>
                    <a:pt x="943" y="1227"/>
                  </a:lnTo>
                  <a:lnTo>
                    <a:pt x="961" y="1245"/>
                  </a:lnTo>
                  <a:lnTo>
                    <a:pt x="967" y="1251"/>
                  </a:lnTo>
                  <a:lnTo>
                    <a:pt x="972" y="1254"/>
                  </a:lnTo>
                  <a:lnTo>
                    <a:pt x="976" y="1254"/>
                  </a:lnTo>
                  <a:lnTo>
                    <a:pt x="981" y="1252"/>
                  </a:lnTo>
                  <a:lnTo>
                    <a:pt x="994" y="1243"/>
                  </a:lnTo>
                  <a:lnTo>
                    <a:pt x="1002" y="1239"/>
                  </a:lnTo>
                  <a:lnTo>
                    <a:pt x="1010" y="1234"/>
                  </a:lnTo>
                  <a:lnTo>
                    <a:pt x="1019" y="1231"/>
                  </a:lnTo>
                  <a:lnTo>
                    <a:pt x="1028" y="1231"/>
                  </a:lnTo>
                  <a:lnTo>
                    <a:pt x="1073" y="1233"/>
                  </a:lnTo>
                  <a:lnTo>
                    <a:pt x="1109" y="1234"/>
                  </a:lnTo>
                  <a:lnTo>
                    <a:pt x="1117" y="1233"/>
                  </a:lnTo>
                  <a:lnTo>
                    <a:pt x="1124" y="1228"/>
                  </a:lnTo>
                  <a:lnTo>
                    <a:pt x="1142" y="1216"/>
                  </a:lnTo>
                  <a:lnTo>
                    <a:pt x="1165" y="1198"/>
                  </a:lnTo>
                  <a:lnTo>
                    <a:pt x="1202" y="1153"/>
                  </a:lnTo>
                  <a:lnTo>
                    <a:pt x="1230" y="1121"/>
                  </a:lnTo>
                  <a:lnTo>
                    <a:pt x="1248" y="1099"/>
                  </a:lnTo>
                  <a:lnTo>
                    <a:pt x="1252" y="1089"/>
                  </a:lnTo>
                  <a:lnTo>
                    <a:pt x="1254" y="1086"/>
                  </a:lnTo>
                  <a:lnTo>
                    <a:pt x="1254" y="1085"/>
                  </a:lnTo>
                  <a:lnTo>
                    <a:pt x="1254" y="1083"/>
                  </a:lnTo>
                  <a:lnTo>
                    <a:pt x="1255" y="1080"/>
                  </a:lnTo>
                  <a:lnTo>
                    <a:pt x="1260" y="1073"/>
                  </a:lnTo>
                  <a:lnTo>
                    <a:pt x="1276" y="1055"/>
                  </a:lnTo>
                  <a:lnTo>
                    <a:pt x="1305" y="1025"/>
                  </a:lnTo>
                  <a:lnTo>
                    <a:pt x="1318" y="1016"/>
                  </a:lnTo>
                  <a:lnTo>
                    <a:pt x="1344" y="999"/>
                  </a:lnTo>
                  <a:lnTo>
                    <a:pt x="1370" y="984"/>
                  </a:lnTo>
                  <a:lnTo>
                    <a:pt x="1380" y="979"/>
                  </a:lnTo>
                  <a:lnTo>
                    <a:pt x="1386" y="979"/>
                  </a:lnTo>
                  <a:lnTo>
                    <a:pt x="1419" y="989"/>
                  </a:lnTo>
                  <a:lnTo>
                    <a:pt x="1447" y="998"/>
                  </a:lnTo>
                  <a:lnTo>
                    <a:pt x="1447" y="958"/>
                  </a:lnTo>
                  <a:lnTo>
                    <a:pt x="1451" y="958"/>
                  </a:lnTo>
                  <a:lnTo>
                    <a:pt x="1466" y="957"/>
                  </a:lnTo>
                  <a:lnTo>
                    <a:pt x="1475" y="958"/>
                  </a:lnTo>
                  <a:lnTo>
                    <a:pt x="1484" y="961"/>
                  </a:lnTo>
                  <a:lnTo>
                    <a:pt x="1495" y="966"/>
                  </a:lnTo>
                  <a:lnTo>
                    <a:pt x="1504" y="972"/>
                  </a:lnTo>
                  <a:lnTo>
                    <a:pt x="1513" y="979"/>
                  </a:lnTo>
                  <a:lnTo>
                    <a:pt x="1522" y="985"/>
                  </a:lnTo>
                  <a:lnTo>
                    <a:pt x="1537" y="993"/>
                  </a:lnTo>
                  <a:lnTo>
                    <a:pt x="1551" y="998"/>
                  </a:lnTo>
                  <a:lnTo>
                    <a:pt x="1560" y="999"/>
                  </a:lnTo>
                  <a:lnTo>
                    <a:pt x="1587" y="999"/>
                  </a:lnTo>
                  <a:lnTo>
                    <a:pt x="1632" y="999"/>
                  </a:lnTo>
                  <a:lnTo>
                    <a:pt x="1680" y="998"/>
                  </a:lnTo>
                  <a:lnTo>
                    <a:pt x="1697" y="998"/>
                  </a:lnTo>
                  <a:lnTo>
                    <a:pt x="1707" y="996"/>
                  </a:lnTo>
                  <a:lnTo>
                    <a:pt x="1715" y="992"/>
                  </a:lnTo>
                  <a:lnTo>
                    <a:pt x="1722" y="982"/>
                  </a:lnTo>
                  <a:lnTo>
                    <a:pt x="1740" y="958"/>
                  </a:lnTo>
                  <a:lnTo>
                    <a:pt x="1755" y="936"/>
                  </a:lnTo>
                  <a:lnTo>
                    <a:pt x="1761" y="925"/>
                  </a:lnTo>
                  <a:lnTo>
                    <a:pt x="1799" y="919"/>
                  </a:lnTo>
                  <a:lnTo>
                    <a:pt x="1801" y="924"/>
                  </a:lnTo>
                  <a:lnTo>
                    <a:pt x="1807" y="937"/>
                  </a:lnTo>
                  <a:lnTo>
                    <a:pt x="1813" y="957"/>
                  </a:lnTo>
                  <a:lnTo>
                    <a:pt x="1816" y="967"/>
                  </a:lnTo>
                  <a:lnTo>
                    <a:pt x="1817" y="979"/>
                  </a:lnTo>
                  <a:lnTo>
                    <a:pt x="1819" y="989"/>
                  </a:lnTo>
                  <a:lnTo>
                    <a:pt x="1825" y="998"/>
                  </a:lnTo>
                  <a:lnTo>
                    <a:pt x="1831" y="1004"/>
                  </a:lnTo>
                  <a:lnTo>
                    <a:pt x="1838" y="1010"/>
                  </a:lnTo>
                  <a:lnTo>
                    <a:pt x="1846" y="1013"/>
                  </a:lnTo>
                  <a:lnTo>
                    <a:pt x="1852" y="1016"/>
                  </a:lnTo>
                  <a:lnTo>
                    <a:pt x="1858" y="1017"/>
                  </a:lnTo>
                  <a:lnTo>
                    <a:pt x="1861" y="1037"/>
                  </a:lnTo>
                  <a:lnTo>
                    <a:pt x="1862" y="1052"/>
                  </a:lnTo>
                  <a:lnTo>
                    <a:pt x="1864" y="1062"/>
                  </a:lnTo>
                  <a:lnTo>
                    <a:pt x="1864" y="1064"/>
                  </a:lnTo>
                  <a:lnTo>
                    <a:pt x="1867" y="1062"/>
                  </a:lnTo>
                  <a:lnTo>
                    <a:pt x="1877" y="1058"/>
                  </a:lnTo>
                  <a:lnTo>
                    <a:pt x="1893" y="1049"/>
                  </a:lnTo>
                  <a:lnTo>
                    <a:pt x="1888" y="1061"/>
                  </a:lnTo>
                  <a:lnTo>
                    <a:pt x="1874" y="1092"/>
                  </a:lnTo>
                  <a:lnTo>
                    <a:pt x="1862" y="1127"/>
                  </a:lnTo>
                  <a:lnTo>
                    <a:pt x="1859" y="1142"/>
                  </a:lnTo>
                  <a:lnTo>
                    <a:pt x="1858" y="1153"/>
                  </a:lnTo>
                  <a:lnTo>
                    <a:pt x="1859" y="1157"/>
                  </a:lnTo>
                  <a:lnTo>
                    <a:pt x="1862" y="1162"/>
                  </a:lnTo>
                  <a:lnTo>
                    <a:pt x="1867" y="1165"/>
                  </a:lnTo>
                  <a:lnTo>
                    <a:pt x="1871" y="1168"/>
                  </a:lnTo>
                  <a:lnTo>
                    <a:pt x="1884" y="1172"/>
                  </a:lnTo>
                  <a:lnTo>
                    <a:pt x="1897" y="1174"/>
                  </a:lnTo>
                  <a:lnTo>
                    <a:pt x="1897" y="1159"/>
                  </a:lnTo>
                  <a:lnTo>
                    <a:pt x="1874" y="1127"/>
                  </a:lnTo>
                  <a:lnTo>
                    <a:pt x="1897" y="1102"/>
                  </a:lnTo>
                  <a:lnTo>
                    <a:pt x="1905" y="1074"/>
                  </a:lnTo>
                  <a:lnTo>
                    <a:pt x="1959" y="1067"/>
                  </a:lnTo>
                  <a:lnTo>
                    <a:pt x="1968" y="1058"/>
                  </a:lnTo>
                  <a:lnTo>
                    <a:pt x="1991" y="1037"/>
                  </a:lnTo>
                  <a:lnTo>
                    <a:pt x="2003" y="1023"/>
                  </a:lnTo>
                  <a:lnTo>
                    <a:pt x="2013" y="1010"/>
                  </a:lnTo>
                  <a:lnTo>
                    <a:pt x="2022" y="998"/>
                  </a:lnTo>
                  <a:lnTo>
                    <a:pt x="2028" y="987"/>
                  </a:lnTo>
                  <a:lnTo>
                    <a:pt x="2036" y="951"/>
                  </a:lnTo>
                  <a:lnTo>
                    <a:pt x="2042" y="927"/>
                  </a:lnTo>
                  <a:lnTo>
                    <a:pt x="2045" y="900"/>
                  </a:lnTo>
                  <a:lnTo>
                    <a:pt x="2048" y="874"/>
                  </a:lnTo>
                  <a:lnTo>
                    <a:pt x="2048" y="863"/>
                  </a:lnTo>
                  <a:lnTo>
                    <a:pt x="2046" y="853"/>
                  </a:lnTo>
                  <a:lnTo>
                    <a:pt x="2045" y="845"/>
                  </a:lnTo>
                  <a:lnTo>
                    <a:pt x="2042" y="839"/>
                  </a:lnTo>
                  <a:lnTo>
                    <a:pt x="2037" y="835"/>
                  </a:lnTo>
                  <a:lnTo>
                    <a:pt x="2031" y="833"/>
                  </a:lnTo>
                  <a:lnTo>
                    <a:pt x="2021" y="833"/>
                  </a:lnTo>
                  <a:lnTo>
                    <a:pt x="2015" y="832"/>
                  </a:lnTo>
                  <a:lnTo>
                    <a:pt x="2013" y="830"/>
                  </a:lnTo>
                  <a:lnTo>
                    <a:pt x="2013" y="829"/>
                  </a:lnTo>
                  <a:lnTo>
                    <a:pt x="2018" y="827"/>
                  </a:lnTo>
                  <a:lnTo>
                    <a:pt x="2021" y="826"/>
                  </a:lnTo>
                  <a:lnTo>
                    <a:pt x="1997" y="833"/>
                  </a:lnTo>
                  <a:lnTo>
                    <a:pt x="2009" y="799"/>
                  </a:lnTo>
                  <a:lnTo>
                    <a:pt x="2043" y="761"/>
                  </a:lnTo>
                  <a:lnTo>
                    <a:pt x="2073" y="699"/>
                  </a:lnTo>
                  <a:lnTo>
                    <a:pt x="2165" y="704"/>
                  </a:lnTo>
                  <a:lnTo>
                    <a:pt x="2223" y="722"/>
                  </a:lnTo>
                  <a:lnTo>
                    <a:pt x="2269" y="707"/>
                  </a:lnTo>
                  <a:lnTo>
                    <a:pt x="2295" y="662"/>
                  </a:lnTo>
                  <a:lnTo>
                    <a:pt x="2342" y="654"/>
                  </a:lnTo>
                  <a:lnTo>
                    <a:pt x="2331" y="668"/>
                  </a:lnTo>
                  <a:lnTo>
                    <a:pt x="2319" y="684"/>
                  </a:lnTo>
                  <a:lnTo>
                    <a:pt x="2307" y="707"/>
                  </a:lnTo>
                  <a:lnTo>
                    <a:pt x="2295" y="737"/>
                  </a:lnTo>
                  <a:lnTo>
                    <a:pt x="2289" y="753"/>
                  </a:lnTo>
                  <a:lnTo>
                    <a:pt x="2283" y="773"/>
                  </a:lnTo>
                  <a:lnTo>
                    <a:pt x="2278" y="793"/>
                  </a:lnTo>
                  <a:lnTo>
                    <a:pt x="2275" y="815"/>
                  </a:lnTo>
                  <a:lnTo>
                    <a:pt x="2274" y="839"/>
                  </a:lnTo>
                  <a:lnTo>
                    <a:pt x="2272" y="863"/>
                  </a:lnTo>
                  <a:lnTo>
                    <a:pt x="2284" y="910"/>
                  </a:lnTo>
                  <a:lnTo>
                    <a:pt x="2334" y="833"/>
                  </a:lnTo>
                  <a:lnTo>
                    <a:pt x="2340" y="826"/>
                  </a:lnTo>
                  <a:lnTo>
                    <a:pt x="2352" y="811"/>
                  </a:lnTo>
                  <a:lnTo>
                    <a:pt x="2358" y="800"/>
                  </a:lnTo>
                  <a:lnTo>
                    <a:pt x="2363" y="791"/>
                  </a:lnTo>
                  <a:lnTo>
                    <a:pt x="2366" y="782"/>
                  </a:lnTo>
                  <a:lnTo>
                    <a:pt x="2366" y="779"/>
                  </a:lnTo>
                  <a:lnTo>
                    <a:pt x="2364" y="776"/>
                  </a:lnTo>
                  <a:lnTo>
                    <a:pt x="2349" y="743"/>
                  </a:lnTo>
                  <a:lnTo>
                    <a:pt x="2342" y="722"/>
                  </a:lnTo>
                  <a:lnTo>
                    <a:pt x="2346" y="716"/>
                  </a:lnTo>
                  <a:lnTo>
                    <a:pt x="2357" y="701"/>
                  </a:lnTo>
                  <a:lnTo>
                    <a:pt x="2372" y="684"/>
                  </a:lnTo>
                  <a:lnTo>
                    <a:pt x="2379" y="677"/>
                  </a:lnTo>
                  <a:lnTo>
                    <a:pt x="2387" y="672"/>
                  </a:lnTo>
                  <a:lnTo>
                    <a:pt x="2449" y="665"/>
                  </a:lnTo>
                  <a:lnTo>
                    <a:pt x="2459" y="662"/>
                  </a:lnTo>
                  <a:lnTo>
                    <a:pt x="2485" y="654"/>
                  </a:lnTo>
                  <a:lnTo>
                    <a:pt x="2518" y="642"/>
                  </a:lnTo>
                  <a:lnTo>
                    <a:pt x="2533" y="634"/>
                  </a:lnTo>
                  <a:lnTo>
                    <a:pt x="2548" y="627"/>
                  </a:lnTo>
                  <a:lnTo>
                    <a:pt x="2560" y="618"/>
                  </a:lnTo>
                  <a:lnTo>
                    <a:pt x="2571" y="607"/>
                  </a:lnTo>
                  <a:lnTo>
                    <a:pt x="2580" y="595"/>
                  </a:lnTo>
                  <a:lnTo>
                    <a:pt x="2586" y="583"/>
                  </a:lnTo>
                  <a:lnTo>
                    <a:pt x="2587" y="573"/>
                  </a:lnTo>
                  <a:lnTo>
                    <a:pt x="2587" y="567"/>
                  </a:lnTo>
                  <a:lnTo>
                    <a:pt x="2587" y="562"/>
                  </a:lnTo>
                  <a:lnTo>
                    <a:pt x="2584" y="558"/>
                  </a:lnTo>
                  <a:lnTo>
                    <a:pt x="2581" y="553"/>
                  </a:lnTo>
                  <a:lnTo>
                    <a:pt x="2577" y="550"/>
                  </a:lnTo>
                  <a:lnTo>
                    <a:pt x="2571" y="547"/>
                  </a:lnTo>
                  <a:lnTo>
                    <a:pt x="2580" y="544"/>
                  </a:lnTo>
                  <a:lnTo>
                    <a:pt x="2598" y="535"/>
                  </a:lnTo>
                  <a:lnTo>
                    <a:pt x="2608" y="529"/>
                  </a:lnTo>
                  <a:lnTo>
                    <a:pt x="2617" y="523"/>
                  </a:lnTo>
                  <a:lnTo>
                    <a:pt x="2625" y="514"/>
                  </a:lnTo>
                  <a:lnTo>
                    <a:pt x="2626" y="509"/>
                  </a:lnTo>
                  <a:lnTo>
                    <a:pt x="2628" y="505"/>
                  </a:lnTo>
                  <a:lnTo>
                    <a:pt x="2629" y="500"/>
                  </a:lnTo>
                  <a:lnTo>
                    <a:pt x="2629" y="499"/>
                  </a:lnTo>
                  <a:lnTo>
                    <a:pt x="2631" y="499"/>
                  </a:lnTo>
                  <a:lnTo>
                    <a:pt x="2634" y="499"/>
                  </a:lnTo>
                  <a:lnTo>
                    <a:pt x="2644" y="514"/>
                  </a:lnTo>
                  <a:lnTo>
                    <a:pt x="2654" y="523"/>
                  </a:lnTo>
                  <a:lnTo>
                    <a:pt x="2658" y="526"/>
                  </a:lnTo>
                  <a:lnTo>
                    <a:pt x="2664" y="529"/>
                  </a:lnTo>
                  <a:lnTo>
                    <a:pt x="2670" y="532"/>
                  </a:lnTo>
                  <a:lnTo>
                    <a:pt x="2678" y="533"/>
                  </a:lnTo>
                  <a:lnTo>
                    <a:pt x="2685" y="533"/>
                  </a:lnTo>
                  <a:lnTo>
                    <a:pt x="2693" y="530"/>
                  </a:lnTo>
                  <a:lnTo>
                    <a:pt x="2706" y="526"/>
                  </a:lnTo>
                  <a:lnTo>
                    <a:pt x="2714" y="520"/>
                  </a:lnTo>
                  <a:lnTo>
                    <a:pt x="2717" y="517"/>
                  </a:lnTo>
                  <a:lnTo>
                    <a:pt x="2717" y="515"/>
                  </a:lnTo>
                  <a:lnTo>
                    <a:pt x="2717" y="509"/>
                  </a:lnTo>
                  <a:lnTo>
                    <a:pt x="2714" y="506"/>
                  </a:lnTo>
                  <a:lnTo>
                    <a:pt x="2709" y="503"/>
                  </a:lnTo>
                  <a:lnTo>
                    <a:pt x="2705" y="500"/>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36" name="Freeform 111"/>
            <p:cNvSpPr/>
            <p:nvPr/>
          </p:nvSpPr>
          <p:spPr>
            <a:xfrm>
              <a:off x="4073400" y="1539720"/>
              <a:ext cx="4324320" cy="2014560"/>
            </a:xfrm>
            <a:custGeom>
              <a:avLst/>
              <a:gdLst>
                <a:gd name="textAreaLeft" fmla="*/ 0 w 4324320"/>
                <a:gd name="textAreaRight" fmla="*/ 4324680 w 4324320"/>
                <a:gd name="textAreaTop" fmla="*/ 0 h 2014560"/>
                <a:gd name="textAreaBottom" fmla="*/ 2014560 h 2014560"/>
              </a:gdLst>
              <a:ahLst/>
              <a:rect l="textAreaLeft" t="textAreaTop" r="textAreaRight" b="textAreaBottom"/>
              <a:pathLst>
                <a:path w="2724" h="1269">
                  <a:moveTo>
                    <a:pt x="2705" y="500"/>
                  </a:moveTo>
                  <a:lnTo>
                    <a:pt x="2705" y="500"/>
                  </a:lnTo>
                  <a:lnTo>
                    <a:pt x="2711" y="494"/>
                  </a:lnTo>
                  <a:lnTo>
                    <a:pt x="2715" y="488"/>
                  </a:lnTo>
                  <a:lnTo>
                    <a:pt x="2721" y="481"/>
                  </a:lnTo>
                  <a:lnTo>
                    <a:pt x="2724" y="475"/>
                  </a:lnTo>
                  <a:lnTo>
                    <a:pt x="2724" y="472"/>
                  </a:lnTo>
                  <a:lnTo>
                    <a:pt x="2724" y="469"/>
                  </a:lnTo>
                  <a:lnTo>
                    <a:pt x="2723" y="466"/>
                  </a:lnTo>
                  <a:lnTo>
                    <a:pt x="2720" y="464"/>
                  </a:lnTo>
                  <a:lnTo>
                    <a:pt x="2715" y="463"/>
                  </a:lnTo>
                  <a:lnTo>
                    <a:pt x="2708" y="463"/>
                  </a:lnTo>
                  <a:lnTo>
                    <a:pt x="2684" y="461"/>
                  </a:lnTo>
                  <a:lnTo>
                    <a:pt x="2675" y="460"/>
                  </a:lnTo>
                  <a:lnTo>
                    <a:pt x="2667" y="458"/>
                  </a:lnTo>
                  <a:lnTo>
                    <a:pt x="2663" y="455"/>
                  </a:lnTo>
                  <a:lnTo>
                    <a:pt x="2660" y="451"/>
                  </a:lnTo>
                  <a:lnTo>
                    <a:pt x="2658" y="446"/>
                  </a:lnTo>
                  <a:lnTo>
                    <a:pt x="2658" y="440"/>
                  </a:lnTo>
                  <a:lnTo>
                    <a:pt x="2660" y="436"/>
                  </a:lnTo>
                  <a:lnTo>
                    <a:pt x="2658" y="434"/>
                  </a:lnTo>
                  <a:lnTo>
                    <a:pt x="2655" y="429"/>
                  </a:lnTo>
                  <a:lnTo>
                    <a:pt x="2649" y="428"/>
                  </a:lnTo>
                  <a:lnTo>
                    <a:pt x="2641" y="428"/>
                  </a:lnTo>
                  <a:lnTo>
                    <a:pt x="2626" y="429"/>
                  </a:lnTo>
                  <a:lnTo>
                    <a:pt x="2620" y="431"/>
                  </a:lnTo>
                  <a:lnTo>
                    <a:pt x="2571" y="366"/>
                  </a:lnTo>
                  <a:lnTo>
                    <a:pt x="2554" y="363"/>
                  </a:lnTo>
                  <a:lnTo>
                    <a:pt x="2538" y="360"/>
                  </a:lnTo>
                  <a:lnTo>
                    <a:pt x="2519" y="357"/>
                  </a:lnTo>
                  <a:lnTo>
                    <a:pt x="2500" y="356"/>
                  </a:lnTo>
                  <a:lnTo>
                    <a:pt x="2483" y="357"/>
                  </a:lnTo>
                  <a:lnTo>
                    <a:pt x="2477" y="359"/>
                  </a:lnTo>
                  <a:lnTo>
                    <a:pt x="2471" y="362"/>
                  </a:lnTo>
                  <a:lnTo>
                    <a:pt x="2468" y="365"/>
                  </a:lnTo>
                  <a:lnTo>
                    <a:pt x="2468" y="371"/>
                  </a:lnTo>
                  <a:lnTo>
                    <a:pt x="2468" y="380"/>
                  </a:lnTo>
                  <a:lnTo>
                    <a:pt x="2471" y="387"/>
                  </a:lnTo>
                  <a:lnTo>
                    <a:pt x="2474" y="392"/>
                  </a:lnTo>
                  <a:lnTo>
                    <a:pt x="2476" y="395"/>
                  </a:lnTo>
                  <a:lnTo>
                    <a:pt x="2477" y="396"/>
                  </a:lnTo>
                  <a:lnTo>
                    <a:pt x="2477" y="398"/>
                  </a:lnTo>
                  <a:lnTo>
                    <a:pt x="2468" y="401"/>
                  </a:lnTo>
                  <a:lnTo>
                    <a:pt x="2459" y="402"/>
                  </a:lnTo>
                  <a:lnTo>
                    <a:pt x="2452" y="401"/>
                  </a:lnTo>
                  <a:lnTo>
                    <a:pt x="2446" y="398"/>
                  </a:lnTo>
                  <a:lnTo>
                    <a:pt x="2438" y="395"/>
                  </a:lnTo>
                  <a:lnTo>
                    <a:pt x="2431" y="390"/>
                  </a:lnTo>
                  <a:lnTo>
                    <a:pt x="2423" y="386"/>
                  </a:lnTo>
                  <a:lnTo>
                    <a:pt x="2412" y="383"/>
                  </a:lnTo>
                  <a:lnTo>
                    <a:pt x="2402" y="381"/>
                  </a:lnTo>
                  <a:lnTo>
                    <a:pt x="2378" y="381"/>
                  </a:lnTo>
                  <a:lnTo>
                    <a:pt x="2355" y="380"/>
                  </a:lnTo>
                  <a:lnTo>
                    <a:pt x="2330" y="378"/>
                  </a:lnTo>
                  <a:lnTo>
                    <a:pt x="2331" y="369"/>
                  </a:lnTo>
                  <a:lnTo>
                    <a:pt x="2331" y="351"/>
                  </a:lnTo>
                  <a:lnTo>
                    <a:pt x="2331" y="342"/>
                  </a:lnTo>
                  <a:lnTo>
                    <a:pt x="2328" y="333"/>
                  </a:lnTo>
                  <a:lnTo>
                    <a:pt x="2324" y="327"/>
                  </a:lnTo>
                  <a:lnTo>
                    <a:pt x="2322" y="326"/>
                  </a:lnTo>
                  <a:lnTo>
                    <a:pt x="2319" y="324"/>
                  </a:lnTo>
                  <a:lnTo>
                    <a:pt x="2238" y="324"/>
                  </a:lnTo>
                  <a:lnTo>
                    <a:pt x="2191" y="322"/>
                  </a:lnTo>
                  <a:lnTo>
                    <a:pt x="2165" y="321"/>
                  </a:lnTo>
                  <a:lnTo>
                    <a:pt x="2150" y="282"/>
                  </a:lnTo>
                  <a:lnTo>
                    <a:pt x="2120" y="264"/>
                  </a:lnTo>
                  <a:lnTo>
                    <a:pt x="2078" y="252"/>
                  </a:lnTo>
                  <a:lnTo>
                    <a:pt x="2072" y="250"/>
                  </a:lnTo>
                  <a:lnTo>
                    <a:pt x="2060" y="247"/>
                  </a:lnTo>
                  <a:lnTo>
                    <a:pt x="2052" y="246"/>
                  </a:lnTo>
                  <a:lnTo>
                    <a:pt x="2046" y="247"/>
                  </a:lnTo>
                  <a:lnTo>
                    <a:pt x="2042" y="250"/>
                  </a:lnTo>
                  <a:lnTo>
                    <a:pt x="2040" y="253"/>
                  </a:lnTo>
                  <a:lnTo>
                    <a:pt x="2039" y="256"/>
                  </a:lnTo>
                  <a:lnTo>
                    <a:pt x="2034" y="279"/>
                  </a:lnTo>
                  <a:lnTo>
                    <a:pt x="2031" y="286"/>
                  </a:lnTo>
                  <a:lnTo>
                    <a:pt x="2016" y="298"/>
                  </a:lnTo>
                  <a:lnTo>
                    <a:pt x="1986" y="298"/>
                  </a:lnTo>
                  <a:lnTo>
                    <a:pt x="1972" y="297"/>
                  </a:lnTo>
                  <a:lnTo>
                    <a:pt x="1965" y="295"/>
                  </a:lnTo>
                  <a:lnTo>
                    <a:pt x="1957" y="294"/>
                  </a:lnTo>
                  <a:lnTo>
                    <a:pt x="1947" y="298"/>
                  </a:lnTo>
                  <a:lnTo>
                    <a:pt x="1933" y="303"/>
                  </a:lnTo>
                  <a:lnTo>
                    <a:pt x="1921" y="304"/>
                  </a:lnTo>
                  <a:lnTo>
                    <a:pt x="1909" y="306"/>
                  </a:lnTo>
                  <a:lnTo>
                    <a:pt x="1897" y="264"/>
                  </a:lnTo>
                  <a:lnTo>
                    <a:pt x="1879" y="217"/>
                  </a:lnTo>
                  <a:lnTo>
                    <a:pt x="1887" y="187"/>
                  </a:lnTo>
                  <a:lnTo>
                    <a:pt x="1810" y="187"/>
                  </a:lnTo>
                  <a:lnTo>
                    <a:pt x="1802" y="209"/>
                  </a:lnTo>
                  <a:lnTo>
                    <a:pt x="1810" y="229"/>
                  </a:lnTo>
                  <a:lnTo>
                    <a:pt x="1810" y="249"/>
                  </a:lnTo>
                  <a:lnTo>
                    <a:pt x="1781" y="235"/>
                  </a:lnTo>
                  <a:lnTo>
                    <a:pt x="1740" y="217"/>
                  </a:lnTo>
                  <a:lnTo>
                    <a:pt x="1724" y="211"/>
                  </a:lnTo>
                  <a:lnTo>
                    <a:pt x="1701" y="203"/>
                  </a:lnTo>
                  <a:lnTo>
                    <a:pt x="1673" y="194"/>
                  </a:lnTo>
                  <a:lnTo>
                    <a:pt x="1673" y="175"/>
                  </a:lnTo>
                  <a:lnTo>
                    <a:pt x="1653" y="179"/>
                  </a:lnTo>
                  <a:lnTo>
                    <a:pt x="1611" y="209"/>
                  </a:lnTo>
                  <a:lnTo>
                    <a:pt x="1645" y="152"/>
                  </a:lnTo>
                  <a:lnTo>
                    <a:pt x="1673" y="115"/>
                  </a:lnTo>
                  <a:lnTo>
                    <a:pt x="1674" y="107"/>
                  </a:lnTo>
                  <a:lnTo>
                    <a:pt x="1676" y="89"/>
                  </a:lnTo>
                  <a:lnTo>
                    <a:pt x="1677" y="80"/>
                  </a:lnTo>
                  <a:lnTo>
                    <a:pt x="1677" y="71"/>
                  </a:lnTo>
                  <a:lnTo>
                    <a:pt x="1676" y="63"/>
                  </a:lnTo>
                  <a:lnTo>
                    <a:pt x="1674" y="62"/>
                  </a:lnTo>
                  <a:lnTo>
                    <a:pt x="1673" y="60"/>
                  </a:lnTo>
                  <a:lnTo>
                    <a:pt x="1661" y="56"/>
                  </a:lnTo>
                  <a:lnTo>
                    <a:pt x="1648" y="48"/>
                  </a:lnTo>
                  <a:lnTo>
                    <a:pt x="1633" y="38"/>
                  </a:lnTo>
                  <a:lnTo>
                    <a:pt x="1596" y="60"/>
                  </a:lnTo>
                  <a:lnTo>
                    <a:pt x="1576" y="23"/>
                  </a:lnTo>
                  <a:lnTo>
                    <a:pt x="1576" y="0"/>
                  </a:lnTo>
                  <a:lnTo>
                    <a:pt x="1534" y="0"/>
                  </a:lnTo>
                  <a:lnTo>
                    <a:pt x="1514" y="45"/>
                  </a:lnTo>
                  <a:lnTo>
                    <a:pt x="1484" y="92"/>
                  </a:lnTo>
                  <a:lnTo>
                    <a:pt x="1377" y="83"/>
                  </a:lnTo>
                  <a:lnTo>
                    <a:pt x="1290" y="172"/>
                  </a:lnTo>
                  <a:lnTo>
                    <a:pt x="1285" y="214"/>
                  </a:lnTo>
                  <a:lnTo>
                    <a:pt x="1236" y="217"/>
                  </a:lnTo>
                  <a:lnTo>
                    <a:pt x="1234" y="223"/>
                  </a:lnTo>
                  <a:lnTo>
                    <a:pt x="1233" y="237"/>
                  </a:lnTo>
                  <a:lnTo>
                    <a:pt x="1231" y="246"/>
                  </a:lnTo>
                  <a:lnTo>
                    <a:pt x="1233" y="255"/>
                  </a:lnTo>
                  <a:lnTo>
                    <a:pt x="1236" y="264"/>
                  </a:lnTo>
                  <a:lnTo>
                    <a:pt x="1240" y="271"/>
                  </a:lnTo>
                  <a:lnTo>
                    <a:pt x="1252" y="285"/>
                  </a:lnTo>
                  <a:lnTo>
                    <a:pt x="1263" y="295"/>
                  </a:lnTo>
                  <a:lnTo>
                    <a:pt x="1270" y="306"/>
                  </a:lnTo>
                  <a:lnTo>
                    <a:pt x="1273" y="312"/>
                  </a:lnTo>
                  <a:lnTo>
                    <a:pt x="1275" y="316"/>
                  </a:lnTo>
                  <a:lnTo>
                    <a:pt x="1273" y="319"/>
                  </a:lnTo>
                  <a:lnTo>
                    <a:pt x="1272" y="319"/>
                  </a:lnTo>
                  <a:lnTo>
                    <a:pt x="1264" y="318"/>
                  </a:lnTo>
                  <a:lnTo>
                    <a:pt x="1254" y="313"/>
                  </a:lnTo>
                  <a:lnTo>
                    <a:pt x="1242" y="307"/>
                  </a:lnTo>
                  <a:lnTo>
                    <a:pt x="1219" y="294"/>
                  </a:lnTo>
                  <a:lnTo>
                    <a:pt x="1208" y="286"/>
                  </a:lnTo>
                  <a:lnTo>
                    <a:pt x="1171" y="279"/>
                  </a:lnTo>
                  <a:lnTo>
                    <a:pt x="1171" y="363"/>
                  </a:lnTo>
                  <a:lnTo>
                    <a:pt x="1169" y="368"/>
                  </a:lnTo>
                  <a:lnTo>
                    <a:pt x="1168" y="372"/>
                  </a:lnTo>
                  <a:lnTo>
                    <a:pt x="1165" y="378"/>
                  </a:lnTo>
                  <a:lnTo>
                    <a:pt x="1163" y="384"/>
                  </a:lnTo>
                  <a:lnTo>
                    <a:pt x="1165" y="390"/>
                  </a:lnTo>
                  <a:lnTo>
                    <a:pt x="1169" y="396"/>
                  </a:lnTo>
                  <a:lnTo>
                    <a:pt x="1178" y="402"/>
                  </a:lnTo>
                  <a:lnTo>
                    <a:pt x="1193" y="408"/>
                  </a:lnTo>
                  <a:lnTo>
                    <a:pt x="1186" y="431"/>
                  </a:lnTo>
                  <a:lnTo>
                    <a:pt x="1166" y="443"/>
                  </a:lnTo>
                  <a:lnTo>
                    <a:pt x="1160" y="448"/>
                  </a:lnTo>
                  <a:lnTo>
                    <a:pt x="1145" y="461"/>
                  </a:lnTo>
                  <a:lnTo>
                    <a:pt x="1138" y="470"/>
                  </a:lnTo>
                  <a:lnTo>
                    <a:pt x="1130" y="479"/>
                  </a:lnTo>
                  <a:lnTo>
                    <a:pt x="1124" y="488"/>
                  </a:lnTo>
                  <a:lnTo>
                    <a:pt x="1121" y="497"/>
                  </a:lnTo>
                  <a:lnTo>
                    <a:pt x="1124" y="482"/>
                  </a:lnTo>
                  <a:lnTo>
                    <a:pt x="1127" y="451"/>
                  </a:lnTo>
                  <a:lnTo>
                    <a:pt x="1129" y="432"/>
                  </a:lnTo>
                  <a:lnTo>
                    <a:pt x="1127" y="414"/>
                  </a:lnTo>
                  <a:lnTo>
                    <a:pt x="1126" y="407"/>
                  </a:lnTo>
                  <a:lnTo>
                    <a:pt x="1124" y="399"/>
                  </a:lnTo>
                  <a:lnTo>
                    <a:pt x="1121" y="393"/>
                  </a:lnTo>
                  <a:lnTo>
                    <a:pt x="1117" y="390"/>
                  </a:lnTo>
                  <a:lnTo>
                    <a:pt x="1110" y="383"/>
                  </a:lnTo>
                  <a:lnTo>
                    <a:pt x="1110" y="380"/>
                  </a:lnTo>
                  <a:lnTo>
                    <a:pt x="1109" y="377"/>
                  </a:lnTo>
                  <a:lnTo>
                    <a:pt x="1110" y="371"/>
                  </a:lnTo>
                  <a:lnTo>
                    <a:pt x="1115" y="365"/>
                  </a:lnTo>
                  <a:lnTo>
                    <a:pt x="1120" y="362"/>
                  </a:lnTo>
                  <a:lnTo>
                    <a:pt x="1124" y="357"/>
                  </a:lnTo>
                  <a:lnTo>
                    <a:pt x="1129" y="356"/>
                  </a:lnTo>
                  <a:lnTo>
                    <a:pt x="1114" y="274"/>
                  </a:lnTo>
                  <a:lnTo>
                    <a:pt x="1100" y="280"/>
                  </a:lnTo>
                  <a:lnTo>
                    <a:pt x="1086" y="286"/>
                  </a:lnTo>
                  <a:lnTo>
                    <a:pt x="1070" y="295"/>
                  </a:lnTo>
                  <a:lnTo>
                    <a:pt x="1055" y="307"/>
                  </a:lnTo>
                  <a:lnTo>
                    <a:pt x="1047" y="315"/>
                  </a:lnTo>
                  <a:lnTo>
                    <a:pt x="1041" y="324"/>
                  </a:lnTo>
                  <a:lnTo>
                    <a:pt x="1035" y="332"/>
                  </a:lnTo>
                  <a:lnTo>
                    <a:pt x="1032" y="342"/>
                  </a:lnTo>
                  <a:lnTo>
                    <a:pt x="1029" y="351"/>
                  </a:lnTo>
                  <a:lnTo>
                    <a:pt x="1029" y="363"/>
                  </a:lnTo>
                  <a:lnTo>
                    <a:pt x="1032" y="369"/>
                  </a:lnTo>
                  <a:lnTo>
                    <a:pt x="1037" y="386"/>
                  </a:lnTo>
                  <a:lnTo>
                    <a:pt x="1038" y="396"/>
                  </a:lnTo>
                  <a:lnTo>
                    <a:pt x="1040" y="408"/>
                  </a:lnTo>
                  <a:lnTo>
                    <a:pt x="1038" y="420"/>
                  </a:lnTo>
                  <a:lnTo>
                    <a:pt x="1037" y="431"/>
                  </a:lnTo>
                  <a:lnTo>
                    <a:pt x="1034" y="423"/>
                  </a:lnTo>
                  <a:lnTo>
                    <a:pt x="1025" y="405"/>
                  </a:lnTo>
                  <a:lnTo>
                    <a:pt x="1019" y="396"/>
                  </a:lnTo>
                  <a:lnTo>
                    <a:pt x="1013" y="390"/>
                  </a:lnTo>
                  <a:lnTo>
                    <a:pt x="1007" y="386"/>
                  </a:lnTo>
                  <a:lnTo>
                    <a:pt x="1002" y="386"/>
                  </a:lnTo>
                  <a:lnTo>
                    <a:pt x="999" y="386"/>
                  </a:lnTo>
                  <a:lnTo>
                    <a:pt x="991" y="389"/>
                  </a:lnTo>
                  <a:lnTo>
                    <a:pt x="985" y="395"/>
                  </a:lnTo>
                  <a:lnTo>
                    <a:pt x="976" y="405"/>
                  </a:lnTo>
                  <a:lnTo>
                    <a:pt x="970" y="416"/>
                  </a:lnTo>
                  <a:lnTo>
                    <a:pt x="967" y="420"/>
                  </a:lnTo>
                  <a:lnTo>
                    <a:pt x="927" y="413"/>
                  </a:lnTo>
                  <a:lnTo>
                    <a:pt x="900" y="405"/>
                  </a:lnTo>
                  <a:lnTo>
                    <a:pt x="900" y="436"/>
                  </a:lnTo>
                  <a:lnTo>
                    <a:pt x="877" y="440"/>
                  </a:lnTo>
                  <a:lnTo>
                    <a:pt x="857" y="440"/>
                  </a:lnTo>
                  <a:lnTo>
                    <a:pt x="818" y="440"/>
                  </a:lnTo>
                  <a:lnTo>
                    <a:pt x="818" y="478"/>
                  </a:lnTo>
                  <a:lnTo>
                    <a:pt x="777" y="463"/>
                  </a:lnTo>
                  <a:lnTo>
                    <a:pt x="765" y="436"/>
                  </a:lnTo>
                  <a:lnTo>
                    <a:pt x="753" y="451"/>
                  </a:lnTo>
                  <a:lnTo>
                    <a:pt x="750" y="490"/>
                  </a:lnTo>
                  <a:lnTo>
                    <a:pt x="750" y="515"/>
                  </a:lnTo>
                  <a:lnTo>
                    <a:pt x="731" y="520"/>
                  </a:lnTo>
                  <a:lnTo>
                    <a:pt x="704" y="527"/>
                  </a:lnTo>
                  <a:lnTo>
                    <a:pt x="693" y="542"/>
                  </a:lnTo>
                  <a:lnTo>
                    <a:pt x="646" y="573"/>
                  </a:lnTo>
                  <a:lnTo>
                    <a:pt x="624" y="550"/>
                  </a:lnTo>
                  <a:lnTo>
                    <a:pt x="624" y="508"/>
                  </a:lnTo>
                  <a:lnTo>
                    <a:pt x="597" y="490"/>
                  </a:lnTo>
                  <a:lnTo>
                    <a:pt x="600" y="488"/>
                  </a:lnTo>
                  <a:lnTo>
                    <a:pt x="606" y="485"/>
                  </a:lnTo>
                  <a:lnTo>
                    <a:pt x="610" y="485"/>
                  </a:lnTo>
                  <a:lnTo>
                    <a:pt x="615" y="485"/>
                  </a:lnTo>
                  <a:lnTo>
                    <a:pt x="621" y="488"/>
                  </a:lnTo>
                  <a:lnTo>
                    <a:pt x="628" y="493"/>
                  </a:lnTo>
                  <a:lnTo>
                    <a:pt x="636" y="499"/>
                  </a:lnTo>
                  <a:lnTo>
                    <a:pt x="648" y="506"/>
                  </a:lnTo>
                  <a:lnTo>
                    <a:pt x="658" y="511"/>
                  </a:lnTo>
                  <a:lnTo>
                    <a:pt x="664" y="512"/>
                  </a:lnTo>
                  <a:lnTo>
                    <a:pt x="669" y="511"/>
                  </a:lnTo>
                  <a:lnTo>
                    <a:pt x="675" y="509"/>
                  </a:lnTo>
                  <a:lnTo>
                    <a:pt x="678" y="506"/>
                  </a:lnTo>
                  <a:lnTo>
                    <a:pt x="681" y="502"/>
                  </a:lnTo>
                  <a:lnTo>
                    <a:pt x="684" y="493"/>
                  </a:lnTo>
                  <a:lnTo>
                    <a:pt x="684" y="484"/>
                  </a:lnTo>
                  <a:lnTo>
                    <a:pt x="684" y="470"/>
                  </a:lnTo>
                  <a:lnTo>
                    <a:pt x="681" y="455"/>
                  </a:lnTo>
                  <a:lnTo>
                    <a:pt x="678" y="436"/>
                  </a:lnTo>
                  <a:lnTo>
                    <a:pt x="672" y="428"/>
                  </a:lnTo>
                  <a:lnTo>
                    <a:pt x="663" y="420"/>
                  </a:lnTo>
                  <a:lnTo>
                    <a:pt x="652" y="413"/>
                  </a:lnTo>
                  <a:lnTo>
                    <a:pt x="637" y="404"/>
                  </a:lnTo>
                  <a:lnTo>
                    <a:pt x="618" y="396"/>
                  </a:lnTo>
                  <a:lnTo>
                    <a:pt x="607" y="393"/>
                  </a:lnTo>
                  <a:lnTo>
                    <a:pt x="594" y="392"/>
                  </a:lnTo>
                  <a:lnTo>
                    <a:pt x="582" y="390"/>
                  </a:lnTo>
                  <a:lnTo>
                    <a:pt x="567" y="390"/>
                  </a:lnTo>
                  <a:lnTo>
                    <a:pt x="562" y="380"/>
                  </a:lnTo>
                  <a:lnTo>
                    <a:pt x="556" y="372"/>
                  </a:lnTo>
                  <a:lnTo>
                    <a:pt x="548" y="362"/>
                  </a:lnTo>
                  <a:lnTo>
                    <a:pt x="539" y="354"/>
                  </a:lnTo>
                  <a:lnTo>
                    <a:pt x="535" y="350"/>
                  </a:lnTo>
                  <a:lnTo>
                    <a:pt x="529" y="348"/>
                  </a:lnTo>
                  <a:lnTo>
                    <a:pt x="524" y="347"/>
                  </a:lnTo>
                  <a:lnTo>
                    <a:pt x="518" y="347"/>
                  </a:lnTo>
                  <a:lnTo>
                    <a:pt x="512" y="348"/>
                  </a:lnTo>
                  <a:lnTo>
                    <a:pt x="505" y="351"/>
                  </a:lnTo>
                  <a:lnTo>
                    <a:pt x="491" y="360"/>
                  </a:lnTo>
                  <a:lnTo>
                    <a:pt x="476" y="368"/>
                  </a:lnTo>
                  <a:lnTo>
                    <a:pt x="444" y="381"/>
                  </a:lnTo>
                  <a:lnTo>
                    <a:pt x="431" y="387"/>
                  </a:lnTo>
                  <a:lnTo>
                    <a:pt x="420" y="393"/>
                  </a:lnTo>
                  <a:lnTo>
                    <a:pt x="413" y="399"/>
                  </a:lnTo>
                  <a:lnTo>
                    <a:pt x="410" y="402"/>
                  </a:lnTo>
                  <a:lnTo>
                    <a:pt x="410" y="405"/>
                  </a:lnTo>
                  <a:lnTo>
                    <a:pt x="408" y="410"/>
                  </a:lnTo>
                  <a:lnTo>
                    <a:pt x="404" y="416"/>
                  </a:lnTo>
                  <a:lnTo>
                    <a:pt x="398" y="420"/>
                  </a:lnTo>
                  <a:lnTo>
                    <a:pt x="390" y="423"/>
                  </a:lnTo>
                  <a:lnTo>
                    <a:pt x="377" y="429"/>
                  </a:lnTo>
                  <a:lnTo>
                    <a:pt x="371" y="431"/>
                  </a:lnTo>
                  <a:lnTo>
                    <a:pt x="360" y="470"/>
                  </a:lnTo>
                  <a:lnTo>
                    <a:pt x="325" y="497"/>
                  </a:lnTo>
                  <a:lnTo>
                    <a:pt x="271" y="558"/>
                  </a:lnTo>
                  <a:lnTo>
                    <a:pt x="238" y="622"/>
                  </a:lnTo>
                  <a:lnTo>
                    <a:pt x="211" y="639"/>
                  </a:lnTo>
                  <a:lnTo>
                    <a:pt x="203" y="692"/>
                  </a:lnTo>
                  <a:lnTo>
                    <a:pt x="211" y="726"/>
                  </a:lnTo>
                  <a:lnTo>
                    <a:pt x="256" y="741"/>
                  </a:lnTo>
                  <a:lnTo>
                    <a:pt x="291" y="738"/>
                  </a:lnTo>
                  <a:lnTo>
                    <a:pt x="298" y="769"/>
                  </a:lnTo>
                  <a:lnTo>
                    <a:pt x="298" y="799"/>
                  </a:lnTo>
                  <a:lnTo>
                    <a:pt x="345" y="796"/>
                  </a:lnTo>
                  <a:lnTo>
                    <a:pt x="356" y="756"/>
                  </a:lnTo>
                  <a:lnTo>
                    <a:pt x="380" y="707"/>
                  </a:lnTo>
                  <a:lnTo>
                    <a:pt x="375" y="657"/>
                  </a:lnTo>
                  <a:lnTo>
                    <a:pt x="398" y="615"/>
                  </a:lnTo>
                  <a:lnTo>
                    <a:pt x="429" y="573"/>
                  </a:lnTo>
                  <a:lnTo>
                    <a:pt x="455" y="542"/>
                  </a:lnTo>
                  <a:lnTo>
                    <a:pt x="461" y="539"/>
                  </a:lnTo>
                  <a:lnTo>
                    <a:pt x="467" y="536"/>
                  </a:lnTo>
                  <a:lnTo>
                    <a:pt x="473" y="533"/>
                  </a:lnTo>
                  <a:lnTo>
                    <a:pt x="479" y="533"/>
                  </a:lnTo>
                  <a:lnTo>
                    <a:pt x="481" y="535"/>
                  </a:lnTo>
                  <a:lnTo>
                    <a:pt x="484" y="536"/>
                  </a:lnTo>
                  <a:lnTo>
                    <a:pt x="484" y="539"/>
                  </a:lnTo>
                  <a:lnTo>
                    <a:pt x="485" y="542"/>
                  </a:lnTo>
                  <a:lnTo>
                    <a:pt x="482" y="555"/>
                  </a:lnTo>
                  <a:lnTo>
                    <a:pt x="478" y="567"/>
                  </a:lnTo>
                  <a:lnTo>
                    <a:pt x="472" y="577"/>
                  </a:lnTo>
                  <a:lnTo>
                    <a:pt x="466" y="585"/>
                  </a:lnTo>
                  <a:lnTo>
                    <a:pt x="460" y="589"/>
                  </a:lnTo>
                  <a:lnTo>
                    <a:pt x="454" y="592"/>
                  </a:lnTo>
                  <a:lnTo>
                    <a:pt x="449" y="595"/>
                  </a:lnTo>
                  <a:lnTo>
                    <a:pt x="444" y="597"/>
                  </a:lnTo>
                  <a:lnTo>
                    <a:pt x="429" y="642"/>
                  </a:lnTo>
                  <a:lnTo>
                    <a:pt x="429" y="648"/>
                  </a:lnTo>
                  <a:lnTo>
                    <a:pt x="431" y="654"/>
                  </a:lnTo>
                  <a:lnTo>
                    <a:pt x="434" y="662"/>
                  </a:lnTo>
                  <a:lnTo>
                    <a:pt x="440" y="669"/>
                  </a:lnTo>
                  <a:lnTo>
                    <a:pt x="447" y="677"/>
                  </a:lnTo>
                  <a:lnTo>
                    <a:pt x="461" y="681"/>
                  </a:lnTo>
                  <a:lnTo>
                    <a:pt x="469" y="683"/>
                  </a:lnTo>
                  <a:lnTo>
                    <a:pt x="479" y="684"/>
                  </a:lnTo>
                  <a:lnTo>
                    <a:pt x="497" y="686"/>
                  </a:lnTo>
                  <a:lnTo>
                    <a:pt x="512" y="690"/>
                  </a:lnTo>
                  <a:lnTo>
                    <a:pt x="526" y="695"/>
                  </a:lnTo>
                  <a:lnTo>
                    <a:pt x="536" y="699"/>
                  </a:lnTo>
                  <a:lnTo>
                    <a:pt x="550" y="707"/>
                  </a:lnTo>
                  <a:lnTo>
                    <a:pt x="554" y="711"/>
                  </a:lnTo>
                  <a:lnTo>
                    <a:pt x="517" y="722"/>
                  </a:lnTo>
                  <a:lnTo>
                    <a:pt x="475" y="719"/>
                  </a:lnTo>
                  <a:lnTo>
                    <a:pt x="444" y="769"/>
                  </a:lnTo>
                  <a:lnTo>
                    <a:pt x="413" y="784"/>
                  </a:lnTo>
                  <a:lnTo>
                    <a:pt x="410" y="833"/>
                  </a:lnTo>
                  <a:lnTo>
                    <a:pt x="387" y="853"/>
                  </a:lnTo>
                  <a:lnTo>
                    <a:pt x="276" y="848"/>
                  </a:lnTo>
                  <a:lnTo>
                    <a:pt x="276" y="796"/>
                  </a:lnTo>
                  <a:lnTo>
                    <a:pt x="273" y="794"/>
                  </a:lnTo>
                  <a:lnTo>
                    <a:pt x="268" y="794"/>
                  </a:lnTo>
                  <a:lnTo>
                    <a:pt x="264" y="794"/>
                  </a:lnTo>
                  <a:lnTo>
                    <a:pt x="259" y="796"/>
                  </a:lnTo>
                  <a:lnTo>
                    <a:pt x="255" y="800"/>
                  </a:lnTo>
                  <a:lnTo>
                    <a:pt x="252" y="806"/>
                  </a:lnTo>
                  <a:lnTo>
                    <a:pt x="249" y="814"/>
                  </a:lnTo>
                  <a:lnTo>
                    <a:pt x="246" y="833"/>
                  </a:lnTo>
                  <a:lnTo>
                    <a:pt x="243" y="851"/>
                  </a:lnTo>
                  <a:lnTo>
                    <a:pt x="238" y="868"/>
                  </a:lnTo>
                  <a:lnTo>
                    <a:pt x="203" y="883"/>
                  </a:lnTo>
                  <a:lnTo>
                    <a:pt x="172" y="933"/>
                  </a:lnTo>
                  <a:lnTo>
                    <a:pt x="142" y="955"/>
                  </a:lnTo>
                  <a:lnTo>
                    <a:pt x="104" y="960"/>
                  </a:lnTo>
                  <a:lnTo>
                    <a:pt x="92" y="982"/>
                  </a:lnTo>
                  <a:lnTo>
                    <a:pt x="104" y="1020"/>
                  </a:lnTo>
                  <a:lnTo>
                    <a:pt x="107" y="1026"/>
                  </a:lnTo>
                  <a:lnTo>
                    <a:pt x="110" y="1031"/>
                  </a:lnTo>
                  <a:lnTo>
                    <a:pt x="111" y="1038"/>
                  </a:lnTo>
                  <a:lnTo>
                    <a:pt x="113" y="1046"/>
                  </a:lnTo>
                  <a:lnTo>
                    <a:pt x="111" y="1055"/>
                  </a:lnTo>
                  <a:lnTo>
                    <a:pt x="107" y="1062"/>
                  </a:lnTo>
                  <a:lnTo>
                    <a:pt x="104" y="1067"/>
                  </a:lnTo>
                  <a:lnTo>
                    <a:pt x="99" y="1070"/>
                  </a:lnTo>
                  <a:lnTo>
                    <a:pt x="95" y="1073"/>
                  </a:lnTo>
                  <a:lnTo>
                    <a:pt x="89" y="1076"/>
                  </a:lnTo>
                  <a:lnTo>
                    <a:pt x="74" y="1079"/>
                  </a:lnTo>
                  <a:lnTo>
                    <a:pt x="59" y="1080"/>
                  </a:lnTo>
                  <a:lnTo>
                    <a:pt x="44" y="1079"/>
                  </a:lnTo>
                  <a:lnTo>
                    <a:pt x="18" y="1076"/>
                  </a:lnTo>
                  <a:lnTo>
                    <a:pt x="7" y="1074"/>
                  </a:lnTo>
                  <a:lnTo>
                    <a:pt x="0" y="1144"/>
                  </a:lnTo>
                  <a:lnTo>
                    <a:pt x="24" y="1204"/>
                  </a:lnTo>
                  <a:lnTo>
                    <a:pt x="74" y="1193"/>
                  </a:lnTo>
                  <a:lnTo>
                    <a:pt x="127" y="1174"/>
                  </a:lnTo>
                  <a:lnTo>
                    <a:pt x="157" y="1166"/>
                  </a:lnTo>
                  <a:lnTo>
                    <a:pt x="161" y="1132"/>
                  </a:lnTo>
                  <a:lnTo>
                    <a:pt x="184" y="1109"/>
                  </a:lnTo>
                  <a:lnTo>
                    <a:pt x="184" y="1059"/>
                  </a:lnTo>
                  <a:lnTo>
                    <a:pt x="188" y="1062"/>
                  </a:lnTo>
                  <a:lnTo>
                    <a:pt x="194" y="1067"/>
                  </a:lnTo>
                  <a:lnTo>
                    <a:pt x="202" y="1070"/>
                  </a:lnTo>
                  <a:lnTo>
                    <a:pt x="211" y="1073"/>
                  </a:lnTo>
                  <a:lnTo>
                    <a:pt x="223" y="1074"/>
                  </a:lnTo>
                  <a:lnTo>
                    <a:pt x="235" y="1074"/>
                  </a:lnTo>
                  <a:lnTo>
                    <a:pt x="249" y="1070"/>
                  </a:lnTo>
                  <a:lnTo>
                    <a:pt x="256" y="1068"/>
                  </a:lnTo>
                  <a:lnTo>
                    <a:pt x="262" y="1068"/>
                  </a:lnTo>
                  <a:lnTo>
                    <a:pt x="270" y="1068"/>
                  </a:lnTo>
                  <a:lnTo>
                    <a:pt x="276" y="1070"/>
                  </a:lnTo>
                  <a:lnTo>
                    <a:pt x="286" y="1076"/>
                  </a:lnTo>
                  <a:lnTo>
                    <a:pt x="295" y="1083"/>
                  </a:lnTo>
                  <a:lnTo>
                    <a:pt x="303" y="1092"/>
                  </a:lnTo>
                  <a:lnTo>
                    <a:pt x="309" y="1100"/>
                  </a:lnTo>
                  <a:lnTo>
                    <a:pt x="313" y="1109"/>
                  </a:lnTo>
                  <a:lnTo>
                    <a:pt x="345" y="1159"/>
                  </a:lnTo>
                  <a:lnTo>
                    <a:pt x="368" y="1159"/>
                  </a:lnTo>
                  <a:lnTo>
                    <a:pt x="375" y="1136"/>
                  </a:lnTo>
                  <a:lnTo>
                    <a:pt x="353" y="1102"/>
                  </a:lnTo>
                  <a:lnTo>
                    <a:pt x="337" y="1082"/>
                  </a:lnTo>
                  <a:lnTo>
                    <a:pt x="337" y="1062"/>
                  </a:lnTo>
                  <a:lnTo>
                    <a:pt x="348" y="1055"/>
                  </a:lnTo>
                  <a:lnTo>
                    <a:pt x="375" y="1094"/>
                  </a:lnTo>
                  <a:lnTo>
                    <a:pt x="405" y="1117"/>
                  </a:lnTo>
                  <a:lnTo>
                    <a:pt x="417" y="1151"/>
                  </a:lnTo>
                  <a:lnTo>
                    <a:pt x="425" y="1156"/>
                  </a:lnTo>
                  <a:lnTo>
                    <a:pt x="432" y="1160"/>
                  </a:lnTo>
                  <a:lnTo>
                    <a:pt x="441" y="1166"/>
                  </a:lnTo>
                  <a:lnTo>
                    <a:pt x="452" y="1168"/>
                  </a:lnTo>
                  <a:lnTo>
                    <a:pt x="455" y="1169"/>
                  </a:lnTo>
                  <a:lnTo>
                    <a:pt x="460" y="1168"/>
                  </a:lnTo>
                  <a:lnTo>
                    <a:pt x="463" y="1166"/>
                  </a:lnTo>
                  <a:lnTo>
                    <a:pt x="466" y="1165"/>
                  </a:lnTo>
                  <a:lnTo>
                    <a:pt x="467" y="1160"/>
                  </a:lnTo>
                  <a:lnTo>
                    <a:pt x="467" y="1154"/>
                  </a:lnTo>
                  <a:lnTo>
                    <a:pt x="467" y="1132"/>
                  </a:lnTo>
                  <a:lnTo>
                    <a:pt x="469" y="1117"/>
                  </a:lnTo>
                  <a:lnTo>
                    <a:pt x="470" y="1105"/>
                  </a:lnTo>
                  <a:lnTo>
                    <a:pt x="502" y="1117"/>
                  </a:lnTo>
                  <a:lnTo>
                    <a:pt x="524" y="1117"/>
                  </a:lnTo>
                  <a:lnTo>
                    <a:pt x="524" y="1082"/>
                  </a:lnTo>
                  <a:lnTo>
                    <a:pt x="524" y="1055"/>
                  </a:lnTo>
                  <a:lnTo>
                    <a:pt x="532" y="1025"/>
                  </a:lnTo>
                  <a:lnTo>
                    <a:pt x="586" y="1017"/>
                  </a:lnTo>
                  <a:lnTo>
                    <a:pt x="586" y="1023"/>
                  </a:lnTo>
                  <a:lnTo>
                    <a:pt x="588" y="1037"/>
                  </a:lnTo>
                  <a:lnTo>
                    <a:pt x="589" y="1043"/>
                  </a:lnTo>
                  <a:lnTo>
                    <a:pt x="591" y="1049"/>
                  </a:lnTo>
                  <a:lnTo>
                    <a:pt x="594" y="1053"/>
                  </a:lnTo>
                  <a:lnTo>
                    <a:pt x="597" y="1055"/>
                  </a:lnTo>
                  <a:lnTo>
                    <a:pt x="651" y="1055"/>
                  </a:lnTo>
                  <a:lnTo>
                    <a:pt x="628" y="1005"/>
                  </a:lnTo>
                  <a:lnTo>
                    <a:pt x="654" y="1005"/>
                  </a:lnTo>
                  <a:lnTo>
                    <a:pt x="686" y="1055"/>
                  </a:lnTo>
                  <a:lnTo>
                    <a:pt x="687" y="1062"/>
                  </a:lnTo>
                  <a:lnTo>
                    <a:pt x="687" y="1071"/>
                  </a:lnTo>
                  <a:lnTo>
                    <a:pt x="687" y="1080"/>
                  </a:lnTo>
                  <a:lnTo>
                    <a:pt x="684" y="1089"/>
                  </a:lnTo>
                  <a:lnTo>
                    <a:pt x="681" y="1094"/>
                  </a:lnTo>
                  <a:lnTo>
                    <a:pt x="677" y="1097"/>
                  </a:lnTo>
                  <a:lnTo>
                    <a:pt x="672" y="1100"/>
                  </a:lnTo>
                  <a:lnTo>
                    <a:pt x="666" y="1103"/>
                  </a:lnTo>
                  <a:lnTo>
                    <a:pt x="658" y="1105"/>
                  </a:lnTo>
                  <a:lnTo>
                    <a:pt x="651" y="1105"/>
                  </a:lnTo>
                  <a:lnTo>
                    <a:pt x="616" y="1106"/>
                  </a:lnTo>
                  <a:lnTo>
                    <a:pt x="591" y="1109"/>
                  </a:lnTo>
                  <a:lnTo>
                    <a:pt x="567" y="1112"/>
                  </a:lnTo>
                  <a:lnTo>
                    <a:pt x="532" y="1147"/>
                  </a:lnTo>
                  <a:lnTo>
                    <a:pt x="533" y="1156"/>
                  </a:lnTo>
                  <a:lnTo>
                    <a:pt x="536" y="1165"/>
                  </a:lnTo>
                  <a:lnTo>
                    <a:pt x="541" y="1175"/>
                  </a:lnTo>
                  <a:lnTo>
                    <a:pt x="548" y="1186"/>
                  </a:lnTo>
                  <a:lnTo>
                    <a:pt x="554" y="1190"/>
                  </a:lnTo>
                  <a:lnTo>
                    <a:pt x="560" y="1195"/>
                  </a:lnTo>
                  <a:lnTo>
                    <a:pt x="570" y="1199"/>
                  </a:lnTo>
                  <a:lnTo>
                    <a:pt x="579" y="1204"/>
                  </a:lnTo>
                  <a:lnTo>
                    <a:pt x="589" y="1205"/>
                  </a:lnTo>
                  <a:lnTo>
                    <a:pt x="601" y="1209"/>
                  </a:lnTo>
                  <a:lnTo>
                    <a:pt x="607" y="1209"/>
                  </a:lnTo>
                  <a:lnTo>
                    <a:pt x="613" y="1210"/>
                  </a:lnTo>
                  <a:lnTo>
                    <a:pt x="618" y="1213"/>
                  </a:lnTo>
                  <a:lnTo>
                    <a:pt x="621" y="1216"/>
                  </a:lnTo>
                  <a:lnTo>
                    <a:pt x="622" y="1221"/>
                  </a:lnTo>
                  <a:lnTo>
                    <a:pt x="622" y="1225"/>
                  </a:lnTo>
                  <a:lnTo>
                    <a:pt x="622" y="1230"/>
                  </a:lnTo>
                  <a:lnTo>
                    <a:pt x="621" y="1237"/>
                  </a:lnTo>
                  <a:lnTo>
                    <a:pt x="616" y="1245"/>
                  </a:lnTo>
                  <a:lnTo>
                    <a:pt x="612" y="1254"/>
                  </a:lnTo>
                  <a:lnTo>
                    <a:pt x="606" y="1264"/>
                  </a:lnTo>
                  <a:lnTo>
                    <a:pt x="606" y="1269"/>
                  </a:lnTo>
                  <a:lnTo>
                    <a:pt x="619" y="1257"/>
                  </a:lnTo>
                  <a:lnTo>
                    <a:pt x="633" y="1246"/>
                  </a:lnTo>
                  <a:lnTo>
                    <a:pt x="646" y="1240"/>
                  </a:lnTo>
                  <a:lnTo>
                    <a:pt x="652" y="1237"/>
                  </a:lnTo>
                  <a:lnTo>
                    <a:pt x="658" y="1237"/>
                  </a:lnTo>
                  <a:lnTo>
                    <a:pt x="675" y="1237"/>
                  </a:lnTo>
                  <a:lnTo>
                    <a:pt x="690" y="1234"/>
                  </a:lnTo>
                  <a:lnTo>
                    <a:pt x="717" y="1228"/>
                  </a:lnTo>
                  <a:lnTo>
                    <a:pt x="738" y="1222"/>
                  </a:lnTo>
                  <a:lnTo>
                    <a:pt x="750" y="1219"/>
                  </a:lnTo>
                  <a:lnTo>
                    <a:pt x="753" y="1218"/>
                  </a:lnTo>
                  <a:lnTo>
                    <a:pt x="756" y="1215"/>
                  </a:lnTo>
                  <a:lnTo>
                    <a:pt x="762" y="1205"/>
                  </a:lnTo>
                  <a:lnTo>
                    <a:pt x="770" y="1190"/>
                  </a:lnTo>
                  <a:lnTo>
                    <a:pt x="799" y="1207"/>
                  </a:lnTo>
                  <a:lnTo>
                    <a:pt x="821" y="1219"/>
                  </a:lnTo>
                  <a:lnTo>
                    <a:pt x="838" y="1227"/>
                  </a:lnTo>
                  <a:lnTo>
                    <a:pt x="845" y="1228"/>
                  </a:lnTo>
                  <a:lnTo>
                    <a:pt x="854" y="1225"/>
                  </a:lnTo>
                  <a:lnTo>
                    <a:pt x="878" y="1216"/>
                  </a:lnTo>
                  <a:lnTo>
                    <a:pt x="901" y="1207"/>
                  </a:lnTo>
                  <a:lnTo>
                    <a:pt x="909" y="1204"/>
                  </a:lnTo>
                  <a:lnTo>
                    <a:pt x="915" y="1202"/>
                  </a:lnTo>
                  <a:lnTo>
                    <a:pt x="919" y="1204"/>
                  </a:lnTo>
                  <a:lnTo>
                    <a:pt x="925" y="1210"/>
                  </a:lnTo>
                  <a:lnTo>
                    <a:pt x="943" y="1227"/>
                  </a:lnTo>
                  <a:lnTo>
                    <a:pt x="961" y="1245"/>
                  </a:lnTo>
                  <a:lnTo>
                    <a:pt x="967" y="1251"/>
                  </a:lnTo>
                  <a:lnTo>
                    <a:pt x="972" y="1254"/>
                  </a:lnTo>
                  <a:lnTo>
                    <a:pt x="976" y="1254"/>
                  </a:lnTo>
                  <a:lnTo>
                    <a:pt x="981" y="1252"/>
                  </a:lnTo>
                  <a:lnTo>
                    <a:pt x="994" y="1243"/>
                  </a:lnTo>
                  <a:lnTo>
                    <a:pt x="1002" y="1239"/>
                  </a:lnTo>
                  <a:lnTo>
                    <a:pt x="1010" y="1234"/>
                  </a:lnTo>
                  <a:lnTo>
                    <a:pt x="1019" y="1231"/>
                  </a:lnTo>
                  <a:lnTo>
                    <a:pt x="1028" y="1231"/>
                  </a:lnTo>
                  <a:lnTo>
                    <a:pt x="1073" y="1233"/>
                  </a:lnTo>
                  <a:lnTo>
                    <a:pt x="1109" y="1234"/>
                  </a:lnTo>
                  <a:lnTo>
                    <a:pt x="1117" y="1233"/>
                  </a:lnTo>
                  <a:lnTo>
                    <a:pt x="1124" y="1228"/>
                  </a:lnTo>
                  <a:lnTo>
                    <a:pt x="1142" y="1216"/>
                  </a:lnTo>
                  <a:lnTo>
                    <a:pt x="1165" y="1198"/>
                  </a:lnTo>
                  <a:lnTo>
                    <a:pt x="1202" y="1153"/>
                  </a:lnTo>
                  <a:lnTo>
                    <a:pt x="1230" y="1121"/>
                  </a:lnTo>
                  <a:lnTo>
                    <a:pt x="1248" y="1099"/>
                  </a:lnTo>
                  <a:lnTo>
                    <a:pt x="1252" y="1089"/>
                  </a:lnTo>
                  <a:lnTo>
                    <a:pt x="1254" y="1086"/>
                  </a:lnTo>
                  <a:lnTo>
                    <a:pt x="1254" y="1085"/>
                  </a:lnTo>
                  <a:lnTo>
                    <a:pt x="1254" y="1083"/>
                  </a:lnTo>
                  <a:lnTo>
                    <a:pt x="1255" y="1080"/>
                  </a:lnTo>
                  <a:lnTo>
                    <a:pt x="1260" y="1073"/>
                  </a:lnTo>
                  <a:lnTo>
                    <a:pt x="1276" y="1055"/>
                  </a:lnTo>
                  <a:lnTo>
                    <a:pt x="1305" y="1025"/>
                  </a:lnTo>
                  <a:lnTo>
                    <a:pt x="1318" y="1016"/>
                  </a:lnTo>
                  <a:lnTo>
                    <a:pt x="1344" y="999"/>
                  </a:lnTo>
                  <a:lnTo>
                    <a:pt x="1370" y="984"/>
                  </a:lnTo>
                  <a:lnTo>
                    <a:pt x="1380" y="979"/>
                  </a:lnTo>
                  <a:lnTo>
                    <a:pt x="1386" y="979"/>
                  </a:lnTo>
                  <a:lnTo>
                    <a:pt x="1419" y="989"/>
                  </a:lnTo>
                  <a:lnTo>
                    <a:pt x="1447" y="998"/>
                  </a:lnTo>
                  <a:lnTo>
                    <a:pt x="1447" y="958"/>
                  </a:lnTo>
                  <a:lnTo>
                    <a:pt x="1451" y="958"/>
                  </a:lnTo>
                  <a:lnTo>
                    <a:pt x="1466" y="957"/>
                  </a:lnTo>
                  <a:lnTo>
                    <a:pt x="1475" y="958"/>
                  </a:lnTo>
                  <a:lnTo>
                    <a:pt x="1484" y="961"/>
                  </a:lnTo>
                  <a:lnTo>
                    <a:pt x="1495" y="966"/>
                  </a:lnTo>
                  <a:lnTo>
                    <a:pt x="1504" y="972"/>
                  </a:lnTo>
                  <a:lnTo>
                    <a:pt x="1513" y="979"/>
                  </a:lnTo>
                  <a:lnTo>
                    <a:pt x="1522" y="985"/>
                  </a:lnTo>
                  <a:lnTo>
                    <a:pt x="1537" y="993"/>
                  </a:lnTo>
                  <a:lnTo>
                    <a:pt x="1551" y="998"/>
                  </a:lnTo>
                  <a:lnTo>
                    <a:pt x="1560" y="999"/>
                  </a:lnTo>
                  <a:lnTo>
                    <a:pt x="1587" y="999"/>
                  </a:lnTo>
                  <a:lnTo>
                    <a:pt x="1632" y="999"/>
                  </a:lnTo>
                  <a:lnTo>
                    <a:pt x="1680" y="998"/>
                  </a:lnTo>
                  <a:lnTo>
                    <a:pt x="1697" y="998"/>
                  </a:lnTo>
                  <a:lnTo>
                    <a:pt x="1707" y="996"/>
                  </a:lnTo>
                  <a:lnTo>
                    <a:pt x="1715" y="992"/>
                  </a:lnTo>
                  <a:lnTo>
                    <a:pt x="1722" y="982"/>
                  </a:lnTo>
                  <a:lnTo>
                    <a:pt x="1740" y="958"/>
                  </a:lnTo>
                  <a:lnTo>
                    <a:pt x="1755" y="936"/>
                  </a:lnTo>
                  <a:lnTo>
                    <a:pt x="1761" y="925"/>
                  </a:lnTo>
                  <a:lnTo>
                    <a:pt x="1799" y="919"/>
                  </a:lnTo>
                  <a:lnTo>
                    <a:pt x="1801" y="924"/>
                  </a:lnTo>
                  <a:lnTo>
                    <a:pt x="1807" y="937"/>
                  </a:lnTo>
                  <a:lnTo>
                    <a:pt x="1813" y="957"/>
                  </a:lnTo>
                  <a:lnTo>
                    <a:pt x="1816" y="967"/>
                  </a:lnTo>
                  <a:lnTo>
                    <a:pt x="1817" y="979"/>
                  </a:lnTo>
                  <a:lnTo>
                    <a:pt x="1819" y="989"/>
                  </a:lnTo>
                  <a:lnTo>
                    <a:pt x="1825" y="998"/>
                  </a:lnTo>
                  <a:lnTo>
                    <a:pt x="1831" y="1004"/>
                  </a:lnTo>
                  <a:lnTo>
                    <a:pt x="1838" y="1010"/>
                  </a:lnTo>
                  <a:lnTo>
                    <a:pt x="1846" y="1013"/>
                  </a:lnTo>
                  <a:lnTo>
                    <a:pt x="1852" y="1016"/>
                  </a:lnTo>
                  <a:lnTo>
                    <a:pt x="1858" y="1017"/>
                  </a:lnTo>
                  <a:lnTo>
                    <a:pt x="1861" y="1037"/>
                  </a:lnTo>
                  <a:lnTo>
                    <a:pt x="1862" y="1052"/>
                  </a:lnTo>
                  <a:lnTo>
                    <a:pt x="1864" y="1062"/>
                  </a:lnTo>
                  <a:lnTo>
                    <a:pt x="1864" y="1064"/>
                  </a:lnTo>
                  <a:lnTo>
                    <a:pt x="1867" y="1062"/>
                  </a:lnTo>
                  <a:lnTo>
                    <a:pt x="1877" y="1058"/>
                  </a:lnTo>
                  <a:lnTo>
                    <a:pt x="1893" y="1049"/>
                  </a:lnTo>
                  <a:lnTo>
                    <a:pt x="1888" y="1061"/>
                  </a:lnTo>
                  <a:lnTo>
                    <a:pt x="1874" y="1092"/>
                  </a:lnTo>
                  <a:lnTo>
                    <a:pt x="1862" y="1127"/>
                  </a:lnTo>
                  <a:lnTo>
                    <a:pt x="1859" y="1142"/>
                  </a:lnTo>
                  <a:lnTo>
                    <a:pt x="1858" y="1153"/>
                  </a:lnTo>
                  <a:lnTo>
                    <a:pt x="1859" y="1157"/>
                  </a:lnTo>
                  <a:lnTo>
                    <a:pt x="1862" y="1162"/>
                  </a:lnTo>
                  <a:lnTo>
                    <a:pt x="1867" y="1165"/>
                  </a:lnTo>
                  <a:lnTo>
                    <a:pt x="1871" y="1168"/>
                  </a:lnTo>
                  <a:lnTo>
                    <a:pt x="1884" y="1172"/>
                  </a:lnTo>
                  <a:lnTo>
                    <a:pt x="1897" y="1174"/>
                  </a:lnTo>
                  <a:lnTo>
                    <a:pt x="1897" y="1159"/>
                  </a:lnTo>
                  <a:lnTo>
                    <a:pt x="1874" y="1127"/>
                  </a:lnTo>
                  <a:lnTo>
                    <a:pt x="1897" y="1102"/>
                  </a:lnTo>
                  <a:lnTo>
                    <a:pt x="1905" y="1074"/>
                  </a:lnTo>
                  <a:lnTo>
                    <a:pt x="1959" y="1067"/>
                  </a:lnTo>
                  <a:lnTo>
                    <a:pt x="1968" y="1058"/>
                  </a:lnTo>
                  <a:lnTo>
                    <a:pt x="1991" y="1037"/>
                  </a:lnTo>
                  <a:lnTo>
                    <a:pt x="2003" y="1023"/>
                  </a:lnTo>
                  <a:lnTo>
                    <a:pt x="2013" y="1010"/>
                  </a:lnTo>
                  <a:lnTo>
                    <a:pt x="2022" y="998"/>
                  </a:lnTo>
                  <a:lnTo>
                    <a:pt x="2028" y="987"/>
                  </a:lnTo>
                  <a:lnTo>
                    <a:pt x="2036" y="951"/>
                  </a:lnTo>
                  <a:lnTo>
                    <a:pt x="2042" y="927"/>
                  </a:lnTo>
                  <a:lnTo>
                    <a:pt x="2045" y="900"/>
                  </a:lnTo>
                  <a:lnTo>
                    <a:pt x="2048" y="874"/>
                  </a:lnTo>
                  <a:lnTo>
                    <a:pt x="2048" y="863"/>
                  </a:lnTo>
                  <a:lnTo>
                    <a:pt x="2046" y="853"/>
                  </a:lnTo>
                  <a:lnTo>
                    <a:pt x="2045" y="845"/>
                  </a:lnTo>
                  <a:lnTo>
                    <a:pt x="2042" y="839"/>
                  </a:lnTo>
                  <a:lnTo>
                    <a:pt x="2037" y="835"/>
                  </a:lnTo>
                  <a:lnTo>
                    <a:pt x="2031" y="833"/>
                  </a:lnTo>
                  <a:lnTo>
                    <a:pt x="2021" y="833"/>
                  </a:lnTo>
                  <a:lnTo>
                    <a:pt x="2015" y="832"/>
                  </a:lnTo>
                  <a:lnTo>
                    <a:pt x="2013" y="830"/>
                  </a:lnTo>
                  <a:lnTo>
                    <a:pt x="2013" y="829"/>
                  </a:lnTo>
                  <a:lnTo>
                    <a:pt x="2018" y="827"/>
                  </a:lnTo>
                  <a:lnTo>
                    <a:pt x="2021" y="826"/>
                  </a:lnTo>
                  <a:lnTo>
                    <a:pt x="1997" y="833"/>
                  </a:lnTo>
                  <a:lnTo>
                    <a:pt x="2009" y="799"/>
                  </a:lnTo>
                  <a:lnTo>
                    <a:pt x="2043" y="761"/>
                  </a:lnTo>
                  <a:lnTo>
                    <a:pt x="2073" y="699"/>
                  </a:lnTo>
                  <a:lnTo>
                    <a:pt x="2165" y="704"/>
                  </a:lnTo>
                  <a:lnTo>
                    <a:pt x="2223" y="722"/>
                  </a:lnTo>
                  <a:lnTo>
                    <a:pt x="2269" y="707"/>
                  </a:lnTo>
                  <a:lnTo>
                    <a:pt x="2295" y="662"/>
                  </a:lnTo>
                  <a:lnTo>
                    <a:pt x="2342" y="654"/>
                  </a:lnTo>
                  <a:lnTo>
                    <a:pt x="2331" y="668"/>
                  </a:lnTo>
                  <a:lnTo>
                    <a:pt x="2319" y="684"/>
                  </a:lnTo>
                  <a:lnTo>
                    <a:pt x="2307" y="707"/>
                  </a:lnTo>
                  <a:lnTo>
                    <a:pt x="2295" y="737"/>
                  </a:lnTo>
                  <a:lnTo>
                    <a:pt x="2289" y="753"/>
                  </a:lnTo>
                  <a:lnTo>
                    <a:pt x="2283" y="773"/>
                  </a:lnTo>
                  <a:lnTo>
                    <a:pt x="2278" y="793"/>
                  </a:lnTo>
                  <a:lnTo>
                    <a:pt x="2275" y="815"/>
                  </a:lnTo>
                  <a:lnTo>
                    <a:pt x="2274" y="839"/>
                  </a:lnTo>
                  <a:lnTo>
                    <a:pt x="2272" y="863"/>
                  </a:lnTo>
                  <a:lnTo>
                    <a:pt x="2284" y="910"/>
                  </a:lnTo>
                  <a:lnTo>
                    <a:pt x="2334" y="833"/>
                  </a:lnTo>
                  <a:lnTo>
                    <a:pt x="2340" y="826"/>
                  </a:lnTo>
                  <a:lnTo>
                    <a:pt x="2352" y="811"/>
                  </a:lnTo>
                  <a:lnTo>
                    <a:pt x="2358" y="800"/>
                  </a:lnTo>
                  <a:lnTo>
                    <a:pt x="2363" y="791"/>
                  </a:lnTo>
                  <a:lnTo>
                    <a:pt x="2366" y="782"/>
                  </a:lnTo>
                  <a:lnTo>
                    <a:pt x="2366" y="779"/>
                  </a:lnTo>
                  <a:lnTo>
                    <a:pt x="2364" y="776"/>
                  </a:lnTo>
                  <a:lnTo>
                    <a:pt x="2349" y="743"/>
                  </a:lnTo>
                  <a:lnTo>
                    <a:pt x="2342" y="722"/>
                  </a:lnTo>
                  <a:lnTo>
                    <a:pt x="2346" y="716"/>
                  </a:lnTo>
                  <a:lnTo>
                    <a:pt x="2357" y="701"/>
                  </a:lnTo>
                  <a:lnTo>
                    <a:pt x="2372" y="684"/>
                  </a:lnTo>
                  <a:lnTo>
                    <a:pt x="2379" y="677"/>
                  </a:lnTo>
                  <a:lnTo>
                    <a:pt x="2387" y="672"/>
                  </a:lnTo>
                  <a:lnTo>
                    <a:pt x="2449" y="665"/>
                  </a:lnTo>
                  <a:lnTo>
                    <a:pt x="2459" y="662"/>
                  </a:lnTo>
                  <a:lnTo>
                    <a:pt x="2485" y="654"/>
                  </a:lnTo>
                  <a:lnTo>
                    <a:pt x="2518" y="642"/>
                  </a:lnTo>
                  <a:lnTo>
                    <a:pt x="2533" y="634"/>
                  </a:lnTo>
                  <a:lnTo>
                    <a:pt x="2548" y="627"/>
                  </a:lnTo>
                  <a:lnTo>
                    <a:pt x="2560" y="618"/>
                  </a:lnTo>
                  <a:lnTo>
                    <a:pt x="2571" y="607"/>
                  </a:lnTo>
                  <a:lnTo>
                    <a:pt x="2580" y="595"/>
                  </a:lnTo>
                  <a:lnTo>
                    <a:pt x="2586" y="583"/>
                  </a:lnTo>
                  <a:lnTo>
                    <a:pt x="2587" y="573"/>
                  </a:lnTo>
                  <a:lnTo>
                    <a:pt x="2587" y="567"/>
                  </a:lnTo>
                  <a:lnTo>
                    <a:pt x="2587" y="562"/>
                  </a:lnTo>
                  <a:lnTo>
                    <a:pt x="2584" y="558"/>
                  </a:lnTo>
                  <a:lnTo>
                    <a:pt x="2581" y="553"/>
                  </a:lnTo>
                  <a:lnTo>
                    <a:pt x="2577" y="550"/>
                  </a:lnTo>
                  <a:lnTo>
                    <a:pt x="2571" y="547"/>
                  </a:lnTo>
                  <a:lnTo>
                    <a:pt x="2580" y="544"/>
                  </a:lnTo>
                  <a:lnTo>
                    <a:pt x="2598" y="535"/>
                  </a:lnTo>
                  <a:lnTo>
                    <a:pt x="2608" y="529"/>
                  </a:lnTo>
                  <a:lnTo>
                    <a:pt x="2617" y="523"/>
                  </a:lnTo>
                  <a:lnTo>
                    <a:pt x="2625" y="514"/>
                  </a:lnTo>
                  <a:lnTo>
                    <a:pt x="2626" y="509"/>
                  </a:lnTo>
                  <a:lnTo>
                    <a:pt x="2628" y="505"/>
                  </a:lnTo>
                  <a:lnTo>
                    <a:pt x="2629" y="500"/>
                  </a:lnTo>
                  <a:lnTo>
                    <a:pt x="2629" y="499"/>
                  </a:lnTo>
                  <a:lnTo>
                    <a:pt x="2631" y="499"/>
                  </a:lnTo>
                  <a:lnTo>
                    <a:pt x="2634" y="499"/>
                  </a:lnTo>
                  <a:lnTo>
                    <a:pt x="2644" y="514"/>
                  </a:lnTo>
                  <a:lnTo>
                    <a:pt x="2654" y="523"/>
                  </a:lnTo>
                  <a:lnTo>
                    <a:pt x="2658" y="526"/>
                  </a:lnTo>
                  <a:lnTo>
                    <a:pt x="2664" y="529"/>
                  </a:lnTo>
                  <a:lnTo>
                    <a:pt x="2670" y="532"/>
                  </a:lnTo>
                  <a:lnTo>
                    <a:pt x="2678" y="533"/>
                  </a:lnTo>
                  <a:lnTo>
                    <a:pt x="2685" y="533"/>
                  </a:lnTo>
                  <a:lnTo>
                    <a:pt x="2693" y="530"/>
                  </a:lnTo>
                  <a:lnTo>
                    <a:pt x="2706" y="526"/>
                  </a:lnTo>
                  <a:lnTo>
                    <a:pt x="2714" y="520"/>
                  </a:lnTo>
                  <a:lnTo>
                    <a:pt x="2717" y="517"/>
                  </a:lnTo>
                  <a:lnTo>
                    <a:pt x="2717" y="515"/>
                  </a:lnTo>
                  <a:lnTo>
                    <a:pt x="2717" y="509"/>
                  </a:lnTo>
                  <a:lnTo>
                    <a:pt x="2714" y="506"/>
                  </a:lnTo>
                  <a:lnTo>
                    <a:pt x="2709" y="503"/>
                  </a:lnTo>
                  <a:lnTo>
                    <a:pt x="2705" y="500"/>
                  </a:lnTo>
                  <a:close/>
                </a:path>
              </a:pathLst>
            </a:custGeom>
            <a:solidFill>
              <a:srgbClr val="66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937" name=""/>
          <p:cNvGrpSpPr/>
          <p:nvPr/>
        </p:nvGrpSpPr>
        <p:grpSpPr>
          <a:xfrm>
            <a:off x="5022720" y="2908440"/>
            <a:ext cx="2409840" cy="1682640"/>
            <a:chOff x="5022720" y="2908440"/>
            <a:chExt cx="2409840" cy="1682640"/>
          </a:xfrm>
        </p:grpSpPr>
        <p:grpSp>
          <p:nvGrpSpPr>
            <p:cNvPr id="938" name=""/>
            <p:cNvGrpSpPr/>
            <p:nvPr/>
          </p:nvGrpSpPr>
          <p:grpSpPr>
            <a:xfrm>
              <a:off x="5022720" y="2908440"/>
              <a:ext cx="2408400" cy="1682640"/>
              <a:chOff x="5022720" y="2908440"/>
              <a:chExt cx="2408400" cy="1682640"/>
            </a:xfrm>
          </p:grpSpPr>
          <p:sp>
            <p:nvSpPr>
              <p:cNvPr id="939" name="Freeform 114"/>
              <p:cNvSpPr/>
              <p:nvPr/>
            </p:nvSpPr>
            <p:spPr>
              <a:xfrm>
                <a:off x="7351560" y="2908440"/>
                <a:ext cx="68400" cy="254160"/>
              </a:xfrm>
              <a:custGeom>
                <a:avLst/>
                <a:gdLst>
                  <a:gd name="textAreaLeft" fmla="*/ 0 w 68400"/>
                  <a:gd name="textAreaRight" fmla="*/ 68760 w 68400"/>
                  <a:gd name="textAreaTop" fmla="*/ 0 h 254160"/>
                  <a:gd name="textAreaBottom" fmla="*/ 254520 h 254160"/>
                </a:gdLst>
                <a:ahLst/>
                <a:rect l="textAreaLeft" t="textAreaTop" r="textAreaRight" b="textAreaBottom"/>
                <a:pathLst>
                  <a:path w="43" h="160">
                    <a:moveTo>
                      <a:pt x="5" y="160"/>
                    </a:moveTo>
                    <a:lnTo>
                      <a:pt x="35" y="145"/>
                    </a:lnTo>
                    <a:lnTo>
                      <a:pt x="35" y="107"/>
                    </a:lnTo>
                    <a:lnTo>
                      <a:pt x="43" y="65"/>
                    </a:lnTo>
                    <a:lnTo>
                      <a:pt x="35" y="11"/>
                    </a:lnTo>
                    <a:lnTo>
                      <a:pt x="23" y="0"/>
                    </a:lnTo>
                    <a:lnTo>
                      <a:pt x="8" y="26"/>
                    </a:lnTo>
                    <a:lnTo>
                      <a:pt x="8" y="88"/>
                    </a:lnTo>
                    <a:lnTo>
                      <a:pt x="0" y="137"/>
                    </a:lnTo>
                    <a:lnTo>
                      <a:pt x="5" y="160"/>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40" name="Freeform 115"/>
              <p:cNvSpPr/>
              <p:nvPr/>
            </p:nvSpPr>
            <p:spPr>
              <a:xfrm>
                <a:off x="7304040" y="3218040"/>
                <a:ext cx="127080" cy="77760"/>
              </a:xfrm>
              <a:custGeom>
                <a:avLst/>
                <a:gdLst>
                  <a:gd name="textAreaLeft" fmla="*/ 0 w 127080"/>
                  <a:gd name="textAreaRight" fmla="*/ 127440 w 127080"/>
                  <a:gd name="textAreaTop" fmla="*/ 0 h 77760"/>
                  <a:gd name="textAreaBottom" fmla="*/ 78120 h 77760"/>
                </a:gdLst>
                <a:ahLst/>
                <a:rect l="textAreaLeft" t="textAreaTop" r="textAreaRight" b="textAreaBottom"/>
                <a:pathLst>
                  <a:path w="80" h="49">
                    <a:moveTo>
                      <a:pt x="27" y="46"/>
                    </a:moveTo>
                    <a:lnTo>
                      <a:pt x="0" y="49"/>
                    </a:lnTo>
                    <a:lnTo>
                      <a:pt x="18" y="7"/>
                    </a:lnTo>
                    <a:lnTo>
                      <a:pt x="50" y="0"/>
                    </a:lnTo>
                    <a:lnTo>
                      <a:pt x="80" y="30"/>
                    </a:lnTo>
                    <a:lnTo>
                      <a:pt x="61" y="49"/>
                    </a:lnTo>
                    <a:lnTo>
                      <a:pt x="27" y="46"/>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Gulim"/>
                </a:endParaRPr>
              </a:p>
            </p:txBody>
          </p:sp>
          <p:sp>
            <p:nvSpPr>
              <p:cNvPr id="941" name="Freeform 116"/>
              <p:cNvSpPr/>
              <p:nvPr/>
            </p:nvSpPr>
            <p:spPr>
              <a:xfrm>
                <a:off x="7103880" y="3327480"/>
                <a:ext cx="255600" cy="230400"/>
              </a:xfrm>
              <a:custGeom>
                <a:avLst/>
                <a:gdLst>
                  <a:gd name="textAreaLeft" fmla="*/ 0 w 255600"/>
                  <a:gd name="textAreaRight" fmla="*/ 255600 w 255600"/>
                  <a:gd name="textAreaTop" fmla="*/ 0 h 230400"/>
                  <a:gd name="textAreaBottom" fmla="*/ 230760 h 230400"/>
                </a:gdLst>
                <a:ahLst/>
                <a:rect l="textAreaLeft" t="textAreaTop" r="textAreaRight" b="textAreaBottom"/>
                <a:pathLst>
                  <a:path w="161" h="145">
                    <a:moveTo>
                      <a:pt x="134" y="8"/>
                    </a:moveTo>
                    <a:lnTo>
                      <a:pt x="114" y="27"/>
                    </a:lnTo>
                    <a:lnTo>
                      <a:pt x="99" y="45"/>
                    </a:lnTo>
                    <a:lnTo>
                      <a:pt x="87" y="50"/>
                    </a:lnTo>
                    <a:lnTo>
                      <a:pt x="72" y="60"/>
                    </a:lnTo>
                    <a:lnTo>
                      <a:pt x="69" y="87"/>
                    </a:lnTo>
                    <a:lnTo>
                      <a:pt x="22" y="87"/>
                    </a:lnTo>
                    <a:lnTo>
                      <a:pt x="0" y="110"/>
                    </a:lnTo>
                    <a:lnTo>
                      <a:pt x="22" y="134"/>
                    </a:lnTo>
                    <a:lnTo>
                      <a:pt x="61" y="142"/>
                    </a:lnTo>
                    <a:lnTo>
                      <a:pt x="84" y="145"/>
                    </a:lnTo>
                    <a:lnTo>
                      <a:pt x="114" y="130"/>
                    </a:lnTo>
                    <a:lnTo>
                      <a:pt x="129" y="77"/>
                    </a:lnTo>
                    <a:lnTo>
                      <a:pt x="149" y="50"/>
                    </a:lnTo>
                    <a:lnTo>
                      <a:pt x="161" y="23"/>
                    </a:lnTo>
                    <a:lnTo>
                      <a:pt x="161" y="0"/>
                    </a:lnTo>
                    <a:lnTo>
                      <a:pt x="134" y="8"/>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42" name="Freeform 117"/>
              <p:cNvSpPr/>
              <p:nvPr/>
            </p:nvSpPr>
            <p:spPr>
              <a:xfrm>
                <a:off x="7067520" y="3557880"/>
                <a:ext cx="71280" cy="48960"/>
              </a:xfrm>
              <a:custGeom>
                <a:avLst/>
                <a:gdLst>
                  <a:gd name="textAreaLeft" fmla="*/ 0 w 71280"/>
                  <a:gd name="textAreaRight" fmla="*/ 71640 w 71280"/>
                  <a:gd name="textAreaTop" fmla="*/ 0 h 48960"/>
                  <a:gd name="textAreaBottom" fmla="*/ 49320 h 48960"/>
                </a:gdLst>
                <a:ahLst/>
                <a:rect l="textAreaLeft" t="textAreaTop" r="textAreaRight" b="textAreaBottom"/>
                <a:pathLst>
                  <a:path w="45" h="31">
                    <a:moveTo>
                      <a:pt x="18" y="27"/>
                    </a:moveTo>
                    <a:lnTo>
                      <a:pt x="0" y="7"/>
                    </a:lnTo>
                    <a:lnTo>
                      <a:pt x="27" y="0"/>
                    </a:lnTo>
                    <a:lnTo>
                      <a:pt x="45" y="12"/>
                    </a:lnTo>
                    <a:lnTo>
                      <a:pt x="38" y="31"/>
                    </a:lnTo>
                    <a:lnTo>
                      <a:pt x="18" y="27"/>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Gulim"/>
                </a:endParaRPr>
              </a:p>
            </p:txBody>
          </p:sp>
          <p:sp>
            <p:nvSpPr>
              <p:cNvPr id="943" name="Freeform 118"/>
              <p:cNvSpPr/>
              <p:nvPr/>
            </p:nvSpPr>
            <p:spPr>
              <a:xfrm>
                <a:off x="6859440" y="3765600"/>
                <a:ext cx="104760" cy="79560"/>
              </a:xfrm>
              <a:custGeom>
                <a:avLst/>
                <a:gdLst>
                  <a:gd name="textAreaLeft" fmla="*/ 0 w 104760"/>
                  <a:gd name="textAreaRight" fmla="*/ 105120 w 104760"/>
                  <a:gd name="textAreaTop" fmla="*/ 0 h 79560"/>
                  <a:gd name="textAreaBottom" fmla="*/ 79920 h 79560"/>
                </a:gdLst>
                <a:ahLst/>
                <a:rect l="textAreaLeft" t="textAreaTop" r="textAreaRight" b="textAreaBottom"/>
                <a:pathLst>
                  <a:path w="66" h="50">
                    <a:moveTo>
                      <a:pt x="24" y="50"/>
                    </a:moveTo>
                    <a:lnTo>
                      <a:pt x="47" y="37"/>
                    </a:lnTo>
                    <a:lnTo>
                      <a:pt x="66" y="7"/>
                    </a:lnTo>
                    <a:lnTo>
                      <a:pt x="39" y="0"/>
                    </a:lnTo>
                    <a:lnTo>
                      <a:pt x="0" y="30"/>
                    </a:lnTo>
                    <a:lnTo>
                      <a:pt x="24" y="50"/>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Gulim"/>
                </a:endParaRPr>
              </a:p>
            </p:txBody>
          </p:sp>
          <p:sp>
            <p:nvSpPr>
              <p:cNvPr id="944" name="Freeform 119"/>
              <p:cNvSpPr/>
              <p:nvPr/>
            </p:nvSpPr>
            <p:spPr>
              <a:xfrm>
                <a:off x="6648480" y="4208760"/>
                <a:ext cx="217440" cy="241200"/>
              </a:xfrm>
              <a:custGeom>
                <a:avLst/>
                <a:gdLst>
                  <a:gd name="textAreaLeft" fmla="*/ 0 w 217440"/>
                  <a:gd name="textAreaRight" fmla="*/ 217800 w 217440"/>
                  <a:gd name="textAreaTop" fmla="*/ 0 h 241200"/>
                  <a:gd name="textAreaBottom" fmla="*/ 241560 h 241200"/>
                </a:gdLst>
                <a:ahLst/>
                <a:rect l="textAreaLeft" t="textAreaTop" r="textAreaRight" b="textAreaBottom"/>
                <a:pathLst>
                  <a:path w="137" h="152">
                    <a:moveTo>
                      <a:pt x="118" y="0"/>
                    </a:moveTo>
                    <a:lnTo>
                      <a:pt x="80" y="10"/>
                    </a:lnTo>
                    <a:lnTo>
                      <a:pt x="43" y="30"/>
                    </a:lnTo>
                    <a:lnTo>
                      <a:pt x="18" y="60"/>
                    </a:lnTo>
                    <a:lnTo>
                      <a:pt x="15" y="61"/>
                    </a:lnTo>
                    <a:lnTo>
                      <a:pt x="9" y="66"/>
                    </a:lnTo>
                    <a:lnTo>
                      <a:pt x="3" y="72"/>
                    </a:lnTo>
                    <a:lnTo>
                      <a:pt x="0" y="75"/>
                    </a:lnTo>
                    <a:lnTo>
                      <a:pt x="0" y="79"/>
                    </a:lnTo>
                    <a:lnTo>
                      <a:pt x="0" y="85"/>
                    </a:lnTo>
                    <a:lnTo>
                      <a:pt x="3" y="95"/>
                    </a:lnTo>
                    <a:lnTo>
                      <a:pt x="11" y="114"/>
                    </a:lnTo>
                    <a:lnTo>
                      <a:pt x="23" y="141"/>
                    </a:lnTo>
                    <a:lnTo>
                      <a:pt x="61" y="152"/>
                    </a:lnTo>
                    <a:lnTo>
                      <a:pt x="103" y="107"/>
                    </a:lnTo>
                    <a:lnTo>
                      <a:pt x="110" y="104"/>
                    </a:lnTo>
                    <a:lnTo>
                      <a:pt x="116" y="99"/>
                    </a:lnTo>
                    <a:lnTo>
                      <a:pt x="124" y="95"/>
                    </a:lnTo>
                    <a:lnTo>
                      <a:pt x="130" y="88"/>
                    </a:lnTo>
                    <a:lnTo>
                      <a:pt x="136" y="81"/>
                    </a:lnTo>
                    <a:lnTo>
                      <a:pt x="136" y="76"/>
                    </a:lnTo>
                    <a:lnTo>
                      <a:pt x="137" y="73"/>
                    </a:lnTo>
                    <a:lnTo>
                      <a:pt x="136" y="69"/>
                    </a:lnTo>
                    <a:lnTo>
                      <a:pt x="133" y="64"/>
                    </a:lnTo>
                    <a:lnTo>
                      <a:pt x="128" y="55"/>
                    </a:lnTo>
                    <a:lnTo>
                      <a:pt x="125" y="45"/>
                    </a:lnTo>
                    <a:lnTo>
                      <a:pt x="122" y="34"/>
                    </a:lnTo>
                    <a:lnTo>
                      <a:pt x="121" y="24"/>
                    </a:lnTo>
                    <a:lnTo>
                      <a:pt x="118" y="6"/>
                    </a:lnTo>
                    <a:lnTo>
                      <a:pt x="118" y="0"/>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45" name="Freeform 120"/>
              <p:cNvSpPr/>
              <p:nvPr/>
            </p:nvSpPr>
            <p:spPr>
              <a:xfrm>
                <a:off x="6362640" y="4280040"/>
                <a:ext cx="207720" cy="200160"/>
              </a:xfrm>
              <a:custGeom>
                <a:avLst/>
                <a:gdLst>
                  <a:gd name="textAreaLeft" fmla="*/ 0 w 207720"/>
                  <a:gd name="textAreaRight" fmla="*/ 208080 w 207720"/>
                  <a:gd name="textAreaTop" fmla="*/ 0 h 200160"/>
                  <a:gd name="textAreaBottom" fmla="*/ 200520 h 200160"/>
                </a:gdLst>
                <a:ahLst/>
                <a:rect l="textAreaLeft" t="textAreaTop" r="textAreaRight" b="textAreaBottom"/>
                <a:pathLst>
                  <a:path w="131" h="126">
                    <a:moveTo>
                      <a:pt x="84" y="119"/>
                    </a:moveTo>
                    <a:lnTo>
                      <a:pt x="69" y="89"/>
                    </a:lnTo>
                    <a:lnTo>
                      <a:pt x="42" y="50"/>
                    </a:lnTo>
                    <a:lnTo>
                      <a:pt x="0" y="7"/>
                    </a:lnTo>
                    <a:lnTo>
                      <a:pt x="31" y="0"/>
                    </a:lnTo>
                    <a:lnTo>
                      <a:pt x="73" y="19"/>
                    </a:lnTo>
                    <a:lnTo>
                      <a:pt x="99" y="74"/>
                    </a:lnTo>
                    <a:lnTo>
                      <a:pt x="107" y="81"/>
                    </a:lnTo>
                    <a:lnTo>
                      <a:pt x="122" y="99"/>
                    </a:lnTo>
                    <a:lnTo>
                      <a:pt x="128" y="110"/>
                    </a:lnTo>
                    <a:lnTo>
                      <a:pt x="131" y="117"/>
                    </a:lnTo>
                    <a:lnTo>
                      <a:pt x="131" y="122"/>
                    </a:lnTo>
                    <a:lnTo>
                      <a:pt x="129" y="125"/>
                    </a:lnTo>
                    <a:lnTo>
                      <a:pt x="126" y="126"/>
                    </a:lnTo>
                    <a:lnTo>
                      <a:pt x="123" y="126"/>
                    </a:lnTo>
                    <a:lnTo>
                      <a:pt x="105" y="125"/>
                    </a:lnTo>
                    <a:lnTo>
                      <a:pt x="93" y="123"/>
                    </a:lnTo>
                    <a:lnTo>
                      <a:pt x="87" y="120"/>
                    </a:lnTo>
                    <a:lnTo>
                      <a:pt x="84" y="119"/>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46" name="Freeform 121"/>
              <p:cNvSpPr/>
              <p:nvPr/>
            </p:nvSpPr>
            <p:spPr>
              <a:xfrm>
                <a:off x="6605280" y="4499280"/>
                <a:ext cx="158760" cy="91800"/>
              </a:xfrm>
              <a:custGeom>
                <a:avLst/>
                <a:gdLst>
                  <a:gd name="textAreaLeft" fmla="*/ 0 w 158760"/>
                  <a:gd name="textAreaRight" fmla="*/ 159120 w 158760"/>
                  <a:gd name="textAreaTop" fmla="*/ 0 h 91800"/>
                  <a:gd name="textAreaBottom" fmla="*/ 92160 h 91800"/>
                </a:gdLst>
                <a:ahLst/>
                <a:rect l="textAreaLeft" t="textAreaTop" r="textAreaRight" b="textAreaBottom"/>
                <a:pathLst>
                  <a:path w="100" h="58">
                    <a:moveTo>
                      <a:pt x="0" y="43"/>
                    </a:moveTo>
                    <a:lnTo>
                      <a:pt x="0" y="0"/>
                    </a:lnTo>
                    <a:lnTo>
                      <a:pt x="38" y="15"/>
                    </a:lnTo>
                    <a:lnTo>
                      <a:pt x="100" y="35"/>
                    </a:lnTo>
                    <a:lnTo>
                      <a:pt x="73" y="53"/>
                    </a:lnTo>
                    <a:lnTo>
                      <a:pt x="27" y="58"/>
                    </a:lnTo>
                    <a:lnTo>
                      <a:pt x="0" y="43"/>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Gulim"/>
                </a:endParaRPr>
              </a:p>
            </p:txBody>
          </p:sp>
          <p:sp>
            <p:nvSpPr>
              <p:cNvPr id="947" name="Freeform 122"/>
              <p:cNvSpPr/>
              <p:nvPr/>
            </p:nvSpPr>
            <p:spPr>
              <a:xfrm>
                <a:off x="6823080" y="4318200"/>
                <a:ext cx="141120" cy="174600"/>
              </a:xfrm>
              <a:custGeom>
                <a:avLst/>
                <a:gdLst>
                  <a:gd name="textAreaLeft" fmla="*/ 0 w 141120"/>
                  <a:gd name="textAreaRight" fmla="*/ 141480 w 141120"/>
                  <a:gd name="textAreaTop" fmla="*/ 0 h 174600"/>
                  <a:gd name="textAreaBottom" fmla="*/ 174960 h 174600"/>
                </a:gdLst>
                <a:ahLst/>
                <a:rect l="textAreaLeft" t="textAreaTop" r="textAreaRight" b="textAreaBottom"/>
                <a:pathLst>
                  <a:path w="89" h="110">
                    <a:moveTo>
                      <a:pt x="65" y="110"/>
                    </a:moveTo>
                    <a:lnTo>
                      <a:pt x="23" y="90"/>
                    </a:lnTo>
                    <a:lnTo>
                      <a:pt x="0" y="83"/>
                    </a:lnTo>
                    <a:lnTo>
                      <a:pt x="23" y="45"/>
                    </a:lnTo>
                    <a:lnTo>
                      <a:pt x="65" y="0"/>
                    </a:lnTo>
                    <a:lnTo>
                      <a:pt x="89" y="41"/>
                    </a:lnTo>
                    <a:lnTo>
                      <a:pt x="77" y="57"/>
                    </a:lnTo>
                    <a:lnTo>
                      <a:pt x="65" y="110"/>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48" name="Freeform 123"/>
              <p:cNvSpPr/>
              <p:nvPr/>
            </p:nvSpPr>
            <p:spPr>
              <a:xfrm>
                <a:off x="5022720" y="3025800"/>
                <a:ext cx="2049480" cy="1317600"/>
              </a:xfrm>
              <a:custGeom>
                <a:avLst/>
                <a:gdLst>
                  <a:gd name="textAreaLeft" fmla="*/ 0 w 2049480"/>
                  <a:gd name="textAreaRight" fmla="*/ 2049840 w 2049480"/>
                  <a:gd name="textAreaTop" fmla="*/ 0 h 1317600"/>
                  <a:gd name="textAreaBottom" fmla="*/ 1317960 h 1317600"/>
                </a:gdLst>
                <a:ahLst/>
                <a:rect l="textAreaLeft" t="textAreaTop" r="textAreaRight" b="textAreaBottom"/>
                <a:pathLst>
                  <a:path w="1291" h="830">
                    <a:moveTo>
                      <a:pt x="1252" y="234"/>
                    </a:moveTo>
                    <a:lnTo>
                      <a:pt x="1252" y="234"/>
                    </a:lnTo>
                    <a:lnTo>
                      <a:pt x="1253" y="223"/>
                    </a:lnTo>
                    <a:lnTo>
                      <a:pt x="1256" y="208"/>
                    </a:lnTo>
                    <a:lnTo>
                      <a:pt x="1268" y="173"/>
                    </a:lnTo>
                    <a:lnTo>
                      <a:pt x="1282" y="142"/>
                    </a:lnTo>
                    <a:lnTo>
                      <a:pt x="1287" y="130"/>
                    </a:lnTo>
                    <a:lnTo>
                      <a:pt x="1271" y="139"/>
                    </a:lnTo>
                    <a:lnTo>
                      <a:pt x="1261" y="143"/>
                    </a:lnTo>
                    <a:lnTo>
                      <a:pt x="1258" y="145"/>
                    </a:lnTo>
                    <a:lnTo>
                      <a:pt x="1258" y="143"/>
                    </a:lnTo>
                    <a:lnTo>
                      <a:pt x="1256" y="133"/>
                    </a:lnTo>
                    <a:lnTo>
                      <a:pt x="1255" y="118"/>
                    </a:lnTo>
                    <a:lnTo>
                      <a:pt x="1252" y="98"/>
                    </a:lnTo>
                    <a:lnTo>
                      <a:pt x="1246" y="97"/>
                    </a:lnTo>
                    <a:lnTo>
                      <a:pt x="1240" y="94"/>
                    </a:lnTo>
                    <a:lnTo>
                      <a:pt x="1232" y="91"/>
                    </a:lnTo>
                    <a:lnTo>
                      <a:pt x="1225" y="85"/>
                    </a:lnTo>
                    <a:lnTo>
                      <a:pt x="1219" y="79"/>
                    </a:lnTo>
                    <a:lnTo>
                      <a:pt x="1213" y="70"/>
                    </a:lnTo>
                    <a:lnTo>
                      <a:pt x="1211" y="60"/>
                    </a:lnTo>
                    <a:lnTo>
                      <a:pt x="1210" y="48"/>
                    </a:lnTo>
                    <a:lnTo>
                      <a:pt x="1207" y="38"/>
                    </a:lnTo>
                    <a:lnTo>
                      <a:pt x="1201" y="18"/>
                    </a:lnTo>
                    <a:lnTo>
                      <a:pt x="1195" y="5"/>
                    </a:lnTo>
                    <a:lnTo>
                      <a:pt x="1193" y="0"/>
                    </a:lnTo>
                    <a:lnTo>
                      <a:pt x="1155" y="6"/>
                    </a:lnTo>
                    <a:lnTo>
                      <a:pt x="1149" y="17"/>
                    </a:lnTo>
                    <a:lnTo>
                      <a:pt x="1134" y="39"/>
                    </a:lnTo>
                    <a:lnTo>
                      <a:pt x="1116" y="63"/>
                    </a:lnTo>
                    <a:lnTo>
                      <a:pt x="1109" y="73"/>
                    </a:lnTo>
                    <a:lnTo>
                      <a:pt x="1101" y="77"/>
                    </a:lnTo>
                    <a:lnTo>
                      <a:pt x="1091" y="79"/>
                    </a:lnTo>
                    <a:lnTo>
                      <a:pt x="1074" y="79"/>
                    </a:lnTo>
                    <a:lnTo>
                      <a:pt x="1026" y="80"/>
                    </a:lnTo>
                    <a:lnTo>
                      <a:pt x="981" y="80"/>
                    </a:lnTo>
                    <a:lnTo>
                      <a:pt x="954" y="80"/>
                    </a:lnTo>
                    <a:lnTo>
                      <a:pt x="945" y="79"/>
                    </a:lnTo>
                    <a:lnTo>
                      <a:pt x="931" y="74"/>
                    </a:lnTo>
                    <a:lnTo>
                      <a:pt x="916" y="66"/>
                    </a:lnTo>
                    <a:lnTo>
                      <a:pt x="907" y="60"/>
                    </a:lnTo>
                    <a:lnTo>
                      <a:pt x="898" y="53"/>
                    </a:lnTo>
                    <a:lnTo>
                      <a:pt x="889" y="47"/>
                    </a:lnTo>
                    <a:lnTo>
                      <a:pt x="878" y="42"/>
                    </a:lnTo>
                    <a:lnTo>
                      <a:pt x="869" y="39"/>
                    </a:lnTo>
                    <a:lnTo>
                      <a:pt x="860" y="38"/>
                    </a:lnTo>
                    <a:lnTo>
                      <a:pt x="845" y="39"/>
                    </a:lnTo>
                    <a:lnTo>
                      <a:pt x="841" y="39"/>
                    </a:lnTo>
                    <a:lnTo>
                      <a:pt x="841" y="79"/>
                    </a:lnTo>
                    <a:lnTo>
                      <a:pt x="813" y="70"/>
                    </a:lnTo>
                    <a:lnTo>
                      <a:pt x="780" y="60"/>
                    </a:lnTo>
                    <a:lnTo>
                      <a:pt x="774" y="60"/>
                    </a:lnTo>
                    <a:lnTo>
                      <a:pt x="764" y="65"/>
                    </a:lnTo>
                    <a:lnTo>
                      <a:pt x="738" y="80"/>
                    </a:lnTo>
                    <a:lnTo>
                      <a:pt x="712" y="97"/>
                    </a:lnTo>
                    <a:lnTo>
                      <a:pt x="699" y="106"/>
                    </a:lnTo>
                    <a:lnTo>
                      <a:pt x="670" y="136"/>
                    </a:lnTo>
                    <a:lnTo>
                      <a:pt x="654" y="154"/>
                    </a:lnTo>
                    <a:lnTo>
                      <a:pt x="649" y="161"/>
                    </a:lnTo>
                    <a:lnTo>
                      <a:pt x="648" y="164"/>
                    </a:lnTo>
                    <a:lnTo>
                      <a:pt x="648" y="166"/>
                    </a:lnTo>
                    <a:lnTo>
                      <a:pt x="648" y="167"/>
                    </a:lnTo>
                    <a:lnTo>
                      <a:pt x="646" y="170"/>
                    </a:lnTo>
                    <a:lnTo>
                      <a:pt x="642" y="180"/>
                    </a:lnTo>
                    <a:lnTo>
                      <a:pt x="624" y="202"/>
                    </a:lnTo>
                    <a:lnTo>
                      <a:pt x="596" y="234"/>
                    </a:lnTo>
                    <a:lnTo>
                      <a:pt x="559" y="279"/>
                    </a:lnTo>
                    <a:lnTo>
                      <a:pt x="536" y="297"/>
                    </a:lnTo>
                    <a:lnTo>
                      <a:pt x="518" y="309"/>
                    </a:lnTo>
                    <a:lnTo>
                      <a:pt x="511" y="314"/>
                    </a:lnTo>
                    <a:lnTo>
                      <a:pt x="503" y="315"/>
                    </a:lnTo>
                    <a:lnTo>
                      <a:pt x="467" y="314"/>
                    </a:lnTo>
                    <a:lnTo>
                      <a:pt x="422" y="312"/>
                    </a:lnTo>
                    <a:lnTo>
                      <a:pt x="413" y="312"/>
                    </a:lnTo>
                    <a:lnTo>
                      <a:pt x="404" y="315"/>
                    </a:lnTo>
                    <a:lnTo>
                      <a:pt x="396" y="320"/>
                    </a:lnTo>
                    <a:lnTo>
                      <a:pt x="388" y="324"/>
                    </a:lnTo>
                    <a:lnTo>
                      <a:pt x="375" y="333"/>
                    </a:lnTo>
                    <a:lnTo>
                      <a:pt x="370" y="335"/>
                    </a:lnTo>
                    <a:lnTo>
                      <a:pt x="366" y="335"/>
                    </a:lnTo>
                    <a:lnTo>
                      <a:pt x="361" y="332"/>
                    </a:lnTo>
                    <a:lnTo>
                      <a:pt x="355" y="326"/>
                    </a:lnTo>
                    <a:lnTo>
                      <a:pt x="337" y="308"/>
                    </a:lnTo>
                    <a:lnTo>
                      <a:pt x="319" y="291"/>
                    </a:lnTo>
                    <a:lnTo>
                      <a:pt x="313" y="285"/>
                    </a:lnTo>
                    <a:lnTo>
                      <a:pt x="309" y="283"/>
                    </a:lnTo>
                    <a:lnTo>
                      <a:pt x="303" y="285"/>
                    </a:lnTo>
                    <a:lnTo>
                      <a:pt x="295" y="288"/>
                    </a:lnTo>
                    <a:lnTo>
                      <a:pt x="272" y="297"/>
                    </a:lnTo>
                    <a:lnTo>
                      <a:pt x="248" y="306"/>
                    </a:lnTo>
                    <a:lnTo>
                      <a:pt x="239" y="309"/>
                    </a:lnTo>
                    <a:lnTo>
                      <a:pt x="232" y="308"/>
                    </a:lnTo>
                    <a:lnTo>
                      <a:pt x="215" y="300"/>
                    </a:lnTo>
                    <a:lnTo>
                      <a:pt x="193" y="288"/>
                    </a:lnTo>
                    <a:lnTo>
                      <a:pt x="164" y="271"/>
                    </a:lnTo>
                    <a:lnTo>
                      <a:pt x="156" y="286"/>
                    </a:lnTo>
                    <a:lnTo>
                      <a:pt x="150" y="296"/>
                    </a:lnTo>
                    <a:lnTo>
                      <a:pt x="147" y="299"/>
                    </a:lnTo>
                    <a:lnTo>
                      <a:pt x="144" y="300"/>
                    </a:lnTo>
                    <a:lnTo>
                      <a:pt x="132" y="303"/>
                    </a:lnTo>
                    <a:lnTo>
                      <a:pt x="111" y="309"/>
                    </a:lnTo>
                    <a:lnTo>
                      <a:pt x="84" y="315"/>
                    </a:lnTo>
                    <a:lnTo>
                      <a:pt x="69" y="318"/>
                    </a:lnTo>
                    <a:lnTo>
                      <a:pt x="52" y="318"/>
                    </a:lnTo>
                    <a:lnTo>
                      <a:pt x="46" y="318"/>
                    </a:lnTo>
                    <a:lnTo>
                      <a:pt x="40" y="321"/>
                    </a:lnTo>
                    <a:lnTo>
                      <a:pt x="27" y="327"/>
                    </a:lnTo>
                    <a:lnTo>
                      <a:pt x="13" y="338"/>
                    </a:lnTo>
                    <a:lnTo>
                      <a:pt x="0" y="350"/>
                    </a:lnTo>
                    <a:lnTo>
                      <a:pt x="7" y="413"/>
                    </a:lnTo>
                    <a:lnTo>
                      <a:pt x="18" y="404"/>
                    </a:lnTo>
                    <a:lnTo>
                      <a:pt x="25" y="449"/>
                    </a:lnTo>
                    <a:lnTo>
                      <a:pt x="75" y="519"/>
                    </a:lnTo>
                    <a:lnTo>
                      <a:pt x="117" y="588"/>
                    </a:lnTo>
                    <a:lnTo>
                      <a:pt x="144" y="653"/>
                    </a:lnTo>
                    <a:lnTo>
                      <a:pt x="174" y="638"/>
                    </a:lnTo>
                    <a:lnTo>
                      <a:pt x="229" y="606"/>
                    </a:lnTo>
                    <a:lnTo>
                      <a:pt x="278" y="583"/>
                    </a:lnTo>
                    <a:lnTo>
                      <a:pt x="328" y="561"/>
                    </a:lnTo>
                    <a:lnTo>
                      <a:pt x="321" y="523"/>
                    </a:lnTo>
                    <a:lnTo>
                      <a:pt x="301" y="496"/>
                    </a:lnTo>
                    <a:lnTo>
                      <a:pt x="297" y="461"/>
                    </a:lnTo>
                    <a:lnTo>
                      <a:pt x="254" y="466"/>
                    </a:lnTo>
                    <a:lnTo>
                      <a:pt x="212" y="419"/>
                    </a:lnTo>
                    <a:lnTo>
                      <a:pt x="212" y="392"/>
                    </a:lnTo>
                    <a:lnTo>
                      <a:pt x="226" y="403"/>
                    </a:lnTo>
                    <a:lnTo>
                      <a:pt x="239" y="413"/>
                    </a:lnTo>
                    <a:lnTo>
                      <a:pt x="259" y="425"/>
                    </a:lnTo>
                    <a:lnTo>
                      <a:pt x="281" y="437"/>
                    </a:lnTo>
                    <a:lnTo>
                      <a:pt x="307" y="449"/>
                    </a:lnTo>
                    <a:lnTo>
                      <a:pt x="334" y="458"/>
                    </a:lnTo>
                    <a:lnTo>
                      <a:pt x="348" y="463"/>
                    </a:lnTo>
                    <a:lnTo>
                      <a:pt x="361" y="466"/>
                    </a:lnTo>
                    <a:lnTo>
                      <a:pt x="450" y="488"/>
                    </a:lnTo>
                    <a:lnTo>
                      <a:pt x="453" y="534"/>
                    </a:lnTo>
                    <a:lnTo>
                      <a:pt x="515" y="531"/>
                    </a:lnTo>
                    <a:lnTo>
                      <a:pt x="500" y="588"/>
                    </a:lnTo>
                    <a:lnTo>
                      <a:pt x="572" y="710"/>
                    </a:lnTo>
                    <a:lnTo>
                      <a:pt x="575" y="713"/>
                    </a:lnTo>
                    <a:lnTo>
                      <a:pt x="580" y="714"/>
                    </a:lnTo>
                    <a:lnTo>
                      <a:pt x="584" y="714"/>
                    </a:lnTo>
                    <a:lnTo>
                      <a:pt x="589" y="714"/>
                    </a:lnTo>
                    <a:lnTo>
                      <a:pt x="595" y="711"/>
                    </a:lnTo>
                    <a:lnTo>
                      <a:pt x="601" y="705"/>
                    </a:lnTo>
                    <a:lnTo>
                      <a:pt x="607" y="695"/>
                    </a:lnTo>
                    <a:lnTo>
                      <a:pt x="614" y="678"/>
                    </a:lnTo>
                    <a:lnTo>
                      <a:pt x="627" y="656"/>
                    </a:lnTo>
                    <a:lnTo>
                      <a:pt x="642" y="632"/>
                    </a:lnTo>
                    <a:lnTo>
                      <a:pt x="651" y="618"/>
                    </a:lnTo>
                    <a:lnTo>
                      <a:pt x="661" y="604"/>
                    </a:lnTo>
                    <a:lnTo>
                      <a:pt x="672" y="592"/>
                    </a:lnTo>
                    <a:lnTo>
                      <a:pt x="685" y="580"/>
                    </a:lnTo>
                    <a:lnTo>
                      <a:pt x="699" y="568"/>
                    </a:lnTo>
                    <a:lnTo>
                      <a:pt x="714" y="559"/>
                    </a:lnTo>
                    <a:lnTo>
                      <a:pt x="731" y="550"/>
                    </a:lnTo>
                    <a:lnTo>
                      <a:pt x="747" y="544"/>
                    </a:lnTo>
                    <a:lnTo>
                      <a:pt x="767" y="540"/>
                    </a:lnTo>
                    <a:lnTo>
                      <a:pt x="786" y="538"/>
                    </a:lnTo>
                    <a:lnTo>
                      <a:pt x="798" y="574"/>
                    </a:lnTo>
                    <a:lnTo>
                      <a:pt x="806" y="604"/>
                    </a:lnTo>
                    <a:lnTo>
                      <a:pt x="809" y="618"/>
                    </a:lnTo>
                    <a:lnTo>
                      <a:pt x="809" y="630"/>
                    </a:lnTo>
                    <a:lnTo>
                      <a:pt x="813" y="632"/>
                    </a:lnTo>
                    <a:lnTo>
                      <a:pt x="818" y="633"/>
                    </a:lnTo>
                    <a:lnTo>
                      <a:pt x="822" y="635"/>
                    </a:lnTo>
                    <a:lnTo>
                      <a:pt x="828" y="633"/>
                    </a:lnTo>
                    <a:lnTo>
                      <a:pt x="836" y="632"/>
                    </a:lnTo>
                    <a:lnTo>
                      <a:pt x="842" y="626"/>
                    </a:lnTo>
                    <a:lnTo>
                      <a:pt x="848" y="618"/>
                    </a:lnTo>
                    <a:lnTo>
                      <a:pt x="848" y="638"/>
                    </a:lnTo>
                    <a:lnTo>
                      <a:pt x="850" y="659"/>
                    </a:lnTo>
                    <a:lnTo>
                      <a:pt x="851" y="683"/>
                    </a:lnTo>
                    <a:lnTo>
                      <a:pt x="856" y="707"/>
                    </a:lnTo>
                    <a:lnTo>
                      <a:pt x="860" y="731"/>
                    </a:lnTo>
                    <a:lnTo>
                      <a:pt x="865" y="742"/>
                    </a:lnTo>
                    <a:lnTo>
                      <a:pt x="868" y="751"/>
                    </a:lnTo>
                    <a:lnTo>
                      <a:pt x="874" y="758"/>
                    </a:lnTo>
                    <a:lnTo>
                      <a:pt x="878" y="763"/>
                    </a:lnTo>
                    <a:lnTo>
                      <a:pt x="890" y="773"/>
                    </a:lnTo>
                    <a:lnTo>
                      <a:pt x="904" y="785"/>
                    </a:lnTo>
                    <a:lnTo>
                      <a:pt x="931" y="811"/>
                    </a:lnTo>
                    <a:lnTo>
                      <a:pt x="945" y="820"/>
                    </a:lnTo>
                    <a:lnTo>
                      <a:pt x="955" y="827"/>
                    </a:lnTo>
                    <a:lnTo>
                      <a:pt x="960" y="830"/>
                    </a:lnTo>
                    <a:lnTo>
                      <a:pt x="964" y="830"/>
                    </a:lnTo>
                    <a:lnTo>
                      <a:pt x="967" y="830"/>
                    </a:lnTo>
                    <a:lnTo>
                      <a:pt x="970" y="829"/>
                    </a:lnTo>
                    <a:lnTo>
                      <a:pt x="975" y="823"/>
                    </a:lnTo>
                    <a:lnTo>
                      <a:pt x="976" y="817"/>
                    </a:lnTo>
                    <a:lnTo>
                      <a:pt x="978" y="809"/>
                    </a:lnTo>
                    <a:lnTo>
                      <a:pt x="978" y="803"/>
                    </a:lnTo>
                    <a:lnTo>
                      <a:pt x="978" y="797"/>
                    </a:lnTo>
                    <a:lnTo>
                      <a:pt x="975" y="791"/>
                    </a:lnTo>
                    <a:lnTo>
                      <a:pt x="972" y="785"/>
                    </a:lnTo>
                    <a:lnTo>
                      <a:pt x="967" y="779"/>
                    </a:lnTo>
                    <a:lnTo>
                      <a:pt x="961" y="772"/>
                    </a:lnTo>
                    <a:lnTo>
                      <a:pt x="955" y="764"/>
                    </a:lnTo>
                    <a:lnTo>
                      <a:pt x="941" y="743"/>
                    </a:lnTo>
                    <a:lnTo>
                      <a:pt x="920" y="705"/>
                    </a:lnTo>
                    <a:lnTo>
                      <a:pt x="917" y="698"/>
                    </a:lnTo>
                    <a:lnTo>
                      <a:pt x="914" y="689"/>
                    </a:lnTo>
                    <a:lnTo>
                      <a:pt x="910" y="671"/>
                    </a:lnTo>
                    <a:lnTo>
                      <a:pt x="910" y="656"/>
                    </a:lnTo>
                    <a:lnTo>
                      <a:pt x="908" y="648"/>
                    </a:lnTo>
                    <a:lnTo>
                      <a:pt x="940" y="687"/>
                    </a:lnTo>
                    <a:lnTo>
                      <a:pt x="941" y="692"/>
                    </a:lnTo>
                    <a:lnTo>
                      <a:pt x="943" y="698"/>
                    </a:lnTo>
                    <a:lnTo>
                      <a:pt x="948" y="702"/>
                    </a:lnTo>
                    <a:lnTo>
                      <a:pt x="952" y="707"/>
                    </a:lnTo>
                    <a:lnTo>
                      <a:pt x="957" y="707"/>
                    </a:lnTo>
                    <a:lnTo>
                      <a:pt x="961" y="708"/>
                    </a:lnTo>
                    <a:lnTo>
                      <a:pt x="966" y="707"/>
                    </a:lnTo>
                    <a:lnTo>
                      <a:pt x="972" y="705"/>
                    </a:lnTo>
                    <a:lnTo>
                      <a:pt x="985" y="698"/>
                    </a:lnTo>
                    <a:lnTo>
                      <a:pt x="993" y="693"/>
                    </a:lnTo>
                    <a:lnTo>
                      <a:pt x="999" y="687"/>
                    </a:lnTo>
                    <a:lnTo>
                      <a:pt x="1003" y="681"/>
                    </a:lnTo>
                    <a:lnTo>
                      <a:pt x="1008" y="674"/>
                    </a:lnTo>
                    <a:lnTo>
                      <a:pt x="1014" y="660"/>
                    </a:lnTo>
                    <a:lnTo>
                      <a:pt x="1017" y="647"/>
                    </a:lnTo>
                    <a:lnTo>
                      <a:pt x="1017" y="633"/>
                    </a:lnTo>
                    <a:lnTo>
                      <a:pt x="1017" y="624"/>
                    </a:lnTo>
                    <a:lnTo>
                      <a:pt x="1017" y="615"/>
                    </a:lnTo>
                    <a:lnTo>
                      <a:pt x="975" y="588"/>
                    </a:lnTo>
                    <a:lnTo>
                      <a:pt x="975" y="541"/>
                    </a:lnTo>
                    <a:lnTo>
                      <a:pt x="1020" y="526"/>
                    </a:lnTo>
                    <a:lnTo>
                      <a:pt x="1017" y="565"/>
                    </a:lnTo>
                    <a:lnTo>
                      <a:pt x="1018" y="568"/>
                    </a:lnTo>
                    <a:lnTo>
                      <a:pt x="1023" y="577"/>
                    </a:lnTo>
                    <a:lnTo>
                      <a:pt x="1027" y="580"/>
                    </a:lnTo>
                    <a:lnTo>
                      <a:pt x="1030" y="583"/>
                    </a:lnTo>
                    <a:lnTo>
                      <a:pt x="1035" y="585"/>
                    </a:lnTo>
                    <a:lnTo>
                      <a:pt x="1039" y="583"/>
                    </a:lnTo>
                    <a:lnTo>
                      <a:pt x="1047" y="577"/>
                    </a:lnTo>
                    <a:lnTo>
                      <a:pt x="1051" y="570"/>
                    </a:lnTo>
                    <a:lnTo>
                      <a:pt x="1055" y="561"/>
                    </a:lnTo>
                    <a:lnTo>
                      <a:pt x="1055" y="534"/>
                    </a:lnTo>
                    <a:lnTo>
                      <a:pt x="1074" y="520"/>
                    </a:lnTo>
                    <a:lnTo>
                      <a:pt x="1095" y="505"/>
                    </a:lnTo>
                    <a:lnTo>
                      <a:pt x="1119" y="487"/>
                    </a:lnTo>
                    <a:lnTo>
                      <a:pt x="1145" y="467"/>
                    </a:lnTo>
                    <a:lnTo>
                      <a:pt x="1166" y="446"/>
                    </a:lnTo>
                    <a:lnTo>
                      <a:pt x="1175" y="437"/>
                    </a:lnTo>
                    <a:lnTo>
                      <a:pt x="1181" y="428"/>
                    </a:lnTo>
                    <a:lnTo>
                      <a:pt x="1186" y="419"/>
                    </a:lnTo>
                    <a:lnTo>
                      <a:pt x="1189" y="412"/>
                    </a:lnTo>
                    <a:lnTo>
                      <a:pt x="1192" y="389"/>
                    </a:lnTo>
                    <a:lnTo>
                      <a:pt x="1195" y="375"/>
                    </a:lnTo>
                    <a:lnTo>
                      <a:pt x="1195" y="366"/>
                    </a:lnTo>
                    <a:lnTo>
                      <a:pt x="1195" y="362"/>
                    </a:lnTo>
                    <a:lnTo>
                      <a:pt x="1192" y="357"/>
                    </a:lnTo>
                    <a:lnTo>
                      <a:pt x="1186" y="345"/>
                    </a:lnTo>
                    <a:lnTo>
                      <a:pt x="1180" y="329"/>
                    </a:lnTo>
                    <a:lnTo>
                      <a:pt x="1174" y="308"/>
                    </a:lnTo>
                    <a:lnTo>
                      <a:pt x="1189" y="262"/>
                    </a:lnTo>
                    <a:lnTo>
                      <a:pt x="1149" y="258"/>
                    </a:lnTo>
                    <a:lnTo>
                      <a:pt x="1149" y="235"/>
                    </a:lnTo>
                    <a:lnTo>
                      <a:pt x="1189" y="220"/>
                    </a:lnTo>
                    <a:lnTo>
                      <a:pt x="1226" y="220"/>
                    </a:lnTo>
                    <a:lnTo>
                      <a:pt x="1246" y="255"/>
                    </a:lnTo>
                    <a:lnTo>
                      <a:pt x="1243" y="312"/>
                    </a:lnTo>
                    <a:lnTo>
                      <a:pt x="1291" y="290"/>
                    </a:lnTo>
                    <a:lnTo>
                      <a:pt x="1291" y="255"/>
                    </a:lnTo>
                    <a:lnTo>
                      <a:pt x="1278" y="253"/>
                    </a:lnTo>
                    <a:lnTo>
                      <a:pt x="1265" y="249"/>
                    </a:lnTo>
                    <a:lnTo>
                      <a:pt x="1261" y="246"/>
                    </a:lnTo>
                    <a:lnTo>
                      <a:pt x="1256" y="243"/>
                    </a:lnTo>
                    <a:lnTo>
                      <a:pt x="1253" y="238"/>
                    </a:lnTo>
                    <a:lnTo>
                      <a:pt x="1252" y="234"/>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949" name=""/>
            <p:cNvGrpSpPr/>
            <p:nvPr/>
          </p:nvGrpSpPr>
          <p:grpSpPr>
            <a:xfrm>
              <a:off x="5024160" y="2908440"/>
              <a:ext cx="2408400" cy="1682640"/>
              <a:chOff x="5024160" y="2908440"/>
              <a:chExt cx="2408400" cy="1682640"/>
            </a:xfrm>
          </p:grpSpPr>
          <p:sp>
            <p:nvSpPr>
              <p:cNvPr id="950" name="Freeform 125"/>
              <p:cNvSpPr/>
              <p:nvPr/>
            </p:nvSpPr>
            <p:spPr>
              <a:xfrm>
                <a:off x="7353000" y="2908440"/>
                <a:ext cx="68400" cy="254160"/>
              </a:xfrm>
              <a:custGeom>
                <a:avLst/>
                <a:gdLst>
                  <a:gd name="textAreaLeft" fmla="*/ 0 w 68400"/>
                  <a:gd name="textAreaRight" fmla="*/ 68760 w 68400"/>
                  <a:gd name="textAreaTop" fmla="*/ 0 h 254160"/>
                  <a:gd name="textAreaBottom" fmla="*/ 254520 h 254160"/>
                </a:gdLst>
                <a:ahLst/>
                <a:rect l="textAreaLeft" t="textAreaTop" r="textAreaRight" b="textAreaBottom"/>
                <a:pathLst>
                  <a:path w="43" h="160">
                    <a:moveTo>
                      <a:pt x="5" y="160"/>
                    </a:moveTo>
                    <a:lnTo>
                      <a:pt x="35" y="145"/>
                    </a:lnTo>
                    <a:lnTo>
                      <a:pt x="35" y="107"/>
                    </a:lnTo>
                    <a:lnTo>
                      <a:pt x="43" y="65"/>
                    </a:lnTo>
                    <a:lnTo>
                      <a:pt x="35" y="11"/>
                    </a:lnTo>
                    <a:lnTo>
                      <a:pt x="23" y="0"/>
                    </a:lnTo>
                    <a:lnTo>
                      <a:pt x="8" y="26"/>
                    </a:lnTo>
                    <a:lnTo>
                      <a:pt x="8" y="88"/>
                    </a:lnTo>
                    <a:lnTo>
                      <a:pt x="0" y="137"/>
                    </a:lnTo>
                    <a:lnTo>
                      <a:pt x="5" y="160"/>
                    </a:lnTo>
                    <a:close/>
                  </a:path>
                </a:pathLst>
              </a:custGeom>
              <a:solidFill>
                <a:srgbClr val="66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51" name="Freeform 126"/>
              <p:cNvSpPr/>
              <p:nvPr/>
            </p:nvSpPr>
            <p:spPr>
              <a:xfrm>
                <a:off x="7305480" y="3218040"/>
                <a:ext cx="127080" cy="77760"/>
              </a:xfrm>
              <a:custGeom>
                <a:avLst/>
                <a:gdLst>
                  <a:gd name="textAreaLeft" fmla="*/ 0 w 127080"/>
                  <a:gd name="textAreaRight" fmla="*/ 127440 w 127080"/>
                  <a:gd name="textAreaTop" fmla="*/ 0 h 77760"/>
                  <a:gd name="textAreaBottom" fmla="*/ 78120 h 77760"/>
                </a:gdLst>
                <a:ahLst/>
                <a:rect l="textAreaLeft" t="textAreaTop" r="textAreaRight" b="textAreaBottom"/>
                <a:pathLst>
                  <a:path w="80" h="49">
                    <a:moveTo>
                      <a:pt x="27" y="46"/>
                    </a:moveTo>
                    <a:lnTo>
                      <a:pt x="0" y="49"/>
                    </a:lnTo>
                    <a:lnTo>
                      <a:pt x="18" y="7"/>
                    </a:lnTo>
                    <a:lnTo>
                      <a:pt x="50" y="0"/>
                    </a:lnTo>
                    <a:lnTo>
                      <a:pt x="80" y="30"/>
                    </a:lnTo>
                    <a:lnTo>
                      <a:pt x="61" y="49"/>
                    </a:lnTo>
                    <a:lnTo>
                      <a:pt x="27" y="46"/>
                    </a:lnTo>
                    <a:close/>
                  </a:path>
                </a:pathLst>
              </a:custGeom>
              <a:solidFill>
                <a:srgbClr val="66ccff"/>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Gulim"/>
                </a:endParaRPr>
              </a:p>
            </p:txBody>
          </p:sp>
          <p:sp>
            <p:nvSpPr>
              <p:cNvPr id="952" name="Freeform 127"/>
              <p:cNvSpPr/>
              <p:nvPr/>
            </p:nvSpPr>
            <p:spPr>
              <a:xfrm>
                <a:off x="7105320" y="3327480"/>
                <a:ext cx="255600" cy="230400"/>
              </a:xfrm>
              <a:custGeom>
                <a:avLst/>
                <a:gdLst>
                  <a:gd name="textAreaLeft" fmla="*/ 0 w 255600"/>
                  <a:gd name="textAreaRight" fmla="*/ 255600 w 255600"/>
                  <a:gd name="textAreaTop" fmla="*/ 0 h 230400"/>
                  <a:gd name="textAreaBottom" fmla="*/ 230760 h 230400"/>
                </a:gdLst>
                <a:ahLst/>
                <a:rect l="textAreaLeft" t="textAreaTop" r="textAreaRight" b="textAreaBottom"/>
                <a:pathLst>
                  <a:path w="161" h="145">
                    <a:moveTo>
                      <a:pt x="134" y="8"/>
                    </a:moveTo>
                    <a:lnTo>
                      <a:pt x="114" y="27"/>
                    </a:lnTo>
                    <a:lnTo>
                      <a:pt x="99" y="45"/>
                    </a:lnTo>
                    <a:lnTo>
                      <a:pt x="87" y="50"/>
                    </a:lnTo>
                    <a:lnTo>
                      <a:pt x="72" y="60"/>
                    </a:lnTo>
                    <a:lnTo>
                      <a:pt x="69" y="87"/>
                    </a:lnTo>
                    <a:lnTo>
                      <a:pt x="22" y="87"/>
                    </a:lnTo>
                    <a:lnTo>
                      <a:pt x="0" y="110"/>
                    </a:lnTo>
                    <a:lnTo>
                      <a:pt x="22" y="134"/>
                    </a:lnTo>
                    <a:lnTo>
                      <a:pt x="61" y="142"/>
                    </a:lnTo>
                    <a:lnTo>
                      <a:pt x="84" y="145"/>
                    </a:lnTo>
                    <a:lnTo>
                      <a:pt x="114" y="130"/>
                    </a:lnTo>
                    <a:lnTo>
                      <a:pt x="129" y="77"/>
                    </a:lnTo>
                    <a:lnTo>
                      <a:pt x="149" y="50"/>
                    </a:lnTo>
                    <a:lnTo>
                      <a:pt x="161" y="23"/>
                    </a:lnTo>
                    <a:lnTo>
                      <a:pt x="161" y="0"/>
                    </a:lnTo>
                    <a:lnTo>
                      <a:pt x="134" y="8"/>
                    </a:lnTo>
                    <a:close/>
                  </a:path>
                </a:pathLst>
              </a:custGeom>
              <a:solidFill>
                <a:srgbClr val="66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53" name="Freeform 128"/>
              <p:cNvSpPr/>
              <p:nvPr/>
            </p:nvSpPr>
            <p:spPr>
              <a:xfrm>
                <a:off x="7068960" y="3557880"/>
                <a:ext cx="71280" cy="48960"/>
              </a:xfrm>
              <a:custGeom>
                <a:avLst/>
                <a:gdLst>
                  <a:gd name="textAreaLeft" fmla="*/ 0 w 71280"/>
                  <a:gd name="textAreaRight" fmla="*/ 71640 w 71280"/>
                  <a:gd name="textAreaTop" fmla="*/ 0 h 48960"/>
                  <a:gd name="textAreaBottom" fmla="*/ 49320 h 48960"/>
                </a:gdLst>
                <a:ahLst/>
                <a:rect l="textAreaLeft" t="textAreaTop" r="textAreaRight" b="textAreaBottom"/>
                <a:pathLst>
                  <a:path w="45" h="31">
                    <a:moveTo>
                      <a:pt x="18" y="27"/>
                    </a:moveTo>
                    <a:lnTo>
                      <a:pt x="0" y="7"/>
                    </a:lnTo>
                    <a:lnTo>
                      <a:pt x="27" y="0"/>
                    </a:lnTo>
                    <a:lnTo>
                      <a:pt x="45" y="12"/>
                    </a:lnTo>
                    <a:lnTo>
                      <a:pt x="38" y="31"/>
                    </a:lnTo>
                    <a:lnTo>
                      <a:pt x="18" y="27"/>
                    </a:lnTo>
                    <a:close/>
                  </a:path>
                </a:pathLst>
              </a:custGeom>
              <a:solidFill>
                <a:srgbClr val="66cc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Gulim"/>
                </a:endParaRPr>
              </a:p>
            </p:txBody>
          </p:sp>
          <p:sp>
            <p:nvSpPr>
              <p:cNvPr id="954" name="Freeform 129"/>
              <p:cNvSpPr/>
              <p:nvPr/>
            </p:nvSpPr>
            <p:spPr>
              <a:xfrm>
                <a:off x="6860880" y="3765600"/>
                <a:ext cx="104760" cy="79560"/>
              </a:xfrm>
              <a:custGeom>
                <a:avLst/>
                <a:gdLst>
                  <a:gd name="textAreaLeft" fmla="*/ 0 w 104760"/>
                  <a:gd name="textAreaRight" fmla="*/ 105120 w 104760"/>
                  <a:gd name="textAreaTop" fmla="*/ 0 h 79560"/>
                  <a:gd name="textAreaBottom" fmla="*/ 79920 h 79560"/>
                </a:gdLst>
                <a:ahLst/>
                <a:rect l="textAreaLeft" t="textAreaTop" r="textAreaRight" b="textAreaBottom"/>
                <a:pathLst>
                  <a:path w="66" h="50">
                    <a:moveTo>
                      <a:pt x="24" y="50"/>
                    </a:moveTo>
                    <a:lnTo>
                      <a:pt x="47" y="37"/>
                    </a:lnTo>
                    <a:lnTo>
                      <a:pt x="66" y="7"/>
                    </a:lnTo>
                    <a:lnTo>
                      <a:pt x="39" y="0"/>
                    </a:lnTo>
                    <a:lnTo>
                      <a:pt x="0" y="30"/>
                    </a:lnTo>
                    <a:lnTo>
                      <a:pt x="24" y="50"/>
                    </a:lnTo>
                    <a:close/>
                  </a:path>
                </a:pathLst>
              </a:custGeom>
              <a:solidFill>
                <a:srgbClr val="66ccff"/>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Gulim"/>
                </a:endParaRPr>
              </a:p>
            </p:txBody>
          </p:sp>
          <p:sp>
            <p:nvSpPr>
              <p:cNvPr id="955" name="Freeform 130"/>
              <p:cNvSpPr/>
              <p:nvPr/>
            </p:nvSpPr>
            <p:spPr>
              <a:xfrm>
                <a:off x="6649920" y="4208760"/>
                <a:ext cx="217440" cy="241200"/>
              </a:xfrm>
              <a:custGeom>
                <a:avLst/>
                <a:gdLst>
                  <a:gd name="textAreaLeft" fmla="*/ 0 w 217440"/>
                  <a:gd name="textAreaRight" fmla="*/ 217800 w 217440"/>
                  <a:gd name="textAreaTop" fmla="*/ 0 h 241200"/>
                  <a:gd name="textAreaBottom" fmla="*/ 241560 h 241200"/>
                </a:gdLst>
                <a:ahLst/>
                <a:rect l="textAreaLeft" t="textAreaTop" r="textAreaRight" b="textAreaBottom"/>
                <a:pathLst>
                  <a:path w="137" h="152">
                    <a:moveTo>
                      <a:pt x="118" y="0"/>
                    </a:moveTo>
                    <a:lnTo>
                      <a:pt x="80" y="10"/>
                    </a:lnTo>
                    <a:lnTo>
                      <a:pt x="43" y="30"/>
                    </a:lnTo>
                    <a:lnTo>
                      <a:pt x="18" y="60"/>
                    </a:lnTo>
                    <a:lnTo>
                      <a:pt x="15" y="61"/>
                    </a:lnTo>
                    <a:lnTo>
                      <a:pt x="9" y="66"/>
                    </a:lnTo>
                    <a:lnTo>
                      <a:pt x="3" y="72"/>
                    </a:lnTo>
                    <a:lnTo>
                      <a:pt x="0" y="75"/>
                    </a:lnTo>
                    <a:lnTo>
                      <a:pt x="0" y="79"/>
                    </a:lnTo>
                    <a:lnTo>
                      <a:pt x="0" y="85"/>
                    </a:lnTo>
                    <a:lnTo>
                      <a:pt x="3" y="95"/>
                    </a:lnTo>
                    <a:lnTo>
                      <a:pt x="11" y="114"/>
                    </a:lnTo>
                    <a:lnTo>
                      <a:pt x="23" y="141"/>
                    </a:lnTo>
                    <a:lnTo>
                      <a:pt x="61" y="152"/>
                    </a:lnTo>
                    <a:lnTo>
                      <a:pt x="103" y="107"/>
                    </a:lnTo>
                    <a:lnTo>
                      <a:pt x="110" y="104"/>
                    </a:lnTo>
                    <a:lnTo>
                      <a:pt x="116" y="99"/>
                    </a:lnTo>
                    <a:lnTo>
                      <a:pt x="124" y="95"/>
                    </a:lnTo>
                    <a:lnTo>
                      <a:pt x="130" y="88"/>
                    </a:lnTo>
                    <a:lnTo>
                      <a:pt x="136" y="81"/>
                    </a:lnTo>
                    <a:lnTo>
                      <a:pt x="136" y="76"/>
                    </a:lnTo>
                    <a:lnTo>
                      <a:pt x="137" y="73"/>
                    </a:lnTo>
                    <a:lnTo>
                      <a:pt x="136" y="69"/>
                    </a:lnTo>
                    <a:lnTo>
                      <a:pt x="133" y="64"/>
                    </a:lnTo>
                    <a:lnTo>
                      <a:pt x="128" y="55"/>
                    </a:lnTo>
                    <a:lnTo>
                      <a:pt x="125" y="45"/>
                    </a:lnTo>
                    <a:lnTo>
                      <a:pt x="122" y="34"/>
                    </a:lnTo>
                    <a:lnTo>
                      <a:pt x="121" y="24"/>
                    </a:lnTo>
                    <a:lnTo>
                      <a:pt x="118" y="6"/>
                    </a:lnTo>
                    <a:lnTo>
                      <a:pt x="118" y="0"/>
                    </a:lnTo>
                    <a:close/>
                  </a:path>
                </a:pathLst>
              </a:custGeom>
              <a:solidFill>
                <a:srgbClr val="66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56" name="Freeform 131"/>
              <p:cNvSpPr/>
              <p:nvPr/>
            </p:nvSpPr>
            <p:spPr>
              <a:xfrm>
                <a:off x="6364080" y="4280040"/>
                <a:ext cx="207720" cy="200160"/>
              </a:xfrm>
              <a:custGeom>
                <a:avLst/>
                <a:gdLst>
                  <a:gd name="textAreaLeft" fmla="*/ 0 w 207720"/>
                  <a:gd name="textAreaRight" fmla="*/ 208080 w 207720"/>
                  <a:gd name="textAreaTop" fmla="*/ 0 h 200160"/>
                  <a:gd name="textAreaBottom" fmla="*/ 200520 h 200160"/>
                </a:gdLst>
                <a:ahLst/>
                <a:rect l="textAreaLeft" t="textAreaTop" r="textAreaRight" b="textAreaBottom"/>
                <a:pathLst>
                  <a:path w="131" h="126">
                    <a:moveTo>
                      <a:pt x="84" y="119"/>
                    </a:moveTo>
                    <a:lnTo>
                      <a:pt x="69" y="89"/>
                    </a:lnTo>
                    <a:lnTo>
                      <a:pt x="42" y="50"/>
                    </a:lnTo>
                    <a:lnTo>
                      <a:pt x="0" y="7"/>
                    </a:lnTo>
                    <a:lnTo>
                      <a:pt x="31" y="0"/>
                    </a:lnTo>
                    <a:lnTo>
                      <a:pt x="73" y="19"/>
                    </a:lnTo>
                    <a:lnTo>
                      <a:pt x="99" y="74"/>
                    </a:lnTo>
                    <a:lnTo>
                      <a:pt x="107" y="81"/>
                    </a:lnTo>
                    <a:lnTo>
                      <a:pt x="122" y="99"/>
                    </a:lnTo>
                    <a:lnTo>
                      <a:pt x="128" y="110"/>
                    </a:lnTo>
                    <a:lnTo>
                      <a:pt x="131" y="117"/>
                    </a:lnTo>
                    <a:lnTo>
                      <a:pt x="131" y="122"/>
                    </a:lnTo>
                    <a:lnTo>
                      <a:pt x="129" y="125"/>
                    </a:lnTo>
                    <a:lnTo>
                      <a:pt x="126" y="126"/>
                    </a:lnTo>
                    <a:lnTo>
                      <a:pt x="123" y="126"/>
                    </a:lnTo>
                    <a:lnTo>
                      <a:pt x="105" y="125"/>
                    </a:lnTo>
                    <a:lnTo>
                      <a:pt x="93" y="123"/>
                    </a:lnTo>
                    <a:lnTo>
                      <a:pt x="87" y="120"/>
                    </a:lnTo>
                    <a:lnTo>
                      <a:pt x="84" y="119"/>
                    </a:lnTo>
                    <a:close/>
                  </a:path>
                </a:pathLst>
              </a:custGeom>
              <a:solidFill>
                <a:srgbClr val="66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57" name="Freeform 132"/>
              <p:cNvSpPr/>
              <p:nvPr/>
            </p:nvSpPr>
            <p:spPr>
              <a:xfrm>
                <a:off x="6606720" y="4499280"/>
                <a:ext cx="158760" cy="91800"/>
              </a:xfrm>
              <a:custGeom>
                <a:avLst/>
                <a:gdLst>
                  <a:gd name="textAreaLeft" fmla="*/ 0 w 158760"/>
                  <a:gd name="textAreaRight" fmla="*/ 159120 w 158760"/>
                  <a:gd name="textAreaTop" fmla="*/ 0 h 91800"/>
                  <a:gd name="textAreaBottom" fmla="*/ 92160 h 91800"/>
                </a:gdLst>
                <a:ahLst/>
                <a:rect l="textAreaLeft" t="textAreaTop" r="textAreaRight" b="textAreaBottom"/>
                <a:pathLst>
                  <a:path w="100" h="58">
                    <a:moveTo>
                      <a:pt x="0" y="43"/>
                    </a:moveTo>
                    <a:lnTo>
                      <a:pt x="0" y="0"/>
                    </a:lnTo>
                    <a:lnTo>
                      <a:pt x="38" y="15"/>
                    </a:lnTo>
                    <a:lnTo>
                      <a:pt x="100" y="35"/>
                    </a:lnTo>
                    <a:lnTo>
                      <a:pt x="73" y="53"/>
                    </a:lnTo>
                    <a:lnTo>
                      <a:pt x="27" y="58"/>
                    </a:lnTo>
                    <a:lnTo>
                      <a:pt x="0" y="43"/>
                    </a:lnTo>
                    <a:close/>
                  </a:path>
                </a:pathLst>
              </a:custGeom>
              <a:solidFill>
                <a:srgbClr val="66cc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ulim"/>
                </a:endParaRPr>
              </a:p>
            </p:txBody>
          </p:sp>
          <p:sp>
            <p:nvSpPr>
              <p:cNvPr id="958" name="Freeform 133"/>
              <p:cNvSpPr/>
              <p:nvPr/>
            </p:nvSpPr>
            <p:spPr>
              <a:xfrm>
                <a:off x="6824520" y="4318200"/>
                <a:ext cx="141120" cy="174600"/>
              </a:xfrm>
              <a:custGeom>
                <a:avLst/>
                <a:gdLst>
                  <a:gd name="textAreaLeft" fmla="*/ 0 w 141120"/>
                  <a:gd name="textAreaRight" fmla="*/ 141480 w 141120"/>
                  <a:gd name="textAreaTop" fmla="*/ 0 h 174600"/>
                  <a:gd name="textAreaBottom" fmla="*/ 174960 h 174600"/>
                </a:gdLst>
                <a:ahLst/>
                <a:rect l="textAreaLeft" t="textAreaTop" r="textAreaRight" b="textAreaBottom"/>
                <a:pathLst>
                  <a:path w="89" h="110">
                    <a:moveTo>
                      <a:pt x="65" y="110"/>
                    </a:moveTo>
                    <a:lnTo>
                      <a:pt x="23" y="90"/>
                    </a:lnTo>
                    <a:lnTo>
                      <a:pt x="0" y="83"/>
                    </a:lnTo>
                    <a:lnTo>
                      <a:pt x="23" y="45"/>
                    </a:lnTo>
                    <a:lnTo>
                      <a:pt x="65" y="0"/>
                    </a:lnTo>
                    <a:lnTo>
                      <a:pt x="89" y="41"/>
                    </a:lnTo>
                    <a:lnTo>
                      <a:pt x="77" y="57"/>
                    </a:lnTo>
                    <a:lnTo>
                      <a:pt x="65" y="110"/>
                    </a:lnTo>
                    <a:close/>
                  </a:path>
                </a:pathLst>
              </a:custGeom>
              <a:solidFill>
                <a:srgbClr val="66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59" name="Freeform 134"/>
              <p:cNvSpPr/>
              <p:nvPr/>
            </p:nvSpPr>
            <p:spPr>
              <a:xfrm>
                <a:off x="5024160" y="3025800"/>
                <a:ext cx="2049480" cy="1317600"/>
              </a:xfrm>
              <a:custGeom>
                <a:avLst/>
                <a:gdLst>
                  <a:gd name="textAreaLeft" fmla="*/ 0 w 2049480"/>
                  <a:gd name="textAreaRight" fmla="*/ 2049840 w 2049480"/>
                  <a:gd name="textAreaTop" fmla="*/ 0 h 1317600"/>
                  <a:gd name="textAreaBottom" fmla="*/ 1317960 h 1317600"/>
                </a:gdLst>
                <a:ahLst/>
                <a:rect l="textAreaLeft" t="textAreaTop" r="textAreaRight" b="textAreaBottom"/>
                <a:pathLst>
                  <a:path w="1291" h="830">
                    <a:moveTo>
                      <a:pt x="1252" y="234"/>
                    </a:moveTo>
                    <a:lnTo>
                      <a:pt x="1252" y="234"/>
                    </a:lnTo>
                    <a:lnTo>
                      <a:pt x="1253" y="223"/>
                    </a:lnTo>
                    <a:lnTo>
                      <a:pt x="1256" y="208"/>
                    </a:lnTo>
                    <a:lnTo>
                      <a:pt x="1268" y="173"/>
                    </a:lnTo>
                    <a:lnTo>
                      <a:pt x="1282" y="142"/>
                    </a:lnTo>
                    <a:lnTo>
                      <a:pt x="1287" y="130"/>
                    </a:lnTo>
                    <a:lnTo>
                      <a:pt x="1271" y="139"/>
                    </a:lnTo>
                    <a:lnTo>
                      <a:pt x="1261" y="143"/>
                    </a:lnTo>
                    <a:lnTo>
                      <a:pt x="1258" y="145"/>
                    </a:lnTo>
                    <a:lnTo>
                      <a:pt x="1258" y="143"/>
                    </a:lnTo>
                    <a:lnTo>
                      <a:pt x="1256" y="133"/>
                    </a:lnTo>
                    <a:lnTo>
                      <a:pt x="1255" y="118"/>
                    </a:lnTo>
                    <a:lnTo>
                      <a:pt x="1252" y="98"/>
                    </a:lnTo>
                    <a:lnTo>
                      <a:pt x="1246" y="97"/>
                    </a:lnTo>
                    <a:lnTo>
                      <a:pt x="1240" y="94"/>
                    </a:lnTo>
                    <a:lnTo>
                      <a:pt x="1232" y="91"/>
                    </a:lnTo>
                    <a:lnTo>
                      <a:pt x="1225" y="85"/>
                    </a:lnTo>
                    <a:lnTo>
                      <a:pt x="1219" y="79"/>
                    </a:lnTo>
                    <a:lnTo>
                      <a:pt x="1213" y="70"/>
                    </a:lnTo>
                    <a:lnTo>
                      <a:pt x="1211" y="60"/>
                    </a:lnTo>
                    <a:lnTo>
                      <a:pt x="1210" y="48"/>
                    </a:lnTo>
                    <a:lnTo>
                      <a:pt x="1207" y="38"/>
                    </a:lnTo>
                    <a:lnTo>
                      <a:pt x="1201" y="18"/>
                    </a:lnTo>
                    <a:lnTo>
                      <a:pt x="1195" y="5"/>
                    </a:lnTo>
                    <a:lnTo>
                      <a:pt x="1193" y="0"/>
                    </a:lnTo>
                    <a:lnTo>
                      <a:pt x="1155" y="6"/>
                    </a:lnTo>
                    <a:lnTo>
                      <a:pt x="1149" y="17"/>
                    </a:lnTo>
                    <a:lnTo>
                      <a:pt x="1134" y="39"/>
                    </a:lnTo>
                    <a:lnTo>
                      <a:pt x="1116" y="63"/>
                    </a:lnTo>
                    <a:lnTo>
                      <a:pt x="1109" y="73"/>
                    </a:lnTo>
                    <a:lnTo>
                      <a:pt x="1101" y="77"/>
                    </a:lnTo>
                    <a:lnTo>
                      <a:pt x="1091" y="79"/>
                    </a:lnTo>
                    <a:lnTo>
                      <a:pt x="1074" y="79"/>
                    </a:lnTo>
                    <a:lnTo>
                      <a:pt x="1026" y="80"/>
                    </a:lnTo>
                    <a:lnTo>
                      <a:pt x="981" y="80"/>
                    </a:lnTo>
                    <a:lnTo>
                      <a:pt x="954" y="80"/>
                    </a:lnTo>
                    <a:lnTo>
                      <a:pt x="945" y="79"/>
                    </a:lnTo>
                    <a:lnTo>
                      <a:pt x="931" y="74"/>
                    </a:lnTo>
                    <a:lnTo>
                      <a:pt x="916" y="66"/>
                    </a:lnTo>
                    <a:lnTo>
                      <a:pt x="907" y="60"/>
                    </a:lnTo>
                    <a:lnTo>
                      <a:pt x="898" y="53"/>
                    </a:lnTo>
                    <a:lnTo>
                      <a:pt x="889" y="47"/>
                    </a:lnTo>
                    <a:lnTo>
                      <a:pt x="878" y="42"/>
                    </a:lnTo>
                    <a:lnTo>
                      <a:pt x="869" y="39"/>
                    </a:lnTo>
                    <a:lnTo>
                      <a:pt x="860" y="38"/>
                    </a:lnTo>
                    <a:lnTo>
                      <a:pt x="845" y="39"/>
                    </a:lnTo>
                    <a:lnTo>
                      <a:pt x="841" y="39"/>
                    </a:lnTo>
                    <a:lnTo>
                      <a:pt x="841" y="79"/>
                    </a:lnTo>
                    <a:lnTo>
                      <a:pt x="813" y="70"/>
                    </a:lnTo>
                    <a:lnTo>
                      <a:pt x="780" y="60"/>
                    </a:lnTo>
                    <a:lnTo>
                      <a:pt x="774" y="60"/>
                    </a:lnTo>
                    <a:lnTo>
                      <a:pt x="764" y="65"/>
                    </a:lnTo>
                    <a:lnTo>
                      <a:pt x="738" y="80"/>
                    </a:lnTo>
                    <a:lnTo>
                      <a:pt x="712" y="97"/>
                    </a:lnTo>
                    <a:lnTo>
                      <a:pt x="699" y="106"/>
                    </a:lnTo>
                    <a:lnTo>
                      <a:pt x="670" y="136"/>
                    </a:lnTo>
                    <a:lnTo>
                      <a:pt x="654" y="154"/>
                    </a:lnTo>
                    <a:lnTo>
                      <a:pt x="649" y="161"/>
                    </a:lnTo>
                    <a:lnTo>
                      <a:pt x="648" y="164"/>
                    </a:lnTo>
                    <a:lnTo>
                      <a:pt x="648" y="166"/>
                    </a:lnTo>
                    <a:lnTo>
                      <a:pt x="648" y="167"/>
                    </a:lnTo>
                    <a:lnTo>
                      <a:pt x="646" y="170"/>
                    </a:lnTo>
                    <a:lnTo>
                      <a:pt x="642" y="180"/>
                    </a:lnTo>
                    <a:lnTo>
                      <a:pt x="624" y="202"/>
                    </a:lnTo>
                    <a:lnTo>
                      <a:pt x="596" y="234"/>
                    </a:lnTo>
                    <a:lnTo>
                      <a:pt x="559" y="279"/>
                    </a:lnTo>
                    <a:lnTo>
                      <a:pt x="536" y="297"/>
                    </a:lnTo>
                    <a:lnTo>
                      <a:pt x="518" y="309"/>
                    </a:lnTo>
                    <a:lnTo>
                      <a:pt x="511" y="314"/>
                    </a:lnTo>
                    <a:lnTo>
                      <a:pt x="503" y="315"/>
                    </a:lnTo>
                    <a:lnTo>
                      <a:pt x="467" y="314"/>
                    </a:lnTo>
                    <a:lnTo>
                      <a:pt x="422" y="312"/>
                    </a:lnTo>
                    <a:lnTo>
                      <a:pt x="413" y="312"/>
                    </a:lnTo>
                    <a:lnTo>
                      <a:pt x="404" y="315"/>
                    </a:lnTo>
                    <a:lnTo>
                      <a:pt x="396" y="320"/>
                    </a:lnTo>
                    <a:lnTo>
                      <a:pt x="388" y="324"/>
                    </a:lnTo>
                    <a:lnTo>
                      <a:pt x="375" y="333"/>
                    </a:lnTo>
                    <a:lnTo>
                      <a:pt x="370" y="335"/>
                    </a:lnTo>
                    <a:lnTo>
                      <a:pt x="366" y="335"/>
                    </a:lnTo>
                    <a:lnTo>
                      <a:pt x="361" y="332"/>
                    </a:lnTo>
                    <a:lnTo>
                      <a:pt x="355" y="326"/>
                    </a:lnTo>
                    <a:lnTo>
                      <a:pt x="337" y="308"/>
                    </a:lnTo>
                    <a:lnTo>
                      <a:pt x="319" y="291"/>
                    </a:lnTo>
                    <a:lnTo>
                      <a:pt x="313" y="285"/>
                    </a:lnTo>
                    <a:lnTo>
                      <a:pt x="309" y="283"/>
                    </a:lnTo>
                    <a:lnTo>
                      <a:pt x="303" y="285"/>
                    </a:lnTo>
                    <a:lnTo>
                      <a:pt x="295" y="288"/>
                    </a:lnTo>
                    <a:lnTo>
                      <a:pt x="272" y="297"/>
                    </a:lnTo>
                    <a:lnTo>
                      <a:pt x="248" y="306"/>
                    </a:lnTo>
                    <a:lnTo>
                      <a:pt x="239" y="309"/>
                    </a:lnTo>
                    <a:lnTo>
                      <a:pt x="232" y="308"/>
                    </a:lnTo>
                    <a:lnTo>
                      <a:pt x="215" y="300"/>
                    </a:lnTo>
                    <a:lnTo>
                      <a:pt x="193" y="288"/>
                    </a:lnTo>
                    <a:lnTo>
                      <a:pt x="164" y="271"/>
                    </a:lnTo>
                    <a:lnTo>
                      <a:pt x="156" y="286"/>
                    </a:lnTo>
                    <a:lnTo>
                      <a:pt x="150" y="296"/>
                    </a:lnTo>
                    <a:lnTo>
                      <a:pt x="147" y="299"/>
                    </a:lnTo>
                    <a:lnTo>
                      <a:pt x="144" y="300"/>
                    </a:lnTo>
                    <a:lnTo>
                      <a:pt x="132" y="303"/>
                    </a:lnTo>
                    <a:lnTo>
                      <a:pt x="111" y="309"/>
                    </a:lnTo>
                    <a:lnTo>
                      <a:pt x="84" y="315"/>
                    </a:lnTo>
                    <a:lnTo>
                      <a:pt x="69" y="318"/>
                    </a:lnTo>
                    <a:lnTo>
                      <a:pt x="52" y="318"/>
                    </a:lnTo>
                    <a:lnTo>
                      <a:pt x="46" y="318"/>
                    </a:lnTo>
                    <a:lnTo>
                      <a:pt x="40" y="321"/>
                    </a:lnTo>
                    <a:lnTo>
                      <a:pt x="27" y="327"/>
                    </a:lnTo>
                    <a:lnTo>
                      <a:pt x="13" y="338"/>
                    </a:lnTo>
                    <a:lnTo>
                      <a:pt x="0" y="350"/>
                    </a:lnTo>
                    <a:lnTo>
                      <a:pt x="7" y="413"/>
                    </a:lnTo>
                    <a:lnTo>
                      <a:pt x="18" y="404"/>
                    </a:lnTo>
                    <a:lnTo>
                      <a:pt x="25" y="449"/>
                    </a:lnTo>
                    <a:lnTo>
                      <a:pt x="75" y="519"/>
                    </a:lnTo>
                    <a:lnTo>
                      <a:pt x="117" y="588"/>
                    </a:lnTo>
                    <a:lnTo>
                      <a:pt x="144" y="653"/>
                    </a:lnTo>
                    <a:lnTo>
                      <a:pt x="174" y="638"/>
                    </a:lnTo>
                    <a:lnTo>
                      <a:pt x="229" y="606"/>
                    </a:lnTo>
                    <a:lnTo>
                      <a:pt x="278" y="583"/>
                    </a:lnTo>
                    <a:lnTo>
                      <a:pt x="328" y="561"/>
                    </a:lnTo>
                    <a:lnTo>
                      <a:pt x="321" y="523"/>
                    </a:lnTo>
                    <a:lnTo>
                      <a:pt x="301" y="496"/>
                    </a:lnTo>
                    <a:lnTo>
                      <a:pt x="297" y="461"/>
                    </a:lnTo>
                    <a:lnTo>
                      <a:pt x="254" y="466"/>
                    </a:lnTo>
                    <a:lnTo>
                      <a:pt x="212" y="419"/>
                    </a:lnTo>
                    <a:lnTo>
                      <a:pt x="212" y="392"/>
                    </a:lnTo>
                    <a:lnTo>
                      <a:pt x="226" y="403"/>
                    </a:lnTo>
                    <a:lnTo>
                      <a:pt x="239" y="413"/>
                    </a:lnTo>
                    <a:lnTo>
                      <a:pt x="259" y="425"/>
                    </a:lnTo>
                    <a:lnTo>
                      <a:pt x="281" y="437"/>
                    </a:lnTo>
                    <a:lnTo>
                      <a:pt x="307" y="449"/>
                    </a:lnTo>
                    <a:lnTo>
                      <a:pt x="334" y="458"/>
                    </a:lnTo>
                    <a:lnTo>
                      <a:pt x="348" y="463"/>
                    </a:lnTo>
                    <a:lnTo>
                      <a:pt x="361" y="466"/>
                    </a:lnTo>
                    <a:lnTo>
                      <a:pt x="450" y="488"/>
                    </a:lnTo>
                    <a:lnTo>
                      <a:pt x="453" y="534"/>
                    </a:lnTo>
                    <a:lnTo>
                      <a:pt x="515" y="531"/>
                    </a:lnTo>
                    <a:lnTo>
                      <a:pt x="500" y="588"/>
                    </a:lnTo>
                    <a:lnTo>
                      <a:pt x="572" y="710"/>
                    </a:lnTo>
                    <a:lnTo>
                      <a:pt x="575" y="713"/>
                    </a:lnTo>
                    <a:lnTo>
                      <a:pt x="580" y="714"/>
                    </a:lnTo>
                    <a:lnTo>
                      <a:pt x="584" y="714"/>
                    </a:lnTo>
                    <a:lnTo>
                      <a:pt x="589" y="714"/>
                    </a:lnTo>
                    <a:lnTo>
                      <a:pt x="595" y="711"/>
                    </a:lnTo>
                    <a:lnTo>
                      <a:pt x="601" y="705"/>
                    </a:lnTo>
                    <a:lnTo>
                      <a:pt x="607" y="695"/>
                    </a:lnTo>
                    <a:lnTo>
                      <a:pt x="614" y="678"/>
                    </a:lnTo>
                    <a:lnTo>
                      <a:pt x="627" y="656"/>
                    </a:lnTo>
                    <a:lnTo>
                      <a:pt x="642" y="632"/>
                    </a:lnTo>
                    <a:lnTo>
                      <a:pt x="651" y="618"/>
                    </a:lnTo>
                    <a:lnTo>
                      <a:pt x="661" y="604"/>
                    </a:lnTo>
                    <a:lnTo>
                      <a:pt x="672" y="592"/>
                    </a:lnTo>
                    <a:lnTo>
                      <a:pt x="685" y="580"/>
                    </a:lnTo>
                    <a:lnTo>
                      <a:pt x="699" y="568"/>
                    </a:lnTo>
                    <a:lnTo>
                      <a:pt x="714" y="559"/>
                    </a:lnTo>
                    <a:lnTo>
                      <a:pt x="731" y="550"/>
                    </a:lnTo>
                    <a:lnTo>
                      <a:pt x="747" y="544"/>
                    </a:lnTo>
                    <a:lnTo>
                      <a:pt x="767" y="540"/>
                    </a:lnTo>
                    <a:lnTo>
                      <a:pt x="786" y="538"/>
                    </a:lnTo>
                    <a:lnTo>
                      <a:pt x="798" y="574"/>
                    </a:lnTo>
                    <a:lnTo>
                      <a:pt x="806" y="604"/>
                    </a:lnTo>
                    <a:lnTo>
                      <a:pt x="809" y="618"/>
                    </a:lnTo>
                    <a:lnTo>
                      <a:pt x="809" y="630"/>
                    </a:lnTo>
                    <a:lnTo>
                      <a:pt x="813" y="632"/>
                    </a:lnTo>
                    <a:lnTo>
                      <a:pt x="818" y="633"/>
                    </a:lnTo>
                    <a:lnTo>
                      <a:pt x="822" y="635"/>
                    </a:lnTo>
                    <a:lnTo>
                      <a:pt x="828" y="633"/>
                    </a:lnTo>
                    <a:lnTo>
                      <a:pt x="836" y="632"/>
                    </a:lnTo>
                    <a:lnTo>
                      <a:pt x="842" y="626"/>
                    </a:lnTo>
                    <a:lnTo>
                      <a:pt x="848" y="618"/>
                    </a:lnTo>
                    <a:lnTo>
                      <a:pt x="848" y="638"/>
                    </a:lnTo>
                    <a:lnTo>
                      <a:pt x="850" y="659"/>
                    </a:lnTo>
                    <a:lnTo>
                      <a:pt x="851" y="683"/>
                    </a:lnTo>
                    <a:lnTo>
                      <a:pt x="856" y="707"/>
                    </a:lnTo>
                    <a:lnTo>
                      <a:pt x="860" y="731"/>
                    </a:lnTo>
                    <a:lnTo>
                      <a:pt x="865" y="742"/>
                    </a:lnTo>
                    <a:lnTo>
                      <a:pt x="868" y="751"/>
                    </a:lnTo>
                    <a:lnTo>
                      <a:pt x="874" y="758"/>
                    </a:lnTo>
                    <a:lnTo>
                      <a:pt x="878" y="763"/>
                    </a:lnTo>
                    <a:lnTo>
                      <a:pt x="890" y="773"/>
                    </a:lnTo>
                    <a:lnTo>
                      <a:pt x="904" y="785"/>
                    </a:lnTo>
                    <a:lnTo>
                      <a:pt x="931" y="811"/>
                    </a:lnTo>
                    <a:lnTo>
                      <a:pt x="945" y="820"/>
                    </a:lnTo>
                    <a:lnTo>
                      <a:pt x="955" y="827"/>
                    </a:lnTo>
                    <a:lnTo>
                      <a:pt x="960" y="830"/>
                    </a:lnTo>
                    <a:lnTo>
                      <a:pt x="964" y="830"/>
                    </a:lnTo>
                    <a:lnTo>
                      <a:pt x="967" y="830"/>
                    </a:lnTo>
                    <a:lnTo>
                      <a:pt x="970" y="829"/>
                    </a:lnTo>
                    <a:lnTo>
                      <a:pt x="975" y="823"/>
                    </a:lnTo>
                    <a:lnTo>
                      <a:pt x="976" y="817"/>
                    </a:lnTo>
                    <a:lnTo>
                      <a:pt x="978" y="809"/>
                    </a:lnTo>
                    <a:lnTo>
                      <a:pt x="978" y="803"/>
                    </a:lnTo>
                    <a:lnTo>
                      <a:pt x="978" y="797"/>
                    </a:lnTo>
                    <a:lnTo>
                      <a:pt x="975" y="791"/>
                    </a:lnTo>
                    <a:lnTo>
                      <a:pt x="972" y="785"/>
                    </a:lnTo>
                    <a:lnTo>
                      <a:pt x="967" y="779"/>
                    </a:lnTo>
                    <a:lnTo>
                      <a:pt x="961" y="772"/>
                    </a:lnTo>
                    <a:lnTo>
                      <a:pt x="955" y="764"/>
                    </a:lnTo>
                    <a:lnTo>
                      <a:pt x="941" y="743"/>
                    </a:lnTo>
                    <a:lnTo>
                      <a:pt x="920" y="705"/>
                    </a:lnTo>
                    <a:lnTo>
                      <a:pt x="917" y="698"/>
                    </a:lnTo>
                    <a:lnTo>
                      <a:pt x="914" y="689"/>
                    </a:lnTo>
                    <a:lnTo>
                      <a:pt x="910" y="671"/>
                    </a:lnTo>
                    <a:lnTo>
                      <a:pt x="910" y="656"/>
                    </a:lnTo>
                    <a:lnTo>
                      <a:pt x="908" y="648"/>
                    </a:lnTo>
                    <a:lnTo>
                      <a:pt x="940" y="687"/>
                    </a:lnTo>
                    <a:lnTo>
                      <a:pt x="941" y="692"/>
                    </a:lnTo>
                    <a:lnTo>
                      <a:pt x="943" y="698"/>
                    </a:lnTo>
                    <a:lnTo>
                      <a:pt x="948" y="702"/>
                    </a:lnTo>
                    <a:lnTo>
                      <a:pt x="952" y="707"/>
                    </a:lnTo>
                    <a:lnTo>
                      <a:pt x="957" y="707"/>
                    </a:lnTo>
                    <a:lnTo>
                      <a:pt x="961" y="708"/>
                    </a:lnTo>
                    <a:lnTo>
                      <a:pt x="966" y="707"/>
                    </a:lnTo>
                    <a:lnTo>
                      <a:pt x="972" y="705"/>
                    </a:lnTo>
                    <a:lnTo>
                      <a:pt x="985" y="698"/>
                    </a:lnTo>
                    <a:lnTo>
                      <a:pt x="993" y="693"/>
                    </a:lnTo>
                    <a:lnTo>
                      <a:pt x="999" y="687"/>
                    </a:lnTo>
                    <a:lnTo>
                      <a:pt x="1003" y="681"/>
                    </a:lnTo>
                    <a:lnTo>
                      <a:pt x="1008" y="674"/>
                    </a:lnTo>
                    <a:lnTo>
                      <a:pt x="1014" y="660"/>
                    </a:lnTo>
                    <a:lnTo>
                      <a:pt x="1017" y="647"/>
                    </a:lnTo>
                    <a:lnTo>
                      <a:pt x="1017" y="633"/>
                    </a:lnTo>
                    <a:lnTo>
                      <a:pt x="1017" y="624"/>
                    </a:lnTo>
                    <a:lnTo>
                      <a:pt x="1017" y="615"/>
                    </a:lnTo>
                    <a:lnTo>
                      <a:pt x="975" y="588"/>
                    </a:lnTo>
                    <a:lnTo>
                      <a:pt x="975" y="541"/>
                    </a:lnTo>
                    <a:lnTo>
                      <a:pt x="1020" y="526"/>
                    </a:lnTo>
                    <a:lnTo>
                      <a:pt x="1017" y="565"/>
                    </a:lnTo>
                    <a:lnTo>
                      <a:pt x="1018" y="568"/>
                    </a:lnTo>
                    <a:lnTo>
                      <a:pt x="1023" y="577"/>
                    </a:lnTo>
                    <a:lnTo>
                      <a:pt x="1027" y="580"/>
                    </a:lnTo>
                    <a:lnTo>
                      <a:pt x="1030" y="583"/>
                    </a:lnTo>
                    <a:lnTo>
                      <a:pt x="1035" y="585"/>
                    </a:lnTo>
                    <a:lnTo>
                      <a:pt x="1039" y="583"/>
                    </a:lnTo>
                    <a:lnTo>
                      <a:pt x="1047" y="577"/>
                    </a:lnTo>
                    <a:lnTo>
                      <a:pt x="1051" y="570"/>
                    </a:lnTo>
                    <a:lnTo>
                      <a:pt x="1055" y="561"/>
                    </a:lnTo>
                    <a:lnTo>
                      <a:pt x="1055" y="534"/>
                    </a:lnTo>
                    <a:lnTo>
                      <a:pt x="1074" y="520"/>
                    </a:lnTo>
                    <a:lnTo>
                      <a:pt x="1095" y="505"/>
                    </a:lnTo>
                    <a:lnTo>
                      <a:pt x="1119" y="487"/>
                    </a:lnTo>
                    <a:lnTo>
                      <a:pt x="1145" y="467"/>
                    </a:lnTo>
                    <a:lnTo>
                      <a:pt x="1166" y="446"/>
                    </a:lnTo>
                    <a:lnTo>
                      <a:pt x="1175" y="437"/>
                    </a:lnTo>
                    <a:lnTo>
                      <a:pt x="1181" y="428"/>
                    </a:lnTo>
                    <a:lnTo>
                      <a:pt x="1186" y="419"/>
                    </a:lnTo>
                    <a:lnTo>
                      <a:pt x="1189" y="412"/>
                    </a:lnTo>
                    <a:lnTo>
                      <a:pt x="1192" y="389"/>
                    </a:lnTo>
                    <a:lnTo>
                      <a:pt x="1195" y="375"/>
                    </a:lnTo>
                    <a:lnTo>
                      <a:pt x="1195" y="366"/>
                    </a:lnTo>
                    <a:lnTo>
                      <a:pt x="1195" y="362"/>
                    </a:lnTo>
                    <a:lnTo>
                      <a:pt x="1192" y="357"/>
                    </a:lnTo>
                    <a:lnTo>
                      <a:pt x="1186" y="345"/>
                    </a:lnTo>
                    <a:lnTo>
                      <a:pt x="1180" y="329"/>
                    </a:lnTo>
                    <a:lnTo>
                      <a:pt x="1174" y="308"/>
                    </a:lnTo>
                    <a:lnTo>
                      <a:pt x="1189" y="262"/>
                    </a:lnTo>
                    <a:lnTo>
                      <a:pt x="1149" y="258"/>
                    </a:lnTo>
                    <a:lnTo>
                      <a:pt x="1149" y="235"/>
                    </a:lnTo>
                    <a:lnTo>
                      <a:pt x="1189" y="220"/>
                    </a:lnTo>
                    <a:lnTo>
                      <a:pt x="1226" y="220"/>
                    </a:lnTo>
                    <a:lnTo>
                      <a:pt x="1246" y="255"/>
                    </a:lnTo>
                    <a:lnTo>
                      <a:pt x="1243" y="312"/>
                    </a:lnTo>
                    <a:lnTo>
                      <a:pt x="1291" y="290"/>
                    </a:lnTo>
                    <a:lnTo>
                      <a:pt x="1291" y="255"/>
                    </a:lnTo>
                    <a:lnTo>
                      <a:pt x="1278" y="253"/>
                    </a:lnTo>
                    <a:lnTo>
                      <a:pt x="1265" y="249"/>
                    </a:lnTo>
                    <a:lnTo>
                      <a:pt x="1261" y="246"/>
                    </a:lnTo>
                    <a:lnTo>
                      <a:pt x="1256" y="243"/>
                    </a:lnTo>
                    <a:lnTo>
                      <a:pt x="1253" y="238"/>
                    </a:lnTo>
                    <a:lnTo>
                      <a:pt x="1252" y="234"/>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grpSp>
        <p:nvGrpSpPr>
          <p:cNvPr id="960" name=""/>
          <p:cNvGrpSpPr/>
          <p:nvPr/>
        </p:nvGrpSpPr>
        <p:grpSpPr>
          <a:xfrm>
            <a:off x="3905280" y="3479760"/>
            <a:ext cx="1515960" cy="1747800"/>
            <a:chOff x="3905280" y="3479760"/>
            <a:chExt cx="1515960" cy="1747800"/>
          </a:xfrm>
        </p:grpSpPr>
        <p:sp>
          <p:nvSpPr>
            <p:cNvPr id="961" name="Freeform 137"/>
            <p:cNvSpPr/>
            <p:nvPr/>
          </p:nvSpPr>
          <p:spPr>
            <a:xfrm>
              <a:off x="5232600" y="4630680"/>
              <a:ext cx="188640" cy="344520"/>
            </a:xfrm>
            <a:custGeom>
              <a:avLst/>
              <a:gdLst>
                <a:gd name="textAreaLeft" fmla="*/ 0 w 188640"/>
                <a:gd name="textAreaRight" fmla="*/ 189000 w 188640"/>
                <a:gd name="textAreaTop" fmla="*/ 0 h 344520"/>
                <a:gd name="textAreaBottom" fmla="*/ 344880 h 344520"/>
              </a:gdLst>
              <a:ahLst/>
              <a:rect l="textAreaLeft" t="textAreaTop" r="textAreaRight" b="textAreaBottom"/>
              <a:pathLst>
                <a:path w="119" h="217">
                  <a:moveTo>
                    <a:pt x="119" y="69"/>
                  </a:moveTo>
                  <a:lnTo>
                    <a:pt x="107" y="22"/>
                  </a:lnTo>
                  <a:lnTo>
                    <a:pt x="92" y="0"/>
                  </a:lnTo>
                  <a:lnTo>
                    <a:pt x="73" y="22"/>
                  </a:lnTo>
                  <a:lnTo>
                    <a:pt x="35" y="57"/>
                  </a:lnTo>
                  <a:lnTo>
                    <a:pt x="29" y="62"/>
                  </a:lnTo>
                  <a:lnTo>
                    <a:pt x="18" y="71"/>
                  </a:lnTo>
                  <a:lnTo>
                    <a:pt x="11" y="77"/>
                  </a:lnTo>
                  <a:lnTo>
                    <a:pt x="6" y="84"/>
                  </a:lnTo>
                  <a:lnTo>
                    <a:pt x="2" y="92"/>
                  </a:lnTo>
                  <a:lnTo>
                    <a:pt x="0" y="99"/>
                  </a:lnTo>
                  <a:lnTo>
                    <a:pt x="2" y="116"/>
                  </a:lnTo>
                  <a:lnTo>
                    <a:pt x="6" y="135"/>
                  </a:lnTo>
                  <a:lnTo>
                    <a:pt x="12" y="156"/>
                  </a:lnTo>
                  <a:lnTo>
                    <a:pt x="12" y="199"/>
                  </a:lnTo>
                  <a:lnTo>
                    <a:pt x="17" y="203"/>
                  </a:lnTo>
                  <a:lnTo>
                    <a:pt x="30" y="211"/>
                  </a:lnTo>
                  <a:lnTo>
                    <a:pt x="36" y="214"/>
                  </a:lnTo>
                  <a:lnTo>
                    <a:pt x="42" y="217"/>
                  </a:lnTo>
                  <a:lnTo>
                    <a:pt x="47" y="217"/>
                  </a:lnTo>
                  <a:lnTo>
                    <a:pt x="49" y="215"/>
                  </a:lnTo>
                  <a:lnTo>
                    <a:pt x="50" y="214"/>
                  </a:lnTo>
                  <a:lnTo>
                    <a:pt x="65" y="159"/>
                  </a:lnTo>
                  <a:lnTo>
                    <a:pt x="89" y="102"/>
                  </a:lnTo>
                  <a:lnTo>
                    <a:pt x="119" y="69"/>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62" name="Freeform 138"/>
            <p:cNvSpPr/>
            <p:nvPr/>
          </p:nvSpPr>
          <p:spPr>
            <a:xfrm>
              <a:off x="3905280" y="3479760"/>
              <a:ext cx="1486080" cy="1747800"/>
            </a:xfrm>
            <a:custGeom>
              <a:avLst/>
              <a:gdLst>
                <a:gd name="textAreaLeft" fmla="*/ 0 w 1486080"/>
                <a:gd name="textAreaRight" fmla="*/ 1486440 w 1486080"/>
                <a:gd name="textAreaTop" fmla="*/ 0 h 1747800"/>
                <a:gd name="textAreaBottom" fmla="*/ 1748160 h 1747800"/>
              </a:gdLst>
              <a:ahLst/>
              <a:rect l="textAreaLeft" t="textAreaTop" r="textAreaRight" b="textAreaBottom"/>
              <a:pathLst>
                <a:path w="936" h="1101">
                  <a:moveTo>
                    <a:pt x="699" y="65"/>
                  </a:moveTo>
                  <a:lnTo>
                    <a:pt x="639" y="87"/>
                  </a:lnTo>
                  <a:lnTo>
                    <a:pt x="597" y="99"/>
                  </a:lnTo>
                  <a:lnTo>
                    <a:pt x="555" y="84"/>
                  </a:lnTo>
                  <a:lnTo>
                    <a:pt x="508" y="72"/>
                  </a:lnTo>
                  <a:lnTo>
                    <a:pt x="505" y="107"/>
                  </a:lnTo>
                  <a:lnTo>
                    <a:pt x="466" y="92"/>
                  </a:lnTo>
                  <a:lnTo>
                    <a:pt x="432" y="80"/>
                  </a:lnTo>
                  <a:lnTo>
                    <a:pt x="383" y="72"/>
                  </a:lnTo>
                  <a:lnTo>
                    <a:pt x="375" y="18"/>
                  </a:lnTo>
                  <a:lnTo>
                    <a:pt x="366" y="0"/>
                  </a:lnTo>
                  <a:lnTo>
                    <a:pt x="301" y="0"/>
                  </a:lnTo>
                  <a:lnTo>
                    <a:pt x="256" y="3"/>
                  </a:lnTo>
                  <a:lnTo>
                    <a:pt x="237" y="11"/>
                  </a:lnTo>
                  <a:lnTo>
                    <a:pt x="164" y="15"/>
                  </a:lnTo>
                  <a:lnTo>
                    <a:pt x="127" y="65"/>
                  </a:lnTo>
                  <a:lnTo>
                    <a:pt x="87" y="130"/>
                  </a:lnTo>
                  <a:lnTo>
                    <a:pt x="11" y="191"/>
                  </a:lnTo>
                  <a:lnTo>
                    <a:pt x="8" y="202"/>
                  </a:lnTo>
                  <a:lnTo>
                    <a:pt x="3" y="215"/>
                  </a:lnTo>
                  <a:lnTo>
                    <a:pt x="2" y="234"/>
                  </a:lnTo>
                  <a:lnTo>
                    <a:pt x="0" y="256"/>
                  </a:lnTo>
                  <a:lnTo>
                    <a:pt x="2" y="268"/>
                  </a:lnTo>
                  <a:lnTo>
                    <a:pt x="3" y="282"/>
                  </a:lnTo>
                  <a:lnTo>
                    <a:pt x="6" y="295"/>
                  </a:lnTo>
                  <a:lnTo>
                    <a:pt x="11" y="309"/>
                  </a:lnTo>
                  <a:lnTo>
                    <a:pt x="15" y="324"/>
                  </a:lnTo>
                  <a:lnTo>
                    <a:pt x="23" y="341"/>
                  </a:lnTo>
                  <a:lnTo>
                    <a:pt x="20" y="344"/>
                  </a:lnTo>
                  <a:lnTo>
                    <a:pt x="18" y="350"/>
                  </a:lnTo>
                  <a:lnTo>
                    <a:pt x="18" y="357"/>
                  </a:lnTo>
                  <a:lnTo>
                    <a:pt x="20" y="369"/>
                  </a:lnTo>
                  <a:lnTo>
                    <a:pt x="23" y="383"/>
                  </a:lnTo>
                  <a:lnTo>
                    <a:pt x="30" y="402"/>
                  </a:lnTo>
                  <a:lnTo>
                    <a:pt x="42" y="423"/>
                  </a:lnTo>
                  <a:lnTo>
                    <a:pt x="44" y="428"/>
                  </a:lnTo>
                  <a:lnTo>
                    <a:pt x="48" y="438"/>
                  </a:lnTo>
                  <a:lnTo>
                    <a:pt x="57" y="454"/>
                  </a:lnTo>
                  <a:lnTo>
                    <a:pt x="63" y="461"/>
                  </a:lnTo>
                  <a:lnTo>
                    <a:pt x="71" y="469"/>
                  </a:lnTo>
                  <a:lnTo>
                    <a:pt x="80" y="475"/>
                  </a:lnTo>
                  <a:lnTo>
                    <a:pt x="92" y="481"/>
                  </a:lnTo>
                  <a:lnTo>
                    <a:pt x="105" y="485"/>
                  </a:lnTo>
                  <a:lnTo>
                    <a:pt x="121" y="488"/>
                  </a:lnTo>
                  <a:lnTo>
                    <a:pt x="139" y="490"/>
                  </a:lnTo>
                  <a:lnTo>
                    <a:pt x="158" y="488"/>
                  </a:lnTo>
                  <a:lnTo>
                    <a:pt x="181" y="485"/>
                  </a:lnTo>
                  <a:lnTo>
                    <a:pt x="206" y="478"/>
                  </a:lnTo>
                  <a:lnTo>
                    <a:pt x="241" y="473"/>
                  </a:lnTo>
                  <a:lnTo>
                    <a:pt x="271" y="478"/>
                  </a:lnTo>
                  <a:lnTo>
                    <a:pt x="321" y="473"/>
                  </a:lnTo>
                  <a:lnTo>
                    <a:pt x="309" y="493"/>
                  </a:lnTo>
                  <a:lnTo>
                    <a:pt x="348" y="493"/>
                  </a:lnTo>
                  <a:lnTo>
                    <a:pt x="351" y="542"/>
                  </a:lnTo>
                  <a:lnTo>
                    <a:pt x="351" y="553"/>
                  </a:lnTo>
                  <a:lnTo>
                    <a:pt x="350" y="574"/>
                  </a:lnTo>
                  <a:lnTo>
                    <a:pt x="350" y="586"/>
                  </a:lnTo>
                  <a:lnTo>
                    <a:pt x="350" y="595"/>
                  </a:lnTo>
                  <a:lnTo>
                    <a:pt x="353" y="604"/>
                  </a:lnTo>
                  <a:lnTo>
                    <a:pt x="354" y="606"/>
                  </a:lnTo>
                  <a:lnTo>
                    <a:pt x="356" y="607"/>
                  </a:lnTo>
                  <a:lnTo>
                    <a:pt x="366" y="613"/>
                  </a:lnTo>
                  <a:lnTo>
                    <a:pt x="378" y="624"/>
                  </a:lnTo>
                  <a:lnTo>
                    <a:pt x="384" y="630"/>
                  </a:lnTo>
                  <a:lnTo>
                    <a:pt x="389" y="637"/>
                  </a:lnTo>
                  <a:lnTo>
                    <a:pt x="392" y="645"/>
                  </a:lnTo>
                  <a:lnTo>
                    <a:pt x="393" y="654"/>
                  </a:lnTo>
                  <a:lnTo>
                    <a:pt x="395" y="663"/>
                  </a:lnTo>
                  <a:lnTo>
                    <a:pt x="396" y="675"/>
                  </a:lnTo>
                  <a:lnTo>
                    <a:pt x="401" y="701"/>
                  </a:lnTo>
                  <a:lnTo>
                    <a:pt x="408" y="729"/>
                  </a:lnTo>
                  <a:lnTo>
                    <a:pt x="404" y="758"/>
                  </a:lnTo>
                  <a:lnTo>
                    <a:pt x="399" y="784"/>
                  </a:lnTo>
                  <a:lnTo>
                    <a:pt x="398" y="811"/>
                  </a:lnTo>
                  <a:lnTo>
                    <a:pt x="399" y="842"/>
                  </a:lnTo>
                  <a:lnTo>
                    <a:pt x="404" y="878"/>
                  </a:lnTo>
                  <a:lnTo>
                    <a:pt x="408" y="921"/>
                  </a:lnTo>
                  <a:lnTo>
                    <a:pt x="443" y="958"/>
                  </a:lnTo>
                  <a:lnTo>
                    <a:pt x="467" y="987"/>
                  </a:lnTo>
                  <a:lnTo>
                    <a:pt x="475" y="999"/>
                  </a:lnTo>
                  <a:lnTo>
                    <a:pt x="478" y="1005"/>
                  </a:lnTo>
                  <a:lnTo>
                    <a:pt x="475" y="1047"/>
                  </a:lnTo>
                  <a:lnTo>
                    <a:pt x="470" y="1082"/>
                  </a:lnTo>
                  <a:lnTo>
                    <a:pt x="532" y="1101"/>
                  </a:lnTo>
                  <a:lnTo>
                    <a:pt x="589" y="1089"/>
                  </a:lnTo>
                  <a:lnTo>
                    <a:pt x="619" y="1040"/>
                  </a:lnTo>
                  <a:lnTo>
                    <a:pt x="689" y="987"/>
                  </a:lnTo>
                  <a:lnTo>
                    <a:pt x="689" y="925"/>
                  </a:lnTo>
                  <a:lnTo>
                    <a:pt x="734" y="913"/>
                  </a:lnTo>
                  <a:lnTo>
                    <a:pt x="734" y="863"/>
                  </a:lnTo>
                  <a:lnTo>
                    <a:pt x="734" y="818"/>
                  </a:lnTo>
                  <a:lnTo>
                    <a:pt x="738" y="817"/>
                  </a:lnTo>
                  <a:lnTo>
                    <a:pt x="749" y="814"/>
                  </a:lnTo>
                  <a:lnTo>
                    <a:pt x="762" y="808"/>
                  </a:lnTo>
                  <a:lnTo>
                    <a:pt x="770" y="803"/>
                  </a:lnTo>
                  <a:lnTo>
                    <a:pt x="778" y="797"/>
                  </a:lnTo>
                  <a:lnTo>
                    <a:pt x="784" y="790"/>
                  </a:lnTo>
                  <a:lnTo>
                    <a:pt x="790" y="781"/>
                  </a:lnTo>
                  <a:lnTo>
                    <a:pt x="796" y="770"/>
                  </a:lnTo>
                  <a:lnTo>
                    <a:pt x="799" y="756"/>
                  </a:lnTo>
                  <a:lnTo>
                    <a:pt x="800" y="741"/>
                  </a:lnTo>
                  <a:lnTo>
                    <a:pt x="800" y="725"/>
                  </a:lnTo>
                  <a:lnTo>
                    <a:pt x="797" y="705"/>
                  </a:lnTo>
                  <a:lnTo>
                    <a:pt x="791" y="684"/>
                  </a:lnTo>
                  <a:lnTo>
                    <a:pt x="788" y="615"/>
                  </a:lnTo>
                  <a:lnTo>
                    <a:pt x="823" y="577"/>
                  </a:lnTo>
                  <a:lnTo>
                    <a:pt x="844" y="554"/>
                  </a:lnTo>
                  <a:lnTo>
                    <a:pt x="866" y="532"/>
                  </a:lnTo>
                  <a:lnTo>
                    <a:pt x="891" y="503"/>
                  </a:lnTo>
                  <a:lnTo>
                    <a:pt x="901" y="487"/>
                  </a:lnTo>
                  <a:lnTo>
                    <a:pt x="912" y="472"/>
                  </a:lnTo>
                  <a:lnTo>
                    <a:pt x="921" y="455"/>
                  </a:lnTo>
                  <a:lnTo>
                    <a:pt x="928" y="440"/>
                  </a:lnTo>
                  <a:lnTo>
                    <a:pt x="934" y="425"/>
                  </a:lnTo>
                  <a:lnTo>
                    <a:pt x="936" y="410"/>
                  </a:lnTo>
                  <a:lnTo>
                    <a:pt x="936" y="404"/>
                  </a:lnTo>
                  <a:lnTo>
                    <a:pt x="934" y="398"/>
                  </a:lnTo>
                  <a:lnTo>
                    <a:pt x="933" y="392"/>
                  </a:lnTo>
                  <a:lnTo>
                    <a:pt x="930" y="386"/>
                  </a:lnTo>
                  <a:lnTo>
                    <a:pt x="915" y="393"/>
                  </a:lnTo>
                  <a:lnTo>
                    <a:pt x="882" y="407"/>
                  </a:lnTo>
                  <a:lnTo>
                    <a:pt x="863" y="413"/>
                  </a:lnTo>
                  <a:lnTo>
                    <a:pt x="847" y="416"/>
                  </a:lnTo>
                  <a:lnTo>
                    <a:pt x="841" y="417"/>
                  </a:lnTo>
                  <a:lnTo>
                    <a:pt x="835" y="417"/>
                  </a:lnTo>
                  <a:lnTo>
                    <a:pt x="832" y="416"/>
                  </a:lnTo>
                  <a:lnTo>
                    <a:pt x="830" y="413"/>
                  </a:lnTo>
                  <a:lnTo>
                    <a:pt x="823" y="384"/>
                  </a:lnTo>
                  <a:lnTo>
                    <a:pt x="818" y="371"/>
                  </a:lnTo>
                  <a:lnTo>
                    <a:pt x="769" y="309"/>
                  </a:lnTo>
                  <a:lnTo>
                    <a:pt x="764" y="295"/>
                  </a:lnTo>
                  <a:lnTo>
                    <a:pt x="762" y="283"/>
                  </a:lnTo>
                  <a:lnTo>
                    <a:pt x="761" y="271"/>
                  </a:lnTo>
                  <a:lnTo>
                    <a:pt x="759" y="264"/>
                  </a:lnTo>
                  <a:lnTo>
                    <a:pt x="756" y="255"/>
                  </a:lnTo>
                  <a:lnTo>
                    <a:pt x="746" y="234"/>
                  </a:lnTo>
                  <a:lnTo>
                    <a:pt x="731" y="206"/>
                  </a:lnTo>
                  <a:lnTo>
                    <a:pt x="684" y="149"/>
                  </a:lnTo>
                  <a:lnTo>
                    <a:pt x="708" y="131"/>
                  </a:lnTo>
                  <a:lnTo>
                    <a:pt x="701" y="63"/>
                  </a:lnTo>
                  <a:lnTo>
                    <a:pt x="699" y="65"/>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963" name="Freeform 140"/>
          <p:cNvSpPr/>
          <p:nvPr/>
        </p:nvSpPr>
        <p:spPr>
          <a:xfrm>
            <a:off x="5234040" y="4629240"/>
            <a:ext cx="189000" cy="344520"/>
          </a:xfrm>
          <a:custGeom>
            <a:avLst/>
            <a:gdLst>
              <a:gd name="textAreaLeft" fmla="*/ 0 w 189000"/>
              <a:gd name="textAreaRight" fmla="*/ 189360 w 189000"/>
              <a:gd name="textAreaTop" fmla="*/ 0 h 344520"/>
              <a:gd name="textAreaBottom" fmla="*/ 344880 h 344520"/>
            </a:gdLst>
            <a:ahLst/>
            <a:rect l="textAreaLeft" t="textAreaTop" r="textAreaRight" b="textAreaBottom"/>
            <a:pathLst>
              <a:path w="119" h="217">
                <a:moveTo>
                  <a:pt x="119" y="69"/>
                </a:moveTo>
                <a:lnTo>
                  <a:pt x="107" y="22"/>
                </a:lnTo>
                <a:lnTo>
                  <a:pt x="92" y="0"/>
                </a:lnTo>
                <a:lnTo>
                  <a:pt x="73" y="22"/>
                </a:lnTo>
                <a:lnTo>
                  <a:pt x="35" y="57"/>
                </a:lnTo>
                <a:lnTo>
                  <a:pt x="29" y="62"/>
                </a:lnTo>
                <a:lnTo>
                  <a:pt x="18" y="71"/>
                </a:lnTo>
                <a:lnTo>
                  <a:pt x="11" y="77"/>
                </a:lnTo>
                <a:lnTo>
                  <a:pt x="6" y="84"/>
                </a:lnTo>
                <a:lnTo>
                  <a:pt x="2" y="92"/>
                </a:lnTo>
                <a:lnTo>
                  <a:pt x="0" y="99"/>
                </a:lnTo>
                <a:lnTo>
                  <a:pt x="2" y="116"/>
                </a:lnTo>
                <a:lnTo>
                  <a:pt x="6" y="135"/>
                </a:lnTo>
                <a:lnTo>
                  <a:pt x="12" y="156"/>
                </a:lnTo>
                <a:lnTo>
                  <a:pt x="12" y="199"/>
                </a:lnTo>
                <a:lnTo>
                  <a:pt x="17" y="203"/>
                </a:lnTo>
                <a:lnTo>
                  <a:pt x="30" y="211"/>
                </a:lnTo>
                <a:lnTo>
                  <a:pt x="36" y="214"/>
                </a:lnTo>
                <a:lnTo>
                  <a:pt x="42" y="217"/>
                </a:lnTo>
                <a:lnTo>
                  <a:pt x="47" y="217"/>
                </a:lnTo>
                <a:lnTo>
                  <a:pt x="49" y="215"/>
                </a:lnTo>
                <a:lnTo>
                  <a:pt x="50" y="214"/>
                </a:lnTo>
                <a:lnTo>
                  <a:pt x="65" y="159"/>
                </a:lnTo>
                <a:lnTo>
                  <a:pt x="89" y="102"/>
                </a:lnTo>
                <a:lnTo>
                  <a:pt x="119" y="69"/>
                </a:lnTo>
                <a:close/>
              </a:path>
            </a:pathLst>
          </a:custGeom>
          <a:solidFill>
            <a:srgbClr val="66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64" name="Freeform 141"/>
          <p:cNvSpPr/>
          <p:nvPr/>
        </p:nvSpPr>
        <p:spPr>
          <a:xfrm>
            <a:off x="3906720" y="3478320"/>
            <a:ext cx="1486080" cy="1747800"/>
          </a:xfrm>
          <a:custGeom>
            <a:avLst/>
            <a:gdLst>
              <a:gd name="textAreaLeft" fmla="*/ 0 w 1486080"/>
              <a:gd name="textAreaRight" fmla="*/ 1486440 w 1486080"/>
              <a:gd name="textAreaTop" fmla="*/ 0 h 1747800"/>
              <a:gd name="textAreaBottom" fmla="*/ 1748160 h 1747800"/>
            </a:gdLst>
            <a:ahLst/>
            <a:rect l="textAreaLeft" t="textAreaTop" r="textAreaRight" b="textAreaBottom"/>
            <a:pathLst>
              <a:path w="936" h="1101">
                <a:moveTo>
                  <a:pt x="699" y="65"/>
                </a:moveTo>
                <a:lnTo>
                  <a:pt x="639" y="87"/>
                </a:lnTo>
                <a:lnTo>
                  <a:pt x="597" y="99"/>
                </a:lnTo>
                <a:lnTo>
                  <a:pt x="555" y="84"/>
                </a:lnTo>
                <a:lnTo>
                  <a:pt x="508" y="72"/>
                </a:lnTo>
                <a:lnTo>
                  <a:pt x="505" y="107"/>
                </a:lnTo>
                <a:lnTo>
                  <a:pt x="466" y="92"/>
                </a:lnTo>
                <a:lnTo>
                  <a:pt x="432" y="80"/>
                </a:lnTo>
                <a:lnTo>
                  <a:pt x="383" y="72"/>
                </a:lnTo>
                <a:lnTo>
                  <a:pt x="375" y="18"/>
                </a:lnTo>
                <a:lnTo>
                  <a:pt x="366" y="0"/>
                </a:lnTo>
                <a:lnTo>
                  <a:pt x="301" y="0"/>
                </a:lnTo>
                <a:lnTo>
                  <a:pt x="256" y="3"/>
                </a:lnTo>
                <a:lnTo>
                  <a:pt x="237" y="11"/>
                </a:lnTo>
                <a:lnTo>
                  <a:pt x="164" y="15"/>
                </a:lnTo>
                <a:lnTo>
                  <a:pt x="127" y="65"/>
                </a:lnTo>
                <a:lnTo>
                  <a:pt x="87" y="130"/>
                </a:lnTo>
                <a:lnTo>
                  <a:pt x="11" y="191"/>
                </a:lnTo>
                <a:lnTo>
                  <a:pt x="8" y="202"/>
                </a:lnTo>
                <a:lnTo>
                  <a:pt x="3" y="215"/>
                </a:lnTo>
                <a:lnTo>
                  <a:pt x="2" y="234"/>
                </a:lnTo>
                <a:lnTo>
                  <a:pt x="0" y="256"/>
                </a:lnTo>
                <a:lnTo>
                  <a:pt x="2" y="268"/>
                </a:lnTo>
                <a:lnTo>
                  <a:pt x="3" y="282"/>
                </a:lnTo>
                <a:lnTo>
                  <a:pt x="6" y="295"/>
                </a:lnTo>
                <a:lnTo>
                  <a:pt x="11" y="309"/>
                </a:lnTo>
                <a:lnTo>
                  <a:pt x="15" y="324"/>
                </a:lnTo>
                <a:lnTo>
                  <a:pt x="23" y="341"/>
                </a:lnTo>
                <a:lnTo>
                  <a:pt x="20" y="344"/>
                </a:lnTo>
                <a:lnTo>
                  <a:pt x="18" y="350"/>
                </a:lnTo>
                <a:lnTo>
                  <a:pt x="18" y="357"/>
                </a:lnTo>
                <a:lnTo>
                  <a:pt x="20" y="369"/>
                </a:lnTo>
                <a:lnTo>
                  <a:pt x="23" y="383"/>
                </a:lnTo>
                <a:lnTo>
                  <a:pt x="30" y="402"/>
                </a:lnTo>
                <a:lnTo>
                  <a:pt x="42" y="423"/>
                </a:lnTo>
                <a:lnTo>
                  <a:pt x="44" y="428"/>
                </a:lnTo>
                <a:lnTo>
                  <a:pt x="48" y="438"/>
                </a:lnTo>
                <a:lnTo>
                  <a:pt x="57" y="454"/>
                </a:lnTo>
                <a:lnTo>
                  <a:pt x="63" y="461"/>
                </a:lnTo>
                <a:lnTo>
                  <a:pt x="71" y="469"/>
                </a:lnTo>
                <a:lnTo>
                  <a:pt x="80" y="475"/>
                </a:lnTo>
                <a:lnTo>
                  <a:pt x="92" y="481"/>
                </a:lnTo>
                <a:lnTo>
                  <a:pt x="105" y="485"/>
                </a:lnTo>
                <a:lnTo>
                  <a:pt x="121" y="488"/>
                </a:lnTo>
                <a:lnTo>
                  <a:pt x="139" y="490"/>
                </a:lnTo>
                <a:lnTo>
                  <a:pt x="158" y="488"/>
                </a:lnTo>
                <a:lnTo>
                  <a:pt x="181" y="485"/>
                </a:lnTo>
                <a:lnTo>
                  <a:pt x="206" y="478"/>
                </a:lnTo>
                <a:lnTo>
                  <a:pt x="241" y="473"/>
                </a:lnTo>
                <a:lnTo>
                  <a:pt x="271" y="478"/>
                </a:lnTo>
                <a:lnTo>
                  <a:pt x="321" y="473"/>
                </a:lnTo>
                <a:lnTo>
                  <a:pt x="309" y="493"/>
                </a:lnTo>
                <a:lnTo>
                  <a:pt x="348" y="493"/>
                </a:lnTo>
                <a:lnTo>
                  <a:pt x="351" y="542"/>
                </a:lnTo>
                <a:lnTo>
                  <a:pt x="351" y="553"/>
                </a:lnTo>
                <a:lnTo>
                  <a:pt x="350" y="574"/>
                </a:lnTo>
                <a:lnTo>
                  <a:pt x="350" y="586"/>
                </a:lnTo>
                <a:lnTo>
                  <a:pt x="350" y="595"/>
                </a:lnTo>
                <a:lnTo>
                  <a:pt x="353" y="604"/>
                </a:lnTo>
                <a:lnTo>
                  <a:pt x="354" y="606"/>
                </a:lnTo>
                <a:lnTo>
                  <a:pt x="356" y="607"/>
                </a:lnTo>
                <a:lnTo>
                  <a:pt x="366" y="613"/>
                </a:lnTo>
                <a:lnTo>
                  <a:pt x="378" y="624"/>
                </a:lnTo>
                <a:lnTo>
                  <a:pt x="384" y="630"/>
                </a:lnTo>
                <a:lnTo>
                  <a:pt x="389" y="637"/>
                </a:lnTo>
                <a:lnTo>
                  <a:pt x="392" y="645"/>
                </a:lnTo>
                <a:lnTo>
                  <a:pt x="393" y="654"/>
                </a:lnTo>
                <a:lnTo>
                  <a:pt x="395" y="663"/>
                </a:lnTo>
                <a:lnTo>
                  <a:pt x="396" y="675"/>
                </a:lnTo>
                <a:lnTo>
                  <a:pt x="401" y="701"/>
                </a:lnTo>
                <a:lnTo>
                  <a:pt x="408" y="729"/>
                </a:lnTo>
                <a:lnTo>
                  <a:pt x="404" y="758"/>
                </a:lnTo>
                <a:lnTo>
                  <a:pt x="399" y="784"/>
                </a:lnTo>
                <a:lnTo>
                  <a:pt x="398" y="811"/>
                </a:lnTo>
                <a:lnTo>
                  <a:pt x="399" y="842"/>
                </a:lnTo>
                <a:lnTo>
                  <a:pt x="404" y="878"/>
                </a:lnTo>
                <a:lnTo>
                  <a:pt x="408" y="921"/>
                </a:lnTo>
                <a:lnTo>
                  <a:pt x="443" y="958"/>
                </a:lnTo>
                <a:lnTo>
                  <a:pt x="467" y="987"/>
                </a:lnTo>
                <a:lnTo>
                  <a:pt x="475" y="999"/>
                </a:lnTo>
                <a:lnTo>
                  <a:pt x="478" y="1005"/>
                </a:lnTo>
                <a:lnTo>
                  <a:pt x="475" y="1047"/>
                </a:lnTo>
                <a:lnTo>
                  <a:pt x="470" y="1082"/>
                </a:lnTo>
                <a:lnTo>
                  <a:pt x="532" y="1101"/>
                </a:lnTo>
                <a:lnTo>
                  <a:pt x="589" y="1089"/>
                </a:lnTo>
                <a:lnTo>
                  <a:pt x="619" y="1040"/>
                </a:lnTo>
                <a:lnTo>
                  <a:pt x="689" y="987"/>
                </a:lnTo>
                <a:lnTo>
                  <a:pt x="689" y="925"/>
                </a:lnTo>
                <a:lnTo>
                  <a:pt x="734" y="913"/>
                </a:lnTo>
                <a:lnTo>
                  <a:pt x="734" y="863"/>
                </a:lnTo>
                <a:lnTo>
                  <a:pt x="734" y="818"/>
                </a:lnTo>
                <a:lnTo>
                  <a:pt x="738" y="817"/>
                </a:lnTo>
                <a:lnTo>
                  <a:pt x="749" y="814"/>
                </a:lnTo>
                <a:lnTo>
                  <a:pt x="762" y="808"/>
                </a:lnTo>
                <a:lnTo>
                  <a:pt x="770" y="803"/>
                </a:lnTo>
                <a:lnTo>
                  <a:pt x="778" y="797"/>
                </a:lnTo>
                <a:lnTo>
                  <a:pt x="784" y="790"/>
                </a:lnTo>
                <a:lnTo>
                  <a:pt x="790" y="781"/>
                </a:lnTo>
                <a:lnTo>
                  <a:pt x="796" y="770"/>
                </a:lnTo>
                <a:lnTo>
                  <a:pt x="799" y="756"/>
                </a:lnTo>
                <a:lnTo>
                  <a:pt x="800" y="741"/>
                </a:lnTo>
                <a:lnTo>
                  <a:pt x="800" y="725"/>
                </a:lnTo>
                <a:lnTo>
                  <a:pt x="797" y="705"/>
                </a:lnTo>
                <a:lnTo>
                  <a:pt x="791" y="684"/>
                </a:lnTo>
                <a:lnTo>
                  <a:pt x="788" y="615"/>
                </a:lnTo>
                <a:lnTo>
                  <a:pt x="823" y="577"/>
                </a:lnTo>
                <a:lnTo>
                  <a:pt x="844" y="554"/>
                </a:lnTo>
                <a:lnTo>
                  <a:pt x="866" y="532"/>
                </a:lnTo>
                <a:lnTo>
                  <a:pt x="891" y="503"/>
                </a:lnTo>
                <a:lnTo>
                  <a:pt x="901" y="487"/>
                </a:lnTo>
                <a:lnTo>
                  <a:pt x="912" y="472"/>
                </a:lnTo>
                <a:lnTo>
                  <a:pt x="921" y="455"/>
                </a:lnTo>
                <a:lnTo>
                  <a:pt x="928" y="440"/>
                </a:lnTo>
                <a:lnTo>
                  <a:pt x="934" y="425"/>
                </a:lnTo>
                <a:lnTo>
                  <a:pt x="936" y="410"/>
                </a:lnTo>
                <a:lnTo>
                  <a:pt x="936" y="404"/>
                </a:lnTo>
                <a:lnTo>
                  <a:pt x="934" y="398"/>
                </a:lnTo>
                <a:lnTo>
                  <a:pt x="933" y="392"/>
                </a:lnTo>
                <a:lnTo>
                  <a:pt x="930" y="386"/>
                </a:lnTo>
                <a:lnTo>
                  <a:pt x="915" y="393"/>
                </a:lnTo>
                <a:lnTo>
                  <a:pt x="882" y="407"/>
                </a:lnTo>
                <a:lnTo>
                  <a:pt x="863" y="413"/>
                </a:lnTo>
                <a:lnTo>
                  <a:pt x="847" y="416"/>
                </a:lnTo>
                <a:lnTo>
                  <a:pt x="841" y="417"/>
                </a:lnTo>
                <a:lnTo>
                  <a:pt x="835" y="417"/>
                </a:lnTo>
                <a:lnTo>
                  <a:pt x="832" y="416"/>
                </a:lnTo>
                <a:lnTo>
                  <a:pt x="830" y="413"/>
                </a:lnTo>
                <a:lnTo>
                  <a:pt x="823" y="384"/>
                </a:lnTo>
                <a:lnTo>
                  <a:pt x="818" y="371"/>
                </a:lnTo>
                <a:lnTo>
                  <a:pt x="769" y="309"/>
                </a:lnTo>
                <a:lnTo>
                  <a:pt x="764" y="295"/>
                </a:lnTo>
                <a:lnTo>
                  <a:pt x="762" y="283"/>
                </a:lnTo>
                <a:lnTo>
                  <a:pt x="761" y="271"/>
                </a:lnTo>
                <a:lnTo>
                  <a:pt x="759" y="264"/>
                </a:lnTo>
                <a:lnTo>
                  <a:pt x="756" y="255"/>
                </a:lnTo>
                <a:lnTo>
                  <a:pt x="746" y="234"/>
                </a:lnTo>
                <a:lnTo>
                  <a:pt x="731" y="206"/>
                </a:lnTo>
                <a:lnTo>
                  <a:pt x="684" y="149"/>
                </a:lnTo>
                <a:lnTo>
                  <a:pt x="708" y="131"/>
                </a:lnTo>
                <a:lnTo>
                  <a:pt x="701" y="63"/>
                </a:lnTo>
                <a:lnTo>
                  <a:pt x="699" y="65"/>
                </a:lnTo>
                <a:close/>
              </a:path>
            </a:pathLst>
          </a:custGeom>
          <a:solidFill>
            <a:srgbClr val="cc002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965" name=""/>
          <p:cNvGrpSpPr/>
          <p:nvPr/>
        </p:nvGrpSpPr>
        <p:grpSpPr>
          <a:xfrm>
            <a:off x="6746760" y="4362480"/>
            <a:ext cx="1487520" cy="1167840"/>
            <a:chOff x="6746760" y="4362480"/>
            <a:chExt cx="1487520" cy="1167840"/>
          </a:xfrm>
        </p:grpSpPr>
        <p:grpSp>
          <p:nvGrpSpPr>
            <p:cNvPr id="966" name=""/>
            <p:cNvGrpSpPr/>
            <p:nvPr/>
          </p:nvGrpSpPr>
          <p:grpSpPr>
            <a:xfrm>
              <a:off x="6746760" y="4363560"/>
              <a:ext cx="1487520" cy="1166760"/>
              <a:chOff x="6746760" y="4363560"/>
              <a:chExt cx="1487520" cy="1166760"/>
            </a:xfrm>
          </p:grpSpPr>
          <p:sp>
            <p:nvSpPr>
              <p:cNvPr id="967" name="Freeform 144"/>
              <p:cNvSpPr/>
              <p:nvPr/>
            </p:nvSpPr>
            <p:spPr>
              <a:xfrm>
                <a:off x="7130880" y="4363560"/>
                <a:ext cx="433440" cy="220680"/>
              </a:xfrm>
              <a:custGeom>
                <a:avLst/>
                <a:gdLst>
                  <a:gd name="textAreaLeft" fmla="*/ 0 w 433440"/>
                  <a:gd name="textAreaRight" fmla="*/ 433800 w 433440"/>
                  <a:gd name="textAreaTop" fmla="*/ 0 h 220680"/>
                  <a:gd name="textAreaBottom" fmla="*/ 221040 h 220680"/>
                </a:gdLst>
                <a:ahLst/>
                <a:rect l="textAreaLeft" t="textAreaTop" r="textAreaRight" b="textAreaBottom"/>
                <a:pathLst>
                  <a:path w="273" h="139">
                    <a:moveTo>
                      <a:pt x="86" y="66"/>
                    </a:moveTo>
                    <a:lnTo>
                      <a:pt x="82" y="44"/>
                    </a:lnTo>
                    <a:lnTo>
                      <a:pt x="68" y="41"/>
                    </a:lnTo>
                    <a:lnTo>
                      <a:pt x="38" y="35"/>
                    </a:lnTo>
                    <a:lnTo>
                      <a:pt x="23" y="30"/>
                    </a:lnTo>
                    <a:lnTo>
                      <a:pt x="9" y="24"/>
                    </a:lnTo>
                    <a:lnTo>
                      <a:pt x="5" y="21"/>
                    </a:lnTo>
                    <a:lnTo>
                      <a:pt x="2" y="17"/>
                    </a:lnTo>
                    <a:lnTo>
                      <a:pt x="0" y="14"/>
                    </a:lnTo>
                    <a:lnTo>
                      <a:pt x="2" y="9"/>
                    </a:lnTo>
                    <a:lnTo>
                      <a:pt x="5" y="5"/>
                    </a:lnTo>
                    <a:lnTo>
                      <a:pt x="9" y="3"/>
                    </a:lnTo>
                    <a:lnTo>
                      <a:pt x="14" y="2"/>
                    </a:lnTo>
                    <a:lnTo>
                      <a:pt x="18" y="0"/>
                    </a:lnTo>
                    <a:lnTo>
                      <a:pt x="32" y="0"/>
                    </a:lnTo>
                    <a:lnTo>
                      <a:pt x="44" y="3"/>
                    </a:lnTo>
                    <a:lnTo>
                      <a:pt x="68" y="9"/>
                    </a:lnTo>
                    <a:lnTo>
                      <a:pt x="79" y="14"/>
                    </a:lnTo>
                    <a:lnTo>
                      <a:pt x="140" y="9"/>
                    </a:lnTo>
                    <a:lnTo>
                      <a:pt x="163" y="44"/>
                    </a:lnTo>
                    <a:lnTo>
                      <a:pt x="208" y="44"/>
                    </a:lnTo>
                    <a:lnTo>
                      <a:pt x="223" y="89"/>
                    </a:lnTo>
                    <a:lnTo>
                      <a:pt x="273" y="116"/>
                    </a:lnTo>
                    <a:lnTo>
                      <a:pt x="268" y="122"/>
                    </a:lnTo>
                    <a:lnTo>
                      <a:pt x="261" y="128"/>
                    </a:lnTo>
                    <a:lnTo>
                      <a:pt x="252" y="134"/>
                    </a:lnTo>
                    <a:lnTo>
                      <a:pt x="240" y="139"/>
                    </a:lnTo>
                    <a:lnTo>
                      <a:pt x="232" y="139"/>
                    </a:lnTo>
                    <a:lnTo>
                      <a:pt x="225" y="139"/>
                    </a:lnTo>
                    <a:lnTo>
                      <a:pt x="217" y="137"/>
                    </a:lnTo>
                    <a:lnTo>
                      <a:pt x="208" y="134"/>
                    </a:lnTo>
                    <a:lnTo>
                      <a:pt x="199" y="130"/>
                    </a:lnTo>
                    <a:lnTo>
                      <a:pt x="190" y="124"/>
                    </a:lnTo>
                    <a:lnTo>
                      <a:pt x="174" y="112"/>
                    </a:lnTo>
                    <a:lnTo>
                      <a:pt x="166" y="106"/>
                    </a:lnTo>
                    <a:lnTo>
                      <a:pt x="164" y="103"/>
                    </a:lnTo>
                    <a:lnTo>
                      <a:pt x="166" y="101"/>
                    </a:lnTo>
                    <a:lnTo>
                      <a:pt x="172" y="103"/>
                    </a:lnTo>
                    <a:lnTo>
                      <a:pt x="186" y="109"/>
                    </a:lnTo>
                    <a:lnTo>
                      <a:pt x="158" y="136"/>
                    </a:lnTo>
                    <a:lnTo>
                      <a:pt x="128" y="113"/>
                    </a:lnTo>
                    <a:lnTo>
                      <a:pt x="94" y="96"/>
                    </a:lnTo>
                    <a:lnTo>
                      <a:pt x="74" y="109"/>
                    </a:lnTo>
                    <a:lnTo>
                      <a:pt x="64" y="78"/>
                    </a:lnTo>
                    <a:lnTo>
                      <a:pt x="86" y="66"/>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68" name="Freeform 145"/>
              <p:cNvSpPr/>
              <p:nvPr/>
            </p:nvSpPr>
            <p:spPr>
              <a:xfrm>
                <a:off x="6746760" y="4595400"/>
                <a:ext cx="873000" cy="693720"/>
              </a:xfrm>
              <a:custGeom>
                <a:avLst/>
                <a:gdLst>
                  <a:gd name="textAreaLeft" fmla="*/ 0 w 873000"/>
                  <a:gd name="textAreaRight" fmla="*/ 873360 w 873000"/>
                  <a:gd name="textAreaTop" fmla="*/ 0 h 693720"/>
                  <a:gd name="textAreaBottom" fmla="*/ 694080 h 693720"/>
                </a:gdLst>
                <a:ahLst/>
                <a:rect l="textAreaLeft" t="textAreaTop" r="textAreaRight" b="textAreaBottom"/>
                <a:pathLst>
                  <a:path w="550" h="437">
                    <a:moveTo>
                      <a:pt x="390" y="92"/>
                    </a:moveTo>
                    <a:lnTo>
                      <a:pt x="293" y="67"/>
                    </a:lnTo>
                    <a:lnTo>
                      <a:pt x="298" y="32"/>
                    </a:lnTo>
                    <a:lnTo>
                      <a:pt x="328" y="32"/>
                    </a:lnTo>
                    <a:lnTo>
                      <a:pt x="328" y="0"/>
                    </a:lnTo>
                    <a:lnTo>
                      <a:pt x="271" y="0"/>
                    </a:lnTo>
                    <a:lnTo>
                      <a:pt x="263" y="3"/>
                    </a:lnTo>
                    <a:lnTo>
                      <a:pt x="253" y="8"/>
                    </a:lnTo>
                    <a:lnTo>
                      <a:pt x="227" y="21"/>
                    </a:lnTo>
                    <a:lnTo>
                      <a:pt x="194" y="42"/>
                    </a:lnTo>
                    <a:lnTo>
                      <a:pt x="167" y="50"/>
                    </a:lnTo>
                    <a:lnTo>
                      <a:pt x="129" y="50"/>
                    </a:lnTo>
                    <a:lnTo>
                      <a:pt x="107" y="82"/>
                    </a:lnTo>
                    <a:lnTo>
                      <a:pt x="96" y="94"/>
                    </a:lnTo>
                    <a:lnTo>
                      <a:pt x="90" y="106"/>
                    </a:lnTo>
                    <a:lnTo>
                      <a:pt x="89" y="110"/>
                    </a:lnTo>
                    <a:lnTo>
                      <a:pt x="87" y="115"/>
                    </a:lnTo>
                    <a:lnTo>
                      <a:pt x="86" y="121"/>
                    </a:lnTo>
                    <a:lnTo>
                      <a:pt x="83" y="125"/>
                    </a:lnTo>
                    <a:lnTo>
                      <a:pt x="73" y="137"/>
                    </a:lnTo>
                    <a:lnTo>
                      <a:pt x="60" y="149"/>
                    </a:lnTo>
                    <a:lnTo>
                      <a:pt x="10" y="149"/>
                    </a:lnTo>
                    <a:lnTo>
                      <a:pt x="0" y="199"/>
                    </a:lnTo>
                    <a:lnTo>
                      <a:pt x="10" y="238"/>
                    </a:lnTo>
                    <a:lnTo>
                      <a:pt x="10" y="296"/>
                    </a:lnTo>
                    <a:lnTo>
                      <a:pt x="13" y="315"/>
                    </a:lnTo>
                    <a:lnTo>
                      <a:pt x="16" y="339"/>
                    </a:lnTo>
                    <a:lnTo>
                      <a:pt x="22" y="362"/>
                    </a:lnTo>
                    <a:lnTo>
                      <a:pt x="25" y="375"/>
                    </a:lnTo>
                    <a:lnTo>
                      <a:pt x="27" y="377"/>
                    </a:lnTo>
                    <a:lnTo>
                      <a:pt x="30" y="378"/>
                    </a:lnTo>
                    <a:lnTo>
                      <a:pt x="39" y="380"/>
                    </a:lnTo>
                    <a:lnTo>
                      <a:pt x="49" y="380"/>
                    </a:lnTo>
                    <a:lnTo>
                      <a:pt x="61" y="378"/>
                    </a:lnTo>
                    <a:lnTo>
                      <a:pt x="84" y="374"/>
                    </a:lnTo>
                    <a:lnTo>
                      <a:pt x="95" y="372"/>
                    </a:lnTo>
                    <a:lnTo>
                      <a:pt x="194" y="348"/>
                    </a:lnTo>
                    <a:lnTo>
                      <a:pt x="236" y="323"/>
                    </a:lnTo>
                    <a:lnTo>
                      <a:pt x="248" y="324"/>
                    </a:lnTo>
                    <a:lnTo>
                      <a:pt x="275" y="330"/>
                    </a:lnTo>
                    <a:lnTo>
                      <a:pt x="290" y="336"/>
                    </a:lnTo>
                    <a:lnTo>
                      <a:pt x="306" y="341"/>
                    </a:lnTo>
                    <a:lnTo>
                      <a:pt x="319" y="348"/>
                    </a:lnTo>
                    <a:lnTo>
                      <a:pt x="324" y="353"/>
                    </a:lnTo>
                    <a:lnTo>
                      <a:pt x="328" y="356"/>
                    </a:lnTo>
                    <a:lnTo>
                      <a:pt x="358" y="393"/>
                    </a:lnTo>
                    <a:lnTo>
                      <a:pt x="382" y="425"/>
                    </a:lnTo>
                    <a:lnTo>
                      <a:pt x="387" y="430"/>
                    </a:lnTo>
                    <a:lnTo>
                      <a:pt x="396" y="434"/>
                    </a:lnTo>
                    <a:lnTo>
                      <a:pt x="406" y="436"/>
                    </a:lnTo>
                    <a:lnTo>
                      <a:pt x="417" y="437"/>
                    </a:lnTo>
                    <a:lnTo>
                      <a:pt x="435" y="437"/>
                    </a:lnTo>
                    <a:lnTo>
                      <a:pt x="443" y="437"/>
                    </a:lnTo>
                    <a:lnTo>
                      <a:pt x="482" y="406"/>
                    </a:lnTo>
                    <a:lnTo>
                      <a:pt x="485" y="401"/>
                    </a:lnTo>
                    <a:lnTo>
                      <a:pt x="494" y="390"/>
                    </a:lnTo>
                    <a:lnTo>
                      <a:pt x="504" y="377"/>
                    </a:lnTo>
                    <a:lnTo>
                      <a:pt x="507" y="371"/>
                    </a:lnTo>
                    <a:lnTo>
                      <a:pt x="507" y="363"/>
                    </a:lnTo>
                    <a:lnTo>
                      <a:pt x="507" y="333"/>
                    </a:lnTo>
                    <a:lnTo>
                      <a:pt x="539" y="283"/>
                    </a:lnTo>
                    <a:lnTo>
                      <a:pt x="550" y="219"/>
                    </a:lnTo>
                    <a:lnTo>
                      <a:pt x="535" y="190"/>
                    </a:lnTo>
                    <a:lnTo>
                      <a:pt x="519" y="166"/>
                    </a:lnTo>
                    <a:lnTo>
                      <a:pt x="512" y="155"/>
                    </a:lnTo>
                    <a:lnTo>
                      <a:pt x="504" y="146"/>
                    </a:lnTo>
                    <a:lnTo>
                      <a:pt x="486" y="131"/>
                    </a:lnTo>
                    <a:lnTo>
                      <a:pt x="468" y="118"/>
                    </a:lnTo>
                    <a:lnTo>
                      <a:pt x="447" y="104"/>
                    </a:lnTo>
                    <a:lnTo>
                      <a:pt x="435" y="54"/>
                    </a:lnTo>
                    <a:lnTo>
                      <a:pt x="382" y="8"/>
                    </a:lnTo>
                    <a:lnTo>
                      <a:pt x="385" y="82"/>
                    </a:lnTo>
                    <a:lnTo>
                      <a:pt x="390" y="92"/>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69" name="Freeform 146"/>
              <p:cNvSpPr/>
              <p:nvPr/>
            </p:nvSpPr>
            <p:spPr>
              <a:xfrm>
                <a:off x="7358040" y="5344560"/>
                <a:ext cx="193680" cy="103320"/>
              </a:xfrm>
              <a:custGeom>
                <a:avLst/>
                <a:gdLst>
                  <a:gd name="textAreaLeft" fmla="*/ 0 w 193680"/>
                  <a:gd name="textAreaRight" fmla="*/ 194040 w 193680"/>
                  <a:gd name="textAreaTop" fmla="*/ 0 h 103320"/>
                  <a:gd name="textAreaBottom" fmla="*/ 103680 h 103320"/>
                </a:gdLst>
                <a:ahLst/>
                <a:rect l="textAreaLeft" t="textAreaTop" r="textAreaRight" b="textAreaBottom"/>
                <a:pathLst>
                  <a:path w="122" h="65">
                    <a:moveTo>
                      <a:pt x="65" y="65"/>
                    </a:moveTo>
                    <a:lnTo>
                      <a:pt x="35" y="45"/>
                    </a:lnTo>
                    <a:lnTo>
                      <a:pt x="0" y="15"/>
                    </a:lnTo>
                    <a:lnTo>
                      <a:pt x="31" y="0"/>
                    </a:lnTo>
                    <a:lnTo>
                      <a:pt x="73" y="3"/>
                    </a:lnTo>
                    <a:lnTo>
                      <a:pt x="122" y="10"/>
                    </a:lnTo>
                    <a:lnTo>
                      <a:pt x="100" y="38"/>
                    </a:lnTo>
                    <a:lnTo>
                      <a:pt x="65" y="65"/>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70" name="Freeform 147"/>
              <p:cNvSpPr/>
              <p:nvPr/>
            </p:nvSpPr>
            <p:spPr>
              <a:xfrm>
                <a:off x="7931160" y="5344560"/>
                <a:ext cx="180720" cy="185760"/>
              </a:xfrm>
              <a:custGeom>
                <a:avLst/>
                <a:gdLst>
                  <a:gd name="textAreaLeft" fmla="*/ 0 w 180720"/>
                  <a:gd name="textAreaRight" fmla="*/ 181080 w 180720"/>
                  <a:gd name="textAreaTop" fmla="*/ 0 h 185760"/>
                  <a:gd name="textAreaBottom" fmla="*/ 186120 h 185760"/>
                </a:gdLst>
                <a:ahLst/>
                <a:rect l="textAreaLeft" t="textAreaTop" r="textAreaRight" b="textAreaBottom"/>
                <a:pathLst>
                  <a:path w="114" h="117">
                    <a:moveTo>
                      <a:pt x="42" y="117"/>
                    </a:moveTo>
                    <a:lnTo>
                      <a:pt x="0" y="99"/>
                    </a:lnTo>
                    <a:lnTo>
                      <a:pt x="42" y="53"/>
                    </a:lnTo>
                    <a:lnTo>
                      <a:pt x="42" y="3"/>
                    </a:lnTo>
                    <a:lnTo>
                      <a:pt x="75" y="0"/>
                    </a:lnTo>
                    <a:lnTo>
                      <a:pt x="114" y="0"/>
                    </a:lnTo>
                    <a:lnTo>
                      <a:pt x="107" y="53"/>
                    </a:lnTo>
                    <a:lnTo>
                      <a:pt x="67" y="87"/>
                    </a:lnTo>
                    <a:lnTo>
                      <a:pt x="42" y="117"/>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71" name="Freeform 148"/>
              <p:cNvSpPr/>
              <p:nvPr/>
            </p:nvSpPr>
            <p:spPr>
              <a:xfrm>
                <a:off x="8064360" y="5179680"/>
                <a:ext cx="169920" cy="133200"/>
              </a:xfrm>
              <a:custGeom>
                <a:avLst/>
                <a:gdLst>
                  <a:gd name="textAreaLeft" fmla="*/ 0 w 169920"/>
                  <a:gd name="textAreaRight" fmla="*/ 170280 w 169920"/>
                  <a:gd name="textAreaTop" fmla="*/ 0 h 133200"/>
                  <a:gd name="textAreaBottom" fmla="*/ 133560 h 133200"/>
                </a:gdLst>
                <a:ahLst/>
                <a:rect l="textAreaLeft" t="textAreaTop" r="textAreaRight" b="textAreaBottom"/>
                <a:pathLst>
                  <a:path w="107" h="84">
                    <a:moveTo>
                      <a:pt x="26" y="77"/>
                    </a:moveTo>
                    <a:lnTo>
                      <a:pt x="0" y="27"/>
                    </a:lnTo>
                    <a:lnTo>
                      <a:pt x="26" y="0"/>
                    </a:lnTo>
                    <a:lnTo>
                      <a:pt x="30" y="3"/>
                    </a:lnTo>
                    <a:lnTo>
                      <a:pt x="42" y="12"/>
                    </a:lnTo>
                    <a:lnTo>
                      <a:pt x="57" y="19"/>
                    </a:lnTo>
                    <a:lnTo>
                      <a:pt x="65" y="22"/>
                    </a:lnTo>
                    <a:lnTo>
                      <a:pt x="72" y="22"/>
                    </a:lnTo>
                    <a:lnTo>
                      <a:pt x="86" y="24"/>
                    </a:lnTo>
                    <a:lnTo>
                      <a:pt x="92" y="25"/>
                    </a:lnTo>
                    <a:lnTo>
                      <a:pt x="98" y="27"/>
                    </a:lnTo>
                    <a:lnTo>
                      <a:pt x="102" y="30"/>
                    </a:lnTo>
                    <a:lnTo>
                      <a:pt x="105" y="35"/>
                    </a:lnTo>
                    <a:lnTo>
                      <a:pt x="107" y="39"/>
                    </a:lnTo>
                    <a:lnTo>
                      <a:pt x="107" y="47"/>
                    </a:lnTo>
                    <a:lnTo>
                      <a:pt x="104" y="53"/>
                    </a:lnTo>
                    <a:lnTo>
                      <a:pt x="99" y="59"/>
                    </a:lnTo>
                    <a:lnTo>
                      <a:pt x="95" y="65"/>
                    </a:lnTo>
                    <a:lnTo>
                      <a:pt x="89" y="71"/>
                    </a:lnTo>
                    <a:lnTo>
                      <a:pt x="80" y="78"/>
                    </a:lnTo>
                    <a:lnTo>
                      <a:pt x="75" y="80"/>
                    </a:lnTo>
                    <a:lnTo>
                      <a:pt x="50" y="84"/>
                    </a:lnTo>
                    <a:lnTo>
                      <a:pt x="26" y="77"/>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972" name=""/>
            <p:cNvGrpSpPr/>
            <p:nvPr/>
          </p:nvGrpSpPr>
          <p:grpSpPr>
            <a:xfrm>
              <a:off x="6746760" y="4362480"/>
              <a:ext cx="1487520" cy="1166040"/>
              <a:chOff x="6746760" y="4362480"/>
              <a:chExt cx="1487520" cy="1166040"/>
            </a:xfrm>
          </p:grpSpPr>
          <p:sp>
            <p:nvSpPr>
              <p:cNvPr id="973" name="Freeform 150"/>
              <p:cNvSpPr/>
              <p:nvPr/>
            </p:nvSpPr>
            <p:spPr>
              <a:xfrm>
                <a:off x="7130880" y="4362480"/>
                <a:ext cx="433440" cy="220320"/>
              </a:xfrm>
              <a:custGeom>
                <a:avLst/>
                <a:gdLst>
                  <a:gd name="textAreaLeft" fmla="*/ 0 w 433440"/>
                  <a:gd name="textAreaRight" fmla="*/ 433800 w 433440"/>
                  <a:gd name="textAreaTop" fmla="*/ 0 h 220320"/>
                  <a:gd name="textAreaBottom" fmla="*/ 220680 h 220320"/>
                </a:gdLst>
                <a:ahLst/>
                <a:rect l="textAreaLeft" t="textAreaTop" r="textAreaRight" b="textAreaBottom"/>
                <a:pathLst>
                  <a:path w="273" h="139">
                    <a:moveTo>
                      <a:pt x="86" y="66"/>
                    </a:moveTo>
                    <a:lnTo>
                      <a:pt x="82" y="44"/>
                    </a:lnTo>
                    <a:lnTo>
                      <a:pt x="68" y="41"/>
                    </a:lnTo>
                    <a:lnTo>
                      <a:pt x="38" y="35"/>
                    </a:lnTo>
                    <a:lnTo>
                      <a:pt x="23" y="30"/>
                    </a:lnTo>
                    <a:lnTo>
                      <a:pt x="9" y="24"/>
                    </a:lnTo>
                    <a:lnTo>
                      <a:pt x="5" y="21"/>
                    </a:lnTo>
                    <a:lnTo>
                      <a:pt x="2" y="17"/>
                    </a:lnTo>
                    <a:lnTo>
                      <a:pt x="0" y="14"/>
                    </a:lnTo>
                    <a:lnTo>
                      <a:pt x="2" y="9"/>
                    </a:lnTo>
                    <a:lnTo>
                      <a:pt x="5" y="5"/>
                    </a:lnTo>
                    <a:lnTo>
                      <a:pt x="9" y="3"/>
                    </a:lnTo>
                    <a:lnTo>
                      <a:pt x="14" y="2"/>
                    </a:lnTo>
                    <a:lnTo>
                      <a:pt x="18" y="0"/>
                    </a:lnTo>
                    <a:lnTo>
                      <a:pt x="32" y="0"/>
                    </a:lnTo>
                    <a:lnTo>
                      <a:pt x="44" y="3"/>
                    </a:lnTo>
                    <a:lnTo>
                      <a:pt x="68" y="9"/>
                    </a:lnTo>
                    <a:lnTo>
                      <a:pt x="79" y="14"/>
                    </a:lnTo>
                    <a:lnTo>
                      <a:pt x="140" y="9"/>
                    </a:lnTo>
                    <a:lnTo>
                      <a:pt x="163" y="44"/>
                    </a:lnTo>
                    <a:lnTo>
                      <a:pt x="208" y="44"/>
                    </a:lnTo>
                    <a:lnTo>
                      <a:pt x="223" y="89"/>
                    </a:lnTo>
                    <a:lnTo>
                      <a:pt x="273" y="116"/>
                    </a:lnTo>
                    <a:lnTo>
                      <a:pt x="268" y="122"/>
                    </a:lnTo>
                    <a:lnTo>
                      <a:pt x="261" y="128"/>
                    </a:lnTo>
                    <a:lnTo>
                      <a:pt x="252" y="134"/>
                    </a:lnTo>
                    <a:lnTo>
                      <a:pt x="240" y="139"/>
                    </a:lnTo>
                    <a:lnTo>
                      <a:pt x="232" y="139"/>
                    </a:lnTo>
                    <a:lnTo>
                      <a:pt x="225" y="139"/>
                    </a:lnTo>
                    <a:lnTo>
                      <a:pt x="217" y="137"/>
                    </a:lnTo>
                    <a:lnTo>
                      <a:pt x="208" y="134"/>
                    </a:lnTo>
                    <a:lnTo>
                      <a:pt x="199" y="130"/>
                    </a:lnTo>
                    <a:lnTo>
                      <a:pt x="190" y="124"/>
                    </a:lnTo>
                    <a:lnTo>
                      <a:pt x="174" y="112"/>
                    </a:lnTo>
                    <a:lnTo>
                      <a:pt x="166" y="106"/>
                    </a:lnTo>
                    <a:lnTo>
                      <a:pt x="164" y="103"/>
                    </a:lnTo>
                    <a:lnTo>
                      <a:pt x="166" y="101"/>
                    </a:lnTo>
                    <a:lnTo>
                      <a:pt x="172" y="103"/>
                    </a:lnTo>
                    <a:lnTo>
                      <a:pt x="186" y="109"/>
                    </a:lnTo>
                    <a:lnTo>
                      <a:pt x="158" y="136"/>
                    </a:lnTo>
                    <a:lnTo>
                      <a:pt x="128" y="113"/>
                    </a:lnTo>
                    <a:lnTo>
                      <a:pt x="94" y="96"/>
                    </a:lnTo>
                    <a:lnTo>
                      <a:pt x="74" y="109"/>
                    </a:lnTo>
                    <a:lnTo>
                      <a:pt x="64" y="78"/>
                    </a:lnTo>
                    <a:lnTo>
                      <a:pt x="86" y="66"/>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74" name="Freeform 151"/>
              <p:cNvSpPr/>
              <p:nvPr/>
            </p:nvSpPr>
            <p:spPr>
              <a:xfrm>
                <a:off x="6746760" y="4593960"/>
                <a:ext cx="873000" cy="693360"/>
              </a:xfrm>
              <a:custGeom>
                <a:avLst/>
                <a:gdLst>
                  <a:gd name="textAreaLeft" fmla="*/ 0 w 873000"/>
                  <a:gd name="textAreaRight" fmla="*/ 873360 w 873000"/>
                  <a:gd name="textAreaTop" fmla="*/ 0 h 693360"/>
                  <a:gd name="textAreaBottom" fmla="*/ 693720 h 693360"/>
                </a:gdLst>
                <a:ahLst/>
                <a:rect l="textAreaLeft" t="textAreaTop" r="textAreaRight" b="textAreaBottom"/>
                <a:pathLst>
                  <a:path w="550" h="437">
                    <a:moveTo>
                      <a:pt x="390" y="92"/>
                    </a:moveTo>
                    <a:lnTo>
                      <a:pt x="293" y="67"/>
                    </a:lnTo>
                    <a:lnTo>
                      <a:pt x="298" y="32"/>
                    </a:lnTo>
                    <a:lnTo>
                      <a:pt x="328" y="32"/>
                    </a:lnTo>
                    <a:lnTo>
                      <a:pt x="328" y="0"/>
                    </a:lnTo>
                    <a:lnTo>
                      <a:pt x="271" y="0"/>
                    </a:lnTo>
                    <a:lnTo>
                      <a:pt x="263" y="3"/>
                    </a:lnTo>
                    <a:lnTo>
                      <a:pt x="253" y="8"/>
                    </a:lnTo>
                    <a:lnTo>
                      <a:pt x="227" y="21"/>
                    </a:lnTo>
                    <a:lnTo>
                      <a:pt x="194" y="42"/>
                    </a:lnTo>
                    <a:lnTo>
                      <a:pt x="167" y="50"/>
                    </a:lnTo>
                    <a:lnTo>
                      <a:pt x="129" y="50"/>
                    </a:lnTo>
                    <a:lnTo>
                      <a:pt x="107" y="82"/>
                    </a:lnTo>
                    <a:lnTo>
                      <a:pt x="96" y="94"/>
                    </a:lnTo>
                    <a:lnTo>
                      <a:pt x="90" y="106"/>
                    </a:lnTo>
                    <a:lnTo>
                      <a:pt x="89" y="110"/>
                    </a:lnTo>
                    <a:lnTo>
                      <a:pt x="87" y="115"/>
                    </a:lnTo>
                    <a:lnTo>
                      <a:pt x="86" y="121"/>
                    </a:lnTo>
                    <a:lnTo>
                      <a:pt x="83" y="125"/>
                    </a:lnTo>
                    <a:lnTo>
                      <a:pt x="73" y="137"/>
                    </a:lnTo>
                    <a:lnTo>
                      <a:pt x="60" y="149"/>
                    </a:lnTo>
                    <a:lnTo>
                      <a:pt x="10" y="149"/>
                    </a:lnTo>
                    <a:lnTo>
                      <a:pt x="0" y="199"/>
                    </a:lnTo>
                    <a:lnTo>
                      <a:pt x="10" y="238"/>
                    </a:lnTo>
                    <a:lnTo>
                      <a:pt x="10" y="296"/>
                    </a:lnTo>
                    <a:lnTo>
                      <a:pt x="13" y="315"/>
                    </a:lnTo>
                    <a:lnTo>
                      <a:pt x="16" y="339"/>
                    </a:lnTo>
                    <a:lnTo>
                      <a:pt x="22" y="362"/>
                    </a:lnTo>
                    <a:lnTo>
                      <a:pt x="25" y="375"/>
                    </a:lnTo>
                    <a:lnTo>
                      <a:pt x="27" y="377"/>
                    </a:lnTo>
                    <a:lnTo>
                      <a:pt x="30" y="378"/>
                    </a:lnTo>
                    <a:lnTo>
                      <a:pt x="39" y="380"/>
                    </a:lnTo>
                    <a:lnTo>
                      <a:pt x="49" y="380"/>
                    </a:lnTo>
                    <a:lnTo>
                      <a:pt x="61" y="378"/>
                    </a:lnTo>
                    <a:lnTo>
                      <a:pt x="84" y="374"/>
                    </a:lnTo>
                    <a:lnTo>
                      <a:pt x="95" y="372"/>
                    </a:lnTo>
                    <a:lnTo>
                      <a:pt x="194" y="348"/>
                    </a:lnTo>
                    <a:lnTo>
                      <a:pt x="236" y="323"/>
                    </a:lnTo>
                    <a:lnTo>
                      <a:pt x="248" y="324"/>
                    </a:lnTo>
                    <a:lnTo>
                      <a:pt x="275" y="330"/>
                    </a:lnTo>
                    <a:lnTo>
                      <a:pt x="290" y="336"/>
                    </a:lnTo>
                    <a:lnTo>
                      <a:pt x="306" y="341"/>
                    </a:lnTo>
                    <a:lnTo>
                      <a:pt x="319" y="348"/>
                    </a:lnTo>
                    <a:lnTo>
                      <a:pt x="324" y="353"/>
                    </a:lnTo>
                    <a:lnTo>
                      <a:pt x="328" y="356"/>
                    </a:lnTo>
                    <a:lnTo>
                      <a:pt x="358" y="393"/>
                    </a:lnTo>
                    <a:lnTo>
                      <a:pt x="382" y="425"/>
                    </a:lnTo>
                    <a:lnTo>
                      <a:pt x="387" y="430"/>
                    </a:lnTo>
                    <a:lnTo>
                      <a:pt x="396" y="434"/>
                    </a:lnTo>
                    <a:lnTo>
                      <a:pt x="406" y="436"/>
                    </a:lnTo>
                    <a:lnTo>
                      <a:pt x="417" y="437"/>
                    </a:lnTo>
                    <a:lnTo>
                      <a:pt x="435" y="437"/>
                    </a:lnTo>
                    <a:lnTo>
                      <a:pt x="443" y="437"/>
                    </a:lnTo>
                    <a:lnTo>
                      <a:pt x="482" y="406"/>
                    </a:lnTo>
                    <a:lnTo>
                      <a:pt x="485" y="401"/>
                    </a:lnTo>
                    <a:lnTo>
                      <a:pt x="494" y="390"/>
                    </a:lnTo>
                    <a:lnTo>
                      <a:pt x="504" y="377"/>
                    </a:lnTo>
                    <a:lnTo>
                      <a:pt x="507" y="371"/>
                    </a:lnTo>
                    <a:lnTo>
                      <a:pt x="507" y="363"/>
                    </a:lnTo>
                    <a:lnTo>
                      <a:pt x="507" y="333"/>
                    </a:lnTo>
                    <a:lnTo>
                      <a:pt x="539" y="283"/>
                    </a:lnTo>
                    <a:lnTo>
                      <a:pt x="550" y="219"/>
                    </a:lnTo>
                    <a:lnTo>
                      <a:pt x="535" y="190"/>
                    </a:lnTo>
                    <a:lnTo>
                      <a:pt x="519" y="166"/>
                    </a:lnTo>
                    <a:lnTo>
                      <a:pt x="512" y="155"/>
                    </a:lnTo>
                    <a:lnTo>
                      <a:pt x="504" y="146"/>
                    </a:lnTo>
                    <a:lnTo>
                      <a:pt x="486" y="131"/>
                    </a:lnTo>
                    <a:lnTo>
                      <a:pt x="468" y="118"/>
                    </a:lnTo>
                    <a:lnTo>
                      <a:pt x="447" y="104"/>
                    </a:lnTo>
                    <a:lnTo>
                      <a:pt x="435" y="54"/>
                    </a:lnTo>
                    <a:lnTo>
                      <a:pt x="382" y="8"/>
                    </a:lnTo>
                    <a:lnTo>
                      <a:pt x="385" y="82"/>
                    </a:lnTo>
                    <a:lnTo>
                      <a:pt x="390" y="92"/>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75" name="Freeform 152"/>
              <p:cNvSpPr/>
              <p:nvPr/>
            </p:nvSpPr>
            <p:spPr>
              <a:xfrm>
                <a:off x="7358040" y="5343120"/>
                <a:ext cx="193680" cy="102960"/>
              </a:xfrm>
              <a:custGeom>
                <a:avLst/>
                <a:gdLst>
                  <a:gd name="textAreaLeft" fmla="*/ 0 w 193680"/>
                  <a:gd name="textAreaRight" fmla="*/ 194040 w 193680"/>
                  <a:gd name="textAreaTop" fmla="*/ 0 h 102960"/>
                  <a:gd name="textAreaBottom" fmla="*/ 103320 h 102960"/>
                </a:gdLst>
                <a:ahLst/>
                <a:rect l="textAreaLeft" t="textAreaTop" r="textAreaRight" b="textAreaBottom"/>
                <a:pathLst>
                  <a:path w="122" h="65">
                    <a:moveTo>
                      <a:pt x="65" y="65"/>
                    </a:moveTo>
                    <a:lnTo>
                      <a:pt x="35" y="45"/>
                    </a:lnTo>
                    <a:lnTo>
                      <a:pt x="0" y="15"/>
                    </a:lnTo>
                    <a:lnTo>
                      <a:pt x="31" y="0"/>
                    </a:lnTo>
                    <a:lnTo>
                      <a:pt x="73" y="3"/>
                    </a:lnTo>
                    <a:lnTo>
                      <a:pt x="122" y="10"/>
                    </a:lnTo>
                    <a:lnTo>
                      <a:pt x="100" y="38"/>
                    </a:lnTo>
                    <a:lnTo>
                      <a:pt x="65" y="65"/>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76" name="Freeform 153"/>
              <p:cNvSpPr/>
              <p:nvPr/>
            </p:nvSpPr>
            <p:spPr>
              <a:xfrm>
                <a:off x="7931160" y="5343120"/>
                <a:ext cx="180720" cy="185400"/>
              </a:xfrm>
              <a:custGeom>
                <a:avLst/>
                <a:gdLst>
                  <a:gd name="textAreaLeft" fmla="*/ 0 w 180720"/>
                  <a:gd name="textAreaRight" fmla="*/ 181080 w 180720"/>
                  <a:gd name="textAreaTop" fmla="*/ 0 h 185400"/>
                  <a:gd name="textAreaBottom" fmla="*/ 185760 h 185400"/>
                </a:gdLst>
                <a:ahLst/>
                <a:rect l="textAreaLeft" t="textAreaTop" r="textAreaRight" b="textAreaBottom"/>
                <a:pathLst>
                  <a:path w="114" h="117">
                    <a:moveTo>
                      <a:pt x="42" y="117"/>
                    </a:moveTo>
                    <a:lnTo>
                      <a:pt x="0" y="99"/>
                    </a:lnTo>
                    <a:lnTo>
                      <a:pt x="42" y="53"/>
                    </a:lnTo>
                    <a:lnTo>
                      <a:pt x="42" y="3"/>
                    </a:lnTo>
                    <a:lnTo>
                      <a:pt x="75" y="0"/>
                    </a:lnTo>
                    <a:lnTo>
                      <a:pt x="114" y="0"/>
                    </a:lnTo>
                    <a:lnTo>
                      <a:pt x="107" y="53"/>
                    </a:lnTo>
                    <a:lnTo>
                      <a:pt x="67" y="87"/>
                    </a:lnTo>
                    <a:lnTo>
                      <a:pt x="42" y="117"/>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77" name="Freeform 154"/>
              <p:cNvSpPr/>
              <p:nvPr/>
            </p:nvSpPr>
            <p:spPr>
              <a:xfrm>
                <a:off x="8064360" y="5178240"/>
                <a:ext cx="169920" cy="132840"/>
              </a:xfrm>
              <a:custGeom>
                <a:avLst/>
                <a:gdLst>
                  <a:gd name="textAreaLeft" fmla="*/ 0 w 169920"/>
                  <a:gd name="textAreaRight" fmla="*/ 170280 w 169920"/>
                  <a:gd name="textAreaTop" fmla="*/ 0 h 132840"/>
                  <a:gd name="textAreaBottom" fmla="*/ 133200 h 132840"/>
                </a:gdLst>
                <a:ahLst/>
                <a:rect l="textAreaLeft" t="textAreaTop" r="textAreaRight" b="textAreaBottom"/>
                <a:pathLst>
                  <a:path w="107" h="84">
                    <a:moveTo>
                      <a:pt x="26" y="77"/>
                    </a:moveTo>
                    <a:lnTo>
                      <a:pt x="0" y="27"/>
                    </a:lnTo>
                    <a:lnTo>
                      <a:pt x="26" y="0"/>
                    </a:lnTo>
                    <a:lnTo>
                      <a:pt x="30" y="3"/>
                    </a:lnTo>
                    <a:lnTo>
                      <a:pt x="42" y="12"/>
                    </a:lnTo>
                    <a:lnTo>
                      <a:pt x="57" y="19"/>
                    </a:lnTo>
                    <a:lnTo>
                      <a:pt x="65" y="22"/>
                    </a:lnTo>
                    <a:lnTo>
                      <a:pt x="72" y="22"/>
                    </a:lnTo>
                    <a:lnTo>
                      <a:pt x="86" y="24"/>
                    </a:lnTo>
                    <a:lnTo>
                      <a:pt x="92" y="25"/>
                    </a:lnTo>
                    <a:lnTo>
                      <a:pt x="98" y="27"/>
                    </a:lnTo>
                    <a:lnTo>
                      <a:pt x="102" y="30"/>
                    </a:lnTo>
                    <a:lnTo>
                      <a:pt x="105" y="35"/>
                    </a:lnTo>
                    <a:lnTo>
                      <a:pt x="107" y="39"/>
                    </a:lnTo>
                    <a:lnTo>
                      <a:pt x="107" y="47"/>
                    </a:lnTo>
                    <a:lnTo>
                      <a:pt x="104" y="53"/>
                    </a:lnTo>
                    <a:lnTo>
                      <a:pt x="99" y="59"/>
                    </a:lnTo>
                    <a:lnTo>
                      <a:pt x="95" y="65"/>
                    </a:lnTo>
                    <a:lnTo>
                      <a:pt x="89" y="71"/>
                    </a:lnTo>
                    <a:lnTo>
                      <a:pt x="80" y="78"/>
                    </a:lnTo>
                    <a:lnTo>
                      <a:pt x="75" y="80"/>
                    </a:lnTo>
                    <a:lnTo>
                      <a:pt x="50" y="84"/>
                    </a:lnTo>
                    <a:lnTo>
                      <a:pt x="26" y="77"/>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sp>
        <p:nvSpPr>
          <p:cNvPr id="978" name="AutoShape 155"/>
          <p:cNvSpPr/>
          <p:nvPr/>
        </p:nvSpPr>
        <p:spPr>
          <a:xfrm>
            <a:off x="4336920" y="1482840"/>
            <a:ext cx="158436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urope</a:t>
            </a:r>
            <a:endParaRPr b="0" lang="en-US" sz="1400" spc="-1" strike="noStrike">
              <a:solidFill>
                <a:srgbClr val="000000"/>
              </a:solidFill>
              <a:latin typeface="Gulim"/>
            </a:endParaRPr>
          </a:p>
        </p:txBody>
      </p:sp>
      <p:sp>
        <p:nvSpPr>
          <p:cNvPr id="979" name="AutoShape 156"/>
          <p:cNvSpPr/>
          <p:nvPr/>
        </p:nvSpPr>
        <p:spPr>
          <a:xfrm>
            <a:off x="7270920" y="400356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sia</a:t>
            </a:r>
            <a:endParaRPr b="0" lang="en-US" sz="1400" spc="-1" strike="noStrike">
              <a:solidFill>
                <a:srgbClr val="000000"/>
              </a:solidFill>
              <a:latin typeface="Gulim"/>
            </a:endParaRPr>
          </a:p>
        </p:txBody>
      </p:sp>
      <p:sp>
        <p:nvSpPr>
          <p:cNvPr id="980" name="AutoShape 157"/>
          <p:cNvSpPr/>
          <p:nvPr/>
        </p:nvSpPr>
        <p:spPr>
          <a:xfrm>
            <a:off x="3454560" y="573084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frica</a:t>
            </a:r>
            <a:endParaRPr b="0" lang="en-US" sz="1400" spc="-1" strike="noStrike">
              <a:solidFill>
                <a:srgbClr val="000000"/>
              </a:solidFill>
              <a:latin typeface="Gulim"/>
            </a:endParaRPr>
          </a:p>
        </p:txBody>
      </p:sp>
      <p:sp>
        <p:nvSpPr>
          <p:cNvPr id="981" name="AutoShape 158"/>
          <p:cNvSpPr/>
          <p:nvPr/>
        </p:nvSpPr>
        <p:spPr>
          <a:xfrm>
            <a:off x="6424560" y="5875200"/>
            <a:ext cx="1584360" cy="28764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ustralia</a:t>
            </a:r>
            <a:endParaRPr b="0" lang="en-US" sz="1400" spc="-1" strike="noStrike">
              <a:solidFill>
                <a:srgbClr val="000000"/>
              </a:solidFill>
              <a:latin typeface="Gulim"/>
            </a:endParaRPr>
          </a:p>
        </p:txBody>
      </p:sp>
      <p:sp>
        <p:nvSpPr>
          <p:cNvPr id="982" name="Oval 159"/>
          <p:cNvSpPr/>
          <p:nvPr/>
        </p:nvSpPr>
        <p:spPr>
          <a:xfrm>
            <a:off x="6497640" y="3282840"/>
            <a:ext cx="144360" cy="14472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83" name="Oval 160"/>
          <p:cNvSpPr/>
          <p:nvPr/>
        </p:nvSpPr>
        <p:spPr>
          <a:xfrm>
            <a:off x="5056200" y="2706840"/>
            <a:ext cx="14436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84" name="Oval 161"/>
          <p:cNvSpPr/>
          <p:nvPr/>
        </p:nvSpPr>
        <p:spPr>
          <a:xfrm>
            <a:off x="4840200" y="4219560"/>
            <a:ext cx="14472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85" name="Oval 162"/>
          <p:cNvSpPr/>
          <p:nvPr/>
        </p:nvSpPr>
        <p:spPr>
          <a:xfrm>
            <a:off x="7145280" y="4794120"/>
            <a:ext cx="144360" cy="14472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986" name="AutoShape 163"/>
          <p:cNvCxnSpPr/>
          <p:nvPr/>
        </p:nvCxnSpPr>
        <p:spPr>
          <a:xfrm>
            <a:off x="5128920" y="1769760"/>
            <a:ext cx="1080" cy="927720"/>
          </a:xfrm>
          <a:prstGeom prst="straightConnector1">
            <a:avLst/>
          </a:prstGeom>
          <a:ln w="9360">
            <a:solidFill>
              <a:srgbClr val="000000"/>
            </a:solidFill>
            <a:miter/>
          </a:ln>
        </p:spPr>
      </p:cxnSp>
      <p:cxnSp>
        <p:nvCxnSpPr>
          <p:cNvPr id="987" name="AutoShape 164"/>
          <p:cNvCxnSpPr/>
          <p:nvPr/>
        </p:nvCxnSpPr>
        <p:spPr>
          <a:xfrm>
            <a:off x="6621480" y="3416040"/>
            <a:ext cx="650160" cy="732600"/>
          </a:xfrm>
          <a:prstGeom prst="straightConnector1">
            <a:avLst/>
          </a:prstGeom>
          <a:ln w="9360">
            <a:solidFill>
              <a:srgbClr val="000000"/>
            </a:solidFill>
            <a:miter/>
          </a:ln>
        </p:spPr>
      </p:cxnSp>
      <p:cxnSp>
        <p:nvCxnSpPr>
          <p:cNvPr id="988" name="AutoShape 165"/>
          <p:cNvCxnSpPr/>
          <p:nvPr/>
        </p:nvCxnSpPr>
        <p:spPr>
          <a:xfrm flipH="1">
            <a:off x="7216560" y="4947840"/>
            <a:ext cx="2160" cy="927720"/>
          </a:xfrm>
          <a:prstGeom prst="straightConnector1">
            <a:avLst/>
          </a:prstGeom>
          <a:ln w="9360">
            <a:solidFill>
              <a:srgbClr val="000000"/>
            </a:solidFill>
            <a:miter/>
          </a:ln>
        </p:spPr>
      </p:cxnSp>
      <p:cxnSp>
        <p:nvCxnSpPr>
          <p:cNvPr id="989" name="AutoShape 166"/>
          <p:cNvCxnSpPr/>
          <p:nvPr/>
        </p:nvCxnSpPr>
        <p:spPr>
          <a:xfrm flipH="1">
            <a:off x="4245840" y="4352760"/>
            <a:ext cx="615240" cy="1378800"/>
          </a:xfrm>
          <a:prstGeom prst="straightConnector1">
            <a:avLst/>
          </a:prstGeom>
          <a:ln w="9360">
            <a:solidFill>
              <a:srgbClr val="000000"/>
            </a:solidFill>
            <a:miter/>
          </a:ln>
        </p:spPr>
      </p:cxnSp>
      <p:sp>
        <p:nvSpPr>
          <p:cNvPr id="990"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
        <p:nvSpPr>
          <p:cNvPr id="991" name=""/>
          <p:cNvSpPr/>
          <p:nvPr/>
        </p:nvSpPr>
        <p:spPr>
          <a:xfrm>
            <a:off x="2124000" y="909720"/>
            <a:ext cx="532764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Gulim"/>
              </a:rPr>
              <a:t> </a:t>
            </a:r>
            <a:r>
              <a:rPr b="0" lang="ko-KR" sz="1600" spc="-1" strike="noStrike" u="sng">
                <a:solidFill>
                  <a:srgbClr val="009999"/>
                </a:solidFill>
                <a:uFillTx/>
                <a:latin typeface="Gulim"/>
                <a:hlinkClick r:id="rId2"/>
              </a:rPr>
              <a:t>免费ppt模板</a:t>
            </a:r>
            <a:r>
              <a:rPr b="0" lang="zh-CN" sz="1600" spc="-1" strike="noStrike">
                <a:solidFill>
                  <a:srgbClr val="000000"/>
                </a:solidFill>
                <a:latin typeface="Gulim"/>
              </a:rPr>
              <a:t> </a:t>
            </a:r>
            <a:r>
              <a:rPr b="0" lang="zh-CN" sz="1600" spc="-1" strike="noStrike">
                <a:solidFill>
                  <a:srgbClr val="000000"/>
                </a:solidFill>
                <a:latin typeface="Gulim"/>
              </a:rPr>
              <a:t>http://www.eeppt.com/moban/</a:t>
            </a:r>
            <a:endParaRPr b="0" lang="en-US" sz="1600" spc="-1" strike="noStrike">
              <a:solidFill>
                <a:srgbClr val="000000"/>
              </a:solidFill>
              <a:latin typeface="Gulim"/>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4cb"/>
        </a:solidFill>
      </p:bgPr>
    </p:bg>
    <p:spTree>
      <p:nvGrpSpPr>
        <p:cNvPr id="1" name=""/>
        <p:cNvGrpSpPr/>
        <p:nvPr/>
      </p:nvGrpSpPr>
      <p:grpSpPr>
        <a:xfrm>
          <a:off x="0" y="0"/>
          <a:ext cx="0" cy="0"/>
          <a:chOff x="0" y="0"/>
          <a:chExt cx="0" cy="0"/>
        </a:xfrm>
      </p:grpSpPr>
      <p:sp>
        <p:nvSpPr>
          <p:cNvPr id="992" name="Rectangle 2"/>
          <p:cNvSpPr/>
          <p:nvPr/>
        </p:nvSpPr>
        <p:spPr>
          <a:xfrm>
            <a:off x="0" y="692280"/>
            <a:ext cx="9144000" cy="966600"/>
          </a:xfrm>
          <a:prstGeom prst="rect">
            <a:avLst/>
          </a:prstGeom>
          <a:noFill/>
          <a:ln w="0">
            <a:noFill/>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ea typeface="Arial Unicode MS"/>
              </a:rPr>
              <a:t>THANK YOU</a:t>
            </a:r>
            <a:endParaRPr b="0" lang="en-US" sz="6000" spc="-1" strike="noStrike">
              <a:solidFill>
                <a:srgbClr val="000000"/>
              </a:solidFill>
              <a:latin typeface="Gulim"/>
            </a:endParaRPr>
          </a:p>
        </p:txBody>
      </p:sp>
      <p:sp>
        <p:nvSpPr>
          <p:cNvPr id="993" name="Rectangle 3"/>
          <p:cNvSpPr/>
          <p:nvPr/>
        </p:nvSpPr>
        <p:spPr>
          <a:xfrm>
            <a:off x="0" y="1447920"/>
            <a:ext cx="9144000" cy="618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3d86"/>
                </a:solidFill>
                <a:latin typeface="Arial"/>
                <a:ea typeface="宋体"/>
              </a:rPr>
              <a:t> </a:t>
            </a:r>
            <a:endParaRPr b="0" lang="en-US" sz="2500" spc="-1" strike="noStrike">
              <a:solidFill>
                <a:srgbClr val="000000"/>
              </a:solidFill>
              <a:latin typeface="Gulim"/>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ulim"/>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TextBox 6"/>
          <p:cNvSpPr/>
          <p:nvPr/>
        </p:nvSpPr>
        <p:spPr>
          <a:xfrm>
            <a:off x="1819080" y="1049400"/>
            <a:ext cx="5505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HY헤드라인M"/>
                <a:ea typeface="HY헤드라인M"/>
              </a:rPr>
              <a:t>Png </a:t>
            </a:r>
            <a:r>
              <a:rPr b="0" lang="ko-KR" sz="1300" spc="-1" strike="noStrike">
                <a:solidFill>
                  <a:srgbClr val="ffffff"/>
                </a:solidFill>
                <a:latin typeface="HY헤드라인M"/>
                <a:ea typeface="HY헤드라인M"/>
              </a:rPr>
              <a:t>파일은  크기조절과 이동이  자유롭고  가장자리가 투명하여 어느 배경에서도 조화롭게</a:t>
            </a:r>
            <a:r>
              <a:rPr b="0" lang="en-US" sz="1300" spc="-1" strike="noStrike">
                <a:solidFill>
                  <a:srgbClr val="ffffff"/>
                </a:solidFill>
                <a:latin typeface="HY헤드라인M"/>
                <a:ea typeface="HY헤드라인M"/>
              </a:rPr>
              <a:t> </a:t>
            </a:r>
            <a:r>
              <a:rPr b="0" lang="ko-KR" sz="1300" spc="-1" strike="noStrike">
                <a:solidFill>
                  <a:srgbClr val="ffffff"/>
                </a:solidFill>
                <a:latin typeface="HY헤드라인M"/>
                <a:ea typeface="HY헤드라인M"/>
              </a:rPr>
              <a:t>사용할 수 있습니다</a:t>
            </a:r>
            <a:r>
              <a:rPr b="0" lang="en-US" sz="1300" spc="-1" strike="noStrike">
                <a:solidFill>
                  <a:srgbClr val="ffffff"/>
                </a:solidFill>
                <a:latin typeface="HY헤드라인M"/>
                <a:ea typeface="HY헤드라인M"/>
              </a:rPr>
              <a:t>.</a:t>
            </a:r>
            <a:endParaRPr b="0" lang="en-US" sz="1300" spc="-1" strike="noStrike">
              <a:solidFill>
                <a:srgbClr val="000000"/>
              </a:solidFill>
              <a:latin typeface="Gulim"/>
            </a:endParaRPr>
          </a:p>
        </p:txBody>
      </p:sp>
      <p:sp>
        <p:nvSpPr>
          <p:cNvPr id="995" name="TextBox 13"/>
          <p:cNvSpPr/>
          <p:nvPr/>
        </p:nvSpPr>
        <p:spPr>
          <a:xfrm>
            <a:off x="0" y="287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View image source</a:t>
            </a:r>
            <a:endParaRPr b="0" lang="en-US" sz="4400" spc="-1" strike="noStrike">
              <a:solidFill>
                <a:srgbClr val="000000"/>
              </a:solidFill>
              <a:latin typeface="Gulim"/>
            </a:endParaRPr>
          </a:p>
        </p:txBody>
      </p:sp>
      <p:sp>
        <p:nvSpPr>
          <p:cNvPr id="996" name="모서리가 둥근 직사각형 32"/>
          <p:cNvSpPr/>
          <p:nvPr/>
        </p:nvSpPr>
        <p:spPr>
          <a:xfrm>
            <a:off x="1332000" y="2205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1</a:t>
            </a:r>
            <a:endParaRPr b="0" lang="en-US" sz="1400" spc="-1" strike="noStrike">
              <a:solidFill>
                <a:srgbClr val="000000"/>
              </a:solidFill>
              <a:latin typeface="Gulim"/>
            </a:endParaRPr>
          </a:p>
        </p:txBody>
      </p:sp>
      <p:sp>
        <p:nvSpPr>
          <p:cNvPr id="997" name="모서리가 둥근 직사각형 32"/>
          <p:cNvSpPr/>
          <p:nvPr/>
        </p:nvSpPr>
        <p:spPr>
          <a:xfrm>
            <a:off x="3780000" y="20606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2</a:t>
            </a:r>
            <a:endParaRPr b="0" lang="en-US" sz="1400" spc="-1" strike="noStrike">
              <a:solidFill>
                <a:srgbClr val="000000"/>
              </a:solidFill>
              <a:latin typeface="Gulim"/>
            </a:endParaRPr>
          </a:p>
        </p:txBody>
      </p:sp>
      <p:sp>
        <p:nvSpPr>
          <p:cNvPr id="998" name="모서리가 둥근 직사각형 32"/>
          <p:cNvSpPr/>
          <p:nvPr/>
        </p:nvSpPr>
        <p:spPr>
          <a:xfrm>
            <a:off x="6300720" y="249228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3</a:t>
            </a:r>
            <a:endParaRPr b="0" lang="en-US" sz="1400" spc="-1" strike="noStrike">
              <a:solidFill>
                <a:srgbClr val="000000"/>
              </a:solidFill>
              <a:latin typeface="Gulim"/>
            </a:endParaRPr>
          </a:p>
        </p:txBody>
      </p:sp>
      <p:pic>
        <p:nvPicPr>
          <p:cNvPr id="999" name="Picture 42" descr="02"/>
          <p:cNvPicPr/>
          <p:nvPr/>
        </p:nvPicPr>
        <p:blipFill>
          <a:blip r:embed="rId1"/>
          <a:stretch/>
        </p:blipFill>
        <p:spPr>
          <a:xfrm>
            <a:off x="3348000" y="2708280"/>
            <a:ext cx="2448000" cy="2263680"/>
          </a:xfrm>
          <a:prstGeom prst="rect">
            <a:avLst/>
          </a:prstGeom>
          <a:ln w="0">
            <a:noFill/>
          </a:ln>
        </p:spPr>
      </p:pic>
      <p:pic>
        <p:nvPicPr>
          <p:cNvPr id="1000" name="Picture 48" descr="03"/>
          <p:cNvPicPr/>
          <p:nvPr/>
        </p:nvPicPr>
        <p:blipFill>
          <a:blip r:embed="rId2"/>
          <a:stretch/>
        </p:blipFill>
        <p:spPr>
          <a:xfrm>
            <a:off x="5869080" y="3573360"/>
            <a:ext cx="2376360" cy="2271960"/>
          </a:xfrm>
          <a:prstGeom prst="rect">
            <a:avLst/>
          </a:prstGeom>
          <a:ln w="0">
            <a:noFill/>
          </a:ln>
        </p:spPr>
      </p:pic>
      <p:pic>
        <p:nvPicPr>
          <p:cNvPr id="1001" name="Picture 49" descr="01"/>
          <p:cNvPicPr/>
          <p:nvPr/>
        </p:nvPicPr>
        <p:blipFill>
          <a:blip r:embed="rId3"/>
          <a:stretch/>
        </p:blipFill>
        <p:spPr>
          <a:xfrm>
            <a:off x="971640" y="2924280"/>
            <a:ext cx="2224080" cy="2374920"/>
          </a:xfrm>
          <a:prstGeom prst="rect">
            <a:avLst/>
          </a:prstGeom>
          <a:ln w="0">
            <a:noFill/>
          </a:ln>
        </p:spPr>
      </p:pic>
      <p:sp>
        <p:nvSpPr>
          <p:cNvPr id="1002"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
        <p:nvSpPr>
          <p:cNvPr id="1003" name=""/>
          <p:cNvSpPr/>
          <p:nvPr/>
        </p:nvSpPr>
        <p:spPr>
          <a:xfrm>
            <a:off x="1692360" y="5589720"/>
            <a:ext cx="532764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Gulim"/>
              </a:rPr>
              <a:t> </a:t>
            </a:r>
            <a:r>
              <a:rPr b="0" lang="ko-KR" sz="1600" spc="-1" strike="noStrike" u="sng">
                <a:solidFill>
                  <a:srgbClr val="0000ff"/>
                </a:solidFill>
                <a:uFillTx/>
                <a:latin typeface="Gulim"/>
                <a:hlinkClick r:id="rId4"/>
              </a:rPr>
              <a:t>免费ppt模板</a:t>
            </a:r>
            <a:r>
              <a:rPr b="0" lang="zh-CN" sz="1600" spc="-1" strike="noStrike">
                <a:solidFill>
                  <a:srgbClr val="000000"/>
                </a:solidFill>
                <a:latin typeface="Gulim"/>
              </a:rPr>
              <a:t> </a:t>
            </a:r>
            <a:r>
              <a:rPr b="0" lang="zh-CN" sz="1600" spc="-1" strike="noStrike">
                <a:solidFill>
                  <a:srgbClr val="000000"/>
                </a:solidFill>
                <a:latin typeface="Gulim"/>
              </a:rPr>
              <a:t>http://www.eeppt.com/moban/</a:t>
            </a:r>
            <a:endParaRPr b="0" lang="en-US" sz="1600" spc="-1" strike="noStrike">
              <a:solidFill>
                <a:srgbClr val="000000"/>
              </a:solidFill>
              <a:latin typeface="Gulim"/>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e0d2">
            <a:alpha val="0"/>
          </a:srgbClr>
        </a:solidFill>
      </p:bgPr>
    </p:bg>
    <p:spTree>
      <p:nvGrpSpPr>
        <p:cNvPr id="1" name=""/>
        <p:cNvGrpSpPr/>
        <p:nvPr/>
      </p:nvGrpSpPr>
      <p:grpSpPr>
        <a:xfrm>
          <a:off x="0" y="0"/>
          <a:ext cx="0" cy="0"/>
          <a:chOff x="0" y="0"/>
          <a:chExt cx="0" cy="0"/>
        </a:xfrm>
      </p:grpSpPr>
      <p:sp>
        <p:nvSpPr>
          <p:cNvPr id="1004" name="모서리가 둥근 직사각형 32"/>
          <p:cNvSpPr/>
          <p:nvPr/>
        </p:nvSpPr>
        <p:spPr>
          <a:xfrm>
            <a:off x="3564000" y="981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5</a:t>
            </a:r>
            <a:endParaRPr b="0" lang="en-US" sz="1400" spc="-1" strike="noStrike">
              <a:solidFill>
                <a:srgbClr val="000000"/>
              </a:solidFill>
              <a:latin typeface="Gulim"/>
            </a:endParaRPr>
          </a:p>
        </p:txBody>
      </p:sp>
      <p:sp>
        <p:nvSpPr>
          <p:cNvPr id="1005" name="모서리가 둥근 직사각형 32"/>
          <p:cNvSpPr/>
          <p:nvPr/>
        </p:nvSpPr>
        <p:spPr>
          <a:xfrm>
            <a:off x="826920" y="979560"/>
            <a:ext cx="164340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4</a:t>
            </a:r>
            <a:endParaRPr b="0" lang="en-US" sz="1400" spc="-1" strike="noStrike">
              <a:solidFill>
                <a:srgbClr val="000000"/>
              </a:solidFill>
              <a:latin typeface="Gulim"/>
            </a:endParaRPr>
          </a:p>
        </p:txBody>
      </p:sp>
      <p:pic>
        <p:nvPicPr>
          <p:cNvPr id="1006" name="Picture 32" descr="08"/>
          <p:cNvPicPr/>
          <p:nvPr/>
        </p:nvPicPr>
        <p:blipFill>
          <a:blip r:embed="rId1"/>
          <a:stretch/>
        </p:blipFill>
        <p:spPr>
          <a:xfrm>
            <a:off x="4067280" y="1557360"/>
            <a:ext cx="620640" cy="2016000"/>
          </a:xfrm>
          <a:prstGeom prst="rect">
            <a:avLst/>
          </a:prstGeom>
          <a:ln w="0">
            <a:noFill/>
          </a:ln>
        </p:spPr>
      </p:pic>
      <p:pic>
        <p:nvPicPr>
          <p:cNvPr id="1007" name="Picture 33" descr="04"/>
          <p:cNvPicPr/>
          <p:nvPr/>
        </p:nvPicPr>
        <p:blipFill>
          <a:blip r:embed="rId2"/>
          <a:stretch/>
        </p:blipFill>
        <p:spPr>
          <a:xfrm>
            <a:off x="395280" y="1628640"/>
            <a:ext cx="2395440" cy="2264040"/>
          </a:xfrm>
          <a:prstGeom prst="rect">
            <a:avLst/>
          </a:prstGeom>
          <a:ln w="0">
            <a:noFill/>
          </a:ln>
        </p:spPr>
      </p:pic>
      <p:pic>
        <p:nvPicPr>
          <p:cNvPr id="1008" name="Picture 34" descr="07"/>
          <p:cNvPicPr/>
          <p:nvPr/>
        </p:nvPicPr>
        <p:blipFill>
          <a:blip r:embed="rId3"/>
          <a:stretch/>
        </p:blipFill>
        <p:spPr>
          <a:xfrm>
            <a:off x="5364000" y="4292640"/>
            <a:ext cx="1944720" cy="1246320"/>
          </a:xfrm>
          <a:prstGeom prst="rect">
            <a:avLst/>
          </a:prstGeom>
          <a:ln w="0">
            <a:noFill/>
          </a:ln>
        </p:spPr>
      </p:pic>
      <p:pic>
        <p:nvPicPr>
          <p:cNvPr id="1009" name="Picture 35" descr="06"/>
          <p:cNvPicPr/>
          <p:nvPr/>
        </p:nvPicPr>
        <p:blipFill>
          <a:blip r:embed="rId4"/>
          <a:stretch/>
        </p:blipFill>
        <p:spPr>
          <a:xfrm>
            <a:off x="6300720" y="1413000"/>
            <a:ext cx="1436760" cy="1657080"/>
          </a:xfrm>
          <a:prstGeom prst="rect">
            <a:avLst/>
          </a:prstGeom>
          <a:ln w="0">
            <a:noFill/>
          </a:ln>
        </p:spPr>
      </p:pic>
      <p:pic>
        <p:nvPicPr>
          <p:cNvPr id="1010" name="Picture 36" descr="05"/>
          <p:cNvPicPr/>
          <p:nvPr/>
        </p:nvPicPr>
        <p:blipFill>
          <a:blip r:embed="rId5"/>
          <a:stretch/>
        </p:blipFill>
        <p:spPr>
          <a:xfrm>
            <a:off x="2793960" y="4508640"/>
            <a:ext cx="1778040" cy="1800000"/>
          </a:xfrm>
          <a:prstGeom prst="rect">
            <a:avLst/>
          </a:prstGeom>
          <a:ln w="0">
            <a:noFill/>
          </a:ln>
        </p:spPr>
      </p:pic>
      <p:sp>
        <p:nvSpPr>
          <p:cNvPr id="1011" name="모서리가 둥근 직사각형 32"/>
          <p:cNvSpPr/>
          <p:nvPr/>
        </p:nvSpPr>
        <p:spPr>
          <a:xfrm>
            <a:off x="2290680" y="38606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7</a:t>
            </a:r>
            <a:endParaRPr b="0" lang="en-US" sz="1400" spc="-1" strike="noStrike">
              <a:solidFill>
                <a:srgbClr val="000000"/>
              </a:solidFill>
              <a:latin typeface="Gulim"/>
            </a:endParaRPr>
          </a:p>
        </p:txBody>
      </p:sp>
      <p:sp>
        <p:nvSpPr>
          <p:cNvPr id="1012" name="모서리가 둥근 직사각형 32"/>
          <p:cNvSpPr/>
          <p:nvPr/>
        </p:nvSpPr>
        <p:spPr>
          <a:xfrm>
            <a:off x="6300720" y="692280"/>
            <a:ext cx="1643040" cy="43308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6</a:t>
            </a:r>
            <a:endParaRPr b="0" lang="en-US" sz="1400" spc="-1" strike="noStrike">
              <a:solidFill>
                <a:srgbClr val="000000"/>
              </a:solidFill>
              <a:latin typeface="Gulim"/>
            </a:endParaRPr>
          </a:p>
        </p:txBody>
      </p:sp>
      <p:sp>
        <p:nvSpPr>
          <p:cNvPr id="1013" name="모서리가 둥근 직사각형 32"/>
          <p:cNvSpPr/>
          <p:nvPr/>
        </p:nvSpPr>
        <p:spPr>
          <a:xfrm>
            <a:off x="5364000" y="3693960"/>
            <a:ext cx="164340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8</a:t>
            </a:r>
            <a:endParaRPr b="0" lang="en-US" sz="1400" spc="-1" strike="noStrike">
              <a:solidFill>
                <a:srgbClr val="000000"/>
              </a:solidFill>
              <a:latin typeface="Gulim"/>
            </a:endParaRPr>
          </a:p>
        </p:txBody>
      </p:sp>
      <p:sp>
        <p:nvSpPr>
          <p:cNvPr id="1014"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15"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Gulim"/>
              </a:rPr>
              <a:t>使用规范说明</a:t>
            </a:r>
            <a:endParaRPr b="0" lang="en-US" sz="4400" spc="-1" strike="noStrike">
              <a:solidFill>
                <a:srgbClr val="000000"/>
              </a:solidFill>
              <a:latin typeface="Gulim"/>
            </a:endParaRPr>
          </a:p>
        </p:txBody>
      </p:sp>
      <p:sp>
        <p:nvSpPr>
          <p:cNvPr id="1016"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Gulim"/>
              </a:rPr>
              <a:t>站点介绍</a:t>
            </a:r>
            <a:r>
              <a:rPr b="1" lang="ko-KR" sz="1400" spc="-1" strike="noStrike">
                <a:solidFill>
                  <a:srgbClr val="ededed"/>
                </a:solidFill>
                <a:latin typeface="Gulim"/>
              </a:rPr>
              <a:t>：</a:t>
            </a:r>
            <a:endParaRPr b="0" lang="en-US" sz="14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ededed"/>
                </a:solidFill>
                <a:latin typeface="Gulim"/>
              </a:rPr>
              <a:t>PPT</a:t>
            </a:r>
            <a:r>
              <a:rPr b="1" lang="ko-KR" sz="1400" spc="-1" strike="noStrike">
                <a:solidFill>
                  <a:srgbClr val="ededed"/>
                </a:solidFill>
                <a:latin typeface="Gulim"/>
              </a:rPr>
              <a:t>模板下载网站</a:t>
            </a:r>
            <a:r>
              <a:rPr b="1" lang="zh-CN" sz="1400" spc="-1" strike="noStrike">
                <a:solidFill>
                  <a:srgbClr val="e8eff7"/>
                </a:solidFill>
                <a:latin typeface="Gulim"/>
              </a:rPr>
              <a:t>www.eeppt.com</a:t>
            </a:r>
            <a:r>
              <a:rPr b="1" lang="ko-KR" sz="1400" spc="-1" strike="noStrike">
                <a:solidFill>
                  <a:srgbClr val="ededed"/>
                </a:solidFill>
                <a:latin typeface="Gulim"/>
              </a:rPr>
              <a:t>为您提供免费</a:t>
            </a:r>
            <a:r>
              <a:rPr b="1" lang="ko-KR" sz="1400" spc="-1" strike="noStrike">
                <a:solidFill>
                  <a:srgbClr val="ededed"/>
                </a:solidFill>
                <a:latin typeface="Gulim"/>
              </a:rPr>
              <a:t>ppt</a:t>
            </a:r>
            <a:r>
              <a:rPr b="1" lang="ko-KR" sz="1400" spc="-1" strike="noStrike">
                <a:solidFill>
                  <a:srgbClr val="ededed"/>
                </a:solidFill>
                <a:latin typeface="Gulim"/>
              </a:rPr>
              <a:t>模板下载，有好看的</a:t>
            </a:r>
            <a:r>
              <a:rPr b="1" lang="ko-KR" sz="1400" spc="-1" strike="noStrike">
                <a:solidFill>
                  <a:srgbClr val="ededed"/>
                </a:solidFill>
                <a:latin typeface="Gulim"/>
              </a:rPr>
              <a:t>ppt</a:t>
            </a:r>
            <a:r>
              <a:rPr b="1" lang="ko-KR" sz="1400" spc="-1" strike="noStrike">
                <a:solidFill>
                  <a:srgbClr val="ededed"/>
                </a:solidFill>
                <a:latin typeface="Gulim"/>
              </a:rPr>
              <a:t>模板，</a:t>
            </a:r>
            <a:r>
              <a:rPr b="1" lang="ko-KR" sz="1400" spc="-1" strike="noStrike">
                <a:solidFill>
                  <a:srgbClr val="ededed"/>
                </a:solidFill>
                <a:latin typeface="Gulim"/>
              </a:rPr>
              <a:t>ppt</a:t>
            </a:r>
            <a:r>
              <a:rPr b="1" lang="ko-KR" sz="1400" spc="-1" strike="noStrike">
                <a:solidFill>
                  <a:srgbClr val="ededed"/>
                </a:solidFill>
                <a:latin typeface="Gulim"/>
              </a:rPr>
              <a:t>背景图片，</a:t>
            </a:r>
            <a:r>
              <a:rPr b="1" lang="ko-KR" sz="1400" spc="-1" strike="noStrike">
                <a:solidFill>
                  <a:srgbClr val="ededed"/>
                </a:solidFill>
                <a:latin typeface="Gulim"/>
              </a:rPr>
              <a:t>ppt</a:t>
            </a:r>
            <a:r>
              <a:rPr b="1" lang="ko-KR" sz="1400" spc="-1" strike="noStrike">
                <a:solidFill>
                  <a:srgbClr val="ededed"/>
                </a:solidFill>
                <a:latin typeface="Gulim"/>
              </a:rPr>
              <a:t>素材，</a:t>
            </a:r>
            <a:r>
              <a:rPr b="1" lang="ko-KR" sz="1400" spc="-1" strike="noStrike">
                <a:solidFill>
                  <a:srgbClr val="ededed"/>
                </a:solidFill>
                <a:latin typeface="Gulim"/>
              </a:rPr>
              <a:t>ppt</a:t>
            </a:r>
            <a:r>
              <a:rPr b="1" lang="ko-KR" sz="1400" spc="-1" strike="noStrike">
                <a:solidFill>
                  <a:srgbClr val="ededed"/>
                </a:solidFill>
                <a:latin typeface="Gulim"/>
              </a:rPr>
              <a:t>图表，动态</a:t>
            </a:r>
            <a:r>
              <a:rPr b="1" lang="ko-KR" sz="1400" spc="-1" strike="noStrike">
                <a:solidFill>
                  <a:srgbClr val="ededed"/>
                </a:solidFill>
                <a:latin typeface="Gulim"/>
              </a:rPr>
              <a:t>ppt</a:t>
            </a:r>
            <a:r>
              <a:rPr b="1" lang="ko-KR" sz="1400" spc="-1" strike="noStrike">
                <a:solidFill>
                  <a:srgbClr val="ededed"/>
                </a:solidFill>
                <a:latin typeface="Gulim"/>
              </a:rPr>
              <a:t>模板大全，幻灯片模板，</a:t>
            </a:r>
            <a:r>
              <a:rPr b="1" lang="ko-KR" sz="1400" spc="-1" strike="noStrike">
                <a:solidFill>
                  <a:srgbClr val="ededed"/>
                </a:solidFill>
                <a:latin typeface="Gulim"/>
              </a:rPr>
              <a:t>Powe</a:t>
            </a:r>
            <a:r>
              <a:rPr b="1" lang="ko-KR" sz="1400" spc="-1" strike="noStrike">
                <a:solidFill>
                  <a:srgbClr val="e8eff7"/>
                </a:solidFill>
                <a:latin typeface="Gulim"/>
              </a:rPr>
              <a:t>rPoint</a:t>
            </a:r>
            <a:r>
              <a:rPr b="1" lang="ko-KR" sz="1400" spc="-1" strike="noStrike">
                <a:solidFill>
                  <a:srgbClr val="e8eff7"/>
                </a:solidFill>
                <a:latin typeface="Gulim"/>
              </a:rPr>
              <a:t>模板等各类</a:t>
            </a:r>
            <a:r>
              <a:rPr b="1" lang="ko-KR" sz="1400" spc="-1" strike="noStrike">
                <a:solidFill>
                  <a:srgbClr val="e8eff7"/>
                </a:solidFill>
                <a:latin typeface="Gulim"/>
              </a:rPr>
              <a:t>ppt</a:t>
            </a:r>
            <a:r>
              <a:rPr b="1" lang="ko-KR" sz="1400" spc="-1" strike="noStrike">
                <a:solidFill>
                  <a:srgbClr val="e8eff7"/>
                </a:solidFill>
                <a:latin typeface="Gulim"/>
              </a:rPr>
              <a:t>模板免费下载。</a:t>
            </a:r>
            <a:r>
              <a:rPr b="1" lang="zh-CN" sz="1400" spc="-1" strike="noStrike">
                <a:solidFill>
                  <a:srgbClr val="e8eff7"/>
                </a:solidFill>
                <a:latin typeface="Gulim"/>
              </a:rPr>
              <a:t>助</a:t>
            </a:r>
            <a:r>
              <a:rPr b="1" lang="ko-KR" sz="1400" spc="-1" strike="noStrike">
                <a:solidFill>
                  <a:srgbClr val="e8eff7"/>
                </a:solidFill>
                <a:latin typeface="Gulim"/>
              </a:rPr>
              <a:t>您轻松制作出精美</a:t>
            </a:r>
            <a:r>
              <a:rPr b="1" lang="ko-KR" sz="1400" spc="-1" strike="noStrike">
                <a:solidFill>
                  <a:srgbClr val="e8eff7"/>
                </a:solidFill>
                <a:latin typeface="Gulim"/>
              </a:rPr>
              <a:t>PPT</a:t>
            </a:r>
            <a:r>
              <a:rPr b="1" lang="ko-KR" sz="1400" spc="-1" strike="noStrike">
                <a:solidFill>
                  <a:srgbClr val="e8eff7"/>
                </a:solidFill>
                <a:latin typeface="Gulim"/>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00ff"/>
                </a:solidFill>
                <a:uFillTx/>
                <a:latin typeface="Calibri"/>
                <a:ea typeface="宋体"/>
                <a:hlinkClick r:id="rId2"/>
              </a:rPr>
              <a:t>http://</a:t>
            </a:r>
            <a:r>
              <a:rPr b="0" lang="en-US" sz="1400" spc="-1" strike="noStrike" u="sng">
                <a:solidFill>
                  <a:srgbClr val="0000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ededed"/>
                </a:solidFill>
                <a:latin typeface="Gulim"/>
              </a:rPr>
              <a:t>特别说明：</a:t>
            </a:r>
            <a:endParaRPr b="0" lang="en-US" sz="14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Gulim"/>
              </a:rPr>
              <a:t>该</a:t>
            </a:r>
            <a:r>
              <a:rPr b="1" lang="zh-CN" sz="1400" spc="-1" strike="noStrike">
                <a:solidFill>
                  <a:srgbClr val="ededed"/>
                </a:solidFill>
                <a:latin typeface="Gulim"/>
              </a:rPr>
              <a:t>PPT</a:t>
            </a:r>
            <a:r>
              <a:rPr b="1" lang="zh-CN" sz="1400" spc="-1" strike="noStrike">
                <a:solidFill>
                  <a:srgbClr val="ededed"/>
                </a:solidFill>
                <a:latin typeface="Gulim"/>
              </a:rPr>
              <a:t>模板收集于网络，</a:t>
            </a:r>
            <a:r>
              <a:rPr b="1" lang="ko-KR" sz="1400" spc="-1" strike="noStrike">
                <a:solidFill>
                  <a:srgbClr val="ededed"/>
                </a:solidFill>
                <a:latin typeface="Gulim"/>
              </a:rPr>
              <a:t>仅供学习与参考，请勿用于商业用途。否则产生的一切后果将由您自己承担！如有侵犯您的版权，请及时与我们联系。</a:t>
            </a:r>
            <a:endParaRPr b="0" lang="en-US" sz="14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ulim"/>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Gulim"/>
              </a:rPr>
              <a:t>栏目推荐</a:t>
            </a:r>
            <a:r>
              <a:rPr b="1" lang="ko-KR" sz="1400" spc="-1" strike="noStrike">
                <a:solidFill>
                  <a:srgbClr val="ededed"/>
                </a:solidFill>
                <a:latin typeface="Gulim"/>
              </a:rPr>
              <a:t>：</a:t>
            </a:r>
            <a:endParaRPr b="0" lang="en-US" sz="14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u="sng">
                <a:solidFill>
                  <a:srgbClr val="0000ff"/>
                </a:solidFill>
                <a:uFillTx/>
                <a:latin typeface="Calibri"/>
                <a:ea typeface="宋体"/>
                <a:hlinkClick r:id="rId4"/>
              </a:rPr>
              <a:t>好看的ppt背景图片</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beijing/</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ko-KR" sz="1200" spc="-1" strike="noStrike" u="sng">
                <a:solidFill>
                  <a:srgbClr val="0000ff"/>
                </a:solidFill>
                <a:uFillTx/>
                <a:latin typeface="Calibri"/>
                <a:ea typeface="宋体"/>
                <a:hlinkClick r:id="rId5"/>
              </a:rPr>
              <a:t>动态ppt模板下载</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dongtai/</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u="sng">
                <a:solidFill>
                  <a:srgbClr val="0000ff"/>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a:t>
            </a:r>
            <a:r>
              <a:rPr b="0" lang="zh-CN" sz="1200" spc="-1" strike="noStrike">
                <a:solidFill>
                  <a:srgbClr val="ededed"/>
                </a:solidFill>
                <a:latin typeface="Calibri"/>
                <a:ea typeface="宋体"/>
              </a:rPr>
              <a:t>           </a:t>
            </a:r>
            <a:r>
              <a:rPr b="0" lang="zh-CN" sz="1200" spc="-1" strike="noStrike" u="sng">
                <a:solidFill>
                  <a:srgbClr val="0000ff"/>
                </a:solidFill>
                <a:uFillTx/>
                <a:latin typeface="Calibri"/>
                <a:ea typeface="宋体"/>
                <a:hlinkClick r:id="rId7"/>
              </a:rPr>
              <a:t> </a:t>
            </a:r>
            <a:r>
              <a:rPr b="0" lang="ko-KR" sz="1200" spc="-1" strike="noStrike" u="sng">
                <a:solidFill>
                  <a:srgbClr val="0000ff"/>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chuangyi/</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u="sng">
                <a:solidFill>
                  <a:srgbClr val="0000ff"/>
                </a:solidFill>
                <a:uFillTx/>
                <a:latin typeface="Calibri"/>
                <a:ea typeface="宋体"/>
                <a:hlinkClick r:id="rId9"/>
              </a:rPr>
              <a:t>答辩ppt模板下载</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dabian/</a:t>
            </a:r>
            <a:r>
              <a:rPr b="0" lang="zh-CN" sz="1200" spc="-1" strike="noStrike">
                <a:solidFill>
                  <a:srgbClr val="ededed"/>
                </a:solidFill>
                <a:latin typeface="Calibri"/>
                <a:ea typeface="宋体"/>
              </a:rPr>
              <a:t>            </a:t>
            </a:r>
            <a:r>
              <a:rPr b="0" lang="ko-KR" sz="1200" spc="-1" strike="noStrike" u="sng">
                <a:solidFill>
                  <a:srgbClr val="0000ff"/>
                </a:solidFill>
                <a:uFillTx/>
                <a:latin typeface="Calibri"/>
                <a:ea typeface="宋体"/>
                <a:hlinkClick r:id="rId10"/>
              </a:rPr>
              <a:t>月总结ppt模板</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gongzuo/</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u="sng">
                <a:solidFill>
                  <a:srgbClr val="0000ff"/>
                </a:solidFill>
                <a:uFillTx/>
                <a:latin typeface="Calibri"/>
                <a:ea typeface="宋体"/>
                <a:hlinkClick r:id="rId11"/>
              </a:rPr>
              <a:t>精美ppt模板下载</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jingpin/</a:t>
            </a:r>
            <a:r>
              <a:rPr b="0" lang="zh-CN" sz="1200" spc="-1" strike="noStrike">
                <a:solidFill>
                  <a:srgbClr val="ededed"/>
                </a:solidFill>
                <a:latin typeface="Calibri"/>
                <a:ea typeface="宋体"/>
              </a:rPr>
              <a:t>            </a:t>
            </a:r>
            <a:r>
              <a:rPr b="0" lang="ko-KR" sz="1200" spc="-1" strike="noStrike" u="sng">
                <a:solidFill>
                  <a:srgbClr val="0000ff"/>
                </a:solidFill>
                <a:uFillTx/>
                <a:latin typeface="Calibri"/>
                <a:ea typeface="宋体"/>
                <a:hlinkClick r:id="rId12"/>
              </a:rPr>
              <a:t>说课ppt模板</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kejian/</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u="sng">
                <a:solidFill>
                  <a:srgbClr val="0000ff"/>
                </a:solidFill>
                <a:uFillTx/>
                <a:latin typeface="Calibri"/>
                <a:ea typeface="宋体"/>
                <a:hlinkClick r:id="rId13"/>
              </a:rPr>
              <a:t>企业介绍ppt模板</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qiye/</a:t>
            </a:r>
            <a:r>
              <a:rPr b="0" lang="zh-CN" sz="1200" spc="-1" strike="noStrike">
                <a:solidFill>
                  <a:srgbClr val="ededed"/>
                </a:solidFill>
                <a:latin typeface="Calibri"/>
                <a:ea typeface="宋体"/>
              </a:rPr>
              <a:t>                 </a:t>
            </a:r>
            <a:r>
              <a:rPr b="0" lang="ko-KR" sz="1200" spc="-1" strike="noStrike" u="sng">
                <a:solidFill>
                  <a:srgbClr val="0000ff"/>
                </a:solidFill>
                <a:uFillTx/>
                <a:latin typeface="Calibri"/>
                <a:ea typeface="宋体"/>
                <a:hlinkClick r:id="rId14"/>
              </a:rPr>
              <a:t>商务ppt模板下载</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shangwu/</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u="sng">
                <a:solidFill>
                  <a:srgbClr val="0000ff"/>
                </a:solidFill>
                <a:uFillTx/>
                <a:latin typeface="Calibri"/>
                <a:ea typeface="宋体"/>
                <a:hlinkClick r:id="rId15"/>
              </a:rPr>
              <a:t>市场营销策划ppt</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yingxiao/</a:t>
            </a:r>
            <a:r>
              <a:rPr b="0" lang="zh-CN" sz="1200" spc="-1" strike="noStrike">
                <a:solidFill>
                  <a:srgbClr val="ededed"/>
                </a:solidFill>
                <a:latin typeface="Calibri"/>
                <a:ea typeface="宋体"/>
              </a:rPr>
              <a:t>           </a:t>
            </a:r>
            <a:r>
              <a:rPr b="0" lang="ko-KR" sz="1200" spc="-1" strike="noStrike" u="sng">
                <a:solidFill>
                  <a:srgbClr val="0000ff"/>
                </a:solidFill>
                <a:uFillTx/>
                <a:latin typeface="Calibri"/>
                <a:ea typeface="宋体"/>
                <a:hlinkClick r:id="rId16"/>
              </a:rPr>
              <a:t>ppt素材图片</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sucai/</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u="sng">
                <a:solidFill>
                  <a:srgbClr val="0000ff"/>
                </a:solidFill>
                <a:uFillTx/>
                <a:latin typeface="Calibri"/>
                <a:ea typeface="宋体"/>
                <a:hlinkClick r:id="rId17"/>
              </a:rPr>
              <a:t>ppt图表下载</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tubiao/</a:t>
            </a:r>
            <a:r>
              <a:rPr b="0" lang="zh-CN" sz="1200" spc="-1" strike="noStrike">
                <a:solidFill>
                  <a:srgbClr val="ededed"/>
                </a:solidFill>
                <a:latin typeface="Calibri"/>
                <a:ea typeface="宋体"/>
              </a:rPr>
              <a:t>                                    </a:t>
            </a:r>
            <a:r>
              <a:rPr b="0" lang="zh-CN" sz="1200" spc="-1" strike="noStrike" u="sng">
                <a:solidFill>
                  <a:srgbClr val="0000ff"/>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00ff"/>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00ff"/>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00ff"/>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00ff"/>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1017"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ulim"/>
              </a:rPr>
              <a:t>www.eeppt.com</a:t>
            </a:r>
            <a:endParaRPr b="0" lang="en-US" sz="1400" spc="-1" strike="noStrike">
              <a:solidFill>
                <a:srgbClr val="000000"/>
              </a:solidFill>
              <a:latin typeface="Gulim"/>
            </a:endParaRPr>
          </a:p>
        </p:txBody>
      </p:sp>
      <p:sp>
        <p:nvSpPr>
          <p:cNvPr id="4" name="PlaceHolder 3"/>
          <p:cNvSpPr>
            <a:spLocks noGrp="1"/>
          </p:cNvSpPr>
          <p:nvPr>
            <p:ph type="sldNum" idx="15"/>
          </p:nvPr>
        </p:nvSpPr>
        <p:spPr/>
        <p:txBody>
          <a:bodyPr/>
          <a:p>
            <a:fld id="{957DEFA4-C509-4BE6-9DB9-F6BBEE7EB25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e0d2">
            <a:alpha val="0"/>
          </a:srgbClr>
        </a:solidFill>
      </p:bgPr>
    </p:bg>
    <p:spTree>
      <p:nvGrpSpPr>
        <p:cNvPr id="1" name=""/>
        <p:cNvGrpSpPr/>
        <p:nvPr/>
      </p:nvGrpSpPr>
      <p:grpSpPr>
        <a:xfrm>
          <a:off x="0" y="0"/>
          <a:ext cx="0" cy="0"/>
          <a:chOff x="0" y="0"/>
          <a:chExt cx="0" cy="0"/>
        </a:xfrm>
      </p:grpSpPr>
      <p:grpSp>
        <p:nvGrpSpPr>
          <p:cNvPr id="1018" name=""/>
          <p:cNvGrpSpPr/>
          <p:nvPr/>
        </p:nvGrpSpPr>
        <p:grpSpPr>
          <a:xfrm>
            <a:off x="372960" y="4365720"/>
            <a:ext cx="8231400" cy="1641240"/>
            <a:chOff x="372960" y="4365720"/>
            <a:chExt cx="8231400" cy="1641240"/>
          </a:xfrm>
        </p:grpSpPr>
        <p:pic>
          <p:nvPicPr>
            <p:cNvPr id="1019" name="Picture 219" descr="sub2"/>
            <p:cNvPicPr/>
            <p:nvPr/>
          </p:nvPicPr>
          <p:blipFill>
            <a:blip r:embed="rId1"/>
            <a:stretch/>
          </p:blipFill>
          <p:spPr>
            <a:xfrm>
              <a:off x="372960" y="4365720"/>
              <a:ext cx="8231400" cy="784800"/>
            </a:xfrm>
            <a:prstGeom prst="rect">
              <a:avLst/>
            </a:prstGeom>
            <a:ln w="0">
              <a:noFill/>
            </a:ln>
          </p:spPr>
        </p:pic>
        <p:pic>
          <p:nvPicPr>
            <p:cNvPr id="1020" name="Picture 220" descr="sub"/>
            <p:cNvPicPr/>
            <p:nvPr/>
          </p:nvPicPr>
          <p:blipFill>
            <a:blip r:embed="rId2"/>
            <a:stretch/>
          </p:blipFill>
          <p:spPr>
            <a:xfrm>
              <a:off x="372960" y="5222160"/>
              <a:ext cx="8231400" cy="784800"/>
            </a:xfrm>
            <a:prstGeom prst="rect">
              <a:avLst/>
            </a:prstGeom>
            <a:ln w="0">
              <a:noFill/>
            </a:ln>
          </p:spPr>
        </p:pic>
      </p:grpSp>
      <p:sp>
        <p:nvSpPr>
          <p:cNvPr id="1021" name="모서리가 둥근 직사각형 32"/>
          <p:cNvSpPr/>
          <p:nvPr/>
        </p:nvSpPr>
        <p:spPr>
          <a:xfrm>
            <a:off x="2050920" y="8366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9</a:t>
            </a:r>
            <a:endParaRPr b="0" lang="en-US" sz="1400" spc="-1" strike="noStrike">
              <a:solidFill>
                <a:srgbClr val="000000"/>
              </a:solidFill>
              <a:latin typeface="Gulim"/>
            </a:endParaRPr>
          </a:p>
        </p:txBody>
      </p:sp>
      <p:sp>
        <p:nvSpPr>
          <p:cNvPr id="1022" name="모서리가 둥근 직사각형 32"/>
          <p:cNvSpPr/>
          <p:nvPr/>
        </p:nvSpPr>
        <p:spPr>
          <a:xfrm>
            <a:off x="5148360" y="8366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10</a:t>
            </a:r>
            <a:endParaRPr b="0" lang="en-US" sz="1400" spc="-1" strike="noStrike">
              <a:solidFill>
                <a:srgbClr val="000000"/>
              </a:solidFill>
              <a:latin typeface="Gulim"/>
            </a:endParaRPr>
          </a:p>
        </p:txBody>
      </p:sp>
      <p:sp>
        <p:nvSpPr>
          <p:cNvPr id="1023" name="모서리가 둥근 직사각형 32"/>
          <p:cNvSpPr/>
          <p:nvPr/>
        </p:nvSpPr>
        <p:spPr>
          <a:xfrm>
            <a:off x="755640" y="451008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11</a:t>
            </a:r>
            <a:endParaRPr b="0" lang="en-US" sz="1400" spc="-1" strike="noStrike">
              <a:solidFill>
                <a:srgbClr val="000000"/>
              </a:solidFill>
              <a:latin typeface="Gulim"/>
            </a:endParaRPr>
          </a:p>
        </p:txBody>
      </p:sp>
      <p:sp>
        <p:nvSpPr>
          <p:cNvPr id="1024" name="모서리가 둥근 직사각형 32"/>
          <p:cNvSpPr/>
          <p:nvPr/>
        </p:nvSpPr>
        <p:spPr>
          <a:xfrm>
            <a:off x="826920" y="5373720"/>
            <a:ext cx="164340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12</a:t>
            </a:r>
            <a:endParaRPr b="0" lang="en-US" sz="1400" spc="-1" strike="noStrike">
              <a:solidFill>
                <a:srgbClr val="000000"/>
              </a:solidFill>
              <a:latin typeface="Gulim"/>
            </a:endParaRPr>
          </a:p>
        </p:txBody>
      </p:sp>
      <p:pic>
        <p:nvPicPr>
          <p:cNvPr id="1025" name="Picture 217" descr="09"/>
          <p:cNvPicPr/>
          <p:nvPr/>
        </p:nvPicPr>
        <p:blipFill>
          <a:blip r:embed="rId3"/>
          <a:stretch/>
        </p:blipFill>
        <p:spPr>
          <a:xfrm>
            <a:off x="1974960" y="1413000"/>
            <a:ext cx="2381040" cy="2751120"/>
          </a:xfrm>
          <a:prstGeom prst="rect">
            <a:avLst/>
          </a:prstGeom>
          <a:ln w="0">
            <a:noFill/>
          </a:ln>
        </p:spPr>
      </p:pic>
      <p:pic>
        <p:nvPicPr>
          <p:cNvPr id="1026" name="Picture 218" descr="10"/>
          <p:cNvPicPr/>
          <p:nvPr/>
        </p:nvPicPr>
        <p:blipFill>
          <a:blip r:embed="rId4"/>
          <a:stretch/>
        </p:blipFill>
        <p:spPr>
          <a:xfrm>
            <a:off x="5051520" y="1536840"/>
            <a:ext cx="2184480" cy="2684160"/>
          </a:xfrm>
          <a:prstGeom prst="rect">
            <a:avLst/>
          </a:prstGeom>
          <a:ln w="0">
            <a:noFill/>
          </a:ln>
        </p:spPr>
      </p:pic>
      <p:sp>
        <p:nvSpPr>
          <p:cNvPr id="1027"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2" name="PlaceHolder 1"/>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Gulim"/>
              </a:rPr>
              <a:t>How Do I Edit Diagrams?</a:t>
            </a:r>
            <a:endParaRPr b="0" lang="en-US" sz="2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o edit diagrams, you should first ungroup them; </a:t>
            </a:r>
            <a:br>
              <a:rPr sz="1400"/>
            </a:br>
            <a:r>
              <a:rPr b="0" lang="en-US" sz="1400" spc="-1" strike="noStrike">
                <a:solidFill>
                  <a:srgbClr val="000000"/>
                </a:solidFill>
                <a:latin typeface="Arial"/>
                <a:ea typeface="Gulim"/>
              </a:rPr>
              <a:t>Open a PowerPoint presentation and navigate to the appropriate slide.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o ungroup diagram </a:t>
            </a:r>
            <a:br>
              <a:rPr sz="1400"/>
            </a:br>
            <a:r>
              <a:rPr b="0" lang="en-US" sz="1400" spc="-1" strike="noStrike">
                <a:solidFill>
                  <a:srgbClr val="000000"/>
                </a:solidFill>
                <a:latin typeface="Arial"/>
                <a:ea typeface="Gulim"/>
              </a:rPr>
              <a:t>Select the diagram you want to ungroup.</a:t>
            </a:r>
            <a:br>
              <a:rPr sz="1400"/>
            </a:br>
            <a:r>
              <a:rPr b="0" lang="en-US" sz="1400" spc="-1" strike="noStrike">
                <a:solidFill>
                  <a:srgbClr val="000000"/>
                </a:solidFill>
                <a:latin typeface="Arial"/>
                <a:ea typeface="Gulim"/>
              </a:rPr>
              <a:t>Right-click the mouse. </a:t>
            </a:r>
            <a:br>
              <a:rPr sz="1400"/>
            </a:br>
            <a:r>
              <a:rPr b="0" lang="en-US" sz="1400" spc="-1" strike="noStrike">
                <a:solidFill>
                  <a:srgbClr val="000000"/>
                </a:solidFill>
                <a:latin typeface="Arial"/>
                <a:ea typeface="Gulim"/>
              </a:rPr>
              <a:t>Select Grouping &gt; Ungroup. PowerPoint ungroups the object.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o group objects</a:t>
            </a:r>
            <a:br>
              <a:rPr sz="1400"/>
            </a:br>
            <a:r>
              <a:rPr b="0" lang="en-US" sz="1400" spc="-1" strike="noStrike">
                <a:solidFill>
                  <a:srgbClr val="000000"/>
                </a:solidFill>
                <a:latin typeface="Arial"/>
                <a:ea typeface="Gulim"/>
              </a:rPr>
              <a:t>Select the objects you want to group. (Press Shift as you click on the objects.</a:t>
            </a:r>
            <a:br>
              <a:rPr sz="1400"/>
            </a:br>
            <a:r>
              <a:rPr b="0" lang="en-US" sz="1400" spc="-1" strike="noStrike">
                <a:solidFill>
                  <a:srgbClr val="000000"/>
                </a:solidFill>
                <a:latin typeface="Arial"/>
                <a:ea typeface="Gulim"/>
              </a:rPr>
              <a:t>Press Ctrl and right-click the mouse.</a:t>
            </a:r>
            <a:br>
              <a:rPr sz="1400"/>
            </a:br>
            <a:r>
              <a:rPr b="0" lang="en-US" sz="1400" spc="-1" strike="noStrike">
                <a:solidFill>
                  <a:srgbClr val="000000"/>
                </a:solidFill>
                <a:latin typeface="Arial"/>
                <a:ea typeface="Gulim"/>
              </a:rPr>
              <a:t>Select Grouping &gt; Group. PowerPoint groups the objects into a single object.</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Each work is featured with simplicity but supreme beauty.</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3" name="PlaceHolder 2"/>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8000"/>
                </a:solidFill>
                <a:latin typeface="HY헤드라인M"/>
              </a:rPr>
              <a:t>Click To Type Slide Title</a:t>
            </a:r>
            <a:endParaRPr b="0" lang="en-US" sz="2600" spc="-1" strike="noStrike">
              <a:solidFill>
                <a:srgbClr val="325c00"/>
              </a:solidFill>
              <a:latin typeface="HY헤드라인M"/>
            </a:endParaRPr>
          </a:p>
        </p:txBody>
      </p:sp>
      <p:sp>
        <p:nvSpPr>
          <p:cNvPr id="294"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cb"/>
            </a:gs>
            <a:gs pos="100000">
              <a:srgbClr val="fffbeb"/>
            </a:gs>
          </a:gsLst>
          <a:lin ang="5400000"/>
        </a:gradFill>
      </p:bgPr>
    </p:bg>
    <p:spTree>
      <p:nvGrpSpPr>
        <p:cNvPr id="1" name=""/>
        <p:cNvGrpSpPr/>
        <p:nvPr/>
      </p:nvGrpSpPr>
      <p:grpSpPr>
        <a:xfrm>
          <a:off x="0" y="0"/>
          <a:ext cx="0" cy="0"/>
          <a:chOff x="0" y="0"/>
          <a:chExt cx="0" cy="0"/>
        </a:xfrm>
      </p:grpSpPr>
      <p:sp>
        <p:nvSpPr>
          <p:cNvPr id="295" name="PlaceHolder 1"/>
          <p:cNvSpPr>
            <a:spLocks noGrp="1"/>
          </p:cNvSpPr>
          <p:nvPr>
            <p:ph/>
          </p:nvPr>
        </p:nvSpPr>
        <p:spPr>
          <a:xfrm>
            <a:off x="457200" y="1125360"/>
            <a:ext cx="8229600" cy="442440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Gulim"/>
              </a:rPr>
              <a:t>Pictures speak 1,000 words!</a:t>
            </a:r>
            <a:endParaRPr b="0" lang="en-US" sz="2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Design Inspiration</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Clarity &amp; Impact</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Premium Design</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Subtle Touch</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Visual Appealing</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Stylish Design</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Simplicity &amp; Beauty</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3D Effect</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Each work is featured with simplicity but supreme beauty.</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PlaceHolder 2"/>
          <p:cNvSpPr>
            <a:spLocks noGrp="1"/>
          </p:cNvSpPr>
          <p:nvPr>
            <p:ph type="title"/>
          </p:nvPr>
        </p:nvSpPr>
        <p:spPr>
          <a:xfrm>
            <a:off x="250920" y="274680"/>
            <a:ext cx="874872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2533"/>
              </a:solidFill>
              <a:latin typeface="HY헤드라인M"/>
            </a:endParaRPr>
          </a:p>
        </p:txBody>
      </p:sp>
      <p:sp>
        <p:nvSpPr>
          <p:cNvPr id="297"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p:nvPr>
        </p:nvSpPr>
        <p:spPr>
          <a:xfrm>
            <a:off x="539640" y="1197000"/>
            <a:ext cx="8136000" cy="492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2800" spc="-1" strike="noStrike">
              <a:solidFill>
                <a:srgbClr val="000000"/>
              </a:solidFill>
              <a:latin typeface="Arial"/>
              <a:ea typeface="Gulim"/>
            </a:endParaRPr>
          </a:p>
        </p:txBody>
      </p:sp>
      <p:sp>
        <p:nvSpPr>
          <p:cNvPr id="299" name="PlaceHolder 2"/>
          <p:cNvSpPr>
            <a:spLocks noGrp="1"/>
          </p:cNvSpPr>
          <p:nvPr>
            <p:ph type="title"/>
          </p:nvPr>
        </p:nvSpPr>
        <p:spPr>
          <a:xfrm>
            <a:off x="539640" y="274680"/>
            <a:ext cx="81360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a50021"/>
                </a:solidFill>
                <a:latin typeface="HY헤드라인M"/>
              </a:rPr>
              <a:t>Click To Type Slide Title</a:t>
            </a:r>
            <a:endParaRPr b="0" lang="en-US" sz="2600" spc="-1" strike="noStrike">
              <a:solidFill>
                <a:srgbClr val="a50021"/>
              </a:solidFill>
              <a:latin typeface="HY헤드라인M"/>
            </a:endParaRPr>
          </a:p>
        </p:txBody>
      </p:sp>
      <p:sp>
        <p:nvSpPr>
          <p:cNvPr id="300"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4cb"/>
        </a:solidFill>
      </p:bgPr>
    </p:bg>
    <p:spTree>
      <p:nvGrpSpPr>
        <p:cNvPr id="1" name=""/>
        <p:cNvGrpSpPr/>
        <p:nvPr/>
      </p:nvGrpSpPr>
      <p:grpSpPr>
        <a:xfrm>
          <a:off x="0" y="0"/>
          <a:ext cx="0" cy="0"/>
          <a:chOff x="0" y="0"/>
          <a:chExt cx="0" cy="0"/>
        </a:xfrm>
      </p:grpSpPr>
      <p:sp>
        <p:nvSpPr>
          <p:cNvPr id="301" name="Oval 781"/>
          <p:cNvSpPr/>
          <p:nvPr/>
        </p:nvSpPr>
        <p:spPr>
          <a:xfrm>
            <a:off x="611280" y="5157720"/>
            <a:ext cx="2016000" cy="90648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2" name="PlaceHolder 1"/>
          <p:cNvSpPr>
            <a:spLocks noGrp="1"/>
          </p:cNvSpPr>
          <p:nvPr>
            <p:ph type="title"/>
          </p:nvPr>
        </p:nvSpPr>
        <p:spPr>
          <a:xfrm>
            <a:off x="355680" y="620640"/>
            <a:ext cx="2641680" cy="50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3d86"/>
                </a:solidFill>
                <a:latin typeface="HY헤드라인M"/>
              </a:rPr>
              <a:t>CONTENTS</a:t>
            </a:r>
            <a:endParaRPr b="0" lang="en-US" sz="4300" spc="-1" strike="noStrike">
              <a:solidFill>
                <a:srgbClr val="005cc8"/>
              </a:solidFill>
              <a:latin typeface="HY헤드라인M"/>
            </a:endParaRPr>
          </a:p>
        </p:txBody>
      </p:sp>
      <p:sp>
        <p:nvSpPr>
          <p:cNvPr id="303" name="AutoShape 707"/>
          <p:cNvSpPr/>
          <p:nvPr/>
        </p:nvSpPr>
        <p:spPr>
          <a:xfrm>
            <a:off x="3743280" y="1378080"/>
            <a:ext cx="4789440" cy="54108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4" name="AutoShape 708"/>
          <p:cNvSpPr/>
          <p:nvPr/>
        </p:nvSpPr>
        <p:spPr>
          <a:xfrm>
            <a:off x="3743280" y="199080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5" name="AutoShape 709"/>
          <p:cNvSpPr/>
          <p:nvPr/>
        </p:nvSpPr>
        <p:spPr>
          <a:xfrm>
            <a:off x="3743280" y="260352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6" name="WordArt 710"/>
          <p:cNvSpPr txBox="1"/>
          <p:nvPr/>
        </p:nvSpPr>
        <p:spPr>
          <a:xfrm>
            <a:off x="4103640" y="155736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07" name="WordArt 711"/>
          <p:cNvSpPr txBox="1"/>
          <p:nvPr/>
        </p:nvSpPr>
        <p:spPr>
          <a:xfrm>
            <a:off x="4103640" y="217008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08" name="WordArt 712"/>
          <p:cNvSpPr txBox="1"/>
          <p:nvPr/>
        </p:nvSpPr>
        <p:spPr>
          <a:xfrm>
            <a:off x="4103640" y="2781360"/>
            <a:ext cx="305928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09" name="AutoShape 713"/>
          <p:cNvSpPr/>
          <p:nvPr/>
        </p:nvSpPr>
        <p:spPr>
          <a:xfrm>
            <a:off x="3743280" y="3213000"/>
            <a:ext cx="4789440" cy="54000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0" name="WordArt 714"/>
          <p:cNvSpPr txBox="1"/>
          <p:nvPr/>
        </p:nvSpPr>
        <p:spPr>
          <a:xfrm>
            <a:off x="4103640" y="339084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11" name="AutoShape 715"/>
          <p:cNvSpPr/>
          <p:nvPr/>
        </p:nvSpPr>
        <p:spPr>
          <a:xfrm>
            <a:off x="3743280" y="3825720"/>
            <a:ext cx="4789440" cy="54000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2" name="WordArt 716"/>
          <p:cNvSpPr txBox="1"/>
          <p:nvPr/>
        </p:nvSpPr>
        <p:spPr>
          <a:xfrm>
            <a:off x="4103640" y="400356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13" name="AutoShape 717"/>
          <p:cNvSpPr/>
          <p:nvPr/>
        </p:nvSpPr>
        <p:spPr>
          <a:xfrm>
            <a:off x="3743280" y="443700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4" name="WordArt 718"/>
          <p:cNvSpPr txBox="1"/>
          <p:nvPr/>
        </p:nvSpPr>
        <p:spPr>
          <a:xfrm>
            <a:off x="4103640" y="461484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15" name="AutoShape 719"/>
          <p:cNvSpPr/>
          <p:nvPr/>
        </p:nvSpPr>
        <p:spPr>
          <a:xfrm>
            <a:off x="3743280" y="5049720"/>
            <a:ext cx="4789440" cy="54000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6" name="WordArt 720"/>
          <p:cNvSpPr txBox="1"/>
          <p:nvPr/>
        </p:nvSpPr>
        <p:spPr>
          <a:xfrm>
            <a:off x="4103640" y="522756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17" name="Oval 722"/>
          <p:cNvSpPr/>
          <p:nvPr/>
        </p:nvSpPr>
        <p:spPr>
          <a:xfrm>
            <a:off x="3132000" y="1413000"/>
            <a:ext cx="465120" cy="468360"/>
          </a:xfrm>
          <a:prstGeom prst="ellipse">
            <a:avLst/>
          </a:prstGeom>
          <a:gradFill rotWithShape="0">
            <a:gsLst>
              <a:gs pos="0">
                <a:srgbClr val="0099cc"/>
              </a:gs>
              <a:gs pos="100000">
                <a:srgbClr val="007da7"/>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1</a:t>
            </a:r>
            <a:endParaRPr b="0" lang="en-US" sz="1800" spc="-1" strike="noStrike">
              <a:solidFill>
                <a:srgbClr val="000000"/>
              </a:solidFill>
              <a:latin typeface="Gulim"/>
            </a:endParaRPr>
          </a:p>
        </p:txBody>
      </p:sp>
      <p:sp>
        <p:nvSpPr>
          <p:cNvPr id="318" name="Oval 723"/>
          <p:cNvSpPr/>
          <p:nvPr/>
        </p:nvSpPr>
        <p:spPr>
          <a:xfrm>
            <a:off x="3297240" y="142236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9" name="Oval 725"/>
          <p:cNvSpPr/>
          <p:nvPr/>
        </p:nvSpPr>
        <p:spPr>
          <a:xfrm>
            <a:off x="3132000" y="2025720"/>
            <a:ext cx="465120" cy="468360"/>
          </a:xfrm>
          <a:prstGeom prst="ellipse">
            <a:avLst/>
          </a:prstGeom>
          <a:gradFill rotWithShape="0">
            <a:gsLst>
              <a:gs pos="0">
                <a:srgbClr val="a50021"/>
              </a:gs>
              <a:gs pos="100000">
                <a:srgbClr val="87001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2</a:t>
            </a:r>
            <a:endParaRPr b="0" lang="en-US" sz="1800" spc="-1" strike="noStrike">
              <a:solidFill>
                <a:srgbClr val="000000"/>
              </a:solidFill>
              <a:latin typeface="Gulim"/>
            </a:endParaRPr>
          </a:p>
        </p:txBody>
      </p:sp>
      <p:sp>
        <p:nvSpPr>
          <p:cNvPr id="320" name="Oval 726"/>
          <p:cNvSpPr/>
          <p:nvPr/>
        </p:nvSpPr>
        <p:spPr>
          <a:xfrm>
            <a:off x="3297240" y="2035080"/>
            <a:ext cx="123840" cy="125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1" name="Oval 728"/>
          <p:cNvSpPr/>
          <p:nvPr/>
        </p:nvSpPr>
        <p:spPr>
          <a:xfrm>
            <a:off x="3132000" y="2637000"/>
            <a:ext cx="465120" cy="468000"/>
          </a:xfrm>
          <a:prstGeom prst="ellipse">
            <a:avLst/>
          </a:prstGeom>
          <a:gradFill rotWithShape="0">
            <a:gsLst>
              <a:gs pos="0">
                <a:srgbClr val="0099cc"/>
              </a:gs>
              <a:gs pos="100000">
                <a:srgbClr val="007da7"/>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3</a:t>
            </a:r>
            <a:endParaRPr b="0" lang="en-US" sz="1800" spc="-1" strike="noStrike">
              <a:solidFill>
                <a:srgbClr val="000000"/>
              </a:solidFill>
              <a:latin typeface="Gulim"/>
            </a:endParaRPr>
          </a:p>
        </p:txBody>
      </p:sp>
      <p:sp>
        <p:nvSpPr>
          <p:cNvPr id="322" name="Oval 729"/>
          <p:cNvSpPr/>
          <p:nvPr/>
        </p:nvSpPr>
        <p:spPr>
          <a:xfrm>
            <a:off x="3297240" y="264636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3" name="Oval 731"/>
          <p:cNvSpPr/>
          <p:nvPr/>
        </p:nvSpPr>
        <p:spPr>
          <a:xfrm>
            <a:off x="3132000" y="3249720"/>
            <a:ext cx="465120" cy="468360"/>
          </a:xfrm>
          <a:prstGeom prst="ellipse">
            <a:avLst/>
          </a:prstGeom>
          <a:gradFill rotWithShape="0">
            <a:gsLst>
              <a:gs pos="0">
                <a:srgbClr val="a50021"/>
              </a:gs>
              <a:gs pos="100000">
                <a:srgbClr val="87001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4</a:t>
            </a:r>
            <a:endParaRPr b="0" lang="en-US" sz="1800" spc="-1" strike="noStrike">
              <a:solidFill>
                <a:srgbClr val="000000"/>
              </a:solidFill>
              <a:latin typeface="Gulim"/>
            </a:endParaRPr>
          </a:p>
        </p:txBody>
      </p:sp>
      <p:sp>
        <p:nvSpPr>
          <p:cNvPr id="324" name="Oval 732"/>
          <p:cNvSpPr/>
          <p:nvPr/>
        </p:nvSpPr>
        <p:spPr>
          <a:xfrm>
            <a:off x="3297240" y="3259080"/>
            <a:ext cx="123840" cy="125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5" name="Oval 734"/>
          <p:cNvSpPr/>
          <p:nvPr/>
        </p:nvSpPr>
        <p:spPr>
          <a:xfrm>
            <a:off x="3132000" y="3860640"/>
            <a:ext cx="465120" cy="468360"/>
          </a:xfrm>
          <a:prstGeom prst="ellipse">
            <a:avLst/>
          </a:prstGeom>
          <a:gradFill rotWithShape="0">
            <a:gsLst>
              <a:gs pos="0">
                <a:srgbClr val="0099cc"/>
              </a:gs>
              <a:gs pos="100000">
                <a:srgbClr val="007da7"/>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5</a:t>
            </a:r>
            <a:endParaRPr b="0" lang="en-US" sz="1800" spc="-1" strike="noStrike">
              <a:solidFill>
                <a:srgbClr val="000000"/>
              </a:solidFill>
              <a:latin typeface="Gulim"/>
            </a:endParaRPr>
          </a:p>
        </p:txBody>
      </p:sp>
      <p:sp>
        <p:nvSpPr>
          <p:cNvPr id="326" name="Oval 735"/>
          <p:cNvSpPr/>
          <p:nvPr/>
        </p:nvSpPr>
        <p:spPr>
          <a:xfrm>
            <a:off x="3297240" y="387036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7" name="Oval 737"/>
          <p:cNvSpPr/>
          <p:nvPr/>
        </p:nvSpPr>
        <p:spPr>
          <a:xfrm>
            <a:off x="3132000" y="4473720"/>
            <a:ext cx="465120" cy="468000"/>
          </a:xfrm>
          <a:prstGeom prst="ellipse">
            <a:avLst/>
          </a:prstGeom>
          <a:gradFill rotWithShape="0">
            <a:gsLst>
              <a:gs pos="0">
                <a:srgbClr val="a50021"/>
              </a:gs>
              <a:gs pos="100000">
                <a:srgbClr val="87001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6</a:t>
            </a:r>
            <a:endParaRPr b="0" lang="en-US" sz="1800" spc="-1" strike="noStrike">
              <a:solidFill>
                <a:srgbClr val="000000"/>
              </a:solidFill>
              <a:latin typeface="Gulim"/>
            </a:endParaRPr>
          </a:p>
        </p:txBody>
      </p:sp>
      <p:sp>
        <p:nvSpPr>
          <p:cNvPr id="328" name="Oval 738"/>
          <p:cNvSpPr/>
          <p:nvPr/>
        </p:nvSpPr>
        <p:spPr>
          <a:xfrm>
            <a:off x="3297240" y="448308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9" name="Oval 740"/>
          <p:cNvSpPr/>
          <p:nvPr/>
        </p:nvSpPr>
        <p:spPr>
          <a:xfrm>
            <a:off x="3132000" y="5084640"/>
            <a:ext cx="465120" cy="468360"/>
          </a:xfrm>
          <a:prstGeom prst="ellipse">
            <a:avLst/>
          </a:prstGeom>
          <a:gradFill rotWithShape="0">
            <a:gsLst>
              <a:gs pos="0">
                <a:srgbClr val="0099cc"/>
              </a:gs>
              <a:gs pos="100000">
                <a:srgbClr val="007da7"/>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7</a:t>
            </a:r>
            <a:endParaRPr b="0" lang="en-US" sz="1800" spc="-1" strike="noStrike">
              <a:solidFill>
                <a:srgbClr val="000000"/>
              </a:solidFill>
              <a:latin typeface="Gulim"/>
            </a:endParaRPr>
          </a:p>
        </p:txBody>
      </p:sp>
      <p:sp>
        <p:nvSpPr>
          <p:cNvPr id="330" name="Oval 741"/>
          <p:cNvSpPr/>
          <p:nvPr/>
        </p:nvSpPr>
        <p:spPr>
          <a:xfrm>
            <a:off x="3297240" y="509436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31" name=""/>
          <p:cNvGrpSpPr/>
          <p:nvPr/>
        </p:nvGrpSpPr>
        <p:grpSpPr>
          <a:xfrm>
            <a:off x="7380360" y="6237360"/>
            <a:ext cx="1297080" cy="425520"/>
            <a:chOff x="7380360" y="6237360"/>
            <a:chExt cx="1297080" cy="425520"/>
          </a:xfrm>
        </p:grpSpPr>
        <p:sp>
          <p:nvSpPr>
            <p:cNvPr id="332" name="WordArt 743"/>
            <p:cNvSpPr txBox="1"/>
            <p:nvPr/>
          </p:nvSpPr>
          <p:spPr>
            <a:xfrm>
              <a:off x="7524720" y="623736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90000"/>
                    </a:srgbClr>
                  </a:solidFill>
                  <a:latin typeface="Impact"/>
                </a:rPr>
                <a:t>' LOGO '</a:t>
              </a:r>
              <a:endParaRPr b="0" lang="en-US" sz="1400" spc="-1" strike="noStrike">
                <a:ln w="0">
                  <a:noFill/>
                </a:ln>
                <a:solidFill>
                  <a:srgbClr val="333333">
                    <a:alpha val="90000"/>
                  </a:srgbClr>
                </a:solidFill>
                <a:latin typeface="Impact"/>
                <a:ea typeface="Impact"/>
              </a:endParaRPr>
            </a:p>
          </p:txBody>
        </p:sp>
        <p:sp>
          <p:nvSpPr>
            <p:cNvPr id="333" name="WordArt 744"/>
            <p:cNvSpPr txBox="1"/>
            <p:nvPr/>
          </p:nvSpPr>
          <p:spPr>
            <a:xfrm>
              <a:off x="7380360" y="659772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sp>
        <p:nvSpPr>
          <p:cNvPr id="334" name="Rectangle 766"/>
          <p:cNvSpPr/>
          <p:nvPr/>
        </p:nvSpPr>
        <p:spPr>
          <a:xfrm>
            <a:off x="250920" y="1147680"/>
            <a:ext cx="282420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533"/>
                </a:solidFill>
                <a:latin typeface="HY헤드라인M"/>
                <a:ea typeface="HY헤드라인M"/>
              </a:rPr>
              <a:t>COMPANY LOGOTYPE INSERT</a:t>
            </a:r>
            <a:endParaRPr b="0" lang="en-US" sz="1600" spc="-1" strike="noStrike">
              <a:solidFill>
                <a:srgbClr val="000000"/>
              </a:solidFill>
              <a:latin typeface="Gulim"/>
            </a:endParaRPr>
          </a:p>
        </p:txBody>
      </p:sp>
      <p:pic>
        <p:nvPicPr>
          <p:cNvPr id="335" name="Picture 773" descr="07"/>
          <p:cNvPicPr/>
          <p:nvPr/>
        </p:nvPicPr>
        <p:blipFill>
          <a:blip r:embed="rId1"/>
          <a:stretch/>
        </p:blipFill>
        <p:spPr>
          <a:xfrm>
            <a:off x="1835280" y="3357720"/>
            <a:ext cx="649080" cy="415800"/>
          </a:xfrm>
          <a:prstGeom prst="rect">
            <a:avLst/>
          </a:prstGeom>
          <a:ln w="0">
            <a:noFill/>
          </a:ln>
        </p:spPr>
      </p:pic>
      <p:pic>
        <p:nvPicPr>
          <p:cNvPr id="336" name="Picture 774" descr="06"/>
          <p:cNvPicPr/>
          <p:nvPr/>
        </p:nvPicPr>
        <p:blipFill>
          <a:blip r:embed="rId2"/>
          <a:stretch/>
        </p:blipFill>
        <p:spPr>
          <a:xfrm>
            <a:off x="654120" y="1916280"/>
            <a:ext cx="677880" cy="782640"/>
          </a:xfrm>
          <a:prstGeom prst="rect">
            <a:avLst/>
          </a:prstGeom>
          <a:ln w="0">
            <a:noFill/>
          </a:ln>
        </p:spPr>
      </p:pic>
      <p:pic>
        <p:nvPicPr>
          <p:cNvPr id="337" name="Picture 775" descr="05"/>
          <p:cNvPicPr/>
          <p:nvPr/>
        </p:nvPicPr>
        <p:blipFill>
          <a:blip r:embed="rId3"/>
          <a:stretch/>
        </p:blipFill>
        <p:spPr>
          <a:xfrm>
            <a:off x="1770120" y="2419200"/>
            <a:ext cx="641160" cy="649440"/>
          </a:xfrm>
          <a:prstGeom prst="rect">
            <a:avLst/>
          </a:prstGeom>
          <a:ln w="0">
            <a:noFill/>
          </a:ln>
        </p:spPr>
      </p:pic>
      <p:pic>
        <p:nvPicPr>
          <p:cNvPr id="338" name="Picture 776" descr="03"/>
          <p:cNvPicPr/>
          <p:nvPr/>
        </p:nvPicPr>
        <p:blipFill>
          <a:blip r:embed="rId4"/>
          <a:stretch/>
        </p:blipFill>
        <p:spPr>
          <a:xfrm>
            <a:off x="684360" y="4078440"/>
            <a:ext cx="1807920" cy="1726920"/>
          </a:xfrm>
          <a:prstGeom prst="rect">
            <a:avLst/>
          </a:prstGeom>
          <a:ln w="0">
            <a:noFill/>
          </a:ln>
        </p:spPr>
      </p:pic>
      <p:pic>
        <p:nvPicPr>
          <p:cNvPr id="339" name="Picture 779" descr="10"/>
          <p:cNvPicPr/>
          <p:nvPr/>
        </p:nvPicPr>
        <p:blipFill>
          <a:blip r:embed="rId5"/>
          <a:stretch/>
        </p:blipFill>
        <p:spPr>
          <a:xfrm>
            <a:off x="755640" y="2637000"/>
            <a:ext cx="1662120" cy="2041200"/>
          </a:xfrm>
          <a:prstGeom prst="rect">
            <a:avLst/>
          </a:prstGeom>
          <a:ln w="0">
            <a:noFill/>
          </a:ln>
        </p:spPr>
      </p:pic>
      <p:sp>
        <p:nvSpPr>
          <p:cNvPr id="340"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4cb"/>
        </a:solidFill>
      </p:bgPr>
    </p:bg>
    <p:spTree>
      <p:nvGrpSpPr>
        <p:cNvPr id="1" name=""/>
        <p:cNvGrpSpPr/>
        <p:nvPr/>
      </p:nvGrpSpPr>
      <p:grpSpPr>
        <a:xfrm>
          <a:off x="0" y="0"/>
          <a:ext cx="0" cy="0"/>
          <a:chOff x="0" y="0"/>
          <a:chExt cx="0" cy="0"/>
        </a:xfrm>
      </p:grpSpPr>
      <p:sp>
        <p:nvSpPr>
          <p:cNvPr id="341" name="Oval 34"/>
          <p:cNvSpPr/>
          <p:nvPr/>
        </p:nvSpPr>
        <p:spPr>
          <a:xfrm>
            <a:off x="2340000" y="5591160"/>
            <a:ext cx="4176720" cy="57456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42" name=""/>
          <p:cNvGrpSpPr/>
          <p:nvPr/>
        </p:nvGrpSpPr>
        <p:grpSpPr>
          <a:xfrm>
            <a:off x="2700360" y="1851120"/>
            <a:ext cx="3600360" cy="353880"/>
            <a:chOff x="2700360" y="1851120"/>
            <a:chExt cx="3600360" cy="353880"/>
          </a:xfrm>
        </p:grpSpPr>
        <p:sp>
          <p:nvSpPr>
            <p:cNvPr id="343" name="WordArt 10"/>
            <p:cNvSpPr txBox="1"/>
            <p:nvPr/>
          </p:nvSpPr>
          <p:spPr>
            <a:xfrm>
              <a:off x="3095640" y="1851120"/>
              <a:ext cx="2809800" cy="172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003d86"/>
                  </a:solidFill>
                  <a:effectLst>
                    <a:outerShdw dist="12600" dir="5400000" blurRad="0" rotWithShape="0">
                      <a:srgbClr val="000000">
                        <a:alpha val="50000"/>
                      </a:srgbClr>
                    </a:outerShdw>
                  </a:effectLst>
                  <a:latin typeface="HY헤드라인M"/>
                </a:rPr>
                <a:t>COMPANY LOGOTYPE INSERT</a:t>
              </a:r>
              <a:endParaRPr b="0" lang="en-US" sz="1600" spc="-1" strike="noStrike">
                <a:ln w="0">
                  <a:noFill/>
                </a:ln>
                <a:solidFill>
                  <a:srgbClr val="003d86"/>
                </a:solidFill>
                <a:effectLst>
                  <a:outerShdw dist="12600" dir="5400000" blurRad="0" rotWithShape="0">
                    <a:srgbClr val="000000">
                      <a:alpha val="50000"/>
                    </a:srgbClr>
                  </a:outerShdw>
                </a:effectLst>
                <a:latin typeface="HY헤드라인M"/>
                <a:ea typeface="HY헤드라인M"/>
              </a:endParaRPr>
            </a:p>
          </p:txBody>
        </p:sp>
        <p:sp>
          <p:nvSpPr>
            <p:cNvPr id="344" name="WordArt 11"/>
            <p:cNvSpPr txBox="1"/>
            <p:nvPr/>
          </p:nvSpPr>
          <p:spPr>
            <a:xfrm>
              <a:off x="2700360" y="2095560"/>
              <a:ext cx="3600360" cy="10944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000000"/>
                  </a:solidFill>
                  <a:latin typeface="Arial Black"/>
                </a:rPr>
                <a:t>COPYRIGHT(C)2008 PPTKOREA CO.,LTD &amp; DESIGN COMPANY</a:t>
              </a:r>
              <a:endParaRPr b="0" lang="en-US" sz="1600" spc="-1" strike="noStrike">
                <a:ln w="0">
                  <a:noFill/>
                </a:ln>
                <a:solidFill>
                  <a:srgbClr val="000000"/>
                </a:solidFill>
                <a:latin typeface="Arial Black"/>
                <a:ea typeface="Arial Black"/>
              </a:endParaRPr>
            </a:p>
          </p:txBody>
        </p:sp>
      </p:grpSp>
      <p:sp>
        <p:nvSpPr>
          <p:cNvPr id="345" name="TextBox 71"/>
          <p:cNvSpPr/>
          <p:nvPr/>
        </p:nvSpPr>
        <p:spPr>
          <a:xfrm>
            <a:off x="0" y="987480"/>
            <a:ext cx="9109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HY헤드라인M"/>
                <a:ea typeface="HY헤드라인M"/>
              </a:rPr>
              <a:t>Click To Edit Title Style</a:t>
            </a:r>
            <a:endParaRPr b="0" lang="en-US" sz="4000" spc="-1" strike="noStrike">
              <a:solidFill>
                <a:srgbClr val="000000"/>
              </a:solidFill>
              <a:latin typeface="Gulim"/>
            </a:endParaRPr>
          </a:p>
        </p:txBody>
      </p:sp>
      <p:pic>
        <p:nvPicPr>
          <p:cNvPr id="346" name="Picture 25" descr="07"/>
          <p:cNvPicPr/>
          <p:nvPr/>
        </p:nvPicPr>
        <p:blipFill>
          <a:blip r:embed="rId1"/>
          <a:stretch/>
        </p:blipFill>
        <p:spPr>
          <a:xfrm>
            <a:off x="5580000" y="4005360"/>
            <a:ext cx="723960" cy="463320"/>
          </a:xfrm>
          <a:prstGeom prst="rect">
            <a:avLst/>
          </a:prstGeom>
          <a:ln w="0">
            <a:noFill/>
          </a:ln>
        </p:spPr>
      </p:pic>
      <p:pic>
        <p:nvPicPr>
          <p:cNvPr id="347" name="Picture 26" descr="06"/>
          <p:cNvPicPr/>
          <p:nvPr/>
        </p:nvPicPr>
        <p:blipFill>
          <a:blip r:embed="rId2"/>
          <a:stretch/>
        </p:blipFill>
        <p:spPr>
          <a:xfrm>
            <a:off x="4657680" y="2685960"/>
            <a:ext cx="706320" cy="814320"/>
          </a:xfrm>
          <a:prstGeom prst="rect">
            <a:avLst/>
          </a:prstGeom>
          <a:ln w="0">
            <a:noFill/>
          </a:ln>
        </p:spPr>
      </p:pic>
      <p:pic>
        <p:nvPicPr>
          <p:cNvPr id="348" name="Picture 27" descr="05"/>
          <p:cNvPicPr/>
          <p:nvPr/>
        </p:nvPicPr>
        <p:blipFill>
          <a:blip r:embed="rId3"/>
          <a:stretch/>
        </p:blipFill>
        <p:spPr>
          <a:xfrm>
            <a:off x="2489040" y="4869000"/>
            <a:ext cx="858960" cy="869760"/>
          </a:xfrm>
          <a:prstGeom prst="rect">
            <a:avLst/>
          </a:prstGeom>
          <a:ln w="0">
            <a:noFill/>
          </a:ln>
        </p:spPr>
      </p:pic>
      <p:pic>
        <p:nvPicPr>
          <p:cNvPr id="349" name="Picture 28" descr="03"/>
          <p:cNvPicPr/>
          <p:nvPr/>
        </p:nvPicPr>
        <p:blipFill>
          <a:blip r:embed="rId4"/>
          <a:stretch/>
        </p:blipFill>
        <p:spPr>
          <a:xfrm>
            <a:off x="4417920" y="4597560"/>
            <a:ext cx="1594080" cy="1523880"/>
          </a:xfrm>
          <a:prstGeom prst="rect">
            <a:avLst/>
          </a:prstGeom>
          <a:ln w="0">
            <a:noFill/>
          </a:ln>
        </p:spPr>
      </p:pic>
      <p:pic>
        <p:nvPicPr>
          <p:cNvPr id="350" name="Picture 29" descr="01"/>
          <p:cNvPicPr/>
          <p:nvPr/>
        </p:nvPicPr>
        <p:blipFill>
          <a:blip r:embed="rId5"/>
          <a:stretch/>
        </p:blipFill>
        <p:spPr>
          <a:xfrm>
            <a:off x="3286080" y="4578480"/>
            <a:ext cx="1492200" cy="1592280"/>
          </a:xfrm>
          <a:prstGeom prst="rect">
            <a:avLst/>
          </a:prstGeom>
          <a:ln w="0">
            <a:noFill/>
          </a:ln>
        </p:spPr>
      </p:pic>
      <p:pic>
        <p:nvPicPr>
          <p:cNvPr id="351" name="Picture 30" descr="09"/>
          <p:cNvPicPr/>
          <p:nvPr/>
        </p:nvPicPr>
        <p:blipFill>
          <a:blip r:embed="rId6"/>
          <a:stretch/>
        </p:blipFill>
        <p:spPr>
          <a:xfrm>
            <a:off x="3119400" y="2997360"/>
            <a:ext cx="1596960" cy="1844640"/>
          </a:xfrm>
          <a:prstGeom prst="rect">
            <a:avLst/>
          </a:prstGeom>
          <a:ln w="0">
            <a:noFill/>
          </a:ln>
        </p:spPr>
      </p:pic>
      <p:pic>
        <p:nvPicPr>
          <p:cNvPr id="352" name="Picture 31" descr="10"/>
          <p:cNvPicPr/>
          <p:nvPr/>
        </p:nvPicPr>
        <p:blipFill>
          <a:blip r:embed="rId7"/>
          <a:stretch/>
        </p:blipFill>
        <p:spPr>
          <a:xfrm>
            <a:off x="4572000" y="3451320"/>
            <a:ext cx="1465200" cy="1801800"/>
          </a:xfrm>
          <a:prstGeom prst="rect">
            <a:avLst/>
          </a:prstGeom>
          <a:ln w="0">
            <a:noFill/>
          </a:ln>
        </p:spPr>
      </p:pic>
      <p:sp>
        <p:nvSpPr>
          <p:cNvPr id="353" name=""/>
          <p:cNvSpPr/>
          <p:nvPr/>
        </p:nvSpPr>
        <p:spPr>
          <a:xfrm>
            <a:off x="1835280" y="549360"/>
            <a:ext cx="532764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Gulim"/>
              </a:rPr>
              <a:t> </a:t>
            </a:r>
            <a:r>
              <a:rPr b="0" lang="ko-KR" sz="1600" spc="-1" strike="noStrike" u="sng">
                <a:solidFill>
                  <a:srgbClr val="009999"/>
                </a:solidFill>
                <a:uFillTx/>
                <a:latin typeface="Gulim"/>
                <a:hlinkClick r:id="rId8"/>
              </a:rPr>
              <a:t>免费ppt模板</a:t>
            </a:r>
            <a:r>
              <a:rPr b="0" lang="zh-CN" sz="1600" spc="-1" strike="noStrike">
                <a:solidFill>
                  <a:srgbClr val="000000"/>
                </a:solidFill>
                <a:latin typeface="Gulim"/>
              </a:rPr>
              <a:t> </a:t>
            </a:r>
            <a:r>
              <a:rPr b="0" lang="zh-CN" sz="1600" spc="-1" strike="noStrike">
                <a:solidFill>
                  <a:srgbClr val="000000"/>
                </a:solidFill>
                <a:latin typeface="Gulim"/>
              </a:rPr>
              <a:t>http://www.eeppt.com/moban/</a:t>
            </a:r>
            <a:endParaRPr b="0" lang="en-US" sz="1600" spc="-1" strike="noStrike">
              <a:solidFill>
                <a:srgbClr val="000000"/>
              </a:solidFill>
              <a:latin typeface="Gulim"/>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4" name="Oval 504"/>
          <p:cNvSpPr/>
          <p:nvPr/>
        </p:nvSpPr>
        <p:spPr>
          <a:xfrm>
            <a:off x="6227640" y="1843200"/>
            <a:ext cx="2311560" cy="2322360"/>
          </a:xfrm>
          <a:prstGeom prst="ellipse">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5" name="Oval 505"/>
          <p:cNvSpPr/>
          <p:nvPr/>
        </p:nvSpPr>
        <p:spPr>
          <a:xfrm>
            <a:off x="7045200" y="189072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6" name="Oval 506"/>
          <p:cNvSpPr/>
          <p:nvPr/>
        </p:nvSpPr>
        <p:spPr>
          <a:xfrm>
            <a:off x="3419640" y="1843200"/>
            <a:ext cx="2311200" cy="2322360"/>
          </a:xfrm>
          <a:prstGeom prst="ellipse">
            <a:avLst/>
          </a:prstGeom>
          <a:gradFill rotWithShape="0">
            <a:gsLst>
              <a:gs pos="0">
                <a:srgbClr val="a50021"/>
              </a:gs>
              <a:gs pos="100000">
                <a:srgbClr val="87001b"/>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7" name="Oval 507"/>
          <p:cNvSpPr/>
          <p:nvPr/>
        </p:nvSpPr>
        <p:spPr>
          <a:xfrm>
            <a:off x="4237200" y="189072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8" name="AutoShape 508"/>
          <p:cNvSpPr/>
          <p:nvPr/>
        </p:nvSpPr>
        <p:spPr>
          <a:xfrm>
            <a:off x="3276720" y="3389400"/>
            <a:ext cx="2627280" cy="2127240"/>
          </a:xfrm>
          <a:prstGeom prst="roundRect">
            <a:avLst>
              <a:gd name="adj" fmla="val 5074"/>
            </a:avLst>
          </a:prstGeom>
          <a:solidFill>
            <a:srgbClr val="ffffff"/>
          </a:solidFill>
          <a:ln w="57240">
            <a:solidFill>
              <a:srgbClr val="a5002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9" name="AutoShape 509"/>
          <p:cNvSpPr/>
          <p:nvPr/>
        </p:nvSpPr>
        <p:spPr>
          <a:xfrm>
            <a:off x="6084720" y="3389400"/>
            <a:ext cx="2627640" cy="2127240"/>
          </a:xfrm>
          <a:prstGeom prst="roundRect">
            <a:avLst>
              <a:gd name="adj" fmla="val 5074"/>
            </a:avLst>
          </a:prstGeom>
          <a:solidFill>
            <a:srgbClr val="ffffff"/>
          </a:solidFill>
          <a:ln w="57240">
            <a:solidFill>
              <a:srgbClr val="0099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0" name="Oval 510"/>
          <p:cNvSpPr/>
          <p:nvPr/>
        </p:nvSpPr>
        <p:spPr>
          <a:xfrm>
            <a:off x="719280" y="3330720"/>
            <a:ext cx="2087280" cy="74448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1" name="Oval 511"/>
          <p:cNvSpPr/>
          <p:nvPr/>
        </p:nvSpPr>
        <p:spPr>
          <a:xfrm>
            <a:off x="611280" y="1843200"/>
            <a:ext cx="2311200" cy="2322360"/>
          </a:xfrm>
          <a:prstGeom prst="ellipse">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2" name="Oval 512"/>
          <p:cNvSpPr/>
          <p:nvPr/>
        </p:nvSpPr>
        <p:spPr>
          <a:xfrm>
            <a:off x="1428840" y="189072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3" name="AutoShape 513"/>
          <p:cNvSpPr/>
          <p:nvPr/>
        </p:nvSpPr>
        <p:spPr>
          <a:xfrm>
            <a:off x="468360" y="3390840"/>
            <a:ext cx="2627280" cy="2125800"/>
          </a:xfrm>
          <a:prstGeom prst="roundRect">
            <a:avLst>
              <a:gd name="adj" fmla="val 5801"/>
            </a:avLst>
          </a:prstGeom>
          <a:solidFill>
            <a:srgbClr val="ffffff"/>
          </a:solidFill>
          <a:ln w="57240">
            <a:solidFill>
              <a:srgbClr val="f69d2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4" name="AutoShape 515"/>
          <p:cNvSpPr/>
          <p:nvPr/>
        </p:nvSpPr>
        <p:spPr>
          <a:xfrm>
            <a:off x="3203640" y="3952800"/>
            <a:ext cx="2771640" cy="30312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5" name="AutoShape 517"/>
          <p:cNvSpPr/>
          <p:nvPr/>
        </p:nvSpPr>
        <p:spPr>
          <a:xfrm>
            <a:off x="3444840" y="3645000"/>
            <a:ext cx="2301840" cy="444240"/>
          </a:xfrm>
          <a:prstGeom prst="roundRect">
            <a:avLst>
              <a:gd name="adj" fmla="val 50000"/>
            </a:avLst>
          </a:prstGeom>
          <a:solidFill>
            <a:srgbClr val="a50021">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6" name="Oval 518"/>
          <p:cNvSpPr/>
          <p:nvPr/>
        </p:nvSpPr>
        <p:spPr>
          <a:xfrm flipV="1">
            <a:off x="3557520" y="367992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7" name="AutoShape 520"/>
          <p:cNvSpPr/>
          <p:nvPr/>
        </p:nvSpPr>
        <p:spPr>
          <a:xfrm>
            <a:off x="3203640" y="4510080"/>
            <a:ext cx="277164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8" name="AutoShape 522"/>
          <p:cNvSpPr/>
          <p:nvPr/>
        </p:nvSpPr>
        <p:spPr>
          <a:xfrm>
            <a:off x="3444840" y="4184640"/>
            <a:ext cx="2301840" cy="469800"/>
          </a:xfrm>
          <a:prstGeom prst="roundRect">
            <a:avLst>
              <a:gd name="adj" fmla="val 50000"/>
            </a:avLst>
          </a:prstGeom>
          <a:solidFill>
            <a:srgbClr val="a50021">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9" name="Oval 523"/>
          <p:cNvSpPr/>
          <p:nvPr/>
        </p:nvSpPr>
        <p:spPr>
          <a:xfrm flipV="1">
            <a:off x="3557520" y="422100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0" name="AutoShape 525"/>
          <p:cNvSpPr/>
          <p:nvPr/>
        </p:nvSpPr>
        <p:spPr>
          <a:xfrm>
            <a:off x="3203640" y="506880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1" name="AutoShape 527"/>
          <p:cNvSpPr/>
          <p:nvPr/>
        </p:nvSpPr>
        <p:spPr>
          <a:xfrm>
            <a:off x="3444840" y="4759200"/>
            <a:ext cx="2301840" cy="446040"/>
          </a:xfrm>
          <a:prstGeom prst="roundRect">
            <a:avLst>
              <a:gd name="adj" fmla="val 50000"/>
            </a:avLst>
          </a:prstGeom>
          <a:solidFill>
            <a:srgbClr val="a50021">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2" name="Oval 528"/>
          <p:cNvSpPr/>
          <p:nvPr/>
        </p:nvSpPr>
        <p:spPr>
          <a:xfrm flipV="1">
            <a:off x="3557520" y="4793400"/>
            <a:ext cx="2076480" cy="103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73" name=""/>
          <p:cNvGrpSpPr/>
          <p:nvPr/>
        </p:nvGrpSpPr>
        <p:grpSpPr>
          <a:xfrm>
            <a:off x="6012000" y="3645000"/>
            <a:ext cx="2771640" cy="610200"/>
            <a:chOff x="6012000" y="3645000"/>
            <a:chExt cx="2771640" cy="610200"/>
          </a:xfrm>
        </p:grpSpPr>
        <p:sp>
          <p:nvSpPr>
            <p:cNvPr id="374" name="AutoShape 530"/>
            <p:cNvSpPr/>
            <p:nvPr/>
          </p:nvSpPr>
          <p:spPr>
            <a:xfrm>
              <a:off x="6012000" y="3952800"/>
              <a:ext cx="2771640" cy="3024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75" name=""/>
            <p:cNvGrpSpPr/>
            <p:nvPr/>
          </p:nvGrpSpPr>
          <p:grpSpPr>
            <a:xfrm>
              <a:off x="6253200" y="3645000"/>
              <a:ext cx="2301840" cy="444960"/>
              <a:chOff x="6253200" y="3645000"/>
              <a:chExt cx="2301840" cy="444960"/>
            </a:xfrm>
          </p:grpSpPr>
          <p:sp>
            <p:nvSpPr>
              <p:cNvPr id="376" name="AutoShape 532"/>
              <p:cNvSpPr/>
              <p:nvPr/>
            </p:nvSpPr>
            <p:spPr>
              <a:xfrm>
                <a:off x="6253200" y="3645000"/>
                <a:ext cx="2301840" cy="444960"/>
              </a:xfrm>
              <a:prstGeom prst="roundRect">
                <a:avLst>
                  <a:gd name="adj" fmla="val 50000"/>
                </a:avLst>
              </a:prstGeom>
              <a:solidFill>
                <a:srgbClr val="0099cc">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7" name="Oval 533"/>
              <p:cNvSpPr/>
              <p:nvPr/>
            </p:nvSpPr>
            <p:spPr>
              <a:xfrm flipV="1">
                <a:off x="6366240" y="3679560"/>
                <a:ext cx="2075400" cy="1022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920" bIns="259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378" name=""/>
          <p:cNvGrpSpPr/>
          <p:nvPr/>
        </p:nvGrpSpPr>
        <p:grpSpPr>
          <a:xfrm>
            <a:off x="6012000" y="4184640"/>
            <a:ext cx="2771640" cy="645840"/>
            <a:chOff x="6012000" y="4184640"/>
            <a:chExt cx="2771640" cy="645840"/>
          </a:xfrm>
        </p:grpSpPr>
        <p:sp>
          <p:nvSpPr>
            <p:cNvPr id="379" name="AutoShape 535"/>
            <p:cNvSpPr/>
            <p:nvPr/>
          </p:nvSpPr>
          <p:spPr>
            <a:xfrm>
              <a:off x="6012000" y="4510440"/>
              <a:ext cx="2771640" cy="3200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80" name=""/>
            <p:cNvGrpSpPr/>
            <p:nvPr/>
          </p:nvGrpSpPr>
          <p:grpSpPr>
            <a:xfrm>
              <a:off x="6253200" y="4184640"/>
              <a:ext cx="2301840" cy="470520"/>
              <a:chOff x="6253200" y="4184640"/>
              <a:chExt cx="2301840" cy="470520"/>
            </a:xfrm>
          </p:grpSpPr>
          <p:sp>
            <p:nvSpPr>
              <p:cNvPr id="381" name="AutoShape 537"/>
              <p:cNvSpPr/>
              <p:nvPr/>
            </p:nvSpPr>
            <p:spPr>
              <a:xfrm>
                <a:off x="6253200" y="4184640"/>
                <a:ext cx="2301840" cy="470520"/>
              </a:xfrm>
              <a:prstGeom prst="roundRect">
                <a:avLst>
                  <a:gd name="adj" fmla="val 50000"/>
                </a:avLst>
              </a:prstGeom>
              <a:solidFill>
                <a:srgbClr val="0099cc">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2" name="Oval 538"/>
              <p:cNvSpPr/>
              <p:nvPr/>
            </p:nvSpPr>
            <p:spPr>
              <a:xfrm flipV="1">
                <a:off x="6366240" y="4220640"/>
                <a:ext cx="2075400" cy="1083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880" bIns="298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383" name=""/>
          <p:cNvGrpSpPr/>
          <p:nvPr/>
        </p:nvGrpSpPr>
        <p:grpSpPr>
          <a:xfrm>
            <a:off x="6012000" y="4759200"/>
            <a:ext cx="2771640" cy="612360"/>
            <a:chOff x="6012000" y="4759200"/>
            <a:chExt cx="2771640" cy="612360"/>
          </a:xfrm>
        </p:grpSpPr>
        <p:sp>
          <p:nvSpPr>
            <p:cNvPr id="384" name="AutoShape 540"/>
            <p:cNvSpPr/>
            <p:nvPr/>
          </p:nvSpPr>
          <p:spPr>
            <a:xfrm>
              <a:off x="6012000" y="506808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85" name=""/>
            <p:cNvGrpSpPr/>
            <p:nvPr/>
          </p:nvGrpSpPr>
          <p:grpSpPr>
            <a:xfrm>
              <a:off x="6253200" y="4759200"/>
              <a:ext cx="2301840" cy="446400"/>
              <a:chOff x="6253200" y="4759200"/>
              <a:chExt cx="2301840" cy="446400"/>
            </a:xfrm>
          </p:grpSpPr>
          <p:sp>
            <p:nvSpPr>
              <p:cNvPr id="386" name="AutoShape 542"/>
              <p:cNvSpPr/>
              <p:nvPr/>
            </p:nvSpPr>
            <p:spPr>
              <a:xfrm>
                <a:off x="6253200" y="4759200"/>
                <a:ext cx="2301840" cy="446400"/>
              </a:xfrm>
              <a:prstGeom prst="roundRect">
                <a:avLst>
                  <a:gd name="adj" fmla="val 50000"/>
                </a:avLst>
              </a:prstGeom>
              <a:solidFill>
                <a:srgbClr val="0099cc">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7" name="Oval 543"/>
              <p:cNvSpPr/>
              <p:nvPr/>
            </p:nvSpPr>
            <p:spPr>
              <a:xfrm flipV="1">
                <a:off x="6366240" y="4793040"/>
                <a:ext cx="2075400" cy="1026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388" name="WordArt 544"/>
          <p:cNvSpPr txBox="1"/>
          <p:nvPr/>
        </p:nvSpPr>
        <p:spPr>
          <a:xfrm>
            <a:off x="3780000" y="43624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89" name="WordArt 545"/>
          <p:cNvSpPr txBox="1"/>
          <p:nvPr/>
        </p:nvSpPr>
        <p:spPr>
          <a:xfrm>
            <a:off x="3780000" y="38242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90" name="WordArt 546"/>
          <p:cNvSpPr txBox="1"/>
          <p:nvPr/>
        </p:nvSpPr>
        <p:spPr>
          <a:xfrm>
            <a:off x="3780000" y="4905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91" name="WordArt 547"/>
          <p:cNvSpPr txBox="1"/>
          <p:nvPr/>
        </p:nvSpPr>
        <p:spPr>
          <a:xfrm>
            <a:off x="6588000" y="436248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92" name="WordArt 548"/>
          <p:cNvSpPr txBox="1"/>
          <p:nvPr/>
        </p:nvSpPr>
        <p:spPr>
          <a:xfrm>
            <a:off x="6588000" y="382428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93" name="WordArt 549"/>
          <p:cNvSpPr txBox="1"/>
          <p:nvPr/>
        </p:nvSpPr>
        <p:spPr>
          <a:xfrm>
            <a:off x="6588000" y="490536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grpSp>
        <p:nvGrpSpPr>
          <p:cNvPr id="394" name=""/>
          <p:cNvGrpSpPr/>
          <p:nvPr/>
        </p:nvGrpSpPr>
        <p:grpSpPr>
          <a:xfrm>
            <a:off x="1187280" y="2563920"/>
            <a:ext cx="1155600" cy="420120"/>
            <a:chOff x="1187280" y="2563920"/>
            <a:chExt cx="1155600" cy="420120"/>
          </a:xfrm>
        </p:grpSpPr>
        <p:sp>
          <p:nvSpPr>
            <p:cNvPr id="395" name="WordArt 551"/>
            <p:cNvSpPr txBox="1"/>
            <p:nvPr/>
          </p:nvSpPr>
          <p:spPr>
            <a:xfrm>
              <a:off x="1334880" y="256392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96" name="WordArt 552"/>
            <p:cNvSpPr txBox="1"/>
            <p:nvPr/>
          </p:nvSpPr>
          <p:spPr>
            <a:xfrm>
              <a:off x="1187280" y="2850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397" name=""/>
          <p:cNvGrpSpPr/>
          <p:nvPr/>
        </p:nvGrpSpPr>
        <p:grpSpPr>
          <a:xfrm>
            <a:off x="3995640" y="2563920"/>
            <a:ext cx="1155600" cy="420120"/>
            <a:chOff x="3995640" y="2563920"/>
            <a:chExt cx="1155600" cy="420120"/>
          </a:xfrm>
        </p:grpSpPr>
        <p:sp>
          <p:nvSpPr>
            <p:cNvPr id="398" name="WordArt 554"/>
            <p:cNvSpPr txBox="1"/>
            <p:nvPr/>
          </p:nvSpPr>
          <p:spPr>
            <a:xfrm>
              <a:off x="4143240" y="256392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99" name="WordArt 555"/>
            <p:cNvSpPr txBox="1"/>
            <p:nvPr/>
          </p:nvSpPr>
          <p:spPr>
            <a:xfrm>
              <a:off x="3995640" y="2850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00" name=""/>
          <p:cNvGrpSpPr/>
          <p:nvPr/>
        </p:nvGrpSpPr>
        <p:grpSpPr>
          <a:xfrm>
            <a:off x="6877080" y="2563920"/>
            <a:ext cx="1155600" cy="420120"/>
            <a:chOff x="6877080" y="2563920"/>
            <a:chExt cx="1155600" cy="420120"/>
          </a:xfrm>
        </p:grpSpPr>
        <p:sp>
          <p:nvSpPr>
            <p:cNvPr id="401" name="WordArt 557"/>
            <p:cNvSpPr txBox="1"/>
            <p:nvPr/>
          </p:nvSpPr>
          <p:spPr>
            <a:xfrm>
              <a:off x="7024680" y="256392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02" name="WordArt 558"/>
            <p:cNvSpPr txBox="1"/>
            <p:nvPr/>
          </p:nvSpPr>
          <p:spPr>
            <a:xfrm>
              <a:off x="6877080" y="2850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03" name=""/>
          <p:cNvGrpSpPr/>
          <p:nvPr/>
        </p:nvGrpSpPr>
        <p:grpSpPr>
          <a:xfrm>
            <a:off x="395280" y="3645000"/>
            <a:ext cx="2771640" cy="610200"/>
            <a:chOff x="395280" y="3645000"/>
            <a:chExt cx="2771640" cy="610200"/>
          </a:xfrm>
        </p:grpSpPr>
        <p:sp>
          <p:nvSpPr>
            <p:cNvPr id="404" name="AutoShape 560"/>
            <p:cNvSpPr/>
            <p:nvPr/>
          </p:nvSpPr>
          <p:spPr>
            <a:xfrm>
              <a:off x="395280" y="3952800"/>
              <a:ext cx="2771640" cy="3024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05" name=""/>
            <p:cNvGrpSpPr/>
            <p:nvPr/>
          </p:nvGrpSpPr>
          <p:grpSpPr>
            <a:xfrm>
              <a:off x="636480" y="3645000"/>
              <a:ext cx="2301840" cy="444960"/>
              <a:chOff x="636480" y="3645000"/>
              <a:chExt cx="2301840" cy="444960"/>
            </a:xfrm>
          </p:grpSpPr>
          <p:sp>
            <p:nvSpPr>
              <p:cNvPr id="406" name="AutoShape 562"/>
              <p:cNvSpPr/>
              <p:nvPr/>
            </p:nvSpPr>
            <p:spPr>
              <a:xfrm>
                <a:off x="636480" y="3645000"/>
                <a:ext cx="2301840" cy="444960"/>
              </a:xfrm>
              <a:prstGeom prst="roundRect">
                <a:avLst>
                  <a:gd name="adj" fmla="val 50000"/>
                </a:avLst>
              </a:prstGeom>
              <a:solidFill>
                <a:srgbClr val="f69d2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7" name="Oval 563"/>
              <p:cNvSpPr/>
              <p:nvPr/>
            </p:nvSpPr>
            <p:spPr>
              <a:xfrm flipV="1">
                <a:off x="749520" y="3679560"/>
                <a:ext cx="2075400" cy="1022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920" bIns="259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408" name=""/>
          <p:cNvGrpSpPr/>
          <p:nvPr/>
        </p:nvGrpSpPr>
        <p:grpSpPr>
          <a:xfrm>
            <a:off x="395280" y="4184640"/>
            <a:ext cx="2771640" cy="645840"/>
            <a:chOff x="395280" y="4184640"/>
            <a:chExt cx="2771640" cy="645840"/>
          </a:xfrm>
        </p:grpSpPr>
        <p:sp>
          <p:nvSpPr>
            <p:cNvPr id="409" name="AutoShape 565"/>
            <p:cNvSpPr/>
            <p:nvPr/>
          </p:nvSpPr>
          <p:spPr>
            <a:xfrm>
              <a:off x="395280" y="4510440"/>
              <a:ext cx="2771640" cy="3200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10" name=""/>
            <p:cNvGrpSpPr/>
            <p:nvPr/>
          </p:nvGrpSpPr>
          <p:grpSpPr>
            <a:xfrm>
              <a:off x="636480" y="4184640"/>
              <a:ext cx="2301840" cy="470520"/>
              <a:chOff x="636480" y="4184640"/>
              <a:chExt cx="2301840" cy="470520"/>
            </a:xfrm>
          </p:grpSpPr>
          <p:sp>
            <p:nvSpPr>
              <p:cNvPr id="411" name="AutoShape 567"/>
              <p:cNvSpPr/>
              <p:nvPr/>
            </p:nvSpPr>
            <p:spPr>
              <a:xfrm>
                <a:off x="636480" y="4184640"/>
                <a:ext cx="2301840" cy="470520"/>
              </a:xfrm>
              <a:prstGeom prst="roundRect">
                <a:avLst>
                  <a:gd name="adj" fmla="val 50000"/>
                </a:avLst>
              </a:prstGeom>
              <a:solidFill>
                <a:srgbClr val="f69d2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2" name="Oval 568"/>
              <p:cNvSpPr/>
              <p:nvPr/>
            </p:nvSpPr>
            <p:spPr>
              <a:xfrm flipV="1">
                <a:off x="749520" y="4220640"/>
                <a:ext cx="2075400" cy="1083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880" bIns="298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413" name=""/>
          <p:cNvGrpSpPr/>
          <p:nvPr/>
        </p:nvGrpSpPr>
        <p:grpSpPr>
          <a:xfrm>
            <a:off x="395280" y="4759200"/>
            <a:ext cx="2771640" cy="612360"/>
            <a:chOff x="395280" y="4759200"/>
            <a:chExt cx="2771640" cy="612360"/>
          </a:xfrm>
        </p:grpSpPr>
        <p:sp>
          <p:nvSpPr>
            <p:cNvPr id="414" name="AutoShape 570"/>
            <p:cNvSpPr/>
            <p:nvPr/>
          </p:nvSpPr>
          <p:spPr>
            <a:xfrm>
              <a:off x="395280" y="506808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15" name=""/>
            <p:cNvGrpSpPr/>
            <p:nvPr/>
          </p:nvGrpSpPr>
          <p:grpSpPr>
            <a:xfrm>
              <a:off x="636480" y="4759200"/>
              <a:ext cx="2301840" cy="446400"/>
              <a:chOff x="636480" y="4759200"/>
              <a:chExt cx="2301840" cy="446400"/>
            </a:xfrm>
          </p:grpSpPr>
          <p:sp>
            <p:nvSpPr>
              <p:cNvPr id="416" name="AutoShape 572"/>
              <p:cNvSpPr/>
              <p:nvPr/>
            </p:nvSpPr>
            <p:spPr>
              <a:xfrm>
                <a:off x="636480" y="4759200"/>
                <a:ext cx="2301840" cy="446400"/>
              </a:xfrm>
              <a:prstGeom prst="roundRect">
                <a:avLst>
                  <a:gd name="adj" fmla="val 50000"/>
                </a:avLst>
              </a:prstGeom>
              <a:solidFill>
                <a:srgbClr val="f69d2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7" name="Oval 573"/>
              <p:cNvSpPr/>
              <p:nvPr/>
            </p:nvSpPr>
            <p:spPr>
              <a:xfrm flipV="1">
                <a:off x="749520" y="4793040"/>
                <a:ext cx="2075400" cy="1026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418" name="WordArt 574"/>
          <p:cNvSpPr txBox="1"/>
          <p:nvPr/>
        </p:nvSpPr>
        <p:spPr>
          <a:xfrm>
            <a:off x="971640" y="43624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419" name="WordArt 575"/>
          <p:cNvSpPr txBox="1"/>
          <p:nvPr/>
        </p:nvSpPr>
        <p:spPr>
          <a:xfrm>
            <a:off x="971640" y="38242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420" name="WordArt 576"/>
          <p:cNvSpPr txBox="1"/>
          <p:nvPr/>
        </p:nvSpPr>
        <p:spPr>
          <a:xfrm>
            <a:off x="971640" y="4905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421"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sp>
        <p:nvSpPr>
          <p:cNvPr id="422"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3" name="Oval 557"/>
          <p:cNvSpPr/>
          <p:nvPr/>
        </p:nvSpPr>
        <p:spPr>
          <a:xfrm>
            <a:off x="3213000" y="5691240"/>
            <a:ext cx="2718000" cy="90648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4" name="Oval 563"/>
          <p:cNvSpPr/>
          <p:nvPr/>
        </p:nvSpPr>
        <p:spPr>
          <a:xfrm>
            <a:off x="3274920" y="3498840"/>
            <a:ext cx="2595600" cy="2608200"/>
          </a:xfrm>
          <a:prstGeom prst="ellipse">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5" name="Oval 564"/>
          <p:cNvSpPr/>
          <p:nvPr/>
        </p:nvSpPr>
        <p:spPr>
          <a:xfrm>
            <a:off x="4192560" y="3552840"/>
            <a:ext cx="692280" cy="6969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6" name="Line 521"/>
          <p:cNvSpPr/>
          <p:nvPr/>
        </p:nvSpPr>
        <p:spPr>
          <a:xfrm>
            <a:off x="5435640" y="2852640"/>
            <a:ext cx="1440" cy="611280"/>
          </a:xfrm>
          <a:prstGeom prst="line">
            <a:avLst/>
          </a:prstGeom>
          <a:ln w="190440">
            <a:solidFill>
              <a:srgbClr val="0099cc"/>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27" name="Line 522"/>
          <p:cNvSpPr/>
          <p:nvPr/>
        </p:nvSpPr>
        <p:spPr>
          <a:xfrm>
            <a:off x="3743280" y="2852640"/>
            <a:ext cx="1800" cy="611280"/>
          </a:xfrm>
          <a:prstGeom prst="line">
            <a:avLst/>
          </a:prstGeom>
          <a:ln w="190440">
            <a:solidFill>
              <a:srgbClr val="a50021"/>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28" name="Freeform 523"/>
          <p:cNvSpPr/>
          <p:nvPr/>
        </p:nvSpPr>
        <p:spPr>
          <a:xfrm flipH="1">
            <a:off x="6192720" y="2852640"/>
            <a:ext cx="935280" cy="1763640"/>
          </a:xfrm>
          <a:custGeom>
            <a:avLst/>
            <a:gdLst>
              <a:gd name="textAreaLeft" fmla="*/ 360 w 935280"/>
              <a:gd name="textAreaRight" fmla="*/ 936000 w 935280"/>
              <a:gd name="textAreaTop" fmla="*/ 0 h 1763640"/>
              <a:gd name="textAreaBottom" fmla="*/ 1764000 h 1763640"/>
            </a:gdLst>
            <a:ahLst/>
            <a:rect l="textAreaLeft" t="textAreaTop" r="textAreaRight" b="textAreaBottom"/>
            <a:pathLst>
              <a:path w="635" h="953">
                <a:moveTo>
                  <a:pt x="0" y="0"/>
                </a:moveTo>
                <a:lnTo>
                  <a:pt x="0" y="953"/>
                </a:lnTo>
                <a:lnTo>
                  <a:pt x="635" y="953"/>
                </a:lnTo>
              </a:path>
            </a:pathLst>
          </a:custGeom>
          <a:noFill/>
          <a:ln w="190440">
            <a:solidFill>
              <a:srgbClr val="a50021"/>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29" name="Freeform 524"/>
          <p:cNvSpPr/>
          <p:nvPr/>
        </p:nvSpPr>
        <p:spPr>
          <a:xfrm>
            <a:off x="2050920" y="2852640"/>
            <a:ext cx="900360" cy="1763640"/>
          </a:xfrm>
          <a:custGeom>
            <a:avLst/>
            <a:gdLst>
              <a:gd name="textAreaLeft" fmla="*/ 0 w 900360"/>
              <a:gd name="textAreaRight" fmla="*/ 900720 w 900360"/>
              <a:gd name="textAreaTop" fmla="*/ 0 h 1763640"/>
              <a:gd name="textAreaBottom" fmla="*/ 1764000 h 1763640"/>
            </a:gdLst>
            <a:ahLst/>
            <a:rect l="textAreaLeft" t="textAreaTop" r="textAreaRight" b="textAreaBottom"/>
            <a:pathLst>
              <a:path w="635" h="953">
                <a:moveTo>
                  <a:pt x="0" y="0"/>
                </a:moveTo>
                <a:lnTo>
                  <a:pt x="0" y="953"/>
                </a:lnTo>
                <a:lnTo>
                  <a:pt x="635" y="953"/>
                </a:lnTo>
              </a:path>
            </a:pathLst>
          </a:custGeom>
          <a:noFill/>
          <a:ln w="190440">
            <a:solidFill>
              <a:srgbClr val="0099cc"/>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30" name="AutoShape 525"/>
          <p:cNvSpPr/>
          <p:nvPr/>
        </p:nvSpPr>
        <p:spPr>
          <a:xfrm>
            <a:off x="1042920" y="2635200"/>
            <a:ext cx="201636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1" name="AutoShape 526"/>
          <p:cNvSpPr/>
          <p:nvPr/>
        </p:nvSpPr>
        <p:spPr>
          <a:xfrm>
            <a:off x="1295280" y="1376280"/>
            <a:ext cx="1511280" cy="1474920"/>
          </a:xfrm>
          <a:prstGeom prst="roundRect">
            <a:avLst>
              <a:gd name="adj" fmla="val 11764"/>
            </a:avLst>
          </a:prstGeom>
          <a:gradFill rotWithShape="0">
            <a:gsLst>
              <a:gs pos="0">
                <a:srgbClr val="ffffff"/>
              </a:gs>
              <a:gs pos="100000">
                <a:srgbClr val="d8ece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2" name="AutoShape 527"/>
          <p:cNvSpPr/>
          <p:nvPr/>
        </p:nvSpPr>
        <p:spPr>
          <a:xfrm>
            <a:off x="1366920" y="1447920"/>
            <a:ext cx="1368360" cy="863640"/>
          </a:xfrm>
          <a:prstGeom prst="roundRect">
            <a:avLst>
              <a:gd name="adj" fmla="val 15806"/>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3" name="AutoShape 528"/>
          <p:cNvSpPr/>
          <p:nvPr/>
        </p:nvSpPr>
        <p:spPr>
          <a:xfrm>
            <a:off x="2735280" y="2635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4" name="AutoShape 529"/>
          <p:cNvSpPr/>
          <p:nvPr/>
        </p:nvSpPr>
        <p:spPr>
          <a:xfrm>
            <a:off x="2987640" y="1376280"/>
            <a:ext cx="1511280" cy="1474920"/>
          </a:xfrm>
          <a:prstGeom prst="roundRect">
            <a:avLst>
              <a:gd name="adj" fmla="val 11764"/>
            </a:avLst>
          </a:prstGeom>
          <a:gradFill rotWithShape="0">
            <a:gsLst>
              <a:gs pos="0">
                <a:srgbClr val="ffffff"/>
              </a:gs>
              <a:gs pos="100000">
                <a:srgbClr val="f5e0c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5" name="AutoShape 530"/>
          <p:cNvSpPr/>
          <p:nvPr/>
        </p:nvSpPr>
        <p:spPr>
          <a:xfrm>
            <a:off x="3059280" y="1447920"/>
            <a:ext cx="1368360" cy="863640"/>
          </a:xfrm>
          <a:prstGeom prst="roundRect">
            <a:avLst>
              <a:gd name="adj" fmla="val 15806"/>
            </a:avLst>
          </a:prstGeom>
          <a:gradFill rotWithShape="0">
            <a:gsLst>
              <a:gs pos="0">
                <a:srgbClr val="a50021"/>
              </a:gs>
              <a:gs pos="100000">
                <a:srgbClr val="87001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6" name="AutoShape 531"/>
          <p:cNvSpPr/>
          <p:nvPr/>
        </p:nvSpPr>
        <p:spPr>
          <a:xfrm>
            <a:off x="4427640" y="2635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7" name="AutoShape 532"/>
          <p:cNvSpPr/>
          <p:nvPr/>
        </p:nvSpPr>
        <p:spPr>
          <a:xfrm>
            <a:off x="4680000" y="1376280"/>
            <a:ext cx="1511280" cy="1474920"/>
          </a:xfrm>
          <a:prstGeom prst="roundRect">
            <a:avLst>
              <a:gd name="adj" fmla="val 11764"/>
            </a:avLst>
          </a:prstGeom>
          <a:gradFill rotWithShape="0">
            <a:gsLst>
              <a:gs pos="0">
                <a:srgbClr val="ffffff"/>
              </a:gs>
              <a:gs pos="100000">
                <a:srgbClr val="d8ece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8" name="AutoShape 533"/>
          <p:cNvSpPr/>
          <p:nvPr/>
        </p:nvSpPr>
        <p:spPr>
          <a:xfrm>
            <a:off x="4751280" y="1447920"/>
            <a:ext cx="1368360" cy="863640"/>
          </a:xfrm>
          <a:prstGeom prst="roundRect">
            <a:avLst>
              <a:gd name="adj" fmla="val 15806"/>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9" name="AutoShape 534"/>
          <p:cNvSpPr/>
          <p:nvPr/>
        </p:nvSpPr>
        <p:spPr>
          <a:xfrm>
            <a:off x="6119640" y="2635200"/>
            <a:ext cx="201636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0" name="AutoShape 535"/>
          <p:cNvSpPr/>
          <p:nvPr/>
        </p:nvSpPr>
        <p:spPr>
          <a:xfrm>
            <a:off x="6372360" y="1376280"/>
            <a:ext cx="1511280" cy="1474920"/>
          </a:xfrm>
          <a:prstGeom prst="roundRect">
            <a:avLst>
              <a:gd name="adj" fmla="val 11764"/>
            </a:avLst>
          </a:prstGeom>
          <a:gradFill rotWithShape="0">
            <a:gsLst>
              <a:gs pos="0">
                <a:srgbClr val="ffffff"/>
              </a:gs>
              <a:gs pos="100000">
                <a:srgbClr val="f5e0c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1" name="AutoShape 536"/>
          <p:cNvSpPr/>
          <p:nvPr/>
        </p:nvSpPr>
        <p:spPr>
          <a:xfrm>
            <a:off x="6434280" y="1447920"/>
            <a:ext cx="1368360" cy="863640"/>
          </a:xfrm>
          <a:prstGeom prst="roundRect">
            <a:avLst>
              <a:gd name="adj" fmla="val 15806"/>
            </a:avLst>
          </a:prstGeom>
          <a:gradFill rotWithShape="0">
            <a:gsLst>
              <a:gs pos="0">
                <a:srgbClr val="a50021"/>
              </a:gs>
              <a:gs pos="100000">
                <a:srgbClr val="87001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42" name=""/>
          <p:cNvGrpSpPr/>
          <p:nvPr/>
        </p:nvGrpSpPr>
        <p:grpSpPr>
          <a:xfrm>
            <a:off x="1476360" y="1663560"/>
            <a:ext cx="1155600" cy="420840"/>
            <a:chOff x="1476360" y="1663560"/>
            <a:chExt cx="1155600" cy="420840"/>
          </a:xfrm>
        </p:grpSpPr>
        <p:sp>
          <p:nvSpPr>
            <p:cNvPr id="443" name="WordArt 538"/>
            <p:cNvSpPr txBox="1"/>
            <p:nvPr/>
          </p:nvSpPr>
          <p:spPr>
            <a:xfrm>
              <a:off x="162396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44" name="WordArt 539"/>
            <p:cNvSpPr txBox="1"/>
            <p:nvPr/>
          </p:nvSpPr>
          <p:spPr>
            <a:xfrm>
              <a:off x="147636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45" name=""/>
          <p:cNvGrpSpPr/>
          <p:nvPr/>
        </p:nvGrpSpPr>
        <p:grpSpPr>
          <a:xfrm>
            <a:off x="3165480" y="1663560"/>
            <a:ext cx="1155600" cy="420840"/>
            <a:chOff x="3165480" y="1663560"/>
            <a:chExt cx="1155600" cy="420840"/>
          </a:xfrm>
        </p:grpSpPr>
        <p:sp>
          <p:nvSpPr>
            <p:cNvPr id="446" name="WordArt 541"/>
            <p:cNvSpPr txBox="1"/>
            <p:nvPr/>
          </p:nvSpPr>
          <p:spPr>
            <a:xfrm>
              <a:off x="331308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47" name="WordArt 542"/>
            <p:cNvSpPr txBox="1"/>
            <p:nvPr/>
          </p:nvSpPr>
          <p:spPr>
            <a:xfrm>
              <a:off x="316548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48" name=""/>
          <p:cNvGrpSpPr/>
          <p:nvPr/>
        </p:nvGrpSpPr>
        <p:grpSpPr>
          <a:xfrm>
            <a:off x="4859280" y="1663560"/>
            <a:ext cx="1155600" cy="420840"/>
            <a:chOff x="4859280" y="1663560"/>
            <a:chExt cx="1155600" cy="420840"/>
          </a:xfrm>
        </p:grpSpPr>
        <p:sp>
          <p:nvSpPr>
            <p:cNvPr id="449" name="WordArt 544"/>
            <p:cNvSpPr txBox="1"/>
            <p:nvPr/>
          </p:nvSpPr>
          <p:spPr>
            <a:xfrm>
              <a:off x="500688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50" name="WordArt 545"/>
            <p:cNvSpPr txBox="1"/>
            <p:nvPr/>
          </p:nvSpPr>
          <p:spPr>
            <a:xfrm>
              <a:off x="485928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51" name=""/>
          <p:cNvGrpSpPr/>
          <p:nvPr/>
        </p:nvGrpSpPr>
        <p:grpSpPr>
          <a:xfrm>
            <a:off x="6550200" y="1663560"/>
            <a:ext cx="1155600" cy="420840"/>
            <a:chOff x="6550200" y="1663560"/>
            <a:chExt cx="1155600" cy="420840"/>
          </a:xfrm>
        </p:grpSpPr>
        <p:sp>
          <p:nvSpPr>
            <p:cNvPr id="452" name="WordArt 547"/>
            <p:cNvSpPr txBox="1"/>
            <p:nvPr/>
          </p:nvSpPr>
          <p:spPr>
            <a:xfrm>
              <a:off x="669780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53" name="WordArt 548"/>
            <p:cNvSpPr txBox="1"/>
            <p:nvPr/>
          </p:nvSpPr>
          <p:spPr>
            <a:xfrm>
              <a:off x="655020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454" name="WordArt 549"/>
          <p:cNvSpPr txBox="1"/>
          <p:nvPr/>
        </p:nvSpPr>
        <p:spPr>
          <a:xfrm>
            <a:off x="154764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455" name="WordArt 550"/>
          <p:cNvSpPr txBox="1"/>
          <p:nvPr/>
        </p:nvSpPr>
        <p:spPr>
          <a:xfrm>
            <a:off x="3276720" y="2527200"/>
            <a:ext cx="10062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456" name="WordArt 551"/>
          <p:cNvSpPr txBox="1"/>
          <p:nvPr/>
        </p:nvSpPr>
        <p:spPr>
          <a:xfrm>
            <a:off x="493236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457" name="WordArt 552"/>
          <p:cNvSpPr txBox="1"/>
          <p:nvPr/>
        </p:nvSpPr>
        <p:spPr>
          <a:xfrm>
            <a:off x="665964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pic>
        <p:nvPicPr>
          <p:cNvPr id="458" name="Picture 558" descr="그림1"/>
          <p:cNvPicPr/>
          <p:nvPr/>
        </p:nvPicPr>
        <p:blipFill>
          <a:blip r:embed="rId2"/>
          <a:stretch/>
        </p:blipFill>
        <p:spPr>
          <a:xfrm>
            <a:off x="3276720" y="3446640"/>
            <a:ext cx="2646360" cy="2646360"/>
          </a:xfrm>
          <a:prstGeom prst="rect">
            <a:avLst/>
          </a:prstGeom>
          <a:ln w="0">
            <a:noFill/>
          </a:ln>
        </p:spPr>
      </p:pic>
      <p:grpSp>
        <p:nvGrpSpPr>
          <p:cNvPr id="459" name=""/>
          <p:cNvGrpSpPr/>
          <p:nvPr/>
        </p:nvGrpSpPr>
        <p:grpSpPr>
          <a:xfrm>
            <a:off x="3527280" y="4543560"/>
            <a:ext cx="2089080" cy="431640"/>
            <a:chOff x="3527280" y="4543560"/>
            <a:chExt cx="2089080" cy="431640"/>
          </a:xfrm>
        </p:grpSpPr>
        <p:sp>
          <p:nvSpPr>
            <p:cNvPr id="460" name="WordArt 560"/>
            <p:cNvSpPr txBox="1"/>
            <p:nvPr/>
          </p:nvSpPr>
          <p:spPr>
            <a:xfrm>
              <a:off x="3671640" y="454356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61" name="WordArt 561"/>
            <p:cNvSpPr txBox="1"/>
            <p:nvPr/>
          </p:nvSpPr>
          <p:spPr>
            <a:xfrm>
              <a:off x="3527280" y="484200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sp>
        <p:nvSpPr>
          <p:cNvPr id="462"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5cc8"/>
                </a:solidFill>
                <a:latin typeface="HY헤드라인M"/>
              </a:rPr>
              <a:t>Click To Type Slide Title</a:t>
            </a:r>
            <a:endParaRPr b="0" lang="en-US" sz="2600" spc="-1" strike="noStrike">
              <a:solidFill>
                <a:srgbClr val="005cc8"/>
              </a:solidFill>
              <a:latin typeface="HY헤드라인M"/>
            </a:endParaRPr>
          </a:p>
        </p:txBody>
      </p:sp>
      <p:sp>
        <p:nvSpPr>
          <p:cNvPr id="463"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9T06:41:43Z</dcterms:created>
  <dc:creator>幻灯片之家：www.eeppt.com</dc:creator>
  <dc:description>幻灯片之家：www.eeppt.com</dc:description>
  <cp:keywords>幻灯片之家：www.eeppt.com</cp:keywords>
  <dc:language>en-US</dc:language>
  <cp:lastModifiedBy/>
  <dcterms:modified xsi:type="dcterms:W3CDTF">2015-09-18T13:16:13Z</dcterms:modified>
  <cp:revision>424</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