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C69-40B4-4EF6-83D5-1C74298B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947-24AF-404F-BF88-4C7B8918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671-09BF-4B32-9D2E-829A63F1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E7A-8DBF-4DDE-B811-C055CAF4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D0A7-49E3-4B78-A43C-7945F100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D5D3-47DE-497A-B5F4-D8A275D8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326-B1FD-44D3-910A-F4082960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D26E-0BF0-42DD-B01C-91BE12E5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017C-F70E-4A2B-B367-4B96297F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10A4-33C9-4693-88E7-7A0FFC6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1606-2BBF-4B07-9714-C89070B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75C-51A7-4716-95AA-32F3252E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44C0-9A3C-488D-A6D5-BB4BD94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2577-CD68-4EC8-8B3B-3536C96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B4E-E82D-46E7-AA2D-4843155C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ECE7-4799-45D3-911A-3A787E1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68580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750840"/>
            <a:ext cx="274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398F-B0BA-4929-BCE9-B4D55CA6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559-3518-41BC-9C3C-19936ECA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66A-A1F0-4B03-BAC1-77AA2CD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127-392D-4DE0-9150-D19CAD8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699-B75F-4C6D-9863-EB342B7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845-EC7F-469A-8FF6-A44AA5B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75084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D63-D1BB-45FD-8008-B41C628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685800"/>
            <a:ext cx="41644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50840"/>
            <a:ext cx="853416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E33-0C28-4014-BE1C-583ACC4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51B-4CEC-4375-9DC8-E8741912CC45}" type="slidenum">
              <a:rPr b="1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095-49DB-472C-BBE0-F7C5BBF57BC9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Gentle Breez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galleon"/>
          <p:cNvPicPr/>
          <p:nvPr/>
        </p:nvPicPr>
        <p:blipFill>
          <a:blip r:embed="rId2"/>
          <a:stretch/>
        </p:blipFill>
        <p:spPr>
          <a:xfrm>
            <a:off x="-512640" y="1219320"/>
            <a:ext cx="554184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81200" y="1143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帆船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169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Impact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Tahoma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83F8-3F62-4F75-9D92-59E278F1E642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30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