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9550-8912-4462-A116-FA40E0FA9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1080" y="1219320"/>
            <a:ext cx="64771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1080" y="3782520"/>
            <a:ext cx="64771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1E31-01F3-4371-8738-F89142E3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1080" y="12193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0280" y="12193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1080" y="37825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0280" y="37825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B48F-06B3-4525-AA33-88DBC4521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1080" y="1219320"/>
            <a:ext cx="20854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1320" y="1219320"/>
            <a:ext cx="20854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1200" y="1219320"/>
            <a:ext cx="20854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1080" y="3782520"/>
            <a:ext cx="20854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1320" y="3782520"/>
            <a:ext cx="20854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1200" y="3782520"/>
            <a:ext cx="20854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3C07-42D5-4277-91BD-E026D5653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49A5-A0D7-42C6-BCDB-865686B3D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81080" y="1219320"/>
            <a:ext cx="64771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B6A3-D21B-4652-9D2D-229E3A6B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81080" y="1219320"/>
            <a:ext cx="6477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D3B5-DA44-4F64-B41E-7AAFB2F3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1080" y="1219320"/>
            <a:ext cx="3160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0280" y="1219320"/>
            <a:ext cx="3160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148D-50D9-4FFD-9AF4-6B13116E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7594-B3FD-483A-824C-824A76EF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A417-66EA-441F-96EF-00A698A5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1080" y="12193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0280" y="1219320"/>
            <a:ext cx="3160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81080" y="37825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292E-5907-4340-B2DA-958A127F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1080" y="1219320"/>
            <a:ext cx="64771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F252-0DA2-45AE-91CF-F29B0269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1219320"/>
            <a:ext cx="3160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0280" y="12193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0280" y="37825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C5E5-7210-4ED7-8CFB-3637FE82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12193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0280" y="12193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81080" y="3782520"/>
            <a:ext cx="64771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5721-CF28-42A6-8F62-8D2AEB78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1219320"/>
            <a:ext cx="64771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81080" y="3782520"/>
            <a:ext cx="64771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A9DF-CD4E-49B7-BB16-77CDE17E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81080" y="12193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0280" y="12193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81080" y="37825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0280" y="37825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1771-B8EC-44EE-B20F-5ACB6C073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1080" y="1219320"/>
            <a:ext cx="20854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1320" y="1219320"/>
            <a:ext cx="20854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1200" y="1219320"/>
            <a:ext cx="20854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81080" y="3782520"/>
            <a:ext cx="20854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1320" y="3782520"/>
            <a:ext cx="20854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1200" y="3782520"/>
            <a:ext cx="20854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B8FA-2EF3-4719-9D2A-B3431BC40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1080" y="1219320"/>
            <a:ext cx="6477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6CDA-125B-4AA1-B10B-A8279FEF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1219320"/>
            <a:ext cx="3160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0280" y="1219320"/>
            <a:ext cx="3160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02F4-55B5-40D6-B1E5-02A86C15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0EF6-C6A7-4DCE-B011-9BAA7B1D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EA26-EFB4-499E-8E22-42F09A47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1080" y="12193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0280" y="1219320"/>
            <a:ext cx="3160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1080" y="37825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8D15-50EF-4588-A2BB-54F41B7C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1080" y="1219320"/>
            <a:ext cx="3160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0280" y="12193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0280" y="37825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D558-A8A0-4888-A4EE-0B6460DB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1080" y="12193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0280" y="12193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1080" y="3782520"/>
            <a:ext cx="64771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9505-F0BC-42A0-8909-88DB3148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bc7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1080" y="1219320"/>
            <a:ext cx="6477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ebc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bc7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bc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bc7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bc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bc7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eaebc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bc7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eaebc7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bc7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bc7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bc7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AECF-9EE8-4D6B-BE8C-32228B143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590920"/>
            <a:ext cx="5257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bc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8C72-8742-4788-ACDA-26F567B7A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bc7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eaebc7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bc7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eaebc7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eaebc7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bc7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eaebc7"/>
              </a:solidFill>
              <a:latin typeface="Times New Roman"/>
            </a:endParaRPr>
          </a:p>
          <a:p>
            <a:pPr lvl="3" marL="1371600" algn="ctr">
              <a:spcBef>
                <a:spcPts val="400"/>
              </a:spcBef>
              <a:buClr>
                <a:srgbClr val="eaebc7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bc7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bc7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eaebc7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bc7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bc7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bc7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bc7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bc7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bc7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2590920"/>
            <a:ext cx="5257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bc7"/>
                </a:solidFill>
                <a:latin typeface="Times New Roman"/>
              </a:rPr>
              <a:t>Leather</a:t>
            </a:r>
            <a:br>
              <a:rPr sz="5400"/>
            </a:br>
            <a:r>
              <a:rPr b="0" lang="en-US" sz="5400" spc="-1" strike="noStrike">
                <a:solidFill>
                  <a:srgbClr val="eaebc7"/>
                </a:solidFill>
                <a:latin typeface="Times New Roman"/>
              </a:rPr>
              <a:t>Weather</a:t>
            </a:r>
            <a:endParaRPr b="0" lang="en-US" sz="5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-360" y="441936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bc7"/>
                </a:solidFill>
                <a:latin typeface="Times New Roman"/>
              </a:rPr>
              <a:t>Your Subtitle Goes Here</a:t>
            </a:r>
            <a:endParaRPr b="0" lang="en-US" sz="20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7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93160" y="53352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复古城市企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bc7"/>
                </a:solidFill>
                <a:latin typeface="Times New Roman"/>
              </a:rPr>
              <a:t>Your Topic Goes Here</a:t>
            </a:r>
            <a:endParaRPr b="0" lang="en-US" sz="4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81080" y="1219320"/>
            <a:ext cx="6477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ebc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bc7"/>
                </a:solidFill>
                <a:latin typeface="Times New Roman"/>
              </a:rPr>
              <a:t>Your Subtopics Go Here</a:t>
            </a: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bc7"/>
                </a:solidFill>
                <a:latin typeface="Times New Roman"/>
              </a:rPr>
              <a:t>Your Topic Goes Here</a:t>
            </a:r>
            <a:endParaRPr b="0" lang="en-US" sz="4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81080" y="1219320"/>
            <a:ext cx="6477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Subtopics Go Here</a:t>
            </a: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32004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aebc7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38F7-4441-4C66-B9DB-E08B6B9DEE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ero"/>
              </a:rPr>
              <a:t>elements</a:t>
            </a:r>
            <a:endParaRPr b="0" lang="en-US" sz="6000" spc="-1" strike="noStrike">
              <a:solidFill>
                <a:srgbClr val="eaebc7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248520" y="3943440"/>
            <a:ext cx="2666880" cy="2000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04920" y="3943440"/>
            <a:ext cx="2666880" cy="2000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276720" y="3943440"/>
            <a:ext cx="2666880" cy="2000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04920" y="3049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81080" y="1219320"/>
            <a:ext cx="6477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16:44:34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58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