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DB1-51C2-4660-8B79-0D27FE56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E06-3594-461D-AD52-338FA595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0B0-978E-495D-904B-229D38FC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6F1-BD16-45F9-9EF6-53C52708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DE4-E39B-47D7-85E5-E1C2D997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3BBA-46DB-457F-B3FA-8713813A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F37D-3803-49A5-A294-9A31B8CC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DBF-E160-40F6-A8C6-5868D09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3F08-3097-4763-833B-70153EE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3999-6514-4398-86D2-EFBB0EC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35ED-E140-44D7-8289-51AACC4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BEC-6DE7-4A6A-9AD4-741C2B1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81B7-0550-4289-8DD1-900BA28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E7DA-6D45-45B8-96E6-8822104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463-FB6F-465D-B670-689B612E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6B15-9B69-4B75-BEB6-97E0DCCF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297144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847320"/>
            <a:ext cx="26006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ED11-A98B-4D50-A7D2-67301680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9E4-FBF9-4DF3-8376-D258EB42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658-4F08-489D-9111-E5646C0B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BB8-CB32-4D8F-B215-4809D413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C7D-BBA3-4072-9DF9-1E057F3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C4A-A4C0-4A28-8C96-41394FD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84732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C0B-1E4E-45FA-A5C9-F570695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2971440"/>
            <a:ext cx="39412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47320"/>
            <a:ext cx="8076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A39-6E30-41E0-BFDA-9586F1A9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14F-9C29-411B-AD3B-5389C5AA23E7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04F-0A64-493C-BB97-3A157DB4D850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2" marL="914400" algn="ctr">
              <a:spcBef>
                <a:spcPts val="601"/>
              </a:spcBef>
              <a:buClr>
                <a:srgbClr val="5d3603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  <a:p>
            <a:pPr lvl="3" marL="1371600" algn="ctr">
              <a:spcBef>
                <a:spcPts val="499"/>
              </a:spcBef>
              <a:buClr>
                <a:srgbClr val="5d3603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4" marL="1828800" algn="ctr">
              <a:spcBef>
                <a:spcPts val="499"/>
              </a:spcBef>
              <a:buClr>
                <a:srgbClr val="5d3603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2000" spc="-1" strike="noStrike">
              <a:solidFill>
                <a:srgbClr val="5d3603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Autumn Myst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title Goes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84" name="leaves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3614760" cy="2389320"/>
          </a:xfrm>
          <a:prstGeom prst="rect">
            <a:avLst/>
          </a:prstGeom>
          <a:ln w="0">
            <a:noFill/>
          </a:ln>
        </p:spPr>
      </p:pic>
      <p:pic>
        <p:nvPicPr>
          <p:cNvPr id="85" name="leaves" descr=""/>
          <p:cNvPicPr/>
          <p:nvPr/>
        </p:nvPicPr>
        <p:blipFill>
          <a:blip r:embed="rId3"/>
          <a:stretch/>
        </p:blipFill>
        <p:spPr>
          <a:xfrm>
            <a:off x="304920" y="4411800"/>
            <a:ext cx="3429000" cy="2263680"/>
          </a:xfrm>
          <a:prstGeom prst="rect">
            <a:avLst/>
          </a:prstGeom>
          <a:ln w="0">
            <a:noFill/>
          </a:ln>
        </p:spPr>
      </p:pic>
      <p:pic>
        <p:nvPicPr>
          <p:cNvPr id="86" name="leaf" descr=""/>
          <p:cNvPicPr/>
          <p:nvPr/>
        </p:nvPicPr>
        <p:blipFill>
          <a:blip r:embed="rId4"/>
          <a:stretch/>
        </p:blipFill>
        <p:spPr>
          <a:xfrm>
            <a:off x="3962520" y="4952880"/>
            <a:ext cx="1752480" cy="1703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07320" y="549360"/>
            <a:ext cx="43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枫叶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会议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1" name="leaf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Transitional Page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6" name="leaf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2492280"/>
            <a:ext cx="592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pperplate Gothic Bold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ABE-242D-4CC6-ABA2-52F69EC474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</a:rPr>
              <a:t>Elements</a:t>
            </a:r>
            <a:endParaRPr b="0" lang="en-US" sz="66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www.animationfactory.com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103" name="autumn_myst_prt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autumn_myst_qx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438280" cy="1951200"/>
          </a:xfrm>
          <a:prstGeom prst="rect">
            <a:avLst/>
          </a:prstGeom>
          <a:ln w="0">
            <a:noFill/>
          </a:ln>
        </p:spPr>
      </p:pic>
      <p:pic>
        <p:nvPicPr>
          <p:cNvPr id="105" name="autumn_myst_sld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2438640" cy="1951200"/>
          </a:xfrm>
          <a:prstGeom prst="rect">
            <a:avLst/>
          </a:prstGeom>
          <a:ln w="0">
            <a:noFill/>
          </a:ln>
        </p:spPr>
      </p:pic>
      <p:pic>
        <p:nvPicPr>
          <p:cNvPr id="106" name="leaf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752840" cy="1703520"/>
          </a:xfrm>
          <a:prstGeom prst="rect">
            <a:avLst/>
          </a:prstGeom>
          <a:ln w="0">
            <a:noFill/>
          </a:ln>
        </p:spPr>
      </p:pic>
      <p:pic>
        <p:nvPicPr>
          <p:cNvPr id="107" name="leaves" descr=""/>
          <p:cNvPicPr/>
          <p:nvPr/>
        </p:nvPicPr>
        <p:blipFill>
          <a:blip r:embed="rId5"/>
          <a:stretch/>
        </p:blipFill>
        <p:spPr>
          <a:xfrm>
            <a:off x="2971800" y="428760"/>
            <a:ext cx="2743200" cy="1812960"/>
          </a:xfrm>
          <a:prstGeom prst="rect">
            <a:avLst/>
          </a:prstGeom>
          <a:ln w="0">
            <a:noFill/>
          </a:ln>
        </p:spPr>
      </p:pic>
      <p:pic>
        <p:nvPicPr>
          <p:cNvPr id="108" name="leaves" descr=""/>
          <p:cNvPicPr/>
          <p:nvPr/>
        </p:nvPicPr>
        <p:blipFill>
          <a:blip r:embed="rId6"/>
          <a:stretch/>
        </p:blipFill>
        <p:spPr>
          <a:xfrm>
            <a:off x="5943600" y="480960"/>
            <a:ext cx="26240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6:19:30Z</dcterms:created>
  <dc:creator>幻灯片之家：www.eeppt.com</dc:creator>
  <dc:description/>
  <cp:keywords>幻灯片之家：www.eeppt.com</cp:keywords>
  <dc:language>en-US</dc:language>
  <cp:lastModifiedBy/>
  <dcterms:modified xsi:type="dcterms:W3CDTF">2015-09-18T13:20:5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