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E9D9-5DFE-4078-9420-2CA4F86EAE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9880" y="522828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2AE8-2750-4562-916A-63C22AB4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0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C4D1-4860-40A2-B117-62107A3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720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488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988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40720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0488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7B53-F2AA-4353-9BA0-4994BFC1B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76AFC-2FA0-4896-A8BF-DD35DADC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9880" y="5029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18EB5-2D26-4CD8-8C8C-531AB420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B0B90-A979-4062-9946-DC8AC125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DDFB3-027A-4C06-A9FD-9039C111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133C1-6AE5-44DA-897E-5FF05601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057400"/>
            <a:ext cx="609588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9B780-D270-4D47-9B99-5C465AA9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38086-20DA-4E24-B1B0-27490D9B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9880" y="5029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A5B5-B27C-4927-B315-83E72A85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0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DBCED-E3AA-4265-A449-E4083204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7BDA7-2A7A-46B0-84A3-0E9AF6F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9880" y="522828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7F739-AB02-46D1-981F-2B42C15C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0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8E44C-8487-4CFD-B2F3-E44F4CF8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0720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04880" y="502920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988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40720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04880" y="5228280"/>
            <a:ext cx="1521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80BDA-3D83-47AD-A412-67D576E9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CAA5-A934-4C90-821A-ADEDDF23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691F-948A-4783-BBDB-8BB356B5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B9B4-92A0-43D7-B735-10679E5B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240" y="2057400"/>
            <a:ext cx="609588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AA5A-BD2D-4037-8D0D-133134B9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A6ED-675F-4373-BFF7-6D83553E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0880" y="522828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BC81-9269-4380-B804-1712128D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9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0880" y="5029200"/>
            <a:ext cx="2305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9880" y="5228280"/>
            <a:ext cx="4724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A21D-1F3C-49D5-9194-25F25684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0044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2971440" y="64004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7DC0-F213-4F3C-93DE-AB45BB26E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0C15-C2E7-4DBD-B0B3-CDE33A235C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95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23516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60958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分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构幻灯片免费下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61240" y="26859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9880" y="5029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638680" cy="37670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44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75" name=""/>
            <p:cNvSpPr/>
            <p:nvPr/>
          </p:nvSpPr>
          <p:spPr>
            <a:xfrm>
              <a:off x="7834320" y="2286000"/>
              <a:ext cx="5760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8ac8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43320" y="3117960"/>
              <a:ext cx="359388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95b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73680" y="39499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7fb242"/>
                </a:gs>
                <a:gs pos="100000">
                  <a:srgbClr val="3a52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d23516"/>
                </a:gs>
                <a:gs pos="100000">
                  <a:srgbClr val="60180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2360" y="4776840"/>
              <a:ext cx="408132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d23516"/>
                </a:gs>
                <a:gs pos="100000">
                  <a:srgbClr val="e48a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872640" y="2276640"/>
              <a:ext cx="5033880" cy="3324240"/>
              <a:chOff x="872640" y="2276640"/>
              <a:chExt cx="5033880" cy="332424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873000" y="5599440"/>
                <a:ext cx="1657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24720" y="26006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24720" y="342756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224720" y="42912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24720" y="50976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84560" y="2440080"/>
                <a:ext cx="183816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87e3"/>
                  </a:gs>
                  <a:gs pos="100000">
                    <a:srgbClr val="213e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079960" y="2827440"/>
              <a:ext cx="2766960" cy="304920"/>
            </a:xfrm>
            <a:prstGeom prst="rect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90cad6"/>
                </a:gs>
                <a:gs pos="100000">
                  <a:srgbClr val="36a1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44760" y="3657600"/>
              <a:ext cx="3016440" cy="29844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9bbcee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280" y="3949920"/>
              <a:ext cx="383400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7fb242"/>
                </a:gs>
                <a:gs pos="100000">
                  <a:srgbClr val="b4d1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22520" y="449280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7fb242"/>
                </a:gs>
                <a:gs pos="50000">
                  <a:srgbClr val="b8d497"/>
                </a:gs>
                <a:gs pos="100000">
                  <a:srgbClr val="7fb2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560" y="531828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d23516"/>
                </a:gs>
                <a:gs pos="50000">
                  <a:srgbClr val="e5907f"/>
                </a:gs>
                <a:gs pos="100000">
                  <a:srgbClr val="d235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04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3739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89c8d"/>
                </a:gs>
                <a:gs pos="100000">
                  <a:srgbClr val="d23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a1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0"/>
                  </a:srgbClr>
                </a:gs>
                <a:gs pos="100000">
                  <a:srgbClr val="2265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29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914400" y="2590920"/>
          <a:ext cx="7315200" cy="2732040"/>
        </p:xfrm>
        <a:graphic>
          <a:graphicData uri="http://schemas.openxmlformats.org/drawingml/2006/table">
            <a:tbl>
              <a:tblPr/>
              <a:tblGrid>
                <a:gridCol w="985680"/>
                <a:gridCol w="1909800"/>
                <a:gridCol w="354240"/>
                <a:gridCol w="1931760"/>
                <a:gridCol w="338400"/>
                <a:gridCol w="1795320"/>
              </a:tblGrid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80000"/>
                      </a:srgbClr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80000"/>
                      </a:srgbClr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344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49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357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62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370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52280" y="1981080"/>
            <a:ext cx="8838720" cy="3963240"/>
            <a:chOff x="152280" y="1981080"/>
            <a:chExt cx="8838720" cy="3963240"/>
          </a:xfrm>
        </p:grpSpPr>
        <p:grpSp>
          <p:nvGrpSpPr>
            <p:cNvPr id="383" name=""/>
            <p:cNvGrpSpPr/>
            <p:nvPr/>
          </p:nvGrpSpPr>
          <p:grpSpPr>
            <a:xfrm>
              <a:off x="152280" y="3205080"/>
              <a:ext cx="8838720" cy="147240"/>
              <a:chOff x="152280" y="3205080"/>
              <a:chExt cx="8838720" cy="147240"/>
            </a:xfrm>
          </p:grpSpPr>
          <p:sp>
            <p:nvSpPr>
              <p:cNvPr id="384" name=""/>
              <p:cNvSpPr/>
              <p:nvPr/>
            </p:nvSpPr>
            <p:spPr>
              <a:xfrm>
                <a:off x="152280" y="3205080"/>
                <a:ext cx="8838720" cy="39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2280" y="3245040"/>
                <a:ext cx="8838720" cy="10728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960480" y="2673360"/>
              <a:ext cx="1929240" cy="3205080"/>
              <a:chOff x="960480" y="2673360"/>
              <a:chExt cx="1929240" cy="320508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1379160" y="3496320"/>
                <a:ext cx="1510560" cy="2382120"/>
                <a:chOff x="1379160" y="3496320"/>
                <a:chExt cx="1510560" cy="238212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1379160" y="3654000"/>
                  <a:ext cx="1400400" cy="2224440"/>
                  <a:chOff x="1379160" y="3654000"/>
                  <a:chExt cx="1400400" cy="2224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3876600">
                    <a:off x="964800" y="4520160"/>
                    <a:ext cx="22287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3876600">
                    <a:off x="2304360" y="5381640"/>
                    <a:ext cx="3502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1815480" y="3496320"/>
                  <a:ext cx="1074240" cy="1706760"/>
                  <a:chOff x="1815480" y="3496320"/>
                  <a:chExt cx="1074240" cy="1706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V="1" rot="3876600">
                    <a:off x="1497240" y="4160520"/>
                    <a:ext cx="1710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V="1" rot="3876600">
                    <a:off x="2509560" y="4829400"/>
                    <a:ext cx="26856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"/>
              <p:cNvGrpSpPr/>
              <p:nvPr/>
            </p:nvGrpSpPr>
            <p:grpSpPr>
              <a:xfrm>
                <a:off x="960480" y="2673360"/>
                <a:ext cx="1271160" cy="1282320"/>
                <a:chOff x="960480" y="2673360"/>
                <a:chExt cx="1271160" cy="12823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960480" y="2673360"/>
                  <a:ext cx="127116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960480" y="2673360"/>
                  <a:ext cx="127116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044360" y="2756520"/>
                  <a:ext cx="110268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044360" y="2759400"/>
                  <a:ext cx="110268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099080" y="2813400"/>
                  <a:ext cx="99324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1114560" y="2828520"/>
                  <a:ext cx="962640" cy="972360"/>
                  <a:chOff x="1114560" y="2828520"/>
                  <a:chExt cx="962640" cy="9723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114560" y="2828520"/>
                    <a:ext cx="96264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126800" y="2833920"/>
                    <a:ext cx="93960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136880" y="2843280"/>
                    <a:ext cx="89352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1189080" y="2868120"/>
                    <a:ext cx="79416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5" name=""/>
              <p:cNvSpPr/>
              <p:nvPr/>
            </p:nvSpPr>
            <p:spPr>
              <a:xfrm rot="3925800">
                <a:off x="1330560" y="4464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3925800">
                <a:off x="1791000" y="4187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711160" y="2673360"/>
              <a:ext cx="1930680" cy="3205080"/>
              <a:chOff x="2711160" y="2673360"/>
              <a:chExt cx="1930680" cy="320508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3130920" y="3495960"/>
                <a:ext cx="1510920" cy="2382480"/>
                <a:chOff x="3130920" y="3495960"/>
                <a:chExt cx="1510920" cy="2382480"/>
              </a:xfrm>
            </p:grpSpPr>
            <p:grpSp>
              <p:nvGrpSpPr>
                <p:cNvPr id="409" name=""/>
                <p:cNvGrpSpPr/>
                <p:nvPr/>
              </p:nvGrpSpPr>
              <p:grpSpPr>
                <a:xfrm>
                  <a:off x="3130920" y="3654000"/>
                  <a:ext cx="1400400" cy="2224440"/>
                  <a:chOff x="3130920" y="3654000"/>
                  <a:chExt cx="1400400" cy="22244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3876600">
                    <a:off x="2716560" y="4520160"/>
                    <a:ext cx="22287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3876600">
                    <a:off x="4055760" y="5381640"/>
                    <a:ext cx="3502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3567240" y="3495960"/>
                  <a:ext cx="1074600" cy="1707120"/>
                  <a:chOff x="3567240" y="3495960"/>
                  <a:chExt cx="1074600" cy="17071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V="1" rot="3876600">
                    <a:off x="3249000" y="4160520"/>
                    <a:ext cx="1710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V="1" rot="3876600">
                    <a:off x="4261320" y="4829400"/>
                    <a:ext cx="26856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2711160" y="2673360"/>
                <a:ext cx="1271520" cy="1282320"/>
                <a:chOff x="2711160" y="2673360"/>
                <a:chExt cx="1271520" cy="12823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711160" y="267336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711160" y="267336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795400" y="275652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795400" y="275940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849760" y="2813400"/>
                  <a:ext cx="99360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2865240" y="2828520"/>
                  <a:ext cx="963000" cy="972360"/>
                  <a:chOff x="2865240" y="2828520"/>
                  <a:chExt cx="963000" cy="972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2865240" y="2828520"/>
                    <a:ext cx="96300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877480" y="2833920"/>
                    <a:ext cx="9399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887560" y="2843280"/>
                    <a:ext cx="89388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939760" y="2868120"/>
                    <a:ext cx="79452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"/>
              <p:cNvSpPr/>
              <p:nvPr/>
            </p:nvSpPr>
            <p:spPr>
              <a:xfrm rot="3925800">
                <a:off x="3080520" y="4461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925800">
                <a:off x="3537360" y="4187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521240" y="2673360"/>
              <a:ext cx="1929240" cy="3205800"/>
              <a:chOff x="4521240" y="2673360"/>
              <a:chExt cx="1929240" cy="320580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4937400" y="3493440"/>
                <a:ext cx="1513080" cy="2385720"/>
                <a:chOff x="4937400" y="3493440"/>
                <a:chExt cx="1513080" cy="238572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4937400" y="3651840"/>
                  <a:ext cx="1402560" cy="2227320"/>
                  <a:chOff x="4937400" y="3651840"/>
                  <a:chExt cx="1402560" cy="22273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3876600">
                    <a:off x="4523040" y="4518360"/>
                    <a:ext cx="2230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3876600">
                    <a:off x="5863680" y="5380920"/>
                    <a:ext cx="35064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5374440" y="3493440"/>
                  <a:ext cx="1076040" cy="1708920"/>
                  <a:chOff x="5374440" y="3493440"/>
                  <a:chExt cx="1076040" cy="17089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V="1" rot="3876600">
                    <a:off x="5056560" y="4158000"/>
                    <a:ext cx="171180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 rot="3876600">
                    <a:off x="6069600" y="4827960"/>
                    <a:ext cx="26892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521240" y="2673360"/>
                <a:ext cx="1273320" cy="1283760"/>
                <a:chOff x="4521240" y="2673360"/>
                <a:chExt cx="1273320" cy="12837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521240" y="2673360"/>
                  <a:ext cx="1273320" cy="128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521240" y="2673360"/>
                  <a:ext cx="1273320" cy="128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605480" y="2756520"/>
                  <a:ext cx="1104480" cy="11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605480" y="2759400"/>
                  <a:ext cx="1104480" cy="111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660200" y="2813400"/>
                  <a:ext cx="995040" cy="1002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4675320" y="2828880"/>
                  <a:ext cx="964440" cy="973440"/>
                  <a:chOff x="4675320" y="2828880"/>
                  <a:chExt cx="964440" cy="97344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4675320" y="2828880"/>
                    <a:ext cx="964440" cy="973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687560" y="2834280"/>
                    <a:ext cx="941040" cy="949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697640" y="2843640"/>
                    <a:ext cx="894960" cy="88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749840" y="2868480"/>
                    <a:ext cx="795600" cy="720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"/>
              <p:cNvSpPr/>
              <p:nvPr/>
            </p:nvSpPr>
            <p:spPr>
              <a:xfrm rot="3925800">
                <a:off x="4900680" y="4464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3925800">
                <a:off x="5359320" y="4187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300720" y="2531880"/>
              <a:ext cx="2121480" cy="3412440"/>
              <a:chOff x="6300720" y="2531880"/>
              <a:chExt cx="2121480" cy="341244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6909120" y="3558600"/>
                <a:ext cx="1513080" cy="2385720"/>
                <a:chOff x="6909120" y="3558600"/>
                <a:chExt cx="1513080" cy="238572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6909120" y="3717000"/>
                  <a:ext cx="1402560" cy="2227320"/>
                  <a:chOff x="6909120" y="3717000"/>
                  <a:chExt cx="1402560" cy="22273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rot="3876600">
                    <a:off x="6494760" y="4583520"/>
                    <a:ext cx="223092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rot="3876600">
                    <a:off x="7835400" y="5446080"/>
                    <a:ext cx="35064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7346160" y="3558600"/>
                  <a:ext cx="1076040" cy="1708920"/>
                  <a:chOff x="7346160" y="3558600"/>
                  <a:chExt cx="1076040" cy="170892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V="1" rot="3876600">
                    <a:off x="7028280" y="4223160"/>
                    <a:ext cx="171180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 rot="3876600">
                    <a:off x="8041320" y="4893120"/>
                    <a:ext cx="26892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"/>
              <p:cNvSpPr/>
              <p:nvPr/>
            </p:nvSpPr>
            <p:spPr>
              <a:xfrm>
                <a:off x="6300720" y="2531880"/>
                <a:ext cx="1529280" cy="1539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00720" y="2531880"/>
                <a:ext cx="1529280" cy="15397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402240" y="2631960"/>
                <a:ext cx="1329120" cy="13377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404040" y="2635200"/>
                <a:ext cx="1328760" cy="13377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68840" y="2700000"/>
                <a:ext cx="1195920" cy="120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6486480" y="2719080"/>
                <a:ext cx="1160280" cy="1166400"/>
                <a:chOff x="6486480" y="2719080"/>
                <a:chExt cx="1160280" cy="1166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486480" y="2719080"/>
                  <a:ext cx="1160280" cy="116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501240" y="2725560"/>
                  <a:ext cx="113220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513120" y="2736720"/>
                  <a:ext cx="1076760" cy="106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76120" y="2766600"/>
                  <a:ext cx="957240" cy="86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 rot="3925800">
                <a:off x="6855840" y="4606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925800">
                <a:off x="7311240" y="4331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1250640" y="2020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09600" y="2020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59200" y="2020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72520" y="19810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"/>
            <p:cNvCxnSpPr>
              <a:stCxn id="469" idx="3"/>
              <a:endCxn id="470" idx="1"/>
            </p:cNvCxnSpPr>
            <p:nvPr/>
          </p:nvCxnSpPr>
          <p:spPr>
            <a:xfrm>
              <a:off x="1898640" y="2182320"/>
              <a:ext cx="108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4" name=""/>
            <p:cNvCxnSpPr>
              <a:stCxn id="470" idx="3"/>
              <a:endCxn id="471" idx="1"/>
            </p:cNvCxnSpPr>
            <p:nvPr/>
          </p:nvCxnSpPr>
          <p:spPr>
            <a:xfrm>
              <a:off x="3655440" y="2182320"/>
              <a:ext cx="1072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5" name=""/>
            <p:cNvCxnSpPr>
              <a:stCxn id="471" idx="3"/>
              <a:endCxn id="472" idx="1"/>
            </p:cNvCxnSpPr>
            <p:nvPr/>
          </p:nvCxnSpPr>
          <p:spPr>
            <a:xfrm>
              <a:off x="5406840" y="2182680"/>
              <a:ext cx="1077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6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480" name=""/>
            <p:cNvSpPr/>
            <p:nvPr/>
          </p:nvSpPr>
          <p:spPr>
            <a:xfrm>
              <a:off x="5552280" y="2801880"/>
              <a:ext cx="2676960" cy="2836440"/>
            </a:xfrm>
            <a:custGeom>
              <a:avLst/>
              <a:gdLst>
                <a:gd name="textAreaLeft" fmla="*/ 0 w 2676960"/>
                <a:gd name="textAreaRight" fmla="*/ 2676960 w 267696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37399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4987e3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36a1b6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8340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36a1b6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8588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4987e3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9736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37399b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11680" y="1858680"/>
            <a:ext cx="6436800" cy="1387800"/>
            <a:chOff x="1111680" y="1858680"/>
            <a:chExt cx="6436800" cy="1387800"/>
          </a:xfrm>
        </p:grpSpPr>
        <p:sp>
          <p:nvSpPr>
            <p:cNvPr id="494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286360" y="2255400"/>
              <a:ext cx="932040" cy="131760"/>
              <a:chOff x="2286360" y="2255400"/>
              <a:chExt cx="932040" cy="131760"/>
            </a:xfrm>
          </p:grpSpPr>
          <p:sp>
            <p:nvSpPr>
              <p:cNvPr id="496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564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7728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5252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solidFill>
              <a:srgbClr val="36a1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4007520" y="2255400"/>
              <a:ext cx="932040" cy="131760"/>
              <a:chOff x="4007520" y="2255400"/>
              <a:chExt cx="932040" cy="131760"/>
            </a:xfrm>
          </p:grpSpPr>
          <p:sp>
            <p:nvSpPr>
              <p:cNvPr id="502" name=""/>
              <p:cNvSpPr/>
              <p:nvPr/>
            </p:nvSpPr>
            <p:spPr>
              <a:xfrm>
                <a:off x="400752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9680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736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 rot="3418800">
              <a:off x="469224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5728680" y="2255400"/>
              <a:ext cx="1218600" cy="131760"/>
              <a:chOff x="5728680" y="2255400"/>
              <a:chExt cx="1218600" cy="131760"/>
            </a:xfrm>
          </p:grpSpPr>
          <p:sp>
            <p:nvSpPr>
              <p:cNvPr id="508" name=""/>
              <p:cNvSpPr/>
              <p:nvPr/>
            </p:nvSpPr>
            <p:spPr>
              <a:xfrm>
                <a:off x="5728680" y="22554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4532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6124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rot="3418800">
              <a:off x="6413400" y="2017800"/>
              <a:ext cx="924480" cy="1004040"/>
            </a:xfrm>
            <a:prstGeom prst="rect">
              <a:avLst/>
            </a:prstGeom>
            <a:solidFill>
              <a:srgbClr val="36a1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447560" y="2057400"/>
            <a:ext cx="6428880" cy="3649320"/>
            <a:chOff x="1447560" y="2057400"/>
            <a:chExt cx="6428880" cy="3649320"/>
          </a:xfrm>
        </p:grpSpPr>
        <p:sp>
          <p:nvSpPr>
            <p:cNvPr id="525" name=""/>
            <p:cNvSpPr/>
            <p:nvPr/>
          </p:nvSpPr>
          <p:spPr>
            <a:xfrm flipH="1">
              <a:off x="1447920" y="5702760"/>
              <a:ext cx="171216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447560" y="4968360"/>
              <a:ext cx="220860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447920" y="4206600"/>
              <a:ext cx="259416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447560" y="3456000"/>
              <a:ext cx="303588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447920" y="2701440"/>
              <a:ext cx="347688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447560" y="2057400"/>
              <a:ext cx="3863880" cy="108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7520" y="2057400"/>
              <a:ext cx="1440" cy="644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7520" y="2701440"/>
              <a:ext cx="1440" cy="76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7520" y="3463200"/>
              <a:ext cx="1440" cy="76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67520" y="4224960"/>
              <a:ext cx="1440" cy="76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67520" y="4986720"/>
              <a:ext cx="1440" cy="70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20080" y="2236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20080" y="2981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0080" y="3724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20080" y="4469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0080" y="5213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186360" y="2057400"/>
              <a:ext cx="4690080" cy="3649320"/>
              <a:chOff x="3186360" y="2057400"/>
              <a:chExt cx="4690080" cy="3649320"/>
            </a:xfrm>
          </p:grpSpPr>
          <p:sp>
            <p:nvSpPr>
              <p:cNvPr id="542" name=""/>
              <p:cNvSpPr/>
              <p:nvPr/>
            </p:nvSpPr>
            <p:spPr>
              <a:xfrm>
                <a:off x="7049520" y="4586760"/>
                <a:ext cx="826920" cy="111888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172f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560760" y="4586760"/>
                <a:ext cx="3854520" cy="47664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204060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86360" y="5061240"/>
                <a:ext cx="4254840" cy="64548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7698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17520" y="3953880"/>
                <a:ext cx="731160" cy="101304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99240" y="3953880"/>
                <a:ext cx="2895840" cy="35676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3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632760" y="4309200"/>
                <a:ext cx="3361680" cy="65772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5e5c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85520" y="3327480"/>
                <a:ext cx="639720" cy="87984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254a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434480" y="3327480"/>
                <a:ext cx="1933200" cy="23760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183048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62240" y="3563640"/>
                <a:ext cx="2501280" cy="64332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9db5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48840" y="2691360"/>
                <a:ext cx="550800" cy="76608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a0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877640" y="2691360"/>
                <a:ext cx="964440" cy="1148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00674d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497840" y="2805120"/>
                <a:ext cx="1629000" cy="65232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7ee4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08200" y="2057400"/>
                <a:ext cx="465480" cy="6483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2850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31280" y="2057400"/>
                <a:ext cx="755280" cy="6483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b0c4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048280" y="24019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048280" y="30855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048280" y="38286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48280" y="45712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48280" y="53168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29560" y="1212480"/>
            <a:ext cx="7431480" cy="4917960"/>
            <a:chOff x="529560" y="1212480"/>
            <a:chExt cx="7431480" cy="4917960"/>
          </a:xfrm>
        </p:grpSpPr>
        <p:sp>
          <p:nvSpPr>
            <p:cNvPr id="565" name=""/>
            <p:cNvSpPr/>
            <p:nvPr/>
          </p:nvSpPr>
          <p:spPr>
            <a:xfrm>
              <a:off x="2187720" y="446544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1461960" y="235224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601600">
              <a:off x="1517400" y="219060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1382760" y="220860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1434960" y="217584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rot="20602200">
              <a:off x="1438200" y="218952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440000" y="218808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rot="20602200">
              <a:off x="142380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01600">
              <a:off x="4506840" y="351144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4400280" y="325872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529560" y="1509840"/>
              <a:ext cx="6918480" cy="4356720"/>
              <a:chOff x="529560" y="1509840"/>
              <a:chExt cx="6918480" cy="4356720"/>
            </a:xfrm>
          </p:grpSpPr>
          <p:sp>
            <p:nvSpPr>
              <p:cNvPr id="576" name=""/>
              <p:cNvSpPr/>
              <p:nvPr/>
            </p:nvSpPr>
            <p:spPr>
              <a:xfrm rot="20712600">
                <a:off x="782280" y="228132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20712600">
                <a:off x="4186080" y="347940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712600">
                <a:off x="5562000" y="364752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1003680" y="1212480"/>
              <a:ext cx="6957360" cy="4863240"/>
              <a:chOff x="1003680" y="1212480"/>
              <a:chExt cx="6957360" cy="4863240"/>
            </a:xfrm>
          </p:grpSpPr>
          <p:sp>
            <p:nvSpPr>
              <p:cNvPr id="580" name=""/>
              <p:cNvSpPr/>
              <p:nvPr/>
            </p:nvSpPr>
            <p:spPr>
              <a:xfrm rot="20601600">
                <a:off x="6073560" y="355068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539200">
                <a:off x="1323720" y="209844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601600">
                <a:off x="4757760" y="338076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 rot="20601600">
              <a:off x="2979720" y="290448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3056040" y="313956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16080" y="27255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15880" y="2268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7080" y="3030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58480" y="43257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10960" y="4554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92400" y="371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523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28880" y="1905120"/>
            <a:ext cx="5081040" cy="568080"/>
            <a:chOff x="1928880" y="1905120"/>
            <a:chExt cx="5081040" cy="568080"/>
          </a:xfrm>
        </p:grpSpPr>
        <p:sp>
          <p:nvSpPr>
            <p:cNvPr id="90" name=""/>
            <p:cNvSpPr/>
            <p:nvPr/>
          </p:nvSpPr>
          <p:spPr>
            <a:xfrm>
              <a:off x="2209680" y="23590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928880" y="2215080"/>
              <a:ext cx="258480" cy="258120"/>
              <a:chOff x="1928880" y="2215080"/>
              <a:chExt cx="258480" cy="258120"/>
            </a:xfrm>
          </p:grpSpPr>
          <p:sp>
            <p:nvSpPr>
              <p:cNvPr id="92" name=""/>
              <p:cNvSpPr/>
              <p:nvPr/>
            </p:nvSpPr>
            <p:spPr>
              <a:xfrm rot="2700000">
                <a:off x="1966680" y="22528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8900000">
                <a:off x="1965960" y="2252880"/>
                <a:ext cx="182880" cy="182160"/>
              </a:xfrm>
              <a:prstGeom prst="rtTriangle">
                <a:avLst/>
              </a:prstGeom>
              <a:solidFill>
                <a:srgbClr val="49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016440" y="19051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28880" y="2819520"/>
            <a:ext cx="5081040" cy="568080"/>
            <a:chOff x="1928880" y="2819520"/>
            <a:chExt cx="5081040" cy="568080"/>
          </a:xfrm>
        </p:grpSpPr>
        <p:sp>
          <p:nvSpPr>
            <p:cNvPr id="96" name=""/>
            <p:cNvSpPr/>
            <p:nvPr/>
          </p:nvSpPr>
          <p:spPr>
            <a:xfrm>
              <a:off x="2209680" y="32734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928880" y="3129480"/>
              <a:ext cx="258480" cy="258120"/>
              <a:chOff x="1928880" y="3129480"/>
              <a:chExt cx="258480" cy="258120"/>
            </a:xfrm>
          </p:grpSpPr>
          <p:sp>
            <p:nvSpPr>
              <p:cNvPr id="98" name=""/>
              <p:cNvSpPr/>
              <p:nvPr/>
            </p:nvSpPr>
            <p:spPr>
              <a:xfrm rot="2700000">
                <a:off x="1966680" y="31672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8900000">
                <a:off x="1965960" y="3167280"/>
                <a:ext cx="182880" cy="182160"/>
              </a:xfrm>
              <a:prstGeom prst="rtTriangle">
                <a:avLst/>
              </a:pr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301644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928880" y="3736800"/>
            <a:ext cx="5081040" cy="568080"/>
            <a:chOff x="1928880" y="3736800"/>
            <a:chExt cx="5081040" cy="568080"/>
          </a:xfrm>
        </p:grpSpPr>
        <p:sp>
          <p:nvSpPr>
            <p:cNvPr id="102" name=""/>
            <p:cNvSpPr/>
            <p:nvPr/>
          </p:nvSpPr>
          <p:spPr>
            <a:xfrm>
              <a:off x="2209680" y="419076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928880" y="4046760"/>
              <a:ext cx="258480" cy="258120"/>
              <a:chOff x="1928880" y="4046760"/>
              <a:chExt cx="258480" cy="258120"/>
            </a:xfrm>
          </p:grpSpPr>
          <p:sp>
            <p:nvSpPr>
              <p:cNvPr id="104" name=""/>
              <p:cNvSpPr/>
              <p:nvPr/>
            </p:nvSpPr>
            <p:spPr>
              <a:xfrm rot="2700000">
                <a:off x="1966680" y="408456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18900000">
                <a:off x="1965960" y="4084560"/>
                <a:ext cx="182880" cy="182160"/>
              </a:xfrm>
              <a:prstGeom prst="rtTriangle">
                <a:avLst/>
              </a:prstGeom>
              <a:solidFill>
                <a:srgbClr val="49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301644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28880" y="4648320"/>
            <a:ext cx="5081040" cy="568080"/>
            <a:chOff x="1928880" y="4648320"/>
            <a:chExt cx="5081040" cy="568080"/>
          </a:xfrm>
        </p:grpSpPr>
        <p:sp>
          <p:nvSpPr>
            <p:cNvPr id="108" name=""/>
            <p:cNvSpPr/>
            <p:nvPr/>
          </p:nvSpPr>
          <p:spPr>
            <a:xfrm>
              <a:off x="2209680" y="51022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928880" y="4958280"/>
              <a:ext cx="258480" cy="258120"/>
              <a:chOff x="1928880" y="4958280"/>
              <a:chExt cx="258480" cy="258120"/>
            </a:xfrm>
          </p:grpSpPr>
          <p:sp>
            <p:nvSpPr>
              <p:cNvPr id="110" name=""/>
              <p:cNvSpPr/>
              <p:nvPr/>
            </p:nvSpPr>
            <p:spPr>
              <a:xfrm rot="2700000">
                <a:off x="1966680" y="49960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8900000">
                <a:off x="1965960" y="4996080"/>
                <a:ext cx="182880" cy="182160"/>
              </a:xfrm>
              <a:prstGeom prst="rtTriangle">
                <a:avLst/>
              </a:pr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301644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DBBF-4D8B-4276-B900-D72F06D0F8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990720" y="228600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36a1b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36a1b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8677440" y="3581280"/>
            <a:ext cx="75960" cy="22860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93960"/>
            <a:ext cx="8077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48640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878120"/>
            <a:ext cx="1724040" cy="482040"/>
            <a:chOff x="1219320" y="1878120"/>
            <a:chExt cx="1724040" cy="482040"/>
          </a:xfrm>
        </p:grpSpPr>
        <p:sp>
          <p:nvSpPr>
            <p:cNvPr id="120" name=""/>
            <p:cNvSpPr/>
            <p:nvPr/>
          </p:nvSpPr>
          <p:spPr>
            <a:xfrm>
              <a:off x="1320840" y="2155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b6b6b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878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95b9ed"/>
                </a:gs>
                <a:gs pos="100000">
                  <a:srgbClr val="498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3021120"/>
            <a:ext cx="1724040" cy="482040"/>
            <a:chOff x="1219320" y="3021120"/>
            <a:chExt cx="1724040" cy="482040"/>
          </a:xfrm>
        </p:grpSpPr>
        <p:sp>
          <p:nvSpPr>
            <p:cNvPr id="123" name=""/>
            <p:cNvSpPr/>
            <p:nvPr/>
          </p:nvSpPr>
          <p:spPr>
            <a:xfrm>
              <a:off x="1320840" y="3298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b6b6b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3021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8ac8d4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164120"/>
            <a:ext cx="1724040" cy="482040"/>
            <a:chOff x="1219320" y="4164120"/>
            <a:chExt cx="1724040" cy="482040"/>
          </a:xfrm>
        </p:grpSpPr>
        <p:sp>
          <p:nvSpPr>
            <p:cNvPr id="126" name=""/>
            <p:cNvSpPr/>
            <p:nvPr/>
          </p:nvSpPr>
          <p:spPr>
            <a:xfrm>
              <a:off x="1320840" y="4441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b6b6b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164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37399b"/>
                </a:gs>
                <a:gs pos="50000">
                  <a:srgbClr val="8b8cc4"/>
                </a:gs>
                <a:gs pos="100000">
                  <a:srgbClr val="3739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5307120"/>
            <a:ext cx="1724040" cy="482040"/>
            <a:chOff x="1219320" y="5307120"/>
            <a:chExt cx="1724040" cy="482040"/>
          </a:xfrm>
        </p:grpSpPr>
        <p:sp>
          <p:nvSpPr>
            <p:cNvPr id="129" name=""/>
            <p:cNvSpPr/>
            <p:nvPr/>
          </p:nvSpPr>
          <p:spPr>
            <a:xfrm>
              <a:off x="1320840" y="5584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b6b6b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5307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7fb242"/>
                </a:gs>
                <a:gs pos="50000">
                  <a:srgbClr val="b4d191"/>
                </a:gs>
                <a:gs pos="100000">
                  <a:srgbClr val="7fb2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1" name=""/>
          <p:cNvCxnSpPr>
            <a:stCxn id="120" idx="0"/>
            <a:endCxn id="124" idx="0"/>
          </p:cNvCxnSpPr>
          <p:nvPr/>
        </p:nvCxnSpPr>
        <p:spPr>
          <a:xfrm>
            <a:off x="2076120" y="2304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2" name=""/>
          <p:cNvCxnSpPr>
            <a:stCxn id="123" idx="0"/>
            <a:endCxn id="127" idx="0"/>
          </p:cNvCxnSpPr>
          <p:nvPr/>
        </p:nvCxnSpPr>
        <p:spPr>
          <a:xfrm>
            <a:off x="2076120" y="3447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3" name=""/>
          <p:cNvCxnSpPr>
            <a:stCxn id="126" idx="0"/>
            <a:endCxn id="130" idx="0"/>
          </p:cNvCxnSpPr>
          <p:nvPr/>
        </p:nvCxnSpPr>
        <p:spPr>
          <a:xfrm>
            <a:off x="2076120" y="4590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2133720" y="2590920"/>
            <a:ext cx="5943600" cy="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835440"/>
            <a:ext cx="5943600" cy="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956120"/>
            <a:ext cx="5943600" cy="0"/>
          </a:xfrm>
          <a:prstGeom prst="line">
            <a:avLst/>
          </a:prstGeom>
          <a:ln cap="rnd" w="38160">
            <a:solidFill>
              <a:srgbClr val="5f5f5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0600" y="1752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40600" y="2895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40600" y="4038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40600" y="5181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144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19320" y="1752480"/>
            <a:ext cx="6324480" cy="4190760"/>
            <a:chOff x="1219320" y="1752480"/>
            <a:chExt cx="6324480" cy="4190760"/>
          </a:xfrm>
        </p:grpSpPr>
        <p:sp>
          <p:nvSpPr>
            <p:cNvPr id="146" name=""/>
            <p:cNvSpPr/>
            <p:nvPr/>
          </p:nvSpPr>
          <p:spPr>
            <a:xfrm>
              <a:off x="5387760" y="3398040"/>
              <a:ext cx="2156040" cy="2545200"/>
            </a:xfrm>
            <a:custGeom>
              <a:avLst/>
              <a:gdLst>
                <a:gd name="textAreaLeft" fmla="*/ 105120 w 2156040"/>
                <a:gd name="textAreaRight" fmla="*/ 2050920 w 2156040"/>
                <a:gd name="textAreaTop" fmla="*/ 105120 h 2545200"/>
                <a:gd name="textAreaBottom" fmla="*/ 2440080 h 2545200"/>
              </a:gdLst>
              <a:ahLst/>
              <a:rect l="textAreaLeft" t="textAreaTop" r="textAreaRight" b="textAreaBottom"/>
              <a:pathLst>
                <a:path w="21600" h="25498">
                  <a:moveTo>
                    <a:pt x="3600" y="0"/>
                  </a:moveTo>
                  <a:arcTo wR="3600" hR="3600" stAng="16200000" swAng="-5400000"/>
                  <a:lnTo>
                    <a:pt x="0" y="21898"/>
                  </a:lnTo>
                  <a:arcTo wR="3600" hR="3600" stAng="10800000" swAng="-5400000"/>
                  <a:lnTo>
                    <a:pt x="18000" y="254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1400" y="3584160"/>
              <a:ext cx="194040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19320" y="3398040"/>
              <a:ext cx="2156040" cy="2545200"/>
            </a:xfrm>
            <a:custGeom>
              <a:avLst/>
              <a:gdLst>
                <a:gd name="textAreaLeft" fmla="*/ 105120 w 2156040"/>
                <a:gd name="textAreaRight" fmla="*/ 2050920 w 2156040"/>
                <a:gd name="textAreaTop" fmla="*/ 105120 h 2545200"/>
                <a:gd name="textAreaBottom" fmla="*/ 2440080 h 2545200"/>
              </a:gdLst>
              <a:ahLst/>
              <a:rect l="textAreaLeft" t="textAreaTop" r="textAreaRight" b="textAreaBottom"/>
              <a:pathLst>
                <a:path w="21600" h="25498">
                  <a:moveTo>
                    <a:pt x="3600" y="0"/>
                  </a:moveTo>
                  <a:arcTo wR="3600" hR="3600" stAng="16200000" swAng="-5400000"/>
                  <a:lnTo>
                    <a:pt x="0" y="21898"/>
                  </a:lnTo>
                  <a:arcTo wR="3600" hR="3600" stAng="10800000" swAng="-5400000"/>
                  <a:lnTo>
                    <a:pt x="18000" y="254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08960" y="3588840"/>
              <a:ext cx="19224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80600" y="3305520"/>
              <a:ext cx="851760" cy="118476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bee0e6"/>
                </a:gs>
                <a:gs pos="100000">
                  <a:srgbClr val="36a1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739040" y="3305520"/>
              <a:ext cx="851760" cy="118476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8f5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016080" y="1752480"/>
              <a:ext cx="2828160" cy="1527840"/>
              <a:chOff x="3016080" y="1752480"/>
              <a:chExt cx="2828160" cy="152784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3016080" y="1888560"/>
                <a:ext cx="2828160" cy="1391760"/>
                <a:chOff x="3016080" y="1888560"/>
                <a:chExt cx="2828160" cy="1391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047040" y="1932840"/>
                  <a:ext cx="2797200" cy="13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a4d58"/>
                    </a:gs>
                    <a:gs pos="100000">
                      <a:srgbClr val="36a1b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016080" y="1888560"/>
                  <a:ext cx="2797200" cy="13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fb242"/>
                    </a:gs>
                    <a:gs pos="100000">
                      <a:srgbClr val="c5dca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148920" y="1752480"/>
                <a:ext cx="2531520" cy="128016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13e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82040" y="1759680"/>
                <a:ext cx="2470320" cy="1248480"/>
              </a:xfrm>
              <a:prstGeom prst="ellipse">
                <a:avLst/>
              </a:prstGeom>
              <a:gradFill rotWithShape="0">
                <a:gsLst>
                  <a:gs pos="0">
                    <a:srgbClr val="bed4f4"/>
                  </a:gs>
                  <a:gs pos="100000">
                    <a:srgbClr val="4987e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07240" y="1771920"/>
                <a:ext cx="2350800" cy="116676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48235"/>
                    </a:srgbClr>
                  </a:gs>
                  <a:gs pos="100000">
                    <a:srgbClr val="396ab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31800" y="1797480"/>
                <a:ext cx="2069280" cy="94536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3770640" y="19432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47920" y="1619280"/>
            <a:ext cx="6933600" cy="4400640"/>
            <a:chOff x="1447920" y="1619280"/>
            <a:chExt cx="6933600" cy="4400640"/>
          </a:xfrm>
        </p:grpSpPr>
        <p:sp>
          <p:nvSpPr>
            <p:cNvPr id="167" name=""/>
            <p:cNvSpPr/>
            <p:nvPr/>
          </p:nvSpPr>
          <p:spPr>
            <a:xfrm>
              <a:off x="1447920" y="1981080"/>
              <a:ext cx="594324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7fb242"/>
                </a:gs>
                <a:gs pos="100000">
                  <a:srgbClr val="36a1b6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4640" y="35053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876400">
              <a:off x="3544560" y="504828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76520" y="382896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9704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14320" y="385452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06480" y="389880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376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826600">
              <a:off x="1701720" y="443844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625400" y="3448080"/>
              <a:ext cx="1370880" cy="1441080"/>
              <a:chOff x="1625400" y="3448080"/>
              <a:chExt cx="1370880" cy="1441080"/>
            </a:xfrm>
          </p:grpSpPr>
          <p:sp>
            <p:nvSpPr>
              <p:cNvPr id="177" name=""/>
              <p:cNvSpPr/>
              <p:nvPr/>
            </p:nvSpPr>
            <p:spPr>
              <a:xfrm>
                <a:off x="1625400" y="344808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3400" y="345636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5636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000" y="350640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84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523880" y="268308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99840" y="20764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12800" y="208116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2360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7600" y="211788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971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90720" y="215280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12760" y="161928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22480" y="1622520"/>
              <a:ext cx="66456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28600" y="16286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65320" y="1647720"/>
              <a:ext cx="56304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2960" y="18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1828800"/>
            <a:ext cx="6629400" cy="4035600"/>
            <a:chOff x="1066680" y="1828800"/>
            <a:chExt cx="6629400" cy="4035600"/>
          </a:xfrm>
        </p:grpSpPr>
        <p:sp>
          <p:nvSpPr>
            <p:cNvPr id="196" name=""/>
            <p:cNvSpPr/>
            <p:nvPr/>
          </p:nvSpPr>
          <p:spPr>
            <a:xfrm>
              <a:off x="3588480" y="405216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8480" y="35474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88480" y="304308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83840" y="326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83840" y="3765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83840" y="4269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40120" y="2826720"/>
              <a:ext cx="504360" cy="1945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23227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739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38680" y="25387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66640" y="23227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739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38640" y="25387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21160" y="2826720"/>
              <a:ext cx="501120" cy="1945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4800" y="182880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57160" y="2466720"/>
              <a:ext cx="165708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61520" y="1966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54680" y="52768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1520" y="5496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35920" y="4700520"/>
              <a:ext cx="16603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6920" y="16765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4987e3"/>
              </a:gs>
              <a:gs pos="100000">
                <a:srgbClr val="f8fa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50000">
                <a:srgbClr val="85aeeb"/>
              </a:gs>
              <a:gs pos="100000">
                <a:srgbClr val="4987e3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50000">
                <a:srgbClr val="78bfcd"/>
              </a:gs>
              <a:gs pos="100000">
                <a:srgbClr val="36a1b6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fb242"/>
              </a:gs>
              <a:gs pos="50000">
                <a:srgbClr val="a9ca80"/>
              </a:gs>
              <a:gs pos="100000">
                <a:srgbClr val="7fb242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2362320"/>
            <a:ext cx="7162560" cy="2895120"/>
            <a:chOff x="914400" y="2362320"/>
            <a:chExt cx="7162560" cy="2895120"/>
          </a:xfrm>
        </p:grpSpPr>
        <p:sp>
          <p:nvSpPr>
            <p:cNvPr id="226" name=""/>
            <p:cNvSpPr/>
            <p:nvPr/>
          </p:nvSpPr>
          <p:spPr>
            <a:xfrm>
              <a:off x="2941920" y="311904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8720" y="311904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49440" y="236844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1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9440" y="236844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a1b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82280" y="2502000"/>
              <a:ext cx="1761840" cy="1780200"/>
            </a:xfrm>
            <a:prstGeom prst="ellipse">
              <a:avLst/>
            </a:prstGeom>
            <a:gradFill rotWithShape="0">
              <a:gsLst>
                <a:gs pos="0">
                  <a:srgbClr val="1d5662"/>
                </a:gs>
                <a:gs pos="50000">
                  <a:srgbClr val="36a1b6"/>
                </a:gs>
                <a:gs pos="100000">
                  <a:srgbClr val="1d5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1800" y="25128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0"/>
                  </a:srgbClr>
                </a:gs>
                <a:gs pos="100000">
                  <a:srgbClr val="2265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7320" y="259092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236232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fb24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4400" y="236232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fb24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46520" y="249588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445f23"/>
                </a:gs>
                <a:gs pos="50000">
                  <a:srgbClr val="7fb242"/>
                </a:gs>
                <a:gs pos="100000">
                  <a:srgbClr val="445f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48320" y="249912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7fb242">
                    <a:alpha val="0"/>
                  </a:srgbClr>
                </a:gs>
                <a:gs pos="100000">
                  <a:srgbClr val="5070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34720" y="2585160"/>
              <a:ext cx="1586160" cy="1602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160280" y="2608920"/>
              <a:ext cx="1535760" cy="1551600"/>
              <a:chOff x="1160280" y="2608920"/>
              <a:chExt cx="1535760" cy="1551600"/>
            </a:xfrm>
          </p:grpSpPr>
          <p:sp>
            <p:nvSpPr>
              <p:cNvPr id="239" name=""/>
              <p:cNvSpPr/>
              <p:nvPr/>
            </p:nvSpPr>
            <p:spPr>
              <a:xfrm>
                <a:off x="1160280" y="260892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79720" y="2617560"/>
                <a:ext cx="149868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95560" y="263232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79080" y="267192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482640" y="236844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987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82640" y="236844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213e68"/>
                </a:gs>
                <a:gs pos="100000">
                  <a:srgbClr val="4987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15120" y="25020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27487a"/>
                </a:gs>
                <a:gs pos="50000">
                  <a:srgbClr val="4987e3"/>
                </a:gs>
                <a:gs pos="100000">
                  <a:srgbClr val="2748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16560" y="250524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2e55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02960" y="259092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728520" y="2608920"/>
              <a:ext cx="1535760" cy="1551600"/>
              <a:chOff x="3728520" y="2608920"/>
              <a:chExt cx="1535760" cy="1551600"/>
            </a:xfrm>
          </p:grpSpPr>
          <p:sp>
            <p:nvSpPr>
              <p:cNvPr id="249" name=""/>
              <p:cNvSpPr/>
              <p:nvPr/>
            </p:nvSpPr>
            <p:spPr>
              <a:xfrm>
                <a:off x="3728520" y="260892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47960" y="2617560"/>
                <a:ext cx="149868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63800" y="263232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47320" y="267192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305760" y="2608920"/>
              <a:ext cx="1535760" cy="1551600"/>
              <a:chOff x="6305760" y="2608920"/>
              <a:chExt cx="1535760" cy="1551600"/>
            </a:xfrm>
          </p:grpSpPr>
          <p:sp>
            <p:nvSpPr>
              <p:cNvPr id="254" name=""/>
              <p:cNvSpPr/>
              <p:nvPr/>
            </p:nvSpPr>
            <p:spPr>
              <a:xfrm>
                <a:off x="6305760" y="260892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25200" y="2617560"/>
                <a:ext cx="149868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341040" y="263232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4560" y="267192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96048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2584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0920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4404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1840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9276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59:2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3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