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A0AA-9362-49F3-9CF2-2193774D0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505320" y="3733920"/>
            <a:ext cx="5333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106a3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505320" y="5105520"/>
            <a:ext cx="53337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05320" y="5264640"/>
            <a:ext cx="53337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40EC-326A-446A-A514-C1225BA03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505320" y="3733920"/>
            <a:ext cx="5333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106a3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05320" y="5105520"/>
            <a:ext cx="26028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238800" y="5105520"/>
            <a:ext cx="26028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05320" y="5264640"/>
            <a:ext cx="26028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38800" y="5264640"/>
            <a:ext cx="26028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078B-2D98-4C3E-9070-6FC00B2D1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505320" y="3733920"/>
            <a:ext cx="5333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106a3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505320" y="5105520"/>
            <a:ext cx="1717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08920" y="5105520"/>
            <a:ext cx="1717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112160" y="5105520"/>
            <a:ext cx="1717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505320" y="5264640"/>
            <a:ext cx="1717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5308920" y="5264640"/>
            <a:ext cx="1717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7112160" y="5264640"/>
            <a:ext cx="1717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5BB0-36ED-4683-A3D2-F342E5527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6A4A7-2551-4CCC-8E43-2736217D0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05320" y="3733920"/>
            <a:ext cx="5333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106a3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505320" y="5105520"/>
            <a:ext cx="5333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8AE29-C8C6-4C2A-901F-61E29494C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05320" y="3733920"/>
            <a:ext cx="5333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106a3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505320" y="5105520"/>
            <a:ext cx="533376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628BD-6710-45F9-B69F-F674AE7A2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505320" y="3733920"/>
            <a:ext cx="5333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106a3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505320" y="5105520"/>
            <a:ext cx="26028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38800" y="5105520"/>
            <a:ext cx="26028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5A842-AA47-44AF-82CE-53E027F4D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05320" y="3733920"/>
            <a:ext cx="5333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106a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87676-E920-4741-AD84-D7F1C8ABA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3505320" y="3733920"/>
            <a:ext cx="5333760" cy="60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2E9F0-E71F-4B0A-BB9D-A673E8189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505320" y="3733920"/>
            <a:ext cx="5333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106a3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505320" y="5105520"/>
            <a:ext cx="26028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8800" y="5105520"/>
            <a:ext cx="26028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505320" y="5264640"/>
            <a:ext cx="26028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B1486-76F5-4618-91FE-8AC7EB26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3733920"/>
            <a:ext cx="5333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106a3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505320" y="5105520"/>
            <a:ext cx="5333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05B5-7684-4C23-A367-594D4C5FA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505320" y="3733920"/>
            <a:ext cx="5333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106a3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505320" y="5105520"/>
            <a:ext cx="26028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8800" y="5105520"/>
            <a:ext cx="26028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238800" y="5264640"/>
            <a:ext cx="26028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79CE1-1C3C-4AA0-BC11-1946F78B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505320" y="3733920"/>
            <a:ext cx="5333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106a3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505320" y="5105520"/>
            <a:ext cx="26028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38800" y="5105520"/>
            <a:ext cx="26028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505320" y="5264640"/>
            <a:ext cx="53337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50E06-D4E6-45B6-87B1-AF9344D7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505320" y="3733920"/>
            <a:ext cx="5333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106a3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505320" y="5105520"/>
            <a:ext cx="53337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5264640"/>
            <a:ext cx="53337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21AEC-C932-43D8-8ACD-ACF9D529C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505320" y="3733920"/>
            <a:ext cx="5333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106a3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505320" y="5105520"/>
            <a:ext cx="26028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238800" y="5105520"/>
            <a:ext cx="26028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505320" y="5264640"/>
            <a:ext cx="26028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238800" y="5264640"/>
            <a:ext cx="26028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E11C8-4D87-4EC6-A20F-A03949CCA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3733920"/>
            <a:ext cx="5333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106a3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505320" y="5105520"/>
            <a:ext cx="1717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308920" y="5105520"/>
            <a:ext cx="1717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7112160" y="5105520"/>
            <a:ext cx="1717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505320" y="5264640"/>
            <a:ext cx="1717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5308920" y="5264640"/>
            <a:ext cx="1717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7112160" y="5264640"/>
            <a:ext cx="1717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F441F-3D60-48A3-B112-50F4B2CA1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05320" y="3733920"/>
            <a:ext cx="5333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106a3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505320" y="5105520"/>
            <a:ext cx="533376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FC35-26A4-43C3-8581-82CC0DCB7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505320" y="3733920"/>
            <a:ext cx="5333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106a3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05320" y="5105520"/>
            <a:ext cx="26028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8800" y="5105520"/>
            <a:ext cx="26028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BF05-FFFF-457E-A7EB-DD6601C61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505320" y="3733920"/>
            <a:ext cx="5333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106a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F89C-C53A-4F97-8E44-45EF02F0F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505320" y="3733920"/>
            <a:ext cx="5333760" cy="60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B676-A610-4320-9F92-80B0DAF53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3733920"/>
            <a:ext cx="5333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106a3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505320" y="5105520"/>
            <a:ext cx="26028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8800" y="5105520"/>
            <a:ext cx="26028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05320" y="5264640"/>
            <a:ext cx="26028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BC5A-189C-4A95-8F92-28242AD1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3733920"/>
            <a:ext cx="5333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106a3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505320" y="5105520"/>
            <a:ext cx="26028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38800" y="5105520"/>
            <a:ext cx="26028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38800" y="5264640"/>
            <a:ext cx="26028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402C-812F-4912-A90C-0725253C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3733920"/>
            <a:ext cx="5333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106a3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505320" y="5105520"/>
            <a:ext cx="26028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8800" y="5105520"/>
            <a:ext cx="26028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505320" y="5264640"/>
            <a:ext cx="53337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462B-F4F8-4820-8067-2C0E312E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f9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oundRect">
            <a:avLst>
              <a:gd name="adj" fmla="val 23611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06a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b0d795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4917960" y="0"/>
            <a:ext cx="4302360" cy="90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914400" y="304560"/>
            <a:ext cx="72388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1752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EA8DA-25DC-434C-895A-531EF3319795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247680" y="209520"/>
            <a:ext cx="714240" cy="83808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5"/>
          <a:srcRect l="0" t="0" r="0" b="2399"/>
          <a:stretch/>
        </p:blipFill>
        <p:spPr>
          <a:xfrm>
            <a:off x="8377200" y="5562720"/>
            <a:ext cx="76680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f9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39760" y="266760"/>
            <a:ext cx="8656560" cy="3085920"/>
          </a:xfrm>
          <a:prstGeom prst="roundRect">
            <a:avLst>
              <a:gd name="adj" fmla="val 6981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5120" y="76320"/>
            <a:ext cx="6449760" cy="2095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772400" y="63244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宋体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3733920"/>
            <a:ext cx="5333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106a3f"/>
                </a:solidFill>
                <a:latin typeface="Arial"/>
              </a:rPr>
              <a:t>Click to edit the title text format</a:t>
            </a:r>
            <a:endParaRPr b="1" lang="en-US" sz="4500" spc="-1" strike="noStrike">
              <a:solidFill>
                <a:srgbClr val="106a3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152280" y="76320"/>
            <a:ext cx="5029200" cy="10540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ftr" idx="4"/>
          </p:nvPr>
        </p:nvSpPr>
        <p:spPr>
          <a:xfrm>
            <a:off x="50288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5"/>
          <a:srcRect l="0" t="0" r="0" b="2399"/>
          <a:stretch/>
        </p:blipFill>
        <p:spPr>
          <a:xfrm>
            <a:off x="0" y="609480"/>
            <a:ext cx="3676680" cy="62485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3"/>
          <p:cNvSpPr>
            <a:spLocks noGrp="1"/>
          </p:cNvSpPr>
          <p:nvPr>
            <p:ph type="dt" idx="5"/>
          </p:nvPr>
        </p:nvSpPr>
        <p:spPr>
          <a:xfrm>
            <a:off x="1905120" y="6400440"/>
            <a:ext cx="213336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4190760" y="6400800"/>
            <a:ext cx="60948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EEDF5-D093-4E95-8E8F-5AB23B1058A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b0d795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pptbz.com/" TargetMode="External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wmf"/><Relationship Id="rId6" Type="http://schemas.openxmlformats.org/officeDocument/2006/relationships/image" Target="../media/image12.wmf"/><Relationship Id="rId7" Type="http://schemas.openxmlformats.org/officeDocument/2006/relationships/image" Target="../media/image12.wmf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f9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649680" y="5210280"/>
            <a:ext cx="74520" cy="152280"/>
          </a:xfrm>
          <a:prstGeom prst="rect">
            <a:avLst/>
          </a:prstGeom>
          <a:solidFill>
            <a:srgbClr val="b0d7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280" y="3645000"/>
            <a:ext cx="6840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06a3f"/>
                </a:solidFill>
                <a:latin typeface="Arial"/>
                <a:ea typeface="宋体"/>
              </a:rPr>
              <a:t>高尔夫运动</a:t>
            </a:r>
            <a:r>
              <a:rPr b="1" lang="en-US" sz="4000" spc="-1" strike="noStrike">
                <a:solidFill>
                  <a:srgbClr val="106a3f"/>
                </a:solidFill>
                <a:latin typeface="Arial"/>
                <a:ea typeface="宋体"/>
              </a:rPr>
              <a:t>PPT</a:t>
            </a:r>
            <a:r>
              <a:rPr b="1" lang="en-US" sz="4000" spc="-1" strike="noStrike">
                <a:solidFill>
                  <a:srgbClr val="106a3f"/>
                </a:solidFill>
                <a:latin typeface="Arial"/>
                <a:ea typeface="宋体"/>
              </a:rPr>
              <a:t>模板在线下载</a:t>
            </a:r>
            <a:endParaRPr b="1" lang="en-US" sz="4000" spc="-1" strike="noStrike">
              <a:solidFill>
                <a:srgbClr val="106a3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f9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2388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717480" y="2730600"/>
            <a:ext cx="7740720" cy="619200"/>
          </a:xfrm>
          <a:prstGeom prst="rect">
            <a:avLst/>
          </a:prstGeom>
          <a:solidFill>
            <a:srgbClr val="e4d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706320" y="2730600"/>
            <a:ext cx="2053800" cy="618840"/>
            <a:chOff x="706320" y="2730600"/>
            <a:chExt cx="2053800" cy="618840"/>
          </a:xfrm>
        </p:grpSpPr>
        <p:sp>
          <p:nvSpPr>
            <p:cNvPr id="352" name=""/>
            <p:cNvSpPr/>
            <p:nvPr/>
          </p:nvSpPr>
          <p:spPr>
            <a:xfrm>
              <a:off x="706320" y="2730600"/>
              <a:ext cx="1916280" cy="618840"/>
            </a:xfrm>
            <a:prstGeom prst="rect">
              <a:avLst/>
            </a:prstGeom>
            <a:solidFill>
              <a:srgbClr val="106a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rot="5400000">
              <a:off x="2520360" y="2945520"/>
              <a:ext cx="288720" cy="190440"/>
            </a:xfrm>
            <a:prstGeom prst="triangle">
              <a:avLst>
                <a:gd name="adj" fmla="val 50000"/>
              </a:avLst>
            </a:prstGeom>
            <a:solidFill>
              <a:srgbClr val="106a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2620800" y="286236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28640" y="283680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192560" y="2897280"/>
            <a:ext cx="368280" cy="272880"/>
          </a:xfrm>
          <a:prstGeom prst="rightArrow">
            <a:avLst>
              <a:gd name="adj1" fmla="val 50000"/>
              <a:gd name="adj2" fmla="val 60501"/>
            </a:avLst>
          </a:prstGeom>
          <a:solidFill>
            <a:srgbClr val="edf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572000" y="286236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221520" y="2897280"/>
            <a:ext cx="368280" cy="272880"/>
          </a:xfrm>
          <a:prstGeom prst="rightArrow">
            <a:avLst>
              <a:gd name="adj1" fmla="val 50000"/>
              <a:gd name="adj2" fmla="val 60501"/>
            </a:avLst>
          </a:prstGeom>
          <a:solidFill>
            <a:srgbClr val="edf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559560" y="286236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003320" y="3479760"/>
            <a:ext cx="1114560" cy="1114560"/>
          </a:xfrm>
          <a:prstGeom prst="diamond">
            <a:avLst/>
          </a:prstGeom>
          <a:solidFill>
            <a:srgbClr val="106a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984400" y="3479760"/>
            <a:ext cx="1114560" cy="1114560"/>
          </a:xfrm>
          <a:prstGeom prst="diamond">
            <a:avLst/>
          </a:prstGeom>
          <a:solidFill>
            <a:srgbClr val="e4d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975200" y="3479760"/>
            <a:ext cx="1114560" cy="1114560"/>
          </a:xfrm>
          <a:prstGeom prst="diamond">
            <a:avLst/>
          </a:prstGeom>
          <a:solidFill>
            <a:srgbClr val="e4d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918480" y="3479760"/>
            <a:ext cx="1114200" cy="1114560"/>
          </a:xfrm>
          <a:prstGeom prst="diamond">
            <a:avLst/>
          </a:prstGeom>
          <a:solidFill>
            <a:srgbClr val="e4d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4" name=""/>
          <p:cNvCxnSpPr>
            <a:stCxn id="360" idx="3"/>
            <a:endCxn id="361" idx="1"/>
          </p:cNvCxnSpPr>
          <p:nvPr/>
        </p:nvCxnSpPr>
        <p:spPr>
          <a:xfrm>
            <a:off x="2117520" y="4036680"/>
            <a:ext cx="8672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365" name=""/>
          <p:cNvCxnSpPr>
            <a:stCxn id="361" idx="3"/>
            <a:endCxn id="362" idx="1"/>
          </p:cNvCxnSpPr>
          <p:nvPr/>
        </p:nvCxnSpPr>
        <p:spPr>
          <a:xfrm>
            <a:off x="4098960" y="4036680"/>
            <a:ext cx="87696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366" name=""/>
          <p:cNvCxnSpPr>
            <a:stCxn id="362" idx="3"/>
            <a:endCxn id="363" idx="1"/>
          </p:cNvCxnSpPr>
          <p:nvPr/>
        </p:nvCxnSpPr>
        <p:spPr>
          <a:xfrm>
            <a:off x="6089760" y="4036680"/>
            <a:ext cx="8294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sp>
        <p:nvSpPr>
          <p:cNvPr id="367" name=""/>
          <p:cNvSpPr/>
          <p:nvPr/>
        </p:nvSpPr>
        <p:spPr>
          <a:xfrm>
            <a:off x="1106640" y="38052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095640" y="380520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105520" y="38052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058160" y="38052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49160" y="4684680"/>
            <a:ext cx="1614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692440" y="4684680"/>
            <a:ext cx="1614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707000" y="4684680"/>
            <a:ext cx="1614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654960" y="4684680"/>
            <a:ext cx="16142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219320" y="1905120"/>
            <a:ext cx="6705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f9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2388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846000" y="1981080"/>
            <a:ext cx="3659400" cy="1879560"/>
          </a:xfrm>
          <a:custGeom>
            <a:avLst/>
            <a:gdLst/>
            <a:ahLst/>
            <a:rect l="l" t="t" r="r" b="b"/>
            <a:pathLst>
              <a:path w="2305" h="1184">
                <a:moveTo>
                  <a:pt x="2304" y="691"/>
                </a:moveTo>
                <a:cubicBezTo>
                  <a:pt x="2183" y="700"/>
                  <a:pt x="2056" y="766"/>
                  <a:pt x="1991" y="833"/>
                </a:cubicBezTo>
                <a:cubicBezTo>
                  <a:pt x="1926" y="900"/>
                  <a:pt x="1835" y="1007"/>
                  <a:pt x="1817" y="1184"/>
                </a:cubicBezTo>
                <a:lnTo>
                  <a:pt x="0" y="1184"/>
                </a:lnTo>
                <a:lnTo>
                  <a:pt x="0" y="1"/>
                </a:lnTo>
                <a:lnTo>
                  <a:pt x="2305" y="0"/>
                </a:lnTo>
                <a:lnTo>
                  <a:pt x="2304" y="691"/>
                </a:lnTo>
                <a:close/>
              </a:path>
            </a:pathLst>
          </a:custGeom>
          <a:solidFill>
            <a:srgbClr val="b2b2b2">
              <a:alpha val="3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846000" y="2100240"/>
            <a:ext cx="3652920" cy="422280"/>
          </a:xfrm>
          <a:prstGeom prst="rect">
            <a:avLst/>
          </a:prstGeom>
          <a:solidFill>
            <a:srgbClr val="9590d4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648320" y="1984320"/>
            <a:ext cx="3659040" cy="1879560"/>
          </a:xfrm>
          <a:custGeom>
            <a:avLst/>
            <a:gdLst/>
            <a:ahLst/>
            <a:rect l="l" t="t" r="r" b="b"/>
            <a:pathLst>
              <a:path w="2305" h="1184">
                <a:moveTo>
                  <a:pt x="1" y="691"/>
                </a:moveTo>
                <a:cubicBezTo>
                  <a:pt x="122" y="700"/>
                  <a:pt x="249" y="766"/>
                  <a:pt x="314" y="833"/>
                </a:cubicBezTo>
                <a:cubicBezTo>
                  <a:pt x="379" y="900"/>
                  <a:pt x="463" y="1005"/>
                  <a:pt x="481" y="1182"/>
                </a:cubicBezTo>
                <a:lnTo>
                  <a:pt x="2305" y="1184"/>
                </a:lnTo>
                <a:lnTo>
                  <a:pt x="2305" y="1"/>
                </a:lnTo>
                <a:lnTo>
                  <a:pt x="0" y="0"/>
                </a:lnTo>
                <a:lnTo>
                  <a:pt x="1" y="691"/>
                </a:lnTo>
                <a:close/>
              </a:path>
            </a:pathLst>
          </a:custGeom>
          <a:solidFill>
            <a:srgbClr val="b2b2b2">
              <a:alpha val="3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4639680" y="2103480"/>
            <a:ext cx="3663720" cy="422280"/>
          </a:xfrm>
          <a:prstGeom prst="rect">
            <a:avLst/>
          </a:prstGeom>
          <a:solidFill>
            <a:srgbClr val="e4d57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843120" y="3990960"/>
            <a:ext cx="3659040" cy="1879560"/>
          </a:xfrm>
          <a:custGeom>
            <a:avLst/>
            <a:gdLst/>
            <a:ahLst/>
            <a:rect l="l" t="t" r="r" b="b"/>
            <a:pathLst>
              <a:path w="2305" h="1184">
                <a:moveTo>
                  <a:pt x="2304" y="493"/>
                </a:moveTo>
                <a:cubicBezTo>
                  <a:pt x="2183" y="484"/>
                  <a:pt x="2056" y="418"/>
                  <a:pt x="1991" y="351"/>
                </a:cubicBezTo>
                <a:cubicBezTo>
                  <a:pt x="1926" y="284"/>
                  <a:pt x="1831" y="178"/>
                  <a:pt x="1813" y="1"/>
                </a:cubicBezTo>
                <a:lnTo>
                  <a:pt x="0" y="0"/>
                </a:lnTo>
                <a:lnTo>
                  <a:pt x="0" y="1183"/>
                </a:lnTo>
                <a:lnTo>
                  <a:pt x="2305" y="1184"/>
                </a:lnTo>
                <a:lnTo>
                  <a:pt x="2304" y="493"/>
                </a:lnTo>
                <a:close/>
              </a:path>
            </a:pathLst>
          </a:custGeom>
          <a:solidFill>
            <a:srgbClr val="b2b2b2">
              <a:alpha val="3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645080" y="3981600"/>
            <a:ext cx="3659040" cy="1881000"/>
          </a:xfrm>
          <a:custGeom>
            <a:avLst/>
            <a:gdLst/>
            <a:ahLst/>
            <a:rect l="l" t="t" r="r" b="b"/>
            <a:pathLst>
              <a:path w="2305" h="1185">
                <a:moveTo>
                  <a:pt x="1" y="494"/>
                </a:moveTo>
                <a:cubicBezTo>
                  <a:pt x="122" y="485"/>
                  <a:pt x="249" y="419"/>
                  <a:pt x="314" y="352"/>
                </a:cubicBezTo>
                <a:cubicBezTo>
                  <a:pt x="379" y="285"/>
                  <a:pt x="465" y="177"/>
                  <a:pt x="483" y="0"/>
                </a:cubicBezTo>
                <a:lnTo>
                  <a:pt x="2305" y="1"/>
                </a:lnTo>
                <a:lnTo>
                  <a:pt x="2305" y="1184"/>
                </a:lnTo>
                <a:lnTo>
                  <a:pt x="0" y="1185"/>
                </a:lnTo>
                <a:lnTo>
                  <a:pt x="1" y="494"/>
                </a:lnTo>
                <a:close/>
              </a:path>
            </a:pathLst>
          </a:custGeom>
          <a:solidFill>
            <a:srgbClr val="b2b2b2">
              <a:alpha val="3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106960" y="4121280"/>
            <a:ext cx="3186000" cy="461880"/>
          </a:xfrm>
          <a:custGeom>
            <a:avLst/>
            <a:gdLst/>
            <a:ahLst/>
            <a:rect l="l" t="t" r="r" b="b"/>
            <a:pathLst>
              <a:path w="2007" h="291">
                <a:moveTo>
                  <a:pt x="176" y="3"/>
                </a:moveTo>
                <a:cubicBezTo>
                  <a:pt x="133" y="163"/>
                  <a:pt x="72" y="214"/>
                  <a:pt x="0" y="291"/>
                </a:cubicBezTo>
                <a:lnTo>
                  <a:pt x="2007" y="291"/>
                </a:lnTo>
                <a:lnTo>
                  <a:pt x="2007" y="0"/>
                </a:lnTo>
                <a:lnTo>
                  <a:pt x="176" y="3"/>
                </a:lnTo>
                <a:close/>
              </a:path>
            </a:pathLst>
          </a:custGeom>
          <a:solidFill>
            <a:srgbClr val="b0d795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842400" y="4097160"/>
            <a:ext cx="3165480" cy="462240"/>
          </a:xfrm>
          <a:custGeom>
            <a:avLst/>
            <a:gdLst/>
            <a:ahLst/>
            <a:rect l="l" t="t" r="r" b="b"/>
            <a:pathLst>
              <a:path w="2007" h="291">
                <a:moveTo>
                  <a:pt x="176" y="3"/>
                </a:moveTo>
                <a:cubicBezTo>
                  <a:pt x="133" y="163"/>
                  <a:pt x="72" y="214"/>
                  <a:pt x="0" y="291"/>
                </a:cubicBezTo>
                <a:lnTo>
                  <a:pt x="2007" y="291"/>
                </a:lnTo>
                <a:lnTo>
                  <a:pt x="2007" y="0"/>
                </a:lnTo>
                <a:lnTo>
                  <a:pt x="176" y="3"/>
                </a:lnTo>
                <a:close/>
              </a:path>
            </a:pathLst>
          </a:custGeom>
          <a:solidFill>
            <a:srgbClr val="6cd2c1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495440" y="2125800"/>
            <a:ext cx="225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495440" y="4125960"/>
            <a:ext cx="225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421240" y="2125800"/>
            <a:ext cx="225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421240" y="4149720"/>
            <a:ext cx="225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919080" y="4756320"/>
            <a:ext cx="34178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778280" y="4756320"/>
            <a:ext cx="34178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919080" y="2824200"/>
            <a:ext cx="295452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149800" y="2824200"/>
            <a:ext cx="298944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4086000" y="3395520"/>
            <a:ext cx="447480" cy="663840"/>
            <a:chOff x="4086000" y="3395520"/>
            <a:chExt cx="447480" cy="663840"/>
          </a:xfrm>
        </p:grpSpPr>
        <p:sp>
          <p:nvSpPr>
            <p:cNvPr id="394" name=""/>
            <p:cNvSpPr/>
            <p:nvPr/>
          </p:nvSpPr>
          <p:spPr>
            <a:xfrm flipH="1">
              <a:off x="4248000" y="3395520"/>
              <a:ext cx="120240" cy="138600"/>
            </a:xfrm>
            <a:prstGeom prst="ellipse">
              <a:avLst/>
            </a:prstGeom>
            <a:gradFill rotWithShape="0">
              <a:gsLst>
                <a:gs pos="0">
                  <a:srgbClr val="53a5ff"/>
                </a:gs>
                <a:gs pos="100000">
                  <a:srgbClr val="478d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4085640" y="3530880"/>
              <a:ext cx="447480" cy="528480"/>
            </a:xfrm>
            <a:custGeom>
              <a:avLst/>
              <a:gdLst/>
              <a:ahLst/>
              <a:rect l="l" t="t" r="r" b="b"/>
              <a:pathLst>
                <a:path w="2614" h="2630">
                  <a:moveTo>
                    <a:pt x="1176" y="0"/>
                  </a:moveTo>
                  <a:cubicBezTo>
                    <a:pt x="1196" y="78"/>
                    <a:pt x="1274" y="182"/>
                    <a:pt x="1316" y="180"/>
                  </a:cubicBezTo>
                  <a:cubicBezTo>
                    <a:pt x="1358" y="178"/>
                    <a:pt x="1412" y="78"/>
                    <a:pt x="1448" y="0"/>
                  </a:cubicBezTo>
                  <a:cubicBezTo>
                    <a:pt x="1976" y="0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2180" y="2278"/>
                  </a:lnTo>
                  <a:cubicBezTo>
                    <a:pt x="2210" y="2506"/>
                    <a:pt x="2116" y="2574"/>
                    <a:pt x="2048" y="2586"/>
                  </a:cubicBezTo>
                  <a:cubicBezTo>
                    <a:pt x="1982" y="2614"/>
                    <a:pt x="1826" y="2600"/>
                    <a:pt x="1770" y="2454"/>
                  </a:cubicBezTo>
                  <a:cubicBezTo>
                    <a:pt x="1681" y="2159"/>
                    <a:pt x="1592" y="1864"/>
                    <a:pt x="1592" y="1864"/>
                  </a:cubicBezTo>
                  <a:cubicBezTo>
                    <a:pt x="1520" y="1604"/>
                    <a:pt x="1380" y="1490"/>
                    <a:pt x="1304" y="1494"/>
                  </a:cubicBezTo>
                  <a:cubicBezTo>
                    <a:pt x="1164" y="1510"/>
                    <a:pt x="1062" y="1698"/>
                    <a:pt x="1006" y="1888"/>
                  </a:cubicBezTo>
                  <a:cubicBezTo>
                    <a:pt x="910" y="2176"/>
                    <a:pt x="900" y="2302"/>
                    <a:pt x="856" y="2396"/>
                  </a:cubicBezTo>
                  <a:cubicBezTo>
                    <a:pt x="816" y="2508"/>
                    <a:pt x="720" y="2630"/>
                    <a:pt x="570" y="2596"/>
                  </a:cubicBezTo>
                  <a:cubicBezTo>
                    <a:pt x="506" y="2564"/>
                    <a:pt x="376" y="2548"/>
                    <a:pt x="440" y="2256"/>
                  </a:cubicBez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76" y="0"/>
                    <a:pt x="117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53a5ff"/>
                </a:gs>
                <a:gs pos="100000">
                  <a:srgbClr val="478d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4600440" y="3406680"/>
            <a:ext cx="428760" cy="635040"/>
            <a:chOff x="4600440" y="3406680"/>
            <a:chExt cx="428760" cy="635040"/>
          </a:xfrm>
        </p:grpSpPr>
        <p:sp>
          <p:nvSpPr>
            <p:cNvPr id="397" name=""/>
            <p:cNvSpPr/>
            <p:nvPr/>
          </p:nvSpPr>
          <p:spPr>
            <a:xfrm>
              <a:off x="4600440" y="3534120"/>
              <a:ext cx="428760" cy="507600"/>
            </a:xfrm>
            <a:custGeom>
              <a:avLst/>
              <a:gdLst/>
              <a:ahLst/>
              <a:rect l="l" t="t" r="r" b="b"/>
              <a:pathLst>
                <a:path w="2614" h="2628">
                  <a:moveTo>
                    <a:pt x="1100" y="0"/>
                  </a:moveTo>
                  <a:cubicBezTo>
                    <a:pt x="1120" y="78"/>
                    <a:pt x="1193" y="183"/>
                    <a:pt x="1316" y="180"/>
                  </a:cubicBezTo>
                  <a:cubicBezTo>
                    <a:pt x="1439" y="177"/>
                    <a:pt x="1472" y="84"/>
                    <a:pt x="1508" y="6"/>
                  </a:cubicBezTo>
                  <a:cubicBezTo>
                    <a:pt x="2036" y="6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1985" y="1350"/>
                  </a:lnTo>
                  <a:lnTo>
                    <a:pt x="1805" y="1401"/>
                  </a:lnTo>
                  <a:lnTo>
                    <a:pt x="2093" y="2328"/>
                  </a:lnTo>
                  <a:cubicBezTo>
                    <a:pt x="2126" y="2457"/>
                    <a:pt x="2117" y="2547"/>
                    <a:pt x="2030" y="2598"/>
                  </a:cubicBezTo>
                  <a:cubicBezTo>
                    <a:pt x="1919" y="2628"/>
                    <a:pt x="1834" y="2552"/>
                    <a:pt x="1778" y="2406"/>
                  </a:cubicBezTo>
                  <a:cubicBezTo>
                    <a:pt x="1679" y="2219"/>
                    <a:pt x="1507" y="1628"/>
                    <a:pt x="1436" y="1476"/>
                  </a:cubicBezTo>
                  <a:lnTo>
                    <a:pt x="1136" y="1476"/>
                  </a:lnTo>
                  <a:cubicBezTo>
                    <a:pt x="1070" y="1668"/>
                    <a:pt x="926" y="2226"/>
                    <a:pt x="842" y="2412"/>
                  </a:cubicBezTo>
                  <a:cubicBezTo>
                    <a:pt x="802" y="2524"/>
                    <a:pt x="728" y="2616"/>
                    <a:pt x="635" y="2595"/>
                  </a:cubicBezTo>
                  <a:cubicBezTo>
                    <a:pt x="571" y="2563"/>
                    <a:pt x="488" y="2532"/>
                    <a:pt x="545" y="2316"/>
                  </a:cubicBezTo>
                  <a:lnTo>
                    <a:pt x="797" y="1416"/>
                  </a:lnTo>
                  <a:lnTo>
                    <a:pt x="602" y="1368"/>
                  </a:ln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60" y="0"/>
                    <a:pt x="1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db658"/>
                </a:gs>
                <a:gs pos="100000">
                  <a:srgbClr val="fe9e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759200" y="3406680"/>
              <a:ext cx="113040" cy="130680"/>
            </a:xfrm>
            <a:prstGeom prst="ellipse">
              <a:avLst/>
            </a:prstGeom>
            <a:gradFill rotWithShape="0">
              <a:gsLst>
                <a:gs pos="0">
                  <a:srgbClr val="fdb658"/>
                </a:gs>
                <a:gs pos="100000">
                  <a:srgbClr val="fe9e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3835440" y="4097160"/>
            <a:ext cx="14986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b0d795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f9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2388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"/>
          <p:cNvSpPr/>
          <p:nvPr/>
        </p:nvSpPr>
        <p:spPr>
          <a:xfrm flipH="1" flipV="1">
            <a:off x="773640" y="3998880"/>
            <a:ext cx="7607160" cy="1944720"/>
          </a:xfrm>
          <a:custGeom>
            <a:avLst/>
            <a:gdLst/>
            <a:ahLst/>
            <a:rect l="l" t="t" r="r" b="b"/>
            <a:pathLst>
              <a:path w="3796" h="816">
                <a:moveTo>
                  <a:pt x="3724" y="288"/>
                </a:moveTo>
                <a:cubicBezTo>
                  <a:pt x="2535" y="289"/>
                  <a:pt x="1346" y="290"/>
                  <a:pt x="1346" y="290"/>
                </a:cubicBezTo>
                <a:cubicBezTo>
                  <a:pt x="1304" y="288"/>
                  <a:pt x="1272" y="282"/>
                  <a:pt x="1246" y="258"/>
                </a:cubicBezTo>
                <a:cubicBezTo>
                  <a:pt x="1156" y="168"/>
                  <a:pt x="1066" y="79"/>
                  <a:pt x="1066" y="79"/>
                </a:cubicBezTo>
                <a:cubicBezTo>
                  <a:pt x="1034" y="48"/>
                  <a:pt x="1002" y="0"/>
                  <a:pt x="923" y="4"/>
                </a:cubicBezTo>
                <a:cubicBezTo>
                  <a:pt x="513" y="4"/>
                  <a:pt x="103" y="4"/>
                  <a:pt x="103" y="4"/>
                </a:cubicBezTo>
                <a:cubicBezTo>
                  <a:pt x="38" y="4"/>
                  <a:pt x="0" y="42"/>
                  <a:pt x="2" y="88"/>
                </a:cubicBezTo>
                <a:cubicBezTo>
                  <a:pt x="2" y="410"/>
                  <a:pt x="2" y="729"/>
                  <a:pt x="2" y="729"/>
                </a:cubicBezTo>
                <a:cubicBezTo>
                  <a:pt x="0" y="812"/>
                  <a:pt x="103" y="804"/>
                  <a:pt x="103" y="804"/>
                </a:cubicBezTo>
                <a:cubicBezTo>
                  <a:pt x="1895" y="804"/>
                  <a:pt x="3688" y="804"/>
                  <a:pt x="3688" y="804"/>
                </a:cubicBezTo>
                <a:cubicBezTo>
                  <a:pt x="3688" y="804"/>
                  <a:pt x="3794" y="816"/>
                  <a:pt x="3790" y="716"/>
                </a:cubicBezTo>
                <a:cubicBezTo>
                  <a:pt x="3790" y="536"/>
                  <a:pt x="3790" y="356"/>
                  <a:pt x="3790" y="356"/>
                </a:cubicBezTo>
                <a:cubicBezTo>
                  <a:pt x="3790" y="356"/>
                  <a:pt x="3796" y="288"/>
                  <a:pt x="3724" y="288"/>
                </a:cubicBezTo>
                <a:close/>
              </a:path>
            </a:pathLst>
          </a:custGeom>
          <a:gradFill rotWithShape="0">
            <a:gsLst>
              <a:gs pos="0">
                <a:srgbClr val="b6d74d"/>
              </a:gs>
              <a:gs pos="100000">
                <a:srgbClr val="536323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0320" y="1828800"/>
            <a:ext cx="7607520" cy="2117880"/>
          </a:xfrm>
          <a:custGeom>
            <a:avLst/>
            <a:gdLst/>
            <a:ahLst/>
            <a:rect l="l" t="t" r="r" b="b"/>
            <a:pathLst>
              <a:path w="3796" h="816">
                <a:moveTo>
                  <a:pt x="3724" y="288"/>
                </a:moveTo>
                <a:cubicBezTo>
                  <a:pt x="2535" y="289"/>
                  <a:pt x="1346" y="290"/>
                  <a:pt x="1346" y="290"/>
                </a:cubicBezTo>
                <a:cubicBezTo>
                  <a:pt x="1304" y="288"/>
                  <a:pt x="1272" y="282"/>
                  <a:pt x="1246" y="258"/>
                </a:cubicBezTo>
                <a:cubicBezTo>
                  <a:pt x="1156" y="168"/>
                  <a:pt x="1066" y="79"/>
                  <a:pt x="1066" y="79"/>
                </a:cubicBezTo>
                <a:cubicBezTo>
                  <a:pt x="1034" y="48"/>
                  <a:pt x="1002" y="0"/>
                  <a:pt x="923" y="4"/>
                </a:cubicBezTo>
                <a:cubicBezTo>
                  <a:pt x="513" y="4"/>
                  <a:pt x="103" y="4"/>
                  <a:pt x="103" y="4"/>
                </a:cubicBezTo>
                <a:cubicBezTo>
                  <a:pt x="38" y="4"/>
                  <a:pt x="0" y="42"/>
                  <a:pt x="2" y="88"/>
                </a:cubicBezTo>
                <a:cubicBezTo>
                  <a:pt x="2" y="410"/>
                  <a:pt x="2" y="729"/>
                  <a:pt x="2" y="729"/>
                </a:cubicBezTo>
                <a:cubicBezTo>
                  <a:pt x="0" y="812"/>
                  <a:pt x="103" y="804"/>
                  <a:pt x="103" y="804"/>
                </a:cubicBezTo>
                <a:cubicBezTo>
                  <a:pt x="1895" y="804"/>
                  <a:pt x="3688" y="804"/>
                  <a:pt x="3688" y="804"/>
                </a:cubicBezTo>
                <a:cubicBezTo>
                  <a:pt x="3688" y="804"/>
                  <a:pt x="3794" y="816"/>
                  <a:pt x="3790" y="716"/>
                </a:cubicBezTo>
                <a:cubicBezTo>
                  <a:pt x="3790" y="536"/>
                  <a:pt x="3790" y="356"/>
                  <a:pt x="3790" y="356"/>
                </a:cubicBezTo>
                <a:cubicBezTo>
                  <a:pt x="3790" y="356"/>
                  <a:pt x="3796" y="288"/>
                  <a:pt x="3724" y="288"/>
                </a:cubicBezTo>
                <a:close/>
              </a:path>
            </a:pathLst>
          </a:custGeom>
          <a:gradFill rotWithShape="0">
            <a:gsLst>
              <a:gs pos="0">
                <a:srgbClr val="6cd2c1"/>
              </a:gs>
              <a:gs pos="100000">
                <a:srgbClr val="316058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981000" y="3108240"/>
            <a:ext cx="1643040" cy="1639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dae9fa"/>
              </a:gs>
            </a:gsLst>
            <a:lin ang="5400000"/>
          </a:gradFill>
          <a:ln w="9360">
            <a:solidFill>
              <a:srgbClr val="f8f8f8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822400" y="3108240"/>
            <a:ext cx="1643400" cy="1639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dae9fa"/>
              </a:gs>
            </a:gsLst>
            <a:lin ang="5400000"/>
          </a:gradFill>
          <a:ln w="9360">
            <a:solidFill>
              <a:srgbClr val="f8f8f8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653000" y="3108240"/>
            <a:ext cx="1643040" cy="1639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dae9fa"/>
              </a:gs>
            </a:gsLst>
            <a:lin ang="5400000"/>
          </a:gradFill>
          <a:ln w="9360">
            <a:solidFill>
              <a:srgbClr val="f8f8f8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494400" y="3108240"/>
            <a:ext cx="1643040" cy="1639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dae9fa"/>
              </a:gs>
            </a:gsLst>
            <a:lin ang="5400000"/>
          </a:gradFill>
          <a:ln w="9360">
            <a:solidFill>
              <a:srgbClr val="f8f8f8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01720" y="1957320"/>
            <a:ext cx="2219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i="1" lang="en-US" sz="2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003320" y="3664080"/>
            <a:ext cx="163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093000" y="5486400"/>
            <a:ext cx="22190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175920" y="265428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2" name=""/>
          <p:cNvCxnSpPr>
            <a:stCxn id="404" idx="0"/>
            <a:endCxn id="411" idx="1"/>
          </p:cNvCxnSpPr>
          <p:nvPr/>
        </p:nvCxnSpPr>
        <p:spPr>
          <a:xfrm flipH="1" flipV="1" rot="5400000">
            <a:off x="2345040" y="2279880"/>
            <a:ext cx="286560" cy="1370880"/>
          </a:xfrm>
          <a:prstGeom prst="bentConnector2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413" name=""/>
          <p:cNvCxnSpPr>
            <a:stCxn id="407" idx="0"/>
            <a:endCxn id="411" idx="3"/>
          </p:cNvCxnSpPr>
          <p:nvPr/>
        </p:nvCxnSpPr>
        <p:spPr>
          <a:xfrm flipV="1" rot="16200000">
            <a:off x="6397200" y="2188440"/>
            <a:ext cx="286560" cy="1553040"/>
          </a:xfrm>
          <a:prstGeom prst="bentConnector2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414" name=""/>
          <p:cNvCxnSpPr>
            <a:stCxn id="404" idx="2"/>
            <a:endCxn id="405" idx="2"/>
          </p:cNvCxnSpPr>
          <p:nvPr/>
        </p:nvCxnSpPr>
        <p:spPr>
          <a:xfrm flipH="1" rot="16200000">
            <a:off x="2723040" y="3827520"/>
            <a:ext cx="2520" cy="1842480"/>
          </a:xfrm>
          <a:prstGeom prst="bentConnector3">
            <a:avLst>
              <a:gd name="adj1" fmla="val 14300000"/>
            </a:avLst>
          </a:prstGeom>
          <a:ln w="93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15" name=""/>
          <p:cNvCxnSpPr>
            <a:stCxn id="406" idx="2"/>
            <a:endCxn id="407" idx="2"/>
          </p:cNvCxnSpPr>
          <p:nvPr/>
        </p:nvCxnSpPr>
        <p:spPr>
          <a:xfrm flipH="1" rot="16200000">
            <a:off x="6393960" y="3827880"/>
            <a:ext cx="2520" cy="1842120"/>
          </a:xfrm>
          <a:prstGeom prst="bentConnector3">
            <a:avLst>
              <a:gd name="adj1" fmla="val 14300000"/>
            </a:avLst>
          </a:prstGeom>
          <a:ln w="93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16" name=""/>
          <p:cNvSpPr/>
          <p:nvPr/>
        </p:nvSpPr>
        <p:spPr>
          <a:xfrm>
            <a:off x="2828880" y="3664080"/>
            <a:ext cx="163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657680" y="3664080"/>
            <a:ext cx="163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507000" y="3664080"/>
            <a:ext cx="163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071000" y="329724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6a3f"/>
                </a:solidFill>
                <a:latin typeface="Arial"/>
                <a:ea typeface="宋体"/>
              </a:rPr>
              <a:t>1.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915640" y="329724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6a3f"/>
                </a:solidFill>
                <a:latin typeface="Arial"/>
                <a:ea typeface="宋体"/>
              </a:rPr>
              <a:t>2.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745880" y="329724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6a3f"/>
                </a:solidFill>
                <a:latin typeface="Arial"/>
                <a:ea typeface="宋体"/>
              </a:rPr>
              <a:t>3.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584040" y="329724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6a3f"/>
                </a:solidFill>
                <a:latin typeface="Arial"/>
                <a:ea typeface="宋体"/>
              </a:rPr>
              <a:t>4.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rot="5400000">
            <a:off x="1694880" y="4397400"/>
            <a:ext cx="177840" cy="1522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rot="5400000">
            <a:off x="3512520" y="4397400"/>
            <a:ext cx="177840" cy="1522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rot="5400000">
            <a:off x="5417640" y="4397400"/>
            <a:ext cx="177840" cy="1522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7222680" y="4397400"/>
            <a:ext cx="177840" cy="1522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582880" y="2168640"/>
            <a:ext cx="272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*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851040" y="5302080"/>
            <a:ext cx="27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*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f9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2388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5695920" y="3067200"/>
            <a:ext cx="1965240" cy="2638440"/>
          </a:xfrm>
          <a:custGeom>
            <a:avLst/>
            <a:gdLst/>
            <a:ahLst/>
            <a:rect l="l" t="t" r="r" b="b"/>
            <a:pathLst>
              <a:path w="1238" h="1662">
                <a:moveTo>
                  <a:pt x="1226" y="0"/>
                </a:moveTo>
                <a:lnTo>
                  <a:pt x="1238" y="1662"/>
                </a:lnTo>
                <a:lnTo>
                  <a:pt x="0" y="1662"/>
                </a:lnTo>
                <a:lnTo>
                  <a:pt x="4" y="416"/>
                </a:lnTo>
              </a:path>
            </a:pathLst>
          </a:custGeom>
          <a:gradFill rotWithShape="0">
            <a:gsLst>
              <a:gs pos="0">
                <a:srgbClr val="b0d795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591000" y="3322800"/>
            <a:ext cx="1981080" cy="2641320"/>
          </a:xfrm>
          <a:custGeom>
            <a:avLst/>
            <a:gdLst/>
            <a:ahLst/>
            <a:rect l="l" t="t" r="r" b="b"/>
            <a:pathLst>
              <a:path w="1248" h="1664">
                <a:moveTo>
                  <a:pt x="1158" y="0"/>
                </a:moveTo>
                <a:lnTo>
                  <a:pt x="1248" y="288"/>
                </a:lnTo>
                <a:lnTo>
                  <a:pt x="1248" y="1645"/>
                </a:lnTo>
                <a:lnTo>
                  <a:pt x="0" y="1664"/>
                </a:lnTo>
                <a:lnTo>
                  <a:pt x="0" y="391"/>
                </a:lnTo>
              </a:path>
            </a:pathLst>
          </a:custGeom>
          <a:gradFill rotWithShape="0">
            <a:gsLst>
              <a:gs pos="0">
                <a:srgbClr val="9590d4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467000" y="3554280"/>
            <a:ext cx="1981080" cy="2465640"/>
          </a:xfrm>
          <a:custGeom>
            <a:avLst/>
            <a:gdLst/>
            <a:ahLst/>
            <a:rect l="l" t="t" r="r" b="b"/>
            <a:pathLst>
              <a:path w="1248" h="1553">
                <a:moveTo>
                  <a:pt x="1158" y="0"/>
                </a:moveTo>
                <a:lnTo>
                  <a:pt x="1248" y="351"/>
                </a:lnTo>
                <a:lnTo>
                  <a:pt x="1248" y="1553"/>
                </a:lnTo>
                <a:lnTo>
                  <a:pt x="0" y="1553"/>
                </a:lnTo>
                <a:lnTo>
                  <a:pt x="4" y="417"/>
                </a:lnTo>
              </a:path>
            </a:pathLst>
          </a:custGeom>
          <a:gradFill rotWithShape="0">
            <a:gsLst>
              <a:gs pos="0">
                <a:srgbClr val="6cd2c1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522600" y="3513240"/>
            <a:ext cx="0" cy="249696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634000" y="3513240"/>
            <a:ext cx="0" cy="249696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718400" y="3206880"/>
            <a:ext cx="0" cy="280332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442880" y="2286000"/>
            <a:ext cx="6939000" cy="1692360"/>
          </a:xfrm>
          <a:custGeom>
            <a:avLst/>
            <a:gdLst/>
            <a:ahLst/>
            <a:rect l="l" t="t" r="r" b="b"/>
            <a:pathLst>
              <a:path w="4371" h="1066">
                <a:moveTo>
                  <a:pt x="0" y="845"/>
                </a:moveTo>
                <a:lnTo>
                  <a:pt x="1523" y="313"/>
                </a:lnTo>
                <a:lnTo>
                  <a:pt x="1610" y="617"/>
                </a:lnTo>
                <a:lnTo>
                  <a:pt x="2720" y="243"/>
                </a:lnTo>
                <a:lnTo>
                  <a:pt x="2784" y="538"/>
                </a:lnTo>
                <a:lnTo>
                  <a:pt x="3882" y="266"/>
                </a:lnTo>
                <a:lnTo>
                  <a:pt x="3795" y="0"/>
                </a:lnTo>
                <a:lnTo>
                  <a:pt x="4371" y="269"/>
                </a:lnTo>
                <a:lnTo>
                  <a:pt x="3961" y="832"/>
                </a:lnTo>
                <a:lnTo>
                  <a:pt x="3912" y="542"/>
                </a:lnTo>
                <a:lnTo>
                  <a:pt x="2594" y="921"/>
                </a:lnTo>
                <a:lnTo>
                  <a:pt x="2509" y="620"/>
                </a:lnTo>
                <a:lnTo>
                  <a:pt x="1344" y="968"/>
                </a:lnTo>
                <a:lnTo>
                  <a:pt x="1280" y="666"/>
                </a:lnTo>
                <a:lnTo>
                  <a:pt x="67" y="1066"/>
                </a:lnTo>
                <a:lnTo>
                  <a:pt x="0" y="845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99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781600" y="5684760"/>
            <a:ext cx="1781280" cy="314280"/>
          </a:xfrm>
          <a:prstGeom prst="bevel">
            <a:avLst>
              <a:gd name="adj" fmla="val 5949"/>
            </a:avLst>
          </a:prstGeom>
          <a:solidFill>
            <a:srgbClr val="b0d7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601640" y="4438800"/>
            <a:ext cx="188460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695760" y="5684760"/>
            <a:ext cx="1781280" cy="314280"/>
          </a:xfrm>
          <a:prstGeom prst="bevel">
            <a:avLst>
              <a:gd name="adj" fmla="val 5949"/>
            </a:avLst>
          </a:prstGeom>
          <a:solidFill>
            <a:srgbClr val="b0d7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542960" y="5684760"/>
            <a:ext cx="1781280" cy="314280"/>
          </a:xfrm>
          <a:prstGeom prst="bevel">
            <a:avLst>
              <a:gd name="adj" fmla="val 5949"/>
            </a:avLst>
          </a:prstGeom>
          <a:solidFill>
            <a:srgbClr val="b0d7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571920" y="4465800"/>
            <a:ext cx="18842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705640" y="4451400"/>
            <a:ext cx="18842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295280" y="1905120"/>
            <a:ext cx="5105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f9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2388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 flipH="1" rot="16455000">
            <a:off x="2022840" y="4545720"/>
            <a:ext cx="1507320" cy="1562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91" y="20943"/>
                </a:moveTo>
                <a:arcTo wR="10800" hR="10800" stAng="6605145" swAng="19472499"/>
                <a:lnTo>
                  <a:pt x="10800" y="10800"/>
                </a:lnTo>
                <a:close/>
              </a:path>
              <a:path fill="none" w="21600" h="21600">
                <a:moveTo>
                  <a:pt x="7091" y="20943"/>
                </a:moveTo>
                <a:arcTo wR="10800" hR="10800" stAng="6605145" swAng="19472499"/>
              </a:path>
            </a:pathLst>
          </a:custGeom>
          <a:noFill/>
          <a:ln w="19080">
            <a:solidFill>
              <a:srgbClr val="1c1c1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H="1" rot="17752800">
            <a:off x="5634720" y="3153960"/>
            <a:ext cx="1507680" cy="156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02" y="16773"/>
                </a:moveTo>
                <a:arcTo wR="10800" hR="10800" stAng="8785564" swAng="18754729"/>
                <a:lnTo>
                  <a:pt x="10800" y="10800"/>
                </a:lnTo>
                <a:close/>
              </a:path>
              <a:path fill="none" w="21600" h="21600">
                <a:moveTo>
                  <a:pt x="1802" y="16773"/>
                </a:moveTo>
                <a:arcTo wR="10800" hR="10800" stAng="8785564" swAng="18754729"/>
              </a:path>
            </a:pathLst>
          </a:custGeom>
          <a:noFill/>
          <a:ln w="19080">
            <a:solidFill>
              <a:srgbClr val="1c1c1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H="1" rot="5400000">
            <a:off x="2203560" y="1882080"/>
            <a:ext cx="1240920" cy="1285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214" y="20987"/>
                </a:moveTo>
                <a:arcTo wR="10800" hR="10800" stAng="6563447" swAng="19875067"/>
                <a:lnTo>
                  <a:pt x="10800" y="10800"/>
                </a:lnTo>
                <a:close/>
              </a:path>
              <a:path fill="none" w="21600" h="21600">
                <a:moveTo>
                  <a:pt x="7214" y="20987"/>
                </a:moveTo>
                <a:arcTo wR="10800" hR="10800" stAng="6563447" swAng="19875067"/>
              </a:path>
            </a:pathLst>
          </a:custGeom>
          <a:noFill/>
          <a:ln cap="rnd" w="12600">
            <a:solidFill>
              <a:srgbClr val="1c1c1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5773680" y="3317760"/>
            <a:ext cx="1227240" cy="121608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5773680" y="3317760"/>
            <a:ext cx="1220760" cy="1219320"/>
          </a:xfrm>
          <a:prstGeom prst="ellipse">
            <a:avLst/>
          </a:prstGeom>
          <a:gradFill rotWithShape="0">
            <a:gsLst>
              <a:gs pos="0">
                <a:srgbClr val="3b371f">
                  <a:alpha val="60000"/>
                </a:srgbClr>
              </a:gs>
              <a:gs pos="50000">
                <a:srgbClr val="e4d578">
                  <a:alpha val="60000"/>
                </a:srgbClr>
              </a:gs>
              <a:gs pos="100000">
                <a:srgbClr val="3b371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2295360" y="2001960"/>
            <a:ext cx="1060560" cy="105084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2295360" y="2001960"/>
            <a:ext cx="1054440" cy="1054080"/>
          </a:xfrm>
          <a:prstGeom prst="ellipse">
            <a:avLst/>
          </a:prstGeom>
          <a:gradFill rotWithShape="0">
            <a:gsLst>
              <a:gs pos="0">
                <a:srgbClr val="2e3826">
                  <a:alpha val="60000"/>
                </a:srgbClr>
              </a:gs>
              <a:gs pos="50000">
                <a:srgbClr val="b0d795">
                  <a:alpha val="60000"/>
                </a:srgbClr>
              </a:gs>
              <a:gs pos="100000">
                <a:srgbClr val="2e3826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62120" y="2446200"/>
            <a:ext cx="15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r"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996240" y="3728880"/>
            <a:ext cx="130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2977560" y="2774880"/>
            <a:ext cx="933120" cy="943560"/>
            <a:chOff x="2977560" y="2774880"/>
            <a:chExt cx="933120" cy="943560"/>
          </a:xfrm>
        </p:grpSpPr>
        <p:sp>
          <p:nvSpPr>
            <p:cNvPr id="455" name=""/>
            <p:cNvSpPr/>
            <p:nvPr/>
          </p:nvSpPr>
          <p:spPr>
            <a:xfrm rot="19090200">
              <a:off x="2973240" y="2817360"/>
              <a:ext cx="144360" cy="42480"/>
            </a:xfrm>
            <a:prstGeom prst="ellipse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c198c1"/>
                </a:gs>
                <a:gs pos="100000">
                  <a:srgbClr val="660066"/>
                </a:gs>
              </a:gsLst>
              <a:lin ang="1330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8122200">
              <a:off x="3416400" y="2651040"/>
              <a:ext cx="78840" cy="1214640"/>
            </a:xfrm>
            <a:prstGeom prst="can">
              <a:avLst>
                <a:gd name="adj" fmla="val 2671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efefe"/>
                </a:gs>
                <a:gs pos="100000">
                  <a:srgbClr val="808080"/>
                </a:gs>
              </a:gsLst>
              <a:lin ang="267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4634280" y="3952440"/>
            <a:ext cx="1329840" cy="135000"/>
            <a:chOff x="4634280" y="3952440"/>
            <a:chExt cx="1329840" cy="135000"/>
          </a:xfrm>
        </p:grpSpPr>
        <p:sp>
          <p:nvSpPr>
            <p:cNvPr id="458" name=""/>
            <p:cNvSpPr/>
            <p:nvPr/>
          </p:nvSpPr>
          <p:spPr>
            <a:xfrm rot="5607000">
              <a:off x="5868720" y="3994200"/>
              <a:ext cx="125280" cy="57960"/>
            </a:xfrm>
            <a:prstGeom prst="ellipse">
              <a:avLst/>
            </a:prstGeom>
            <a:gradFill rotWithShape="0">
              <a:gsLst>
                <a:gs pos="0">
                  <a:srgbClr val="003232"/>
                </a:gs>
                <a:gs pos="50000">
                  <a:srgbClr val="00ffff"/>
                </a:gs>
                <a:gs pos="100000">
                  <a:srgbClr val="003232"/>
                </a:gs>
              </a:gsLst>
              <a:lin ang="51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 rot="16242000">
              <a:off x="5246280" y="3348720"/>
              <a:ext cx="90720" cy="1313640"/>
            </a:xfrm>
            <a:prstGeom prst="can">
              <a:avLst>
                <a:gd name="adj" fmla="val 2671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efefe"/>
                </a:gs>
                <a:gs pos="100000">
                  <a:srgbClr val="808080"/>
                </a:gs>
              </a:gsLst>
              <a:lin ang="54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3583080" y="3259080"/>
            <a:ext cx="1487520" cy="147636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3583080" y="3259080"/>
            <a:ext cx="1468440" cy="1479600"/>
          </a:xfrm>
          <a:prstGeom prst="ellipse">
            <a:avLst/>
          </a:prstGeom>
          <a:gradFill rotWithShape="0">
            <a:gsLst>
              <a:gs pos="0">
                <a:srgbClr val="504d72">
                  <a:alpha val="60000"/>
                </a:srgbClr>
              </a:gs>
              <a:gs pos="50000">
                <a:srgbClr val="9590d4">
                  <a:alpha val="60000"/>
                </a:srgbClr>
              </a:gs>
              <a:gs pos="100000">
                <a:srgbClr val="504d72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2818080" y="4235760"/>
            <a:ext cx="1131480" cy="917640"/>
            <a:chOff x="2818080" y="4235760"/>
            <a:chExt cx="1131480" cy="917640"/>
          </a:xfrm>
        </p:grpSpPr>
        <p:sp>
          <p:nvSpPr>
            <p:cNvPr id="463" name=""/>
            <p:cNvSpPr/>
            <p:nvPr/>
          </p:nvSpPr>
          <p:spPr>
            <a:xfrm rot="3460800">
              <a:off x="3792600" y="4281840"/>
              <a:ext cx="156960" cy="85680"/>
            </a:xfrm>
            <a:prstGeom prst="ellipse">
              <a:avLst/>
            </a:prstGeom>
            <a:gradFill rotWithShape="0">
              <a:gsLst>
                <a:gs pos="0">
                  <a:srgbClr val="996600"/>
                </a:gs>
                <a:gs pos="50000">
                  <a:srgbClr val="d5c198"/>
                </a:gs>
                <a:gs pos="100000">
                  <a:srgbClr val="996600"/>
                </a:gs>
              </a:gsLst>
              <a:lin ang="733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 rot="13956000">
              <a:off x="3319560" y="4060080"/>
              <a:ext cx="97200" cy="1311480"/>
            </a:xfrm>
            <a:prstGeom prst="can">
              <a:avLst>
                <a:gd name="adj" fmla="val 2671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efefe"/>
                </a:gs>
                <a:gs pos="100000">
                  <a:srgbClr val="808080"/>
                </a:gs>
              </a:gsLst>
              <a:lin ang="3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3433680" y="5257800"/>
            <a:ext cx="184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4"/>
          <a:stretch/>
        </p:blipFill>
        <p:spPr>
          <a:xfrm>
            <a:off x="2119320" y="4699080"/>
            <a:ext cx="1287360" cy="127476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2119320" y="4699080"/>
            <a:ext cx="1278000" cy="1278000"/>
          </a:xfrm>
          <a:prstGeom prst="ellipse">
            <a:avLst/>
          </a:prstGeom>
          <a:gradFill rotWithShape="0">
            <a:gsLst>
              <a:gs pos="0">
                <a:srgbClr val="1c3632">
                  <a:alpha val="60000"/>
                </a:srgbClr>
              </a:gs>
              <a:gs pos="50000">
                <a:srgbClr val="6cd2c1">
                  <a:alpha val="60000"/>
                </a:srgbClr>
              </a:gs>
              <a:gs pos="100000">
                <a:srgbClr val="1c3632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405880" y="5156280"/>
            <a:ext cx="703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836880" y="2106720"/>
            <a:ext cx="431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303640" y="2016000"/>
            <a:ext cx="1029960" cy="542880"/>
          </a:xfrm>
          <a:custGeom>
            <a:avLst/>
            <a:gdLst/>
            <a:ahLst/>
            <a:rect l="l" t="t" r="r" b="b"/>
            <a:pathLst>
              <a:path w="748" h="394">
                <a:moveTo>
                  <a:pt x="12" y="361"/>
                </a:moveTo>
                <a:cubicBezTo>
                  <a:pt x="0" y="229"/>
                  <a:pt x="134" y="0"/>
                  <a:pt x="376" y="0"/>
                </a:cubicBezTo>
                <a:cubicBezTo>
                  <a:pt x="618" y="0"/>
                  <a:pt x="748" y="216"/>
                  <a:pt x="745" y="348"/>
                </a:cubicBezTo>
                <a:cubicBezTo>
                  <a:pt x="519" y="382"/>
                  <a:pt x="534" y="388"/>
                  <a:pt x="397" y="391"/>
                </a:cubicBezTo>
                <a:cubicBezTo>
                  <a:pt x="260" y="394"/>
                  <a:pt x="235" y="378"/>
                  <a:pt x="12" y="361"/>
                </a:cubicBez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0d795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475720" y="2324160"/>
            <a:ext cx="703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598920" y="3274920"/>
            <a:ext cx="1436760" cy="750960"/>
          </a:xfrm>
          <a:custGeom>
            <a:avLst/>
            <a:gdLst/>
            <a:ahLst/>
            <a:rect l="l" t="t" r="r" b="b"/>
            <a:pathLst>
              <a:path w="748" h="394">
                <a:moveTo>
                  <a:pt x="12" y="361"/>
                </a:moveTo>
                <a:cubicBezTo>
                  <a:pt x="0" y="229"/>
                  <a:pt x="134" y="0"/>
                  <a:pt x="376" y="0"/>
                </a:cubicBezTo>
                <a:cubicBezTo>
                  <a:pt x="618" y="0"/>
                  <a:pt x="748" y="216"/>
                  <a:pt x="745" y="348"/>
                </a:cubicBezTo>
                <a:cubicBezTo>
                  <a:pt x="519" y="382"/>
                  <a:pt x="534" y="388"/>
                  <a:pt x="397" y="391"/>
                </a:cubicBezTo>
                <a:cubicBezTo>
                  <a:pt x="260" y="394"/>
                  <a:pt x="235" y="378"/>
                  <a:pt x="12" y="361"/>
                </a:cubicBez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9590d4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845160" y="3728880"/>
            <a:ext cx="9122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802480" y="3341520"/>
            <a:ext cx="1144440" cy="543240"/>
          </a:xfrm>
          <a:custGeom>
            <a:avLst/>
            <a:gdLst/>
            <a:ahLst/>
            <a:rect l="l" t="t" r="r" b="b"/>
            <a:pathLst>
              <a:path w="748" h="394">
                <a:moveTo>
                  <a:pt x="12" y="361"/>
                </a:moveTo>
                <a:cubicBezTo>
                  <a:pt x="0" y="229"/>
                  <a:pt x="134" y="0"/>
                  <a:pt x="376" y="0"/>
                </a:cubicBezTo>
                <a:cubicBezTo>
                  <a:pt x="618" y="0"/>
                  <a:pt x="748" y="216"/>
                  <a:pt x="745" y="348"/>
                </a:cubicBezTo>
                <a:cubicBezTo>
                  <a:pt x="519" y="382"/>
                  <a:pt x="534" y="388"/>
                  <a:pt x="397" y="391"/>
                </a:cubicBezTo>
                <a:cubicBezTo>
                  <a:pt x="260" y="394"/>
                  <a:pt x="235" y="378"/>
                  <a:pt x="12" y="361"/>
                </a:cubicBez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e4d578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066360" y="3740040"/>
            <a:ext cx="703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165400" y="4726080"/>
            <a:ext cx="1179360" cy="541080"/>
          </a:xfrm>
          <a:custGeom>
            <a:avLst/>
            <a:gdLst/>
            <a:ahLst/>
            <a:rect l="l" t="t" r="r" b="b"/>
            <a:pathLst>
              <a:path w="748" h="394">
                <a:moveTo>
                  <a:pt x="12" y="361"/>
                </a:moveTo>
                <a:cubicBezTo>
                  <a:pt x="0" y="229"/>
                  <a:pt x="134" y="0"/>
                  <a:pt x="376" y="0"/>
                </a:cubicBezTo>
                <a:cubicBezTo>
                  <a:pt x="618" y="0"/>
                  <a:pt x="748" y="216"/>
                  <a:pt x="745" y="348"/>
                </a:cubicBezTo>
                <a:cubicBezTo>
                  <a:pt x="519" y="382"/>
                  <a:pt x="534" y="388"/>
                  <a:pt x="397" y="391"/>
                </a:cubicBezTo>
                <a:cubicBezTo>
                  <a:pt x="260" y="394"/>
                  <a:pt x="235" y="378"/>
                  <a:pt x="12" y="361"/>
                </a:cubicBez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6cd2c1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f9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2388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6200640" y="2819520"/>
            <a:ext cx="2105280" cy="237168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4008600" y="3049560"/>
            <a:ext cx="2212920" cy="2055960"/>
          </a:xfrm>
          <a:custGeom>
            <a:avLst/>
            <a:gdLst>
              <a:gd name="textAreaLeft" fmla="*/ 0 w 2212920"/>
              <a:gd name="textAreaRight" fmla="*/ 2213280 w 2212920"/>
              <a:gd name="textAreaTop" fmla="*/ 0 h 2055960"/>
              <a:gd name="textAreaBottom" fmla="*/ 2056320 h 205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5f5f5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254320" y="3041640"/>
            <a:ext cx="2371680" cy="2055960"/>
          </a:xfrm>
          <a:custGeom>
            <a:avLst/>
            <a:gdLst>
              <a:gd name="textAreaLeft" fmla="*/ 0 w 2371680"/>
              <a:gd name="textAreaRight" fmla="*/ 2372040 w 2371680"/>
              <a:gd name="textAreaTop" fmla="*/ 0 h 2055960"/>
              <a:gd name="textAreaBottom" fmla="*/ 2056320 h 205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b0d795"/>
              </a:gs>
              <a:gs pos="100000">
                <a:srgbClr val="fefefe"/>
              </a:gs>
            </a:gsLst>
            <a:lin ang="81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030400" y="2679840"/>
            <a:ext cx="3672000" cy="412560"/>
          </a:xfrm>
          <a:custGeom>
            <a:avLst/>
            <a:gdLst/>
            <a:ahLst/>
            <a:rect l="l" t="t" r="r" b="b"/>
            <a:pathLst>
              <a:path w="3454" h="267">
                <a:moveTo>
                  <a:pt x="0" y="0"/>
                </a:moveTo>
                <a:lnTo>
                  <a:pt x="87" y="267"/>
                </a:lnTo>
                <a:lnTo>
                  <a:pt x="3454" y="267"/>
                </a:lnTo>
                <a:lnTo>
                  <a:pt x="3292" y="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590d4"/>
              </a:gs>
              <a:gs pos="100000">
                <a:srgbClr val="4442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831960" y="2681280"/>
            <a:ext cx="2027160" cy="2422440"/>
          </a:xfrm>
          <a:custGeom>
            <a:avLst/>
            <a:gdLst>
              <a:gd name="textAreaLeft" fmla="*/ 0 w 2027160"/>
              <a:gd name="textAreaRight" fmla="*/ 2027160 w 2027160"/>
              <a:gd name="textAreaTop" fmla="*/ 0 h 2422440"/>
              <a:gd name="textAreaBottom" fmla="*/ 2422800 h 242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b9286"/>
              </a:gs>
              <a:gs pos="100000">
                <a:srgbClr val="6cd2c1"/>
              </a:gs>
            </a:gsLst>
            <a:lin ang="135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938160" y="3252960"/>
            <a:ext cx="16081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700360" y="270684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613400" y="3486240"/>
            <a:ext cx="141120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Arial"/>
                <a:ea typeface="宋体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98480" y="2209680"/>
            <a:ext cx="60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922480" y="3495600"/>
            <a:ext cx="140976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Arial"/>
                <a:ea typeface="宋体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f9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2388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 rot="16200000">
            <a:off x="2363760" y="2216520"/>
            <a:ext cx="1628280" cy="382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90" y="19853"/>
                </a:moveTo>
                <a:arcTo wR="10800" hR="10800" stAng="3417072" swAng="20509822"/>
                <a:lnTo>
                  <a:pt x="10800" y="10800"/>
                </a:lnTo>
                <a:close/>
              </a:path>
              <a:path fill="none" w="21600" h="21600">
                <a:moveTo>
                  <a:pt x="16690" y="19853"/>
                </a:moveTo>
                <a:arcTo wR="10800" hR="10800" stAng="3417072" swAng="20509822"/>
              </a:path>
            </a:pathLst>
          </a:custGeom>
          <a:solidFill>
            <a:srgbClr val="106a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467080" y="3560760"/>
            <a:ext cx="65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7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rot="16200000">
            <a:off x="2582640" y="2189520"/>
            <a:ext cx="1299960" cy="368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346" y="21001"/>
                </a:moveTo>
                <a:arcTo wR="10800" hR="10800" stAng="4249894" swAng="21115163"/>
                <a:lnTo>
                  <a:pt x="10800" y="10800"/>
                </a:lnTo>
                <a:close/>
              </a:path>
              <a:path fill="none" w="21600" h="21600">
                <a:moveTo>
                  <a:pt x="14346" y="21001"/>
                </a:moveTo>
                <a:arcTo wR="10800" hR="10800" stAng="4249894" swAng="21115163"/>
              </a:path>
            </a:pathLst>
          </a:custGeom>
          <a:gradFill rotWithShape="0">
            <a:gsLst>
              <a:gs pos="0">
                <a:srgbClr val="d5e9c7"/>
              </a:gs>
              <a:gs pos="100000">
                <a:srgbClr val="b0d795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rot="16200000">
            <a:off x="2522880" y="2284920"/>
            <a:ext cx="1301040" cy="363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513" y="21088"/>
                </a:moveTo>
                <a:arcTo wR="10800" hR="10800" stAng="6463041" swAng="18902017"/>
                <a:lnTo>
                  <a:pt x="10800" y="10800"/>
                </a:lnTo>
                <a:close/>
              </a:path>
              <a:path fill="none" w="21600" h="21600">
                <a:moveTo>
                  <a:pt x="7513" y="21088"/>
                </a:moveTo>
                <a:arcTo wR="10800" hR="10800" stAng="6463041" swAng="18902017"/>
              </a:path>
            </a:pathLst>
          </a:custGeom>
          <a:gradFill rotWithShape="0">
            <a:gsLst>
              <a:gs pos="0">
                <a:srgbClr val="e4d578"/>
              </a:gs>
              <a:gs pos="100000">
                <a:srgbClr val="f0e8b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rot="16200000">
            <a:off x="2514960" y="2274120"/>
            <a:ext cx="1334880" cy="36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471" y="18733"/>
                </a:moveTo>
                <a:arcTo wR="10800" hR="10800" stAng="7963962" swAng="17401096"/>
                <a:lnTo>
                  <a:pt x="10800" y="10800"/>
                </a:lnTo>
                <a:close/>
              </a:path>
              <a:path fill="none" w="21600" h="21600">
                <a:moveTo>
                  <a:pt x="3471" y="18733"/>
                </a:moveTo>
                <a:arcTo wR="10800" hR="10800" stAng="7963962" swAng="17401096"/>
              </a:path>
            </a:pathLst>
          </a:custGeom>
          <a:gradFill rotWithShape="0">
            <a:gsLst>
              <a:gs pos="0">
                <a:srgbClr val="5e5b86"/>
              </a:gs>
              <a:gs pos="100000">
                <a:srgbClr val="9590d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035600" y="4178160"/>
            <a:ext cx="57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06840" y="3889440"/>
            <a:ext cx="50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902120" y="4303800"/>
            <a:ext cx="0" cy="172800"/>
          </a:xfrm>
          <a:prstGeom prst="line">
            <a:avLst/>
          </a:prstGeom>
          <a:ln w="9360">
            <a:solidFill>
              <a:srgbClr val="1c1c1c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06840" y="4546440"/>
            <a:ext cx="3240" cy="162000"/>
          </a:xfrm>
          <a:prstGeom prst="line">
            <a:avLst/>
          </a:prstGeom>
          <a:ln w="9360">
            <a:solidFill>
              <a:srgbClr val="1c1c1c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2397240" y="4068720"/>
            <a:ext cx="955440" cy="78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rot="16200000">
            <a:off x="2482920" y="1924200"/>
            <a:ext cx="1738080" cy="4440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94" y="6497"/>
                </a:moveTo>
                <a:arcTo wR="10800" hR="10800" stAng="-9391229" swAng="13448554"/>
                <a:lnTo>
                  <a:pt x="10800" y="10800"/>
                </a:lnTo>
                <a:close/>
              </a:path>
              <a:path fill="none" w="21600" h="21600">
                <a:moveTo>
                  <a:pt x="894" y="6497"/>
                </a:moveTo>
                <a:arcTo wR="10800" hR="10800" stAng="-9391229" swAng="13448554"/>
              </a:path>
            </a:pathLst>
          </a:custGeom>
          <a:gradFill rotWithShape="0">
            <a:gsLst>
              <a:gs pos="0">
                <a:srgbClr val="376b62"/>
              </a:gs>
              <a:gs pos="100000">
                <a:srgbClr val="6cd2c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234040" y="3557520"/>
            <a:ext cx="210960" cy="27936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6cd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rot="16200000">
            <a:off x="2491200" y="1771200"/>
            <a:ext cx="1740240" cy="444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3" y="6191"/>
                </a:moveTo>
                <a:arcTo wR="10800" hR="10800" stAng="-9284196" swAng="13341521"/>
                <a:lnTo>
                  <a:pt x="10800" y="10800"/>
                </a:lnTo>
                <a:close/>
              </a:path>
              <a:path fill="none" w="21600" h="21600">
                <a:moveTo>
                  <a:pt x="1033" y="6191"/>
                </a:moveTo>
                <a:arcTo wR="10800" hR="10800" stAng="-9284196" swAng="13341521"/>
              </a:path>
            </a:pathLst>
          </a:custGeom>
          <a:gradFill rotWithShape="0">
            <a:gsLst>
              <a:gs pos="0">
                <a:srgbClr val="6cd2c1"/>
              </a:gs>
              <a:gs pos="100000">
                <a:srgbClr val="b3e7d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198520" y="3402000"/>
            <a:ext cx="8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3" name=""/>
          <p:cNvCxnSpPr>
            <a:stCxn id="504" idx="1"/>
            <a:endCxn id="502" idx="3"/>
          </p:cNvCxnSpPr>
          <p:nvPr/>
        </p:nvCxnSpPr>
        <p:spPr>
          <a:xfrm flipV="1" rot="10800000">
            <a:off x="3082320" y="2895480"/>
            <a:ext cx="3113640" cy="705240"/>
          </a:xfrm>
          <a:prstGeom prst="bentConnector3">
            <a:avLst>
              <a:gd name="adj1" fmla="val 5002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5" name=""/>
          <p:cNvCxnSpPr>
            <a:endCxn id="495" idx="3"/>
          </p:cNvCxnSpPr>
          <p:nvPr/>
        </p:nvCxnSpPr>
        <p:spPr>
          <a:xfrm rot="10800000">
            <a:off x="5012640" y="4041000"/>
            <a:ext cx="1437480" cy="373680"/>
          </a:xfrm>
          <a:prstGeom prst="bentConnector3">
            <a:avLst>
              <a:gd name="adj1" fmla="val 76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6" name=""/>
          <p:cNvSpPr/>
          <p:nvPr/>
        </p:nvSpPr>
        <p:spPr>
          <a:xfrm>
            <a:off x="3157560" y="4284720"/>
            <a:ext cx="62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930320" y="1905120"/>
            <a:ext cx="531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6195960" y="2695680"/>
            <a:ext cx="1913040" cy="455040"/>
            <a:chOff x="6195960" y="2695680"/>
            <a:chExt cx="1913040" cy="455040"/>
          </a:xfrm>
        </p:grpSpPr>
        <p:sp>
          <p:nvSpPr>
            <p:cNvPr id="509" name=""/>
            <p:cNvSpPr/>
            <p:nvPr/>
          </p:nvSpPr>
          <p:spPr>
            <a:xfrm>
              <a:off x="6308640" y="2957760"/>
              <a:ext cx="1686960" cy="19296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195960" y="2695680"/>
              <a:ext cx="1913040" cy="399240"/>
            </a:xfrm>
            <a:prstGeom prst="rect">
              <a:avLst/>
            </a:prstGeom>
            <a:gradFill rotWithShape="0">
              <a:gsLst>
                <a:gs pos="0">
                  <a:srgbClr val="6cd2c1"/>
                </a:gs>
                <a:gs pos="100000">
                  <a:srgbClr val="519e9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df9f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6240600" y="4132440"/>
            <a:ext cx="1912680" cy="455040"/>
            <a:chOff x="6240600" y="4132440"/>
            <a:chExt cx="1912680" cy="455040"/>
          </a:xfrm>
        </p:grpSpPr>
        <p:sp>
          <p:nvSpPr>
            <p:cNvPr id="511" name=""/>
            <p:cNvSpPr/>
            <p:nvPr/>
          </p:nvSpPr>
          <p:spPr>
            <a:xfrm>
              <a:off x="6353280" y="4394520"/>
              <a:ext cx="1686600" cy="19296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240600" y="4132440"/>
              <a:ext cx="1912680" cy="399240"/>
            </a:xfrm>
            <a:prstGeom prst="rect">
              <a:avLst/>
            </a:prstGeom>
            <a:gradFill rotWithShape="0">
              <a:gsLst>
                <a:gs pos="0">
                  <a:srgbClr val="b0d795"/>
                </a:gs>
                <a:gs pos="100000">
                  <a:srgbClr val="8faf7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df9f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5808600" y="5354640"/>
            <a:ext cx="1913040" cy="453600"/>
            <a:chOff x="5808600" y="5354640"/>
            <a:chExt cx="1913040" cy="453600"/>
          </a:xfrm>
        </p:grpSpPr>
        <p:sp>
          <p:nvSpPr>
            <p:cNvPr id="514" name=""/>
            <p:cNvSpPr/>
            <p:nvPr/>
          </p:nvSpPr>
          <p:spPr>
            <a:xfrm>
              <a:off x="5921280" y="5616000"/>
              <a:ext cx="1686960" cy="19224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808600" y="5354640"/>
              <a:ext cx="1913040" cy="398160"/>
            </a:xfrm>
            <a:prstGeom prst="rect">
              <a:avLst/>
            </a:prstGeom>
            <a:gradFill rotWithShape="0">
              <a:gsLst>
                <a:gs pos="0">
                  <a:srgbClr val="e4d578"/>
                </a:gs>
                <a:gs pos="100000">
                  <a:srgbClr val="baad6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df9f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1139760" y="5497560"/>
            <a:ext cx="1913040" cy="455040"/>
            <a:chOff x="1139760" y="5497560"/>
            <a:chExt cx="1913040" cy="455040"/>
          </a:xfrm>
        </p:grpSpPr>
        <p:sp>
          <p:nvSpPr>
            <p:cNvPr id="517" name=""/>
            <p:cNvSpPr/>
            <p:nvPr/>
          </p:nvSpPr>
          <p:spPr>
            <a:xfrm>
              <a:off x="1252440" y="5759640"/>
              <a:ext cx="1686960" cy="19296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139760" y="5497560"/>
              <a:ext cx="1913040" cy="399240"/>
            </a:xfrm>
            <a:prstGeom prst="rect">
              <a:avLst/>
            </a:prstGeom>
            <a:gradFill rotWithShape="0">
              <a:gsLst>
                <a:gs pos="0">
                  <a:srgbClr val="9590d4"/>
                </a:gs>
                <a:gs pos="100000">
                  <a:srgbClr val="55527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df9f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19" name=""/>
          <p:cNvCxnSpPr/>
          <p:nvPr/>
        </p:nvCxnSpPr>
        <p:spPr>
          <a:xfrm rot="10800000">
            <a:off x="4587120" y="4419000"/>
            <a:ext cx="1221480" cy="1151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0" name=""/>
          <p:cNvCxnSpPr/>
          <p:nvPr/>
        </p:nvCxnSpPr>
        <p:spPr>
          <a:xfrm flipV="1">
            <a:off x="3052800" y="4563360"/>
            <a:ext cx="241920" cy="1135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f9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2388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1143000" y="2590920"/>
            <a:ext cx="6838920" cy="3364920"/>
            <a:chOff x="1143000" y="2590920"/>
            <a:chExt cx="6838920" cy="3364920"/>
          </a:xfrm>
        </p:grpSpPr>
        <p:sp>
          <p:nvSpPr>
            <p:cNvPr id="523" name=""/>
            <p:cNvSpPr/>
            <p:nvPr/>
          </p:nvSpPr>
          <p:spPr>
            <a:xfrm>
              <a:off x="1268280" y="2739960"/>
              <a:ext cx="2011320" cy="3076200"/>
            </a:xfrm>
            <a:custGeom>
              <a:avLst/>
              <a:gdLst/>
              <a:ahLst/>
              <a:rect l="l" t="t" r="r" b="b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204920" y="3033360"/>
              <a:ext cx="54000" cy="4428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692360" y="3228840"/>
              <a:ext cx="61920" cy="5040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933640" y="3317760"/>
              <a:ext cx="155520" cy="117000"/>
            </a:xfrm>
            <a:custGeom>
              <a:avLst/>
              <a:gdLst/>
              <a:ahLst/>
              <a:rect l="l" t="t" r="r" b="b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181240" y="3927240"/>
              <a:ext cx="250920" cy="132840"/>
            </a:xfrm>
            <a:custGeom>
              <a:avLst/>
              <a:gdLst/>
              <a:ahLst/>
              <a:rect l="l" t="t" r="r" b="b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387520" y="4028760"/>
              <a:ext cx="157320" cy="6480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554200" y="4070160"/>
              <a:ext cx="60480" cy="2808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643120" y="4074840"/>
              <a:ext cx="19080" cy="3924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352600" y="2731680"/>
              <a:ext cx="285840" cy="139680"/>
            </a:xfrm>
            <a:custGeom>
              <a:avLst/>
              <a:gdLst/>
              <a:ahLst/>
              <a:rect l="l" t="t" r="r" b="b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479680" y="2666880"/>
              <a:ext cx="231840" cy="94680"/>
            </a:xfrm>
            <a:custGeom>
              <a:avLst/>
              <a:gdLst/>
              <a:ahLst/>
              <a:rect l="l" t="t" r="r" b="b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805120" y="2777760"/>
              <a:ext cx="369720" cy="30132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801880" y="2647800"/>
              <a:ext cx="69840" cy="583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668680" y="2758680"/>
              <a:ext cx="102960" cy="6660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776680" y="2771640"/>
              <a:ext cx="85680" cy="3924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30600" y="2714400"/>
              <a:ext cx="101520" cy="5364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687760" y="2663640"/>
              <a:ext cx="69840" cy="3780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868480" y="2668320"/>
              <a:ext cx="181080" cy="122040"/>
            </a:xfrm>
            <a:custGeom>
              <a:avLst/>
              <a:gdLst/>
              <a:ahLst/>
              <a:rect l="l" t="t" r="r" b="b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143000" y="3057120"/>
              <a:ext cx="39600" cy="237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344680" y="3868560"/>
              <a:ext cx="25560" cy="187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349360" y="3908160"/>
              <a:ext cx="25560" cy="187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673360" y="4117680"/>
              <a:ext cx="23760" cy="187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870280" y="3349440"/>
              <a:ext cx="60120" cy="2808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711520" y="3024000"/>
              <a:ext cx="60120" cy="2808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814480" y="2739960"/>
              <a:ext cx="61920" cy="2808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914560" y="2911320"/>
              <a:ext cx="60480" cy="2808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940120" y="2590920"/>
              <a:ext cx="1104840" cy="549000"/>
            </a:xfrm>
            <a:custGeom>
              <a:avLst/>
              <a:gdLst/>
              <a:ahLst/>
              <a:rect l="l" t="t" r="r" b="b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278160" y="2882520"/>
              <a:ext cx="61920" cy="3780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727440" y="2987280"/>
              <a:ext cx="203040" cy="85680"/>
            </a:xfrm>
            <a:custGeom>
              <a:avLst/>
              <a:gdLst/>
              <a:ahLst/>
              <a:rect l="l" t="t" r="r" b="b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887640" y="2728800"/>
              <a:ext cx="61920" cy="3744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314960" y="2678040"/>
              <a:ext cx="245880" cy="9936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468680" y="2730240"/>
              <a:ext cx="76320" cy="3312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005360" y="3162240"/>
              <a:ext cx="172800" cy="209160"/>
            </a:xfrm>
            <a:custGeom>
              <a:avLst/>
              <a:gdLst/>
              <a:ahLst/>
              <a:rect l="l" t="t" r="r" b="b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919680" y="3238200"/>
              <a:ext cx="109440" cy="10764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595920" y="5052600"/>
              <a:ext cx="752760" cy="785520"/>
            </a:xfrm>
            <a:custGeom>
              <a:avLst/>
              <a:gdLst/>
              <a:ahLst/>
              <a:rect l="l" t="t" r="r" b="b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829560" y="4638600"/>
              <a:ext cx="506160" cy="333000"/>
            </a:xfrm>
            <a:custGeom>
              <a:avLst/>
              <a:gdLst/>
              <a:ahLst/>
              <a:rect l="l" t="t" r="r" b="b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843600" y="4641480"/>
              <a:ext cx="493920" cy="334800"/>
            </a:xfrm>
            <a:custGeom>
              <a:avLst/>
              <a:gdLst/>
              <a:ahLst/>
              <a:rect l="l" t="t" r="r" b="b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209000" y="5864040"/>
              <a:ext cx="71280" cy="9180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424640" y="5721120"/>
              <a:ext cx="260280" cy="13464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694640" y="5641560"/>
              <a:ext cx="165240" cy="14580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781760" y="5576760"/>
              <a:ext cx="59040" cy="4068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046840" y="4805280"/>
              <a:ext cx="195120" cy="318600"/>
            </a:xfrm>
            <a:custGeom>
              <a:avLst/>
              <a:gdLst/>
              <a:ahLst/>
              <a:rect l="l" t="t" r="r" b="b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91040" y="4309920"/>
              <a:ext cx="78120" cy="9648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419880" y="4414680"/>
              <a:ext cx="176040" cy="290160"/>
            </a:xfrm>
            <a:custGeom>
              <a:avLst/>
              <a:gdLst/>
              <a:ahLst/>
              <a:rect l="l" t="t" r="r" b="b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270480" y="4323960"/>
              <a:ext cx="114480" cy="21744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348240" y="4498560"/>
              <a:ext cx="63720" cy="207720"/>
            </a:xfrm>
            <a:custGeom>
              <a:avLst/>
              <a:gdLst/>
              <a:ahLst/>
              <a:rect l="l" t="t" r="r" b="b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419880" y="4716360"/>
              <a:ext cx="103320" cy="8532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585120" y="4565520"/>
              <a:ext cx="131760" cy="18540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540480" y="3901680"/>
              <a:ext cx="34920" cy="11268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562800" y="4090680"/>
              <a:ext cx="96840" cy="187200"/>
            </a:xfrm>
            <a:custGeom>
              <a:avLst/>
              <a:gdLst/>
              <a:ahLst/>
              <a:rect l="l" t="t" r="r" b="b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630840" y="4338360"/>
              <a:ext cx="101880" cy="12492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751800" y="4562280"/>
              <a:ext cx="45720" cy="7740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726240" y="4692240"/>
              <a:ext cx="28440" cy="2664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769080" y="4676400"/>
              <a:ext cx="71280" cy="5868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878520" y="4787640"/>
              <a:ext cx="38160" cy="5220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302600" y="4721040"/>
              <a:ext cx="73080" cy="7416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672240" y="4814640"/>
              <a:ext cx="73080" cy="7920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594480" y="4844880"/>
              <a:ext cx="50760" cy="4248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561000" y="4798800"/>
              <a:ext cx="38160" cy="4896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615000" y="4816080"/>
              <a:ext cx="54000" cy="3780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537240" y="4289040"/>
              <a:ext cx="42840" cy="8712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618240" y="4275000"/>
              <a:ext cx="30240" cy="8676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653160" y="4248000"/>
              <a:ext cx="15840" cy="3924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669000" y="4267080"/>
              <a:ext cx="33480" cy="7560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242040" y="4376520"/>
              <a:ext cx="19080" cy="4248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226200" y="4340160"/>
              <a:ext cx="15840" cy="2340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219720" y="4311360"/>
              <a:ext cx="19080" cy="2196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200640" y="4248000"/>
              <a:ext cx="17640" cy="2988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203880" y="4287600"/>
              <a:ext cx="25560" cy="2016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531200" y="5276520"/>
              <a:ext cx="71280" cy="9504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897680" y="5198760"/>
              <a:ext cx="84240" cy="7272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643880" y="5159160"/>
              <a:ext cx="27000" cy="3600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631280" y="5124240"/>
              <a:ext cx="31680" cy="2664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388280" y="4816080"/>
              <a:ext cx="38160" cy="5220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442280" y="4884480"/>
              <a:ext cx="41040" cy="5220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485120" y="4984560"/>
              <a:ext cx="44280" cy="4392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539120" y="4968720"/>
              <a:ext cx="44280" cy="4068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523280" y="4911480"/>
              <a:ext cx="41040" cy="3132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481880" y="4871880"/>
              <a:ext cx="41400" cy="5508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431120" y="4846320"/>
              <a:ext cx="38160" cy="4104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494480" y="4930560"/>
              <a:ext cx="38160" cy="4104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938840" y="2749320"/>
              <a:ext cx="223560" cy="171000"/>
            </a:xfrm>
            <a:custGeom>
              <a:avLst/>
              <a:gdLst/>
              <a:ahLst/>
              <a:rect l="l" t="t" r="r" b="b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072040" y="2914560"/>
              <a:ext cx="63360" cy="1872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397480" y="2666880"/>
              <a:ext cx="66600" cy="4392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445000" y="2687400"/>
              <a:ext cx="79560" cy="3132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530680" y="2692080"/>
              <a:ext cx="79560" cy="5040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084720" y="2734920"/>
              <a:ext cx="140040" cy="4896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227640" y="2733480"/>
              <a:ext cx="73080" cy="3780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194520" y="2779560"/>
              <a:ext cx="58680" cy="2664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594480" y="3135240"/>
              <a:ext cx="120600" cy="18036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691320" y="3322440"/>
              <a:ext cx="87480" cy="12348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634080" y="3449520"/>
              <a:ext cx="173160" cy="299520"/>
            </a:xfrm>
            <a:custGeom>
              <a:avLst/>
              <a:gdLst/>
              <a:ahLst/>
              <a:rect l="l" t="t" r="r" b="b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950000" y="2649240"/>
              <a:ext cx="82440" cy="4716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780080" y="2663640"/>
              <a:ext cx="29880" cy="3456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818240" y="2661840"/>
              <a:ext cx="58680" cy="4284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915080" y="2647800"/>
              <a:ext cx="31680" cy="2484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886280" y="2676240"/>
              <a:ext cx="23760" cy="201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696000" y="2701800"/>
              <a:ext cx="28800" cy="5184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292720" y="5006880"/>
              <a:ext cx="49320" cy="2808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356080" y="4995720"/>
              <a:ext cx="16200" cy="2340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249880" y="4751280"/>
              <a:ext cx="14400" cy="2340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345280" y="4635360"/>
              <a:ext cx="17280" cy="2988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307120" y="4633560"/>
              <a:ext cx="17280" cy="2988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289480" y="4668480"/>
              <a:ext cx="15840" cy="2340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249880" y="4722480"/>
              <a:ext cx="14400" cy="2340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280120" y="4701960"/>
              <a:ext cx="15840" cy="2340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116240" y="3133440"/>
              <a:ext cx="16200" cy="2340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019400" y="3079440"/>
              <a:ext cx="16200" cy="2340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641760" y="2734920"/>
              <a:ext cx="3270240" cy="2609640"/>
            </a:xfrm>
            <a:custGeom>
              <a:avLst/>
              <a:gdLst/>
              <a:ahLst/>
              <a:rect l="l" t="t" r="r" b="b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106a3f">
                <a:alpha val="30000"/>
              </a:srgbClr>
            </a:solidFill>
            <a:ln w="0">
              <a:noFill/>
            </a:ln>
            <a:effectLst>
              <a:outerShdw dist="1260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"/>
          <p:cNvSpPr/>
          <p:nvPr/>
        </p:nvSpPr>
        <p:spPr>
          <a:xfrm>
            <a:off x="1981080" y="2971800"/>
            <a:ext cx="260640" cy="2602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065480" y="1828800"/>
            <a:ext cx="469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80880" y="1828800"/>
            <a:ext cx="366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7181f"/>
                </a:solidFill>
                <a:latin typeface="Arial"/>
                <a:ea typeface="宋体"/>
              </a:rPr>
              <a:t>A title about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476600" y="4273560"/>
            <a:ext cx="260640" cy="2602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465960" y="3425760"/>
            <a:ext cx="260280" cy="2602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4898880" y="3051000"/>
            <a:ext cx="260640" cy="26064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587680" y="5235480"/>
            <a:ext cx="260280" cy="2602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429000" y="5591160"/>
            <a:ext cx="2819520" cy="433440"/>
          </a:xfrm>
          <a:solidFill>
            <a:srgbClr val="f8f8f8"/>
          </a:solidFill>
          <a:ln cap="rnd" w="9360">
            <a:solidFill>
              <a:srgbClr val="080808"/>
            </a:solidFill>
            <a:custDash>
              <a:ds d="100000" sp="1000"/>
            </a:custDash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f9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2388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990720" y="4987800"/>
            <a:ext cx="7164360" cy="274680"/>
          </a:xfrm>
          <a:prstGeom prst="rect">
            <a:avLst/>
          </a:prstGeom>
          <a:gradFill rotWithShape="0">
            <a:gsLst>
              <a:gs pos="0">
                <a:srgbClr val="dcdcdc"/>
              </a:gs>
              <a:gs pos="100000">
                <a:srgbClr val="3333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440080" y="4986360"/>
            <a:ext cx="5715000" cy="111240"/>
          </a:xfrm>
          <a:prstGeom prst="roundRect">
            <a:avLst>
              <a:gd name="adj" fmla="val 0"/>
            </a:avLst>
          </a:prstGeom>
          <a:solidFill>
            <a:srgbClr val="f8f8f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990720" y="5530680"/>
            <a:ext cx="7164360" cy="274680"/>
          </a:xfrm>
          <a:prstGeom prst="rect">
            <a:avLst/>
          </a:prstGeom>
          <a:gradFill rotWithShape="0">
            <a:gsLst>
              <a:gs pos="0">
                <a:srgbClr val="dcdcdc"/>
              </a:gs>
              <a:gs pos="100000">
                <a:srgbClr val="3333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440080" y="5529240"/>
            <a:ext cx="5715000" cy="111240"/>
          </a:xfrm>
          <a:prstGeom prst="roundRect">
            <a:avLst>
              <a:gd name="adj" fmla="val 0"/>
            </a:avLst>
          </a:prstGeom>
          <a:solidFill>
            <a:srgbClr val="f8f8f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990720" y="4444920"/>
            <a:ext cx="7164360" cy="274680"/>
          </a:xfrm>
          <a:prstGeom prst="rect">
            <a:avLst/>
          </a:prstGeom>
          <a:gradFill rotWithShape="0">
            <a:gsLst>
              <a:gs pos="0">
                <a:srgbClr val="dcdcdc"/>
              </a:gs>
              <a:gs pos="100000">
                <a:srgbClr val="3333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2440080" y="4443480"/>
            <a:ext cx="5715000" cy="110880"/>
          </a:xfrm>
          <a:prstGeom prst="roundRect">
            <a:avLst>
              <a:gd name="adj" fmla="val 0"/>
            </a:avLst>
          </a:prstGeom>
          <a:solidFill>
            <a:srgbClr val="f8f8f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992160" y="3397320"/>
            <a:ext cx="7174080" cy="274680"/>
          </a:xfrm>
          <a:prstGeom prst="rect">
            <a:avLst/>
          </a:prstGeom>
          <a:gradFill rotWithShape="0">
            <a:gsLst>
              <a:gs pos="0">
                <a:srgbClr val="dcdcdc"/>
              </a:gs>
              <a:gs pos="100000">
                <a:srgbClr val="3333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451240" y="3395520"/>
            <a:ext cx="5715000" cy="111240"/>
          </a:xfrm>
          <a:prstGeom prst="roundRect">
            <a:avLst>
              <a:gd name="adj" fmla="val 0"/>
            </a:avLst>
          </a:prstGeom>
          <a:solidFill>
            <a:srgbClr val="f8f8f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990720" y="3943440"/>
            <a:ext cx="7164360" cy="274680"/>
          </a:xfrm>
          <a:prstGeom prst="rect">
            <a:avLst/>
          </a:prstGeom>
          <a:gradFill rotWithShape="0">
            <a:gsLst>
              <a:gs pos="0">
                <a:srgbClr val="dcdcdc"/>
              </a:gs>
              <a:gs pos="100000">
                <a:srgbClr val="3333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440080" y="3941640"/>
            <a:ext cx="5715000" cy="111240"/>
          </a:xfrm>
          <a:prstGeom prst="roundRect">
            <a:avLst>
              <a:gd name="adj" fmla="val 0"/>
            </a:avLst>
          </a:prstGeom>
          <a:solidFill>
            <a:srgbClr val="f8f8f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992160" y="2835360"/>
            <a:ext cx="7174080" cy="274680"/>
          </a:xfrm>
          <a:prstGeom prst="rect">
            <a:avLst/>
          </a:prstGeom>
          <a:gradFill rotWithShape="0">
            <a:gsLst>
              <a:gs pos="0">
                <a:srgbClr val="dcdcdc"/>
              </a:gs>
              <a:gs pos="100000">
                <a:srgbClr val="3333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2451240" y="2833560"/>
            <a:ext cx="5715000" cy="111240"/>
          </a:xfrm>
          <a:prstGeom prst="roundRect">
            <a:avLst>
              <a:gd name="adj" fmla="val 0"/>
            </a:avLst>
          </a:prstGeom>
          <a:solidFill>
            <a:srgbClr val="f8f8f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049400" y="2806560"/>
            <a:ext cx="13842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590d4"/>
                </a:solidFill>
                <a:latin typeface="Arial"/>
                <a:ea typeface="宋体"/>
              </a:rPr>
              <a:t>Contents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049400" y="3373560"/>
            <a:ext cx="13842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4d578"/>
                </a:solidFill>
                <a:latin typeface="Arial"/>
                <a:ea typeface="宋体"/>
              </a:rPr>
              <a:t>Contents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049400" y="3906720"/>
            <a:ext cx="13842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cd2c1"/>
                </a:solidFill>
                <a:latin typeface="Arial"/>
                <a:ea typeface="宋体"/>
              </a:rPr>
              <a:t>Contents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049400" y="4416480"/>
            <a:ext cx="13842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0d795"/>
                </a:solidFill>
                <a:latin typeface="Arial"/>
                <a:ea typeface="宋体"/>
              </a:rPr>
              <a:t>Contents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049400" y="4959360"/>
            <a:ext cx="13842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Arial"/>
                <a:ea typeface="宋体"/>
              </a:rPr>
              <a:t>Contents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1049400" y="5506920"/>
            <a:ext cx="13842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ff"/>
                </a:solidFill>
                <a:latin typeface="Arial"/>
                <a:ea typeface="宋体"/>
              </a:rPr>
              <a:t>Contents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7448400" y="2806560"/>
            <a:ext cx="71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7288200" y="33670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17.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7288200" y="3900600"/>
            <a:ext cx="87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70.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7435800" y="4414680"/>
            <a:ext cx="71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4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7410600" y="494820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63.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7404120" y="5504040"/>
            <a:ext cx="79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84.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2438280" y="5529240"/>
            <a:ext cx="4735440" cy="276120"/>
            <a:chOff x="2438280" y="5529240"/>
            <a:chExt cx="4735440" cy="276120"/>
          </a:xfrm>
        </p:grpSpPr>
        <p:grpSp>
          <p:nvGrpSpPr>
            <p:cNvPr id="665" name=""/>
            <p:cNvGrpSpPr/>
            <p:nvPr/>
          </p:nvGrpSpPr>
          <p:grpSpPr>
            <a:xfrm>
              <a:off x="2438280" y="5529240"/>
              <a:ext cx="4735080" cy="276120"/>
              <a:chOff x="2438280" y="5529240"/>
              <a:chExt cx="4735080" cy="276120"/>
            </a:xfrm>
          </p:grpSpPr>
          <p:sp>
            <p:nvSpPr>
              <p:cNvPr id="666" name=""/>
              <p:cNvSpPr/>
              <p:nvPr/>
            </p:nvSpPr>
            <p:spPr>
              <a:xfrm>
                <a:off x="2438280" y="5530680"/>
                <a:ext cx="4735080" cy="274680"/>
              </a:xfrm>
              <a:prstGeom prst="rect">
                <a:avLst/>
              </a:prstGeom>
              <a:gradFill rotWithShape="0">
                <a:gsLst>
                  <a:gs pos="0">
                    <a:srgbClr val="bd71bd"/>
                  </a:gs>
                  <a:gs pos="100000">
                    <a:srgbClr val="ff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2438280" y="5529240"/>
                <a:ext cx="4735080" cy="111240"/>
              </a:xfrm>
              <a:prstGeom prst="roundRect">
                <a:avLst>
                  <a:gd name="adj" fmla="val 0"/>
                </a:avLst>
              </a:prstGeom>
              <a:solidFill>
                <a:srgbClr val="f8f8f8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8" name=""/>
            <p:cNvSpPr/>
            <p:nvPr/>
          </p:nvSpPr>
          <p:spPr>
            <a:xfrm>
              <a:off x="2438280" y="5632560"/>
              <a:ext cx="473544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2433600" y="4986360"/>
            <a:ext cx="3600000" cy="276120"/>
            <a:chOff x="2433600" y="4986360"/>
            <a:chExt cx="3600000" cy="276120"/>
          </a:xfrm>
        </p:grpSpPr>
        <p:grpSp>
          <p:nvGrpSpPr>
            <p:cNvPr id="670" name=""/>
            <p:cNvGrpSpPr/>
            <p:nvPr/>
          </p:nvGrpSpPr>
          <p:grpSpPr>
            <a:xfrm>
              <a:off x="2438280" y="4986360"/>
              <a:ext cx="3582360" cy="276120"/>
              <a:chOff x="2438280" y="4986360"/>
              <a:chExt cx="3582360" cy="276120"/>
            </a:xfrm>
          </p:grpSpPr>
          <p:sp>
            <p:nvSpPr>
              <p:cNvPr id="671" name=""/>
              <p:cNvSpPr/>
              <p:nvPr/>
            </p:nvSpPr>
            <p:spPr>
              <a:xfrm>
                <a:off x="2438280" y="4987800"/>
                <a:ext cx="3582360" cy="274680"/>
              </a:xfrm>
              <a:prstGeom prst="rect">
                <a:avLst/>
              </a:prstGeom>
              <a:gradFill rotWithShape="0">
                <a:gsLst>
                  <a:gs pos="0">
                    <a:srgbClr val="7197bd"/>
                  </a:gs>
                  <a:gs pos="100000">
                    <a:srgbClr val="99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2438280" y="4986360"/>
                <a:ext cx="3577680" cy="111240"/>
              </a:xfrm>
              <a:prstGeom prst="roundRect">
                <a:avLst>
                  <a:gd name="adj" fmla="val 0"/>
                </a:avLst>
              </a:prstGeom>
              <a:solidFill>
                <a:srgbClr val="f8f8f8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3" name=""/>
            <p:cNvSpPr/>
            <p:nvPr/>
          </p:nvSpPr>
          <p:spPr>
            <a:xfrm>
              <a:off x="2433600" y="5091120"/>
              <a:ext cx="360000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2438280" y="4443480"/>
            <a:ext cx="2258280" cy="274680"/>
            <a:chOff x="2438280" y="4443480"/>
            <a:chExt cx="2258280" cy="274680"/>
          </a:xfrm>
        </p:grpSpPr>
        <p:grpSp>
          <p:nvGrpSpPr>
            <p:cNvPr id="675" name=""/>
            <p:cNvGrpSpPr/>
            <p:nvPr/>
          </p:nvGrpSpPr>
          <p:grpSpPr>
            <a:xfrm>
              <a:off x="2438280" y="4443480"/>
              <a:ext cx="2258280" cy="274680"/>
              <a:chOff x="2438280" y="4443480"/>
              <a:chExt cx="2258280" cy="274680"/>
            </a:xfrm>
          </p:grpSpPr>
          <p:sp>
            <p:nvSpPr>
              <p:cNvPr id="676" name=""/>
              <p:cNvSpPr/>
              <p:nvPr/>
            </p:nvSpPr>
            <p:spPr>
              <a:xfrm>
                <a:off x="2438280" y="4443480"/>
                <a:ext cx="2258280" cy="274680"/>
              </a:xfrm>
              <a:prstGeom prst="rect">
                <a:avLst/>
              </a:prstGeom>
              <a:gradFill rotWithShape="0">
                <a:gsLst>
                  <a:gs pos="0">
                    <a:srgbClr val="829f6e"/>
                  </a:gs>
                  <a:gs pos="100000">
                    <a:srgbClr val="b0d79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2438280" y="4443480"/>
                <a:ext cx="2258280" cy="111240"/>
              </a:xfrm>
              <a:prstGeom prst="roundRect">
                <a:avLst>
                  <a:gd name="adj" fmla="val 0"/>
                </a:avLst>
              </a:prstGeom>
              <a:solidFill>
                <a:srgbClr val="f8f8f8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8" name=""/>
            <p:cNvSpPr/>
            <p:nvPr/>
          </p:nvSpPr>
          <p:spPr>
            <a:xfrm>
              <a:off x="2446200" y="4549680"/>
              <a:ext cx="224748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2448000" y="2830680"/>
            <a:ext cx="2833920" cy="280080"/>
            <a:chOff x="2448000" y="2830680"/>
            <a:chExt cx="2833920" cy="280080"/>
          </a:xfrm>
        </p:grpSpPr>
        <p:grpSp>
          <p:nvGrpSpPr>
            <p:cNvPr id="680" name=""/>
            <p:cNvGrpSpPr/>
            <p:nvPr/>
          </p:nvGrpSpPr>
          <p:grpSpPr>
            <a:xfrm>
              <a:off x="2448000" y="2830680"/>
              <a:ext cx="2833920" cy="280080"/>
              <a:chOff x="2448000" y="2830680"/>
              <a:chExt cx="2833920" cy="280080"/>
            </a:xfrm>
          </p:grpSpPr>
          <p:sp>
            <p:nvSpPr>
              <p:cNvPr id="681" name=""/>
              <p:cNvSpPr/>
              <p:nvPr/>
            </p:nvSpPr>
            <p:spPr>
              <a:xfrm>
                <a:off x="2448000" y="2830680"/>
                <a:ext cx="2833920" cy="280080"/>
              </a:xfrm>
              <a:prstGeom prst="rect">
                <a:avLst/>
              </a:prstGeom>
              <a:gradFill rotWithShape="0">
                <a:gsLst>
                  <a:gs pos="0">
                    <a:srgbClr val="6e6a9d"/>
                  </a:gs>
                  <a:gs pos="100000">
                    <a:srgbClr val="9590d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448000" y="2832120"/>
                <a:ext cx="2833920" cy="113400"/>
              </a:xfrm>
              <a:prstGeom prst="roundRect">
                <a:avLst>
                  <a:gd name="adj" fmla="val 0"/>
                </a:avLst>
              </a:prstGeom>
              <a:solidFill>
                <a:srgbClr val="f8f8f8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3" name=""/>
            <p:cNvSpPr/>
            <p:nvPr/>
          </p:nvSpPr>
          <p:spPr>
            <a:xfrm>
              <a:off x="2457360" y="2937600"/>
              <a:ext cx="281124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2448000" y="3395520"/>
            <a:ext cx="849240" cy="276120"/>
            <a:chOff x="2448000" y="3395520"/>
            <a:chExt cx="849240" cy="276120"/>
          </a:xfrm>
        </p:grpSpPr>
        <p:grpSp>
          <p:nvGrpSpPr>
            <p:cNvPr id="685" name=""/>
            <p:cNvGrpSpPr/>
            <p:nvPr/>
          </p:nvGrpSpPr>
          <p:grpSpPr>
            <a:xfrm>
              <a:off x="2448000" y="3395520"/>
              <a:ext cx="849240" cy="276120"/>
              <a:chOff x="2448000" y="3395520"/>
              <a:chExt cx="849240" cy="276120"/>
            </a:xfrm>
          </p:grpSpPr>
          <p:sp>
            <p:nvSpPr>
              <p:cNvPr id="686" name=""/>
              <p:cNvSpPr/>
              <p:nvPr/>
            </p:nvSpPr>
            <p:spPr>
              <a:xfrm>
                <a:off x="2448000" y="3396960"/>
                <a:ext cx="849240" cy="274680"/>
              </a:xfrm>
              <a:prstGeom prst="rect">
                <a:avLst/>
              </a:prstGeom>
              <a:gradFill rotWithShape="0">
                <a:gsLst>
                  <a:gs pos="0">
                    <a:srgbClr val="a99e59"/>
                  </a:gs>
                  <a:gs pos="100000">
                    <a:srgbClr val="e4d5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448000" y="3395520"/>
                <a:ext cx="849240" cy="111240"/>
              </a:xfrm>
              <a:prstGeom prst="roundRect">
                <a:avLst>
                  <a:gd name="adj" fmla="val 0"/>
                </a:avLst>
              </a:prstGeom>
              <a:solidFill>
                <a:srgbClr val="f8f8f8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8" name=""/>
            <p:cNvSpPr/>
            <p:nvPr/>
          </p:nvSpPr>
          <p:spPr>
            <a:xfrm>
              <a:off x="2449440" y="3500280"/>
              <a:ext cx="84780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2438280" y="3948120"/>
            <a:ext cx="4221000" cy="266400"/>
            <a:chOff x="2438280" y="3948120"/>
            <a:chExt cx="4221000" cy="266400"/>
          </a:xfrm>
        </p:grpSpPr>
        <p:sp>
          <p:nvSpPr>
            <p:cNvPr id="690" name=""/>
            <p:cNvSpPr/>
            <p:nvPr/>
          </p:nvSpPr>
          <p:spPr>
            <a:xfrm>
              <a:off x="2438280" y="3949200"/>
              <a:ext cx="4221000" cy="265320"/>
            </a:xfrm>
            <a:prstGeom prst="rect">
              <a:avLst/>
            </a:prstGeom>
            <a:gradFill rotWithShape="0">
              <a:gsLst>
                <a:gs pos="0">
                  <a:srgbClr val="509b8f"/>
                </a:gs>
                <a:gs pos="100000">
                  <a:srgbClr val="6cd2c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438280" y="3948120"/>
              <a:ext cx="4217760" cy="10728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2455920" y="4041720"/>
            <a:ext cx="4187880" cy="0"/>
          </a:xfrm>
          <a:prstGeom prst="line">
            <a:avLst/>
          </a:prstGeom>
          <a:ln w="9360">
            <a:solidFill>
              <a:srgbClr val="ffffff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285920" y="1828800"/>
            <a:ext cx="6553080" cy="727200"/>
          </a:xfrm>
          <a:prstGeom prst="roundRect">
            <a:avLst>
              <a:gd name="adj" fmla="val 16667"/>
            </a:avLst>
          </a:prstGeom>
          <a:solidFill>
            <a:srgbClr val="edf9f0"/>
          </a:soli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6a3f"/>
                </a:solidFill>
                <a:latin typeface="Arial"/>
                <a:ea typeface="宋体"/>
              </a:rPr>
              <a:t>ThemeGallery is a Design Digital Content &amp; Contents mal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6a3f"/>
                </a:solidFill>
                <a:latin typeface="Arial"/>
                <a:ea typeface="宋体"/>
              </a:rPr>
              <a:t>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f9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2388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4054320" y="2840040"/>
            <a:ext cx="1711440" cy="536040"/>
            <a:chOff x="4054320" y="2840040"/>
            <a:chExt cx="1711440" cy="536040"/>
          </a:xfrm>
        </p:grpSpPr>
        <p:sp>
          <p:nvSpPr>
            <p:cNvPr id="696" name=""/>
            <p:cNvSpPr/>
            <p:nvPr/>
          </p:nvSpPr>
          <p:spPr>
            <a:xfrm>
              <a:off x="4054320" y="2840040"/>
              <a:ext cx="1711440" cy="536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080600" y="2872440"/>
              <a:ext cx="165132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8" name=""/>
          <p:cNvSpPr/>
          <p:nvPr/>
        </p:nvSpPr>
        <p:spPr>
          <a:xfrm>
            <a:off x="7232760" y="4703760"/>
            <a:ext cx="1085760" cy="1263600"/>
          </a:xfrm>
          <a:prstGeom prst="rect">
            <a:avLst/>
          </a:prstGeom>
          <a:gradFill rotWithShape="0">
            <a:gsLst>
              <a:gs pos="0">
                <a:srgbClr val="9590d4"/>
              </a:gs>
              <a:gs pos="100000">
                <a:srgbClr val="6b6899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068880" y="4703760"/>
            <a:ext cx="1086120" cy="1263600"/>
          </a:xfrm>
          <a:prstGeom prst="rect">
            <a:avLst/>
          </a:prstGeom>
          <a:gradFill rotWithShape="0">
            <a:gsLst>
              <a:gs pos="0">
                <a:srgbClr val="9590d4"/>
              </a:gs>
              <a:gs pos="100000">
                <a:srgbClr val="6b6899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0" name=""/>
          <p:cNvGrpSpPr/>
          <p:nvPr/>
        </p:nvGrpSpPr>
        <p:grpSpPr>
          <a:xfrm>
            <a:off x="1006560" y="4016520"/>
            <a:ext cx="2273040" cy="536040"/>
            <a:chOff x="1006560" y="4016520"/>
            <a:chExt cx="2273040" cy="536040"/>
          </a:xfrm>
        </p:grpSpPr>
        <p:sp>
          <p:nvSpPr>
            <p:cNvPr id="701" name=""/>
            <p:cNvSpPr/>
            <p:nvPr/>
          </p:nvSpPr>
          <p:spPr>
            <a:xfrm>
              <a:off x="1006560" y="4016520"/>
              <a:ext cx="2273040" cy="536040"/>
            </a:xfrm>
            <a:prstGeom prst="roundRect">
              <a:avLst>
                <a:gd name="adj" fmla="val 16667"/>
              </a:avLst>
            </a:prstGeom>
            <a:solidFill>
              <a:srgbClr val="e4d578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041480" y="4048920"/>
              <a:ext cx="219348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e4d578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3" name=""/>
          <p:cNvGrpSpPr/>
          <p:nvPr/>
        </p:nvGrpSpPr>
        <p:grpSpPr>
          <a:xfrm>
            <a:off x="6051600" y="4016520"/>
            <a:ext cx="2273400" cy="536040"/>
            <a:chOff x="6051600" y="4016520"/>
            <a:chExt cx="2273400" cy="536040"/>
          </a:xfrm>
        </p:grpSpPr>
        <p:sp>
          <p:nvSpPr>
            <p:cNvPr id="704" name=""/>
            <p:cNvSpPr/>
            <p:nvPr/>
          </p:nvSpPr>
          <p:spPr>
            <a:xfrm>
              <a:off x="6051600" y="4016520"/>
              <a:ext cx="2273400" cy="536040"/>
            </a:xfrm>
            <a:prstGeom prst="roundRect">
              <a:avLst>
                <a:gd name="adj" fmla="val 16667"/>
              </a:avLst>
            </a:prstGeom>
            <a:solidFill>
              <a:srgbClr val="9590d4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086520" y="4048920"/>
              <a:ext cx="219384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9590d4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6" name=""/>
          <p:cNvGrpSpPr/>
          <p:nvPr/>
        </p:nvGrpSpPr>
        <p:grpSpPr>
          <a:xfrm>
            <a:off x="3525840" y="4025880"/>
            <a:ext cx="2273400" cy="536400"/>
            <a:chOff x="3525840" y="4025880"/>
            <a:chExt cx="2273400" cy="536400"/>
          </a:xfrm>
        </p:grpSpPr>
        <p:sp>
          <p:nvSpPr>
            <p:cNvPr id="707" name=""/>
            <p:cNvSpPr/>
            <p:nvPr/>
          </p:nvSpPr>
          <p:spPr>
            <a:xfrm>
              <a:off x="3525840" y="4025880"/>
              <a:ext cx="2273400" cy="536400"/>
            </a:xfrm>
            <a:prstGeom prst="roundRect">
              <a:avLst>
                <a:gd name="adj" fmla="val 16667"/>
              </a:avLst>
            </a:prstGeom>
            <a:solidFill>
              <a:srgbClr val="6cd2c1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560760" y="4058280"/>
              <a:ext cx="219384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6cd2c1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1881360" y="2840040"/>
            <a:ext cx="1711080" cy="536040"/>
            <a:chOff x="1881360" y="2840040"/>
            <a:chExt cx="1711080" cy="536040"/>
          </a:xfrm>
        </p:grpSpPr>
        <p:sp>
          <p:nvSpPr>
            <p:cNvPr id="710" name=""/>
            <p:cNvSpPr/>
            <p:nvPr/>
          </p:nvSpPr>
          <p:spPr>
            <a:xfrm>
              <a:off x="1881360" y="2840040"/>
              <a:ext cx="1711080" cy="536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907640" y="2872440"/>
              <a:ext cx="165096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"/>
          <p:cNvGrpSpPr/>
          <p:nvPr/>
        </p:nvGrpSpPr>
        <p:grpSpPr>
          <a:xfrm>
            <a:off x="1940040" y="1981080"/>
            <a:ext cx="1596960" cy="536400"/>
            <a:chOff x="1940040" y="1981080"/>
            <a:chExt cx="1596960" cy="536400"/>
          </a:xfrm>
        </p:grpSpPr>
        <p:sp>
          <p:nvSpPr>
            <p:cNvPr id="713" name=""/>
            <p:cNvSpPr/>
            <p:nvPr/>
          </p:nvSpPr>
          <p:spPr>
            <a:xfrm>
              <a:off x="1940040" y="1981080"/>
              <a:ext cx="1596960" cy="536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964520" y="2013480"/>
              <a:ext cx="154116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"/>
          <p:cNvSpPr/>
          <p:nvPr/>
        </p:nvSpPr>
        <p:spPr>
          <a:xfrm>
            <a:off x="1025640" y="4703760"/>
            <a:ext cx="1085760" cy="1263600"/>
          </a:xfrm>
          <a:prstGeom prst="rect">
            <a:avLst/>
          </a:prstGeom>
          <a:gradFill rotWithShape="0">
            <a:gsLst>
              <a:gs pos="0">
                <a:srgbClr val="e4d578"/>
              </a:gs>
              <a:gs pos="100000">
                <a:srgbClr val="a49956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2189160" y="4703760"/>
            <a:ext cx="1085760" cy="1263600"/>
          </a:xfrm>
          <a:prstGeom prst="rect">
            <a:avLst/>
          </a:prstGeom>
          <a:gradFill rotWithShape="0">
            <a:gsLst>
              <a:gs pos="0">
                <a:srgbClr val="e4d578"/>
              </a:gs>
              <a:gs pos="100000">
                <a:srgbClr val="a49956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7" name=""/>
          <p:cNvCxnSpPr/>
          <p:nvPr/>
        </p:nvCxnSpPr>
        <p:spPr>
          <a:xfrm flipH="1">
            <a:off x="3610800" y="308088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18" name=""/>
          <p:cNvCxnSpPr>
            <a:stCxn id="701" idx="0"/>
            <a:endCxn id="710" idx="2"/>
          </p:cNvCxnSpPr>
          <p:nvPr/>
        </p:nvCxnSpPr>
        <p:spPr>
          <a:xfrm flipH="1" flipV="1" rot="5400000">
            <a:off x="2119320" y="3399120"/>
            <a:ext cx="640800" cy="594360"/>
          </a:xfrm>
          <a:prstGeom prst="bentConnector3">
            <a:avLst>
              <a:gd name="adj1" fmla="val 4985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19" name=""/>
          <p:cNvCxnSpPr>
            <a:stCxn id="704" idx="0"/>
            <a:endCxn id="710" idx="2"/>
          </p:cNvCxnSpPr>
          <p:nvPr/>
        </p:nvCxnSpPr>
        <p:spPr>
          <a:xfrm flipV="1" rot="16200000">
            <a:off x="4641840" y="1470240"/>
            <a:ext cx="640800" cy="4452120"/>
          </a:xfrm>
          <a:prstGeom prst="bentConnector3">
            <a:avLst>
              <a:gd name="adj1" fmla="val 4985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20" name=""/>
          <p:cNvSpPr/>
          <p:nvPr/>
        </p:nvSpPr>
        <p:spPr>
          <a:xfrm>
            <a:off x="2235240" y="206208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C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4064040" y="2940120"/>
            <a:ext cx="168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ub Depar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093000" y="4106880"/>
            <a:ext cx="21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ub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033560" y="409716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ub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925560" y="5038560"/>
            <a:ext cx="1307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2084400" y="5038560"/>
            <a:ext cx="13082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3556080" y="410364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ub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543480" y="4703760"/>
            <a:ext cx="1085760" cy="1263600"/>
          </a:xfrm>
          <a:prstGeom prst="rect">
            <a:avLst/>
          </a:prstGeom>
          <a:gradFill rotWithShape="0">
            <a:gsLst>
              <a:gs pos="0">
                <a:srgbClr val="6cd2c1"/>
              </a:gs>
              <a:gs pos="100000">
                <a:srgbClr val="4e978b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707000" y="4703760"/>
            <a:ext cx="1085760" cy="1263600"/>
          </a:xfrm>
          <a:prstGeom prst="rect">
            <a:avLst/>
          </a:prstGeom>
          <a:gradFill rotWithShape="0">
            <a:gsLst>
              <a:gs pos="0">
                <a:srgbClr val="6cd2c1"/>
              </a:gs>
              <a:gs pos="100000">
                <a:srgbClr val="4e978b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3443400" y="5038560"/>
            <a:ext cx="1307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ub 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602240" y="5038560"/>
            <a:ext cx="1307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ub 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5969160" y="5038560"/>
            <a:ext cx="1307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ub 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7128000" y="5038560"/>
            <a:ext cx="1307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ub 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2011320" y="2916360"/>
            <a:ext cx="14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stCxn id="713" idx="2"/>
            <a:endCxn id="710" idx="0"/>
          </p:cNvCxnSpPr>
          <p:nvPr/>
        </p:nvCxnSpPr>
        <p:spPr>
          <a:xfrm flipH="1">
            <a:off x="2736000" y="2517480"/>
            <a:ext cx="252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35" name=""/>
          <p:cNvCxnSpPr>
            <a:stCxn id="710" idx="2"/>
            <a:endCxn id="707" idx="0"/>
          </p:cNvCxnSpPr>
          <p:nvPr/>
        </p:nvCxnSpPr>
        <p:spPr>
          <a:xfrm flipH="1" rot="16200000">
            <a:off x="3373920" y="2738160"/>
            <a:ext cx="650160" cy="1926360"/>
          </a:xfrm>
          <a:prstGeom prst="bentConnector3">
            <a:avLst>
              <a:gd name="adj1" fmla="val 4986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36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b0d795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f9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2388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Contents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876320" y="3460680"/>
            <a:ext cx="5311800" cy="689040"/>
            <a:chOff x="1876320" y="3460680"/>
            <a:chExt cx="5311800" cy="689040"/>
          </a:xfrm>
        </p:grpSpPr>
        <p:sp>
          <p:nvSpPr>
            <p:cNvPr id="97" name=""/>
            <p:cNvSpPr/>
            <p:nvPr/>
          </p:nvSpPr>
          <p:spPr>
            <a:xfrm>
              <a:off x="1876320" y="346068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590d4"/>
                </a:gs>
                <a:gs pos="50000">
                  <a:srgbClr val="8884c2"/>
                </a:gs>
                <a:gs pos="100000">
                  <a:srgbClr val="9590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1889280" y="3481920"/>
              <a:ext cx="5292000" cy="636840"/>
              <a:chOff x="1889280" y="3481920"/>
              <a:chExt cx="5292000" cy="636840"/>
            </a:xfrm>
          </p:grpSpPr>
          <p:sp>
            <p:nvSpPr>
              <p:cNvPr id="99" name=""/>
              <p:cNvSpPr/>
              <p:nvPr/>
            </p:nvSpPr>
            <p:spPr>
              <a:xfrm>
                <a:off x="1889280" y="39538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590d4">
                      <a:alpha val="0"/>
                    </a:srgbClr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889280" y="34819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9590d4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" name=""/>
          <p:cNvGrpSpPr/>
          <p:nvPr/>
        </p:nvGrpSpPr>
        <p:grpSpPr>
          <a:xfrm>
            <a:off x="1876320" y="4325760"/>
            <a:ext cx="5311800" cy="689040"/>
            <a:chOff x="1876320" y="4325760"/>
            <a:chExt cx="5311800" cy="689040"/>
          </a:xfrm>
        </p:grpSpPr>
        <p:sp>
          <p:nvSpPr>
            <p:cNvPr id="102" name=""/>
            <p:cNvSpPr/>
            <p:nvPr/>
          </p:nvSpPr>
          <p:spPr>
            <a:xfrm>
              <a:off x="1876320" y="432576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b0d795"/>
                </a:gs>
                <a:gs pos="50000">
                  <a:srgbClr val="a1c588"/>
                </a:gs>
                <a:gs pos="100000">
                  <a:srgbClr val="b0d79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1889280" y="4347000"/>
              <a:ext cx="5292000" cy="636840"/>
              <a:chOff x="1889280" y="4347000"/>
              <a:chExt cx="5292000" cy="636840"/>
            </a:xfrm>
          </p:grpSpPr>
          <p:sp>
            <p:nvSpPr>
              <p:cNvPr id="104" name=""/>
              <p:cNvSpPr/>
              <p:nvPr/>
            </p:nvSpPr>
            <p:spPr>
              <a:xfrm>
                <a:off x="1889280" y="48189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b0d795">
                      <a:alpha val="0"/>
                    </a:srgbClr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889280" y="434700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b0d7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" name=""/>
          <p:cNvGrpSpPr/>
          <p:nvPr/>
        </p:nvGrpSpPr>
        <p:grpSpPr>
          <a:xfrm>
            <a:off x="1876320" y="5183280"/>
            <a:ext cx="5311800" cy="689040"/>
            <a:chOff x="1876320" y="5183280"/>
            <a:chExt cx="5311800" cy="689040"/>
          </a:xfrm>
        </p:grpSpPr>
        <p:sp>
          <p:nvSpPr>
            <p:cNvPr id="107" name=""/>
            <p:cNvSpPr/>
            <p:nvPr/>
          </p:nvSpPr>
          <p:spPr>
            <a:xfrm>
              <a:off x="1876320" y="518328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e4d578"/>
                </a:gs>
                <a:gs pos="50000">
                  <a:srgbClr val="d1c36e"/>
                </a:gs>
                <a:gs pos="100000">
                  <a:srgbClr val="e4d5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1889280" y="5204520"/>
              <a:ext cx="5292000" cy="636840"/>
              <a:chOff x="1889280" y="5204520"/>
              <a:chExt cx="5292000" cy="636840"/>
            </a:xfrm>
          </p:grpSpPr>
          <p:sp>
            <p:nvSpPr>
              <p:cNvPr id="109" name=""/>
              <p:cNvSpPr/>
              <p:nvPr/>
            </p:nvSpPr>
            <p:spPr>
              <a:xfrm>
                <a:off x="1889280" y="56764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4d578">
                      <a:alpha val="0"/>
                    </a:srgbClr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889280" y="52045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e4d578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" name=""/>
          <p:cNvGrpSpPr/>
          <p:nvPr/>
        </p:nvGrpSpPr>
        <p:grpSpPr>
          <a:xfrm>
            <a:off x="1876320" y="2597040"/>
            <a:ext cx="5311800" cy="689040"/>
            <a:chOff x="1876320" y="2597040"/>
            <a:chExt cx="5311800" cy="689040"/>
          </a:xfrm>
        </p:grpSpPr>
        <p:sp>
          <p:nvSpPr>
            <p:cNvPr id="112" name=""/>
            <p:cNvSpPr/>
            <p:nvPr/>
          </p:nvSpPr>
          <p:spPr>
            <a:xfrm>
              <a:off x="1876320" y="259704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6cd2c1"/>
                </a:gs>
                <a:gs pos="50000">
                  <a:srgbClr val="63c0b1"/>
                </a:gs>
                <a:gs pos="100000">
                  <a:srgbClr val="6cd2c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1889280" y="2618280"/>
              <a:ext cx="5292000" cy="636840"/>
              <a:chOff x="1889280" y="2618280"/>
              <a:chExt cx="5292000" cy="636840"/>
            </a:xfrm>
          </p:grpSpPr>
          <p:sp>
            <p:nvSpPr>
              <p:cNvPr id="114" name=""/>
              <p:cNvSpPr/>
              <p:nvPr/>
            </p:nvSpPr>
            <p:spPr>
              <a:xfrm>
                <a:off x="1889280" y="309024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cd2c1">
                      <a:alpha val="0"/>
                    </a:srgbClr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889280" y="26182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6cd2c1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6" name=""/>
          <p:cNvSpPr/>
          <p:nvPr/>
        </p:nvSpPr>
        <p:spPr>
          <a:xfrm>
            <a:off x="2343240" y="27115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354400" y="35686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354400" y="442764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354400" y="527544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30320" y="1768320"/>
            <a:ext cx="510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1676520" y="514656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1692360" y="430056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1692360" y="344952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rcRect l="42620" t="64489" r="19467" b="0"/>
          <a:stretch/>
        </p:blipFill>
        <p:spPr>
          <a:xfrm>
            <a:off x="1681200" y="2592360"/>
            <a:ext cx="792000" cy="949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022480" y="52833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001960" y="268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014560" y="35481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014560" y="44355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b0d795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b0d795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b0d795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b0d795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b0d795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b0d795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b0d795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b0d795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b0d795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b0d795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b0d795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b0d795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b0d795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b0d795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b0d795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b0d795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b0d795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b0d795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b0d795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b0d795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b0d795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b0d795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b0d795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b0d795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b0d795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80C6-8309-4BCA-A0D5-67D6222B7429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f9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352320" y="3733920"/>
            <a:ext cx="5334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106a3f"/>
                </a:solidFill>
                <a:latin typeface="Arial"/>
                <a:ea typeface="宋体"/>
              </a:rPr>
              <a:t>Thank You!</a:t>
            </a:r>
            <a:endParaRPr b="1" lang="en-US" sz="5500" spc="-1" strike="noStrike">
              <a:solidFill>
                <a:srgbClr val="106a3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583080" y="5210280"/>
            <a:ext cx="74520" cy="152280"/>
          </a:xfrm>
          <a:prstGeom prst="rect">
            <a:avLst/>
          </a:prstGeom>
          <a:solidFill>
            <a:srgbClr val="b0d7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3505320" y="5105520"/>
            <a:ext cx="5333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b0d795"/>
                </a:solidFill>
                <a:uFillTx/>
                <a:latin typeface="Verdana"/>
                <a:ea typeface="宋体"/>
                <a:hlinkClick r:id="rId1"/>
              </a:rPr>
              <a:t>www.pptbz.com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        pp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宝藏提供大量漂亮的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pp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模板下载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f9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2388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87320" y="1457280"/>
            <a:ext cx="7407360" cy="33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ow do I incorporate my logo to a slide that will apply to all the other slides?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06a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n the </a:t>
            </a:r>
            <a:r>
              <a:rPr b="0" lang="en-US" sz="2400" spc="-1" strike="noStrike">
                <a:solidFill>
                  <a:srgbClr val="106a3f"/>
                </a:solidFill>
                <a:latin typeface="Arial"/>
                <a:ea typeface="宋体"/>
              </a:rPr>
              <a:t>[View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menu, point to </a:t>
            </a:r>
            <a:r>
              <a:rPr b="0" lang="en-US" sz="2400" spc="-1" strike="noStrike">
                <a:solidFill>
                  <a:srgbClr val="106a3f"/>
                </a:solidFill>
                <a:latin typeface="Arial"/>
                <a:ea typeface="宋体"/>
              </a:rPr>
              <a:t>[Master]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and then click </a:t>
            </a:r>
            <a:r>
              <a:rPr b="0" lang="en-US" sz="2400" spc="-1" strike="noStrike">
                <a:solidFill>
                  <a:srgbClr val="106a3f"/>
                </a:solidFill>
                <a:latin typeface="Arial"/>
                <a:ea typeface="宋体"/>
              </a:rPr>
              <a:t>[Slide Master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or </a:t>
            </a:r>
            <a:r>
              <a:rPr b="0" lang="en-US" sz="2400" spc="-1" strike="noStrike">
                <a:solidFill>
                  <a:srgbClr val="106a3f"/>
                </a:solidFill>
                <a:latin typeface="Arial"/>
                <a:ea typeface="宋体"/>
              </a:rPr>
              <a:t>[Notes Master]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5105520"/>
            <a:ext cx="64008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[ Image information in product ]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Image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Not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 to customers : This image has been licensed to be used within this PowerPoint template only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You may not extract the image for any other use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f9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2388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5686560" y="2300400"/>
            <a:ext cx="0" cy="3108240"/>
          </a:xfrm>
          <a:prstGeom prst="line">
            <a:avLst/>
          </a:prstGeom>
          <a:ln w="12600">
            <a:solidFill>
              <a:srgbClr val="80808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06000" y="259884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17160" y="355752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17160" y="449568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927520"/>
            <a:ext cx="2971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867280" y="3852720"/>
            <a:ext cx="2971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4780080"/>
            <a:ext cx="2971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65200" y="2401920"/>
            <a:ext cx="2844720" cy="2867040"/>
          </a:xfrm>
          <a:prstGeom prst="ellipse">
            <a:avLst/>
          </a:prstGeom>
          <a:noFill/>
          <a:ln w="9360">
            <a:solidFill>
              <a:srgbClr val="b2b2b2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792000" y="2651040"/>
            <a:ext cx="2377800" cy="2425320"/>
            <a:chOff x="792000" y="2651040"/>
            <a:chExt cx="2377800" cy="2425320"/>
          </a:xfrm>
        </p:grpSpPr>
        <p:sp>
          <p:nvSpPr>
            <p:cNvPr id="142" name=""/>
            <p:cNvSpPr/>
            <p:nvPr/>
          </p:nvSpPr>
          <p:spPr>
            <a:xfrm>
              <a:off x="792000" y="2651040"/>
              <a:ext cx="2377800" cy="2425320"/>
            </a:xfrm>
            <a:prstGeom prst="ellipse">
              <a:avLst/>
            </a:prstGeom>
            <a:gradFill rotWithShape="0">
              <a:gsLst>
                <a:gs pos="0">
                  <a:srgbClr val="106a3f"/>
                </a:gs>
                <a:gs pos="100000">
                  <a:srgbClr val="e3ede9"/>
                </a:gs>
              </a:gsLst>
              <a:lin ang="13500000"/>
            </a:gradFill>
            <a:ln w="38160">
              <a:solidFill>
                <a:srgbClr val="f8f8f8"/>
              </a:solidFill>
              <a:miter/>
            </a:ln>
            <a:effectLst>
              <a:outerShdw dist="40186" dir="4303641" blurRad="0" rotWithShape="0">
                <a:srgbClr val="5f5f5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89920" y="2745720"/>
              <a:ext cx="2180160" cy="2225520"/>
            </a:xfrm>
            <a:prstGeom prst="ellipse">
              <a:avLst/>
            </a:prstGeom>
            <a:gradFill rotWithShape="0">
              <a:gsLst>
                <a:gs pos="0">
                  <a:srgbClr val="7eae97"/>
                </a:gs>
                <a:gs pos="100000">
                  <a:srgbClr val="106a3f"/>
                </a:gs>
              </a:gsLst>
              <a:lin ang="13500000"/>
            </a:gradFill>
            <a:ln w="0">
              <a:noFill/>
            </a:ln>
            <a:effectLst>
              <a:outerShdw dist="0" dir="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2760" y="3170520"/>
              <a:ext cx="1395720" cy="1425240"/>
            </a:xfrm>
            <a:prstGeom prst="ellipse">
              <a:avLst/>
            </a:prstGeom>
            <a:gradFill rotWithShape="0">
              <a:gsLst>
                <a:gs pos="0">
                  <a:srgbClr val="0b492b"/>
                </a:gs>
                <a:gs pos="100000">
                  <a:srgbClr val="106a3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388800" y="2217600"/>
            <a:ext cx="3216240" cy="3246480"/>
          </a:xfrm>
          <a:prstGeom prst="ellipse">
            <a:avLst/>
          </a:prstGeom>
          <a:noFill/>
          <a:ln w="19080">
            <a:solidFill>
              <a:srgbClr val="b2b2b2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60" y="3848040"/>
            <a:ext cx="3552840" cy="0"/>
          </a:xfrm>
          <a:prstGeom prst="line">
            <a:avLst/>
          </a:prstGeom>
          <a:ln w="12600">
            <a:solidFill>
              <a:srgbClr val="80808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89000" y="1978200"/>
            <a:ext cx="0" cy="3736800"/>
          </a:xfrm>
          <a:prstGeom prst="line">
            <a:avLst/>
          </a:prstGeom>
          <a:ln w="12600">
            <a:solidFill>
              <a:srgbClr val="80808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2558880" y="2200320"/>
            <a:ext cx="339840" cy="339840"/>
            <a:chOff x="2558880" y="2200320"/>
            <a:chExt cx="339840" cy="339840"/>
          </a:xfrm>
        </p:grpSpPr>
        <p:sp>
          <p:nvSpPr>
            <p:cNvPr id="149" name=""/>
            <p:cNvSpPr/>
            <p:nvPr/>
          </p:nvSpPr>
          <p:spPr>
            <a:xfrm>
              <a:off x="2558880" y="2200320"/>
              <a:ext cx="339840" cy="339840"/>
            </a:xfrm>
            <a:prstGeom prst="ellipse">
              <a:avLst/>
            </a:prstGeom>
            <a:gradFill rotWithShape="0">
              <a:gsLst>
                <a:gs pos="0">
                  <a:srgbClr val="106a3f"/>
                </a:gs>
                <a:gs pos="100000">
                  <a:srgbClr val="b9d3c7"/>
                </a:gs>
              </a:gsLst>
              <a:lin ang="135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586240" y="2228760"/>
              <a:ext cx="282600" cy="282600"/>
            </a:xfrm>
            <a:prstGeom prst="ellipse">
              <a:avLst/>
            </a:prstGeom>
            <a:gradFill rotWithShape="0">
              <a:gsLst>
                <a:gs pos="0">
                  <a:srgbClr val="669f84"/>
                </a:gs>
                <a:gs pos="100000">
                  <a:srgbClr val="106a3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2874960" y="2171880"/>
            <a:ext cx="20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68840" y="3635280"/>
            <a:ext cx="20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73360" y="2841480"/>
            <a:ext cx="20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17920" y="4462560"/>
            <a:ext cx="20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870280" y="5100480"/>
            <a:ext cx="20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12680" y="3511440"/>
            <a:ext cx="19875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Times New Roman"/>
                <a:ea typeface="宋体"/>
              </a:rPr>
              <a:t>Description of the 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270240" y="2905200"/>
            <a:ext cx="339840" cy="339480"/>
            <a:chOff x="3270240" y="2905200"/>
            <a:chExt cx="339840" cy="339480"/>
          </a:xfrm>
        </p:grpSpPr>
        <p:sp>
          <p:nvSpPr>
            <p:cNvPr id="158" name=""/>
            <p:cNvSpPr/>
            <p:nvPr/>
          </p:nvSpPr>
          <p:spPr>
            <a:xfrm>
              <a:off x="3270240" y="2905200"/>
              <a:ext cx="339840" cy="339480"/>
            </a:xfrm>
            <a:prstGeom prst="ellipse">
              <a:avLst/>
            </a:prstGeom>
            <a:gradFill rotWithShape="0">
              <a:gsLst>
                <a:gs pos="0">
                  <a:srgbClr val="106a3f"/>
                </a:gs>
                <a:gs pos="100000">
                  <a:srgbClr val="b9d3c7"/>
                </a:gs>
              </a:gsLst>
              <a:lin ang="135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97600" y="2933640"/>
              <a:ext cx="282600" cy="282240"/>
            </a:xfrm>
            <a:prstGeom prst="ellipse">
              <a:avLst/>
            </a:prstGeom>
            <a:gradFill rotWithShape="0">
              <a:gsLst>
                <a:gs pos="0">
                  <a:srgbClr val="669f84"/>
                </a:gs>
                <a:gs pos="100000">
                  <a:srgbClr val="106a3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502080" y="3673440"/>
            <a:ext cx="339840" cy="339840"/>
            <a:chOff x="3502080" y="3673440"/>
            <a:chExt cx="339840" cy="339840"/>
          </a:xfrm>
        </p:grpSpPr>
        <p:sp>
          <p:nvSpPr>
            <p:cNvPr id="161" name=""/>
            <p:cNvSpPr/>
            <p:nvPr/>
          </p:nvSpPr>
          <p:spPr>
            <a:xfrm>
              <a:off x="3502080" y="3673440"/>
              <a:ext cx="339840" cy="339840"/>
            </a:xfrm>
            <a:prstGeom prst="ellipse">
              <a:avLst/>
            </a:prstGeom>
            <a:gradFill rotWithShape="0">
              <a:gsLst>
                <a:gs pos="0">
                  <a:srgbClr val="106a3f"/>
                </a:gs>
                <a:gs pos="100000">
                  <a:srgbClr val="b9d3c7"/>
                </a:gs>
              </a:gsLst>
              <a:lin ang="135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529440" y="3701880"/>
              <a:ext cx="282600" cy="282600"/>
            </a:xfrm>
            <a:prstGeom prst="ellipse">
              <a:avLst/>
            </a:prstGeom>
            <a:gradFill rotWithShape="0">
              <a:gsLst>
                <a:gs pos="0">
                  <a:srgbClr val="669f84"/>
                </a:gs>
                <a:gs pos="100000">
                  <a:srgbClr val="106a3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260880" y="4489560"/>
            <a:ext cx="339480" cy="339480"/>
            <a:chOff x="3260880" y="4489560"/>
            <a:chExt cx="339480" cy="339480"/>
          </a:xfrm>
        </p:grpSpPr>
        <p:sp>
          <p:nvSpPr>
            <p:cNvPr id="164" name=""/>
            <p:cNvSpPr/>
            <p:nvPr/>
          </p:nvSpPr>
          <p:spPr>
            <a:xfrm>
              <a:off x="3260880" y="4489560"/>
              <a:ext cx="339480" cy="339480"/>
            </a:xfrm>
            <a:prstGeom prst="ellipse">
              <a:avLst/>
            </a:prstGeom>
            <a:gradFill rotWithShape="0">
              <a:gsLst>
                <a:gs pos="0">
                  <a:srgbClr val="106a3f"/>
                </a:gs>
                <a:gs pos="100000">
                  <a:srgbClr val="b9d3c7"/>
                </a:gs>
              </a:gsLst>
              <a:lin ang="135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287880" y="4518000"/>
              <a:ext cx="282240" cy="282240"/>
            </a:xfrm>
            <a:prstGeom prst="ellipse">
              <a:avLst/>
            </a:prstGeom>
            <a:gradFill rotWithShape="0">
              <a:gsLst>
                <a:gs pos="0">
                  <a:srgbClr val="669f84"/>
                </a:gs>
                <a:gs pos="100000">
                  <a:srgbClr val="106a3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635200" y="5111640"/>
            <a:ext cx="339840" cy="339840"/>
            <a:chOff x="2635200" y="5111640"/>
            <a:chExt cx="339840" cy="339840"/>
          </a:xfrm>
        </p:grpSpPr>
        <p:sp>
          <p:nvSpPr>
            <p:cNvPr id="167" name=""/>
            <p:cNvSpPr/>
            <p:nvPr/>
          </p:nvSpPr>
          <p:spPr>
            <a:xfrm>
              <a:off x="2635200" y="5111640"/>
              <a:ext cx="339840" cy="339840"/>
            </a:xfrm>
            <a:prstGeom prst="ellipse">
              <a:avLst/>
            </a:prstGeom>
            <a:gradFill rotWithShape="0">
              <a:gsLst>
                <a:gs pos="0">
                  <a:srgbClr val="106a3f"/>
                </a:gs>
                <a:gs pos="100000">
                  <a:srgbClr val="b9d3c7"/>
                </a:gs>
              </a:gsLst>
              <a:lin ang="135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662560" y="5140080"/>
              <a:ext cx="282600" cy="282600"/>
            </a:xfrm>
            <a:prstGeom prst="ellipse">
              <a:avLst/>
            </a:prstGeom>
            <a:gradFill rotWithShape="0">
              <a:gsLst>
                <a:gs pos="0">
                  <a:srgbClr val="669f84"/>
                </a:gs>
                <a:gs pos="100000">
                  <a:srgbClr val="106a3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5587920" y="2700360"/>
            <a:ext cx="181080" cy="181080"/>
            <a:chOff x="5587920" y="2700360"/>
            <a:chExt cx="181080" cy="181080"/>
          </a:xfrm>
        </p:grpSpPr>
        <p:sp>
          <p:nvSpPr>
            <p:cNvPr id="170" name=""/>
            <p:cNvSpPr/>
            <p:nvPr/>
          </p:nvSpPr>
          <p:spPr>
            <a:xfrm>
              <a:off x="5587920" y="2700360"/>
              <a:ext cx="181080" cy="181080"/>
            </a:xfrm>
            <a:prstGeom prst="ellipse">
              <a:avLst/>
            </a:prstGeom>
            <a:gradFill rotWithShape="0">
              <a:gsLst>
                <a:gs pos="0">
                  <a:srgbClr val="106a3f"/>
                </a:gs>
                <a:gs pos="100000">
                  <a:srgbClr val="b9d3c7"/>
                </a:gs>
              </a:gsLst>
              <a:lin ang="135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602320" y="2715480"/>
              <a:ext cx="150480" cy="150480"/>
            </a:xfrm>
            <a:prstGeom prst="ellipse">
              <a:avLst/>
            </a:prstGeom>
            <a:gradFill rotWithShape="0">
              <a:gsLst>
                <a:gs pos="0">
                  <a:srgbClr val="669f84"/>
                </a:gs>
                <a:gs pos="100000">
                  <a:srgbClr val="106a3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5587920" y="3654360"/>
            <a:ext cx="181080" cy="181080"/>
            <a:chOff x="5587920" y="3654360"/>
            <a:chExt cx="181080" cy="181080"/>
          </a:xfrm>
        </p:grpSpPr>
        <p:sp>
          <p:nvSpPr>
            <p:cNvPr id="173" name=""/>
            <p:cNvSpPr/>
            <p:nvPr/>
          </p:nvSpPr>
          <p:spPr>
            <a:xfrm>
              <a:off x="5587920" y="3654360"/>
              <a:ext cx="181080" cy="181080"/>
            </a:xfrm>
            <a:prstGeom prst="ellipse">
              <a:avLst/>
            </a:prstGeom>
            <a:gradFill rotWithShape="0">
              <a:gsLst>
                <a:gs pos="0">
                  <a:srgbClr val="106a3f"/>
                </a:gs>
                <a:gs pos="100000">
                  <a:srgbClr val="b9d3c7"/>
                </a:gs>
              </a:gsLst>
              <a:lin ang="135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02320" y="3669480"/>
              <a:ext cx="150480" cy="150480"/>
            </a:xfrm>
            <a:prstGeom prst="ellipse">
              <a:avLst/>
            </a:prstGeom>
            <a:gradFill rotWithShape="0">
              <a:gsLst>
                <a:gs pos="0">
                  <a:srgbClr val="669f84"/>
                </a:gs>
                <a:gs pos="100000">
                  <a:srgbClr val="106a3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587920" y="4589640"/>
            <a:ext cx="181080" cy="180720"/>
            <a:chOff x="5587920" y="4589640"/>
            <a:chExt cx="181080" cy="180720"/>
          </a:xfrm>
        </p:grpSpPr>
        <p:sp>
          <p:nvSpPr>
            <p:cNvPr id="176" name=""/>
            <p:cNvSpPr/>
            <p:nvPr/>
          </p:nvSpPr>
          <p:spPr>
            <a:xfrm>
              <a:off x="5587920" y="4589640"/>
              <a:ext cx="181080" cy="180720"/>
            </a:xfrm>
            <a:prstGeom prst="ellipse">
              <a:avLst/>
            </a:prstGeom>
            <a:gradFill rotWithShape="0">
              <a:gsLst>
                <a:gs pos="0">
                  <a:srgbClr val="106a3f"/>
                </a:gs>
                <a:gs pos="100000">
                  <a:srgbClr val="b9d3c7"/>
                </a:gs>
              </a:gsLst>
              <a:lin ang="135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602320" y="4604760"/>
              <a:ext cx="150480" cy="150480"/>
            </a:xfrm>
            <a:prstGeom prst="ellipse">
              <a:avLst/>
            </a:prstGeom>
            <a:gradFill rotWithShape="0">
              <a:gsLst>
                <a:gs pos="0">
                  <a:srgbClr val="669f84"/>
                </a:gs>
                <a:gs pos="100000">
                  <a:srgbClr val="106a3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b0d795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f9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2388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762280" y="1373040"/>
            <a:ext cx="3435120" cy="536400"/>
            <a:chOff x="2762280" y="1373040"/>
            <a:chExt cx="3435120" cy="536400"/>
          </a:xfrm>
        </p:grpSpPr>
        <p:sp>
          <p:nvSpPr>
            <p:cNvPr id="181" name=""/>
            <p:cNvSpPr/>
            <p:nvPr/>
          </p:nvSpPr>
          <p:spPr>
            <a:xfrm>
              <a:off x="2762280" y="1373040"/>
              <a:ext cx="3435120" cy="536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815200" y="1405440"/>
              <a:ext cx="331488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83" name=""/>
          <p:cNvCxnSpPr/>
          <p:nvPr/>
        </p:nvCxnSpPr>
        <p:spPr>
          <a:xfrm flipH="1" rot="16200000">
            <a:off x="1686240" y="4323960"/>
            <a:ext cx="1131120" cy="1048320"/>
          </a:xfrm>
          <a:prstGeom prst="bentConnector2">
            <a:avLst/>
          </a:prstGeom>
          <a:ln cap="rnd" w="38160">
            <a:solidFill>
              <a:srgbClr val="b2b2b2"/>
            </a:solidFill>
            <a:custDash>
              <a:ds d="100000" sp="1000"/>
            </a:custDash>
            <a:miter/>
          </a:ln>
        </p:spPr>
      </p:cxnSp>
      <p:cxnSp>
        <p:nvCxnSpPr>
          <p:cNvPr id="184" name=""/>
          <p:cNvCxnSpPr/>
          <p:nvPr/>
        </p:nvCxnSpPr>
        <p:spPr>
          <a:xfrm rot="5400000">
            <a:off x="6199920" y="4281120"/>
            <a:ext cx="1131120" cy="1134360"/>
          </a:xfrm>
          <a:prstGeom prst="bentConnector2">
            <a:avLst/>
          </a:prstGeom>
          <a:ln cap="rnd" w="38160">
            <a:solidFill>
              <a:srgbClr val="b2b2b2"/>
            </a:solidFill>
            <a:custDash>
              <a:ds d="100000" sp="1000"/>
            </a:custDash>
            <a:miter/>
          </a:ln>
        </p:spPr>
      </p:cxnSp>
      <p:cxnSp>
        <p:nvCxnSpPr>
          <p:cNvPr id="185" name=""/>
          <p:cNvCxnSpPr/>
          <p:nvPr/>
        </p:nvCxnSpPr>
        <p:spPr>
          <a:xfrm flipH="1" flipV="1" rot="5400000">
            <a:off x="1717200" y="1637640"/>
            <a:ext cx="1061280" cy="1058040"/>
          </a:xfrm>
          <a:prstGeom prst="bentConnector2">
            <a:avLst/>
          </a:prstGeom>
          <a:ln cap="rnd" w="38160">
            <a:solidFill>
              <a:srgbClr val="b2b2b2"/>
            </a:solidFill>
            <a:custDash>
              <a:ds d="100000" sp="1000"/>
            </a:custDash>
            <a:miter/>
          </a:ln>
        </p:spPr>
      </p:cxnSp>
      <p:cxnSp>
        <p:nvCxnSpPr>
          <p:cNvPr id="186" name=""/>
          <p:cNvCxnSpPr/>
          <p:nvPr/>
        </p:nvCxnSpPr>
        <p:spPr>
          <a:xfrm flipV="1" rot="16200000">
            <a:off x="6252480" y="1581840"/>
            <a:ext cx="1026360" cy="1134360"/>
          </a:xfrm>
          <a:prstGeom prst="bentConnector2">
            <a:avLst/>
          </a:prstGeom>
          <a:ln cap="rnd" w="38160">
            <a:solidFill>
              <a:srgbClr val="b2b2b2"/>
            </a:solidFill>
            <a:custDash>
              <a:ds d="100000" sp="1000"/>
            </a:custDash>
            <a:miter/>
          </a:ln>
        </p:spPr>
      </p:cxn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513480" y="2587680"/>
            <a:ext cx="1658880" cy="16588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914400" y="2639880"/>
            <a:ext cx="1658880" cy="16592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614680" y="3008160"/>
            <a:ext cx="3814560" cy="476280"/>
          </a:xfrm>
          <a:custGeom>
            <a:avLst/>
            <a:gdLst/>
            <a:ahLst/>
            <a:rect l="l" t="t" r="r" b="b"/>
            <a:pathLst>
              <a:path w="2347" h="336">
                <a:moveTo>
                  <a:pt x="0" y="188"/>
                </a:moveTo>
                <a:lnTo>
                  <a:pt x="0" y="336"/>
                </a:lnTo>
                <a:lnTo>
                  <a:pt x="2347" y="336"/>
                </a:lnTo>
                <a:lnTo>
                  <a:pt x="2005" y="0"/>
                </a:lnTo>
                <a:lnTo>
                  <a:pt x="2005" y="189"/>
                </a:lnTo>
                <a:lnTo>
                  <a:pt x="0" y="188"/>
                </a:lnTo>
                <a:close/>
              </a:path>
            </a:pathLst>
          </a:custGeom>
          <a:gradFill rotWithShape="0">
            <a:gsLst>
              <a:gs pos="0">
                <a:srgbClr val="cccc0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782880" y="2030400"/>
            <a:ext cx="1443240" cy="768240"/>
          </a:xfrm>
          <a:prstGeom prst="upArrow">
            <a:avLst>
              <a:gd name="adj1" fmla="val 65157"/>
              <a:gd name="adj2" fmla="val 48347"/>
            </a:avLst>
          </a:prstGeom>
          <a:gradFill rotWithShape="0">
            <a:gsLst>
              <a:gs pos="0">
                <a:srgbClr val="ff993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782880" y="4249800"/>
            <a:ext cx="1443240" cy="768240"/>
          </a:xfrm>
          <a:prstGeom prst="upArrow">
            <a:avLst>
              <a:gd name="adj1" fmla="val 65157"/>
              <a:gd name="adj2" fmla="val 48347"/>
            </a:avLst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2614680" y="3515760"/>
            <a:ext cx="3814560" cy="477720"/>
          </a:xfrm>
          <a:custGeom>
            <a:avLst/>
            <a:gdLst/>
            <a:ahLst/>
            <a:rect l="l" t="t" r="r" b="b"/>
            <a:pathLst>
              <a:path w="2347" h="336">
                <a:moveTo>
                  <a:pt x="0" y="188"/>
                </a:moveTo>
                <a:lnTo>
                  <a:pt x="0" y="336"/>
                </a:lnTo>
                <a:lnTo>
                  <a:pt x="2347" y="336"/>
                </a:lnTo>
                <a:lnTo>
                  <a:pt x="2005" y="0"/>
                </a:lnTo>
                <a:lnTo>
                  <a:pt x="2005" y="189"/>
                </a:lnTo>
                <a:lnTo>
                  <a:pt x="0" y="188"/>
                </a:lnTo>
                <a:close/>
              </a:path>
            </a:pathLst>
          </a:custGeom>
          <a:gradFill rotWithShape="0">
            <a:gsLst>
              <a:gs pos="0">
                <a:srgbClr val="cccc0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947880" y="304956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585120" y="304956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646440" y="3828960"/>
            <a:ext cx="174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646440" y="2894040"/>
            <a:ext cx="174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922480" y="1371600"/>
            <a:ext cx="3129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762280" y="5167440"/>
            <a:ext cx="3435120" cy="536040"/>
            <a:chOff x="2762280" y="5167440"/>
            <a:chExt cx="3435120" cy="536040"/>
          </a:xfrm>
        </p:grpSpPr>
        <p:sp>
          <p:nvSpPr>
            <p:cNvPr id="199" name=""/>
            <p:cNvSpPr/>
            <p:nvPr/>
          </p:nvSpPr>
          <p:spPr>
            <a:xfrm>
              <a:off x="2762280" y="5167440"/>
              <a:ext cx="3435120" cy="536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815200" y="5199840"/>
              <a:ext cx="331488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2922480" y="5165640"/>
            <a:ext cx="3129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905120" y="6019920"/>
            <a:ext cx="5181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f9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2388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1828800"/>
            <a:ext cx="3733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30480" y="5521320"/>
            <a:ext cx="6240240" cy="347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792520" y="2587680"/>
            <a:ext cx="4751280" cy="2846160"/>
          </a:xfrm>
          <a:custGeom>
            <a:avLst/>
            <a:gdLst/>
            <a:ahLst/>
            <a:rect l="l" t="t" r="r" b="b"/>
            <a:pathLst>
              <a:path w="3569" h="2083">
                <a:moveTo>
                  <a:pt x="348" y="1788"/>
                </a:moveTo>
                <a:cubicBezTo>
                  <a:pt x="670" y="1748"/>
                  <a:pt x="706" y="1812"/>
                  <a:pt x="877" y="1701"/>
                </a:cubicBezTo>
                <a:cubicBezTo>
                  <a:pt x="1048" y="1590"/>
                  <a:pt x="1168" y="1382"/>
                  <a:pt x="1306" y="1172"/>
                </a:cubicBezTo>
                <a:cubicBezTo>
                  <a:pt x="1444" y="962"/>
                  <a:pt x="1580" y="716"/>
                  <a:pt x="1708" y="683"/>
                </a:cubicBezTo>
                <a:cubicBezTo>
                  <a:pt x="1836" y="650"/>
                  <a:pt x="2023" y="1419"/>
                  <a:pt x="2157" y="1433"/>
                </a:cubicBezTo>
                <a:cubicBezTo>
                  <a:pt x="2291" y="1447"/>
                  <a:pt x="2426" y="1427"/>
                  <a:pt x="2585" y="1193"/>
                </a:cubicBezTo>
                <a:cubicBezTo>
                  <a:pt x="2739" y="962"/>
                  <a:pt x="2934" y="94"/>
                  <a:pt x="3081" y="47"/>
                </a:cubicBezTo>
                <a:cubicBezTo>
                  <a:pt x="3228" y="0"/>
                  <a:pt x="3369" y="154"/>
                  <a:pt x="3547" y="467"/>
                </a:cubicBezTo>
                <a:cubicBezTo>
                  <a:pt x="3558" y="1275"/>
                  <a:pt x="3569" y="2083"/>
                  <a:pt x="3569" y="2083"/>
                </a:cubicBezTo>
                <a:lnTo>
                  <a:pt x="0" y="2077"/>
                </a:lnTo>
                <a:lnTo>
                  <a:pt x="348" y="1788"/>
                </a:lnTo>
                <a:close/>
              </a:path>
            </a:pathLst>
          </a:custGeom>
          <a:gradFill rotWithShape="0">
            <a:gsLst>
              <a:gs pos="0">
                <a:srgbClr val="f0f9f8">
                  <a:alpha val="80000"/>
                </a:srgbClr>
              </a:gs>
              <a:gs pos="100000">
                <a:srgbClr val="6cd2c1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083040" y="5513400"/>
            <a:ext cx="520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01        02        03       04        05        06        07        08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41280" y="4662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674520" y="455148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7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107600" y="384804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6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772880" y="31510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429880" y="461484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92040" y="38368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446160" y="217980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  <a:ea typeface="宋体"/>
              </a:rPr>
              <a:t>38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363440" y="287496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3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119320" y="5927760"/>
            <a:ext cx="626256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ext in here  (unit: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84480" y="5599080"/>
            <a:ext cx="65556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93720" y="2684520"/>
            <a:ext cx="163188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6cd2c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6cd2c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6cd2c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9480" y="2592360"/>
            <a:ext cx="38260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227400" y="4933800"/>
            <a:ext cx="130320" cy="130320"/>
          </a:xfrm>
          <a:prstGeom prst="ellipse">
            <a:avLst/>
          </a:prstGeom>
          <a:solidFill>
            <a:srgbClr val="e4d578"/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09880" y="4883040"/>
            <a:ext cx="130320" cy="130320"/>
          </a:xfrm>
          <a:prstGeom prst="ellipse">
            <a:avLst/>
          </a:prstGeom>
          <a:solidFill>
            <a:srgbClr val="e4d578"/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419720" y="4218120"/>
            <a:ext cx="129960" cy="129960"/>
          </a:xfrm>
          <a:prstGeom prst="ellipse">
            <a:avLst/>
          </a:prstGeom>
          <a:solidFill>
            <a:srgbClr val="e4d578"/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52880" y="3456000"/>
            <a:ext cx="130320" cy="130320"/>
          </a:xfrm>
          <a:prstGeom prst="ellipse">
            <a:avLst/>
          </a:prstGeom>
          <a:solidFill>
            <a:srgbClr val="e4d578"/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562720" y="4446720"/>
            <a:ext cx="129960" cy="129960"/>
          </a:xfrm>
          <a:prstGeom prst="ellipse">
            <a:avLst/>
          </a:prstGeom>
          <a:solidFill>
            <a:srgbClr val="e4d578"/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095880" y="4218120"/>
            <a:ext cx="130320" cy="129960"/>
          </a:xfrm>
          <a:prstGeom prst="ellipse">
            <a:avLst/>
          </a:prstGeom>
          <a:solidFill>
            <a:srgbClr val="e4d578"/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781680" y="2541600"/>
            <a:ext cx="130320" cy="130320"/>
          </a:xfrm>
          <a:prstGeom prst="ellipse">
            <a:avLst/>
          </a:prstGeom>
          <a:solidFill>
            <a:srgbClr val="e4d578"/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439040" y="3152880"/>
            <a:ext cx="130320" cy="129960"/>
          </a:xfrm>
          <a:prstGeom prst="ellipse">
            <a:avLst/>
          </a:prstGeom>
          <a:solidFill>
            <a:srgbClr val="e4d578"/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432160" y="2684520"/>
            <a:ext cx="163188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6cd2c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6cd2c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6cd2c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f9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762120" y="1828800"/>
            <a:ext cx="2760480" cy="4079880"/>
          </a:xfrm>
          <a:prstGeom prst="rightArrow">
            <a:avLst>
              <a:gd name="adj1" fmla="val 62806"/>
              <a:gd name="adj2" fmla="val 32949"/>
            </a:avLst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fefefe"/>
              </a:gs>
            </a:gsLst>
            <a:lin ang="10800000"/>
          </a:gradFill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2388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2685960"/>
            <a:ext cx="2262240" cy="23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06a3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06a3f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6a3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06a3f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592440" y="1898640"/>
            <a:ext cx="4713480" cy="3868920"/>
          </a:xfrm>
          <a:prstGeom prst="roundRect">
            <a:avLst>
              <a:gd name="adj" fmla="val 3481"/>
            </a:avLst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3664080" y="2039760"/>
            <a:ext cx="4544640" cy="1133640"/>
            <a:chOff x="3664080" y="2039760"/>
            <a:chExt cx="4544640" cy="1133640"/>
          </a:xfrm>
        </p:grpSpPr>
        <p:sp>
          <p:nvSpPr>
            <p:cNvPr id="234" name=""/>
            <p:cNvSpPr/>
            <p:nvPr/>
          </p:nvSpPr>
          <p:spPr>
            <a:xfrm>
              <a:off x="3707640" y="2039760"/>
              <a:ext cx="4501080" cy="11336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ef4f0"/>
                </a:gs>
                <a:gs pos="100000">
                  <a:srgbClr val="6cd2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664080" y="2461320"/>
              <a:ext cx="492120" cy="351360"/>
            </a:xfrm>
            <a:prstGeom prst="rightArrow">
              <a:avLst>
                <a:gd name="adj1" fmla="val 50000"/>
                <a:gd name="adj2" fmla="val 58359"/>
              </a:avLst>
            </a:prstGeom>
            <a:solidFill>
              <a:srgbClr val="edf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3664080" y="3262320"/>
            <a:ext cx="4544640" cy="1133640"/>
            <a:chOff x="3664080" y="3262320"/>
            <a:chExt cx="4544640" cy="1133640"/>
          </a:xfrm>
        </p:grpSpPr>
        <p:sp>
          <p:nvSpPr>
            <p:cNvPr id="237" name=""/>
            <p:cNvSpPr/>
            <p:nvPr/>
          </p:nvSpPr>
          <p:spPr>
            <a:xfrm>
              <a:off x="3707640" y="3262320"/>
              <a:ext cx="4501080" cy="11336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df5e7"/>
                </a:gs>
                <a:gs pos="100000">
                  <a:srgbClr val="b0d79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664080" y="3692520"/>
              <a:ext cx="492120" cy="351720"/>
            </a:xfrm>
            <a:prstGeom prst="rightArrow">
              <a:avLst>
                <a:gd name="adj1" fmla="val 50000"/>
                <a:gd name="adj2" fmla="val 58299"/>
              </a:avLst>
            </a:prstGeom>
            <a:solidFill>
              <a:srgbClr val="edf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3664080" y="4502160"/>
            <a:ext cx="4544640" cy="1133640"/>
            <a:chOff x="3664080" y="4502160"/>
            <a:chExt cx="4544640" cy="1133640"/>
          </a:xfrm>
        </p:grpSpPr>
        <p:sp>
          <p:nvSpPr>
            <p:cNvPr id="240" name=""/>
            <p:cNvSpPr/>
            <p:nvPr/>
          </p:nvSpPr>
          <p:spPr>
            <a:xfrm>
              <a:off x="3707640" y="4502160"/>
              <a:ext cx="4501080" cy="11336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7e6f4"/>
                </a:gs>
                <a:gs pos="100000">
                  <a:srgbClr val="9590d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664080" y="4923720"/>
              <a:ext cx="492120" cy="351360"/>
            </a:xfrm>
            <a:prstGeom prst="rightArrow">
              <a:avLst>
                <a:gd name="adj1" fmla="val 50000"/>
                <a:gd name="adj2" fmla="val 58359"/>
              </a:avLst>
            </a:prstGeom>
            <a:solidFill>
              <a:srgbClr val="edf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4295880" y="4654440"/>
            <a:ext cx="3722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295880" y="3414600"/>
            <a:ext cx="3722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295880" y="2192400"/>
            <a:ext cx="3722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f9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2388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096920" y="3381480"/>
            <a:ext cx="1041480" cy="1098360"/>
            <a:chOff x="1096920" y="3381480"/>
            <a:chExt cx="1041480" cy="1098360"/>
          </a:xfrm>
        </p:grpSpPr>
        <p:pic>
          <p:nvPicPr>
            <p:cNvPr id="247" name="" descr=""/>
            <p:cNvPicPr/>
            <p:nvPr/>
          </p:nvPicPr>
          <p:blipFill>
            <a:blip r:embed="rId1"/>
            <a:stretch/>
          </p:blipFill>
          <p:spPr>
            <a:xfrm>
              <a:off x="1096920" y="3381480"/>
              <a:ext cx="1041480" cy="105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1096920" y="3381480"/>
              <a:ext cx="1035000" cy="1052280"/>
            </a:xfrm>
            <a:prstGeom prst="ellipse">
              <a:avLst/>
            </a:prstGeom>
            <a:gradFill rotWithShape="0">
              <a:gsLst>
                <a:gs pos="0">
                  <a:srgbClr val="b0d795"/>
                </a:gs>
                <a:gs pos="50000">
                  <a:srgbClr val="ecf5e6"/>
                </a:gs>
                <a:gs pos="100000">
                  <a:srgbClr val="b0d79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1168200" y="4113000"/>
              <a:ext cx="916920" cy="366840"/>
              <a:chOff x="1168200" y="4113000"/>
              <a:chExt cx="916920" cy="366840"/>
            </a:xfrm>
          </p:grpSpPr>
          <p:grpSp>
            <p:nvGrpSpPr>
              <p:cNvPr id="250" name=""/>
              <p:cNvGrpSpPr/>
              <p:nvPr/>
            </p:nvGrpSpPr>
            <p:grpSpPr>
              <a:xfrm>
                <a:off x="1328760" y="4113000"/>
                <a:ext cx="756360" cy="346320"/>
                <a:chOff x="1328760" y="4113000"/>
                <a:chExt cx="756360" cy="346320"/>
              </a:xfrm>
            </p:grpSpPr>
            <p:sp>
              <p:nvSpPr>
                <p:cNvPr id="251" name=""/>
                <p:cNvSpPr/>
                <p:nvPr/>
              </p:nvSpPr>
              <p:spPr>
                <a:xfrm flipH="1" flipV="1" rot="3964800">
                  <a:off x="1738440" y="4011840"/>
                  <a:ext cx="13608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 flipH="1" flipV="1" rot="4780200">
                  <a:off x="1653120" y="4044960"/>
                  <a:ext cx="13608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 flipH="1" flipV="1" rot="5076000">
                  <a:off x="1601280" y="4051440"/>
                  <a:ext cx="13608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 flipV="1" rot="5608200">
                  <a:off x="1537920" y="4057200"/>
                  <a:ext cx="13608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68200" y="4116960"/>
                <a:ext cx="754560" cy="362880"/>
                <a:chOff x="1168200" y="4116960"/>
                <a:chExt cx="754560" cy="362880"/>
              </a:xfrm>
            </p:grpSpPr>
            <p:sp>
              <p:nvSpPr>
                <p:cNvPr id="256" name=""/>
                <p:cNvSpPr/>
                <p:nvPr/>
              </p:nvSpPr>
              <p:spPr>
                <a:xfrm flipH="1" flipV="1" rot="5318400">
                  <a:off x="1578960" y="4058280"/>
                  <a:ext cx="13608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flipH="1" flipV="1" rot="6133800">
                  <a:off x="1487160" y="4056480"/>
                  <a:ext cx="13608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flipH="1" flipV="1" rot="6429600">
                  <a:off x="1436760" y="4043520"/>
                  <a:ext cx="13608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 flipH="1" flipV="1" rot="6961800">
                  <a:off x="1375920" y="4023360"/>
                  <a:ext cx="13608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60" name=""/>
          <p:cNvGrpSpPr/>
          <p:nvPr/>
        </p:nvGrpSpPr>
        <p:grpSpPr>
          <a:xfrm>
            <a:off x="3060720" y="3373560"/>
            <a:ext cx="1041480" cy="1098360"/>
            <a:chOff x="3060720" y="3373560"/>
            <a:chExt cx="1041480" cy="1098360"/>
          </a:xfrm>
        </p:grpSpPr>
        <p:pic>
          <p:nvPicPr>
            <p:cNvPr id="261" name="" descr=""/>
            <p:cNvPicPr/>
            <p:nvPr/>
          </p:nvPicPr>
          <p:blipFill>
            <a:blip r:embed="rId2"/>
            <a:stretch/>
          </p:blipFill>
          <p:spPr>
            <a:xfrm>
              <a:off x="3060720" y="3373560"/>
              <a:ext cx="1041480" cy="105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3060720" y="3373560"/>
              <a:ext cx="1035000" cy="1052280"/>
            </a:xfrm>
            <a:prstGeom prst="ellipse">
              <a:avLst/>
            </a:prstGeom>
            <a:gradFill rotWithShape="0">
              <a:gsLst>
                <a:gs pos="0">
                  <a:srgbClr val="9590d4"/>
                </a:gs>
                <a:gs pos="50000">
                  <a:srgbClr val="e6e5f4"/>
                </a:gs>
                <a:gs pos="100000">
                  <a:srgbClr val="9590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3132000" y="4105080"/>
              <a:ext cx="916920" cy="366840"/>
              <a:chOff x="3132000" y="4105080"/>
              <a:chExt cx="916920" cy="3668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292560" y="4105080"/>
                <a:ext cx="756360" cy="346320"/>
                <a:chOff x="3292560" y="4105080"/>
                <a:chExt cx="756360" cy="346320"/>
              </a:xfrm>
            </p:grpSpPr>
            <p:sp>
              <p:nvSpPr>
                <p:cNvPr id="265" name=""/>
                <p:cNvSpPr/>
                <p:nvPr/>
              </p:nvSpPr>
              <p:spPr>
                <a:xfrm flipH="1" flipV="1" rot="3964800">
                  <a:off x="3702240" y="4003920"/>
                  <a:ext cx="13608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 flipH="1" flipV="1" rot="4780200">
                  <a:off x="3616920" y="4037040"/>
                  <a:ext cx="13608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 flipH="1" flipV="1" rot="5076000">
                  <a:off x="3565080" y="4043520"/>
                  <a:ext cx="13608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 flipH="1" flipV="1" rot="5608200">
                  <a:off x="3501720" y="4049280"/>
                  <a:ext cx="13608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3132000" y="4109040"/>
                <a:ext cx="754560" cy="362880"/>
                <a:chOff x="3132000" y="4109040"/>
                <a:chExt cx="754560" cy="362880"/>
              </a:xfrm>
            </p:grpSpPr>
            <p:sp>
              <p:nvSpPr>
                <p:cNvPr id="270" name=""/>
                <p:cNvSpPr/>
                <p:nvPr/>
              </p:nvSpPr>
              <p:spPr>
                <a:xfrm flipH="1" flipV="1" rot="5318400">
                  <a:off x="3542760" y="4050360"/>
                  <a:ext cx="13608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 rot="6133800">
                  <a:off x="3450960" y="4048560"/>
                  <a:ext cx="13608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 flipH="1" flipV="1" rot="6429600">
                  <a:off x="3400560" y="4035600"/>
                  <a:ext cx="13608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flipH="1" flipV="1" rot="6961800">
                  <a:off x="3339720" y="4015440"/>
                  <a:ext cx="13608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"/>
          <p:cNvGrpSpPr/>
          <p:nvPr/>
        </p:nvGrpSpPr>
        <p:grpSpPr>
          <a:xfrm>
            <a:off x="4998960" y="3384720"/>
            <a:ext cx="1041480" cy="1099800"/>
            <a:chOff x="4998960" y="3384720"/>
            <a:chExt cx="1041480" cy="1099800"/>
          </a:xfrm>
        </p:grpSpPr>
        <p:pic>
          <p:nvPicPr>
            <p:cNvPr id="275" name="" descr=""/>
            <p:cNvPicPr/>
            <p:nvPr/>
          </p:nvPicPr>
          <p:blipFill>
            <a:blip r:embed="rId3"/>
            <a:stretch/>
          </p:blipFill>
          <p:spPr>
            <a:xfrm>
              <a:off x="4998960" y="3384720"/>
              <a:ext cx="104148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4998960" y="3384720"/>
              <a:ext cx="1035000" cy="1050840"/>
            </a:xfrm>
            <a:prstGeom prst="ellipse">
              <a:avLst/>
            </a:prstGeom>
            <a:gradFill rotWithShape="0">
              <a:gsLst>
                <a:gs pos="0">
                  <a:srgbClr val="e4d578"/>
                </a:gs>
                <a:gs pos="50000">
                  <a:srgbClr val="f7f4df"/>
                </a:gs>
                <a:gs pos="100000">
                  <a:srgbClr val="e4d5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5069880" y="4115520"/>
              <a:ext cx="917280" cy="369000"/>
              <a:chOff x="5069880" y="4115520"/>
              <a:chExt cx="917280" cy="369000"/>
            </a:xfrm>
          </p:grpSpPr>
          <p:grpSp>
            <p:nvGrpSpPr>
              <p:cNvPr id="278" name=""/>
              <p:cNvGrpSpPr/>
              <p:nvPr/>
            </p:nvGrpSpPr>
            <p:grpSpPr>
              <a:xfrm>
                <a:off x="5230800" y="4115520"/>
                <a:ext cx="756360" cy="348120"/>
                <a:chOff x="5230800" y="4115520"/>
                <a:chExt cx="756360" cy="348120"/>
              </a:xfrm>
            </p:grpSpPr>
            <p:sp>
              <p:nvSpPr>
                <p:cNvPr id="279" name=""/>
                <p:cNvSpPr/>
                <p:nvPr/>
              </p:nvSpPr>
              <p:spPr>
                <a:xfrm flipH="1" flipV="1" rot="3964800">
                  <a:off x="5639400" y="401508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 flipV="1" rot="4780200">
                  <a:off x="5554440" y="404892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 flipH="1" flipV="1" rot="5076000">
                  <a:off x="5502600" y="405540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H="1" flipV="1" rot="5608200">
                  <a:off x="5439240" y="406080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5069880" y="4119840"/>
                <a:ext cx="754920" cy="364680"/>
                <a:chOff x="5069880" y="4119840"/>
                <a:chExt cx="754920" cy="364680"/>
              </a:xfrm>
            </p:grpSpPr>
            <p:sp>
              <p:nvSpPr>
                <p:cNvPr id="284" name=""/>
                <p:cNvSpPr/>
                <p:nvPr/>
              </p:nvSpPr>
              <p:spPr>
                <a:xfrm flipH="1" flipV="1" rot="5318400">
                  <a:off x="5480280" y="406188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H="1" flipV="1" rot="6133800">
                  <a:off x="5388120" y="4061160"/>
                  <a:ext cx="137520" cy="54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 flipV="1" rot="6429600">
                  <a:off x="5338080" y="404604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flipH="1" flipV="1" rot="6961800">
                  <a:off x="5276880" y="4027680"/>
                  <a:ext cx="137520" cy="54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8" name=""/>
          <p:cNvGrpSpPr/>
          <p:nvPr/>
        </p:nvGrpSpPr>
        <p:grpSpPr>
          <a:xfrm>
            <a:off x="6961320" y="3376440"/>
            <a:ext cx="1041120" cy="1099440"/>
            <a:chOff x="6961320" y="3376440"/>
            <a:chExt cx="1041120" cy="1099440"/>
          </a:xfrm>
        </p:grpSpPr>
        <p:pic>
          <p:nvPicPr>
            <p:cNvPr id="289" name="" descr=""/>
            <p:cNvPicPr/>
            <p:nvPr/>
          </p:nvPicPr>
          <p:blipFill>
            <a:blip r:embed="rId4"/>
            <a:stretch/>
          </p:blipFill>
          <p:spPr>
            <a:xfrm>
              <a:off x="6961320" y="3376440"/>
              <a:ext cx="104112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6961320" y="3376440"/>
              <a:ext cx="1034640" cy="1050840"/>
            </a:xfrm>
            <a:prstGeom prst="ellipse">
              <a:avLst/>
            </a:prstGeom>
            <a:gradFill rotWithShape="0">
              <a:gsLst>
                <a:gs pos="0">
                  <a:srgbClr val="6cd2c1"/>
                </a:gs>
                <a:gs pos="50000">
                  <a:srgbClr val="ddf3f0"/>
                </a:gs>
                <a:gs pos="100000">
                  <a:srgbClr val="6cd2c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7032240" y="4107240"/>
              <a:ext cx="916920" cy="368640"/>
              <a:chOff x="7032240" y="4107240"/>
              <a:chExt cx="916920" cy="368640"/>
            </a:xfrm>
          </p:grpSpPr>
          <p:grpSp>
            <p:nvGrpSpPr>
              <p:cNvPr id="292" name=""/>
              <p:cNvGrpSpPr/>
              <p:nvPr/>
            </p:nvGrpSpPr>
            <p:grpSpPr>
              <a:xfrm>
                <a:off x="7193160" y="4107240"/>
                <a:ext cx="756000" cy="348120"/>
                <a:chOff x="7193160" y="4107240"/>
                <a:chExt cx="756000" cy="348120"/>
              </a:xfrm>
            </p:grpSpPr>
            <p:sp>
              <p:nvSpPr>
                <p:cNvPr id="293" name=""/>
                <p:cNvSpPr/>
                <p:nvPr/>
              </p:nvSpPr>
              <p:spPr>
                <a:xfrm flipH="1" flipV="1" rot="3964800">
                  <a:off x="7601400" y="400680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 flipH="1" flipV="1" rot="4780200">
                  <a:off x="7517160" y="4041000"/>
                  <a:ext cx="137520" cy="54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 flipH="1" flipV="1" rot="5076000">
                  <a:off x="7464240" y="4047120"/>
                  <a:ext cx="137520" cy="54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 flipH="1" flipV="1" rot="5608200">
                  <a:off x="7401600" y="4052520"/>
                  <a:ext cx="137520" cy="54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7032240" y="4111560"/>
                <a:ext cx="754560" cy="364320"/>
                <a:chOff x="7032240" y="4111560"/>
                <a:chExt cx="754560" cy="364320"/>
              </a:xfrm>
            </p:grpSpPr>
            <p:sp>
              <p:nvSpPr>
                <p:cNvPr id="298" name=""/>
                <p:cNvSpPr/>
                <p:nvPr/>
              </p:nvSpPr>
              <p:spPr>
                <a:xfrm flipH="1" flipV="1" rot="5318400">
                  <a:off x="7442280" y="405360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 flipH="1" flipV="1" rot="6133800">
                  <a:off x="7350120" y="4052160"/>
                  <a:ext cx="137520" cy="54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flipH="1" flipV="1" rot="6429600">
                  <a:off x="7299360" y="4038120"/>
                  <a:ext cx="137520" cy="54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flipH="1" flipV="1" rot="6961800">
                  <a:off x="7239600" y="4019760"/>
                  <a:ext cx="137520" cy="54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2" name=""/>
          <p:cNvSpPr/>
          <p:nvPr/>
        </p:nvSpPr>
        <p:spPr>
          <a:xfrm>
            <a:off x="1612800" y="4529160"/>
            <a:ext cx="0" cy="33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857160" y="4873680"/>
            <a:ext cx="149544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44480" y="492768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b0d7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b0d7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b0d7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b0d7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093680" y="360036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49560" y="360036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997520" y="3600360"/>
            <a:ext cx="10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945480" y="3600360"/>
            <a:ext cx="10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480440" y="2954160"/>
            <a:ext cx="0" cy="33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6616440" y="2952720"/>
            <a:ext cx="16318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629400" y="167652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6cd2c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6cd2c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6cd2c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6cd2c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581280" y="2954160"/>
            <a:ext cx="0" cy="33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2657160" y="2952720"/>
            <a:ext cx="17715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730600" y="167652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590d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590d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590d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590d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495760" y="4529160"/>
            <a:ext cx="0" cy="33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4684680" y="4863960"/>
            <a:ext cx="15876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649760" y="492768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e4d5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e4d5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e4d5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e4d5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5"/>
          <a:stretch/>
        </p:blipFill>
        <p:spPr>
          <a:xfrm>
            <a:off x="1204920" y="3392640"/>
            <a:ext cx="825480" cy="37764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6"/>
          <a:stretch/>
        </p:blipFill>
        <p:spPr>
          <a:xfrm>
            <a:off x="3181320" y="3382920"/>
            <a:ext cx="825480" cy="3780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7"/>
          <a:stretch/>
        </p:blipFill>
        <p:spPr>
          <a:xfrm>
            <a:off x="5114880" y="3402000"/>
            <a:ext cx="825480" cy="37800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8"/>
          <a:stretch/>
        </p:blipFill>
        <p:spPr>
          <a:xfrm>
            <a:off x="7077240" y="3392640"/>
            <a:ext cx="825480" cy="377640"/>
          </a:xfrm>
          <a:prstGeom prst="rect">
            <a:avLst/>
          </a:prstGeom>
          <a:ln w="0">
            <a:noFill/>
          </a:ln>
        </p:spPr>
      </p:pic>
      <p:grpSp>
        <p:nvGrpSpPr>
          <p:cNvPr id="322" name=""/>
          <p:cNvGrpSpPr/>
          <p:nvPr/>
        </p:nvGrpSpPr>
        <p:grpSpPr>
          <a:xfrm>
            <a:off x="0" y="3130200"/>
            <a:ext cx="9144000" cy="1537200"/>
            <a:chOff x="0" y="3130200"/>
            <a:chExt cx="9144000" cy="1537200"/>
          </a:xfrm>
        </p:grpSpPr>
        <p:sp>
          <p:nvSpPr>
            <p:cNvPr id="323" name=""/>
            <p:cNvSpPr/>
            <p:nvPr/>
          </p:nvSpPr>
          <p:spPr>
            <a:xfrm>
              <a:off x="0" y="3860640"/>
              <a:ext cx="990720" cy="7632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077320" y="3854520"/>
              <a:ext cx="1066680" cy="7632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195640" y="3860640"/>
              <a:ext cx="795240" cy="7488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189320" y="3860640"/>
              <a:ext cx="725760" cy="7488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129360" y="3860640"/>
              <a:ext cx="755640" cy="7488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919240" y="3220920"/>
              <a:ext cx="1319400" cy="1446480"/>
            </a:xfrm>
            <a:prstGeom prst="blockArc">
              <a:avLst>
                <a:gd name="adj1" fmla="val 10846612"/>
                <a:gd name="adj2" fmla="val 21553388"/>
                <a:gd name="adj3" fmla="val 5616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821640" y="3220920"/>
              <a:ext cx="1319040" cy="1446480"/>
            </a:xfrm>
            <a:prstGeom prst="blockArc">
              <a:avLst>
                <a:gd name="adj1" fmla="val 10846612"/>
                <a:gd name="adj2" fmla="val 21553388"/>
                <a:gd name="adj3" fmla="val 5616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957240" y="3129840"/>
              <a:ext cx="1319400" cy="1446120"/>
            </a:xfrm>
            <a:prstGeom prst="blockArc">
              <a:avLst>
                <a:gd name="adj1" fmla="val 10846612"/>
                <a:gd name="adj2" fmla="val 21553388"/>
                <a:gd name="adj3" fmla="val 5616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4862520" y="3129840"/>
              <a:ext cx="1319040" cy="1446120"/>
            </a:xfrm>
            <a:prstGeom prst="blockArc">
              <a:avLst>
                <a:gd name="adj1" fmla="val 10846612"/>
                <a:gd name="adj2" fmla="val 21553388"/>
                <a:gd name="adj3" fmla="val 5616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f9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2388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"/>
          <p:cNvSpPr/>
          <p:nvPr/>
        </p:nvSpPr>
        <p:spPr>
          <a:xfrm>
            <a:off x="1523880" y="5594400"/>
            <a:ext cx="6073920" cy="693720"/>
          </a:xfrm>
          <a:prstGeom prst="roundRect">
            <a:avLst>
              <a:gd name="adj" fmla="val 27481"/>
            </a:avLst>
          </a:prstGeom>
          <a:solidFill>
            <a:srgbClr val="00008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27200" y="2200320"/>
            <a:ext cx="1968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lease write down of contents explanation for Business Are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2874960" y="1819440"/>
            <a:ext cx="1658880" cy="1655640"/>
          </a:xfrm>
          <a:prstGeom prst="rtTriangle">
            <a:avLst/>
          </a:prstGeom>
          <a:gradFill rotWithShape="0">
            <a:gsLst>
              <a:gs pos="0">
                <a:srgbClr val="b0d795"/>
              </a:gs>
              <a:gs pos="100000">
                <a:srgbClr val="c9e3b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564080" y="1523880"/>
            <a:ext cx="0" cy="405792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584600" y="1819440"/>
            <a:ext cx="1660680" cy="1655640"/>
          </a:xfrm>
          <a:prstGeom prst="rtTriangle">
            <a:avLst/>
          </a:prstGeom>
          <a:gradFill rotWithShape="0">
            <a:gsLst>
              <a:gs pos="0">
                <a:srgbClr val="9590d4"/>
              </a:gs>
              <a:gs pos="100000">
                <a:srgbClr val="c4c1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rot="5400000">
            <a:off x="4587120" y="3536280"/>
            <a:ext cx="1657440" cy="1658880"/>
          </a:xfrm>
          <a:prstGeom prst="rtTriangle">
            <a:avLst/>
          </a:prstGeom>
          <a:gradFill rotWithShape="0">
            <a:gsLst>
              <a:gs pos="0">
                <a:srgbClr val="6cd2c1"/>
              </a:gs>
              <a:gs pos="100000">
                <a:srgbClr val="a9e4d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 rot="16200000">
            <a:off x="2876040" y="3535920"/>
            <a:ext cx="1657440" cy="1659240"/>
          </a:xfrm>
          <a:prstGeom prst="rtTriangle">
            <a:avLst/>
          </a:prstGeom>
          <a:gradFill rotWithShape="0">
            <a:gsLst>
              <a:gs pos="0">
                <a:srgbClr val="e4d578"/>
              </a:gs>
              <a:gs pos="100000">
                <a:srgbClr val="ede4a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319480" y="3508200"/>
            <a:ext cx="4489200" cy="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694600" y="301788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usiness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616280" y="301788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usiness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616280" y="361332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usiness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736720" y="361332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usiness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271600" y="5622840"/>
            <a:ext cx="461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Please write down of contents explanation for Business Are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437080" y="2200320"/>
            <a:ext cx="1968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lease write down of contents explanation for Business Are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627200" y="4319640"/>
            <a:ext cx="1968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lease write down of contents explanation for Business Are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437080" y="4319640"/>
            <a:ext cx="1968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lease write down of contents explanation for Business Are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06:28:43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6:21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