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3"/>
          <a:stretch/>
        </p:blipFill>
        <p:spPr>
          <a:xfrm>
            <a:off x="0" y="3905280"/>
            <a:ext cx="9142560" cy="2952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4"/>
          <a:stretch/>
        </p:blipFill>
        <p:spPr>
          <a:xfrm>
            <a:off x="0" y="3905280"/>
            <a:ext cx="1866960" cy="295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"/>
          <p:cNvPicPr/>
          <p:nvPr/>
        </p:nvPicPr>
        <p:blipFill>
          <a:blip r:embed="rId3"/>
          <a:stretch/>
        </p:blipFill>
        <p:spPr>
          <a:xfrm>
            <a:off x="0" y="2438280"/>
            <a:ext cx="9142560" cy="44197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9" descr=""/>
          <p:cNvPicPr/>
          <p:nvPr/>
        </p:nvPicPr>
        <p:blipFill>
          <a:blip r:embed="rId4"/>
          <a:stretch/>
        </p:blipFill>
        <p:spPr>
          <a:xfrm>
            <a:off x="6896160" y="0"/>
            <a:ext cx="2247840" cy="310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2495520" cy="6856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0" y="5705640"/>
            <a:ext cx="9142560" cy="115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2705040" cy="146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419200" cy="6856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0" y="1440"/>
            <a:ext cx="249552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"/>
          <p:cNvPicPr/>
          <p:nvPr/>
        </p:nvPicPr>
        <p:blipFill>
          <a:blip r:embed="rId3"/>
          <a:stretch/>
        </p:blipFill>
        <p:spPr>
          <a:xfrm>
            <a:off x="-33480" y="0"/>
            <a:ext cx="2014560" cy="6856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4"/>
          <a:stretch/>
        </p:blipFill>
        <p:spPr>
          <a:xfrm>
            <a:off x="0" y="5638680"/>
            <a:ext cx="9142560" cy="1219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5"/>
          <a:stretch/>
        </p:blipFill>
        <p:spPr>
          <a:xfrm>
            <a:off x="1658880" y="1440"/>
            <a:ext cx="748512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:/Documents and Settings/Administrator/桌面/QQ截图未命名.gifQQ截图未命名"/>
          <p:cNvPicPr/>
          <p:nvPr/>
        </p:nvPicPr>
        <p:blipFill>
          <a:blip r:embed="rId2"/>
          <a:stretch/>
        </p:blipFill>
        <p:spPr>
          <a:xfrm rot="21360000">
            <a:off x="912960" y="2819160"/>
            <a:ext cx="3173400" cy="31496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14360" y="45720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光棍节红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 rot="21180000">
            <a:off x="3556800" y="403848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文鼎火柴体"/>
              </a:rPr>
              <a:t>欢乐光棍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QQ截图未命名"/>
          <p:cNvPicPr/>
          <p:nvPr/>
        </p:nvPicPr>
        <p:blipFill>
          <a:blip r:embed="rId2"/>
          <a:stretch/>
        </p:blipFill>
        <p:spPr>
          <a:xfrm rot="21000000">
            <a:off x="269640" y="177480"/>
            <a:ext cx="1709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4"/>
          <p:cNvSpPr/>
          <p:nvPr/>
        </p:nvSpPr>
        <p:spPr>
          <a:xfrm>
            <a:off x="2703600" y="304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我是光棍我怕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295280" y="1565280"/>
            <a:ext cx="6859800" cy="448308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正文正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QQ截图未命名"/>
          <p:cNvPicPr/>
          <p:nvPr/>
        </p:nvPicPr>
        <p:blipFill>
          <a:blip r:embed="rId2"/>
          <a:stretch/>
        </p:blipFill>
        <p:spPr>
          <a:xfrm rot="1440000">
            <a:off x="226800" y="5792400"/>
            <a:ext cx="939600" cy="933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1631520" y="8380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做个快乐的光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609480" y="1828800"/>
            <a:ext cx="3986280" cy="6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38360" y="2743200"/>
            <a:ext cx="3985920" cy="68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890640" y="3733920"/>
            <a:ext cx="3986280" cy="68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1042920" y="4648320"/>
            <a:ext cx="3986280" cy="68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64080" y="457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光棍节的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2592360" y="990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4"/>
          <p:cNvSpPr/>
          <p:nvPr/>
        </p:nvSpPr>
        <p:spPr>
          <a:xfrm>
            <a:off x="231840" y="6167520"/>
            <a:ext cx="10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1707480" y="457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光棍节活动安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2135160" y="1447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QQ截图未命名"/>
          <p:cNvPicPr/>
          <p:nvPr/>
        </p:nvPicPr>
        <p:blipFill>
          <a:blip r:embed="rId1"/>
          <a:stretch/>
        </p:blipFill>
        <p:spPr>
          <a:xfrm rot="1140000">
            <a:off x="303120" y="5640480"/>
            <a:ext cx="10861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1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7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