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9D4-8F0F-47C5-ABAE-7780D4F6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633-AEE3-4E51-B03F-7E004AC1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1DB-A18C-472F-874D-D51ECAD3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06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06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B1B-F0FC-4BE5-888B-4034E7B2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449D-CB1F-48DE-A503-D9304362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FCC4-38AE-4AD9-A05D-0EBECB8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2D2-53E3-44A1-AAEC-4DA01477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62EB-0883-48E6-8A64-BEED8D8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1D1E-4F36-452E-8603-709B22F1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4797-325C-4D2E-A2D8-CE8FFC69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B45A-DE9D-48CC-8CFB-E56D8EC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9C3-683C-4838-A4CF-9A8B7ACA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1191-B5C2-47EE-8E8A-65AD63D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D155-E3F0-49ED-874D-6ADF8811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760E-9ED3-4CE8-9C0D-4E495456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F8A-F6CE-477A-B83B-D367E122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59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06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59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06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0424-3046-42A5-949C-5503BA47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A71-8EFC-4AC3-99CD-F84373D3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1AA-5E1F-4507-845A-DBA40D04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218-2554-45BF-B8B1-F47B614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490-73E2-48AB-95DD-3AB3C146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9BA-D717-4284-8B1F-C9BFA5D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F76-B30C-4578-A183-E7C4774A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059-C1D4-4561-A5AD-CA357F9E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240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24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924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924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924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924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4EC-7ACB-40D9-BBC2-33333649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828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6e7c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131B-8E96-43BE-93B0-57708D3E0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f7ec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240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40e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9240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0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9240e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19240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19240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828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CHECKERED HARMONY</a:t>
            </a:r>
            <a:endParaRPr b="1" lang="en-US" sz="3600" spc="-1" strike="noStrike">
              <a:solidFill>
                <a:srgbClr val="f6e7c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f7ec"/>
                </a:solidFill>
                <a:latin typeface="Arial"/>
              </a:rPr>
              <a:t>Your Subtitle Goes Here</a:t>
            </a: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89080" y="6094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际象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会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240e"/>
                </a:solidFill>
                <a:latin typeface="Arial"/>
              </a:rPr>
              <a:t>Your Topic Goes Here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24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240e"/>
                </a:solidFill>
                <a:latin typeface="Arial"/>
              </a:rPr>
              <a:t>Your Topic Goes Here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3123720"/>
            <a:ext cx="3581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Transitional</a:t>
            </a:r>
            <a:br>
              <a:rPr sz="3600"/>
            </a:b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Page</a:t>
            </a:r>
            <a:endParaRPr b="1" lang="en-US" sz="3600" spc="-1" strike="noStrike">
              <a:solidFill>
                <a:srgbClr val="f6e7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240e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A6F-816E-488A-9A36-E6A24D0766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1" lang="en-US" sz="48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www.animationfactory.com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8120" y="20001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72200" y="441972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172200" y="20001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74680" y="2514600"/>
            <a:ext cx="2544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2:58:36Z</dcterms:created>
  <dc:creator>幻灯片之家：www.eeppt.com</dc:creator>
  <dc:description/>
  <cp:keywords>幻灯片之家：www.eeppt.com</cp:keywords>
  <dc:language>en-US</dc:language>
  <cp:lastModifiedBy/>
  <dcterms:modified xsi:type="dcterms:W3CDTF">2015-09-18T13:18:5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