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AAC-6EE6-4948-A0AE-0B6CBC7A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F2D-B2D3-49B3-AC4F-0569DDC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CB7-ABD2-40AD-886D-0035B2D3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0E8-9D7C-4638-81D8-099643D9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E5FB-7597-44CC-90C2-94BF971A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2EC2-5957-4E59-8892-36B8F1BE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7C20-4263-4F9A-B1BF-A9923119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2288-B827-440C-958F-5D9B72B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D9DE-8BAC-4A71-87AA-60A568B6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E417-FF61-4AD7-91AE-7F7E240C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C1E3-9106-4BCC-A546-09BF1A89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E64-A256-4A77-B566-98E692B9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2786-0189-4308-AC7C-F5420D08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C8E1-8E70-4DEA-BD92-D08E94F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4A2E-2396-495E-9242-D1DDC421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F9B6-421E-4507-A5F6-492D2794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8718-065F-445A-B7CE-677EF977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BE9-BD0D-4F3F-BEF3-22781B17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FD1-EB87-4C32-A1E2-CEB42DB7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2FA-208B-4416-A2B6-EC28F6D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D37-9637-41EE-B7B2-BAA35E05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CAD-B085-4A45-AF24-A6CBBE0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EBA-3A5E-4091-9575-C0C7995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274-5D4F-4361-9979-A7EA710F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7F70-AC6A-4A1C-BEDA-3F8EFD6CFA3C}" type="slidenum"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" y="4914720"/>
            <a:ext cx="62276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C5AC-A5DF-4128-9CFF-2CB962D7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66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9966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00" y="4914720"/>
            <a:ext cx="765648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高清棒球图片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模板打包下载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800" y="4365720"/>
            <a:ext cx="62276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2BA-DE72-4185-BF74-2A45F54EBB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54:5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2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