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647-190A-4DC4-9E52-6DAF9BBA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C61-EE12-49A5-8C38-F9F08B6E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9EC9-146A-44F1-A55D-2F9559DF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E6E-48D8-475D-AD24-EB2A5E9E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AD3-47BE-45F9-859A-1410D45A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182-6DCB-44A1-9D4B-66D29F78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3047-A761-422A-B732-126670A6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E04A-0925-4FB8-BAE6-C54E5164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D32F-3DFA-4720-9633-A72D7800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746-90EE-4644-AEB3-02E32CE4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3C8-A947-4497-BF3E-2F104292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C75-EA15-479B-949B-48E954AF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AA38-D1BE-4545-A4BE-3AF1CF9C23B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D058-9079-4012-A084-265248B32E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28177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共青团</a:t>
            </a:r>
            <a:r>
              <a:rPr b="0" lang="en-US" sz="35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XXXXXXXXXXXX</a:t>
            </a:r>
            <a:r>
              <a:rPr b="0" lang="zh-CN" sz="35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委员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-3240" y="3392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第一次团员代表大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104840" y="2652840"/>
            <a:ext cx="697860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7"/>
          <p:cNvSpPr/>
          <p:nvPr/>
        </p:nvSpPr>
        <p:spPr>
          <a:xfrm>
            <a:off x="1084320" y="4307040"/>
            <a:ext cx="69786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826800" y="43322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2015.07.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0"/>
          <p:cNvSpPr/>
          <p:nvPr/>
        </p:nvSpPr>
        <p:spPr>
          <a:xfrm>
            <a:off x="1082520" y="4446720"/>
            <a:ext cx="2594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五角星 11"/>
          <p:cNvSpPr/>
          <p:nvPr/>
        </p:nvSpPr>
        <p:spPr>
          <a:xfrm>
            <a:off x="3800520" y="4421160"/>
            <a:ext cx="193680" cy="1922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五角星 12"/>
          <p:cNvSpPr/>
          <p:nvPr/>
        </p:nvSpPr>
        <p:spPr>
          <a:xfrm>
            <a:off x="5203800" y="4419720"/>
            <a:ext cx="192240" cy="1918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14"/>
          <p:cNvSpPr/>
          <p:nvPr/>
        </p:nvSpPr>
        <p:spPr>
          <a:xfrm>
            <a:off x="1714680" y="4581360"/>
            <a:ext cx="1963440" cy="1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16"/>
          <p:cNvSpPr/>
          <p:nvPr/>
        </p:nvSpPr>
        <p:spPr>
          <a:xfrm>
            <a:off x="5487840" y="4437000"/>
            <a:ext cx="2594160" cy="1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7"/>
          <p:cNvSpPr/>
          <p:nvPr/>
        </p:nvSpPr>
        <p:spPr>
          <a:xfrm>
            <a:off x="5487840" y="4573440"/>
            <a:ext cx="19638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035600" y="971640"/>
            <a:ext cx="1191960" cy="1171440"/>
          </a:xfrm>
          <a:prstGeom prst="rect">
            <a:avLst/>
          </a:prstGeom>
          <a:ln w="0">
            <a:noFill/>
          </a:ln>
        </p:spPr>
      </p:pic>
      <p:sp>
        <p:nvSpPr>
          <p:cNvPr id="53" name="直接连接符 15"/>
          <p:cNvSpPr/>
          <p:nvPr/>
        </p:nvSpPr>
        <p:spPr>
          <a:xfrm>
            <a:off x="3600360" y="4734000"/>
            <a:ext cx="196380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72640" y="2271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共青团代表大会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-19080" y="777960"/>
            <a:ext cx="915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共青团</a:t>
            </a:r>
            <a:r>
              <a:rPr b="0" lang="en-US" sz="16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XXXXXXXXXXXX</a:t>
            </a:r>
            <a:r>
              <a:rPr b="0" lang="zh-CN" sz="16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委员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-6480" y="1023840"/>
            <a:ext cx="91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第一次团员代表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4"/>
          <p:cNvSpPr/>
          <p:nvPr/>
        </p:nvSpPr>
        <p:spPr>
          <a:xfrm>
            <a:off x="-9360" y="6724800"/>
            <a:ext cx="3687480" cy="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17"/>
          <p:cNvSpPr/>
          <p:nvPr/>
        </p:nvSpPr>
        <p:spPr>
          <a:xfrm>
            <a:off x="5392800" y="6724800"/>
            <a:ext cx="3741840" cy="144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4229280" y="66600"/>
            <a:ext cx="657000" cy="646200"/>
          </a:xfrm>
          <a:prstGeom prst="rect">
            <a:avLst/>
          </a:prstGeom>
          <a:ln w="0">
            <a:noFill/>
          </a:ln>
        </p:spPr>
      </p:pic>
      <p:sp>
        <p:nvSpPr>
          <p:cNvPr id="61" name="直接连接符 20"/>
          <p:cNvSpPr/>
          <p:nvPr/>
        </p:nvSpPr>
        <p:spPr>
          <a:xfrm>
            <a:off x="-28440" y="388800"/>
            <a:ext cx="3871800" cy="1440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21"/>
          <p:cNvSpPr/>
          <p:nvPr/>
        </p:nvSpPr>
        <p:spPr>
          <a:xfrm>
            <a:off x="5345280" y="430200"/>
            <a:ext cx="3790800" cy="144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五角星 11"/>
          <p:cNvSpPr/>
          <p:nvPr/>
        </p:nvSpPr>
        <p:spPr>
          <a:xfrm>
            <a:off x="3760920" y="295200"/>
            <a:ext cx="191880" cy="1936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五角星 12"/>
          <p:cNvSpPr/>
          <p:nvPr/>
        </p:nvSpPr>
        <p:spPr>
          <a:xfrm>
            <a:off x="5192640" y="325440"/>
            <a:ext cx="192240" cy="1922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8"/>
          <p:cNvSpPr/>
          <p:nvPr/>
        </p:nvSpPr>
        <p:spPr>
          <a:xfrm>
            <a:off x="1440" y="1944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正式会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9"/>
          <p:cNvSpPr/>
          <p:nvPr/>
        </p:nvSpPr>
        <p:spPr>
          <a:xfrm>
            <a:off x="11160" y="3483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宣读开幕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10"/>
          <p:cNvSpPr/>
          <p:nvPr/>
        </p:nvSpPr>
        <p:spPr>
          <a:xfrm>
            <a:off x="2828880" y="816120"/>
            <a:ext cx="0" cy="6411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22"/>
          <p:cNvSpPr/>
          <p:nvPr/>
        </p:nvSpPr>
        <p:spPr>
          <a:xfrm>
            <a:off x="6276960" y="816120"/>
            <a:ext cx="0" cy="6411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28"/>
          <p:cNvSpPr/>
          <p:nvPr/>
        </p:nvSpPr>
        <p:spPr>
          <a:xfrm>
            <a:off x="1144440" y="3030480"/>
            <a:ext cx="69789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29"/>
          <p:cNvSpPr/>
          <p:nvPr/>
        </p:nvSpPr>
        <p:spPr>
          <a:xfrm>
            <a:off x="1144440" y="4964040"/>
            <a:ext cx="69789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4004280" y="65404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富国 强人 超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A40A-6355-40CE-B423-3A66283D0B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024-191E-46D3-8B0E-4084FED31C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0" y="28177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共青团</a:t>
            </a:r>
            <a:r>
              <a:rPr b="0" lang="en-US" sz="35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XXXXXXXXXXXX</a:t>
            </a:r>
            <a:r>
              <a:rPr b="0" lang="zh-CN" sz="35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委员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-3240" y="339264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第一次团员代表大会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6"/>
          <p:cNvSpPr/>
          <p:nvPr/>
        </p:nvSpPr>
        <p:spPr>
          <a:xfrm>
            <a:off x="1104840" y="2652840"/>
            <a:ext cx="697860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"/>
          <p:cNvSpPr/>
          <p:nvPr/>
        </p:nvSpPr>
        <p:spPr>
          <a:xfrm>
            <a:off x="1084320" y="4307040"/>
            <a:ext cx="69786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3826800" y="43322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2015.06.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0"/>
          <p:cNvSpPr/>
          <p:nvPr/>
        </p:nvSpPr>
        <p:spPr>
          <a:xfrm>
            <a:off x="1082520" y="4446720"/>
            <a:ext cx="25941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五角星 11"/>
          <p:cNvSpPr/>
          <p:nvPr/>
        </p:nvSpPr>
        <p:spPr>
          <a:xfrm>
            <a:off x="3800520" y="4421160"/>
            <a:ext cx="193680" cy="1922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五角星 12"/>
          <p:cNvSpPr/>
          <p:nvPr/>
        </p:nvSpPr>
        <p:spPr>
          <a:xfrm>
            <a:off x="5203800" y="4419720"/>
            <a:ext cx="192240" cy="1918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14"/>
          <p:cNvSpPr/>
          <p:nvPr/>
        </p:nvSpPr>
        <p:spPr>
          <a:xfrm>
            <a:off x="1714680" y="4581360"/>
            <a:ext cx="1963440" cy="1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16"/>
          <p:cNvSpPr/>
          <p:nvPr/>
        </p:nvSpPr>
        <p:spPr>
          <a:xfrm>
            <a:off x="5487840" y="4437000"/>
            <a:ext cx="2594160" cy="1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17"/>
          <p:cNvSpPr/>
          <p:nvPr/>
        </p:nvSpPr>
        <p:spPr>
          <a:xfrm>
            <a:off x="5487840" y="4573440"/>
            <a:ext cx="19638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3986280" y="971640"/>
            <a:ext cx="1192320" cy="1171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5"/>
          <p:cNvSpPr/>
          <p:nvPr/>
        </p:nvSpPr>
        <p:spPr>
          <a:xfrm>
            <a:off x="0" y="50799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结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4004280" y="65404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方正大标宋_GBK"/>
                <a:ea typeface="方正大标宋_GBK"/>
              </a:rPr>
              <a:t>富国 强人 超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200320"/>
            <a:ext cx="592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8T16:33:00Z</dcterms:created>
  <dc:creator>幻灯片之家：www.eeppt.com</dc:creator>
  <dc:description/>
  <cp:keywords>幻灯片之家：www.eeppt.com</cp:keywords>
  <dc:language>en-US</dc:language>
  <cp:lastModifiedBy/>
  <dcterms:modified xsi:type="dcterms:W3CDTF">2015-09-18T13:16:28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