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3AA-DF77-48BA-8382-4B3AEFE7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C9A-22B6-4060-B829-746293F5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63A-E963-40FC-AFDF-AB7DB151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BB3-DE09-4E5F-990B-8F60B011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D75-2D2C-4B92-9417-A640B62C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F22-489B-4A0B-ADE9-60F7B876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C23-BD92-41F7-B98D-BF45EEAF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CB7-EF6A-4AE2-AF1C-DD77DB34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4C5-FCAB-4757-8505-2040AFA9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7B1-F5F2-4970-87BD-F0B21088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68F-7F90-4903-A253-2E4DD3A2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07E-4EFE-4F6E-8AFB-40F5762A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7706-ECB0-466F-ABE5-F29BCCD0F0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1A50-CEA7-4E49-85E6-32E4EBEC87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hyperlink" Target="http://www.eeppt.com/moban/" TargetMode="External"/><Relationship Id="rId1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2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49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标题 1"/>
          <p:cNvSpPr/>
          <p:nvPr/>
        </p:nvSpPr>
        <p:spPr>
          <a:xfrm>
            <a:off x="2824200" y="2125800"/>
            <a:ext cx="3786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此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520" y="5329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9040" y="7430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简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8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73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76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80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83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87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90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94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97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105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1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3640" y="1410840"/>
            <a:ext cx="2797920" cy="3502440"/>
            <a:chOff x="143640" y="1410840"/>
            <a:chExt cx="2797920" cy="3502440"/>
          </a:xfrm>
        </p:grpSpPr>
        <p:sp>
          <p:nvSpPr>
            <p:cNvPr id="120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云形 54"/>
            <p:cNvSpPr/>
            <p:nvPr/>
          </p:nvSpPr>
          <p:spPr>
            <a:xfrm rot="20772600">
              <a:off x="193320" y="1557360"/>
              <a:ext cx="1300680" cy="576000"/>
            </a:xfrm>
            <a:custGeom>
              <a:avLst/>
              <a:gdLst>
                <a:gd name="textAreaLeft" fmla="*/ 0 w 1300680"/>
                <a:gd name="textAreaRight" fmla="*/ 1301040 w 13006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1300318" h="576064">
                  <a:moveTo>
                    <a:pt x="117389" y="191621"/>
                  </a:moveTo>
                  <a:lnTo>
                    <a:pt x="117388" y="191621"/>
                  </a:lnTo>
                  <a:arcTo wR="203265" hR="122547" stAng="10170760" swAng="7426822"/>
                  <a:lnTo>
                    <a:pt x="362766" y="37036"/>
                  </a:lnTo>
                  <a:arcTo wR="160523" hR="96904" stAng="-8646152" swAng="5396732"/>
                  <a:lnTo>
                    <a:pt x="529744" y="22628"/>
                  </a:lnTo>
                  <a:arcTo wR="131386" hR="79275" stAng="-8748484" swAng="5983389"/>
                  <a:lnTo>
                    <a:pt x="682988" y="13354"/>
                  </a:lnTo>
                  <a:arcTo wR="146195" hR="87943" stAng="-7859162" swAng="7034516"/>
                  <a:lnTo>
                    <a:pt x="886133" y="58169"/>
                  </a:lnTo>
                  <a:arcTo wR="160523" hR="96984" stAng="-4722537" swAng="6541625"/>
                  <a:lnTo>
                    <a:pt x="982253" y="221904"/>
                  </a:lnTo>
                  <a:arcTo wR="203927" hR="122947" stAng="-2776037" swAng="7816159"/>
                  <a:lnTo>
                    <a:pt x="893254" y="451106"/>
                  </a:lnTo>
                  <a:arcTo wR="174128" hR="104905" stAng="37496" swAng="6842007"/>
                  <a:lnTo>
                    <a:pt x="672739" y="550316"/>
                  </a:lnTo>
                  <a:arcTo wR="203235" hR="122880" stAng="1347091" swAng="6910357"/>
                  <a:lnTo>
                    <a:pt x="392679" y="583410"/>
                  </a:lnTo>
                  <a:arcTo wR="232372" hR="140589" stAng="3974559" swAng="4542652"/>
                  <a:lnTo>
                    <a:pt x="190756" y="558783"/>
                  </a:lnTo>
                  <a:arcTo wR="131236" hR="78915" stAng="5103498" swAng="8804103"/>
                  <a:lnTo>
                    <a:pt x="127799" y="408647"/>
                  </a:lnTo>
                  <a:arcTo wR="130784" hR="79275" stAng="6790288" swAng="9151172"/>
                  <a:close/>
                </a:path>
              </a:pathLst>
            </a:custGeom>
            <a:solidFill>
              <a:srgbClr val="e387ed"/>
            </a:solidFill>
            <a:ln w="12600">
              <a:solidFill>
                <a:srgbClr val="a71c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 1"/>
            <p:cNvSpPr/>
            <p:nvPr/>
          </p:nvSpPr>
          <p:spPr>
            <a:xfrm>
              <a:off x="533160" y="3862440"/>
              <a:ext cx="2408400" cy="1050840"/>
            </a:xfrm>
            <a:custGeom>
              <a:avLst/>
              <a:gdLst>
                <a:gd name="textAreaLeft" fmla="*/ 0 w 2408400"/>
                <a:gd name="textAreaRight" fmla="*/ 2408400 w 2408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390581" h="1733525">
                  <a:moveTo>
                    <a:pt x="0" y="627267"/>
                  </a:moveTo>
                  <a:cubicBezTo>
                    <a:pt x="0" y="538602"/>
                    <a:pt x="71877" y="466725"/>
                    <a:pt x="160542" y="466725"/>
                  </a:cubicBezTo>
                  <a:cubicBezTo>
                    <a:pt x="610260" y="352425"/>
                    <a:pt x="1641002" y="0"/>
                    <a:pt x="2328845" y="0"/>
                  </a:cubicBezTo>
                  <a:cubicBezTo>
                    <a:pt x="2417510" y="0"/>
                    <a:pt x="2384612" y="538602"/>
                    <a:pt x="2384612" y="627267"/>
                  </a:cubicBezTo>
                  <a:lnTo>
                    <a:pt x="2384612" y="1572983"/>
                  </a:lnTo>
                  <a:cubicBezTo>
                    <a:pt x="2384612" y="1661648"/>
                    <a:pt x="2312735" y="1733525"/>
                    <a:pt x="2224070" y="1733525"/>
                  </a:cubicBezTo>
                  <a:lnTo>
                    <a:pt x="160542" y="1733525"/>
                  </a:lnTo>
                  <a:cubicBezTo>
                    <a:pt x="71877" y="1733525"/>
                    <a:pt x="0" y="1661648"/>
                    <a:pt x="0" y="1572983"/>
                  </a:cubicBezTo>
                  <a:lnTo>
                    <a:pt x="0" y="627267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083760" y="1410840"/>
            <a:ext cx="2797920" cy="3502440"/>
            <a:chOff x="3083760" y="1410840"/>
            <a:chExt cx="2797920" cy="3502440"/>
          </a:xfrm>
        </p:grpSpPr>
        <p:sp>
          <p:nvSpPr>
            <p:cNvPr id="124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云形 66"/>
            <p:cNvSpPr/>
            <p:nvPr/>
          </p:nvSpPr>
          <p:spPr>
            <a:xfrm rot="20772600">
              <a:off x="3133440" y="1557360"/>
              <a:ext cx="1300680" cy="576000"/>
            </a:xfrm>
            <a:custGeom>
              <a:avLst/>
              <a:gdLst>
                <a:gd name="textAreaLeft" fmla="*/ 0 w 1300680"/>
                <a:gd name="textAreaRight" fmla="*/ 1301040 w 13006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1300318" h="576064">
                  <a:moveTo>
                    <a:pt x="117389" y="191621"/>
                  </a:moveTo>
                  <a:lnTo>
                    <a:pt x="117388" y="191621"/>
                  </a:lnTo>
                  <a:arcTo wR="203265" hR="122547" stAng="10170760" swAng="7426822"/>
                  <a:lnTo>
                    <a:pt x="362766" y="37036"/>
                  </a:lnTo>
                  <a:arcTo wR="160523" hR="96904" stAng="-8646152" swAng="5396732"/>
                  <a:lnTo>
                    <a:pt x="529744" y="22628"/>
                  </a:lnTo>
                  <a:arcTo wR="131386" hR="79275" stAng="-8748484" swAng="5983389"/>
                  <a:lnTo>
                    <a:pt x="682988" y="13354"/>
                  </a:lnTo>
                  <a:arcTo wR="146195" hR="87943" stAng="-7859162" swAng="7034516"/>
                  <a:lnTo>
                    <a:pt x="886133" y="58169"/>
                  </a:lnTo>
                  <a:arcTo wR="160523" hR="96984" stAng="-4722537" swAng="6541625"/>
                  <a:lnTo>
                    <a:pt x="982253" y="221904"/>
                  </a:lnTo>
                  <a:arcTo wR="203927" hR="122947" stAng="-2776037" swAng="7816159"/>
                  <a:lnTo>
                    <a:pt x="893254" y="451106"/>
                  </a:lnTo>
                  <a:arcTo wR="174128" hR="104905" stAng="37496" swAng="6842007"/>
                  <a:lnTo>
                    <a:pt x="672739" y="550316"/>
                  </a:lnTo>
                  <a:arcTo wR="203235" hR="122880" stAng="1347091" swAng="6910357"/>
                  <a:lnTo>
                    <a:pt x="392679" y="583410"/>
                  </a:lnTo>
                  <a:arcTo wR="232372" hR="140589" stAng="3974559" swAng="4542652"/>
                  <a:lnTo>
                    <a:pt x="190756" y="558783"/>
                  </a:lnTo>
                  <a:arcTo wR="131236" hR="78915" stAng="5103498" swAng="8804103"/>
                  <a:lnTo>
                    <a:pt x="127799" y="408647"/>
                  </a:lnTo>
                  <a:arcTo wR="130784" hR="79275" stAng="6790288" swAng="9151172"/>
                  <a:close/>
                </a:path>
              </a:pathLst>
            </a:custGeom>
            <a:solidFill>
              <a:srgbClr val="76923c"/>
            </a:solidFill>
            <a:ln w="1260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圆角矩形 1"/>
            <p:cNvSpPr/>
            <p:nvPr/>
          </p:nvSpPr>
          <p:spPr>
            <a:xfrm>
              <a:off x="3473280" y="3862440"/>
              <a:ext cx="2408400" cy="1050840"/>
            </a:xfrm>
            <a:custGeom>
              <a:avLst/>
              <a:gdLst>
                <a:gd name="textAreaLeft" fmla="*/ 0 w 2408400"/>
                <a:gd name="textAreaRight" fmla="*/ 2408400 w 2408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390581" h="1733525">
                  <a:moveTo>
                    <a:pt x="0" y="627267"/>
                  </a:moveTo>
                  <a:cubicBezTo>
                    <a:pt x="0" y="538602"/>
                    <a:pt x="71877" y="466725"/>
                    <a:pt x="160542" y="466725"/>
                  </a:cubicBezTo>
                  <a:cubicBezTo>
                    <a:pt x="610260" y="352425"/>
                    <a:pt x="1641002" y="0"/>
                    <a:pt x="2328845" y="0"/>
                  </a:cubicBezTo>
                  <a:cubicBezTo>
                    <a:pt x="2417510" y="0"/>
                    <a:pt x="2384612" y="538602"/>
                    <a:pt x="2384612" y="627267"/>
                  </a:cubicBezTo>
                  <a:lnTo>
                    <a:pt x="2384612" y="1572983"/>
                  </a:lnTo>
                  <a:cubicBezTo>
                    <a:pt x="2384612" y="1661648"/>
                    <a:pt x="2312735" y="1733525"/>
                    <a:pt x="2224070" y="1733525"/>
                  </a:cubicBezTo>
                  <a:lnTo>
                    <a:pt x="160542" y="1733525"/>
                  </a:lnTo>
                  <a:cubicBezTo>
                    <a:pt x="71877" y="1733525"/>
                    <a:pt x="0" y="1661648"/>
                    <a:pt x="0" y="1572983"/>
                  </a:cubicBezTo>
                  <a:lnTo>
                    <a:pt x="0" y="627267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023880" y="1410840"/>
            <a:ext cx="2796120" cy="3502440"/>
            <a:chOff x="6023880" y="1410840"/>
            <a:chExt cx="2796120" cy="3502440"/>
          </a:xfrm>
        </p:grpSpPr>
        <p:sp>
          <p:nvSpPr>
            <p:cNvPr id="128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云形 72"/>
            <p:cNvSpPr/>
            <p:nvPr/>
          </p:nvSpPr>
          <p:spPr>
            <a:xfrm rot="20772600">
              <a:off x="6073560" y="1557000"/>
              <a:ext cx="1299600" cy="576000"/>
            </a:xfrm>
            <a:custGeom>
              <a:avLst/>
              <a:gdLst>
                <a:gd name="textAreaLeft" fmla="*/ 0 w 1299600"/>
                <a:gd name="textAreaRight" fmla="*/ 1299960 w 129960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1300318" h="576064">
                  <a:moveTo>
                    <a:pt x="117389" y="191621"/>
                  </a:moveTo>
                  <a:lnTo>
                    <a:pt x="117388" y="191621"/>
                  </a:lnTo>
                  <a:arcTo wR="203265" hR="122547" stAng="10170760" swAng="7426822"/>
                  <a:lnTo>
                    <a:pt x="362766" y="37036"/>
                  </a:lnTo>
                  <a:arcTo wR="160523" hR="96904" stAng="-8646152" swAng="5396732"/>
                  <a:lnTo>
                    <a:pt x="529744" y="22628"/>
                  </a:lnTo>
                  <a:arcTo wR="131386" hR="79275" stAng="-8748484" swAng="5983389"/>
                  <a:lnTo>
                    <a:pt x="682988" y="13354"/>
                  </a:lnTo>
                  <a:arcTo wR="146195" hR="87943" stAng="-7859162" swAng="7034516"/>
                  <a:lnTo>
                    <a:pt x="886133" y="58169"/>
                  </a:lnTo>
                  <a:arcTo wR="160523" hR="96984" stAng="-4722537" swAng="6541625"/>
                  <a:lnTo>
                    <a:pt x="982253" y="221904"/>
                  </a:lnTo>
                  <a:arcTo wR="203927" hR="122947" stAng="-2776037" swAng="7816159"/>
                  <a:lnTo>
                    <a:pt x="893254" y="451106"/>
                  </a:lnTo>
                  <a:arcTo wR="174128" hR="104905" stAng="37496" swAng="6842007"/>
                  <a:lnTo>
                    <a:pt x="672739" y="550316"/>
                  </a:lnTo>
                  <a:arcTo wR="203235" hR="122880" stAng="1347091" swAng="6910357"/>
                  <a:lnTo>
                    <a:pt x="392679" y="583410"/>
                  </a:lnTo>
                  <a:arcTo wR="232372" hR="140589" stAng="3974559" swAng="4542652"/>
                  <a:lnTo>
                    <a:pt x="190756" y="558783"/>
                  </a:lnTo>
                  <a:arcTo wR="131236" hR="78915" stAng="5103498" swAng="8804103"/>
                  <a:lnTo>
                    <a:pt x="127799" y="408647"/>
                  </a:lnTo>
                  <a:arcTo wR="130784" hR="79275" stAng="6790288" swAng="9151172"/>
                  <a:close/>
                </a:path>
              </a:pathLst>
            </a:custGeom>
            <a:solidFill>
              <a:srgbClr val="d99593"/>
            </a:solidFill>
            <a:ln w="12600">
              <a:solidFill>
                <a:srgbClr val="9537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圆角矩形 1"/>
            <p:cNvSpPr/>
            <p:nvPr/>
          </p:nvSpPr>
          <p:spPr>
            <a:xfrm>
              <a:off x="6413040" y="3862440"/>
              <a:ext cx="2406960" cy="1050840"/>
            </a:xfrm>
            <a:custGeom>
              <a:avLst/>
              <a:gdLst>
                <a:gd name="textAreaLeft" fmla="*/ 0 w 2406960"/>
                <a:gd name="textAreaRight" fmla="*/ 2407320 w 240696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390581" h="1733525">
                  <a:moveTo>
                    <a:pt x="0" y="627267"/>
                  </a:moveTo>
                  <a:cubicBezTo>
                    <a:pt x="0" y="538602"/>
                    <a:pt x="71877" y="466725"/>
                    <a:pt x="160542" y="466725"/>
                  </a:cubicBezTo>
                  <a:cubicBezTo>
                    <a:pt x="610260" y="352425"/>
                    <a:pt x="1641002" y="0"/>
                    <a:pt x="2328845" y="0"/>
                  </a:cubicBezTo>
                  <a:cubicBezTo>
                    <a:pt x="2417510" y="0"/>
                    <a:pt x="2384612" y="538602"/>
                    <a:pt x="2384612" y="627267"/>
                  </a:cubicBezTo>
                  <a:lnTo>
                    <a:pt x="2384612" y="1572983"/>
                  </a:lnTo>
                  <a:cubicBezTo>
                    <a:pt x="2384612" y="1661648"/>
                    <a:pt x="2312735" y="1733525"/>
                    <a:pt x="2224070" y="1733525"/>
                  </a:cubicBezTo>
                  <a:lnTo>
                    <a:pt x="160542" y="1733525"/>
                  </a:lnTo>
                  <a:cubicBezTo>
                    <a:pt x="71877" y="1733525"/>
                    <a:pt x="0" y="1661648"/>
                    <a:pt x="0" y="1572983"/>
                  </a:cubicBezTo>
                  <a:lnTo>
                    <a:pt x="0" y="627267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27080" y="1146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33" name="椭圆 90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91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92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93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94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5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25560" y="1560600"/>
            <a:ext cx="2076480" cy="1044360"/>
            <a:chOff x="925560" y="1560600"/>
            <a:chExt cx="2076480" cy="1044360"/>
          </a:xfrm>
        </p:grpSpPr>
        <p:sp>
          <p:nvSpPr>
            <p:cNvPr id="148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616040" y="1560600"/>
              <a:ext cx="687960" cy="595800"/>
              <a:chOff x="1616040" y="1560600"/>
              <a:chExt cx="687960" cy="595800"/>
            </a:xfrm>
          </p:grpSpPr>
          <p:sp>
            <p:nvSpPr>
              <p:cNvPr id="150" name="任意多边形 29"/>
              <p:cNvSpPr/>
              <p:nvPr/>
            </p:nvSpPr>
            <p:spPr>
              <a:xfrm>
                <a:off x="1616040" y="1730160"/>
                <a:ext cx="347400" cy="41688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416880"/>
                  <a:gd name="textAreaBottom" fmla="*/ 417240 h 416880"/>
                </a:gdLst>
                <a:ahLst/>
                <a:rect l="textAreaLeft" t="textAreaTop" r="textAreaRight" b="textAreaBottom"/>
                <a:pathLst>
                  <a:path w="1145628" h="1568011">
                    <a:moveTo>
                      <a:pt x="1011" y="0"/>
                    </a:moveTo>
                    <a:lnTo>
                      <a:pt x="1145628" y="685142"/>
                    </a:lnTo>
                    <a:lnTo>
                      <a:pt x="1145628" y="1568011"/>
                    </a:lnTo>
                    <a:lnTo>
                      <a:pt x="0" y="580039"/>
                    </a:lnTo>
                    <a:lnTo>
                      <a:pt x="10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任意多边形 30"/>
              <p:cNvSpPr/>
              <p:nvPr/>
            </p:nvSpPr>
            <p:spPr>
              <a:xfrm>
                <a:off x="1969920" y="1727640"/>
                <a:ext cx="334080" cy="428760"/>
              </a:xfrm>
              <a:custGeom>
                <a:avLst/>
                <a:gdLst>
                  <a:gd name="textAreaLeft" fmla="*/ 0 w 334080"/>
                  <a:gd name="textAreaRight" fmla="*/ 334440 w 33408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072056" h="1611448">
                    <a:moveTo>
                      <a:pt x="0" y="725214"/>
                    </a:moveTo>
                    <a:cubicBezTo>
                      <a:pt x="1541" y="1019038"/>
                      <a:pt x="771" y="1317624"/>
                      <a:pt x="2312" y="1611448"/>
                    </a:cubicBezTo>
                    <a:lnTo>
                      <a:pt x="1072056" y="588580"/>
                    </a:lnTo>
                    <a:lnTo>
                      <a:pt x="1072056" y="0"/>
                    </a:lnTo>
                    <a:lnTo>
                      <a:pt x="0" y="7252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任意多边形 31"/>
              <p:cNvSpPr/>
              <p:nvPr/>
            </p:nvSpPr>
            <p:spPr>
              <a:xfrm>
                <a:off x="1622880" y="1560600"/>
                <a:ext cx="681120" cy="356400"/>
              </a:xfrm>
              <a:custGeom>
                <a:avLst/>
                <a:gdLst>
                  <a:gd name="textAreaLeft" fmla="*/ 0 w 681120"/>
                  <a:gd name="textAreaRight" fmla="*/ 681120 w 68112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2753711" h="1639613">
                    <a:moveTo>
                      <a:pt x="1397876" y="1639613"/>
                    </a:moveTo>
                    <a:lnTo>
                      <a:pt x="0" y="777765"/>
                    </a:lnTo>
                    <a:lnTo>
                      <a:pt x="1366345" y="0"/>
                    </a:lnTo>
                    <a:lnTo>
                      <a:pt x="2753711" y="735724"/>
                    </a:lnTo>
                    <a:lnTo>
                      <a:pt x="1397876" y="16396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838080" y="2855880"/>
            <a:ext cx="2279880" cy="1285920"/>
            <a:chOff x="838080" y="2855880"/>
            <a:chExt cx="2279880" cy="1285920"/>
          </a:xfrm>
        </p:grpSpPr>
        <p:sp>
          <p:nvSpPr>
            <p:cNvPr id="154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512360" y="2855880"/>
              <a:ext cx="930600" cy="767520"/>
              <a:chOff x="1512360" y="2855880"/>
              <a:chExt cx="930600" cy="767520"/>
            </a:xfrm>
          </p:grpSpPr>
          <p:sp>
            <p:nvSpPr>
              <p:cNvPr id="156" name="任意多边形 33"/>
              <p:cNvSpPr/>
              <p:nvPr/>
            </p:nvSpPr>
            <p:spPr>
              <a:xfrm>
                <a:off x="1512360" y="3083760"/>
                <a:ext cx="474480" cy="53964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145628" h="1568011">
                    <a:moveTo>
                      <a:pt x="1011" y="0"/>
                    </a:moveTo>
                    <a:lnTo>
                      <a:pt x="1145628" y="685142"/>
                    </a:lnTo>
                    <a:lnTo>
                      <a:pt x="1145628" y="1568011"/>
                    </a:lnTo>
                    <a:lnTo>
                      <a:pt x="0" y="580039"/>
                    </a:lnTo>
                    <a:lnTo>
                      <a:pt x="10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任意多边形 34"/>
              <p:cNvSpPr/>
              <p:nvPr/>
            </p:nvSpPr>
            <p:spPr>
              <a:xfrm>
                <a:off x="1986840" y="3067560"/>
                <a:ext cx="456120" cy="554400"/>
              </a:xfrm>
              <a:custGeom>
                <a:avLst/>
                <a:gdLst>
                  <a:gd name="textAreaLeft" fmla="*/ 0 w 456120"/>
                  <a:gd name="textAreaRight" fmla="*/ 456480 w 456120"/>
                  <a:gd name="textAreaTop" fmla="*/ 0 h 554400"/>
                  <a:gd name="textAreaBottom" fmla="*/ 554760 h 554400"/>
                </a:gdLst>
                <a:ahLst/>
                <a:rect l="textAreaLeft" t="textAreaTop" r="textAreaRight" b="textAreaBottom"/>
                <a:pathLst>
                  <a:path w="1072056" h="1611448">
                    <a:moveTo>
                      <a:pt x="0" y="725214"/>
                    </a:moveTo>
                    <a:cubicBezTo>
                      <a:pt x="1541" y="1019038"/>
                      <a:pt x="771" y="1317624"/>
                      <a:pt x="2312" y="1611448"/>
                    </a:cubicBezTo>
                    <a:lnTo>
                      <a:pt x="1072056" y="588580"/>
                    </a:lnTo>
                    <a:lnTo>
                      <a:pt x="1072056" y="0"/>
                    </a:lnTo>
                    <a:lnTo>
                      <a:pt x="0" y="7252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任意多边形 35"/>
              <p:cNvSpPr/>
              <p:nvPr/>
            </p:nvSpPr>
            <p:spPr>
              <a:xfrm>
                <a:off x="1512360" y="2855880"/>
                <a:ext cx="930600" cy="461160"/>
              </a:xfrm>
              <a:custGeom>
                <a:avLst/>
                <a:gdLst>
                  <a:gd name="textAreaLeft" fmla="*/ 0 w 930600"/>
                  <a:gd name="textAreaRight" fmla="*/ 930960 w 930600"/>
                  <a:gd name="textAreaTop" fmla="*/ 0 h 461160"/>
                  <a:gd name="textAreaBottom" fmla="*/ 461520 h 461160"/>
                </a:gdLst>
                <a:ahLst/>
                <a:rect l="textAreaLeft" t="textAreaTop" r="textAreaRight" b="textAreaBottom"/>
                <a:pathLst>
                  <a:path w="2753711" h="1639613">
                    <a:moveTo>
                      <a:pt x="1397876" y="1639613"/>
                    </a:moveTo>
                    <a:lnTo>
                      <a:pt x="0" y="777765"/>
                    </a:lnTo>
                    <a:lnTo>
                      <a:pt x="1366345" y="0"/>
                    </a:lnTo>
                    <a:lnTo>
                      <a:pt x="2753711" y="735724"/>
                    </a:lnTo>
                    <a:lnTo>
                      <a:pt x="1397876" y="16396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650880" y="4141800"/>
            <a:ext cx="2622600" cy="1770120"/>
            <a:chOff x="650880" y="4141800"/>
            <a:chExt cx="2622600" cy="1770120"/>
          </a:xfrm>
        </p:grpSpPr>
        <p:sp>
          <p:nvSpPr>
            <p:cNvPr id="160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213560" y="4141800"/>
              <a:ext cx="1510920" cy="1222560"/>
              <a:chOff x="1213560" y="4141800"/>
              <a:chExt cx="1510920" cy="1222560"/>
            </a:xfrm>
          </p:grpSpPr>
          <p:sp>
            <p:nvSpPr>
              <p:cNvPr id="162" name="任意多边形 39"/>
              <p:cNvSpPr/>
              <p:nvPr/>
            </p:nvSpPr>
            <p:spPr>
              <a:xfrm>
                <a:off x="1213560" y="4495320"/>
                <a:ext cx="763560" cy="86904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869040"/>
                  <a:gd name="textAreaBottom" fmla="*/ 869400 h 869040"/>
                </a:gdLst>
                <a:ahLst/>
                <a:rect l="textAreaLeft" t="textAreaTop" r="textAreaRight" b="textAreaBottom"/>
                <a:pathLst>
                  <a:path w="1145628" h="1568011">
                    <a:moveTo>
                      <a:pt x="1011" y="0"/>
                    </a:moveTo>
                    <a:lnTo>
                      <a:pt x="1145628" y="685142"/>
                    </a:lnTo>
                    <a:lnTo>
                      <a:pt x="1145628" y="1568011"/>
                    </a:lnTo>
                    <a:lnTo>
                      <a:pt x="0" y="580039"/>
                    </a:lnTo>
                    <a:lnTo>
                      <a:pt x="10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任意多边形 40"/>
              <p:cNvSpPr/>
              <p:nvPr/>
            </p:nvSpPr>
            <p:spPr>
              <a:xfrm>
                <a:off x="1976040" y="4471200"/>
                <a:ext cx="734400" cy="893160"/>
              </a:xfrm>
              <a:custGeom>
                <a:avLst/>
                <a:gdLst>
                  <a:gd name="textAreaLeft" fmla="*/ 0 w 734400"/>
                  <a:gd name="textAreaRight" fmla="*/ 734760 w 734400"/>
                  <a:gd name="textAreaTop" fmla="*/ 0 h 893160"/>
                  <a:gd name="textAreaBottom" fmla="*/ 893520 h 893160"/>
                </a:gdLst>
                <a:ahLst/>
                <a:rect l="textAreaLeft" t="textAreaTop" r="textAreaRight" b="textAreaBottom"/>
                <a:pathLst>
                  <a:path w="1072056" h="1611448">
                    <a:moveTo>
                      <a:pt x="0" y="725214"/>
                    </a:moveTo>
                    <a:cubicBezTo>
                      <a:pt x="1541" y="1019038"/>
                      <a:pt x="771" y="1317624"/>
                      <a:pt x="2312" y="1611448"/>
                    </a:cubicBezTo>
                    <a:lnTo>
                      <a:pt x="1072056" y="588580"/>
                    </a:lnTo>
                    <a:lnTo>
                      <a:pt x="1072056" y="0"/>
                    </a:lnTo>
                    <a:lnTo>
                      <a:pt x="0" y="7252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任意多边形 41"/>
              <p:cNvSpPr/>
              <p:nvPr/>
            </p:nvSpPr>
            <p:spPr>
              <a:xfrm>
                <a:off x="1227240" y="4141800"/>
                <a:ext cx="1497240" cy="743040"/>
              </a:xfrm>
              <a:custGeom>
                <a:avLst/>
                <a:gdLst>
                  <a:gd name="textAreaLeft" fmla="*/ 0 w 1497240"/>
                  <a:gd name="textAreaRight" fmla="*/ 1497600 w 149724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2753711" h="1639613">
                    <a:moveTo>
                      <a:pt x="1397876" y="1639613"/>
                    </a:moveTo>
                    <a:lnTo>
                      <a:pt x="0" y="777765"/>
                    </a:lnTo>
                    <a:lnTo>
                      <a:pt x="1366345" y="0"/>
                    </a:lnTo>
                    <a:lnTo>
                      <a:pt x="2753711" y="735724"/>
                    </a:lnTo>
                    <a:lnTo>
                      <a:pt x="1397876" y="16396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166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173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180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90" name="椭圆 75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76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77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78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79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80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97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43"/>
          <p:cNvSpPr/>
          <p:nvPr/>
        </p:nvSpPr>
        <p:spPr>
          <a:xfrm>
            <a:off x="-312840" y="1417680"/>
            <a:ext cx="9780840" cy="996840"/>
          </a:xfrm>
          <a:custGeom>
            <a:avLst/>
            <a:gdLst>
              <a:gd name="textAreaLeft" fmla="*/ 0 w 9780840"/>
              <a:gd name="textAreaRight" fmla="*/ 9781200 w 978084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9734550" h="1356600">
                <a:moveTo>
                  <a:pt x="0" y="638175"/>
                </a:moveTo>
                <a:cubicBezTo>
                  <a:pt x="1112044" y="974725"/>
                  <a:pt x="2224088" y="1311275"/>
                  <a:pt x="3333750" y="1352550"/>
                </a:cubicBezTo>
                <a:cubicBezTo>
                  <a:pt x="4443412" y="1393825"/>
                  <a:pt x="5591175" y="1111250"/>
                  <a:pt x="6657975" y="885825"/>
                </a:cubicBezTo>
                <a:cubicBezTo>
                  <a:pt x="7724775" y="660400"/>
                  <a:pt x="9191625" y="58737"/>
                  <a:pt x="9734550" y="0"/>
                </a:cubicBezTo>
              </a:path>
            </a:pathLst>
          </a:custGeom>
          <a:noFill/>
          <a:ln w="284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206" name="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207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209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1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217" name="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218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9" name="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220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2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6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228" name="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229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0" name="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231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3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96880" y="1774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41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48" name="椭圆 106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107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108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109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110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11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263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267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271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275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79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86" name="椭圆 22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23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24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25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26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27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9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301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302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303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304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305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307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309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F52-5CFA-4824-B68E-44478A000C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317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324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55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