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42391-F18E-4C3D-8891-A0DF2ED55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EA9ED-FE6C-4119-B795-72614BB15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68C0B-B0EC-4D85-BDC4-2AE82DC20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D8CED-1936-4459-BE02-243E69BB51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3EB8A-49AD-4F2C-A423-0B1C4263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EF634-5B12-46DB-9811-4F4CFF79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B91ED-75FF-4719-95BD-DA71B547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3FD40-C77A-475E-B4DD-23EB2095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46747-F6BF-4C74-95A1-D1990500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617920"/>
            <a:ext cx="8486640" cy="74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2E20C-7E7A-4731-A7E3-5025941A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6B80A-330C-49D7-9117-459A1A71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D79FF-ECE0-4153-A361-25BABD5A7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39CDF-B33A-4CAA-9974-8E111C1F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18513-4A4D-48D4-A830-73CF1B9E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C9930-8B99-4909-A654-478B1D96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2D4B5-E744-4D81-9D15-3076F57E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3CA13-ECCF-4AC7-9283-793D9766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59007-A7DA-4896-AEC9-9CF3BD12B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52F8B-0670-45DD-9E15-5D7A6547E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69628-5676-4332-847F-0AD5AA67A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617920"/>
            <a:ext cx="8486640" cy="74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F6F90-A818-4EE7-BF9A-9DD5E0783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60632-A7F0-49D1-97C9-BEE3669FD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A3E41-B961-4604-9114-B4D82EB44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C87F1-FE90-4778-8B82-5E1CD36A8F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60000"/>
              <a:buFont typeface="Verdan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60000"/>
              <a:buFont typeface="Verdan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60000"/>
              <a:buFont typeface="Verdan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Verdan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Verdan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8f8f8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22860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f8f8f8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E61C-49F6-4464-8942-A032FCF015E7}" type="slidenum">
              <a:rPr b="1" lang="ko-KR" sz="1200" spc="-1" strike="noStrike">
                <a:solidFill>
                  <a:srgbClr val="f8f8f8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85800"/>
            <a:ext cx="9144000" cy="776160"/>
            <a:chOff x="0" y="685800"/>
            <a:chExt cx="9144000" cy="776160"/>
          </a:xfrm>
        </p:grpSpPr>
        <p:sp>
          <p:nvSpPr>
            <p:cNvPr id="5" name=""/>
            <p:cNvSpPr/>
            <p:nvPr/>
          </p:nvSpPr>
          <p:spPr>
            <a:xfrm>
              <a:off x="0" y="685800"/>
              <a:ext cx="9144000" cy="23184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917640"/>
              <a:ext cx="9144000" cy="122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75008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2472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1081080"/>
            <a:ext cx="9144000" cy="5776920"/>
            <a:chOff x="0" y="1081080"/>
            <a:chExt cx="9144000" cy="5776920"/>
          </a:xfrm>
        </p:grpSpPr>
        <p:sp>
          <p:nvSpPr>
            <p:cNvPr id="48" name=""/>
            <p:cNvSpPr/>
            <p:nvPr/>
          </p:nvSpPr>
          <p:spPr>
            <a:xfrm>
              <a:off x="0" y="3691080"/>
              <a:ext cx="9144000" cy="3166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1081080"/>
              <a:ext cx="9144000" cy="2817720"/>
              <a:chOff x="0" y="1081080"/>
              <a:chExt cx="9144000" cy="2817720"/>
            </a:xfrm>
          </p:grpSpPr>
          <p:sp>
            <p:nvSpPr>
              <p:cNvPr id="50" name=""/>
              <p:cNvSpPr/>
              <p:nvPr/>
            </p:nvSpPr>
            <p:spPr>
              <a:xfrm>
                <a:off x="0" y="3298680"/>
                <a:ext cx="9144000" cy="392400"/>
              </a:xfrm>
              <a:prstGeom prst="rect">
                <a:avLst/>
              </a:prstGeom>
              <a:gradFill rotWithShape="0">
                <a:gsLst>
                  <a:gs pos="0">
                    <a:srgbClr val="669900"/>
                  </a:gs>
                  <a:gs pos="100000">
                    <a:srgbClr val="2f4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91080"/>
                <a:ext cx="9144000" cy="2077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522360" y="1081080"/>
                <a:ext cx="1686960" cy="1204920"/>
                <a:chOff x="522360" y="1081080"/>
                <a:chExt cx="1686960" cy="12049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522360" y="1081080"/>
                  <a:ext cx="163080" cy="1634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902880" y="1380960"/>
                  <a:ext cx="163440" cy="1638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447560" y="1217520"/>
                  <a:ext cx="163080" cy="1634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284120" y="1741320"/>
                  <a:ext cx="163080" cy="1638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665000" y="2122560"/>
                  <a:ext cx="163080" cy="1634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045880" y="1741320"/>
                  <a:ext cx="163440" cy="1638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820440" y="2038320"/>
                  <a:ext cx="163080" cy="1634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" name="PlaceHolder 1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4"/>
          </p:nvPr>
        </p:nvSpPr>
        <p:spPr>
          <a:xfrm>
            <a:off x="320004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5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04A9-733E-48B7-A8DE-EA46E542E6E4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6248520"/>
            <a:ext cx="575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440" y="2286000"/>
            <a:ext cx="638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Your Company Slo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9900"/>
                </a:solidFill>
                <a:latin typeface="Verdana"/>
              </a:rPr>
              <a:t>Click to edit the title text format</a:t>
            </a: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52880" y="3857760"/>
            <a:ext cx="3657600" cy="741240"/>
            <a:chOff x="4952880" y="3857760"/>
            <a:chExt cx="3657600" cy="741240"/>
          </a:xfrm>
        </p:grpSpPr>
        <p:sp>
          <p:nvSpPr>
            <p:cNvPr id="67" name=""/>
            <p:cNvSpPr/>
            <p:nvPr/>
          </p:nvSpPr>
          <p:spPr>
            <a:xfrm>
              <a:off x="4952880" y="3857760"/>
              <a:ext cx="954000" cy="7412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57920" y="3857760"/>
              <a:ext cx="954000" cy="7412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42080" y="3857760"/>
              <a:ext cx="954000" cy="7412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56480" y="3857760"/>
              <a:ext cx="954000" cy="7412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SzPct val="60000"/>
              <a:buFont typeface="Verdana"/>
              <a:buChar char="n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ccff"/>
              </a:buClr>
              <a:buSzPct val="60000"/>
              <a:buFont typeface="Verdana"/>
              <a:buChar char="n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SzPct val="60000"/>
              <a:buFont typeface="Verdana"/>
              <a:buChar char="n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Verdan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Verdan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00"/>
                </a:solidFill>
                <a:latin typeface="Verdana"/>
                <a:ea typeface="Gulim"/>
              </a:rPr>
              <a:t>个人简历</a:t>
            </a:r>
            <a:r>
              <a:rPr b="1" lang="en-US" sz="4000" spc="-1" strike="noStrike">
                <a:solidFill>
                  <a:srgbClr val="669900"/>
                </a:solidFill>
                <a:latin typeface="Verdana"/>
                <a:ea typeface="Gulim"/>
              </a:rPr>
              <a:t>PPT</a:t>
            </a:r>
            <a:r>
              <a:rPr b="1" lang="en-US" sz="4000" spc="-1" strike="noStrike">
                <a:solidFill>
                  <a:srgbClr val="669900"/>
                </a:solidFill>
                <a:latin typeface="Verdana"/>
                <a:ea typeface="Gulim"/>
              </a:rPr>
              <a:t>模板</a:t>
            </a:r>
            <a:r>
              <a:rPr b="1" lang="zh-CN" sz="4000" spc="-1" strike="noStrike">
                <a:solidFill>
                  <a:srgbClr val="669900"/>
                </a:solidFill>
                <a:latin typeface="Verdana"/>
                <a:ea typeface="宋体"/>
              </a:rPr>
              <a:t>打包</a:t>
            </a:r>
            <a:r>
              <a:rPr b="1" lang="en-US" sz="4000" spc="-1" strike="noStrike">
                <a:solidFill>
                  <a:srgbClr val="669900"/>
                </a:solidFill>
                <a:latin typeface="Verdana"/>
                <a:ea typeface="Gulim"/>
              </a:rPr>
              <a:t>下载</a:t>
            </a:r>
            <a:endParaRPr b="1" lang="en-US" sz="4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  <a:ea typeface="Gulim"/>
              </a:rPr>
              <a:t>Chart 2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  <a:ea typeface="Gulim"/>
              </a:rPr>
              <a:t>Chart 3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20800" y="1523880"/>
            <a:ext cx="59785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</a:rPr>
              <a:t>使用规范说明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DA906-93B4-4B5F-BC43-E990E2CBC2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9900"/>
                </a:solidFill>
                <a:latin typeface="Verdana"/>
                <a:ea typeface="Gulim"/>
              </a:rPr>
              <a:t>Thank you</a:t>
            </a: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09120" y="48006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000" spc="-1" strike="noStrike">
              <a:solidFill>
                <a:srgbClr val="000000"/>
              </a:solidFill>
              <a:latin typeface="Verdana"/>
              <a:ea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  <a:ea typeface="Gulim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Gulim"/>
              </a:rPr>
              <a:t>Cont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06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  <a:ea typeface="Gulim"/>
              </a:rPr>
              <a:t>Contents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Gulim"/>
              </a:rPr>
              <a:t>Cont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333864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Gulim"/>
              </a:rPr>
              <a:t>Cont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Gulim"/>
              </a:rPr>
              <a:t>Cont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Verdana"/>
                <a:ea typeface="Gulim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Gulim"/>
              </a:rPr>
              <a:t>Cont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Verdana"/>
                <a:ea typeface="Gulim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  <a:ea typeface="Gulim"/>
              </a:rPr>
              <a:t>Click to edit Master title style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Strength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309840" y="2666880"/>
            <a:ext cx="2362320" cy="2362320"/>
          </a:xfrm>
          <a:prstGeom prst="ellipse">
            <a:avLst/>
          </a:prstGeom>
          <a:noFill/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3840" y="365760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66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  <a:ea typeface="Gulim"/>
              </a:rPr>
              <a:t>Diagram 1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3767040" y="1905120"/>
            <a:ext cx="1447920" cy="1447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43080" y="2376360"/>
            <a:ext cx="11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7092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8f8f8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91280" y="1965240"/>
            <a:ext cx="2895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8006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81640" y="4724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4724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8f8f8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76280" y="4148280"/>
            <a:ext cx="11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36576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66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76040" y="4129200"/>
            <a:ext cx="11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67160" y="1981080"/>
            <a:ext cx="4400280" cy="2122560"/>
          </a:xfrm>
          <a:prstGeom prst="ellipse">
            <a:avLst/>
          </a:prstGeom>
          <a:noFill/>
          <a:ln w="12600">
            <a:solidFill>
              <a:srgbClr val="66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  <a:ea typeface="Gulim"/>
              </a:rPr>
              <a:t>Diagram 2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2727360"/>
            <a:ext cx="289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48690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4175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39546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827800">
            <a:off x="2090520" y="3627360"/>
            <a:ext cx="6094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4381560"/>
            <a:ext cx="60984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8767400">
            <a:off x="6553080" y="3657240"/>
            <a:ext cx="6094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295280" y="22860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e8f3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62480" y="2286000"/>
            <a:ext cx="2442960" cy="3962520"/>
          </a:xfrm>
          <a:custGeom>
            <a:avLst/>
            <a:gdLst>
              <a:gd name="textAreaLeft" fmla="*/ 0 w 2442960"/>
              <a:gd name="textAreaRight" fmla="*/ 2443320 w 244296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e8f3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22860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e8f3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  <a:ea typeface="Gulim"/>
              </a:rPr>
              <a:t>Diagram 3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1600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38680" y="1600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2438280"/>
            <a:ext cx="190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51440" y="2438280"/>
            <a:ext cx="189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84880" y="2438280"/>
            <a:ext cx="194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12654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hart 1</a:t>
            </a:r>
            <a:endParaRPr b="1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3860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Guli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89080" y="2133720"/>
          <a:ext cx="6708600" cy="3886200"/>
        </p:xfrm>
        <a:graphic>
          <a:graphicData uri="http://schemas.openxmlformats.org/drawingml/2006/table">
            <a:tbl>
              <a:tblPr/>
              <a:tblGrid>
                <a:gridCol w="1119240"/>
                <a:gridCol w="1117440"/>
                <a:gridCol w="1117800"/>
                <a:gridCol w="1117440"/>
                <a:gridCol w="1119240"/>
                <a:gridCol w="111744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8f8f8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8f8f8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8f8f8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8f8f8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8f8f8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8f8f8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6666"/>
                          </a:solidFill>
                          <a:latin typeface="Verdana"/>
                          <a:ea typeface="Gulim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66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50000">
                          <a:srgbClr val="ffffff"/>
                        </a:gs>
                        <a:gs pos="100000">
                          <a:srgbClr val="33cc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6666"/>
                          </a:solidFill>
                          <a:latin typeface="Verdana"/>
                          <a:ea typeface="Gulim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50000">
                          <a:srgbClr val="ffffff"/>
                        </a:gs>
                        <a:gs pos="100000">
                          <a:srgbClr val="33cc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6666"/>
                          </a:solidFill>
                          <a:latin typeface="Verdana"/>
                          <a:ea typeface="Gulim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50000">
                          <a:srgbClr val="ffffff"/>
                        </a:gs>
                        <a:gs pos="100000">
                          <a:srgbClr val="33cc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6666"/>
                          </a:solidFill>
                          <a:latin typeface="Verdana"/>
                          <a:ea typeface="Gulim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50000">
                          <a:srgbClr val="ffffff"/>
                        </a:gs>
                        <a:gs pos="100000">
                          <a:srgbClr val="33cc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6666"/>
                          </a:solidFill>
                          <a:latin typeface="Verdana"/>
                          <a:ea typeface="Gulim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50000">
                          <a:srgbClr val="ffffff"/>
                        </a:gs>
                        <a:gs pos="100000">
                          <a:srgbClr val="33cc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727360" y="186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  <a:ea typeface="Gulim"/>
              </a:rPr>
              <a:t>Click to edit Master title style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62" name="File"/>
          <p:cNvSpPr/>
          <p:nvPr/>
        </p:nvSpPr>
        <p:spPr>
          <a:xfrm>
            <a:off x="878040" y="1349280"/>
            <a:ext cx="3693960" cy="467064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50000">
                <a:srgbClr val="e2f0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14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2590920"/>
            <a:ext cx="434340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b2b2b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  <a:ea typeface="Gulim"/>
              </a:rPr>
              <a:t>Competito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b2b2b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  <a:ea typeface="Gulim"/>
              </a:rPr>
              <a:t>Strength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5080" y="2647800"/>
            <a:ext cx="2911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ile"/>
          <p:cNvSpPr/>
          <p:nvPr/>
        </p:nvSpPr>
        <p:spPr>
          <a:xfrm>
            <a:off x="609480" y="1295280"/>
            <a:ext cx="3694320" cy="467064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50000">
                <a:srgbClr val="e2f0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5170320" y="1371600"/>
            <a:ext cx="3694320" cy="467028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50000">
                <a:srgbClr val="e2f0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  <a:ea typeface="Gulim"/>
              </a:rPr>
              <a:t>Click to edit Master title style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614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6480" y="2647800"/>
            <a:ext cx="2911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1614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02160" y="2647800"/>
            <a:ext cx="291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4226040" y="3394080"/>
            <a:ext cx="7300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6480" y="10368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1:43:5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01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_AdHocReviewCycleID">
    <vt:r8>1344399779</vt:r8>
  </property>
  <property fmtid="{D5CDD505-2E9C-101B-9397-08002B2CF9AE}" pid="4" name="_AuthorEmail">
    <vt:lpwstr>support@themegallery.co.kr</vt:lpwstr>
  </property>
  <property fmtid="{D5CDD505-2E9C-101B-9397-08002B2CF9AE}" pid="5" name="_AuthorEmailDisplayName">
    <vt:lpwstr>support</vt:lpwstr>
  </property>
  <property fmtid="{D5CDD505-2E9C-101B-9397-08002B2CF9AE}" pid="6" name="_EmailSubject">
    <vt:lpwstr>안녕하세요 사이너에서 파워포인트 문제로 알려드릴께 있어서 메일보냅니다.</vt:lpwstr>
  </property>
  <property fmtid="{D5CDD505-2E9C-101B-9397-08002B2CF9AE}" pid="7" name="_PreviousAdHocReviewCycleID">
    <vt:r8>-338095602</vt:r8>
  </property>
  <property fmtid="{D5CDD505-2E9C-101B-9397-08002B2CF9AE}" pid="8" name="_ReviewingToolsShownOnce">
    <vt:lpwstr/>
  </property>
</Properties>
</file>