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8ED-898A-4028-B819-C8D9EAC5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B5F-7176-4592-97A8-C66AA1A4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716-9880-495A-B6B4-6BEAC81D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232-6A98-4033-8DD5-2DD5214D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D1F-F516-4FFA-BAEA-8534A198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EDF-7C07-4E82-B3C7-7339C1DB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B76-31C5-4A1B-B3BE-9C13C7BC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59D-6684-4752-B695-D0B0B460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FD1-3FED-47AD-8F58-F0D051F5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90F-2D83-4C4E-A83B-F6C4312F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D09-3B0E-44CC-B2EB-2EF063BA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A95-FE05-4F4D-9FA3-4332E434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693D-9EC7-4D19-9BB5-201D1B8692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11AD-52C5-432D-BDDA-4F43D3B863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hotoxpress_2228654"/>
          <p:cNvPicPr/>
          <p:nvPr/>
        </p:nvPicPr>
        <p:blipFill>
          <a:blip r:embed="rId1"/>
          <a:srcRect l="0" t="16278" r="0" b="17178"/>
          <a:stretch/>
        </p:blipFill>
        <p:spPr>
          <a:xfrm>
            <a:off x="0" y="1440"/>
            <a:ext cx="9144000" cy="8077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8"/>
          <p:cNvSpPr/>
          <p:nvPr/>
        </p:nvSpPr>
        <p:spPr>
          <a:xfrm>
            <a:off x="457200" y="2590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个人竞聘述职报告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8"/>
          <p:cNvSpPr/>
          <p:nvPr/>
        </p:nvSpPr>
        <p:spPr>
          <a:xfrm>
            <a:off x="3200400" y="3276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c531"/>
                </a:solidFill>
                <a:latin typeface="微软雅黑"/>
                <a:ea typeface="微软雅黑"/>
              </a:rPr>
              <a:t>——</a:t>
            </a:r>
            <a:r>
              <a:rPr b="0" lang="zh-CN" sz="2400" spc="-1" strike="noStrike">
                <a:solidFill>
                  <a:srgbClr val="2dc531"/>
                </a:solidFill>
                <a:latin typeface="微软雅黑"/>
                <a:ea typeface="微软雅黑"/>
              </a:rPr>
              <a:t>报告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8"/>
          <p:cNvSpPr/>
          <p:nvPr/>
        </p:nvSpPr>
        <p:spPr>
          <a:xfrm>
            <a:off x="5410080" y="47242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聘岗位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聘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9"/>
          <p:cNvSpPr/>
          <p:nvPr/>
        </p:nvSpPr>
        <p:spPr>
          <a:xfrm>
            <a:off x="0" y="441972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5"/>
          <p:cNvSpPr/>
          <p:nvPr/>
        </p:nvSpPr>
        <p:spPr>
          <a:xfrm>
            <a:off x="609480" y="76032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ktangel 54"/>
          <p:cNvSpPr/>
          <p:nvPr/>
        </p:nvSpPr>
        <p:spPr>
          <a:xfrm>
            <a:off x="1371600" y="7603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4"/>
          <p:cNvSpPr/>
          <p:nvPr/>
        </p:nvSpPr>
        <p:spPr>
          <a:xfrm>
            <a:off x="1523880" y="2590920"/>
            <a:ext cx="5334120" cy="1600200"/>
          </a:xfrm>
          <a:custGeom>
            <a:avLst/>
            <a:gdLst>
              <a:gd name="textAreaLeft" fmla="*/ 0 w 5334120"/>
              <a:gd name="textAreaRight" fmla="*/ 5334120 w 53341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9"/>
          <p:cNvSpPr/>
          <p:nvPr/>
        </p:nvSpPr>
        <p:spPr>
          <a:xfrm>
            <a:off x="0" y="441972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9"/>
          <p:cNvSpPr/>
          <p:nvPr/>
        </p:nvSpPr>
        <p:spPr>
          <a:xfrm>
            <a:off x="609480" y="205740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609480" y="312408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ktangel 54"/>
          <p:cNvSpPr/>
          <p:nvPr/>
        </p:nvSpPr>
        <p:spPr>
          <a:xfrm>
            <a:off x="1371600" y="10144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聘人主要工作经历、成功经验</a:t>
            </a:r>
            <a:r>
              <a:rPr b="0" lang="en-US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介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ktangel 54"/>
          <p:cNvSpPr/>
          <p:nvPr/>
        </p:nvSpPr>
        <p:spPr>
          <a:xfrm>
            <a:off x="1371600" y="20574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聘人对竞聘岗位的认识、岗位未来策划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ktangel 54"/>
          <p:cNvSpPr/>
          <p:nvPr/>
        </p:nvSpPr>
        <p:spPr>
          <a:xfrm>
            <a:off x="1371600" y="3124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聘人的自身优劣势分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4"/>
          <p:cNvSpPr/>
          <p:nvPr/>
        </p:nvSpPr>
        <p:spPr>
          <a:xfrm>
            <a:off x="609480" y="419112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5"/>
          <p:cNvSpPr/>
          <p:nvPr/>
        </p:nvSpPr>
        <p:spPr>
          <a:xfrm>
            <a:off x="609480" y="525780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ktangel 54"/>
          <p:cNvSpPr/>
          <p:nvPr/>
        </p:nvSpPr>
        <p:spPr>
          <a:xfrm>
            <a:off x="1371600" y="41911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2011</a:t>
            </a:r>
            <a:r>
              <a:rPr b="0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年的工作目标及落实策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ktangel 54"/>
          <p:cNvSpPr/>
          <p:nvPr/>
        </p:nvSpPr>
        <p:spPr>
          <a:xfrm>
            <a:off x="1371600" y="5257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228600" y="1634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267080" y="1957320"/>
            <a:ext cx="3713400" cy="3882960"/>
            <a:chOff x="4267080" y="1957320"/>
            <a:chExt cx="3713400" cy="3882960"/>
          </a:xfrm>
        </p:grpSpPr>
        <p:sp>
          <p:nvSpPr>
            <p:cNvPr id="59" name="Ellipse 15"/>
            <p:cNvSpPr/>
            <p:nvPr/>
          </p:nvSpPr>
          <p:spPr>
            <a:xfrm>
              <a:off x="4598280" y="5397120"/>
              <a:ext cx="3051000" cy="44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4267080" y="3746880"/>
              <a:ext cx="3713400" cy="191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4272840" y="3339000"/>
              <a:ext cx="3701880" cy="78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4401720" y="3392280"/>
              <a:ext cx="344376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4401720" y="3022560"/>
              <a:ext cx="3443760" cy="723600"/>
            </a:xfrm>
            <a:prstGeom prst="pie">
              <a:avLst/>
            </a:prstGeom>
            <a:solidFill>
              <a:srgbClr val="326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4586040" y="3186000"/>
              <a:ext cx="3075480" cy="48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4586040" y="2908080"/>
              <a:ext cx="3075480" cy="539640"/>
            </a:xfrm>
            <a:prstGeom prst="pie">
              <a:avLst/>
            </a:prstGeom>
            <a:solidFill>
              <a:srgbClr val="6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4738320" y="2963880"/>
              <a:ext cx="2770560" cy="395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4744800" y="2735280"/>
              <a:ext cx="2757600" cy="439560"/>
            </a:xfrm>
            <a:prstGeom prst="pie">
              <a:avLst/>
            </a:prstGeom>
            <a:solidFill>
              <a:srgbClr val="4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4911480" y="2805120"/>
              <a:ext cx="2424240" cy="293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4917960" y="2638440"/>
              <a:ext cx="2411640" cy="325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5076720" y="2644560"/>
              <a:ext cx="2094120" cy="222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5076720" y="2514600"/>
              <a:ext cx="2094120" cy="249120"/>
            </a:xfrm>
            <a:prstGeom prst="pie">
              <a:avLst/>
            </a:prstGeom>
            <a:solidFill>
              <a:srgbClr val="003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5510520" y="1957320"/>
              <a:ext cx="1226160" cy="709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竞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9"/>
          <p:cNvSpPr/>
          <p:nvPr/>
        </p:nvSpPr>
        <p:spPr>
          <a:xfrm>
            <a:off x="0" y="441972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ktangel 54"/>
          <p:cNvSpPr/>
          <p:nvPr/>
        </p:nvSpPr>
        <p:spPr>
          <a:xfrm>
            <a:off x="1371600" y="10144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聘人主要工作经历、成功经验</a:t>
            </a:r>
            <a:r>
              <a:rPr b="0" lang="en-US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介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5"/>
          <p:cNvSpPr/>
          <p:nvPr/>
        </p:nvSpPr>
        <p:spPr>
          <a:xfrm>
            <a:off x="390600" y="3800520"/>
            <a:ext cx="8366040" cy="32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80880" y="3500280"/>
            <a:ext cx="8582040" cy="457200"/>
            <a:chOff x="380880" y="3500280"/>
            <a:chExt cx="8582040" cy="457200"/>
          </a:xfrm>
        </p:grpSpPr>
        <p:sp>
          <p:nvSpPr>
            <p:cNvPr id="78" name="Pentagon 104"/>
            <p:cNvSpPr/>
            <p:nvPr/>
          </p:nvSpPr>
          <p:spPr>
            <a:xfrm>
              <a:off x="7469280" y="3500280"/>
              <a:ext cx="1457280" cy="45720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68" y="0"/>
                  </a:lnTo>
                  <a:lnTo>
                    <a:pt x="21600" y="10800"/>
                  </a:lnTo>
                  <a:lnTo>
                    <a:pt x="18868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80880" y="3500280"/>
              <a:ext cx="7213680" cy="457200"/>
              <a:chOff x="380880" y="3500280"/>
              <a:chExt cx="7213680" cy="4572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80880" y="3500280"/>
                <a:ext cx="7080480" cy="457200"/>
                <a:chOff x="380880" y="3500280"/>
                <a:chExt cx="7080480" cy="457200"/>
              </a:xfrm>
            </p:grpSpPr>
            <p:sp>
              <p:nvSpPr>
                <p:cNvPr id="81" name="Rectangle 445"/>
                <p:cNvSpPr/>
                <p:nvPr/>
              </p:nvSpPr>
              <p:spPr>
                <a:xfrm>
                  <a:off x="1798560" y="3500280"/>
                  <a:ext cx="14126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446"/>
                <p:cNvSpPr/>
                <p:nvPr/>
              </p:nvSpPr>
              <p:spPr>
                <a:xfrm>
                  <a:off x="3213000" y="3500280"/>
                  <a:ext cx="14144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447"/>
                <p:cNvSpPr/>
                <p:nvPr/>
              </p:nvSpPr>
              <p:spPr>
                <a:xfrm>
                  <a:off x="4629240" y="3500280"/>
                  <a:ext cx="14144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48"/>
                <p:cNvSpPr/>
                <p:nvPr/>
              </p:nvSpPr>
              <p:spPr>
                <a:xfrm>
                  <a:off x="6046920" y="3500280"/>
                  <a:ext cx="14144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45"/>
                <p:cNvSpPr/>
                <p:nvPr/>
              </p:nvSpPr>
              <p:spPr>
                <a:xfrm>
                  <a:off x="380880" y="3500280"/>
                  <a:ext cx="14126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Rectangle 445"/>
              <p:cNvSpPr/>
              <p:nvPr/>
            </p:nvSpPr>
            <p:spPr>
              <a:xfrm>
                <a:off x="1931760" y="3593880"/>
                <a:ext cx="14126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446"/>
              <p:cNvSpPr/>
              <p:nvPr/>
            </p:nvSpPr>
            <p:spPr>
              <a:xfrm>
                <a:off x="3346200" y="3593880"/>
                <a:ext cx="14144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47"/>
              <p:cNvSpPr/>
              <p:nvPr/>
            </p:nvSpPr>
            <p:spPr>
              <a:xfrm>
                <a:off x="4762440" y="3593880"/>
                <a:ext cx="14144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448"/>
              <p:cNvSpPr/>
              <p:nvPr/>
            </p:nvSpPr>
            <p:spPr>
              <a:xfrm>
                <a:off x="6180120" y="3593880"/>
                <a:ext cx="14144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445"/>
              <p:cNvSpPr/>
              <p:nvPr/>
            </p:nvSpPr>
            <p:spPr>
              <a:xfrm>
                <a:off x="507600" y="3593880"/>
                <a:ext cx="14126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448"/>
            <p:cNvSpPr/>
            <p:nvPr/>
          </p:nvSpPr>
          <p:spPr>
            <a:xfrm>
              <a:off x="7548480" y="3595320"/>
              <a:ext cx="141444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ktangel 82"/>
          <p:cNvSpPr/>
          <p:nvPr/>
        </p:nvSpPr>
        <p:spPr>
          <a:xfrm>
            <a:off x="419040" y="2021040"/>
            <a:ext cx="19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内容</a:t>
            </a: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Nedadgående pil 90"/>
          <p:cNvSpPr/>
          <p:nvPr/>
        </p:nvSpPr>
        <p:spPr>
          <a:xfrm>
            <a:off x="1012680" y="3044880"/>
            <a:ext cx="250920" cy="538200"/>
          </a:xfrm>
          <a:prstGeom prst="downArrow">
            <a:avLst>
              <a:gd name="adj1" fmla="val 50000"/>
              <a:gd name="adj2" fmla="val 4995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ktangel 91"/>
          <p:cNvSpPr/>
          <p:nvPr/>
        </p:nvSpPr>
        <p:spPr>
          <a:xfrm>
            <a:off x="2944800" y="202104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内容</a:t>
            </a: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Nedadgående pil 92"/>
          <p:cNvSpPr/>
          <p:nvPr/>
        </p:nvSpPr>
        <p:spPr>
          <a:xfrm>
            <a:off x="3637080" y="3044880"/>
            <a:ext cx="249120" cy="538200"/>
          </a:xfrm>
          <a:prstGeom prst="down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ktangel 93"/>
          <p:cNvSpPr/>
          <p:nvPr/>
        </p:nvSpPr>
        <p:spPr>
          <a:xfrm>
            <a:off x="5753160" y="198756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内容</a:t>
            </a: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Nedadgående pil 94"/>
          <p:cNvSpPr/>
          <p:nvPr/>
        </p:nvSpPr>
        <p:spPr>
          <a:xfrm>
            <a:off x="6445080" y="3011400"/>
            <a:ext cx="249480" cy="538200"/>
          </a:xfrm>
          <a:prstGeom prst="down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ktangel 95"/>
          <p:cNvSpPr/>
          <p:nvPr/>
        </p:nvSpPr>
        <p:spPr>
          <a:xfrm>
            <a:off x="1484280" y="447372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内容</a:t>
            </a: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Nedadgående pil 96"/>
          <p:cNvSpPr/>
          <p:nvPr/>
        </p:nvSpPr>
        <p:spPr>
          <a:xfrm rot="10800000">
            <a:off x="2263320" y="3865320"/>
            <a:ext cx="249480" cy="538200"/>
          </a:xfrm>
          <a:prstGeom prst="down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ktangel 98"/>
          <p:cNvSpPr/>
          <p:nvPr/>
        </p:nvSpPr>
        <p:spPr>
          <a:xfrm>
            <a:off x="4303800" y="44956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内容</a:t>
            </a: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Nedadgående pil 99"/>
          <p:cNvSpPr/>
          <p:nvPr/>
        </p:nvSpPr>
        <p:spPr>
          <a:xfrm rot="10800000">
            <a:off x="5083200" y="3885840"/>
            <a:ext cx="249120" cy="53820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ktangel 100"/>
          <p:cNvSpPr/>
          <p:nvPr/>
        </p:nvSpPr>
        <p:spPr>
          <a:xfrm>
            <a:off x="6970680" y="447840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内容</a:t>
            </a: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edadgående pil 40"/>
          <p:cNvSpPr/>
          <p:nvPr/>
        </p:nvSpPr>
        <p:spPr>
          <a:xfrm rot="10800000">
            <a:off x="7749720" y="3868200"/>
            <a:ext cx="249480" cy="538200"/>
          </a:xfrm>
          <a:prstGeom prst="down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E92-0A4D-4205-977D-3E4D0120B3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9"/>
          <p:cNvSpPr/>
          <p:nvPr/>
        </p:nvSpPr>
        <p:spPr>
          <a:xfrm>
            <a:off x="0" y="441972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609480" y="83664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ktangel 54"/>
          <p:cNvSpPr/>
          <p:nvPr/>
        </p:nvSpPr>
        <p:spPr>
          <a:xfrm>
            <a:off x="1371600" y="8366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聘人对竞聘岗位的认识、岗位未来策划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3"/>
          <p:cNvSpPr/>
          <p:nvPr/>
        </p:nvSpPr>
        <p:spPr>
          <a:xfrm>
            <a:off x="468360" y="2254320"/>
            <a:ext cx="8244000" cy="969840"/>
          </a:xfrm>
          <a:prstGeom prst="triangle">
            <a:avLst>
              <a:gd name="adj" fmla="val 50000"/>
            </a:avLst>
          </a:prstGeom>
          <a:solidFill>
            <a:srgbClr val="ffd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611280" y="4186080"/>
            <a:ext cx="1512720" cy="2009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252000" bIns="72000" anchor="t">
            <a:no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阐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565200" y="3351240"/>
            <a:ext cx="1558800" cy="1079640"/>
          </a:xfrm>
          <a:prstGeom prst="rect">
            <a:avLst/>
          </a:prstGeom>
          <a:solidFill>
            <a:srgbClr val="ffd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7"/>
          <p:cNvSpPr/>
          <p:nvPr/>
        </p:nvSpPr>
        <p:spPr>
          <a:xfrm>
            <a:off x="528480" y="4297320"/>
            <a:ext cx="1592280" cy="144360"/>
          </a:xfrm>
          <a:prstGeom prst="triangle">
            <a:avLst>
              <a:gd name="adj" fmla="val 50000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8"/>
          <p:cNvSpPr/>
          <p:nvPr/>
        </p:nvSpPr>
        <p:spPr>
          <a:xfrm>
            <a:off x="636480" y="3470400"/>
            <a:ext cx="250920" cy="252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563400" y="3344760"/>
            <a:ext cx="1560600" cy="2845080"/>
          </a:xfrm>
          <a:prstGeom prst="rect">
            <a:avLst/>
          </a:prstGeom>
          <a:noFill/>
          <a:ln w="1260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2171880" y="4186080"/>
            <a:ext cx="1726920" cy="17416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252000" bIns="720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阐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2198520" y="3351240"/>
            <a:ext cx="1549440" cy="1079640"/>
          </a:xfrm>
          <a:prstGeom prst="rect">
            <a:avLst/>
          </a:prstGeom>
          <a:solidFill>
            <a:srgbClr val="ffd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2"/>
          <p:cNvSpPr/>
          <p:nvPr/>
        </p:nvSpPr>
        <p:spPr>
          <a:xfrm>
            <a:off x="2268360" y="3470400"/>
            <a:ext cx="252720" cy="252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3"/>
          <p:cNvSpPr/>
          <p:nvPr/>
        </p:nvSpPr>
        <p:spPr>
          <a:xfrm>
            <a:off x="2208240" y="4297320"/>
            <a:ext cx="1592280" cy="144360"/>
          </a:xfrm>
          <a:prstGeom prst="triangle">
            <a:avLst>
              <a:gd name="adj" fmla="val 50000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2195640" y="3344760"/>
            <a:ext cx="1560240" cy="2845080"/>
          </a:xfrm>
          <a:prstGeom prst="rect">
            <a:avLst/>
          </a:prstGeom>
          <a:noFill/>
          <a:ln w="1260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3841920" y="4186080"/>
            <a:ext cx="1598400" cy="1800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252000" bIns="720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阐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3807000" y="3351240"/>
            <a:ext cx="1569960" cy="1079640"/>
          </a:xfrm>
          <a:prstGeom prst="rect">
            <a:avLst/>
          </a:prstGeom>
          <a:solidFill>
            <a:srgbClr val="ffd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3890880" y="3470400"/>
            <a:ext cx="252360" cy="252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8"/>
          <p:cNvSpPr/>
          <p:nvPr/>
        </p:nvSpPr>
        <p:spPr>
          <a:xfrm>
            <a:off x="3807000" y="4297320"/>
            <a:ext cx="1591920" cy="144360"/>
          </a:xfrm>
          <a:prstGeom prst="triangle">
            <a:avLst>
              <a:gd name="adj" fmla="val 50000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3817800" y="3344760"/>
            <a:ext cx="1560600" cy="2845080"/>
          </a:xfrm>
          <a:prstGeom prst="rect">
            <a:avLst/>
          </a:prstGeom>
          <a:noFill/>
          <a:ln w="1260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423040" y="4186080"/>
            <a:ext cx="1655640" cy="1872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252000" bIns="720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阐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446800" y="3351240"/>
            <a:ext cx="1557360" cy="1079640"/>
          </a:xfrm>
          <a:prstGeom prst="rect">
            <a:avLst/>
          </a:prstGeom>
          <a:solidFill>
            <a:srgbClr val="ffd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2"/>
          <p:cNvSpPr/>
          <p:nvPr/>
        </p:nvSpPr>
        <p:spPr>
          <a:xfrm>
            <a:off x="5499000" y="3470400"/>
            <a:ext cx="252360" cy="252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3"/>
          <p:cNvSpPr/>
          <p:nvPr/>
        </p:nvSpPr>
        <p:spPr>
          <a:xfrm>
            <a:off x="5427720" y="4297320"/>
            <a:ext cx="1592280" cy="144360"/>
          </a:xfrm>
          <a:prstGeom prst="triangle">
            <a:avLst>
              <a:gd name="adj" fmla="val 50000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5450040" y="3344760"/>
            <a:ext cx="1560240" cy="2845080"/>
          </a:xfrm>
          <a:prstGeom prst="rect">
            <a:avLst/>
          </a:prstGeom>
          <a:noFill/>
          <a:ln w="1260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7058160" y="4186080"/>
            <a:ext cx="1726920" cy="1800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252000" bIns="720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阐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7078680" y="3351240"/>
            <a:ext cx="1557360" cy="1079640"/>
          </a:xfrm>
          <a:prstGeom prst="rect">
            <a:avLst/>
          </a:prstGeom>
          <a:solidFill>
            <a:srgbClr val="ffd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7"/>
          <p:cNvSpPr/>
          <p:nvPr/>
        </p:nvSpPr>
        <p:spPr>
          <a:xfrm>
            <a:off x="7130880" y="3470400"/>
            <a:ext cx="252720" cy="252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8"/>
          <p:cNvSpPr/>
          <p:nvPr/>
        </p:nvSpPr>
        <p:spPr>
          <a:xfrm>
            <a:off x="7059600" y="4297320"/>
            <a:ext cx="1592280" cy="144360"/>
          </a:xfrm>
          <a:prstGeom prst="triangle">
            <a:avLst>
              <a:gd name="adj" fmla="val 50000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7081920" y="3344760"/>
            <a:ext cx="1560600" cy="2845080"/>
          </a:xfrm>
          <a:prstGeom prst="rect">
            <a:avLst/>
          </a:prstGeom>
          <a:noFill/>
          <a:ln w="1260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495360" y="3309840"/>
            <a:ext cx="8209080" cy="29386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23"/>
          <p:cNvSpPr/>
          <p:nvPr/>
        </p:nvSpPr>
        <p:spPr>
          <a:xfrm>
            <a:off x="2666880" y="1752480"/>
            <a:ext cx="381816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对竞聘岗位的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9"/>
          <p:cNvSpPr/>
          <p:nvPr/>
        </p:nvSpPr>
        <p:spPr>
          <a:xfrm>
            <a:off x="0" y="441972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609480" y="83664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ktangel 54"/>
          <p:cNvSpPr/>
          <p:nvPr/>
        </p:nvSpPr>
        <p:spPr>
          <a:xfrm>
            <a:off x="1371600" y="8366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聘人对竞聘岗位的认识、岗位未来策划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23"/>
          <p:cNvSpPr/>
          <p:nvPr/>
        </p:nvSpPr>
        <p:spPr>
          <a:xfrm>
            <a:off x="2666880" y="1752480"/>
            <a:ext cx="381816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竞聘岗位的工作策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517840" y="2556000"/>
            <a:ext cx="4282920" cy="3387240"/>
            <a:chOff x="2517840" y="2556000"/>
            <a:chExt cx="4282920" cy="3387240"/>
          </a:xfrm>
        </p:grpSpPr>
        <p:sp>
          <p:nvSpPr>
            <p:cNvPr id="140" name="Oval 36"/>
            <p:cNvSpPr/>
            <p:nvPr/>
          </p:nvSpPr>
          <p:spPr>
            <a:xfrm flipV="1">
              <a:off x="2517840" y="5329080"/>
              <a:ext cx="4282920" cy="61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017160" y="2556000"/>
              <a:ext cx="3274920" cy="3186000"/>
              <a:chOff x="3017160" y="2556000"/>
              <a:chExt cx="3274920" cy="3186000"/>
            </a:xfrm>
          </p:grpSpPr>
          <p:sp>
            <p:nvSpPr>
              <p:cNvPr id="142" name="Oval 38"/>
              <p:cNvSpPr/>
              <p:nvPr/>
            </p:nvSpPr>
            <p:spPr>
              <a:xfrm>
                <a:off x="3017160" y="2556000"/>
                <a:ext cx="3274920" cy="318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39"/>
              <p:cNvSpPr/>
              <p:nvPr/>
            </p:nvSpPr>
            <p:spPr>
              <a:xfrm rot="16200000">
                <a:off x="3855600" y="3325680"/>
                <a:ext cx="1593360" cy="323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5" y="5080"/>
                      <a:pt x="4475" y="10800"/>
                    </a:cubicBezTo>
                    <a:cubicBezTo>
                      <a:pt x="4475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1130400" y="2730600"/>
            <a:ext cx="2493000" cy="672120"/>
            <a:chOff x="1130400" y="2730600"/>
            <a:chExt cx="2493000" cy="672120"/>
          </a:xfrm>
        </p:grpSpPr>
        <p:sp>
          <p:nvSpPr>
            <p:cNvPr id="145" name="AutoShape 41"/>
            <p:cNvSpPr/>
            <p:nvPr/>
          </p:nvSpPr>
          <p:spPr>
            <a:xfrm rot="10800000">
              <a:off x="1151280" y="3187080"/>
              <a:ext cx="2472120" cy="215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>
              <a:off x="1130400" y="2730600"/>
              <a:ext cx="2488680" cy="53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651640" y="2730600"/>
            <a:ext cx="2535840" cy="672120"/>
            <a:chOff x="5651640" y="2730600"/>
            <a:chExt cx="2535840" cy="672120"/>
          </a:xfrm>
        </p:grpSpPr>
        <p:sp>
          <p:nvSpPr>
            <p:cNvPr id="148" name="AutoShape 44"/>
            <p:cNvSpPr/>
            <p:nvPr/>
          </p:nvSpPr>
          <p:spPr>
            <a:xfrm rot="10800000">
              <a:off x="5672880" y="3187080"/>
              <a:ext cx="2514600" cy="215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>
              <a:off x="5651640" y="2730600"/>
              <a:ext cx="2530800" cy="53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46" descr="Arrow Up"/>
          <p:cNvPicPr/>
          <p:nvPr/>
        </p:nvPicPr>
        <p:blipFill>
          <a:blip r:embed="rId1"/>
          <a:stretch/>
        </p:blipFill>
        <p:spPr>
          <a:xfrm>
            <a:off x="555480" y="2716200"/>
            <a:ext cx="590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130400" y="3946680"/>
            <a:ext cx="2493000" cy="672120"/>
            <a:chOff x="1130400" y="3946680"/>
            <a:chExt cx="2493000" cy="672120"/>
          </a:xfrm>
        </p:grpSpPr>
        <p:sp>
          <p:nvSpPr>
            <p:cNvPr id="152" name="AutoShape 48"/>
            <p:cNvSpPr/>
            <p:nvPr/>
          </p:nvSpPr>
          <p:spPr>
            <a:xfrm rot="10800000">
              <a:off x="1151280" y="4403160"/>
              <a:ext cx="2472120" cy="215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9"/>
            <p:cNvSpPr/>
            <p:nvPr/>
          </p:nvSpPr>
          <p:spPr>
            <a:xfrm>
              <a:off x="1130400" y="3946680"/>
              <a:ext cx="2488680" cy="53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3946680"/>
            <a:ext cx="2535840" cy="672120"/>
            <a:chOff x="5651640" y="3946680"/>
            <a:chExt cx="2535840" cy="672120"/>
          </a:xfrm>
        </p:grpSpPr>
        <p:sp>
          <p:nvSpPr>
            <p:cNvPr id="155" name="AutoShape 51"/>
            <p:cNvSpPr/>
            <p:nvPr/>
          </p:nvSpPr>
          <p:spPr>
            <a:xfrm rot="10800000">
              <a:off x="5672880" y="4403160"/>
              <a:ext cx="2514600" cy="215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52"/>
            <p:cNvSpPr/>
            <p:nvPr/>
          </p:nvSpPr>
          <p:spPr>
            <a:xfrm>
              <a:off x="5651640" y="3946680"/>
              <a:ext cx="2530800" cy="53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53" descr="Arrow Up"/>
          <p:cNvPicPr/>
          <p:nvPr/>
        </p:nvPicPr>
        <p:blipFill>
          <a:blip r:embed="rId2"/>
          <a:stretch/>
        </p:blipFill>
        <p:spPr>
          <a:xfrm>
            <a:off x="555480" y="3932280"/>
            <a:ext cx="590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130400" y="5170320"/>
            <a:ext cx="2493000" cy="673200"/>
            <a:chOff x="1130400" y="5170320"/>
            <a:chExt cx="2493000" cy="673200"/>
          </a:xfrm>
        </p:grpSpPr>
        <p:sp>
          <p:nvSpPr>
            <p:cNvPr id="159" name="AutoShape 55"/>
            <p:cNvSpPr/>
            <p:nvPr/>
          </p:nvSpPr>
          <p:spPr>
            <a:xfrm rot="10800000">
              <a:off x="1151280" y="5627520"/>
              <a:ext cx="2472120" cy="216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56"/>
            <p:cNvSpPr/>
            <p:nvPr/>
          </p:nvSpPr>
          <p:spPr>
            <a:xfrm>
              <a:off x="1130400" y="5170320"/>
              <a:ext cx="248868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651640" y="5170320"/>
            <a:ext cx="2535840" cy="673200"/>
            <a:chOff x="5651640" y="5170320"/>
            <a:chExt cx="2535840" cy="673200"/>
          </a:xfrm>
        </p:grpSpPr>
        <p:sp>
          <p:nvSpPr>
            <p:cNvPr id="162" name="AutoShape 58"/>
            <p:cNvSpPr/>
            <p:nvPr/>
          </p:nvSpPr>
          <p:spPr>
            <a:xfrm rot="10800000">
              <a:off x="5672880" y="5627520"/>
              <a:ext cx="2514600" cy="216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9"/>
            <p:cNvSpPr/>
            <p:nvPr/>
          </p:nvSpPr>
          <p:spPr>
            <a:xfrm>
              <a:off x="5651640" y="5170320"/>
              <a:ext cx="253080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60" descr="Arrow Up"/>
          <p:cNvPicPr/>
          <p:nvPr/>
        </p:nvPicPr>
        <p:blipFill>
          <a:blip r:embed="rId3"/>
          <a:stretch/>
        </p:blipFill>
        <p:spPr>
          <a:xfrm>
            <a:off x="555480" y="5156280"/>
            <a:ext cx="590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933720" y="3774960"/>
            <a:ext cx="1450800" cy="970920"/>
            <a:chOff x="3933720" y="3774960"/>
            <a:chExt cx="1450800" cy="970920"/>
          </a:xfrm>
        </p:grpSpPr>
        <p:sp>
          <p:nvSpPr>
            <p:cNvPr id="166" name="WordArt 62"/>
            <p:cNvSpPr/>
            <p:nvPr/>
          </p:nvSpPr>
          <p:spPr>
            <a:xfrm>
              <a:off x="3933720" y="3774960"/>
              <a:ext cx="1450800" cy="57564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75640"/>
                <a:gd name="textAreaBottom" fmla="*/ 57600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WordArt 63"/>
            <p:cNvSpPr/>
            <p:nvPr/>
          </p:nvSpPr>
          <p:spPr>
            <a:xfrm flipV="1">
              <a:off x="3933720" y="4377960"/>
              <a:ext cx="1450800" cy="36756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-360 h 367560"/>
                <a:gd name="textAreaBottom" fmla="*/ 367560 h 3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64" descr="Arrow Up"/>
          <p:cNvPicPr/>
          <p:nvPr/>
        </p:nvPicPr>
        <p:blipFill>
          <a:blip r:embed="rId4">
            <a:grayscl/>
            <a:lum contrast="12000"/>
          </a:blip>
          <a:stretch/>
        </p:blipFill>
        <p:spPr>
          <a:xfrm>
            <a:off x="8172360" y="27162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5" descr="Arrow Up"/>
          <p:cNvPicPr/>
          <p:nvPr/>
        </p:nvPicPr>
        <p:blipFill>
          <a:blip r:embed="rId5">
            <a:grayscl/>
            <a:lum contrast="12000"/>
          </a:blip>
          <a:stretch/>
        </p:blipFill>
        <p:spPr>
          <a:xfrm>
            <a:off x="8172360" y="393228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6" descr="Arrow Up"/>
          <p:cNvPicPr/>
          <p:nvPr/>
        </p:nvPicPr>
        <p:blipFill>
          <a:blip r:embed="rId6">
            <a:grayscl/>
            <a:lum contrast="12000"/>
          </a:blip>
          <a:stretch/>
        </p:blipFill>
        <p:spPr>
          <a:xfrm>
            <a:off x="8172360" y="5156280"/>
            <a:ext cx="590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3056040" y="2042640"/>
            <a:ext cx="3205800" cy="4226400"/>
            <a:chOff x="3056040" y="2042640"/>
            <a:chExt cx="3205800" cy="4226400"/>
          </a:xfrm>
        </p:grpSpPr>
        <p:sp>
          <p:nvSpPr>
            <p:cNvPr id="172" name="AutoShape 68"/>
            <p:cNvSpPr/>
            <p:nvPr/>
          </p:nvSpPr>
          <p:spPr>
            <a:xfrm rot="7200000">
              <a:off x="3536640" y="3492360"/>
              <a:ext cx="2243880" cy="2406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9"/>
            <p:cNvSpPr/>
            <p:nvPr/>
          </p:nvSpPr>
          <p:spPr>
            <a:xfrm rot="18000000">
              <a:off x="3537360" y="2412000"/>
              <a:ext cx="2243160" cy="2406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295280" y="3049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9"/>
          <p:cNvSpPr/>
          <p:nvPr/>
        </p:nvSpPr>
        <p:spPr>
          <a:xfrm>
            <a:off x="0" y="441972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0"/>
          <p:cNvSpPr/>
          <p:nvPr/>
        </p:nvSpPr>
        <p:spPr>
          <a:xfrm>
            <a:off x="609480" y="83664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ktangel 54"/>
          <p:cNvSpPr/>
          <p:nvPr/>
        </p:nvSpPr>
        <p:spPr>
          <a:xfrm>
            <a:off x="1371600" y="8366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聘人的自身优劣势分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581040" y="2224080"/>
            <a:ext cx="8358120" cy="2786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0680" y="2081160"/>
            <a:ext cx="4146840" cy="2928960"/>
            <a:chOff x="580680" y="2081160"/>
            <a:chExt cx="4146840" cy="2928960"/>
          </a:xfrm>
        </p:grpSpPr>
        <p:sp>
          <p:nvSpPr>
            <p:cNvPr id="180" name="Parallelogram 101"/>
            <p:cNvSpPr/>
            <p:nvPr/>
          </p:nvSpPr>
          <p:spPr>
            <a:xfrm flipH="1">
              <a:off x="2699640" y="3581280"/>
              <a:ext cx="2027160" cy="71280"/>
            </a:xfrm>
            <a:prstGeom prst="parallelogram">
              <a:avLst>
                <a:gd name="adj" fmla="val 16589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1f88c8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81040" y="2081520"/>
              <a:ext cx="2027160" cy="1428840"/>
              <a:chOff x="581040" y="2081520"/>
              <a:chExt cx="2027160" cy="1428840"/>
            </a:xfrm>
          </p:grpSpPr>
          <p:sp>
            <p:nvSpPr>
              <p:cNvPr id="182" name="Parallelogram 108"/>
              <p:cNvSpPr/>
              <p:nvPr/>
            </p:nvSpPr>
            <p:spPr>
              <a:xfrm flipH="1" rot="10800000">
                <a:off x="580680" y="3438360"/>
                <a:ext cx="2027160" cy="71280"/>
              </a:xfrm>
              <a:prstGeom prst="parallelogram">
                <a:avLst>
                  <a:gd name="adj" fmla="val 16589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1f88c8">
                    <a:alpha val="6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Parallelogram 109"/>
              <p:cNvSpPr/>
              <p:nvPr/>
            </p:nvSpPr>
            <p:spPr>
              <a:xfrm flipH="1" flipV="1" rot="5400000">
                <a:off x="1824480" y="2726640"/>
                <a:ext cx="1428840" cy="137880"/>
              </a:xfrm>
              <a:prstGeom prst="parallelogram">
                <a:avLst>
                  <a:gd name="adj" fmla="val 5210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1f88c8">
                    <a:alpha val="6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tangle 27"/>
            <p:cNvSpPr/>
            <p:nvPr/>
          </p:nvSpPr>
          <p:spPr>
            <a:xfrm>
              <a:off x="581040" y="2081160"/>
              <a:ext cx="1888920" cy="13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1f88c8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7"/>
            <p:cNvSpPr/>
            <p:nvPr/>
          </p:nvSpPr>
          <p:spPr>
            <a:xfrm>
              <a:off x="2838600" y="3652920"/>
              <a:ext cx="1888920" cy="13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1f88c8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706480" y="2081160"/>
              <a:ext cx="2021040" cy="1429200"/>
              <a:chOff x="2706480" y="2081160"/>
              <a:chExt cx="2021040" cy="1429200"/>
            </a:xfrm>
          </p:grpSpPr>
          <p:sp>
            <p:nvSpPr>
              <p:cNvPr id="187" name="Rectangle 27"/>
              <p:cNvSpPr/>
              <p:nvPr/>
            </p:nvSpPr>
            <p:spPr>
              <a:xfrm>
                <a:off x="2838240" y="2081160"/>
                <a:ext cx="1889280" cy="1357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1f88c8">
                    <a:alpha val="6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706480" y="2081520"/>
                <a:ext cx="2021040" cy="1428840"/>
                <a:chOff x="2706480" y="2081520"/>
                <a:chExt cx="2021040" cy="1428840"/>
              </a:xfrm>
            </p:grpSpPr>
            <p:sp>
              <p:nvSpPr>
                <p:cNvPr id="189" name="Parallelogram 112"/>
                <p:cNvSpPr/>
                <p:nvPr/>
              </p:nvSpPr>
              <p:spPr>
                <a:xfrm rot="10800000">
                  <a:off x="2706480" y="3438360"/>
                  <a:ext cx="2021040" cy="71280"/>
                </a:xfrm>
                <a:prstGeom prst="parallelogram">
                  <a:avLst>
                    <a:gd name="adj" fmla="val 16539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1f88c8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Parallelogram 113"/>
                <p:cNvSpPr/>
                <p:nvPr/>
              </p:nvSpPr>
              <p:spPr>
                <a:xfrm flipV="1" rot="16200000">
                  <a:off x="2060640" y="2726640"/>
                  <a:ext cx="1428840" cy="137520"/>
                </a:xfrm>
                <a:prstGeom prst="parallelogram">
                  <a:avLst>
                    <a:gd name="adj" fmla="val 5526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200000"/>
                </a:gradFill>
                <a:ln w="9360">
                  <a:solidFill>
                    <a:srgbClr val="1f88c8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580680" y="3580560"/>
              <a:ext cx="2027520" cy="1429560"/>
              <a:chOff x="580680" y="3580560"/>
              <a:chExt cx="2027520" cy="1429560"/>
            </a:xfrm>
          </p:grpSpPr>
          <p:sp>
            <p:nvSpPr>
              <p:cNvPr id="192" name="Rectangle 27"/>
              <p:cNvSpPr/>
              <p:nvPr/>
            </p:nvSpPr>
            <p:spPr>
              <a:xfrm flipH="1">
                <a:off x="580320" y="3652560"/>
                <a:ext cx="1888920" cy="1357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1f88c8">
                    <a:alpha val="6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Parallelogram 117"/>
              <p:cNvSpPr/>
              <p:nvPr/>
            </p:nvSpPr>
            <p:spPr>
              <a:xfrm>
                <a:off x="581040" y="3581280"/>
                <a:ext cx="2027160" cy="71280"/>
              </a:xfrm>
              <a:prstGeom prst="parallelogram">
                <a:avLst>
                  <a:gd name="adj" fmla="val 16589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1f88c8">
                    <a:alpha val="6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Parallelogram 118"/>
              <p:cNvSpPr/>
              <p:nvPr/>
            </p:nvSpPr>
            <p:spPr>
              <a:xfrm flipV="1" rot="5400000">
                <a:off x="1824840" y="4225680"/>
                <a:ext cx="1428840" cy="137880"/>
              </a:xfrm>
              <a:prstGeom prst="parallelogram">
                <a:avLst>
                  <a:gd name="adj" fmla="val 5210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1f88c8">
                    <a:alpha val="6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Parallelogram 102"/>
            <p:cNvSpPr/>
            <p:nvPr/>
          </p:nvSpPr>
          <p:spPr>
            <a:xfrm flipH="1" flipV="1" rot="16200000">
              <a:off x="2054160" y="4225680"/>
              <a:ext cx="1428840" cy="137880"/>
            </a:xfrm>
            <a:prstGeom prst="parallelogram">
              <a:avLst>
                <a:gd name="adj" fmla="val 521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1f88c8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kstboks 34"/>
          <p:cNvSpPr/>
          <p:nvPr/>
        </p:nvSpPr>
        <p:spPr>
          <a:xfrm>
            <a:off x="5181480" y="245268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7"/>
          <p:cNvSpPr/>
          <p:nvPr/>
        </p:nvSpPr>
        <p:spPr>
          <a:xfrm>
            <a:off x="581040" y="2081160"/>
            <a:ext cx="18892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2838600" y="3652920"/>
            <a:ext cx="18889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2838600" y="2081160"/>
            <a:ext cx="18889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7"/>
          <p:cNvSpPr/>
          <p:nvPr/>
        </p:nvSpPr>
        <p:spPr>
          <a:xfrm flipH="1">
            <a:off x="581040" y="3652920"/>
            <a:ext cx="18892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kstboks 40"/>
          <p:cNvSpPr/>
          <p:nvPr/>
        </p:nvSpPr>
        <p:spPr>
          <a:xfrm>
            <a:off x="1057320" y="3009960"/>
            <a:ext cx="159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54061"/>
                </a:solidFill>
                <a:latin typeface="微软雅黑"/>
                <a:ea typeface="微软雅黑"/>
              </a:rPr>
              <a:t>Streng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kstboks 41"/>
          <p:cNvSpPr/>
          <p:nvPr/>
        </p:nvSpPr>
        <p:spPr>
          <a:xfrm>
            <a:off x="3164040" y="300996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54061"/>
                </a:solidFill>
                <a:latin typeface="微软雅黑"/>
                <a:ea typeface="微软雅黑"/>
              </a:rPr>
              <a:t>Weak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kstboks 42"/>
          <p:cNvSpPr/>
          <p:nvPr/>
        </p:nvSpPr>
        <p:spPr>
          <a:xfrm>
            <a:off x="920880" y="4600440"/>
            <a:ext cx="159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54061"/>
                </a:solidFill>
                <a:latin typeface="微软雅黑"/>
                <a:ea typeface="微软雅黑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kstboks 43"/>
          <p:cNvSpPr/>
          <p:nvPr/>
        </p:nvSpPr>
        <p:spPr>
          <a:xfrm>
            <a:off x="3368520" y="4600440"/>
            <a:ext cx="15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54061"/>
                </a:solidFill>
                <a:latin typeface="微软雅黑"/>
                <a:ea typeface="微软雅黑"/>
              </a:rPr>
              <a:t>Thre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kstboks 66"/>
          <p:cNvSpPr/>
          <p:nvPr/>
        </p:nvSpPr>
        <p:spPr>
          <a:xfrm>
            <a:off x="1270080" y="2273400"/>
            <a:ext cx="6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kstboks 67"/>
          <p:cNvSpPr/>
          <p:nvPr/>
        </p:nvSpPr>
        <p:spPr>
          <a:xfrm>
            <a:off x="3390840" y="2260440"/>
            <a:ext cx="6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kstboks 68"/>
          <p:cNvSpPr/>
          <p:nvPr/>
        </p:nvSpPr>
        <p:spPr>
          <a:xfrm>
            <a:off x="1181160" y="3848040"/>
            <a:ext cx="6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kstboks 70"/>
          <p:cNvSpPr/>
          <p:nvPr/>
        </p:nvSpPr>
        <p:spPr>
          <a:xfrm>
            <a:off x="3517920" y="3848040"/>
            <a:ext cx="6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243400" y="2485440"/>
            <a:ext cx="3747960" cy="3426480"/>
            <a:chOff x="5243400" y="2485440"/>
            <a:chExt cx="3747960" cy="3426480"/>
          </a:xfrm>
        </p:grpSpPr>
        <p:grpSp>
          <p:nvGrpSpPr>
            <p:cNvPr id="210" name=""/>
            <p:cNvGrpSpPr/>
            <p:nvPr/>
          </p:nvGrpSpPr>
          <p:grpSpPr>
            <a:xfrm>
              <a:off x="5243400" y="2880000"/>
              <a:ext cx="3672000" cy="453960"/>
              <a:chOff x="5243400" y="2880000"/>
              <a:chExt cx="3672000" cy="453960"/>
            </a:xfrm>
          </p:grpSpPr>
          <p:sp>
            <p:nvSpPr>
              <p:cNvPr id="211" name="AutoShape 68"/>
              <p:cNvSpPr/>
              <p:nvPr/>
            </p:nvSpPr>
            <p:spPr>
              <a:xfrm>
                <a:off x="5243400" y="2880000"/>
                <a:ext cx="3672000" cy="453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69"/>
              <p:cNvSpPr/>
              <p:nvPr/>
            </p:nvSpPr>
            <p:spPr>
              <a:xfrm>
                <a:off x="5305320" y="2880000"/>
                <a:ext cx="3610080" cy="39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7840" indent="-17784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8069760" y="2485440"/>
              <a:ext cx="890640" cy="864720"/>
              <a:chOff x="8069760" y="2485440"/>
              <a:chExt cx="890640" cy="864720"/>
            </a:xfrm>
          </p:grpSpPr>
          <p:pic>
            <p:nvPicPr>
              <p:cNvPr id="214" name="Picture 71" descr="Pen"/>
              <p:cNvPicPr/>
              <p:nvPr/>
            </p:nvPicPr>
            <p:blipFill>
              <a:blip r:embed="rId2"/>
              <a:stretch/>
            </p:blipFill>
            <p:spPr>
              <a:xfrm rot="20140800">
                <a:off x="8175240" y="2590560"/>
                <a:ext cx="651960" cy="65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72" descr="Pen"/>
              <p:cNvPicPr/>
              <p:nvPr/>
            </p:nvPicPr>
            <p:blipFill>
              <a:blip r:embed="rId3"/>
              <a:stretch/>
            </p:blipFill>
            <p:spPr>
              <a:xfrm rot="20706000">
                <a:off x="8414640" y="2733120"/>
                <a:ext cx="490320" cy="49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"/>
            <p:cNvGrpSpPr/>
            <p:nvPr/>
          </p:nvGrpSpPr>
          <p:grpSpPr>
            <a:xfrm>
              <a:off x="5243400" y="3737160"/>
              <a:ext cx="3672000" cy="453960"/>
              <a:chOff x="5243400" y="3737160"/>
              <a:chExt cx="3672000" cy="453960"/>
            </a:xfrm>
          </p:grpSpPr>
          <p:sp>
            <p:nvSpPr>
              <p:cNvPr id="217" name="AutoShape 74"/>
              <p:cNvSpPr/>
              <p:nvPr/>
            </p:nvSpPr>
            <p:spPr>
              <a:xfrm>
                <a:off x="5243400" y="3737160"/>
                <a:ext cx="3672000" cy="453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75"/>
              <p:cNvSpPr/>
              <p:nvPr/>
            </p:nvSpPr>
            <p:spPr>
              <a:xfrm>
                <a:off x="5305320" y="3743640"/>
                <a:ext cx="3610080" cy="39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7840" indent="-17784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8150040" y="3470400"/>
              <a:ext cx="755280" cy="659880"/>
              <a:chOff x="8150040" y="3470400"/>
              <a:chExt cx="755280" cy="659880"/>
            </a:xfrm>
          </p:grpSpPr>
          <p:pic>
            <p:nvPicPr>
              <p:cNvPr id="220" name="Picture 77" descr="Office Girl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>
                <a:off x="8150040" y="3470400"/>
                <a:ext cx="623160" cy="62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Picture 78" descr="Administrator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>
                <a:off x="8372520" y="3598560"/>
                <a:ext cx="532800" cy="53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" name=""/>
            <p:cNvGrpSpPr/>
            <p:nvPr/>
          </p:nvGrpSpPr>
          <p:grpSpPr>
            <a:xfrm>
              <a:off x="5243400" y="4587840"/>
              <a:ext cx="3672000" cy="453960"/>
              <a:chOff x="5243400" y="4587840"/>
              <a:chExt cx="3672000" cy="453960"/>
            </a:xfrm>
          </p:grpSpPr>
          <p:sp>
            <p:nvSpPr>
              <p:cNvPr id="223" name="AutoShape 80"/>
              <p:cNvSpPr/>
              <p:nvPr/>
            </p:nvSpPr>
            <p:spPr>
              <a:xfrm>
                <a:off x="5243400" y="4587840"/>
                <a:ext cx="3672000" cy="453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81"/>
              <p:cNvSpPr/>
              <p:nvPr/>
            </p:nvSpPr>
            <p:spPr>
              <a:xfrm>
                <a:off x="5305320" y="4592520"/>
                <a:ext cx="3610080" cy="39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7840" indent="-17784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5" name="Picture 82" descr="复件-Lamp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8264520" y="4319640"/>
              <a:ext cx="641160" cy="64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5243400" y="5457960"/>
              <a:ext cx="3672000" cy="453960"/>
              <a:chOff x="5243400" y="5457960"/>
              <a:chExt cx="3672000" cy="453960"/>
            </a:xfrm>
          </p:grpSpPr>
          <p:sp>
            <p:nvSpPr>
              <p:cNvPr id="227" name="AutoShape 84"/>
              <p:cNvSpPr/>
              <p:nvPr/>
            </p:nvSpPr>
            <p:spPr>
              <a:xfrm>
                <a:off x="5243400" y="5457960"/>
                <a:ext cx="3672000" cy="453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85"/>
              <p:cNvSpPr/>
              <p:nvPr/>
            </p:nvSpPr>
            <p:spPr>
              <a:xfrm>
                <a:off x="5305320" y="5459400"/>
                <a:ext cx="3610080" cy="39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7840" indent="-17784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9" name="Picture 86" descr="Ok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8413560" y="5229360"/>
              <a:ext cx="5778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j0430897"/>
          <p:cNvPicPr/>
          <p:nvPr/>
        </p:nvPicPr>
        <p:blipFill>
          <a:blip r:embed="rId1"/>
          <a:stretch/>
        </p:blipFill>
        <p:spPr>
          <a:xfrm>
            <a:off x="0" y="0"/>
            <a:ext cx="9140760" cy="68961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9"/>
          <p:cNvSpPr/>
          <p:nvPr/>
        </p:nvSpPr>
        <p:spPr>
          <a:xfrm>
            <a:off x="0" y="441972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4"/>
          <p:cNvSpPr/>
          <p:nvPr/>
        </p:nvSpPr>
        <p:spPr>
          <a:xfrm>
            <a:off x="609480" y="76212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ktangel 54"/>
          <p:cNvSpPr/>
          <p:nvPr/>
        </p:nvSpPr>
        <p:spPr>
          <a:xfrm>
            <a:off x="1371600" y="7621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2011</a:t>
            </a: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年的工作目标及落实策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 rot="1003200">
            <a:off x="3427200" y="3412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微软雅黑"/>
              </a:rPr>
              <a:t>我们的目标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微软雅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微软雅黑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9"/>
          <p:cNvSpPr/>
          <p:nvPr/>
        </p:nvSpPr>
        <p:spPr>
          <a:xfrm>
            <a:off x="0" y="441972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4"/>
          <p:cNvSpPr/>
          <p:nvPr/>
        </p:nvSpPr>
        <p:spPr>
          <a:xfrm>
            <a:off x="609480" y="762120"/>
            <a:ext cx="762120" cy="76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ktangel 54"/>
          <p:cNvSpPr/>
          <p:nvPr/>
        </p:nvSpPr>
        <p:spPr>
          <a:xfrm>
            <a:off x="1371600" y="7621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2011</a:t>
            </a:r>
            <a:r>
              <a:rPr b="1" lang="zh-CN" sz="1400" spc="-1" strike="noStrike">
                <a:solidFill>
                  <a:srgbClr val="080808"/>
                </a:solidFill>
                <a:latin typeface="微软雅黑"/>
                <a:ea typeface="微软雅黑"/>
              </a:rPr>
              <a:t>年的工作目标及落实策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AutoShape 9"/>
          <p:cNvCxnSpPr/>
          <p:nvPr/>
        </p:nvCxnSpPr>
        <p:spPr>
          <a:xfrm flipV="1">
            <a:off x="2881080" y="2039040"/>
            <a:ext cx="872280" cy="1515240"/>
          </a:xfrm>
          <a:prstGeom prst="bentConnector3">
            <a:avLst>
              <a:gd name="adj1" fmla="val 49876"/>
            </a:avLst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239" name="AutoShape 10"/>
          <p:cNvCxnSpPr/>
          <p:nvPr/>
        </p:nvCxnSpPr>
        <p:spPr>
          <a:xfrm flipV="1">
            <a:off x="2881080" y="3101760"/>
            <a:ext cx="872280" cy="452880"/>
          </a:xfrm>
          <a:prstGeom prst="bentConnector3">
            <a:avLst>
              <a:gd name="adj1" fmla="val 49876"/>
            </a:avLst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240" name="AutoShape 11"/>
          <p:cNvCxnSpPr/>
          <p:nvPr/>
        </p:nvCxnSpPr>
        <p:spPr>
          <a:xfrm>
            <a:off x="2881080" y="3554280"/>
            <a:ext cx="872280" cy="556560"/>
          </a:xfrm>
          <a:prstGeom prst="bentConnector3">
            <a:avLst>
              <a:gd name="adj1" fmla="val 49876"/>
            </a:avLst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241" name="AutoShape 12"/>
          <p:cNvCxnSpPr/>
          <p:nvPr/>
        </p:nvCxnSpPr>
        <p:spPr>
          <a:xfrm>
            <a:off x="2881080" y="3553920"/>
            <a:ext cx="872280" cy="1546920"/>
          </a:xfrm>
          <a:prstGeom prst="bentConnector3">
            <a:avLst>
              <a:gd name="adj1" fmla="val 49876"/>
            </a:avLst>
          </a:prstGeom>
          <a:ln w="19080">
            <a:solidFill>
              <a:srgbClr val="99ccff"/>
            </a:solidFill>
            <a:miter/>
          </a:ln>
        </p:spPr>
      </p:cxnSp>
      <p:grpSp>
        <p:nvGrpSpPr>
          <p:cNvPr id="242" name=""/>
          <p:cNvGrpSpPr/>
          <p:nvPr/>
        </p:nvGrpSpPr>
        <p:grpSpPr>
          <a:xfrm>
            <a:off x="3386160" y="1808280"/>
            <a:ext cx="5148360" cy="629640"/>
            <a:chOff x="3386160" y="1808280"/>
            <a:chExt cx="5148360" cy="629640"/>
          </a:xfrm>
        </p:grpSpPr>
        <p:sp>
          <p:nvSpPr>
            <p:cNvPr id="243" name="Oval 14"/>
            <p:cNvSpPr/>
            <p:nvPr/>
          </p:nvSpPr>
          <p:spPr>
            <a:xfrm flipV="1">
              <a:off x="3386160" y="2256840"/>
              <a:ext cx="5148360" cy="18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5"/>
            <p:cNvSpPr/>
            <p:nvPr/>
          </p:nvSpPr>
          <p:spPr>
            <a:xfrm>
              <a:off x="3718080" y="1808280"/>
              <a:ext cx="4539960" cy="52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第一：</a:t>
              </a: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386160" y="2870280"/>
            <a:ext cx="5148360" cy="629280"/>
            <a:chOff x="3386160" y="2870280"/>
            <a:chExt cx="5148360" cy="629280"/>
          </a:xfrm>
        </p:grpSpPr>
        <p:sp>
          <p:nvSpPr>
            <p:cNvPr id="246" name="Oval 17"/>
            <p:cNvSpPr/>
            <p:nvPr/>
          </p:nvSpPr>
          <p:spPr>
            <a:xfrm flipV="1">
              <a:off x="3386160" y="3318120"/>
              <a:ext cx="51483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>
              <a:off x="3717720" y="2870280"/>
              <a:ext cx="4539600" cy="52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第二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386160" y="3878280"/>
            <a:ext cx="5148360" cy="630360"/>
            <a:chOff x="3386160" y="3878280"/>
            <a:chExt cx="5148360" cy="630360"/>
          </a:xfrm>
        </p:grpSpPr>
        <p:sp>
          <p:nvSpPr>
            <p:cNvPr id="249" name="Oval 20"/>
            <p:cNvSpPr/>
            <p:nvPr/>
          </p:nvSpPr>
          <p:spPr>
            <a:xfrm flipV="1">
              <a:off x="3386160" y="4327200"/>
              <a:ext cx="514836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3717720" y="3878280"/>
              <a:ext cx="453960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第三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386160" y="4869000"/>
            <a:ext cx="5148360" cy="629280"/>
            <a:chOff x="3386160" y="4869000"/>
            <a:chExt cx="5148360" cy="629280"/>
          </a:xfrm>
        </p:grpSpPr>
        <p:sp>
          <p:nvSpPr>
            <p:cNvPr id="252" name="Oval 23"/>
            <p:cNvSpPr/>
            <p:nvPr/>
          </p:nvSpPr>
          <p:spPr>
            <a:xfrm flipV="1">
              <a:off x="3386160" y="5316840"/>
              <a:ext cx="51483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>
              <a:off x="3717720" y="4869000"/>
              <a:ext cx="4539600" cy="52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第四：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 flipV="1">
            <a:off x="392040" y="4399920"/>
            <a:ext cx="2805120" cy="392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93800" y="2546280"/>
            <a:ext cx="2087280" cy="2080800"/>
            <a:chOff x="793800" y="2546280"/>
            <a:chExt cx="2087280" cy="2080800"/>
          </a:xfrm>
        </p:grpSpPr>
        <p:sp>
          <p:nvSpPr>
            <p:cNvPr id="256" name="Oval 27"/>
            <p:cNvSpPr/>
            <p:nvPr/>
          </p:nvSpPr>
          <p:spPr>
            <a:xfrm>
              <a:off x="793800" y="2546280"/>
              <a:ext cx="2087280" cy="208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812880" y="2568600"/>
              <a:ext cx="2045520" cy="2022120"/>
              <a:chOff x="812880" y="2568600"/>
              <a:chExt cx="2045520" cy="2022120"/>
            </a:xfrm>
          </p:grpSpPr>
          <p:sp>
            <p:nvSpPr>
              <p:cNvPr id="258" name="Oval 29"/>
              <p:cNvSpPr/>
              <p:nvPr/>
            </p:nvSpPr>
            <p:spPr>
              <a:xfrm>
                <a:off x="812880" y="2568600"/>
                <a:ext cx="2045520" cy="2022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0"/>
              <p:cNvSpPr/>
              <p:nvPr/>
            </p:nvSpPr>
            <p:spPr>
              <a:xfrm>
                <a:off x="1049760" y="2596320"/>
                <a:ext cx="1567800" cy="75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31"/>
              <p:cNvSpPr/>
              <p:nvPr/>
            </p:nvSpPr>
            <p:spPr>
              <a:xfrm rot="16200000">
                <a:off x="1325160" y="3069000"/>
                <a:ext cx="1011960" cy="202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5" y="5080"/>
                      <a:pt x="4475" y="10800"/>
                    </a:cubicBezTo>
                    <a:cubicBezTo>
                      <a:pt x="4475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05b8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32"/>
          <p:cNvSpPr/>
          <p:nvPr/>
        </p:nvSpPr>
        <p:spPr>
          <a:xfrm>
            <a:off x="1009800" y="3267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落实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2 0.01297 L -1.38889E-006 0.01297 E">
                                      <p:cBhvr>
                                        <p:cTn id="25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500"/>
                            </p:stCondLst>
                            <p:childTnLst>
                              <p:par>
                                <p:cTn id="5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6CE-12CE-4907-9227-1DEDCF9D84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5:3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55Z</dcterms:modified>
  <cp:revision>19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