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FA7-F70E-49A9-937B-7A830709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6DE-7F98-4BE3-9237-E7DCEA8C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940-3968-42FB-BCE7-5770B9DE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1C0-029F-4E22-ABD9-17CA0A6E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A9CC-0BB7-44DC-91F6-7E31C9D3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03A-ABB1-4AE2-8DEF-0E2344C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AE7A-A91B-4BD8-B24D-10004A4F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3AE-363E-4501-8D5C-E8EF56B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5DD-A909-4EF2-86E1-45E8F2E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7D59-2A8C-48D3-8699-54C70D44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05DD-70DA-4C7F-BD9A-3730BB9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B4C-311A-446D-8852-8AEA1557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CC1-D3F3-487E-BB9D-7D20C6D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6C8-8934-485F-9D30-28ADB79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5A94-4C79-4B03-9A8D-A454085C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ABB6-40D1-4181-A79D-5FD49CA0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7AB8-611C-41A6-BEB5-5DB67630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C3A-C5C9-40BC-A7AF-52F1AEB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17D-AC55-4068-8BFA-1CC9A947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30D-E1AF-41AF-9899-DC946918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780-3DAC-44E7-B951-4D854D79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33C-38EF-452E-8BDB-5AC5CAB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13E-FD43-433A-98C0-E0D8895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5F2-30C7-4C0C-B2C0-DDC0614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920" cy="304560"/>
              <a:chOff x="228600" y="990720"/>
              <a:chExt cx="30492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6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BE0-1544-4D8A-9B2C-8476BC63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1A2C-33D8-4EC3-A03E-E57E865C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58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某某个人简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42920" y="4149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姓       名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专        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15080" y="404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人制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简历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6C3-838D-46AE-923F-03AA6C2EB7AA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960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1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