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3C8-289F-4CF2-A2B6-38C5BDCD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333-B8A2-4662-9C33-C1B7F840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003-1F56-41C6-9C64-4023F47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D5D-819C-4685-A27A-BD9BA2B3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2C9-C66F-4C38-985E-9E33DCD7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2D8-E623-46CF-A87A-2C2FFDD6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644-7BAE-495D-8DB9-54150127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71B-22DC-4A8D-9E31-ECB4EAF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7D9-AFFB-4825-89D9-5D208CE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506-1A45-4717-B1BD-A135194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481-F299-4058-A0D0-F9C9F9C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79E-4AF9-4499-B923-452EA08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E3DF-6D42-40D8-B29F-5EBC7B22EBDF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F7A6-A5DC-41A6-86D7-5DC5CDE3987A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主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9520" y="1009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Arial"/>
              </a:rPr>
              <a:t>公司企业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636-F146-4E0E-952A-D5E6082A12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22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452-AFA1-4E6C-99B9-6CCE7F7E55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26" name="Freeform 65"/>
            <p:cNvSpPr/>
            <p:nvPr/>
          </p:nvSpPr>
          <p:spPr>
            <a:xfrm>
              <a:off x="676800" y="1631880"/>
              <a:ext cx="4841640" cy="186264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4049640" y="2203920"/>
              <a:ext cx="558720" cy="570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70600"/>
                <a:gd name="textAreaBottom" fmla="*/ 570600 h 57060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480960" y="2618280"/>
              <a:ext cx="1681200" cy="17629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5547600" y="1708920"/>
              <a:ext cx="3273840" cy="315972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3159720"/>
                <a:gd name="textAreaBottom" fmla="*/ 3160080 h 315972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659520" y="2083320"/>
              <a:ext cx="299520" cy="2278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1951200" y="381060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3203280" y="3378240"/>
              <a:ext cx="785160" cy="40968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3547440" y="335160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3957840" y="3463560"/>
              <a:ext cx="671400" cy="327600"/>
            </a:xfrm>
            <a:custGeom>
              <a:avLst/>
              <a:gdLst>
                <a:gd name="textAreaLeft" fmla="*/ 0 w 671400"/>
                <a:gd name="textAreaRight" fmla="*/ 671400 w 671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3737880" y="3051720"/>
              <a:ext cx="238680" cy="341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4404240" y="4481280"/>
              <a:ext cx="112320" cy="101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4920480" y="4347360"/>
              <a:ext cx="318240" cy="3153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360"/>
                <a:gd name="textAreaBottom" fmla="*/ 315360 h 31536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7583040" y="2955240"/>
              <a:ext cx="456480" cy="1519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2D4-BCDF-4BAD-B23E-29CB56BFC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CDB-4AEE-44BC-A122-868932789A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E60-3BDE-4E1E-A30D-0DA84B4CC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DDA-93BB-43E1-9332-306C216D69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1C2-C2A0-4B4C-9E51-EABF7F882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2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B43-0FF8-4F0B-B549-FD65A3CF1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6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A73-489B-43C8-8EBF-594A5631B6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8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648-4EDC-4028-801A-F585AEBB2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D13-197C-4D06-B381-616134FED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462-C1C2-4BE6-9302-3F9E1D061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8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16E-51EE-4568-8161-DBDF3BE98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2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