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media/image11.wmf" ContentType="image/x-wmf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8544-88B5-430A-849E-48DB2B03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C1E3-8788-44E1-A0FE-9BB7BFC1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E730-95A8-48F4-B858-46D54F92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E219-FA93-4E9E-8045-8F021E06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7C7D4-C4CA-4554-AE4B-D03589905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597D8-3ACE-4321-BAC9-0ADA86B1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28D4-0244-4366-969D-A4657060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85410-3FFB-406A-9DA5-9F88EABD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DF3A-0047-40C0-822E-78CE8882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A4B58-FB84-4D79-891F-42CD266A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5B6AF-15F4-4650-8837-57F0116D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9FAF-542A-4516-935E-A36F6061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80C5-6A84-498A-A3B4-DD60641A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C7CC2-3CAB-41B2-9D98-36552168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E3C5-08D6-447E-9ABE-8B4477AC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D1FC3-9841-4FAC-A377-A00F451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406D8-1AC0-4335-912C-FB4B6C0CD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5145-D29F-4B59-BE7F-3581469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0FA6-FDEC-4F3F-81C3-6D3C7098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E26F-7DDB-441F-9F74-B7B9415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5338-03EA-4963-A199-70332E36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9FCF-AA0E-4BEC-9C3C-A0ED026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E28A-E69A-494E-8D84-FEBA026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7F98-E225-4E11-89D1-27558C8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d9c2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11160" y="343080"/>
            <a:ext cx="603108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PMingLiU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358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9ca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9c21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778000" y="6530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C16A-9A58-44A7-A0BC-218294DEED9D}" type="slidenum"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074600" cy="111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4240" y="-6480"/>
            <a:ext cx="0" cy="11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5712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58920" y="-20520"/>
            <a:ext cx="0" cy="1154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69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5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ECD7-863B-4021-8A2A-EEAE3D9FD867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d9c2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PMingLiU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884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9c215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6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193583"/>
                </a:solidFill>
                <a:latin typeface="Arial"/>
                <a:ea typeface="PMingLiU"/>
              </a:rPr>
              <a:t> </a:t>
            </a:r>
            <a:r>
              <a:rPr b="1" lang="en-US" sz="4000" spc="-1" strike="noStrike">
                <a:solidFill>
                  <a:srgbClr val="04884e"/>
                </a:solidFill>
                <a:latin typeface="Arial"/>
                <a:ea typeface="PMingLiU"/>
              </a:rPr>
              <a:t>PowerTemplate</a:t>
            </a:r>
            <a:endParaRPr b="1" lang="en-US" sz="4000" spc="-1" strike="noStrike">
              <a:solidFill>
                <a:srgbClr val="04884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117440" cy="1096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4360" y="76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儿童早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461" name="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f2dd"/>
                </a:gs>
                <a:gs pos="100000">
                  <a:srgbClr val="89ca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464" name="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4d8"/>
                </a:gs>
                <a:gs pos="100000">
                  <a:srgbClr val="0488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467" name="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5f1cc"/>
                </a:gs>
                <a:gs pos="100000">
                  <a:srgbClr val="d9c2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80052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052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052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14720" y="1535040"/>
            <a:ext cx="2641680" cy="2644920"/>
          </a:xfrm>
          <a:prstGeom prst="ellipse">
            <a:avLst/>
          </a:prstGeom>
          <a:solidFill>
            <a:srgbClr val="d9c215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54320" y="2927520"/>
            <a:ext cx="2643480" cy="2643120"/>
          </a:xfrm>
          <a:prstGeom prst="ellipse">
            <a:avLst/>
          </a:prstGeom>
          <a:solidFill>
            <a:srgbClr val="ff96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71800" y="2892600"/>
            <a:ext cx="2644560" cy="2643120"/>
          </a:xfrm>
          <a:prstGeom prst="ellipse">
            <a:avLst/>
          </a:prstGeom>
          <a:solidFill>
            <a:srgbClr val="89ca64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2660760" y="2579400"/>
            <a:ext cx="114912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165640" y="261288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366800" y="456264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42840" y="350820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c215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18478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89ca64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52960" y="554832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29080" y="187164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76640" y="39816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10240" y="402120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4884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68994c"/>
              </a:gs>
            </a:gsLst>
            <a:lin ang="5400000"/>
          </a:gradFill>
          <a:ln w="57240">
            <a:solidFill>
              <a:srgbClr val="89ca64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d9c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518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ca64">
                    <a:alpha val="90196"/>
                  </a:srgbClr>
                </a:gs>
                <a:gs pos="50000">
                  <a:srgbClr val="d6ecc9"/>
                </a:gs>
                <a:gs pos="100000">
                  <a:srgbClr val="89ca64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522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4884e">
                    <a:alpha val="90196"/>
                  </a:srgbClr>
                </a:gs>
                <a:gs pos="50000">
                  <a:srgbClr val="a9d6c2"/>
                </a:gs>
                <a:gs pos="100000">
                  <a:srgbClr val="04884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526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d4507"/>
                </a:gs>
                <a:gs pos="50000">
                  <a:srgbClr val="d9c215"/>
                </a:gs>
                <a:gs pos="100000">
                  <a:srgbClr val="4d4507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c215">
                    <a:alpha val="90196"/>
                  </a:srgbClr>
                </a:gs>
                <a:gs pos="50000">
                  <a:srgbClr val="f1e9af"/>
                </a:gs>
                <a:gs pos="100000">
                  <a:srgbClr val="d9c215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9c21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9ca6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4884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324880" y="1933560"/>
            <a:ext cx="4217760" cy="4161960"/>
            <a:chOff x="2324880" y="1933560"/>
            <a:chExt cx="4217760" cy="4161960"/>
          </a:xfrm>
        </p:grpSpPr>
        <p:sp>
          <p:nvSpPr>
            <p:cNvPr id="534" name=""/>
            <p:cNvSpPr/>
            <p:nvPr/>
          </p:nvSpPr>
          <p:spPr>
            <a:xfrm rot="10800000">
              <a:off x="3814560" y="5043240"/>
              <a:ext cx="119376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31840" y="1933560"/>
              <a:ext cx="1193760" cy="105264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86200">
              <a:off x="5191920" y="424512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3597000">
              <a:off x="5189040" y="2711520"/>
              <a:ext cx="1191960" cy="105228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4374200">
              <a:off x="2484720" y="4253760"/>
              <a:ext cx="1192320" cy="1053720"/>
            </a:xfrm>
            <a:prstGeom prst="triangle">
              <a:avLst>
                <a:gd name="adj" fmla="val 50000"/>
              </a:avLst>
            </a:prstGeom>
            <a:solidFill>
              <a:srgbClr val="89ca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7985000">
              <a:off x="2488680" y="2707200"/>
              <a:ext cx="1193760" cy="1053720"/>
            </a:xfrm>
            <a:prstGeom prst="triangle">
              <a:avLst>
                <a:gd name="adj" fmla="val 50000"/>
              </a:avLst>
            </a:prstGeom>
            <a:solidFill>
              <a:srgbClr val="ff9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56480" y="5429160"/>
              <a:ext cx="1184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69272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488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88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96960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6960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4092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1360" y="3081240"/>
            <a:ext cx="2094120" cy="1811520"/>
          </a:xfrm>
          <a:prstGeom prst="hexagon">
            <a:avLst>
              <a:gd name="adj" fmla="val 2890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81320" y="545796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51620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7356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0348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0348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4488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74488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488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4884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d9c2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9c215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5a8642">
                  <a:alpha val="12156"/>
                </a:srgbClr>
              </a:gs>
              <a:gs pos="50000">
                <a:srgbClr val="89ca64"/>
              </a:gs>
              <a:gs pos="100000">
                <a:srgbClr val="5a864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97a0d"/>
              </a:gs>
              <a:gs pos="100000">
                <a:srgbClr val="d9c21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7faf4"/>
              </a:gs>
              <a:gs pos="100000">
                <a:srgbClr val="89ca64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828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2260440" y="1744920"/>
            <a:ext cx="153612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2396880" y="164340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94cbb3"/>
              </a:gs>
              <a:gs pos="100000">
                <a:srgbClr val="04884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2334600" y="1743480"/>
            <a:ext cx="137952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ecb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2326680" y="1731960"/>
            <a:ext cx="1414080" cy="38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eee59f"/>
              </a:gs>
              <a:gs pos="100000">
                <a:srgbClr val="d9c21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3876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3880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5784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4348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200320" y="3635280"/>
            <a:ext cx="101448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2291040" y="1361880"/>
            <a:ext cx="1844640" cy="470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66733"/>
              </a:gs>
              <a:gs pos="100000">
                <a:srgbClr val="89ca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未知"/>
          <p:cNvSpPr/>
          <p:nvPr/>
        </p:nvSpPr>
        <p:spPr>
          <a:xfrm>
            <a:off x="5210280" y="30942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2301120" y="119772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89ca64"/>
              </a:gs>
              <a:gs pos="100000">
                <a:srgbClr val="77b05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695680" y="28656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endCxn id="580" idx="3"/>
          </p:cNvCxnSpPr>
          <p:nvPr/>
        </p:nvCxnSpPr>
        <p:spPr>
          <a:xfrm flipV="1" rot="10800000">
            <a:off x="3631320" y="2179440"/>
            <a:ext cx="2417040" cy="88488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endCxn id="573" idx="3"/>
          </p:cNvCxnSpPr>
          <p:nvPr/>
        </p:nvCxnSpPr>
        <p:spPr>
          <a:xfrm rot="10800000">
            <a:off x="4974480" y="3596400"/>
            <a:ext cx="1226160" cy="1836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3006720" y="38656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336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048360" y="1996920"/>
            <a:ext cx="2028960" cy="482400"/>
            <a:chOff x="6048360" y="1996920"/>
            <a:chExt cx="2028960" cy="482400"/>
          </a:xfrm>
        </p:grpSpPr>
        <p:sp>
          <p:nvSpPr>
            <p:cNvPr id="586" name="未知"/>
            <p:cNvSpPr/>
            <p:nvPr/>
          </p:nvSpPr>
          <p:spPr>
            <a:xfrm>
              <a:off x="616788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4836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b9e4e"/>
                </a:gs>
                <a:gs pos="100000">
                  <a:srgbClr val="89ca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048360" y="3551400"/>
            <a:ext cx="2028960" cy="482040"/>
            <a:chOff x="6048360" y="3551400"/>
            <a:chExt cx="2028960" cy="482040"/>
          </a:xfrm>
        </p:grpSpPr>
        <p:sp>
          <p:nvSpPr>
            <p:cNvPr id="589" name="未知"/>
            <p:cNvSpPr/>
            <p:nvPr/>
          </p:nvSpPr>
          <p:spPr>
            <a:xfrm>
              <a:off x="616788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4836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036a3d"/>
                </a:gs>
                <a:gs pos="100000">
                  <a:srgbClr val="0488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048360" y="4923000"/>
            <a:ext cx="2028960" cy="482040"/>
            <a:chOff x="6048360" y="4923000"/>
            <a:chExt cx="2028960" cy="482040"/>
          </a:xfrm>
        </p:grpSpPr>
        <p:sp>
          <p:nvSpPr>
            <p:cNvPr id="592" name="未知"/>
            <p:cNvSpPr/>
            <p:nvPr/>
          </p:nvSpPr>
          <p:spPr>
            <a:xfrm>
              <a:off x="616788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4836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c87500"/>
                </a:gs>
                <a:gs pos="100000">
                  <a:srgbClr val="ff9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866880" y="5151600"/>
            <a:ext cx="2028600" cy="482040"/>
            <a:chOff x="866880" y="5151600"/>
            <a:chExt cx="2028600" cy="482040"/>
          </a:xfrm>
        </p:grpSpPr>
        <p:sp>
          <p:nvSpPr>
            <p:cNvPr id="595" name="未知"/>
            <p:cNvSpPr/>
            <p:nvPr/>
          </p:nvSpPr>
          <p:spPr>
            <a:xfrm>
              <a:off x="986400" y="54291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6880" y="51516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a9810"/>
                </a:gs>
                <a:gs pos="100000">
                  <a:srgbClr val="d9c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"/>
          <p:cNvCxnSpPr/>
          <p:nvPr/>
        </p:nvCxnSpPr>
        <p:spPr>
          <a:xfrm rot="10800000">
            <a:off x="452376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/>
          <p:nvPr/>
        </p:nvCxnSpPr>
        <p:spPr>
          <a:xfrm flipH="1" flipV="1" rot="5400000">
            <a:off x="2422080" y="4633200"/>
            <a:ext cx="1203840" cy="2581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635184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9972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2816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775520" y="2149560"/>
            <a:ext cx="995760" cy="1294200"/>
            <a:chOff x="1775520" y="2149560"/>
            <a:chExt cx="995760" cy="1294200"/>
          </a:xfrm>
        </p:grpSpPr>
        <p:grpSp>
          <p:nvGrpSpPr>
            <p:cNvPr id="603" name=""/>
            <p:cNvGrpSpPr/>
            <p:nvPr/>
          </p:nvGrpSpPr>
          <p:grpSpPr>
            <a:xfrm>
              <a:off x="1775520" y="2152080"/>
              <a:ext cx="990720" cy="1291680"/>
              <a:chOff x="1775520" y="2152080"/>
              <a:chExt cx="990720" cy="1291680"/>
            </a:xfrm>
          </p:grpSpPr>
          <p:sp>
            <p:nvSpPr>
              <p:cNvPr id="604" name="未知"/>
              <p:cNvSpPr/>
              <p:nvPr/>
            </p:nvSpPr>
            <p:spPr>
              <a:xfrm>
                <a:off x="177552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4300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未知"/>
            <p:cNvSpPr/>
            <p:nvPr/>
          </p:nvSpPr>
          <p:spPr>
            <a:xfrm>
              <a:off x="178128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197532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4840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209736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029320" y="2155680"/>
              <a:ext cx="344520" cy="359280"/>
              <a:chOff x="2029320" y="2155680"/>
              <a:chExt cx="344520" cy="35928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2037960" y="2155680"/>
                <a:ext cx="335880" cy="273960"/>
                <a:chOff x="2037960" y="2155680"/>
                <a:chExt cx="335880" cy="273960"/>
              </a:xfrm>
            </p:grpSpPr>
            <p:sp>
              <p:nvSpPr>
                <p:cNvPr id="612" name=""/>
                <p:cNvSpPr/>
                <p:nvPr/>
              </p:nvSpPr>
              <p:spPr>
                <a:xfrm flipH="1" rot="15040200">
                  <a:off x="2190240" y="21229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rot="14224200">
                  <a:off x="215100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 rot="13928400">
                  <a:off x="2132280" y="21556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 rot="13396200">
                  <a:off x="211104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2029320" y="2177640"/>
                <a:ext cx="271800" cy="337320"/>
                <a:chOff x="2029320" y="2177640"/>
                <a:chExt cx="271800" cy="337320"/>
              </a:xfrm>
            </p:grpSpPr>
            <p:sp>
              <p:nvSpPr>
                <p:cNvPr id="617" name=""/>
                <p:cNvSpPr/>
                <p:nvPr/>
              </p:nvSpPr>
              <p:spPr>
                <a:xfrm flipH="1" rot="13687200">
                  <a:off x="2126160" y="21711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 rot="12871200">
                  <a:off x="209556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 rot="12576000">
                  <a:off x="2085120" y="22237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rot="12043800">
                  <a:off x="20739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1" name=""/>
            <p:cNvGrpSpPr/>
            <p:nvPr/>
          </p:nvGrpSpPr>
          <p:grpSpPr>
            <a:xfrm>
              <a:off x="1849320" y="2691360"/>
              <a:ext cx="429480" cy="517320"/>
              <a:chOff x="1849320" y="2691360"/>
              <a:chExt cx="429480" cy="51732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1849320" y="2691360"/>
                <a:ext cx="429480" cy="405000"/>
                <a:chOff x="1849320" y="2691360"/>
                <a:chExt cx="429480" cy="405000"/>
              </a:xfrm>
            </p:grpSpPr>
            <p:sp>
              <p:nvSpPr>
                <p:cNvPr id="623" name=""/>
                <p:cNvSpPr/>
                <p:nvPr/>
              </p:nvSpPr>
              <p:spPr>
                <a:xfrm flipH="1" rot="14424600">
                  <a:off x="204588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rot="13608600">
                  <a:off x="199332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rot="13313400">
                  <a:off x="196956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 rot="12781200">
                  <a:off x="194148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1850400" y="2719080"/>
                <a:ext cx="308880" cy="489600"/>
                <a:chOff x="1850400" y="2719080"/>
                <a:chExt cx="308880" cy="489600"/>
              </a:xfrm>
            </p:grpSpPr>
            <p:sp>
              <p:nvSpPr>
                <p:cNvPr id="628" name=""/>
                <p:cNvSpPr/>
                <p:nvPr/>
              </p:nvSpPr>
              <p:spPr>
                <a:xfrm flipH="1" rot="13071600">
                  <a:off x="195876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 rot="12256200">
                  <a:off x="192168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rot="11960400">
                  <a:off x="190908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H="1" rot="11428200">
                  <a:off x="189648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" name=""/>
          <p:cNvSpPr/>
          <p:nvPr/>
        </p:nvSpPr>
        <p:spPr>
          <a:xfrm>
            <a:off x="132012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242000" y="2149560"/>
            <a:ext cx="996120" cy="1294200"/>
            <a:chOff x="1242000" y="2149560"/>
            <a:chExt cx="996120" cy="1294200"/>
          </a:xfrm>
        </p:grpSpPr>
        <p:grpSp>
          <p:nvGrpSpPr>
            <p:cNvPr id="634" name=""/>
            <p:cNvGrpSpPr/>
            <p:nvPr/>
          </p:nvGrpSpPr>
          <p:grpSpPr>
            <a:xfrm>
              <a:off x="1242000" y="2152080"/>
              <a:ext cx="991080" cy="1291680"/>
              <a:chOff x="1242000" y="2152080"/>
              <a:chExt cx="991080" cy="1291680"/>
            </a:xfrm>
          </p:grpSpPr>
          <p:sp>
            <p:nvSpPr>
              <p:cNvPr id="635" name="未知"/>
              <p:cNvSpPr/>
              <p:nvPr/>
            </p:nvSpPr>
            <p:spPr>
              <a:xfrm>
                <a:off x="124200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0984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未知"/>
            <p:cNvSpPr/>
            <p:nvPr/>
          </p:nvSpPr>
          <p:spPr>
            <a:xfrm>
              <a:off x="124776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c215"/>
                </a:gs>
                <a:gs pos="100000">
                  <a:srgbClr val="38320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144216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9c215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1524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96c0b"/>
                </a:gs>
                <a:gs pos="50000">
                  <a:srgbClr val="d9c215"/>
                </a:gs>
                <a:gs pos="100000">
                  <a:srgbClr val="796c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156384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9c215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1496160" y="2155680"/>
              <a:ext cx="344880" cy="359280"/>
              <a:chOff x="1496160" y="2155680"/>
              <a:chExt cx="344880" cy="35928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1504440" y="2155680"/>
                <a:ext cx="336600" cy="273960"/>
                <a:chOff x="1504440" y="2155680"/>
                <a:chExt cx="336600" cy="273960"/>
              </a:xfrm>
            </p:grpSpPr>
            <p:sp>
              <p:nvSpPr>
                <p:cNvPr id="643" name=""/>
                <p:cNvSpPr/>
                <p:nvPr/>
              </p:nvSpPr>
              <p:spPr>
                <a:xfrm flipH="1" rot="15040200">
                  <a:off x="165708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 rot="14224200">
                  <a:off x="161784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rot="13928400">
                  <a:off x="159948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 rot="13396200">
                  <a:off x="157788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496160" y="2177280"/>
                <a:ext cx="271800" cy="337680"/>
                <a:chOff x="1496160" y="2177280"/>
                <a:chExt cx="271800" cy="337680"/>
              </a:xfrm>
            </p:grpSpPr>
            <p:sp>
              <p:nvSpPr>
                <p:cNvPr id="648" name=""/>
                <p:cNvSpPr/>
                <p:nvPr/>
              </p:nvSpPr>
              <p:spPr>
                <a:xfrm flipH="1" rot="13687200">
                  <a:off x="159264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H="1" rot="12871200">
                  <a:off x="156240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rot="12576000">
                  <a:off x="15519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rot="12043800">
                  <a:off x="154044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2" name=""/>
            <p:cNvGrpSpPr/>
            <p:nvPr/>
          </p:nvGrpSpPr>
          <p:grpSpPr>
            <a:xfrm>
              <a:off x="1315800" y="2691360"/>
              <a:ext cx="429480" cy="517320"/>
              <a:chOff x="1315800" y="2691360"/>
              <a:chExt cx="429480" cy="51732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315800" y="2691360"/>
                <a:ext cx="429480" cy="405000"/>
                <a:chOff x="1315800" y="2691360"/>
                <a:chExt cx="429480" cy="405000"/>
              </a:xfrm>
            </p:grpSpPr>
            <p:sp>
              <p:nvSpPr>
                <p:cNvPr id="654" name=""/>
                <p:cNvSpPr/>
                <p:nvPr/>
              </p:nvSpPr>
              <p:spPr>
                <a:xfrm flipH="1" rot="14424600">
                  <a:off x="1512360" y="26398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rot="13608600">
                  <a:off x="1459800" y="26719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rot="13313400">
                  <a:off x="1436040" y="26982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rot="12781200">
                  <a:off x="140796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1316880" y="2719080"/>
                <a:ext cx="308880" cy="489600"/>
                <a:chOff x="1316880" y="2719080"/>
                <a:chExt cx="308880" cy="489600"/>
              </a:xfrm>
            </p:grpSpPr>
            <p:sp>
              <p:nvSpPr>
                <p:cNvPr id="659" name=""/>
                <p:cNvSpPr/>
                <p:nvPr/>
              </p:nvSpPr>
              <p:spPr>
                <a:xfrm flipH="1" rot="13071600">
                  <a:off x="1425240" y="27097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rot="12256200">
                  <a:off x="1388160" y="27597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 rot="11960400">
                  <a:off x="1375560" y="2792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rot="11428200">
                  <a:off x="136296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3" name=""/>
          <p:cNvSpPr/>
          <p:nvPr/>
        </p:nvSpPr>
        <p:spPr>
          <a:xfrm>
            <a:off x="117036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48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4884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4884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2492a"/>
              </a:gs>
              <a:gs pos="50000">
                <a:srgbClr val="04884e"/>
              </a:gs>
              <a:gs pos="100000">
                <a:srgbClr val="0249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04884e">
                  <a:alpha val="0"/>
                </a:srgbClr>
              </a:gs>
              <a:gs pos="100000">
                <a:srgbClr val="0256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96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96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895000"/>
              </a:gs>
              <a:gs pos="50000">
                <a:srgbClr val="ff9600"/>
              </a:gs>
              <a:gs pos="100000">
                <a:srgbClr val="895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ff9600">
                  <a:alpha val="0"/>
                </a:srgbClr>
              </a:gs>
              <a:gs pos="100000">
                <a:srgbClr val="a1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679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9ca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3f5d2e"/>
              </a:gs>
              <a:gs pos="100000">
                <a:srgbClr val="89ca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496c35"/>
              </a:gs>
              <a:gs pos="50000">
                <a:srgbClr val="89ca64"/>
              </a:gs>
              <a:gs pos="100000">
                <a:srgbClr val="496c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9ca64">
                  <a:alpha val="0"/>
                </a:srgbClr>
              </a:gs>
              <a:gs pos="100000">
                <a:srgbClr val="567f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689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694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06" name="未知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10" name="未知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9ca64"/>
                </a:gs>
                <a:gs pos="100000">
                  <a:srgbClr val="3f5d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d9c215"/>
                </a:gs>
                <a:gs pos="100000">
                  <a:srgbClr val="6459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4884e"/>
                </a:gs>
                <a:gs pos="100000">
                  <a:srgbClr val="48a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89ca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8480" y="4781520"/>
            <a:ext cx="7653240" cy="847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8200" y="4076640"/>
            <a:ext cx="7643520" cy="70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9ca64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08200" y="3411360"/>
            <a:ext cx="7643520" cy="66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98480" y="2814480"/>
            <a:ext cx="7653240" cy="596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89ca64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98480" y="2378160"/>
            <a:ext cx="7653240" cy="43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9600">
                  <a:alpha val="5019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3680" y="281448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3680" y="340524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63680" y="408132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3680" y="4784760"/>
            <a:ext cx="829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730600" y="4627440"/>
            <a:ext cx="3456000" cy="1239840"/>
            <a:chOff x="2730600" y="4627440"/>
            <a:chExt cx="3456000" cy="1239840"/>
          </a:xfrm>
        </p:grpSpPr>
        <p:sp>
          <p:nvSpPr>
            <p:cNvPr id="727" name=""/>
            <p:cNvSpPr/>
            <p:nvPr/>
          </p:nvSpPr>
          <p:spPr>
            <a:xfrm>
              <a:off x="2730600" y="4627440"/>
              <a:ext cx="344880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14823"/>
                </a:gs>
                <a:gs pos="50000">
                  <a:srgbClr val="89ca64"/>
                </a:gs>
                <a:gs pos="100000">
                  <a:srgbClr val="3148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30600" y="4634280"/>
              <a:ext cx="3456000" cy="612720"/>
            </a:xfrm>
            <a:prstGeom prst="ellipse">
              <a:avLst/>
            </a:prstGeom>
            <a:gradFill rotWithShape="0">
              <a:gsLst>
                <a:gs pos="0">
                  <a:srgbClr val="436431"/>
                </a:gs>
                <a:gs pos="100000">
                  <a:srgbClr val="89ca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017880" y="3959280"/>
            <a:ext cx="2860560" cy="1062000"/>
            <a:chOff x="3017880" y="3959280"/>
            <a:chExt cx="2860560" cy="1062000"/>
          </a:xfrm>
        </p:grpSpPr>
        <p:sp>
          <p:nvSpPr>
            <p:cNvPr id="730" name=""/>
            <p:cNvSpPr/>
            <p:nvPr/>
          </p:nvSpPr>
          <p:spPr>
            <a:xfrm>
              <a:off x="3017880" y="39592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8e5300"/>
                </a:gs>
                <a:gs pos="50000">
                  <a:srgbClr val="ff9600"/>
                </a:gs>
                <a:gs pos="100000">
                  <a:srgbClr val="8e5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17880" y="39650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8e5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244680" y="3316320"/>
            <a:ext cx="2364120" cy="1003320"/>
            <a:chOff x="3244680" y="3316320"/>
            <a:chExt cx="2364120" cy="1003320"/>
          </a:xfrm>
        </p:grpSpPr>
        <p:sp>
          <p:nvSpPr>
            <p:cNvPr id="733" name=""/>
            <p:cNvSpPr/>
            <p:nvPr/>
          </p:nvSpPr>
          <p:spPr>
            <a:xfrm>
              <a:off x="3249360" y="33163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4c7037"/>
                </a:gs>
                <a:gs pos="50000">
                  <a:srgbClr val="89ca64"/>
                </a:gs>
                <a:gs pos="100000">
                  <a:srgbClr val="4c70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44680" y="33210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9ca64"/>
                </a:gs>
                <a:gs pos="100000">
                  <a:srgbClr val="4c70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497400" y="2768760"/>
            <a:ext cx="1885680" cy="822240"/>
            <a:chOff x="3497400" y="2768760"/>
            <a:chExt cx="1885680" cy="822240"/>
          </a:xfrm>
        </p:grpSpPr>
        <p:sp>
          <p:nvSpPr>
            <p:cNvPr id="736" name=""/>
            <p:cNvSpPr/>
            <p:nvPr/>
          </p:nvSpPr>
          <p:spPr>
            <a:xfrm>
              <a:off x="3497400" y="27687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76200"/>
                </a:gs>
                <a:gs pos="50000">
                  <a:srgbClr val="ff9600"/>
                </a:gs>
                <a:gs pos="100000">
                  <a:srgbClr val="a76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4240" y="2768760"/>
              <a:ext cx="1878480" cy="328680"/>
            </a:xfrm>
            <a:prstGeom prst="ellipse">
              <a:avLst/>
            </a:prstGeom>
            <a:gradFill rotWithShape="0">
              <a:gsLst>
                <a:gs pos="0">
                  <a:srgbClr val="ff9600"/>
                </a:gs>
                <a:gs pos="100000">
                  <a:srgbClr val="c27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733920" y="2359080"/>
            <a:ext cx="1473120" cy="560160"/>
          </a:xfrm>
          <a:prstGeom prst="can">
            <a:avLst>
              <a:gd name="adj" fmla="val 36643"/>
            </a:avLst>
          </a:prstGeom>
          <a:solidFill>
            <a:srgbClr val="89ca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43200" y="32004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43200" y="3875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643200" y="456552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43200" y="54626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43200" y="26020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6192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3800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42380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26972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5380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81360" y="24354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62160" y="2968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71760" y="3587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08280" y="43322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3880" y="51004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74840" y="17161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c215"/>
                </a:gs>
                <a:gs pos="50000">
                  <a:srgbClr val="f5f1cc"/>
                </a:gs>
                <a:gs pos="100000">
                  <a:srgbClr val="d9c21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c21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9ca64"/>
                </a:gs>
                <a:gs pos="50000">
                  <a:srgbClr val="e5f2dd"/>
                </a:gs>
                <a:gs pos="100000">
                  <a:srgbClr val="89ca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9ca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4884e"/>
                </a:gs>
                <a:gs pos="50000">
                  <a:srgbClr val="c9e4d8"/>
                </a:gs>
                <a:gs pos="100000">
                  <a:srgbClr val="04884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0488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600"/>
                </a:gs>
                <a:gs pos="50000">
                  <a:srgbClr val="fee7c8"/>
                </a:gs>
                <a:gs pos="100000">
                  <a:srgbClr val="ff9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ff96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4884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B88C-EDB1-4752-90F8-70B13B0AC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5181120" y="23623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181480" y="2743200"/>
            <a:ext cx="3733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9ca64"/>
                    </a:gs>
                    <a:gs pos="100000">
                      <a:srgbClr val="d9c215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9ca64"/>
                  </a:gs>
                  <a:gs pos="100000">
                    <a:srgbClr val="d9c215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19358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89ca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PMingLiU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952880"/>
            <a:ext cx="63244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CD_School life_PHOTODISC(MULTIBITS), School Days_EYEWIRE(NFI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89ca64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89ca64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ae3d"/>
              </a:gs>
              <a:gs pos="50000">
                <a:srgbClr val="ff9600"/>
              </a:gs>
              <a:gs pos="100000">
                <a:srgbClr val="feae3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d04d"/>
              </a:gs>
              <a:gs pos="50000">
                <a:srgbClr val="d9c215"/>
              </a:gs>
              <a:gs pos="100000">
                <a:srgbClr val="e1d04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9ca6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9c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c215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9c2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9ca6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9c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ff96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/>
          </a:solidFill>
          <a:ln w="9360">
            <a:solidFill>
              <a:srgbClr val="c0c0c0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d9c215"/>
          </a:solidFill>
          <a:ln w="9360">
            <a:solidFill>
              <a:srgbClr val="d9c215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d9c215">
              <a:alpha val="50000"/>
            </a:srgbClr>
          </a:solidFill>
          <a:ln w="9360">
            <a:solidFill>
              <a:srgbClr val="d9c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ff9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9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694800">
              <a:off x="3393000" y="3163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6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884e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c215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4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5" name=""/>
              <p:cNvSpPr/>
              <p:nvPr/>
            </p:nvSpPr>
            <p:spPr>
              <a:xfrm flipV="1" rot="8983800">
                <a:off x="545616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8167800">
                <a:off x="5336640" y="131760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243320" y="1317600"/>
              <a:ext cx="1742760" cy="1050120"/>
              <a:chOff x="4243320" y="1317600"/>
              <a:chExt cx="1742760" cy="1050120"/>
            </a:xfrm>
          </p:grpSpPr>
          <p:sp>
            <p:nvSpPr>
              <p:cNvPr id="230" name=""/>
              <p:cNvSpPr/>
              <p:nvPr/>
            </p:nvSpPr>
            <p:spPr>
              <a:xfrm flipV="1" rot="7630800">
                <a:off x="521748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814800">
                <a:off x="5036400" y="10544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未知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d6ecc9"/>
              </a:gs>
              <a:gs pos="100000">
                <a:srgbClr val="89ca64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 Title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255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1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Chart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269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287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305" name="未知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331" name="未知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357" name="未知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362" name="未知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367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368" name="未知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374" name="未知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380" name="未知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386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387" name="未知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393" name="未知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399" name="未知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MingLiU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89ca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4884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420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 rot="5400000">
              <a:off x="3033000" y="231840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 flipV="1" rot="16200000">
              <a:off x="303660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428" name="未知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438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446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447" name="未知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未知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4884e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23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2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