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D18D-F62E-42A6-BB8A-C59BD55E9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8C56-5CA1-4D57-8D8C-7319334DD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0C4A-97F7-483C-A320-5ABAF9F88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5080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324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AFAD-C058-419C-8778-27BD91A6D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42472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FF52-5147-4530-AF2D-E92984881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21AB-F442-4DB1-A0B3-8C52A5CEB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4F36-5AA2-4149-8B91-EA88CD4C6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0E2F-82FF-40DD-9B93-3454DAE87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42472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8918-2CF9-4C15-B42D-53D5A5BAA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5F36-E917-4C99-BEBC-19FAE1A98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76E7-15F2-4D68-B228-1D1144B0F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B91C-6A23-4333-815F-91CD1CBA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69" y="337"/>
                  <a:pt x="2154" y="320"/>
                  <a:pt x="2452" y="314"/>
                </a:cubicBezTo>
                <a:lnTo>
                  <a:pt x="3102" y="326"/>
                </a:lnTo>
                <a:cubicBezTo>
                  <a:pt x="3367" y="346"/>
                  <a:pt x="3736" y="377"/>
                  <a:pt x="4043" y="434"/>
                </a:cubicBezTo>
                <a:cubicBezTo>
                  <a:pt x="4350" y="490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58a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31680"/>
            <a:ext cx="9144000" cy="6885000"/>
            <a:chOff x="0" y="-31680"/>
            <a:chExt cx="9144000" cy="6885000"/>
          </a:xfrm>
        </p:grpSpPr>
        <p:sp>
          <p:nvSpPr>
            <p:cNvPr id="2" name=""/>
            <p:cNvSpPr/>
            <p:nvPr/>
          </p:nvSpPr>
          <p:spPr>
            <a:xfrm>
              <a:off x="0" y="6381720"/>
              <a:ext cx="355680" cy="4716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42240" y="6381720"/>
              <a:ext cx="401760" cy="45576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1680" y="36720"/>
              <a:ext cx="9072720" cy="67705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31680"/>
              <a:ext cx="45720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91480" y="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ACC-7039-411A-9B9A-77DB6DE73D6E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020000" y="836640"/>
            <a:ext cx="360360" cy="358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29395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67640" y="981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58a252"/>
              </a:gs>
              <a:gs pos="100000">
                <a:srgbClr val="284a2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15280" y="1197000"/>
            <a:ext cx="504720" cy="50328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0" y="44280"/>
            <a:ext cx="9145440" cy="4032360"/>
          </a:xfrm>
          <a:custGeom>
            <a:avLst/>
            <a:gdLst/>
            <a:ahLst/>
            <a:rect l="l" t="t" r="r" b="b"/>
            <a:pathLst>
              <a:path w="5761" h="2540">
                <a:moveTo>
                  <a:pt x="1552" y="644"/>
                </a:moveTo>
                <a:cubicBezTo>
                  <a:pt x="2544" y="580"/>
                  <a:pt x="3075" y="689"/>
                  <a:pt x="3600" y="817"/>
                </a:cubicBezTo>
                <a:cubicBezTo>
                  <a:pt x="4125" y="945"/>
                  <a:pt x="4363" y="1083"/>
                  <a:pt x="4669" y="1271"/>
                </a:cubicBezTo>
                <a:cubicBezTo>
                  <a:pt x="4975" y="1459"/>
                  <a:pt x="5258" y="1745"/>
                  <a:pt x="5435" y="1944"/>
                </a:cubicBezTo>
                <a:cubicBezTo>
                  <a:pt x="5612" y="2143"/>
                  <a:pt x="5652" y="2204"/>
                  <a:pt x="5703" y="2282"/>
                </a:cubicBezTo>
                <a:cubicBezTo>
                  <a:pt x="5754" y="2360"/>
                  <a:pt x="5736" y="2369"/>
                  <a:pt x="5738" y="2410"/>
                </a:cubicBezTo>
                <a:cubicBezTo>
                  <a:pt x="5761" y="2445"/>
                  <a:pt x="5719" y="2512"/>
                  <a:pt x="5715" y="2526"/>
                </a:cubicBezTo>
                <a:cubicBezTo>
                  <a:pt x="5711" y="2540"/>
                  <a:pt x="5716" y="2505"/>
                  <a:pt x="5715" y="2497"/>
                </a:cubicBezTo>
                <a:lnTo>
                  <a:pt x="5709" y="2480"/>
                </a:lnTo>
                <a:lnTo>
                  <a:pt x="5716" y="0"/>
                </a:lnTo>
                <a:lnTo>
                  <a:pt x="0" y="0"/>
                </a:lnTo>
                <a:lnTo>
                  <a:pt x="0" y="1043"/>
                </a:lnTo>
                <a:cubicBezTo>
                  <a:pt x="0" y="1043"/>
                  <a:pt x="455" y="861"/>
                  <a:pt x="682" y="798"/>
                </a:cubicBezTo>
                <a:cubicBezTo>
                  <a:pt x="906" y="736"/>
                  <a:pt x="1251" y="682"/>
                  <a:pt x="1360" y="663"/>
                </a:cubicBezTo>
              </a:path>
            </a:pathLst>
          </a:custGeom>
          <a:gradFill rotWithShape="0">
            <a:gsLst>
              <a:gs pos="0">
                <a:srgbClr val="58a252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6480" y="0"/>
            <a:ext cx="9150480" cy="6859440"/>
            <a:chOff x="-6480" y="0"/>
            <a:chExt cx="9150480" cy="6859440"/>
          </a:xfrm>
        </p:grpSpPr>
        <p:sp>
          <p:nvSpPr>
            <p:cNvPr id="52" name=""/>
            <p:cNvSpPr/>
            <p:nvPr/>
          </p:nvSpPr>
          <p:spPr>
            <a:xfrm>
              <a:off x="3636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224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8032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606400"/>
            <a:ext cx="734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2349360"/>
            <a:ext cx="1224000" cy="1295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1125360"/>
            <a:ext cx="792000" cy="790920"/>
          </a:xfrm>
          <a:prstGeom prst="ellipse">
            <a:avLst/>
          </a:prstGeom>
          <a:gradFill rotWithShape="0">
            <a:gsLst>
              <a:gs pos="0">
                <a:srgbClr val="2c95a0"/>
              </a:gs>
              <a:gs pos="100000">
                <a:srgbClr val="14444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836640"/>
            <a:ext cx="504720" cy="504720"/>
          </a:xfrm>
          <a:prstGeom prst="ellipse">
            <a:avLst/>
          </a:prstGeom>
          <a:gradFill rotWithShape="0">
            <a:gsLst>
              <a:gs pos="0">
                <a:srgbClr val="58a252"/>
              </a:gs>
              <a:gs pos="100000">
                <a:srgbClr val="284a2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197000"/>
            <a:ext cx="360360" cy="358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29395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606400"/>
            <a:ext cx="734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Gulim"/>
              </a:rPr>
              <a:t>PowerPoint 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756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国外经典科技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70C5-611B-4094-A702-EACA7D3A5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7cc0"/>
                    </a:gs>
                    <a:gs pos="100000">
                      <a:srgbClr val="58a252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7cc0"/>
                  </a:gs>
                  <a:gs pos="100000">
                    <a:srgbClr val="58a252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5a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Your Company Slogan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3958"/>
              </a:gs>
              <a:gs pos="50000">
                <a:srgbClr val="5a7cc0"/>
              </a:gs>
              <a:gs pos="100000">
                <a:srgbClr val="29395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4449"/>
              </a:gs>
              <a:gs pos="50000">
                <a:srgbClr val="2c95a0"/>
              </a:gs>
              <a:gs pos="100000">
                <a:srgbClr val="144449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155d"/>
              </a:gs>
              <a:gs pos="50000">
                <a:srgbClr val="872eca"/>
              </a:gs>
              <a:gs pos="100000">
                <a:srgbClr val="3e155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95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95a0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120" y="1881360"/>
          <a:ext cx="7589880" cy="3470040"/>
        </p:xfrm>
        <a:graphic>
          <a:graphicData uri="http://schemas.openxmlformats.org/drawingml/2006/table">
            <a:tbl>
              <a:tblPr/>
              <a:tblGrid>
                <a:gridCol w="1517760"/>
                <a:gridCol w="1519200"/>
                <a:gridCol w="1515960"/>
                <a:gridCol w="1519200"/>
                <a:gridCol w="15177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7cc0"/>
                        </a:gs>
                        <a:gs pos="100000">
                          <a:srgbClr val="293958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7cc0"/>
                        </a:gs>
                        <a:gs pos="100000">
                          <a:srgbClr val="293958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7cc0"/>
                        </a:gs>
                        <a:gs pos="100000">
                          <a:srgbClr val="293958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7cc0"/>
                        </a:gs>
                        <a:gs pos="100000">
                          <a:srgbClr val="293958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a7cc0"/>
                        </a:gs>
                        <a:gs pos="100000">
                          <a:srgbClr val="293958"/>
                        </a:gs>
                      </a:gsLst>
                      <a:lin ang="13500000"/>
                    </a:gra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8a252"/>
                        </a:gs>
                        <a:gs pos="100000">
                          <a:srgbClr val="a3cba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c6c6f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c95a0"/>
                        </a:gs>
                        <a:gs pos="100000">
                          <a:srgbClr val="8bc4ca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72eca"/>
                        </a:gs>
                        <a:gs pos="100000">
                          <a:srgbClr val="bc8ce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872eca"/>
              </a:gs>
              <a:gs pos="100000">
                <a:srgbClr val="2e0f4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1e2a4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2c95a0"/>
              </a:gs>
              <a:gs pos="100000">
                <a:srgbClr val="0f343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7cc0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155d"/>
              </a:gs>
              <a:gs pos="100000">
                <a:srgbClr val="872ec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406b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4449"/>
              </a:gs>
              <a:gs pos="100000">
                <a:srgbClr val="2c95a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c95a0"/>
              </a:gs>
              <a:gs pos="100000">
                <a:srgbClr val="a9d3d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5d5f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72eca"/>
              </a:gs>
              <a:gs pos="100000">
                <a:srgbClr val="ddc4e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34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872ec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42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872ec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48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703520" y="1244520"/>
            <a:ext cx="568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50000">
                <a:srgbClr val="c0c0d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384e79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601600">
            <a:off x="1557000" y="1933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601600">
            <a:off x="1609560" y="1901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rot="20602200">
            <a:off x="1586520" y="19324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601600">
            <a:off x="1630080" y="192168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rot="20602200">
            <a:off x="1613880" y="19206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4160" y="1235160"/>
            <a:ext cx="6918480" cy="4356720"/>
            <a:chOff x="704160" y="1235160"/>
            <a:chExt cx="6918480" cy="4356720"/>
          </a:xfrm>
        </p:grpSpPr>
        <p:sp>
          <p:nvSpPr>
            <p:cNvPr id="171" name=""/>
            <p:cNvSpPr/>
            <p:nvPr/>
          </p:nvSpPr>
          <p:spPr>
            <a:xfrm rot="20712600">
              <a:off x="956880" y="20066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539200">
            <a:off x="1498320" y="1823760"/>
            <a:ext cx="6316920" cy="309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50000">
                <a:srgbClr val="d6deee"/>
              </a:gs>
              <a:gs pos="100000">
                <a:srgbClr val="5a7c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7cc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9:18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47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