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C03-F3B3-4FEA-9F3B-0736ECB5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D14-DA9B-4382-B09E-FC000272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006-08D9-4499-B02B-B8FB54E6B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30A6-D1E1-4A6D-8927-551F839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3506-A4B8-4981-9291-83741C2E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62C-728B-454E-99D5-BC81EE9B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C49-4D6E-444A-A854-BB02827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72C4-F1F0-46FE-8FA8-A44AA435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34F-44E5-4ED4-AC65-1862F920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9C0D-45FC-41DC-B68A-A877D381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F224-AA90-425D-9A44-9EAE4A1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964-1C6D-44A4-A635-4EDE9173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E16D-936D-4ED1-807F-73ADB5A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7CAF-B823-4668-992C-671C5EEE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59A1-F175-466B-9CDB-215E3D74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1994-1137-4AAB-94D1-3831528A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42D7-D56D-48AF-BA35-56A1B2B2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3FE92-6BC8-4862-8157-1D8866A5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8C6E2-D268-421C-9B1D-A6CEC948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05235-1D0D-4879-83A8-78845F73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6E53E-A9D8-4665-9122-E3A33C00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E179-37BD-4F05-90DE-D9CA932D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E562-B8D2-46BE-9915-1331E156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30E1A-75FD-457B-B1A9-C56EEF3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77C8D-6AA4-4ACE-A19C-BEDD6A50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F42AC-2271-4C2C-8E40-BD2D240B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D16C-49CF-4321-8C36-0250EFFC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BB38-3F75-4137-80AF-58D15919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FD64E-946A-498B-A21F-3EB3676F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2276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258600" y="160020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728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2276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258600" y="3964320"/>
            <a:ext cx="241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2006-AC64-409C-9196-FDFCFE20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53BF-753B-46BA-AF01-284A228E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E24B-3D66-464B-B1A5-DE2F4D57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728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4E66-1C85-4A7E-B528-BFA02DA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379-5928-41F5-AB4A-CD2F2B3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30280" y="396432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8455-E516-43AC-82A7-12D0D006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30280" y="1600200"/>
            <a:ext cx="3659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7280" y="3964320"/>
            <a:ext cx="7499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60C-F66A-428A-BF3E-0E15B636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BE3-2A47-4790-AF7A-7767334AC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7664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256D-9844-4BEA-A1BE-5A354B3B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8A27-1997-4DB4-9C7C-AC7AECEC1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1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国外教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403280" y="508428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310D-8A4C-46CA-AE66-01CD7DD02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92360" y="262404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92360" y="4724280"/>
            <a:ext cx="2033640" cy="152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"/>
          <p:cNvSpPr/>
          <p:nvPr/>
        </p:nvSpPr>
        <p:spPr>
          <a:xfrm>
            <a:off x="3997440" y="1628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7440" y="3716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7440" y="5877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</a:rPr>
              <a:t>Details</a:t>
            </a:r>
            <a:r>
              <a:rPr b="0" lang="en-US" sz="18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4:40:4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33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