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2B9-E55A-40F8-BF0B-7070BCB4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7E9-5D5C-4D3F-AE50-A215EFE6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CCF-2FBB-4C38-94D6-D5FCFF9A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BC7-7AF1-4949-B6A0-56332961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815-2024-44DF-AD4A-A2E3E3A4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7FA-0F8A-4BC3-B5C2-42E35074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0EF-E927-43BC-8D92-757F53FF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43B-FD34-478D-A9DA-C01D9E3A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CB5-5F4C-48C8-A459-BFD3CBF0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281-8F48-41B7-9814-6168605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014-C68D-4CC2-AD62-6F8476FA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67B-E9A5-4894-A890-180BE3E6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3B8-9E23-46A8-B4CE-4AC050EDB8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79480" y="2565360"/>
            <a:ext cx="57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cript MT Bold"/>
                <a:ea typeface="宋体"/>
              </a:rPr>
              <a:t>Se abre el telón y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42960" y="836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国外开场序幕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79640" y="1773360"/>
            <a:ext cx="538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Aparece un tio con un piano diciendo: ¿Cuál es la nota?,¿Cuál es la nota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57040" y="2440080"/>
            <a:ext cx="68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Script MT Bold"/>
                <a:ea typeface="宋体"/>
              </a:rPr>
              <a:t>¿ Cómo se titula la películ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902-3405-406F-983F-8C4CF208A3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836640"/>
            <a:ext cx="53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Es 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40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8:18:5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2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