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0254-207C-4863-A461-E9D862D40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1CD6-2326-460E-8674-AECC0249B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0F76-963E-4FBC-8BE3-B26C40877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F77B-DC65-496E-8E39-BF8135CF5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DBBA8-E332-429C-A48E-85A31719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BD3C7-E7B7-494C-B352-20F3B311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7B76F-2C42-4B41-A8D6-3F610CB4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E8103-13A2-4AF0-ABA7-65A55CFD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A4729-E0F7-4E93-B24B-089C12A3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A1BD-1681-4909-82FB-8FA824F0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987DC-1411-41B8-AE43-646D3C7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7D99-570D-441B-834B-3B25E53F4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5C16E-E01C-4ADA-B6B4-7B133C3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81AD6-6AD9-45E9-B346-39E7CC7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B63CB-BB94-4526-9D4A-5462F14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FE8B-2045-46A8-99F3-91A61FD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410C3-19DB-42E9-A275-BF81196C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31D5-C59D-4A46-A2F2-892BD71BE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653F-36F0-435E-8E3E-13600C55C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D29A-2CE6-4CEA-BCE5-ABD9C180D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D267-797F-4DA1-A8BB-A9D9240FF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11A2-EABB-4D01-AD64-52CBFB259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3447-45ED-4D96-95CA-9D2656199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8C25-4F4F-4AF9-A5D7-E720F8AF3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438280" y="671832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7819920" y="6705720"/>
            <a:ext cx="13082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07800"/>
                </a:solidFill>
                <a:latin typeface="Verdana"/>
                <a:ea typeface="Gulim"/>
              </a:rPr>
              <a:t>YOUR SITE HERE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397160"/>
          </a:xfrm>
          <a:custGeom>
            <a:avLst/>
            <a:gdLst/>
            <a:ahLst/>
            <a:rect l="l" t="t" r="r" b="b"/>
            <a:pathLst>
              <a:path w="5760" h="880">
                <a:moveTo>
                  <a:pt x="0" y="856"/>
                </a:moveTo>
                <a:lnTo>
                  <a:pt x="72" y="856"/>
                </a:lnTo>
                <a:lnTo>
                  <a:pt x="72" y="576"/>
                </a:lnTo>
                <a:lnTo>
                  <a:pt x="4584" y="576"/>
                </a:lnTo>
                <a:lnTo>
                  <a:pt x="4888" y="880"/>
                </a:lnTo>
                <a:lnTo>
                  <a:pt x="5760" y="880"/>
                </a:lnTo>
                <a:lnTo>
                  <a:pt x="5760" y="0"/>
                </a:lnTo>
                <a:lnTo>
                  <a:pt x="0" y="0"/>
                </a:lnTo>
                <a:lnTo>
                  <a:pt x="0" y="856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343-3732-4B93-93CA-91F2C4CC9799}" type="slidenum">
              <a:rPr b="0" lang="ko-KR" sz="1200" spc="-1" strike="noStrike">
                <a:solidFill>
                  <a:srgbClr val="0033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13600" y="987480"/>
            <a:ext cx="115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657520" y="4680"/>
            <a:ext cx="6351480" cy="135000"/>
            <a:chOff x="2657520" y="4680"/>
            <a:chExt cx="6351480" cy="135000"/>
          </a:xfrm>
        </p:grpSpPr>
        <p:sp>
          <p:nvSpPr>
            <p:cNvPr id="10" name=""/>
            <p:cNvSpPr/>
            <p:nvPr/>
          </p:nvSpPr>
          <p:spPr>
            <a:xfrm>
              <a:off x="2657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73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89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05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21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737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528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68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384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00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164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32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48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46408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80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96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112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32772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543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59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975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91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07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23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8390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55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271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7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7026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9186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E75-724B-4147-AC58-E6FF5FAF9C67}" type="slidenum"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31400" cy="825480"/>
          </a:xfrm>
          <a:custGeom>
            <a:avLst/>
            <a:gdLst/>
            <a:ahLst/>
            <a:rect l="l" t="t" r="r" b="b"/>
            <a:pathLst>
              <a:path w="5752" h="520">
                <a:moveTo>
                  <a:pt x="0" y="432"/>
                </a:moveTo>
                <a:lnTo>
                  <a:pt x="0" y="0"/>
                </a:lnTo>
                <a:lnTo>
                  <a:pt x="5752" y="0"/>
                </a:lnTo>
                <a:lnTo>
                  <a:pt x="5752" y="520"/>
                </a:lnTo>
                <a:lnTo>
                  <a:pt x="3960" y="520"/>
                </a:lnTo>
                <a:lnTo>
                  <a:pt x="3672" y="232"/>
                </a:lnTo>
                <a:lnTo>
                  <a:pt x="80" y="232"/>
                </a:lnTo>
                <a:lnTo>
                  <a:pt x="8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360" y="3165480"/>
            <a:ext cx="9136080" cy="2705040"/>
            <a:chOff x="9360" y="3165480"/>
            <a:chExt cx="9136080" cy="2705040"/>
          </a:xfrm>
        </p:grpSpPr>
        <p:sp>
          <p:nvSpPr>
            <p:cNvPr id="82" name=""/>
            <p:cNvSpPr/>
            <p:nvPr/>
          </p:nvSpPr>
          <p:spPr>
            <a:xfrm>
              <a:off x="9360" y="3165480"/>
              <a:ext cx="9136080" cy="270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09240" y="3166920"/>
              <a:ext cx="8421840" cy="2703600"/>
              <a:chOff x="309240" y="3166920"/>
              <a:chExt cx="8421840" cy="2703600"/>
            </a:xfrm>
          </p:grpSpPr>
          <p:sp>
            <p:nvSpPr>
              <p:cNvPr id="84" name=""/>
              <p:cNvSpPr/>
              <p:nvPr/>
            </p:nvSpPr>
            <p:spPr>
              <a:xfrm>
                <a:off x="30924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55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072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2700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922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8681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43332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0960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748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108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1628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99256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5776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3404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9888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7516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4036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571920" y="5175360"/>
            <a:ext cx="1365120" cy="1365120"/>
            <a:chOff x="3571920" y="5175360"/>
            <a:chExt cx="1365120" cy="1365120"/>
          </a:xfrm>
        </p:grpSpPr>
        <p:sp>
          <p:nvSpPr>
            <p:cNvPr id="102" name=""/>
            <p:cNvSpPr/>
            <p:nvPr/>
          </p:nvSpPr>
          <p:spPr>
            <a:xfrm>
              <a:off x="3571920" y="517536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8120" y="561492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033200">
              <a:off x="3686400" y="538596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46840" y="4230720"/>
            <a:ext cx="1949400" cy="1949400"/>
            <a:chOff x="5046840" y="4230720"/>
            <a:chExt cx="1949400" cy="1949400"/>
          </a:xfrm>
        </p:grpSpPr>
        <p:sp>
          <p:nvSpPr>
            <p:cNvPr id="106" name=""/>
            <p:cNvSpPr/>
            <p:nvPr/>
          </p:nvSpPr>
          <p:spPr>
            <a:xfrm>
              <a:off x="5046840" y="42307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5040" y="48578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033200">
              <a:off x="5211720" y="45302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489800" y="3583080"/>
            <a:ext cx="1655640" cy="16556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3720" y="238608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9640" y="671040"/>
            <a:ext cx="52369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Verdana"/>
                <a:ea typeface="Gulim"/>
              </a:rPr>
              <a:t>PowerPoint </a:t>
            </a:r>
            <a:r>
              <a:rPr b="1" lang="en-US" sz="6600" spc="-1" strike="noStrike">
                <a:solidFill>
                  <a:srgbClr val="003300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760" y="2014560"/>
            <a:ext cx="496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4360" y="4264200"/>
            <a:ext cx="1785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  <a:ea typeface="Gulim"/>
              </a:rPr>
              <a:t>Your Site Here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03840" y="3081240"/>
            <a:ext cx="1785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27880" y="2239920"/>
            <a:ext cx="43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国外绿色风格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ECEF-C968-49B2-81E3-6FBE02615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307" name="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0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4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2556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666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318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081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733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496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48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911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6320" y="5613480"/>
                <a:ext cx="90360" cy="12618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032600" y="5613480"/>
                <a:ext cx="269640" cy="12618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974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0737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3892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267080" y="5124600"/>
            <a:ext cx="1365120" cy="1365120"/>
            <a:chOff x="4267080" y="5124600"/>
            <a:chExt cx="1365120" cy="1365120"/>
          </a:xfrm>
        </p:grpSpPr>
        <p:sp>
          <p:nvSpPr>
            <p:cNvPr id="327" name=""/>
            <p:cNvSpPr/>
            <p:nvPr/>
          </p:nvSpPr>
          <p:spPr>
            <a:xfrm>
              <a:off x="4267080" y="512460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3280" y="556416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033200">
              <a:off x="4381560" y="533520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42000" y="4243320"/>
            <a:ext cx="1949400" cy="1949400"/>
            <a:chOff x="5742000" y="4243320"/>
            <a:chExt cx="1949400" cy="1949400"/>
          </a:xfrm>
        </p:grpSpPr>
        <p:sp>
          <p:nvSpPr>
            <p:cNvPr id="331" name=""/>
            <p:cNvSpPr/>
            <p:nvPr/>
          </p:nvSpPr>
          <p:spPr>
            <a:xfrm>
              <a:off x="5742000" y="42433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0200" y="48704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9033200">
              <a:off x="5906880" y="45428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270920" y="281952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32840" y="3502080"/>
            <a:ext cx="1785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60684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00"/>
                </a:solidFill>
                <a:latin typeface="Verdana"/>
                <a:ea typeface="Gulim"/>
              </a:rPr>
              <a:t>Thank you!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9720" y="3378240"/>
            <a:ext cx="496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0"/>
            <a:ext cx="9156600" cy="2003400"/>
            <a:chOff x="0" y="0"/>
            <a:chExt cx="9156600" cy="2003400"/>
          </a:xfrm>
        </p:grpSpPr>
        <p:sp>
          <p:nvSpPr>
            <p:cNvPr id="339" name=""/>
            <p:cNvSpPr/>
            <p:nvPr/>
          </p:nvSpPr>
          <p:spPr>
            <a:xfrm>
              <a:off x="12600" y="12600"/>
              <a:ext cx="9144000" cy="19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0"/>
              <a:ext cx="9131400" cy="825480"/>
            </a:xfrm>
            <a:custGeom>
              <a:avLst/>
              <a:gdLst/>
              <a:ahLst/>
              <a:rect l="l" t="t" r="r" b="b"/>
              <a:pathLst>
                <a:path w="5752" h="520">
                  <a:moveTo>
                    <a:pt x="0" y="432"/>
                  </a:moveTo>
                  <a:lnTo>
                    <a:pt x="0" y="0"/>
                  </a:lnTo>
                  <a:lnTo>
                    <a:pt x="5752" y="0"/>
                  </a:lnTo>
                  <a:lnTo>
                    <a:pt x="5752" y="520"/>
                  </a:lnTo>
                  <a:lnTo>
                    <a:pt x="3960" y="520"/>
                  </a:lnTo>
                  <a:lnTo>
                    <a:pt x="3672" y="232"/>
                  </a:lnTo>
                  <a:lnTo>
                    <a:pt x="80" y="232"/>
                  </a:lnTo>
                  <a:lnTo>
                    <a:pt x="8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db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71600" y="4572000"/>
            <a:ext cx="4964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7600" y="1663200"/>
            <a:ext cx="810252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Competitors 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 may want to allocate one slide per competitor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Strengths 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r strengths relative to competitors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Weaknesses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r weaknesses relative to competitor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984320" y="4786200"/>
            <a:ext cx="5229360" cy="623880"/>
            <a:chOff x="1984320" y="4786200"/>
            <a:chExt cx="5229360" cy="623880"/>
          </a:xfrm>
        </p:grpSpPr>
        <p:sp>
          <p:nvSpPr>
            <p:cNvPr id="158" name=""/>
            <p:cNvSpPr/>
            <p:nvPr/>
          </p:nvSpPr>
          <p:spPr>
            <a:xfrm>
              <a:off x="2006640" y="48117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84320" y="4786200"/>
              <a:ext cx="5213520" cy="606600"/>
              <a:chOff x="1984320" y="4786200"/>
              <a:chExt cx="5213520" cy="606600"/>
            </a:xfrm>
          </p:grpSpPr>
          <p:sp>
            <p:nvSpPr>
              <p:cNvPr id="160" name=""/>
              <p:cNvSpPr/>
              <p:nvPr/>
            </p:nvSpPr>
            <p:spPr>
              <a:xfrm>
                <a:off x="2298600" y="47862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4160" y="48798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984320" y="4787640"/>
                <a:ext cx="604800" cy="605160"/>
                <a:chOff x="1984320" y="4787640"/>
                <a:chExt cx="604800" cy="60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984320" y="4787640"/>
                  <a:ext cx="60480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0640" y="498168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9033200">
                  <a:off x="2035800" y="4880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92680" y="4787640"/>
                <a:ext cx="605160" cy="605160"/>
                <a:chOff x="6592680" y="4787640"/>
                <a:chExt cx="605160" cy="605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92680" y="4787640"/>
                  <a:ext cx="60516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759360" y="4981680"/>
                  <a:ext cx="33444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9033200">
                  <a:off x="6644160" y="4880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1959120" y="3859200"/>
            <a:ext cx="5228640" cy="623880"/>
            <a:chOff x="1959120" y="3859200"/>
            <a:chExt cx="5228640" cy="623880"/>
          </a:xfrm>
        </p:grpSpPr>
        <p:sp>
          <p:nvSpPr>
            <p:cNvPr id="171" name=""/>
            <p:cNvSpPr/>
            <p:nvPr/>
          </p:nvSpPr>
          <p:spPr>
            <a:xfrm>
              <a:off x="1981080" y="3884760"/>
              <a:ext cx="520668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959120" y="3859200"/>
              <a:ext cx="5212800" cy="606240"/>
              <a:chOff x="1959120" y="3859200"/>
              <a:chExt cx="5212800" cy="606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3040" y="38592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98600" y="3952800"/>
                <a:ext cx="456372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959120" y="3860640"/>
                <a:ext cx="604440" cy="604800"/>
                <a:chOff x="1959120" y="3860640"/>
                <a:chExt cx="604440" cy="604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59120" y="3860640"/>
                  <a:ext cx="60444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25440" y="4054320"/>
                  <a:ext cx="33300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9033200">
                  <a:off x="2009520" y="3953880"/>
                  <a:ext cx="25380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567120" y="3860640"/>
                <a:ext cx="604800" cy="604800"/>
                <a:chOff x="6567120" y="3860640"/>
                <a:chExt cx="604800" cy="604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567120" y="3860640"/>
                  <a:ext cx="60480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33800" y="40543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9033200">
                  <a:off x="6617880" y="3953880"/>
                  <a:ext cx="25416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" name=""/>
          <p:cNvGrpSpPr/>
          <p:nvPr/>
        </p:nvGrpSpPr>
        <p:grpSpPr>
          <a:xfrm>
            <a:off x="1984320" y="2932200"/>
            <a:ext cx="5229360" cy="623880"/>
            <a:chOff x="1984320" y="2932200"/>
            <a:chExt cx="5229360" cy="623880"/>
          </a:xfrm>
        </p:grpSpPr>
        <p:sp>
          <p:nvSpPr>
            <p:cNvPr id="184" name=""/>
            <p:cNvSpPr/>
            <p:nvPr/>
          </p:nvSpPr>
          <p:spPr>
            <a:xfrm>
              <a:off x="2006640" y="29577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84320" y="2932200"/>
              <a:ext cx="5213520" cy="606600"/>
              <a:chOff x="1984320" y="2932200"/>
              <a:chExt cx="5213520" cy="606600"/>
            </a:xfrm>
          </p:grpSpPr>
          <p:sp>
            <p:nvSpPr>
              <p:cNvPr id="186" name=""/>
              <p:cNvSpPr/>
              <p:nvPr/>
            </p:nvSpPr>
            <p:spPr>
              <a:xfrm>
                <a:off x="2298600" y="29322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24160" y="30258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984320" y="2933640"/>
                <a:ext cx="604800" cy="605160"/>
                <a:chOff x="1984320" y="2933640"/>
                <a:chExt cx="604800" cy="605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984320" y="2933640"/>
                  <a:ext cx="60480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50640" y="312768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9033200">
                  <a:off x="2035800" y="3026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92680" y="2933640"/>
                <a:ext cx="605160" cy="605160"/>
                <a:chOff x="6592680" y="2933640"/>
                <a:chExt cx="605160" cy="605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92680" y="2933640"/>
                  <a:ext cx="60516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759360" y="3127680"/>
                  <a:ext cx="33444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9033200">
                  <a:off x="6644160" y="3026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1959120" y="2030400"/>
            <a:ext cx="5228640" cy="623880"/>
            <a:chOff x="1959120" y="2030400"/>
            <a:chExt cx="5228640" cy="623880"/>
          </a:xfrm>
        </p:grpSpPr>
        <p:sp>
          <p:nvSpPr>
            <p:cNvPr id="197" name=""/>
            <p:cNvSpPr/>
            <p:nvPr/>
          </p:nvSpPr>
          <p:spPr>
            <a:xfrm>
              <a:off x="1981080" y="2055960"/>
              <a:ext cx="520668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959120" y="2030400"/>
              <a:ext cx="5212800" cy="606240"/>
              <a:chOff x="1959120" y="2030400"/>
              <a:chExt cx="5212800" cy="6062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73040" y="20304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98600" y="2124000"/>
                <a:ext cx="456372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959120" y="2031840"/>
                <a:ext cx="604440" cy="604800"/>
                <a:chOff x="1959120" y="2031840"/>
                <a:chExt cx="604440" cy="604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959120" y="2031840"/>
                  <a:ext cx="60444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25440" y="2225520"/>
                  <a:ext cx="33300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9033200">
                  <a:off x="2009520" y="2125080"/>
                  <a:ext cx="25380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567120" y="2031840"/>
                <a:ext cx="604800" cy="604800"/>
                <a:chOff x="6567120" y="2031840"/>
                <a:chExt cx="604800" cy="604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567120" y="2031840"/>
                  <a:ext cx="60480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733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9033200">
                  <a:off x="6617880" y="2125080"/>
                  <a:ext cx="25416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"/>
          <p:cNvSpPr/>
          <p:nvPr/>
        </p:nvSpPr>
        <p:spPr>
          <a:xfrm>
            <a:off x="2577960" y="21240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30132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03520" y="3952800"/>
            <a:ext cx="420516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6120" y="48672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015920" y="2730600"/>
            <a:ext cx="3301920" cy="3504960"/>
            <a:chOff x="1015920" y="2730600"/>
            <a:chExt cx="3301920" cy="3504960"/>
          </a:xfrm>
        </p:grpSpPr>
        <p:sp>
          <p:nvSpPr>
            <p:cNvPr id="215" name=""/>
            <p:cNvSpPr/>
            <p:nvPr/>
          </p:nvSpPr>
          <p:spPr>
            <a:xfrm>
              <a:off x="1015920" y="2730600"/>
              <a:ext cx="3301920" cy="3504960"/>
            </a:xfrm>
            <a:custGeom>
              <a:avLst/>
              <a:gdLst>
                <a:gd name="textAreaLeft" fmla="*/ 101520 w 3301920"/>
                <a:gd name="textAreaRight" fmla="*/ 3200400 w 3301920"/>
                <a:gd name="textAreaTop" fmla="*/ 101520 h 3504960"/>
                <a:gd name="textAreaBottom" fmla="*/ 3403440 h 3504960"/>
              </a:gdLst>
              <a:ahLst/>
              <a:rect l="textAreaLeft" t="textAreaTop" r="textAreaRight" b="textAreaBottom"/>
              <a:pathLst>
                <a:path w="21600" h="22928">
                  <a:moveTo>
                    <a:pt x="2274" y="0"/>
                  </a:moveTo>
                  <a:arcTo wR="2274" hR="2274" stAng="16200000" swAng="-5400000"/>
                  <a:lnTo>
                    <a:pt x="0" y="20654"/>
                  </a:lnTo>
                  <a:arcTo wR="2274" hR="2274" stAng="10800000" swAng="-5400000"/>
                  <a:lnTo>
                    <a:pt x="19326" y="22928"/>
                  </a:lnTo>
                  <a:arcTo wR="2274" hR="2274" stAng="5400000" swAng="-5400000"/>
                  <a:lnTo>
                    <a:pt x="21600" y="2274"/>
                  </a:lnTo>
                  <a:arcTo wR="2274" hR="2274" stAng="0" swAng="-5400000"/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8fad2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15920" y="2965680"/>
              <a:ext cx="3301920" cy="304596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ffffff"/>
                </a:gs>
                <a:gs pos="100000">
                  <a:srgbClr val="dbe8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15080" y="2730600"/>
            <a:ext cx="3301920" cy="3504960"/>
            <a:chOff x="4915080" y="2730600"/>
            <a:chExt cx="3301920" cy="3504960"/>
          </a:xfrm>
        </p:grpSpPr>
        <p:sp>
          <p:nvSpPr>
            <p:cNvPr id="218" name=""/>
            <p:cNvSpPr/>
            <p:nvPr/>
          </p:nvSpPr>
          <p:spPr>
            <a:xfrm>
              <a:off x="4915080" y="2730600"/>
              <a:ext cx="3301920" cy="3504960"/>
            </a:xfrm>
            <a:custGeom>
              <a:avLst/>
              <a:gdLst>
                <a:gd name="textAreaLeft" fmla="*/ 101520 w 3301920"/>
                <a:gd name="textAreaRight" fmla="*/ 3200400 w 3301920"/>
                <a:gd name="textAreaTop" fmla="*/ 101520 h 3504960"/>
                <a:gd name="textAreaBottom" fmla="*/ 3403440 h 3504960"/>
              </a:gdLst>
              <a:ahLst/>
              <a:rect l="textAreaLeft" t="textAreaTop" r="textAreaRight" b="textAreaBottom"/>
              <a:pathLst>
                <a:path w="21600" h="22928">
                  <a:moveTo>
                    <a:pt x="2274" y="0"/>
                  </a:moveTo>
                  <a:arcTo wR="2274" hR="2274" stAng="16200000" swAng="-5400000"/>
                  <a:lnTo>
                    <a:pt x="0" y="20654"/>
                  </a:lnTo>
                  <a:arcTo wR="2274" hR="2274" stAng="10800000" swAng="-5400000"/>
                  <a:lnTo>
                    <a:pt x="19326" y="22928"/>
                  </a:lnTo>
                  <a:arcTo wR="2274" hR="2274" stAng="5400000" swAng="-5400000"/>
                  <a:lnTo>
                    <a:pt x="21600" y="2274"/>
                  </a:lnTo>
                  <a:arcTo wR="2274" hR="2274" stAng="0" swAng="-5400000"/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8fad2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15080" y="2965680"/>
              <a:ext cx="3301920" cy="304596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ffffff"/>
                </a:gs>
                <a:gs pos="100000">
                  <a:srgbClr val="dbe8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2451240" y="2196360"/>
            <a:ext cx="761760" cy="47484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ffffff"/>
              </a:gs>
              <a:gs pos="100000">
                <a:srgbClr val="bad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146640" y="2196360"/>
            <a:ext cx="762120" cy="47484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057400" y="1460520"/>
            <a:ext cx="5219640" cy="622440"/>
            <a:chOff x="2057400" y="1460520"/>
            <a:chExt cx="5219640" cy="622440"/>
          </a:xfrm>
        </p:grpSpPr>
        <p:sp>
          <p:nvSpPr>
            <p:cNvPr id="224" name=""/>
            <p:cNvSpPr/>
            <p:nvPr/>
          </p:nvSpPr>
          <p:spPr>
            <a:xfrm>
              <a:off x="2070000" y="148428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1460520"/>
              <a:ext cx="520704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033200">
              <a:off x="2112480" y="155376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033200">
              <a:off x="6938640" y="178236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40160" y="155268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57480" y="2324160"/>
            <a:ext cx="6680160" cy="3936960"/>
          </a:xfrm>
          <a:prstGeom prst="roundRect">
            <a:avLst>
              <a:gd name="adj" fmla="val 6699"/>
            </a:avLst>
          </a:prstGeom>
          <a:gradFill rotWithShape="0">
            <a:gsLst>
              <a:gs pos="0">
                <a:srgbClr val="8fad2f"/>
              </a:gs>
              <a:gs pos="50000">
                <a:srgbClr val="dbe8b2"/>
              </a:gs>
              <a:gs pos="100000">
                <a:srgbClr val="8fad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452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4452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4452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452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4452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50880" y="2444760"/>
            <a:ext cx="987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104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2104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2104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2104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2104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97560" y="2438280"/>
            <a:ext cx="167616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97560" y="287028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97560" y="3683160"/>
            <a:ext cx="167616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97560" y="449568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7560" y="530856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372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372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372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7372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7372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56200" y="2438280"/>
            <a:ext cx="797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45320" y="2438280"/>
            <a:ext cx="74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90760" y="2438280"/>
            <a:ext cx="936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09680" y="1434960"/>
            <a:ext cx="5219640" cy="622440"/>
            <a:chOff x="2209680" y="1434960"/>
            <a:chExt cx="5219640" cy="622440"/>
          </a:xfrm>
        </p:grpSpPr>
        <p:sp>
          <p:nvSpPr>
            <p:cNvPr id="256" name=""/>
            <p:cNvSpPr/>
            <p:nvPr/>
          </p:nvSpPr>
          <p:spPr>
            <a:xfrm>
              <a:off x="2222280" y="145872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1434960"/>
              <a:ext cx="520704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033200">
              <a:off x="2264760" y="15282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033200">
              <a:off x="7090920" y="1756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92440" y="15271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79360" y="1879560"/>
            <a:ext cx="3263760" cy="622440"/>
            <a:chOff x="279360" y="1879560"/>
            <a:chExt cx="3263760" cy="622440"/>
          </a:xfrm>
        </p:grpSpPr>
        <p:sp>
          <p:nvSpPr>
            <p:cNvPr id="262" name=""/>
            <p:cNvSpPr/>
            <p:nvPr/>
          </p:nvSpPr>
          <p:spPr>
            <a:xfrm>
              <a:off x="291960" y="1903320"/>
              <a:ext cx="325116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9360" y="1879560"/>
              <a:ext cx="325116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033200">
              <a:off x="334440" y="1972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9033200">
              <a:off x="3179520" y="2214000"/>
              <a:ext cx="25236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275000" y="1817640"/>
            <a:ext cx="4238280" cy="4238280"/>
            <a:chOff x="4275000" y="1817640"/>
            <a:chExt cx="4238280" cy="4238280"/>
          </a:xfrm>
        </p:grpSpPr>
        <p:sp>
          <p:nvSpPr>
            <p:cNvPr id="267" name=""/>
            <p:cNvSpPr/>
            <p:nvPr/>
          </p:nvSpPr>
          <p:spPr>
            <a:xfrm>
              <a:off x="4275000" y="1817640"/>
              <a:ext cx="4238280" cy="4238280"/>
            </a:xfrm>
            <a:prstGeom prst="ellipse">
              <a:avLst/>
            </a:prstGeom>
            <a:noFill/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360480" y="2678400"/>
              <a:ext cx="0" cy="5785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340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62032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5124960" y="3630600"/>
              <a:ext cx="559080" cy="11376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009200" y="3630240"/>
              <a:ext cx="559080" cy="1141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484960" y="3112920"/>
            <a:ext cx="1736640" cy="17370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5078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97560" y="3257640"/>
            <a:ext cx="1736640" cy="147168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dbe8b2"/>
              </a:gs>
              <a:gs pos="100000">
                <a:srgbClr val="507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8200" y="299880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129708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27520" y="1411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4865760"/>
            <a:ext cx="145872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07160" y="499284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33840" y="485316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35640" y="497988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9040" y="2986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560" y="2505240"/>
            <a:ext cx="28846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5240" y="17701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120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1192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7556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0760" y="3675240"/>
            <a:ext cx="1513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Text 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0280" y="1971720"/>
            <a:ext cx="2414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09600" y="1463760"/>
            <a:ext cx="649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77760" y="1469880"/>
          <a:ext cx="684864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469880"/>
                    <a:ext cx="684864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3520" y="990720"/>
          <a:ext cx="822960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2296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2:37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영문 파워포인트 마스타 페이지 </vt:lpwstr>
  </property>
  <property fmtid="{D5CDD505-2E9C-101B-9397-08002B2CF9AE}" pid="7" name="_ReviewingToolsShownOnce">
    <vt:lpwstr/>
  </property>
</Properties>
</file>