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60CD-4689-4F2D-BE76-A6E9B70E2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84912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FACF-E501-4530-B8A3-3A36771E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84912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84912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67C5-5631-4542-A30D-3C5A66EB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1426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1426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84912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84912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84912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F1D9-4F49-4D8E-B3D1-D9908F3A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0C27-CA16-46D0-8453-C79594B6F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CA19-67BC-40FF-856A-1D840EB3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E388-AC4A-426F-AC76-44D23F0E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8EA2-62FF-44E3-BD14-A0EF2A9F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C6C1-F5A7-4FD1-B7CC-4A4E49CB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5341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3E47-12E3-4886-A81A-69CBB1EA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384912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394E-6A05-4F81-849B-06298AF5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0E50-9BE9-46D1-93E7-AF170F07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840" y="384912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4E19-8427-4FFC-B5CC-CBDD406D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84912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5797-C6B0-47DB-8D29-6A59071B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384912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5915-92A1-4EFC-97CB-813CB523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84912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840" y="384912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7704-A668-4296-B231-C1F49A1E4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0680" y="11426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080" y="11426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384912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0680" y="384912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080" y="384912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10B9-C6DE-4715-B746-2FCA431E5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A283-A4EB-4EEE-A375-9405DD1B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C62C-F040-43C3-A0F1-6467DE5E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64F1-FE2E-455D-B31A-D5E85E6D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5341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D14A-430C-4308-B89B-884C9CB6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84912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D004-1609-4CC5-AD89-E9E1F812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84912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FFCD-C0AF-4F28-88A7-5C94D00E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84912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E42E-13D8-48DD-AE6B-D75B6BD6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400440"/>
            <a:ext cx="22129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3003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00440" y="6400440"/>
            <a:ext cx="22129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C186-044A-449D-A49C-22682D880A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362320"/>
            <a:ext cx="9144000" cy="4572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07696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C7E6-9DC2-48FF-898E-0DC1145505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968040"/>
            <a:ext cx="807696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e701"/>
                </a:solidFill>
                <a:latin typeface="Arial"/>
              </a:rPr>
              <a:t>ThemeGallery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国外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模板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打包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3160" y="2362320"/>
            <a:ext cx="6933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ffff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C058-315D-4A96-A0AB-24CFF76EC7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t Tip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the </a:t>
            </a: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[View]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nu, point to </a:t>
            </a: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[Master]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then click </a:t>
            </a: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[Slide Master]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[Notes Master]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[Image information in product]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 to customers: This image has been licensed to be used within thi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Point template only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You may not  extract the image for any other us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1143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4T20:50:32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19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