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679-661D-4A90-8AF2-2FC1F615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FED-0E29-44ED-80F2-A3623561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936-DFD0-4B58-AF7A-8985943F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B81-01FA-4621-898A-7B55F57E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D0B9-903B-46F6-A685-A84940A4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2093-9488-41D5-8787-9C51A568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23FB-D4DF-4FE3-B0B5-7C70E8E2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7AF2-A931-4A07-986E-4FDEE554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D39E-DA2C-4729-962C-8B13C28F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55D-8788-4C82-B9AF-2B5563DB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AE4-C21D-4E9F-AB0E-8FA88EED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75C-D785-4429-AF6F-A96495A6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397-4E75-4FCD-B5CD-02F49A7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A202-7988-4F35-8403-343FE92F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460-07B2-4855-9119-66EE81A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6468-D3D0-434E-83C1-BFEED646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52B-1C6E-49E3-9235-6051DF12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E30-1F77-4A9D-BE90-C5F0189D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2E2-91B0-4602-BA33-A2B2FA26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08A-D35A-4B30-BD09-FB31C27C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C39-6398-411F-870F-FE848E0C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A23-5E64-45A3-A04F-E1FD4E27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5C6-4659-4185-8062-368B2CF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743-89E1-4827-B362-F2939C4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-838080" y="762120"/>
            <a:ext cx="392112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60948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599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2998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26986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23983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23983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23983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23983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D30B-855C-4ABE-AE11-99307ED9C4F7}" type="slidenum">
              <a:rPr b="0" lang="en-US" sz="1000" spc="-1" strike="noStrike">
                <a:solidFill>
                  <a:srgbClr val="333333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Eras Bold ITC"/>
              </a:rPr>
              <a:t>Click to edit the title text format</a:t>
            </a: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BD6D-C574-4398-B045-A630788BE2B2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SzPct val="35995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SzPct val="36018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SzPct val="36018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SzPct val="36018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SzPct val="36018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image" Target="../media/image7.gif"/><Relationship Id="rId8" Type="http://schemas.openxmlformats.org/officeDocument/2006/relationships/image" Target="../media/image5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Eras Bold ITC"/>
              </a:rPr>
              <a:t>Acoustic Jam</a:t>
            </a: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Your Subtitle Goes Her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7400" y="13716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Eras Bold ITC"/>
              </a:rPr>
              <a:t>Your Topic Goes Here</a:t>
            </a:r>
            <a:endParaRPr b="0" lang="en-US" sz="36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0948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Eras Bold ITC"/>
              </a:rPr>
              <a:t>Transitional Page</a:t>
            </a:r>
            <a:endParaRPr b="0" lang="en-US" sz="48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4964400" cy="3497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Eras Bold ITC"/>
              </a:rPr>
              <a:t>Your Topic Goes Here</a:t>
            </a:r>
            <a:endParaRPr b="0" lang="en-US" sz="36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60948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3597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144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Eras Bold ITC"/>
              </a:rPr>
              <a:t>使用规范说明</a:t>
            </a:r>
            <a:endParaRPr b="0" lang="en-US" sz="40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B6F-224D-4E94-8C86-4CF6BB80F358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ras Bold ITC"/>
              </a:rPr>
              <a:t>Elements</a:t>
            </a:r>
            <a:endParaRPr b="0" lang="en-US" sz="48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ww.animationfactory.com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12000" y="1816200"/>
            <a:ext cx="2079720" cy="156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12000" y="3481560"/>
            <a:ext cx="2079720" cy="156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912000" y="5145120"/>
            <a:ext cx="2079720" cy="15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912000" y="152280"/>
            <a:ext cx="2079720" cy="156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895480" y="990720"/>
            <a:ext cx="362916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52280" y="5627520"/>
            <a:ext cx="2286000" cy="1230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17440" y="2406600"/>
            <a:ext cx="1992240" cy="140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217440" y="120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33520" y="3886200"/>
            <a:ext cx="15238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01:1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