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11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9E71-5164-463C-9E17-7B5C0C15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60A3-7948-46CE-A205-CF458648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5364-F197-4FB5-8702-2F7F7271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C148-432B-4EA0-8564-BF3B28C4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65B15-03DA-4B26-89D1-D6ABEB8F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34CB7-5FAD-4082-A52C-EE5EBA82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AD9AD-F684-4C9C-89D1-169CEFCD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B224B-6A96-4DC0-B469-6FCDA0B8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F5C1E-8548-4B5C-9B7E-41FB2018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217EF-8B8F-4B70-A06B-D632D01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9DEA5-D95F-417A-8299-F9E6A3B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00DC-AD4E-4907-AC24-8D4C68AB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060A2-A5E4-4DBE-B9FB-407E73E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29CEC-D2EF-4A45-ADD0-784366FC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83111-54E4-4D6A-B931-BD317AE0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9ABC7-6A62-4659-993C-597ED97C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0C917-0CCB-4680-9F0C-3DA705C5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C98E-61F3-4666-A2E3-C592AEF5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C2AF-E489-47CA-A8C2-127449E5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1286-C1A9-4F8D-B690-C337943B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BF9D-4A6A-4009-9340-4D7A8B99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672B-7B48-4982-849C-78B1D1E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A883-F989-4E73-98CB-25FE4499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D67C-A0E8-420C-A601-C70649B0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8F69-E2E4-45BD-9BF3-A976C7BD277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440" y="-6480"/>
            <a:ext cx="1074600" cy="111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4240" y="-79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1440" y="357120"/>
            <a:ext cx="10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58920" y="-22320"/>
            <a:ext cx="0" cy="115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85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5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9376-2067-4569-955E-6FC0F6B7726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00560"/>
            <a:ext cx="165564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6"/>
          </p:nvPr>
        </p:nvSpPr>
        <p:spPr>
          <a:xfrm>
            <a:off x="6019920" y="531792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</a:t>
            </a:r>
            <a:r>
              <a:rPr b="1" lang="en-US" sz="4000" spc="-1" strike="noStrike">
                <a:solidFill>
                  <a:srgbClr val="0080a2"/>
                </a:solidFill>
                <a:latin typeface="Arial"/>
                <a:ea typeface="宋体"/>
              </a:rPr>
              <a:t>PowerTemplate</a:t>
            </a:r>
            <a:endParaRPr b="1" lang="en-US" sz="40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0240" y="763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汽车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84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5400000">
              <a:off x="3033360" y="23187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 rot="16200000">
              <a:off x="303696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92" name="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502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510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511" name="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13716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93c05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4ea7ea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0080a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c052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999ff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3c05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80a2">
                    <a:alpha val="90196"/>
                  </a:srgbClr>
                </a:gs>
                <a:gs pos="50000">
                  <a:srgbClr val="a8d3de"/>
                </a:gs>
                <a:gs pos="100000">
                  <a:srgbClr val="0080a2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>
                    <a:alpha val="90196"/>
                  </a:srgbClr>
                </a:gs>
                <a:gs pos="50000">
                  <a:srgbClr val="dbdbfe"/>
                </a:gs>
                <a:gs pos="100000">
                  <a:srgbClr val="9999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451d"/>
                </a:gs>
                <a:gs pos="50000">
                  <a:srgbClr val="93c052"/>
                </a:gs>
                <a:gs pos="100000">
                  <a:srgbClr val="34451d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>
                    <a:alpha val="90196"/>
                  </a:srgbClr>
                </a:gs>
                <a:gs pos="50000">
                  <a:srgbClr val="d9e8c3"/>
                </a:gs>
                <a:gs pos="100000">
                  <a:srgbClr val="93c052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567" name="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8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9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0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1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2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00556b">
                  <a:alpha val="12156"/>
                </a:srgbClr>
              </a:gs>
              <a:gs pos="50000">
                <a:srgbClr val="0080a2"/>
              </a:gs>
              <a:gs pos="100000">
                <a:srgbClr val="00556b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5d7933"/>
              </a:gs>
              <a:gs pos="100000">
                <a:srgbClr val="93c05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f6f8"/>
              </a:gs>
              <a:gs pos="100000">
                <a:srgbClr val="0080a2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f6f8"/>
              </a:gs>
              <a:gs pos="100000">
                <a:srgbClr val="0080a2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f6f8"/>
              </a:gs>
              <a:gs pos="100000">
                <a:srgbClr val="0080a2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16200000">
            <a:off x="2260440" y="1744920"/>
            <a:ext cx="153612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2396880" y="164340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2d2fe"/>
              </a:gs>
              <a:gs pos="100000">
                <a:srgbClr val="99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2334600" y="1743480"/>
            <a:ext cx="137952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4ea7ea"/>
              </a:gs>
              <a:gs pos="100000">
                <a:srgbClr val="a8d3f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2326680" y="1731960"/>
            <a:ext cx="1414080" cy="38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d2e4b8"/>
              </a:gs>
              <a:gs pos="100000">
                <a:srgbClr val="93c05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2291040" y="1361880"/>
            <a:ext cx="1844640" cy="470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004152"/>
              </a:gs>
              <a:gs pos="100000">
                <a:srgbClr val="0080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2301120" y="1197720"/>
            <a:ext cx="184536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0080a2"/>
              </a:gs>
              <a:gs pos="100000">
                <a:srgbClr val="0070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"/>
          <p:cNvCxnSpPr>
            <a:endCxn id="653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endCxn id="646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659" name=""/>
            <p:cNvSpPr/>
            <p:nvPr/>
          </p:nvSpPr>
          <p:spPr>
            <a:xfrm>
              <a:off x="616788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00647f"/>
                </a:gs>
                <a:gs pos="100000">
                  <a:srgbClr val="0080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662" name=""/>
            <p:cNvSpPr/>
            <p:nvPr/>
          </p:nvSpPr>
          <p:spPr>
            <a:xfrm>
              <a:off x="616788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7878c8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665" name=""/>
            <p:cNvSpPr/>
            <p:nvPr/>
          </p:nvSpPr>
          <p:spPr>
            <a:xfrm>
              <a:off x="616788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3d83b7"/>
                </a:gs>
                <a:gs pos="100000">
                  <a:srgbClr val="4ea7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668" name=""/>
            <p:cNvSpPr/>
            <p:nvPr/>
          </p:nvSpPr>
          <p:spPr>
            <a:xfrm>
              <a:off x="986400" y="542916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739640"/>
                </a:gs>
                <a:gs pos="100000">
                  <a:srgbClr val="93c0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0" name="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676" name="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677" name="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2029320" y="2155680"/>
              <a:ext cx="344880" cy="359280"/>
              <a:chOff x="2029320" y="2155680"/>
              <a:chExt cx="344880" cy="3592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2037960" y="2155680"/>
                <a:ext cx="336240" cy="273960"/>
                <a:chOff x="2037960" y="2155680"/>
                <a:chExt cx="336240" cy="273960"/>
              </a:xfrm>
            </p:grpSpPr>
            <p:sp>
              <p:nvSpPr>
                <p:cNvPr id="685" name=""/>
                <p:cNvSpPr/>
                <p:nvPr/>
              </p:nvSpPr>
              <p:spPr>
                <a:xfrm flipH="1" rot="15040200">
                  <a:off x="219024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rot="13928400">
                  <a:off x="2132280" y="21556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2029320" y="2177280"/>
                <a:ext cx="271800" cy="337680"/>
                <a:chOff x="2029320" y="2177280"/>
                <a:chExt cx="271800" cy="337680"/>
              </a:xfrm>
            </p:grpSpPr>
            <p:sp>
              <p:nvSpPr>
                <p:cNvPr id="690" name=""/>
                <p:cNvSpPr/>
                <p:nvPr/>
              </p:nvSpPr>
              <p:spPr>
                <a:xfrm flipH="1" rot="13687200">
                  <a:off x="212580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H="1" rot="12871200">
                  <a:off x="209592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 rot="12576000">
                  <a:off x="2085120" y="22237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4" name=""/>
            <p:cNvGrpSpPr/>
            <p:nvPr/>
          </p:nvGrpSpPr>
          <p:grpSpPr>
            <a:xfrm>
              <a:off x="1849320" y="2691360"/>
              <a:ext cx="429120" cy="517320"/>
              <a:chOff x="1849320" y="2691360"/>
              <a:chExt cx="429120" cy="51732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1849320" y="2691360"/>
                <a:ext cx="429120" cy="405000"/>
                <a:chOff x="1849320" y="2691360"/>
                <a:chExt cx="429120" cy="405000"/>
              </a:xfrm>
            </p:grpSpPr>
            <p:sp>
              <p:nvSpPr>
                <p:cNvPr id="696" name=""/>
                <p:cNvSpPr/>
                <p:nvPr/>
              </p:nvSpPr>
              <p:spPr>
                <a:xfrm flipH="1" rot="14424600">
                  <a:off x="204516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 rot="13608600">
                  <a:off x="199296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rot="13313400">
                  <a:off x="196956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 rot="12781200">
                  <a:off x="194148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850760" y="2719800"/>
                <a:ext cx="307800" cy="488880"/>
                <a:chOff x="1850760" y="2719800"/>
                <a:chExt cx="307800" cy="488880"/>
              </a:xfrm>
            </p:grpSpPr>
            <p:sp>
              <p:nvSpPr>
                <p:cNvPr id="701" name=""/>
                <p:cNvSpPr/>
                <p:nvPr/>
              </p:nvSpPr>
              <p:spPr>
                <a:xfrm flipH="1" rot="13071600">
                  <a:off x="195804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rot="12256200">
                  <a:off x="192240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 rot="11960400">
                  <a:off x="190908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 rot="11428200">
                  <a:off x="189648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5" name="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707" name="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716" name="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721" name="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5" name=""/>
            <p:cNvGrpSpPr/>
            <p:nvPr/>
          </p:nvGrpSpPr>
          <p:grpSpPr>
            <a:xfrm>
              <a:off x="1315800" y="2691360"/>
              <a:ext cx="429120" cy="517320"/>
              <a:chOff x="1315800" y="2691360"/>
              <a:chExt cx="429120" cy="51732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1315800" y="2691360"/>
                <a:ext cx="429120" cy="405000"/>
                <a:chOff x="1315800" y="2691360"/>
                <a:chExt cx="429120" cy="405000"/>
              </a:xfrm>
            </p:grpSpPr>
            <p:sp>
              <p:nvSpPr>
                <p:cNvPr id="727" name=""/>
                <p:cNvSpPr/>
                <p:nvPr/>
              </p:nvSpPr>
              <p:spPr>
                <a:xfrm flipH="1" rot="14424600">
                  <a:off x="151164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 rot="13608600">
                  <a:off x="145944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 rot="13313400">
                  <a:off x="143604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 rot="12781200">
                  <a:off x="140796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1317240" y="2719800"/>
                <a:ext cx="307800" cy="488880"/>
                <a:chOff x="1317240" y="2719800"/>
                <a:chExt cx="307800" cy="488880"/>
              </a:xfrm>
            </p:grpSpPr>
            <p:sp>
              <p:nvSpPr>
                <p:cNvPr id="732" name=""/>
                <p:cNvSpPr/>
                <p:nvPr/>
              </p:nvSpPr>
              <p:spPr>
                <a:xfrm flipH="1" rot="13071600">
                  <a:off x="142452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 rot="12256200">
                  <a:off x="138888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H="1" rot="11960400">
                  <a:off x="137556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H="1" rot="11428200">
                  <a:off x="136296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6" name="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 flipH="1">
            <a:off x="2401200" y="1771560"/>
            <a:ext cx="4428360" cy="454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solidFill>
            <a:srgbClr val="93c05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2720" y="1870560"/>
            <a:ext cx="4374000" cy="43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80a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40360" y="1771560"/>
            <a:ext cx="45378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7" y="0"/>
                </a:moveTo>
                <a:arcTo wR="10800" hR="10800" stAng="-5413589" swAng="5413589"/>
                <a:lnTo>
                  <a:pt x="10800" y="10800"/>
                </a:lnTo>
                <a:close/>
              </a:path>
              <a:path fill="none" w="21600" h="21600">
                <a:moveTo>
                  <a:pt x="10757" y="0"/>
                </a:moveTo>
                <a:arcTo wR="10800" hR="10800" stAng="-5413589" swAng="5413589"/>
              </a:path>
            </a:pathLst>
          </a:custGeom>
          <a:solidFill>
            <a:srgbClr val="4ea7e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40000" y="1853280"/>
            <a:ext cx="453672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33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527920" y="1930320"/>
            <a:ext cx="4164480" cy="42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674a2"/>
              </a:gs>
              <a:gs pos="100000">
                <a:srgbClr val="4ea7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3151080" y="2505960"/>
            <a:ext cx="292680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80a2"/>
              </a:gs>
              <a:gs pos="100000">
                <a:srgbClr val="0059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434400" y="2823840"/>
            <a:ext cx="2351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172f"/>
              </a:gs>
              <a:gs pos="100000">
                <a:srgbClr val="003366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2961720" y="2354400"/>
            <a:ext cx="3307320" cy="33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gradFill rotWithShape="0">
            <a:gsLst>
              <a:gs pos="0">
                <a:srgbClr val="597431"/>
              </a:gs>
              <a:gs pos="100000">
                <a:srgbClr val="93c0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748" name="" descr="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752" name="" descr="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756" name="" descr="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760" name="" descr="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ea7e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ea7e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2a5a7e"/>
              </a:gs>
              <a:gs pos="50000">
                <a:srgbClr val="4ea7ea"/>
              </a:gs>
              <a:gs pos="100000">
                <a:srgbClr val="2a5a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ea7ea">
                  <a:alpha val="0"/>
                </a:srgbClr>
              </a:gs>
              <a:gs pos="100000">
                <a:srgbClr val="31699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790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80a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3b4a"/>
              </a:gs>
              <a:gs pos="100000">
                <a:srgbClr val="0080a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04557"/>
              </a:gs>
              <a:gs pos="50000">
                <a:srgbClr val="0080a2"/>
              </a:gs>
              <a:gs pos="100000">
                <a:srgbClr val="0045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0080a2">
                  <a:alpha val="0"/>
                </a:srgbClr>
              </a:gs>
              <a:gs pos="100000">
                <a:srgbClr val="0051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800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805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6e0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818" name="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8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6f913e"/>
              </a:gs>
              <a:gs pos="100000">
                <a:srgbClr val="93c0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438fc9"/>
              </a:gs>
              <a:gs pos="100000">
                <a:srgbClr val="4ea7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006e8b"/>
              </a:gs>
              <a:gs pos="100000">
                <a:srgbClr val="0080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ea7ea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80a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ea7ea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80a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ea7ea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3680" y="281448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63680" y="34052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63680" y="408132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63680" y="478476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847" name="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2e3a"/>
                </a:gs>
                <a:gs pos="50000">
                  <a:srgbClr val="0080a2"/>
                </a:gs>
                <a:gs pos="100000">
                  <a:srgbClr val="002e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30600" y="463428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003f50"/>
                </a:gs>
                <a:gs pos="100000">
                  <a:srgbClr val="0080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850" name="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2b5d82"/>
                </a:gs>
                <a:gs pos="50000">
                  <a:srgbClr val="4ea7ea"/>
                </a:gs>
                <a:gs pos="100000">
                  <a:srgbClr val="2b5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2b5d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853" name="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00475a"/>
                </a:gs>
                <a:gs pos="50000">
                  <a:srgbClr val="0080a2"/>
                </a:gs>
                <a:gs pos="100000">
                  <a:srgbClr val="0047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44680" y="33210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0080a2"/>
                </a:gs>
                <a:gs pos="100000">
                  <a:srgbClr val="0047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856" name="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336d99"/>
                </a:gs>
                <a:gs pos="50000">
                  <a:srgbClr val="4ea7ea"/>
                </a:gs>
                <a:gs pos="100000">
                  <a:srgbClr val="336d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3b7f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c052"/>
                </a:gs>
                <a:gs pos="50000">
                  <a:srgbClr val="e7f0d9"/>
                </a:gs>
                <a:gs pos="100000">
                  <a:srgbClr val="93c05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93c05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a2"/>
                </a:gs>
                <a:gs pos="50000">
                  <a:srgbClr val="c8e3ea"/>
                </a:gs>
                <a:gs pos="100000">
                  <a:srgbClr val="0080a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0080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3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e8e8fe"/>
                </a:gs>
                <a:gs pos="100000">
                  <a:srgbClr val="999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d8ebf9"/>
                </a:gs>
                <a:gs pos="100000">
                  <a:srgbClr val="4ea7e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4ea7e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0BB8-2D07-481D-93EF-3BFE860D40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876560" y="26665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5181480" y="3048120"/>
            <a:ext cx="3810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3c052"/>
                    </a:gs>
                    <a:gs pos="100000">
                      <a:srgbClr val="9999f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3c052"/>
                  </a:gs>
                  <a:gs pos="100000">
                    <a:srgbClr val="9999f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  <a:ea typeface="宋体"/>
              </a:rPr>
              <a:t>[View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  <a:ea typeface="宋体"/>
              </a:rPr>
              <a:t>[Master]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  <a:ea typeface="宋体"/>
              </a:rPr>
              <a:t>[Slide Master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  <a:ea typeface="宋体"/>
              </a:rPr>
              <a:t>[Notes Master]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952880"/>
            <a:ext cx="7238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CD__Wired Business_PHOTODISC(MULTIBITS), business on the go_EYEWIRE(NFINE), www.photosclub.co.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8bbee"/>
              </a:gs>
              <a:gs pos="50000">
                <a:srgbClr val="4ea7ea"/>
              </a:gs>
              <a:gs pos="100000">
                <a:srgbClr val="78bbe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ce7b"/>
              </a:gs>
              <a:gs pos="50000">
                <a:srgbClr val="93c052"/>
              </a:gs>
              <a:gs pos="100000">
                <a:srgbClr val="acce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7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a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50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c05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53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a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9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6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72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73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9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4ea7e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9999ff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93c052"/>
          </a:solidFill>
          <a:ln w="9360">
            <a:solidFill>
              <a:srgbClr val="93c052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93c052">
              <a:alpha val="50000"/>
            </a:srgbClr>
          </a:solidFill>
          <a:ln w="9360">
            <a:solidFill>
              <a:srgbClr val="93c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4ea7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8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a7ea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3c052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3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4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29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4ea7ea"/>
              </a:gs>
              <a:gs pos="100000">
                <a:srgbClr val="3674a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7daf5"/>
              </a:gs>
              <a:gs pos="100000">
                <a:srgbClr val="4ea7e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238" name="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239" name="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234c6b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246" name="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146960" y="20703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 rot="16200000">
              <a:off x="1154520" y="15667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51200" y="1817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6120" y="330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66853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68280" y="320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2e4b9"/>
              </a:gs>
              <a:gs pos="100000">
                <a:srgbClr val="93c05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9360" y="3187800"/>
            <a:ext cx="1323720" cy="1320840"/>
            <a:chOff x="549360" y="3187800"/>
            <a:chExt cx="1323720" cy="1320840"/>
          </a:xfrm>
        </p:grpSpPr>
        <p:grpSp>
          <p:nvGrpSpPr>
            <p:cNvPr id="259" name=""/>
            <p:cNvGrpSpPr/>
            <p:nvPr/>
          </p:nvGrpSpPr>
          <p:grpSpPr>
            <a:xfrm>
              <a:off x="549360" y="3187800"/>
              <a:ext cx="1323720" cy="1320840"/>
              <a:chOff x="549360" y="3187800"/>
              <a:chExt cx="1323720" cy="1320840"/>
            </a:xfrm>
          </p:grpSpPr>
          <p:sp>
            <p:nvSpPr>
              <p:cNvPr id="260" name=""/>
              <p:cNvSpPr/>
              <p:nvPr/>
            </p:nvSpPr>
            <p:spPr>
              <a:xfrm>
                <a:off x="549360" y="31878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4280" y="32140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6120" y="326628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71040" y="32932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6160" y="33102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705960" y="333288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435825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63560" y="3395520"/>
            <a:ext cx="879480" cy="885600"/>
            <a:chOff x="763560" y="3395520"/>
            <a:chExt cx="879480" cy="885600"/>
          </a:xfrm>
        </p:grpSpPr>
        <p:sp>
          <p:nvSpPr>
            <p:cNvPr id="267" name=""/>
            <p:cNvSpPr/>
            <p:nvPr/>
          </p:nvSpPr>
          <p:spPr>
            <a:xfrm>
              <a:off x="763560" y="339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06360" y="339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3560" y="383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65400" y="340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67320" y="340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1131120" y="375804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6200000">
              <a:off x="1138680" y="32544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93720" y="365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1200" y="35053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83360" y="339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56120" y="4984920"/>
            <a:ext cx="3360960" cy="90144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0080a2"/>
              </a:gs>
              <a:gs pos="100000">
                <a:srgbClr val="00597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68280" y="48783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8cbd8"/>
              </a:gs>
              <a:gs pos="100000">
                <a:srgbClr val="0080a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49360" y="4865760"/>
            <a:ext cx="1323720" cy="1320840"/>
            <a:chOff x="549360" y="4865760"/>
            <a:chExt cx="1323720" cy="1320840"/>
          </a:xfrm>
        </p:grpSpPr>
        <p:grpSp>
          <p:nvGrpSpPr>
            <p:cNvPr id="280" name=""/>
            <p:cNvGrpSpPr/>
            <p:nvPr/>
          </p:nvGrpSpPr>
          <p:grpSpPr>
            <a:xfrm>
              <a:off x="549360" y="4865760"/>
              <a:ext cx="1323720" cy="1320840"/>
              <a:chOff x="549360" y="4865760"/>
              <a:chExt cx="1323720" cy="1320840"/>
            </a:xfrm>
          </p:grpSpPr>
          <p:sp>
            <p:nvSpPr>
              <p:cNvPr id="281" name=""/>
              <p:cNvSpPr/>
              <p:nvPr/>
            </p:nvSpPr>
            <p:spPr>
              <a:xfrm>
                <a:off x="549360" y="48657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4280" y="48920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6120" y="49442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71040" y="49712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6160" y="49881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705960" y="50108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003b4a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63560" y="5073480"/>
            <a:ext cx="879480" cy="885600"/>
            <a:chOff x="763560" y="5073480"/>
            <a:chExt cx="879480" cy="885600"/>
          </a:xfrm>
        </p:grpSpPr>
        <p:sp>
          <p:nvSpPr>
            <p:cNvPr id="288" name=""/>
            <p:cNvSpPr/>
            <p:nvPr/>
          </p:nvSpPr>
          <p:spPr>
            <a:xfrm>
              <a:off x="763560" y="50734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06360" y="50734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3560" y="55101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65400" y="50792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67320" y="50853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1131120" y="54360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16200000">
              <a:off x="1138680" y="4932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93720" y="5329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51200" y="5183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83360" y="50734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a8d3de"/>
              </a:gs>
              <a:gs pos="100000">
                <a:srgbClr val="0080a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19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20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33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51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369" name="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95" name="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421" name="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426" name="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431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438" name="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444" name="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450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451" name="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457" name="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463" name="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00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8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7e09000000000001024140</vt:lpwstr>
  </property>
</Properties>
</file>