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4C8-FD0E-45C2-A141-2D70BAA5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5333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814640"/>
            <a:ext cx="5333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80C1-995F-41AD-9A85-358A7473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52800" y="449568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81464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52800" y="481464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DE2A-B56B-4F5C-A4A9-04B761E1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171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22920" y="4495680"/>
            <a:ext cx="171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26160" y="4495680"/>
            <a:ext cx="171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814640"/>
            <a:ext cx="171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22920" y="4814640"/>
            <a:ext cx="171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26160" y="4814640"/>
            <a:ext cx="171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5613-53C5-4351-A2E4-F8AD8678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E1E6-77DE-42AF-8A98-5EADE1FE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4495680"/>
            <a:ext cx="533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379B-A0B9-46EC-9D44-832AFCB0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53337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78E7-EE2C-4D85-9835-8E7D8F1D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2602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52800" y="4495680"/>
            <a:ext cx="2602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540D-E71A-4149-BEFA-526FA4C5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BE5E-A3C1-4E32-B90F-4C9DA910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2895480"/>
            <a:ext cx="5333760" cy="70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E6AC-0981-4447-AAB5-B2CB91A6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52800" y="4495680"/>
            <a:ext cx="2602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81464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551D-1DD5-4BA7-B758-3F8BC7C2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4495680"/>
            <a:ext cx="533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8C87-12C6-41C3-B1B2-D7960C54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2602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52800" y="449568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52800" y="481464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ADD0-F9F5-4D30-B942-9A448E0F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52800" y="449568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814640"/>
            <a:ext cx="5333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B993-28DD-4CF0-A95D-BD8DD543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5333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814640"/>
            <a:ext cx="5333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734C-E12D-4D02-A8DF-EA6037FB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0" y="449568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81464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52800" y="481464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AC3A-0B50-4362-8742-013D78F4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171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22920" y="4495680"/>
            <a:ext cx="171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6160" y="4495680"/>
            <a:ext cx="171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814640"/>
            <a:ext cx="171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22920" y="4814640"/>
            <a:ext cx="171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26160" y="4814640"/>
            <a:ext cx="17172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B9FF-4588-4E5E-A140-77D0DF0C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53337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FDB6-5426-4D58-B2F6-2428B000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2602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52800" y="4495680"/>
            <a:ext cx="2602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F11B-7A34-4D4B-84BA-9F1E8186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229-61EF-4BCA-BDD3-46CBBE6A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2895480"/>
            <a:ext cx="5333760" cy="70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067B-17CF-48CE-93B1-4A09C3B5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52800" y="4495680"/>
            <a:ext cx="2602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81464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CB49-A95E-4F90-A465-FD461858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2602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52800" y="449568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52800" y="481464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44A6-D475-4EB9-866D-3B69E763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52800" y="4495680"/>
            <a:ext cx="260280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814640"/>
            <a:ext cx="53337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259A-8799-4196-A7B7-A0C6E2F1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C4D6-C0BE-4572-A8B3-B66E94F4B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36A9-1ACA-4D85-8B0C-5F7AC9C76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28954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宋体"/>
              </a:rPr>
              <a:t>My Paperclip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4495680"/>
            <a:ext cx="533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subtitle goe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4280" y="11430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国外深色系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Times New Roman"/>
                <a:ea typeface="宋体"/>
              </a:rPr>
              <a:t>Your Topic Goes Here</a:t>
            </a:r>
            <a:endParaRPr b="0" lang="en-US" sz="40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宋体"/>
              </a:rPr>
              <a:t>Your Subtopics Go He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Your Topic Goes Here</a:t>
            </a:r>
            <a:endParaRPr b="0" lang="en-US" sz="40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Subtopics Go He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3703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09320" y="342900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Transitional Pag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57160" y="3352680"/>
            <a:ext cx="12765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ccff"/>
                </a:solidFill>
                <a:latin typeface="Times New Roman"/>
              </a:rPr>
              <a:t>使用规范说明</a:t>
            </a:r>
            <a:endParaRPr b="0" lang="en-US" sz="40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7954-8C13-42A6-A9BB-EEED1D8B30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81280" y="175248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7200" y="419112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581280" y="4191120"/>
            <a:ext cx="2895840" cy="2171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6477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860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40384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6934320" y="2743200"/>
            <a:ext cx="12762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10:18:5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39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TAG2">
    <vt:lpwstr>000800d402000000000001024140</vt:lpwstr>
  </property>
</Properties>
</file>