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499-4899-4EAB-B312-F8B90AA4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797-7DCF-4F4B-8EB9-9F26B4AA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30E-1DEC-45B4-8FF5-99BD87ED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420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188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652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420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188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EFE-6A97-42D9-8B01-02EFF6B7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9EAB-F9CF-439A-B8EE-62EDF568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FD3-21B7-4132-972D-37B4E145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413A-1C5B-42A2-9685-5A9FE0D1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4E81-D406-41E2-AF51-48146ABF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AD46-13A4-4853-8013-264CEC27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990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073B-A6BF-44D8-8A0B-23F7B6D4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4474-0A1D-487C-BCA4-1842924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75A-F6AD-4D0D-82A1-E9714AD7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BD40-DE04-4AA8-AB04-CA009F2A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457C-6005-4AA4-BE46-8096565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1FAC-C37E-40D0-8128-00D148DE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A823-AC8D-48EF-8CA9-40224610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420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1880" y="198108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6652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420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1880" y="4130640"/>
            <a:ext cx="169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864B-E9E5-4AD5-8872-B6EFA7DB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E3F-5585-411D-AFED-F9A750EC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A2A-289A-4DE8-B939-10ABEE39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7CE-8DC8-4A0B-A559-35F24435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990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906-90BF-4EA4-AC6F-107CCA0A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C62-8130-4334-BA4A-D4D7FA45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60760" y="413064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8F6-9A5B-49A4-B744-630E650D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0760" y="1981080"/>
            <a:ext cx="256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525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48E-D8FD-4FC6-AD29-4015541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81E5-98A8-4A4A-8273-50015E8900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BBEC-E2CC-41B0-81BD-459C543759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  <a:ea typeface="宋体"/>
              </a:rPr>
              <a:t>KID STUFF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5157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7472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小学动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21333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Times New Roman"/>
                <a:ea typeface="宋体"/>
              </a:rPr>
              <a:t>TRANSITIONAL PAGE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58E-03EE-4317-A061-EECEC6025B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286000" cy="5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6576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65760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5:54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