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8926C-C17E-4C3F-91CD-9730370C03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9520" y="2133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85840" y="2895120"/>
            <a:ext cx="4800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85840" y="3094560"/>
            <a:ext cx="4800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FAE3A-E758-4B67-9B7E-FEBB7844FA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9520" y="2133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85840" y="28951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345720" y="28951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85840" y="309456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345720" y="309456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F786A-8BA1-4DD8-A66B-7EE3EB2FB7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9520" y="2133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85840" y="289512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509080" y="289512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131960" y="289512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85840" y="309456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5509080" y="309456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131960" y="309456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C5C24-2651-45A8-BFF9-6C69381171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D1077-6F4B-489B-B1EE-AB605B48E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9520" y="2133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885840" y="2895120"/>
            <a:ext cx="4800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BFBCA-9B25-4633-AFC4-CAFF43DC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9520" y="2133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85840" y="2895120"/>
            <a:ext cx="4800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559BD-8683-43DC-B593-B2F9964F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9520" y="2133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85840" y="2895120"/>
            <a:ext cx="23425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345720" y="2895120"/>
            <a:ext cx="23425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624B5-C4C8-4EE4-A5BD-DA7BE584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9520" y="2133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F6E1C-96D7-4832-A0C5-8BB1E43F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809520" y="2133360"/>
            <a:ext cx="487692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32580-A3BF-4520-AF62-0FB0943E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9520" y="2133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85840" y="28951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345720" y="2895120"/>
            <a:ext cx="23425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85840" y="309456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2A4D8-B90E-4FA0-97B2-5D8DAC23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9520" y="2133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85840" y="2895120"/>
            <a:ext cx="4800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D9D0D-B52B-47E9-BDFD-F7DF36165F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9520" y="2133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85840" y="2895120"/>
            <a:ext cx="23425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45720" y="28951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345720" y="309456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3B1C7-E936-44F5-A303-BF02C276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9520" y="2133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85840" y="28951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345720" y="28951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85840" y="3094560"/>
            <a:ext cx="4800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A52AF-5714-4D01-A089-7A475CA8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9520" y="2133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5840" y="2895120"/>
            <a:ext cx="4800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85840" y="3094560"/>
            <a:ext cx="4800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328E9-28E0-439C-B696-8B81C87A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9520" y="2133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85840" y="28951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345720" y="28951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885840" y="309456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345720" y="309456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FAD73-86E0-4E21-90E3-651B9D9E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9520" y="2133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85840" y="289512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09080" y="289512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131960" y="289512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885840" y="309456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5509080" y="309456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7131960" y="309456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B19A6-D6EF-4703-8002-AF7CE4B29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9520" y="2133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85840" y="2895120"/>
            <a:ext cx="4800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A9388-2542-4213-A864-7D8906D85D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9520" y="2133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85840" y="2895120"/>
            <a:ext cx="23425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345720" y="2895120"/>
            <a:ext cx="23425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5D92B-D88C-48B4-8261-7DCCF8DB86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9520" y="2133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984AB-45DE-47A2-8CCA-4E8FAC607C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9520" y="2133360"/>
            <a:ext cx="487692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173CA-B808-402B-A879-1317C9478A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9520" y="2133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5840" y="28951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45720" y="2895120"/>
            <a:ext cx="23425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85840" y="309456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25364-9678-4FF1-8D3F-CFA1FD7C51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9520" y="2133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5840" y="2895120"/>
            <a:ext cx="23425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45720" y="28951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45720" y="309456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99C97-CF64-4F50-A3B3-D9FD22F128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9520" y="2133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5840" y="28951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45720" y="28951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85840" y="3094560"/>
            <a:ext cx="4800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E885D-ED68-48E8-A71D-57FF51C092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275520" y="523800"/>
            <a:ext cx="2639880" cy="36036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28600" y="457200"/>
            <a:ext cx="8686800" cy="6153120"/>
          </a:xfrm>
          <a:prstGeom prst="rect">
            <a:avLst/>
          </a:prstGeom>
          <a:noFill/>
          <a:ln w="38160">
            <a:solidFill>
              <a:srgbClr val="6a93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715000" y="6305400"/>
            <a:ext cx="3009960" cy="40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133200"/>
            <a:ext cx="5562720" cy="108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798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798f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4d798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16d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798f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4d798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798f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4d798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798f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4d798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798f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4d798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798f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4d798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798f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4d798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1"/>
          </p:nvPr>
        </p:nvSpPr>
        <p:spPr>
          <a:xfrm>
            <a:off x="5790960" y="632412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22824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C080-64EC-45A9-9F79-C4E1ECFD7FD9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685440" y="228240"/>
            <a:ext cx="4876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5535720" y="190440"/>
            <a:ext cx="662040" cy="81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458200" cy="6324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28440">
            <a:solidFill>
              <a:srgbClr val="6a93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9520" y="2133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152280" y="6552720"/>
            <a:ext cx="2438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3123720" y="6552720"/>
            <a:ext cx="3048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6476760" y="655272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6625-D78C-4074-9F29-48A877A413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91520" y="594360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57600" y="2819520"/>
            <a:ext cx="5105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124080" y="2514600"/>
            <a:ext cx="615960" cy="762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3366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9520" y="2133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owerPoint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mpla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187308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16dbd"/>
                </a:solidFill>
                <a:latin typeface="Arial"/>
              </a:rPr>
              <a:t>Add your company sloga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3366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3366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85840" y="2895120"/>
            <a:ext cx="4800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2089080" y="6094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个性简洁企业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4876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58" name="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516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d7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d798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4d798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29414d"/>
                </a:gs>
                <a:gs pos="50000">
                  <a:srgbClr val="4d798f"/>
                </a:gs>
                <a:gs pos="100000">
                  <a:srgbClr val="2941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4d798f">
                    <a:alpha val="0"/>
                  </a:srgbClr>
                </a:gs>
                <a:gs pos="100000">
                  <a:srgbClr val="304c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a93b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6a93b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394f65"/>
                </a:gs>
                <a:gs pos="50000">
                  <a:srgbClr val="6a93bc"/>
                </a:gs>
                <a:gs pos="100000">
                  <a:srgbClr val="394f6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6a93bc">
                    <a:alpha val="0"/>
                  </a:srgbClr>
                </a:gs>
                <a:gs pos="100000">
                  <a:srgbClr val="435d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74" name="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516dbd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253257"/>
                </a:gs>
                <a:gs pos="100000">
                  <a:srgbClr val="516dbd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2b3a65"/>
                </a:gs>
                <a:gs pos="50000">
                  <a:srgbClr val="516dbd"/>
                </a:gs>
                <a:gs pos="100000">
                  <a:srgbClr val="2b3a6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516dbd">
                    <a:alpha val="0"/>
                  </a:srgbClr>
                </a:gs>
                <a:gs pos="100000">
                  <a:srgbClr val="33447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284" name="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289" name="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4876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rketing Diagra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371600" y="1143000"/>
            <a:ext cx="5715000" cy="5330520"/>
            <a:chOff x="1371600" y="1143000"/>
            <a:chExt cx="5715000" cy="5330520"/>
          </a:xfrm>
        </p:grpSpPr>
        <p:sp>
          <p:nvSpPr>
            <p:cNvPr id="298" name=""/>
            <p:cNvSpPr/>
            <p:nvPr/>
          </p:nvSpPr>
          <p:spPr>
            <a:xfrm rot="13770000">
              <a:off x="4704120" y="3727440"/>
              <a:ext cx="1015560" cy="1962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cecec"/>
                </a:gs>
                <a:gs pos="100000">
                  <a:srgbClr val="dddddd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20856000">
              <a:off x="2679480" y="3248280"/>
              <a:ext cx="1035360" cy="182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8394200">
              <a:off x="4839120" y="2089440"/>
              <a:ext cx="631440" cy="1360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3643560" y="2125080"/>
              <a:ext cx="1652400" cy="1684080"/>
              <a:chOff x="3643560" y="2125080"/>
              <a:chExt cx="1652400" cy="168408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3643560" y="2125080"/>
                <a:ext cx="1652400" cy="1684080"/>
                <a:chOff x="3643560" y="2125080"/>
                <a:chExt cx="1652400" cy="168408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3643560" y="2125080"/>
                  <a:ext cx="165240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93bc"/>
                    </a:gs>
                    <a:gs pos="100000">
                      <a:srgbClr val="19232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832200" y="2152800"/>
                  <a:ext cx="127476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a93b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"/>
              <p:cNvSpPr/>
              <p:nvPr/>
            </p:nvSpPr>
            <p:spPr>
              <a:xfrm>
                <a:off x="3750120" y="285732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089320" y="1143000"/>
              <a:ext cx="925200" cy="912240"/>
              <a:chOff x="5089320" y="1143000"/>
              <a:chExt cx="925200" cy="91224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5089320" y="1143000"/>
                <a:ext cx="894960" cy="912240"/>
                <a:chOff x="5089320" y="1143000"/>
                <a:chExt cx="894960" cy="91224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5089320" y="1143000"/>
                  <a:ext cx="894960" cy="91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6dbd"/>
                    </a:gs>
                    <a:gs pos="100000">
                      <a:srgbClr val="131a2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191560" y="1158120"/>
                  <a:ext cx="690480" cy="344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16db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5105160" y="149364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1371600" y="2476440"/>
              <a:ext cx="1789920" cy="1894680"/>
              <a:chOff x="1371600" y="2476440"/>
              <a:chExt cx="1789920" cy="1894680"/>
            </a:xfrm>
          </p:grpSpPr>
          <p:grpSp>
            <p:nvGrpSpPr>
              <p:cNvPr id="312" name=""/>
              <p:cNvGrpSpPr/>
              <p:nvPr/>
            </p:nvGrpSpPr>
            <p:grpSpPr>
              <a:xfrm>
                <a:off x="1371600" y="2476440"/>
                <a:ext cx="1789920" cy="1894680"/>
                <a:chOff x="1371600" y="2476440"/>
                <a:chExt cx="1789920" cy="189468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1371600" y="2476440"/>
                  <a:ext cx="1789920" cy="189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ae26"/>
                    </a:gs>
                    <a:gs pos="100000">
                      <a:srgbClr val="4b6e1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576080" y="2507760"/>
                  <a:ext cx="1380600" cy="714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ae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" name=""/>
              <p:cNvSpPr/>
              <p:nvPr/>
            </p:nvSpPr>
            <p:spPr>
              <a:xfrm>
                <a:off x="1487520" y="33184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5020920" y="3879720"/>
              <a:ext cx="2065680" cy="2105280"/>
              <a:chOff x="5020920" y="3879720"/>
              <a:chExt cx="2065680" cy="210528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5020920" y="3879720"/>
                <a:ext cx="2065680" cy="2105280"/>
                <a:chOff x="5020920" y="3879720"/>
                <a:chExt cx="2065680" cy="21052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020920" y="3879720"/>
                  <a:ext cx="206568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798f"/>
                    </a:gs>
                    <a:gs pos="100000">
                      <a:srgbClr val="273d4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257080" y="3914640"/>
                  <a:ext cx="1593360" cy="79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4d798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5336280" y="47919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1577880" y="4441320"/>
              <a:ext cx="145440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781440" y="3812760"/>
              <a:ext cx="145584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65080" y="5985360"/>
              <a:ext cx="145440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27200" y="2125080"/>
              <a:ext cx="667080" cy="2440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4876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27" name="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51a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51a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51a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51a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51a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51a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9b7de"/>
                </a:gs>
                <a:gs pos="100000">
                  <a:srgbClr val="516db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9b7de"/>
                </a:gs>
                <a:gs pos="100000">
                  <a:srgbClr val="516db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9b7de"/>
                </a:gs>
                <a:gs pos="100000">
                  <a:srgbClr val="516db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a9b7de"/>
                </a:gs>
                <a:gs pos="100000">
                  <a:srgbClr val="516db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9b7de"/>
                </a:gs>
                <a:gs pos="100000">
                  <a:srgbClr val="516db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9b7de"/>
                </a:gs>
                <a:gs pos="100000">
                  <a:srgbClr val="516db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a93b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6a93b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394f65"/>
                </a:gs>
                <a:gs pos="50000">
                  <a:srgbClr val="6a93bc"/>
                </a:gs>
                <a:gs pos="100000">
                  <a:srgbClr val="394f6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57600" y="299736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6a93bc">
                    <a:alpha val="0"/>
                  </a:srgbClr>
                </a:gs>
                <a:gs pos="100000">
                  <a:srgbClr val="435d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52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4876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9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6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4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8" name="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393" name="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2987640" y="1123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4d798f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4876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260280" y="1828800"/>
            <a:ext cx="8626320" cy="4188960"/>
            <a:chOff x="260280" y="1828800"/>
            <a:chExt cx="8626320" cy="4188960"/>
          </a:xfrm>
        </p:grpSpPr>
        <p:grpSp>
          <p:nvGrpSpPr>
            <p:cNvPr id="405" name=""/>
            <p:cNvGrpSpPr/>
            <p:nvPr/>
          </p:nvGrpSpPr>
          <p:grpSpPr>
            <a:xfrm>
              <a:off x="260280" y="3279600"/>
              <a:ext cx="8626320" cy="167040"/>
              <a:chOff x="260280" y="3279600"/>
              <a:chExt cx="8626320" cy="167040"/>
            </a:xfrm>
          </p:grpSpPr>
          <p:sp>
            <p:nvSpPr>
              <p:cNvPr id="406" name=""/>
              <p:cNvSpPr/>
              <p:nvPr/>
            </p:nvSpPr>
            <p:spPr>
              <a:xfrm>
                <a:off x="260280" y="3279600"/>
                <a:ext cx="8626320" cy="651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60280" y="3343680"/>
                <a:ext cx="8626320" cy="10296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761760" y="2685960"/>
              <a:ext cx="1932840" cy="3265200"/>
              <a:chOff x="761760" y="2685960"/>
              <a:chExt cx="1932840" cy="3265200"/>
            </a:xfrm>
          </p:grpSpPr>
          <p:grpSp>
            <p:nvGrpSpPr>
              <p:cNvPr id="409" name=""/>
              <p:cNvGrpSpPr/>
              <p:nvPr/>
            </p:nvGrpSpPr>
            <p:grpSpPr>
              <a:xfrm>
                <a:off x="1168200" y="3526560"/>
                <a:ext cx="1526400" cy="2424600"/>
                <a:chOff x="1168200" y="3526560"/>
                <a:chExt cx="1526400" cy="2424600"/>
              </a:xfrm>
            </p:grpSpPr>
            <p:grpSp>
              <p:nvGrpSpPr>
                <p:cNvPr id="410" name=""/>
                <p:cNvGrpSpPr/>
                <p:nvPr/>
              </p:nvGrpSpPr>
              <p:grpSpPr>
                <a:xfrm>
                  <a:off x="1168200" y="3684240"/>
                  <a:ext cx="1420200" cy="2266920"/>
                  <a:chOff x="1168200" y="3684240"/>
                  <a:chExt cx="1420200" cy="226692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rot="3876600">
                    <a:off x="74052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rot="3876600">
                    <a:off x="210780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1604520" y="3526560"/>
                  <a:ext cx="1090080" cy="1739520"/>
                  <a:chOff x="1604520" y="3526560"/>
                  <a:chExt cx="1090080" cy="173952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 flipV="1" rot="3876600">
                    <a:off x="1276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V="1" rot="3876600">
                    <a:off x="2310120" y="488844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6" name=""/>
              <p:cNvGrpSpPr/>
              <p:nvPr/>
            </p:nvGrpSpPr>
            <p:grpSpPr>
              <a:xfrm>
                <a:off x="761760" y="2685960"/>
                <a:ext cx="1270800" cy="1309320"/>
                <a:chOff x="761760" y="2685960"/>
                <a:chExt cx="1270800" cy="130932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761760" y="2685960"/>
                  <a:ext cx="127080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61760" y="2685960"/>
                  <a:ext cx="127080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845640" y="2770920"/>
                  <a:ext cx="110232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845640" y="2773800"/>
                  <a:ext cx="110232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90036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422" name=""/>
                <p:cNvGrpSpPr/>
                <p:nvPr/>
              </p:nvGrpSpPr>
              <p:grpSpPr>
                <a:xfrm>
                  <a:off x="915840" y="2844360"/>
                  <a:ext cx="962640" cy="992880"/>
                  <a:chOff x="915840" y="2844360"/>
                  <a:chExt cx="962640" cy="99288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>
                    <a:off x="915840" y="2844360"/>
                    <a:ext cx="96264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928080" y="2849760"/>
                    <a:ext cx="93960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938160" y="2859120"/>
                    <a:ext cx="89352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990360" y="2884680"/>
                    <a:ext cx="79416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7" name=""/>
              <p:cNvSpPr/>
              <p:nvPr/>
            </p:nvSpPr>
            <p:spPr>
              <a:xfrm rot="3925800">
                <a:off x="112860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3925800">
                <a:off x="159012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66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430" name=""/>
              <p:cNvGrpSpPr/>
              <p:nvPr/>
            </p:nvGrpSpPr>
            <p:grpSpPr>
              <a:xfrm>
                <a:off x="2914200" y="3526560"/>
                <a:ext cx="1526400" cy="2424600"/>
                <a:chOff x="2914200" y="3526560"/>
                <a:chExt cx="1526400" cy="2424600"/>
              </a:xfrm>
            </p:grpSpPr>
            <p:grpSp>
              <p:nvGrpSpPr>
                <p:cNvPr id="431" name=""/>
                <p:cNvGrpSpPr/>
                <p:nvPr/>
              </p:nvGrpSpPr>
              <p:grpSpPr>
                <a:xfrm>
                  <a:off x="2914200" y="3684240"/>
                  <a:ext cx="1420200" cy="2266920"/>
                  <a:chOff x="2914200" y="3684240"/>
                  <a:chExt cx="1420200" cy="226692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rot="3876600">
                    <a:off x="248652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rot="3876600">
                    <a:off x="385380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V="1" rot="3876600">
                    <a:off x="4056120" y="488844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7" name="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2593800" y="277092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2593800" y="277380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2648520" y="2828880"/>
                  <a:ext cx="99252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443" name=""/>
                <p:cNvGrpSpPr/>
                <p:nvPr/>
              </p:nvGrpSpPr>
              <p:grpSpPr>
                <a:xfrm>
                  <a:off x="2663640" y="2844360"/>
                  <a:ext cx="961920" cy="992880"/>
                  <a:chOff x="2663640" y="2844360"/>
                  <a:chExt cx="961920" cy="99288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2663640" y="2844360"/>
                    <a:ext cx="9619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675880" y="2849760"/>
                    <a:ext cx="9388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2685600" y="2859120"/>
                    <a:ext cx="89280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2738160" y="288468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8" name="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3925800">
                <a:off x="33321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66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4313160" y="2685960"/>
              <a:ext cx="1931760" cy="3265200"/>
              <a:chOff x="4313160" y="2685960"/>
              <a:chExt cx="1931760" cy="3265200"/>
            </a:xfrm>
          </p:grpSpPr>
          <p:grpSp>
            <p:nvGrpSpPr>
              <p:cNvPr id="451" name=""/>
              <p:cNvGrpSpPr/>
              <p:nvPr/>
            </p:nvGrpSpPr>
            <p:grpSpPr>
              <a:xfrm>
                <a:off x="4718880" y="3526560"/>
                <a:ext cx="1526040" cy="2424600"/>
                <a:chOff x="4718880" y="3526560"/>
                <a:chExt cx="1526040" cy="2424600"/>
              </a:xfrm>
            </p:grpSpPr>
            <p:grpSp>
              <p:nvGrpSpPr>
                <p:cNvPr id="452" name=""/>
                <p:cNvGrpSpPr/>
                <p:nvPr/>
              </p:nvGrpSpPr>
              <p:grpSpPr>
                <a:xfrm>
                  <a:off x="4718880" y="3684240"/>
                  <a:ext cx="1420200" cy="2266920"/>
                  <a:chOff x="4718880" y="3684240"/>
                  <a:chExt cx="1420200" cy="226692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rot="3876600">
                    <a:off x="429120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rot="3876600">
                    <a:off x="565848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5155200" y="3526560"/>
                  <a:ext cx="1089720" cy="1739520"/>
                  <a:chOff x="5155200" y="3526560"/>
                  <a:chExt cx="1089720" cy="173952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flipV="1" rot="3876600">
                    <a:off x="482652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flipV="1" rot="3876600">
                    <a:off x="586044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8" name="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464" name="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9" name="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3925800">
                <a:off x="514512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66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6089760" y="2541600"/>
              <a:ext cx="2122200" cy="3476160"/>
              <a:chOff x="6089760" y="2541600"/>
              <a:chExt cx="2122200" cy="3476160"/>
            </a:xfrm>
          </p:grpSpPr>
          <p:grpSp>
            <p:nvGrpSpPr>
              <p:cNvPr id="472" name="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473" name="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9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19308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256440" y="271296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484" name="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290280" y="273852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9" name="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66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492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1a0b9"/>
                    </a:solidFill>
                    <a:latin typeface="Verdana"/>
                  </a:rPr>
                  <a:t>2001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1a0b9"/>
                    </a:solidFill>
                    <a:latin typeface="Verdana"/>
                  </a:rPr>
                  <a:t>2002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1a0b9"/>
                    </a:solidFill>
                    <a:latin typeface="Verdana"/>
                  </a:rPr>
                  <a:t>2003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51a0b9"/>
                    </a:solidFill>
                    <a:latin typeface="Verdana"/>
                  </a:rPr>
                  <a:t>2004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cxnSp>
            <p:nvCxnSpPr>
              <p:cNvPr id="496" name=""/>
              <p:cNvCxnSpPr>
                <a:stCxn id="492" idx="3"/>
                <a:endCxn id="493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51a0b9"/>
                </a:solidFill>
                <a:miter/>
                <a:tailEnd len="med" type="triangle" w="med"/>
              </a:ln>
            </p:spPr>
          </p:cxnSp>
          <p:cxnSp>
            <p:nvCxnSpPr>
              <p:cNvPr id="497" name=""/>
              <p:cNvCxnSpPr>
                <a:stCxn id="493" idx="3"/>
                <a:endCxn id="494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51a0b9"/>
                </a:solidFill>
                <a:miter/>
                <a:tailEnd len="med" type="triangle" w="med"/>
              </a:ln>
            </p:spPr>
          </p:cxnSp>
          <p:cxnSp>
            <p:nvCxnSpPr>
              <p:cNvPr id="498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51a0b9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4876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01" name="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503" name="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516dbd"/>
                  </a:gs>
                  <a:gs pos="100000">
                    <a:srgbClr val="384b83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aeda"/>
                  </a:gs>
                  <a:gs pos="50000">
                    <a:srgbClr val="516dbd">
                      <a:alpha val="0"/>
                    </a:srgbClr>
                  </a:gs>
                  <a:gs pos="100000">
                    <a:srgbClr val="9faed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08" name="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10" name="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7d9dad"/>
                  </a:gs>
                  <a:gs pos="100000">
                    <a:srgbClr val="4d798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798f">
                      <a:alpha val="0"/>
                    </a:srgbClr>
                  </a:gs>
                  <a:gs pos="100000">
                    <a:srgbClr val="b2c5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15" name="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17" name="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fb9d3"/>
                  </a:gs>
                  <a:gs pos="100000">
                    <a:srgbClr val="6a93b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93bc">
                      <a:alpha val="0"/>
                    </a:srgbClr>
                  </a:gs>
                  <a:gs pos="100000">
                    <a:srgbClr val="b5c9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4876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27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4d798f"/>
                </a:gs>
                <a:gs pos="100000">
                  <a:srgbClr val="233741"/>
                </a:gs>
              </a:gsLst>
              <a:lin ang="198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29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516dbd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35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4d798f"/>
                </a:gs>
                <a:gs pos="100000">
                  <a:srgbClr val="233741"/>
                </a:gs>
              </a:gsLst>
              <a:lin ang="198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41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45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516dbd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4876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838080" y="2257560"/>
          <a:ext cx="7467480" cy="302580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16d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16db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16d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16db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16dbd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80000"/>
                      </a:srgbClr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48000"/>
                      </a:srgbClr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80000"/>
                      </a:srgbClr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48000"/>
                      </a:srgbClr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80000"/>
                      </a:srgbClr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4724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604080" y="580320"/>
            <a:ext cx="7379640" cy="5581800"/>
            <a:chOff x="604080" y="580320"/>
            <a:chExt cx="7379640" cy="5581800"/>
          </a:xfrm>
        </p:grpSpPr>
        <p:sp>
          <p:nvSpPr>
            <p:cNvPr id="558" name=""/>
            <p:cNvSpPr/>
            <p:nvPr/>
          </p:nvSpPr>
          <p:spPr>
            <a:xfrm>
              <a:off x="2141640" y="436716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efefef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20601600">
              <a:off x="1452240" y="225540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565656"/>
                </a:gs>
                <a:gs pos="50000">
                  <a:srgbClr val="dddddd"/>
                </a:gs>
                <a:gs pos="100000">
                  <a:srgbClr val="5656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20601600">
              <a:off x="1471320" y="209232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20601600">
              <a:off x="1388880" y="207756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9bb6d1"/>
                </a:gs>
                <a:gs pos="100000">
                  <a:srgbClr val="6a93bc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 rot="20602200">
              <a:off x="1437840" y="207720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62889c"/>
                </a:gs>
                <a:gs pos="100000">
                  <a:srgbClr val="4d798f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20601600">
              <a:off x="1321200" y="2098440"/>
              <a:ext cx="5773680" cy="283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gradFill rotWithShape="0">
              <a:gsLst>
                <a:gs pos="0">
                  <a:srgbClr val="2a5360"/>
                </a:gs>
                <a:gs pos="100000">
                  <a:srgbClr val="51a0b9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 rot="20602200">
              <a:off x="1405800" y="207036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949ebc"/>
                </a:gs>
                <a:gs pos="100000">
                  <a:srgbClr val="6d7ba5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20601600">
              <a:off x="2933640" y="28062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24560" y="3485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829680" y="2266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658480" y="2571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604080" y="580320"/>
              <a:ext cx="7379640" cy="5581800"/>
              <a:chOff x="604080" y="580320"/>
              <a:chExt cx="7379640" cy="5581800"/>
            </a:xfrm>
          </p:grpSpPr>
          <p:sp>
            <p:nvSpPr>
              <p:cNvPr id="570" name=""/>
              <p:cNvSpPr/>
              <p:nvPr/>
            </p:nvSpPr>
            <p:spPr>
              <a:xfrm>
                <a:off x="5448240" y="352440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a93bc"/>
                  </a:gs>
                  <a:gs pos="100000">
                    <a:srgbClr val="40597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20539200">
                <a:off x="1022400" y="148428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304356"/>
                  </a:gs>
                  <a:gs pos="100000">
                    <a:srgbClr val="6a93bc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582800" y="400068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04356"/>
                  </a:gs>
                  <a:gs pos="100000">
                    <a:srgbClr val="6a93b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353200" y="379116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3143880" y="4476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427640" y="406692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676767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20601600">
              <a:off x="3036960" y="305748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4876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1219320" y="1981080"/>
            <a:ext cx="6781320" cy="4266720"/>
            <a:chOff x="1219320" y="1981080"/>
            <a:chExt cx="6781320" cy="4266720"/>
          </a:xfrm>
        </p:grpSpPr>
        <p:sp>
          <p:nvSpPr>
            <p:cNvPr id="579" name=""/>
            <p:cNvSpPr/>
            <p:nvPr/>
          </p:nvSpPr>
          <p:spPr>
            <a:xfrm>
              <a:off x="2127960" y="2669400"/>
              <a:ext cx="5074200" cy="247788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918440" y="1981080"/>
              <a:ext cx="5312880" cy="518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d798f"/>
                </a:gs>
                <a:gs pos="50000">
                  <a:srgbClr val="8ba8b6"/>
                </a:gs>
                <a:gs pos="100000">
                  <a:srgbClr val="4d798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661920" y="32198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1219320" y="4361400"/>
              <a:ext cx="1363320" cy="1796400"/>
              <a:chOff x="1219320" y="4361400"/>
              <a:chExt cx="1363320" cy="1796400"/>
            </a:xfrm>
          </p:grpSpPr>
          <p:grpSp>
            <p:nvGrpSpPr>
              <p:cNvPr id="583" name=""/>
              <p:cNvGrpSpPr/>
              <p:nvPr/>
            </p:nvGrpSpPr>
            <p:grpSpPr>
              <a:xfrm>
                <a:off x="1219320" y="4361400"/>
                <a:ext cx="1363320" cy="1368000"/>
                <a:chOff x="1219320" y="4361400"/>
                <a:chExt cx="1363320" cy="1368000"/>
              </a:xfrm>
            </p:grpSpPr>
            <p:grpSp>
              <p:nvGrpSpPr>
                <p:cNvPr id="584" name=""/>
                <p:cNvGrpSpPr/>
                <p:nvPr/>
              </p:nvGrpSpPr>
              <p:grpSpPr>
                <a:xfrm>
                  <a:off x="1219320" y="4361400"/>
                  <a:ext cx="1363320" cy="1368000"/>
                  <a:chOff x="1219320" y="4361400"/>
                  <a:chExt cx="1363320" cy="1368000"/>
                </a:xfrm>
              </p:grpSpPr>
              <p:sp>
                <p:nvSpPr>
                  <p:cNvPr id="585" name=""/>
                  <p:cNvSpPr/>
                  <p:nvPr/>
                </p:nvSpPr>
                <p:spPr>
                  <a:xfrm>
                    <a:off x="1219320" y="4361400"/>
                    <a:ext cx="1363320" cy="1368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7ae26"/>
                      </a:gs>
                      <a:gs pos="100000">
                        <a:srgbClr val="4b6e1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1375200" y="4384080"/>
                    <a:ext cx="1051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7ae2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7" name=""/>
                <p:cNvSpPr/>
                <p:nvPr/>
              </p:nvSpPr>
              <p:spPr>
                <a:xfrm>
                  <a:off x="1316160" y="505692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8" name=""/>
              <p:cNvSpPr/>
              <p:nvPr/>
            </p:nvSpPr>
            <p:spPr>
              <a:xfrm>
                <a:off x="1359000" y="5806800"/>
                <a:ext cx="1107000" cy="3510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6602400" y="4321440"/>
              <a:ext cx="1398240" cy="1866240"/>
              <a:chOff x="6602400" y="4321440"/>
              <a:chExt cx="1398240" cy="1866240"/>
            </a:xfrm>
          </p:grpSpPr>
          <p:grpSp>
            <p:nvGrpSpPr>
              <p:cNvPr id="590" name=""/>
              <p:cNvGrpSpPr/>
              <p:nvPr/>
            </p:nvGrpSpPr>
            <p:grpSpPr>
              <a:xfrm>
                <a:off x="6602400" y="4321440"/>
                <a:ext cx="1398240" cy="1383120"/>
                <a:chOff x="6602400" y="4321440"/>
                <a:chExt cx="1398240" cy="1383120"/>
              </a:xfrm>
            </p:grpSpPr>
            <p:grpSp>
              <p:nvGrpSpPr>
                <p:cNvPr id="591" name=""/>
                <p:cNvGrpSpPr/>
                <p:nvPr/>
              </p:nvGrpSpPr>
              <p:grpSpPr>
                <a:xfrm>
                  <a:off x="6602400" y="4321440"/>
                  <a:ext cx="1398240" cy="1383120"/>
                  <a:chOff x="6602400" y="4321440"/>
                  <a:chExt cx="1398240" cy="1383120"/>
                </a:xfrm>
              </p:grpSpPr>
              <p:sp>
                <p:nvSpPr>
                  <p:cNvPr id="592" name=""/>
                  <p:cNvSpPr/>
                  <p:nvPr/>
                </p:nvSpPr>
                <p:spPr>
                  <a:xfrm>
                    <a:off x="6602400" y="4321440"/>
                    <a:ext cx="1398240" cy="1383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a93bc"/>
                      </a:gs>
                      <a:gs pos="100000">
                        <a:srgbClr val="19232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6762240" y="4344120"/>
                    <a:ext cx="1078560" cy="52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a93b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4" name=""/>
                <p:cNvSpPr/>
                <p:nvPr/>
              </p:nvSpPr>
              <p:spPr>
                <a:xfrm>
                  <a:off x="6684120" y="49651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5" name=""/>
              <p:cNvSpPr/>
              <p:nvPr/>
            </p:nvSpPr>
            <p:spPr>
              <a:xfrm>
                <a:off x="6641640" y="5748120"/>
                <a:ext cx="1335600" cy="4395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967120" y="4361400"/>
              <a:ext cx="1397880" cy="1886400"/>
              <a:chOff x="2967120" y="4361400"/>
              <a:chExt cx="1397880" cy="1886400"/>
            </a:xfrm>
          </p:grpSpPr>
          <p:grpSp>
            <p:nvGrpSpPr>
              <p:cNvPr id="597" name=""/>
              <p:cNvGrpSpPr/>
              <p:nvPr/>
            </p:nvGrpSpPr>
            <p:grpSpPr>
              <a:xfrm>
                <a:off x="2967120" y="4361400"/>
                <a:ext cx="1397880" cy="1373400"/>
                <a:chOff x="2967120" y="4361400"/>
                <a:chExt cx="1397880" cy="137340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2967120" y="4361400"/>
                  <a:ext cx="1397880" cy="137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798f"/>
                    </a:gs>
                    <a:gs pos="100000">
                      <a:srgbClr val="273d4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126960" y="4384080"/>
                  <a:ext cx="1078200" cy="51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4d798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0" name=""/>
              <p:cNvSpPr/>
              <p:nvPr/>
            </p:nvSpPr>
            <p:spPr>
              <a:xfrm>
                <a:off x="3036960" y="5020560"/>
                <a:ext cx="125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967120" y="5806440"/>
                <a:ext cx="1333800" cy="4413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4854600" y="4321440"/>
              <a:ext cx="1397880" cy="1886400"/>
              <a:chOff x="4854600" y="4321440"/>
              <a:chExt cx="1397880" cy="1886400"/>
            </a:xfrm>
          </p:grpSpPr>
          <p:grpSp>
            <p:nvGrpSpPr>
              <p:cNvPr id="603" name=""/>
              <p:cNvGrpSpPr/>
              <p:nvPr/>
            </p:nvGrpSpPr>
            <p:grpSpPr>
              <a:xfrm>
                <a:off x="4854600" y="4321440"/>
                <a:ext cx="1397880" cy="1373400"/>
                <a:chOff x="4854600" y="4321440"/>
                <a:chExt cx="1397880" cy="137340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4854600" y="4321440"/>
                  <a:ext cx="1397880" cy="137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6dbd"/>
                    </a:gs>
                    <a:gs pos="100000">
                      <a:srgbClr val="29376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5014440" y="4344120"/>
                  <a:ext cx="1078200" cy="51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516db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6" name=""/>
              <p:cNvSpPr/>
              <p:nvPr/>
            </p:nvSpPr>
            <p:spPr>
              <a:xfrm>
                <a:off x="4924440" y="4980600"/>
                <a:ext cx="125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854600" y="5766480"/>
                <a:ext cx="1333800" cy="4413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39440" y="228240"/>
            <a:ext cx="4822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9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7ae26"/>
                </a:gs>
                <a:gs pos="50000">
                  <a:srgbClr val="e1ecd0"/>
                </a:gs>
                <a:gs pos="100000">
                  <a:srgbClr val="77ae2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77ae2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4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16dbd"/>
                </a:gs>
                <a:gs pos="50000">
                  <a:srgbClr val="d9dff0"/>
                </a:gs>
                <a:gs pos="100000">
                  <a:srgbClr val="516dbd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516d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9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1a0b9"/>
                </a:gs>
                <a:gs pos="50000">
                  <a:srgbClr val="d9e9ef"/>
                </a:gs>
                <a:gs pos="100000">
                  <a:srgbClr val="51a0b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51a0b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4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a93bc"/>
                </a:gs>
                <a:gs pos="50000">
                  <a:srgbClr val="dee7ef"/>
                </a:gs>
                <a:gs pos="100000">
                  <a:srgbClr val="6a93b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6a93b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2987640" y="1123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4d798f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798f"/>
              </a:solidFill>
              <a:latin typeface="Verdana"/>
            </a:endParaRPr>
          </a:p>
        </p:txBody>
      </p:sp>
      <p:sp>
        <p:nvSpPr>
          <p:cNvPr id="6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46511-BD45-4526-BDE9-607E992B6E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3886200" y="2133720"/>
            <a:ext cx="4343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16dbd"/>
                    </a:gs>
                    <a:gs pos="100000">
                      <a:srgbClr val="51a0b9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16dbd"/>
                  </a:gs>
                  <a:gs pos="100000">
                    <a:srgbClr val="51a0b9"/>
                  </a:gs>
                </a:gsLst>
                <a:lin ang="10800000"/>
              </a:gradFill>
              <a:effectLst>
                <a:outerShdw dist="53966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987640" y="1123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4d798f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3885840" y="2895120"/>
            <a:ext cx="4800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4876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8520" y="1980720"/>
            <a:ext cx="7700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d798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798f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4d798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798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16d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a0b9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516dbd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51a0b9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516dbd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51a0b9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516dbd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51a0b9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516dbd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51a0b9"/>
                </a:solidFill>
                <a:latin typeface="Arial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51a0b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5562720"/>
            <a:ext cx="63248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1a0b9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51a0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1a0b9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51a0b9"/>
                </a:solidFill>
                <a:latin typeface="Arial"/>
              </a:rPr>
              <a:t>Image : 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51a0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1a0b9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51a0b9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1a0b9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51a0b9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4876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24" name="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7ca74"/>
              </a:gs>
              <a:gs pos="100000">
                <a:srgbClr val="77ae2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28" name="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53a45"/>
                    </a:gs>
                    <a:gs pos="100000">
                      <a:srgbClr val="4d798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798f"/>
                    </a:gs>
                    <a:gs pos="100000">
                      <a:srgbClr val="afc2cc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516dbd"/>
                  </a:gs>
                  <a:gs pos="100000">
                    <a:srgbClr val="25325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c1cbe7"/>
                  </a:gs>
                  <a:gs pos="100000">
                    <a:srgbClr val="516dbd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516dbd">
                      <a:alpha val="48235"/>
                    </a:srgbClr>
                  </a:gs>
                  <a:gs pos="100000">
                    <a:srgbClr val="3f569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516dbd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38" name="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5d3da"/>
              </a:gs>
              <a:gs pos="100000">
                <a:srgbClr val="4d798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4876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43" name="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4d798f"/>
                </a:gs>
                <a:gs pos="100000">
                  <a:srgbClr val="1a293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516dbd"/>
                </a:gs>
                <a:gs pos="100000">
                  <a:srgbClr val="19223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77ae26"/>
                </a:gs>
                <a:gs pos="100000">
                  <a:srgbClr val="2a3d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6a93bc"/>
                </a:gs>
                <a:gs pos="100000">
                  <a:srgbClr val="2432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156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157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4876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60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04356"/>
                </a:gs>
                <a:gs pos="50000">
                  <a:srgbClr val="6a93bc"/>
                </a:gs>
                <a:gs pos="100000">
                  <a:srgbClr val="3043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04356"/>
                </a:gs>
                <a:gs pos="50000">
                  <a:srgbClr val="6a93bc"/>
                </a:gs>
                <a:gs pos="100000">
                  <a:srgbClr val="3043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04356"/>
                </a:gs>
                <a:gs pos="50000">
                  <a:srgbClr val="6a93bc"/>
                </a:gs>
                <a:gs pos="100000">
                  <a:srgbClr val="3043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53257"/>
                </a:gs>
                <a:gs pos="50000">
                  <a:srgbClr val="516dbd"/>
                </a:gs>
                <a:gs pos="100000">
                  <a:srgbClr val="2532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33741"/>
                </a:gs>
                <a:gs pos="50000">
                  <a:srgbClr val="4d798f"/>
                </a:gs>
                <a:gs pos="100000">
                  <a:srgbClr val="23374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4876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0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81" name="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ad8e2"/>
                  </a:gs>
                  <a:gs pos="100000">
                    <a:srgbClr val="51a0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ad8e2"/>
                  </a:gs>
                  <a:gs pos="100000">
                    <a:srgbClr val="51a0b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rot="10800000">
                <a:off x="423864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ad8e2"/>
                  </a:gs>
                  <a:gs pos="100000">
                    <a:srgbClr val="51a0b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30588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43872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4d798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29414d"/>
                  </a:gs>
                  <a:gs pos="50000">
                    <a:srgbClr val="4d798f"/>
                  </a:gs>
                  <a:gs pos="100000">
                    <a:srgbClr val="2941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04356"/>
                </a:gs>
                <a:gs pos="50000">
                  <a:srgbClr val="6a93bc"/>
                </a:gs>
                <a:gs pos="100000">
                  <a:srgbClr val="3043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04356"/>
                </a:gs>
                <a:gs pos="50000">
                  <a:srgbClr val="6a93bc"/>
                </a:gs>
                <a:gs pos="100000">
                  <a:srgbClr val="3043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04356"/>
                </a:gs>
                <a:gs pos="50000">
                  <a:srgbClr val="6a93bc"/>
                </a:gs>
                <a:gs pos="100000">
                  <a:srgbClr val="3043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53257"/>
                </a:gs>
                <a:gs pos="50000">
                  <a:srgbClr val="516dbd"/>
                </a:gs>
                <a:gs pos="100000">
                  <a:srgbClr val="2532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53257"/>
                </a:gs>
                <a:gs pos="50000">
                  <a:srgbClr val="516dbd"/>
                </a:gs>
                <a:gs pos="100000">
                  <a:srgbClr val="2532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53257"/>
                </a:gs>
                <a:gs pos="50000">
                  <a:srgbClr val="516dbd"/>
                </a:gs>
                <a:gs pos="100000">
                  <a:srgbClr val="2532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4876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206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20" name="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65011"/>
                  </a:gs>
                  <a:gs pos="50000">
                    <a:srgbClr val="77ae26"/>
                  </a:gs>
                  <a:gs pos="100000">
                    <a:srgbClr val="36501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77ae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33741"/>
                  </a:gs>
                  <a:gs pos="50000">
                    <a:srgbClr val="4d798f"/>
                  </a:gs>
                  <a:gs pos="100000">
                    <a:srgbClr val="23374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4d79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04356"/>
                  </a:gs>
                  <a:gs pos="50000">
                    <a:srgbClr val="6a93bc"/>
                  </a:gs>
                  <a:gs pos="100000">
                    <a:srgbClr val="30435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53257"/>
                  </a:gs>
                  <a:gs pos="50000">
                    <a:srgbClr val="516dbd"/>
                  </a:gs>
                  <a:gs pos="100000">
                    <a:srgbClr val="25325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516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557d1b"/>
                  </a:gs>
                  <a:gs pos="50000">
                    <a:srgbClr val="77ae26"/>
                  </a:gs>
                  <a:gs pos="100000">
                    <a:srgbClr val="557d1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375767"/>
                  </a:gs>
                  <a:gs pos="50000">
                    <a:srgbClr val="4d798f"/>
                  </a:gs>
                  <a:gs pos="100000">
                    <a:srgbClr val="37576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6a93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4c6a87"/>
                  </a:gs>
                  <a:gs pos="50000">
                    <a:srgbClr val="6a93bc"/>
                  </a:gs>
                  <a:gs pos="100000">
                    <a:srgbClr val="4c6a8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3a4e88"/>
                  </a:gs>
                  <a:gs pos="50000">
                    <a:srgbClr val="516dbd"/>
                  </a:gs>
                  <a:gs pos="100000">
                    <a:srgbClr val="3a4e8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4876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235" name="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4d798f"/>
                </a:gs>
                <a:gs pos="100000">
                  <a:srgbClr val="5c8498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77ae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65011"/>
                </a:gs>
                <a:gs pos="50000">
                  <a:srgbClr val="77ae26"/>
                </a:gs>
                <a:gs pos="100000">
                  <a:srgbClr val="3650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4d79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33741"/>
                </a:gs>
                <a:gs pos="50000">
                  <a:srgbClr val="4d798f"/>
                </a:gs>
                <a:gs pos="100000">
                  <a:srgbClr val="23374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6a93bc"/>
                </a:gs>
                <a:gs pos="100000">
                  <a:srgbClr val="a8bfd7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248" name="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6a93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283848"/>
                  </a:gs>
                  <a:gs pos="50000">
                    <a:srgbClr val="6a93bc"/>
                  </a:gs>
                  <a:gs pos="100000">
                    <a:srgbClr val="28384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d Your Title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05:30:44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5:10Z</dcterms:modified>
  <cp:revision>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