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72343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B21-6768-4E3C-B5D3-F566702D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6B5-92F0-4C68-8C9A-563891A8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8F9-A309-42CC-A284-D79DAF23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9F1-02C9-4AA7-9959-A4552F67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C6A-B1D9-4678-A682-A4118D02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6DE-F732-40F8-94CB-56CEC424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9D1-15B6-47C3-A056-EFB91133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9E4-999E-4B77-B177-28FA9DE4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480"/>
            <a:ext cx="875052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675-E0BE-41F0-B4FB-7BB00195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75A-B17A-4F6B-B43D-9528A587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F75-13B0-4406-B0BD-13E1857B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1268-C5A7-40DA-B1BE-B69B2992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0760"/>
            <a:ext cx="2268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5900760"/>
            <a:ext cx="3079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5900760"/>
            <a:ext cx="2268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2ED9-CF46-41FB-A1F3-6702B2B6C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11280" y="-19440"/>
            <a:ext cx="48261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时尚中黑简体"/>
              </a:rPr>
              <a:t>个人简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042920" y="542880"/>
            <a:ext cx="4338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2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048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14120" y="93672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工作个人简历文档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8600" y="179280"/>
            <a:ext cx="8726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480" y="1199880"/>
            <a:ext cx="94932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746840" y="314280"/>
            <a:ext cx="1478160" cy="330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4AF-AC9E-462F-B1BC-BC8B50E3CB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时尚中黑简体"/>
              </a:rPr>
              <a:t>个人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7640" y="1511280"/>
            <a:ext cx="819144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时尚中黑简体"/>
              </a:rPr>
              <a:t>性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时尚中黑简体"/>
              </a:rPr>
              <a:t>爱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时尚中黑简体"/>
              </a:rPr>
              <a:t>学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7:03:4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9:23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