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8E8-1DE5-4BD4-847A-F7341FB0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4DB-7361-4300-844C-238E34E0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66E-C4A3-4743-886D-E7D85553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9172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5424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2920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629172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55424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5EF-FA5A-4DA3-B0DB-2A7BDC52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ED1D-8633-4D17-9DAF-5324B9E5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F20D-318C-4F50-A631-967B0C94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5BC5-81FF-4FC6-9364-B68B045D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CD12-B4B9-4A86-8D87-7398B3A4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7E1C-059E-46D5-8BCE-CD533692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4485960"/>
            <a:ext cx="7772400" cy="54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EC37-F2D6-4C60-A41D-E22AFC19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2DB9-96B1-46AD-A3EB-454F2679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B95-58F1-45D1-8FC5-A5F5E99B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8704-FCC1-40F6-BF52-96C2CF7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739D-FF41-4E8A-A919-7887973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3771-4EBA-4AB0-8251-47C1976A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8203-5030-4487-A4EC-4F61E80E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9172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55424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02920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629172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55424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B2F5-1A6B-4556-A36A-CB34A196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54A-B6AC-42F0-B482-823E211A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0E3-5B7D-4F74-B265-B9EEA9CB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76C-67F9-47D7-AFE7-4A0C14A5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720" y="4485960"/>
            <a:ext cx="7772400" cy="54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835-8DE0-495E-AC31-5E5460B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A02-C183-4BF1-B866-D7DCD896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64E-F8F3-4C96-BC7F-928CFB4B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F97-DBC0-4205-A2C3-5CDA929F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5200" y="343080"/>
            <a:ext cx="8848800" cy="6514920"/>
          </a:xfrm>
          <a:custGeom>
            <a:avLst/>
            <a:gdLst/>
            <a:ahLst/>
            <a:rect l="l" t="t" r="r" b="b"/>
            <a:pathLst>
              <a:path w="5574" h="4104">
                <a:moveTo>
                  <a:pt x="5574" y="4104"/>
                </a:moveTo>
                <a:lnTo>
                  <a:pt x="5574" y="24"/>
                </a:lnTo>
                <a:cubicBezTo>
                  <a:pt x="4920" y="0"/>
                  <a:pt x="4738" y="24"/>
                  <a:pt x="4194" y="24"/>
                </a:cubicBezTo>
                <a:cubicBezTo>
                  <a:pt x="3650" y="24"/>
                  <a:pt x="2983" y="29"/>
                  <a:pt x="2310" y="24"/>
                </a:cubicBezTo>
                <a:cubicBezTo>
                  <a:pt x="1637" y="19"/>
                  <a:pt x="520" y="18"/>
                  <a:pt x="144" y="42"/>
                </a:cubicBezTo>
                <a:cubicBezTo>
                  <a:pt x="24" y="60"/>
                  <a:pt x="20" y="67"/>
                  <a:pt x="16" y="202"/>
                </a:cubicBezTo>
                <a:cubicBezTo>
                  <a:pt x="12" y="337"/>
                  <a:pt x="15" y="418"/>
                  <a:pt x="16" y="835"/>
                </a:cubicBezTo>
                <a:cubicBezTo>
                  <a:pt x="13" y="1258"/>
                  <a:pt x="12" y="2156"/>
                  <a:pt x="12" y="2700"/>
                </a:cubicBezTo>
                <a:cubicBezTo>
                  <a:pt x="12" y="3244"/>
                  <a:pt x="0" y="3600"/>
                  <a:pt x="6" y="4104"/>
                </a:cubicBezTo>
                <a:cubicBezTo>
                  <a:pt x="2790" y="4104"/>
                  <a:pt x="5574" y="4104"/>
                  <a:pt x="5574" y="4104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6e6e6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28680" y="0"/>
            <a:ext cx="8821800" cy="3142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da7f7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393840"/>
            <a:ext cx="242640" cy="6468840"/>
          </a:xfrm>
          <a:custGeom>
            <a:avLst/>
            <a:gdLst/>
            <a:ahLst/>
            <a:rect l="l" t="t" r="r" b="b"/>
            <a:pathLst>
              <a:path w="153" h="4067">
                <a:moveTo>
                  <a:pt x="0" y="4061"/>
                </a:moveTo>
                <a:lnTo>
                  <a:pt x="145" y="4064"/>
                </a:lnTo>
                <a:cubicBezTo>
                  <a:pt x="141" y="4067"/>
                  <a:pt x="145" y="3766"/>
                  <a:pt x="149" y="3364"/>
                </a:cubicBezTo>
                <a:cubicBezTo>
                  <a:pt x="153" y="2962"/>
                  <a:pt x="143" y="2090"/>
                  <a:pt x="137" y="1651"/>
                </a:cubicBezTo>
                <a:cubicBezTo>
                  <a:pt x="131" y="1212"/>
                  <a:pt x="138" y="971"/>
                  <a:pt x="139" y="710"/>
                </a:cubicBezTo>
                <a:cubicBezTo>
                  <a:pt x="141" y="448"/>
                  <a:pt x="136" y="184"/>
                  <a:pt x="136" y="65"/>
                </a:cubicBezTo>
                <a:cubicBezTo>
                  <a:pt x="136" y="30"/>
                  <a:pt x="102" y="18"/>
                  <a:pt x="102" y="18"/>
                </a:cubicBezTo>
                <a:cubicBezTo>
                  <a:pt x="41" y="0"/>
                  <a:pt x="1" y="7"/>
                  <a:pt x="1" y="7"/>
                </a:cubicBezTo>
                <a:lnTo>
                  <a:pt x="0" y="4061"/>
                </a:lnTo>
                <a:close/>
              </a:path>
            </a:pathLst>
          </a:custGeom>
          <a:solidFill>
            <a:srgbClr val="85a3d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0"/>
            <a:ext cx="247680" cy="326880"/>
          </a:xfrm>
          <a:custGeom>
            <a:avLst/>
            <a:gdLst/>
            <a:ahLst/>
            <a:rect l="l" t="t" r="r" b="b"/>
            <a:pathLst>
              <a:path w="156" h="206">
                <a:moveTo>
                  <a:pt x="2" y="0"/>
                </a:moveTo>
                <a:lnTo>
                  <a:pt x="150" y="0"/>
                </a:lnTo>
                <a:cubicBezTo>
                  <a:pt x="156" y="71"/>
                  <a:pt x="144" y="149"/>
                  <a:pt x="144" y="149"/>
                </a:cubicBezTo>
                <a:cubicBezTo>
                  <a:pt x="133" y="181"/>
                  <a:pt x="111" y="189"/>
                  <a:pt x="87" y="197"/>
                </a:cubicBezTo>
                <a:cubicBezTo>
                  <a:pt x="44" y="206"/>
                  <a:pt x="0" y="197"/>
                  <a:pt x="0" y="197"/>
                </a:cubicBezTo>
                <a:lnTo>
                  <a:pt x="2" y="0"/>
                </a:lnTo>
                <a:close/>
              </a:path>
            </a:pathLst>
          </a:custGeom>
          <a:solidFill>
            <a:srgbClr val="ac8cd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343640" y="133200"/>
            <a:ext cx="1692000" cy="1160280"/>
            <a:chOff x="7343640" y="133200"/>
            <a:chExt cx="1692000" cy="1160280"/>
          </a:xfrm>
        </p:grpSpPr>
        <p:sp>
          <p:nvSpPr>
            <p:cNvPr id="5" name=""/>
            <p:cNvSpPr/>
            <p:nvPr/>
          </p:nvSpPr>
          <p:spPr>
            <a:xfrm>
              <a:off x="7343640" y="133200"/>
              <a:ext cx="817560" cy="539280"/>
            </a:xfrm>
            <a:custGeom>
              <a:avLst/>
              <a:gdLst/>
              <a:ahLst/>
              <a:rect l="l" t="t" r="r" b="b"/>
              <a:pathLst>
                <a:path w="1718" h="1134">
                  <a:moveTo>
                    <a:pt x="32" y="70"/>
                  </a:moveTo>
                  <a:cubicBezTo>
                    <a:pt x="52" y="36"/>
                    <a:pt x="74" y="25"/>
                    <a:pt x="138" y="20"/>
                  </a:cubicBezTo>
                  <a:cubicBezTo>
                    <a:pt x="202" y="15"/>
                    <a:pt x="310" y="34"/>
                    <a:pt x="412" y="32"/>
                  </a:cubicBezTo>
                  <a:cubicBezTo>
                    <a:pt x="514" y="30"/>
                    <a:pt x="574" y="12"/>
                    <a:pt x="682" y="11"/>
                  </a:cubicBezTo>
                  <a:cubicBezTo>
                    <a:pt x="790" y="10"/>
                    <a:pt x="923" y="13"/>
                    <a:pt x="1010" y="17"/>
                  </a:cubicBezTo>
                  <a:cubicBezTo>
                    <a:pt x="1097" y="21"/>
                    <a:pt x="1206" y="33"/>
                    <a:pt x="1276" y="30"/>
                  </a:cubicBezTo>
                  <a:cubicBezTo>
                    <a:pt x="1346" y="27"/>
                    <a:pt x="1405" y="13"/>
                    <a:pt x="1462" y="11"/>
                  </a:cubicBezTo>
                  <a:cubicBezTo>
                    <a:pt x="1519" y="9"/>
                    <a:pt x="1579" y="0"/>
                    <a:pt x="1618" y="18"/>
                  </a:cubicBezTo>
                  <a:cubicBezTo>
                    <a:pt x="1657" y="36"/>
                    <a:pt x="1690" y="67"/>
                    <a:pt x="1704" y="120"/>
                  </a:cubicBezTo>
                  <a:cubicBezTo>
                    <a:pt x="1718" y="173"/>
                    <a:pt x="1700" y="232"/>
                    <a:pt x="1700" y="338"/>
                  </a:cubicBezTo>
                  <a:cubicBezTo>
                    <a:pt x="1700" y="444"/>
                    <a:pt x="1710" y="577"/>
                    <a:pt x="1708" y="665"/>
                  </a:cubicBezTo>
                  <a:cubicBezTo>
                    <a:pt x="1706" y="753"/>
                    <a:pt x="1696" y="789"/>
                    <a:pt x="1698" y="857"/>
                  </a:cubicBezTo>
                  <a:cubicBezTo>
                    <a:pt x="1700" y="925"/>
                    <a:pt x="1717" y="1007"/>
                    <a:pt x="1710" y="1043"/>
                  </a:cubicBezTo>
                  <a:cubicBezTo>
                    <a:pt x="1703" y="1079"/>
                    <a:pt x="1693" y="1106"/>
                    <a:pt x="1656" y="1120"/>
                  </a:cubicBezTo>
                  <a:cubicBezTo>
                    <a:pt x="1619" y="1134"/>
                    <a:pt x="1537" y="1124"/>
                    <a:pt x="1480" y="1122"/>
                  </a:cubicBezTo>
                  <a:cubicBezTo>
                    <a:pt x="1423" y="1120"/>
                    <a:pt x="1347" y="1110"/>
                    <a:pt x="1254" y="1111"/>
                  </a:cubicBezTo>
                  <a:cubicBezTo>
                    <a:pt x="1161" y="1112"/>
                    <a:pt x="1032" y="1126"/>
                    <a:pt x="920" y="1126"/>
                  </a:cubicBezTo>
                  <a:cubicBezTo>
                    <a:pt x="808" y="1126"/>
                    <a:pt x="679" y="1111"/>
                    <a:pt x="584" y="1109"/>
                  </a:cubicBezTo>
                  <a:cubicBezTo>
                    <a:pt x="489" y="1107"/>
                    <a:pt x="408" y="1120"/>
                    <a:pt x="322" y="1123"/>
                  </a:cubicBezTo>
                  <a:cubicBezTo>
                    <a:pt x="236" y="1126"/>
                    <a:pt x="144" y="1132"/>
                    <a:pt x="88" y="1116"/>
                  </a:cubicBezTo>
                  <a:cubicBezTo>
                    <a:pt x="32" y="1100"/>
                    <a:pt x="17" y="1070"/>
                    <a:pt x="14" y="1029"/>
                  </a:cubicBezTo>
                  <a:cubicBezTo>
                    <a:pt x="11" y="988"/>
                    <a:pt x="19" y="925"/>
                    <a:pt x="23" y="847"/>
                  </a:cubicBezTo>
                  <a:cubicBezTo>
                    <a:pt x="27" y="769"/>
                    <a:pt x="26" y="734"/>
                    <a:pt x="20" y="657"/>
                  </a:cubicBezTo>
                  <a:cubicBezTo>
                    <a:pt x="14" y="580"/>
                    <a:pt x="0" y="497"/>
                    <a:pt x="4" y="405"/>
                  </a:cubicBezTo>
                  <a:cubicBezTo>
                    <a:pt x="8" y="313"/>
                    <a:pt x="17" y="276"/>
                    <a:pt x="20" y="222"/>
                  </a:cubicBezTo>
                  <a:cubicBezTo>
                    <a:pt x="23" y="168"/>
                    <a:pt x="12" y="104"/>
                    <a:pt x="32" y="7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17720" y="133200"/>
              <a:ext cx="817920" cy="541080"/>
            </a:xfrm>
            <a:custGeom>
              <a:avLst/>
              <a:gdLst/>
              <a:ahLst/>
              <a:rect l="l" t="t" r="r" b="b"/>
              <a:pathLst>
                <a:path w="1712" h="1134">
                  <a:moveTo>
                    <a:pt x="20" y="62"/>
                  </a:moveTo>
                  <a:cubicBezTo>
                    <a:pt x="40" y="28"/>
                    <a:pt x="68" y="25"/>
                    <a:pt x="132" y="20"/>
                  </a:cubicBezTo>
                  <a:cubicBezTo>
                    <a:pt x="196" y="15"/>
                    <a:pt x="304" y="34"/>
                    <a:pt x="406" y="32"/>
                  </a:cubicBezTo>
                  <a:cubicBezTo>
                    <a:pt x="508" y="30"/>
                    <a:pt x="638" y="9"/>
                    <a:pt x="746" y="8"/>
                  </a:cubicBezTo>
                  <a:cubicBezTo>
                    <a:pt x="854" y="7"/>
                    <a:pt x="967" y="22"/>
                    <a:pt x="1054" y="26"/>
                  </a:cubicBezTo>
                  <a:cubicBezTo>
                    <a:pt x="1141" y="30"/>
                    <a:pt x="1200" y="33"/>
                    <a:pt x="1270" y="30"/>
                  </a:cubicBezTo>
                  <a:cubicBezTo>
                    <a:pt x="1340" y="27"/>
                    <a:pt x="1417" y="8"/>
                    <a:pt x="1474" y="6"/>
                  </a:cubicBezTo>
                  <a:cubicBezTo>
                    <a:pt x="1531" y="4"/>
                    <a:pt x="1573" y="0"/>
                    <a:pt x="1612" y="18"/>
                  </a:cubicBezTo>
                  <a:cubicBezTo>
                    <a:pt x="1651" y="36"/>
                    <a:pt x="1684" y="67"/>
                    <a:pt x="1698" y="120"/>
                  </a:cubicBezTo>
                  <a:cubicBezTo>
                    <a:pt x="1712" y="173"/>
                    <a:pt x="1694" y="232"/>
                    <a:pt x="1694" y="338"/>
                  </a:cubicBezTo>
                  <a:cubicBezTo>
                    <a:pt x="1694" y="444"/>
                    <a:pt x="1706" y="662"/>
                    <a:pt x="1704" y="750"/>
                  </a:cubicBezTo>
                  <a:cubicBezTo>
                    <a:pt x="1702" y="838"/>
                    <a:pt x="1695" y="854"/>
                    <a:pt x="1694" y="902"/>
                  </a:cubicBezTo>
                  <a:cubicBezTo>
                    <a:pt x="1693" y="950"/>
                    <a:pt x="1703" y="1002"/>
                    <a:pt x="1696" y="1038"/>
                  </a:cubicBezTo>
                  <a:cubicBezTo>
                    <a:pt x="1689" y="1074"/>
                    <a:pt x="1687" y="1106"/>
                    <a:pt x="1650" y="1120"/>
                  </a:cubicBezTo>
                  <a:cubicBezTo>
                    <a:pt x="1613" y="1134"/>
                    <a:pt x="1531" y="1124"/>
                    <a:pt x="1474" y="1122"/>
                  </a:cubicBezTo>
                  <a:cubicBezTo>
                    <a:pt x="1417" y="1120"/>
                    <a:pt x="1343" y="1101"/>
                    <a:pt x="1250" y="1102"/>
                  </a:cubicBezTo>
                  <a:cubicBezTo>
                    <a:pt x="1157" y="1103"/>
                    <a:pt x="1026" y="1126"/>
                    <a:pt x="914" y="1126"/>
                  </a:cubicBezTo>
                  <a:cubicBezTo>
                    <a:pt x="802" y="1126"/>
                    <a:pt x="675" y="1102"/>
                    <a:pt x="580" y="1100"/>
                  </a:cubicBezTo>
                  <a:cubicBezTo>
                    <a:pt x="485" y="1098"/>
                    <a:pt x="430" y="1113"/>
                    <a:pt x="344" y="1116"/>
                  </a:cubicBezTo>
                  <a:cubicBezTo>
                    <a:pt x="258" y="1119"/>
                    <a:pt x="120" y="1132"/>
                    <a:pt x="64" y="1116"/>
                  </a:cubicBezTo>
                  <a:cubicBezTo>
                    <a:pt x="8" y="1100"/>
                    <a:pt x="16" y="1063"/>
                    <a:pt x="8" y="1020"/>
                  </a:cubicBezTo>
                  <a:cubicBezTo>
                    <a:pt x="0" y="977"/>
                    <a:pt x="15" y="938"/>
                    <a:pt x="16" y="860"/>
                  </a:cubicBezTo>
                  <a:cubicBezTo>
                    <a:pt x="17" y="782"/>
                    <a:pt x="18" y="629"/>
                    <a:pt x="16" y="550"/>
                  </a:cubicBezTo>
                  <a:cubicBezTo>
                    <a:pt x="14" y="471"/>
                    <a:pt x="2" y="439"/>
                    <a:pt x="2" y="384"/>
                  </a:cubicBezTo>
                  <a:cubicBezTo>
                    <a:pt x="2" y="329"/>
                    <a:pt x="11" y="276"/>
                    <a:pt x="14" y="222"/>
                  </a:cubicBezTo>
                  <a:cubicBezTo>
                    <a:pt x="17" y="168"/>
                    <a:pt x="0" y="96"/>
                    <a:pt x="20" y="62"/>
                  </a:cubicBezTo>
                  <a:close/>
                </a:path>
              </a:pathLst>
            </a:cu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43640" y="752040"/>
              <a:ext cx="817560" cy="539280"/>
            </a:xfrm>
            <a:custGeom>
              <a:avLst/>
              <a:gdLst/>
              <a:ahLst/>
              <a:rect l="l" t="t" r="r" b="b"/>
              <a:pathLst>
                <a:path w="1718" h="1134">
                  <a:moveTo>
                    <a:pt x="32" y="70"/>
                  </a:moveTo>
                  <a:cubicBezTo>
                    <a:pt x="52" y="36"/>
                    <a:pt x="74" y="25"/>
                    <a:pt x="138" y="20"/>
                  </a:cubicBezTo>
                  <a:cubicBezTo>
                    <a:pt x="202" y="15"/>
                    <a:pt x="310" y="34"/>
                    <a:pt x="412" y="32"/>
                  </a:cubicBezTo>
                  <a:cubicBezTo>
                    <a:pt x="514" y="30"/>
                    <a:pt x="574" y="12"/>
                    <a:pt x="682" y="11"/>
                  </a:cubicBezTo>
                  <a:cubicBezTo>
                    <a:pt x="790" y="10"/>
                    <a:pt x="923" y="13"/>
                    <a:pt x="1010" y="17"/>
                  </a:cubicBezTo>
                  <a:cubicBezTo>
                    <a:pt x="1097" y="21"/>
                    <a:pt x="1206" y="33"/>
                    <a:pt x="1276" y="30"/>
                  </a:cubicBezTo>
                  <a:cubicBezTo>
                    <a:pt x="1346" y="27"/>
                    <a:pt x="1405" y="13"/>
                    <a:pt x="1462" y="11"/>
                  </a:cubicBezTo>
                  <a:cubicBezTo>
                    <a:pt x="1519" y="9"/>
                    <a:pt x="1579" y="0"/>
                    <a:pt x="1618" y="18"/>
                  </a:cubicBezTo>
                  <a:cubicBezTo>
                    <a:pt x="1657" y="36"/>
                    <a:pt x="1690" y="67"/>
                    <a:pt x="1704" y="120"/>
                  </a:cubicBezTo>
                  <a:cubicBezTo>
                    <a:pt x="1718" y="173"/>
                    <a:pt x="1700" y="232"/>
                    <a:pt x="1700" y="338"/>
                  </a:cubicBezTo>
                  <a:cubicBezTo>
                    <a:pt x="1700" y="444"/>
                    <a:pt x="1710" y="577"/>
                    <a:pt x="1708" y="665"/>
                  </a:cubicBezTo>
                  <a:cubicBezTo>
                    <a:pt x="1706" y="753"/>
                    <a:pt x="1696" y="789"/>
                    <a:pt x="1698" y="857"/>
                  </a:cubicBezTo>
                  <a:cubicBezTo>
                    <a:pt x="1700" y="925"/>
                    <a:pt x="1717" y="1007"/>
                    <a:pt x="1710" y="1043"/>
                  </a:cubicBezTo>
                  <a:cubicBezTo>
                    <a:pt x="1703" y="1079"/>
                    <a:pt x="1693" y="1106"/>
                    <a:pt x="1656" y="1120"/>
                  </a:cubicBezTo>
                  <a:cubicBezTo>
                    <a:pt x="1619" y="1134"/>
                    <a:pt x="1537" y="1124"/>
                    <a:pt x="1480" y="1122"/>
                  </a:cubicBezTo>
                  <a:cubicBezTo>
                    <a:pt x="1423" y="1120"/>
                    <a:pt x="1347" y="1110"/>
                    <a:pt x="1254" y="1111"/>
                  </a:cubicBezTo>
                  <a:cubicBezTo>
                    <a:pt x="1161" y="1112"/>
                    <a:pt x="1032" y="1126"/>
                    <a:pt x="920" y="1126"/>
                  </a:cubicBezTo>
                  <a:cubicBezTo>
                    <a:pt x="808" y="1126"/>
                    <a:pt x="679" y="1111"/>
                    <a:pt x="584" y="1109"/>
                  </a:cubicBezTo>
                  <a:cubicBezTo>
                    <a:pt x="489" y="1107"/>
                    <a:pt x="408" y="1120"/>
                    <a:pt x="322" y="1123"/>
                  </a:cubicBezTo>
                  <a:cubicBezTo>
                    <a:pt x="236" y="1126"/>
                    <a:pt x="144" y="1132"/>
                    <a:pt x="88" y="1116"/>
                  </a:cubicBezTo>
                  <a:cubicBezTo>
                    <a:pt x="32" y="1100"/>
                    <a:pt x="17" y="1070"/>
                    <a:pt x="14" y="1029"/>
                  </a:cubicBezTo>
                  <a:cubicBezTo>
                    <a:pt x="11" y="988"/>
                    <a:pt x="19" y="925"/>
                    <a:pt x="23" y="847"/>
                  </a:cubicBezTo>
                  <a:cubicBezTo>
                    <a:pt x="27" y="769"/>
                    <a:pt x="26" y="734"/>
                    <a:pt x="20" y="657"/>
                  </a:cubicBezTo>
                  <a:cubicBezTo>
                    <a:pt x="14" y="580"/>
                    <a:pt x="0" y="497"/>
                    <a:pt x="4" y="405"/>
                  </a:cubicBezTo>
                  <a:cubicBezTo>
                    <a:pt x="8" y="313"/>
                    <a:pt x="17" y="276"/>
                    <a:pt x="20" y="222"/>
                  </a:cubicBezTo>
                  <a:cubicBezTo>
                    <a:pt x="23" y="168"/>
                    <a:pt x="12" y="104"/>
                    <a:pt x="32" y="70"/>
                  </a:cubicBezTo>
                  <a:close/>
                </a:path>
              </a:pathLst>
            </a:cu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17720" y="752040"/>
              <a:ext cx="817920" cy="541440"/>
            </a:xfrm>
            <a:custGeom>
              <a:avLst/>
              <a:gdLst/>
              <a:ahLst/>
              <a:rect l="l" t="t" r="r" b="b"/>
              <a:pathLst>
                <a:path w="1712" h="1134">
                  <a:moveTo>
                    <a:pt x="20" y="62"/>
                  </a:moveTo>
                  <a:cubicBezTo>
                    <a:pt x="40" y="28"/>
                    <a:pt x="68" y="25"/>
                    <a:pt x="132" y="20"/>
                  </a:cubicBezTo>
                  <a:cubicBezTo>
                    <a:pt x="196" y="15"/>
                    <a:pt x="304" y="34"/>
                    <a:pt x="406" y="32"/>
                  </a:cubicBezTo>
                  <a:cubicBezTo>
                    <a:pt x="508" y="30"/>
                    <a:pt x="638" y="9"/>
                    <a:pt x="746" y="8"/>
                  </a:cubicBezTo>
                  <a:cubicBezTo>
                    <a:pt x="854" y="7"/>
                    <a:pt x="967" y="22"/>
                    <a:pt x="1054" y="26"/>
                  </a:cubicBezTo>
                  <a:cubicBezTo>
                    <a:pt x="1141" y="30"/>
                    <a:pt x="1200" y="33"/>
                    <a:pt x="1270" y="30"/>
                  </a:cubicBezTo>
                  <a:cubicBezTo>
                    <a:pt x="1340" y="27"/>
                    <a:pt x="1417" y="8"/>
                    <a:pt x="1474" y="6"/>
                  </a:cubicBezTo>
                  <a:cubicBezTo>
                    <a:pt x="1531" y="4"/>
                    <a:pt x="1573" y="0"/>
                    <a:pt x="1612" y="18"/>
                  </a:cubicBezTo>
                  <a:cubicBezTo>
                    <a:pt x="1651" y="36"/>
                    <a:pt x="1684" y="67"/>
                    <a:pt x="1698" y="120"/>
                  </a:cubicBezTo>
                  <a:cubicBezTo>
                    <a:pt x="1712" y="173"/>
                    <a:pt x="1694" y="232"/>
                    <a:pt x="1694" y="338"/>
                  </a:cubicBezTo>
                  <a:cubicBezTo>
                    <a:pt x="1694" y="444"/>
                    <a:pt x="1706" y="662"/>
                    <a:pt x="1704" y="750"/>
                  </a:cubicBezTo>
                  <a:cubicBezTo>
                    <a:pt x="1702" y="838"/>
                    <a:pt x="1695" y="854"/>
                    <a:pt x="1694" y="902"/>
                  </a:cubicBezTo>
                  <a:cubicBezTo>
                    <a:pt x="1693" y="950"/>
                    <a:pt x="1703" y="1002"/>
                    <a:pt x="1696" y="1038"/>
                  </a:cubicBezTo>
                  <a:cubicBezTo>
                    <a:pt x="1689" y="1074"/>
                    <a:pt x="1687" y="1106"/>
                    <a:pt x="1650" y="1120"/>
                  </a:cubicBezTo>
                  <a:cubicBezTo>
                    <a:pt x="1613" y="1134"/>
                    <a:pt x="1531" y="1124"/>
                    <a:pt x="1474" y="1122"/>
                  </a:cubicBezTo>
                  <a:cubicBezTo>
                    <a:pt x="1417" y="1120"/>
                    <a:pt x="1343" y="1101"/>
                    <a:pt x="1250" y="1102"/>
                  </a:cubicBezTo>
                  <a:cubicBezTo>
                    <a:pt x="1157" y="1103"/>
                    <a:pt x="1026" y="1126"/>
                    <a:pt x="914" y="1126"/>
                  </a:cubicBezTo>
                  <a:cubicBezTo>
                    <a:pt x="802" y="1126"/>
                    <a:pt x="675" y="1102"/>
                    <a:pt x="580" y="1100"/>
                  </a:cubicBezTo>
                  <a:cubicBezTo>
                    <a:pt x="485" y="1098"/>
                    <a:pt x="430" y="1113"/>
                    <a:pt x="344" y="1116"/>
                  </a:cubicBezTo>
                  <a:cubicBezTo>
                    <a:pt x="258" y="1119"/>
                    <a:pt x="120" y="1132"/>
                    <a:pt x="64" y="1116"/>
                  </a:cubicBezTo>
                  <a:cubicBezTo>
                    <a:pt x="8" y="1100"/>
                    <a:pt x="16" y="1063"/>
                    <a:pt x="8" y="1020"/>
                  </a:cubicBezTo>
                  <a:cubicBezTo>
                    <a:pt x="0" y="977"/>
                    <a:pt x="15" y="938"/>
                    <a:pt x="16" y="860"/>
                  </a:cubicBezTo>
                  <a:cubicBezTo>
                    <a:pt x="17" y="782"/>
                    <a:pt x="18" y="629"/>
                    <a:pt x="16" y="550"/>
                  </a:cubicBezTo>
                  <a:cubicBezTo>
                    <a:pt x="14" y="471"/>
                    <a:pt x="2" y="439"/>
                    <a:pt x="2" y="384"/>
                  </a:cubicBezTo>
                  <a:cubicBezTo>
                    <a:pt x="2" y="329"/>
                    <a:pt x="11" y="276"/>
                    <a:pt x="14" y="222"/>
                  </a:cubicBezTo>
                  <a:cubicBezTo>
                    <a:pt x="17" y="168"/>
                    <a:pt x="0" y="96"/>
                    <a:pt x="20" y="62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 rot="21003000">
            <a:off x="8754840" y="36000"/>
            <a:ext cx="182520" cy="603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BAC2-8336-4FEE-AA10-C2F335197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0760" y="4437000"/>
            <a:ext cx="2733480" cy="18115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36760" y="2394000"/>
            <a:ext cx="2725920" cy="181116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da7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1680" y="378000"/>
            <a:ext cx="2732040" cy="18097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d8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4280" y="372960"/>
            <a:ext cx="2732040" cy="18097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85a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35320" y="378000"/>
            <a:ext cx="2727360" cy="180000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2398680"/>
            <a:ext cx="2727360" cy="180036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4280" y="2398680"/>
            <a:ext cx="2727360" cy="180036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 rot="1593600">
            <a:off x="746280" y="4217760"/>
            <a:ext cx="604800" cy="199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DB44-D189-4AAA-A535-C1E28DEF4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2880" y="169560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6191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c1767"/>
                </a:solidFill>
                <a:latin typeface="Arial"/>
              </a:rPr>
              <a:t>ThemeGallery</a:t>
            </a:r>
            <a:br>
              <a:rPr sz="26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47680" y="5829120"/>
            <a:ext cx="4015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64008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78000" y="19051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89360" y="21528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82920" y="26319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59200" y="365760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58800" y="185112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2080" y="445932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18400" y="437976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925800" y="1627200"/>
            <a:ext cx="1631880" cy="1612800"/>
            <a:chOff x="3925800" y="1627200"/>
            <a:chExt cx="1631880" cy="1612800"/>
          </a:xfrm>
        </p:grpSpPr>
        <p:grpSp>
          <p:nvGrpSpPr>
            <p:cNvPr id="492" name=""/>
            <p:cNvGrpSpPr/>
            <p:nvPr/>
          </p:nvGrpSpPr>
          <p:grpSpPr>
            <a:xfrm>
              <a:off x="3925800" y="1627200"/>
              <a:ext cx="1631880" cy="1612800"/>
              <a:chOff x="3925800" y="1627200"/>
              <a:chExt cx="1631880" cy="1612800"/>
            </a:xfrm>
          </p:grpSpPr>
          <p:sp>
            <p:nvSpPr>
              <p:cNvPr id="493" name=""/>
              <p:cNvSpPr/>
              <p:nvPr/>
            </p:nvSpPr>
            <p:spPr>
              <a:xfrm>
                <a:off x="3925800" y="1627200"/>
                <a:ext cx="163188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962160" y="1663560"/>
                <a:ext cx="1560960" cy="1542240"/>
              </a:xfrm>
              <a:prstGeom prst="ellipse">
                <a:avLst/>
              </a:prstGeom>
              <a:solidFill>
                <a:srgbClr val="d87aa5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997800" y="1697760"/>
              <a:ext cx="1508040" cy="1491840"/>
              <a:chOff x="3997800" y="1697760"/>
              <a:chExt cx="1508040" cy="1491840"/>
            </a:xfrm>
          </p:grpSpPr>
          <p:sp>
            <p:nvSpPr>
              <p:cNvPr id="496" name=""/>
              <p:cNvSpPr/>
              <p:nvPr/>
            </p:nvSpPr>
            <p:spPr>
              <a:xfrm>
                <a:off x="3997800" y="1697760"/>
                <a:ext cx="1508040" cy="1491840"/>
              </a:xfrm>
              <a:prstGeom prst="ellipse">
                <a:avLst/>
              </a:prstGeom>
              <a:solidFill>
                <a:srgbClr val="d87aa5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1640" y="173160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2516040" y="4030560"/>
            <a:ext cx="1632240" cy="1613160"/>
            <a:chOff x="2516040" y="4030560"/>
            <a:chExt cx="1632240" cy="1613160"/>
          </a:xfrm>
        </p:grpSpPr>
        <p:grpSp>
          <p:nvGrpSpPr>
            <p:cNvPr id="499" name=""/>
            <p:cNvGrpSpPr/>
            <p:nvPr/>
          </p:nvGrpSpPr>
          <p:grpSpPr>
            <a:xfrm>
              <a:off x="2516040" y="4030560"/>
              <a:ext cx="1632240" cy="1613160"/>
              <a:chOff x="2516040" y="4030560"/>
              <a:chExt cx="1632240" cy="1613160"/>
            </a:xfrm>
          </p:grpSpPr>
          <p:sp>
            <p:nvSpPr>
              <p:cNvPr id="500" name=""/>
              <p:cNvSpPr/>
              <p:nvPr/>
            </p:nvSpPr>
            <p:spPr>
              <a:xfrm>
                <a:off x="2516040" y="4030560"/>
                <a:ext cx="1632240" cy="161316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52400" y="4066920"/>
                <a:ext cx="1561320" cy="154260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588040" y="4101120"/>
              <a:ext cx="1508400" cy="1492200"/>
              <a:chOff x="2588040" y="4101120"/>
              <a:chExt cx="1508400" cy="1492200"/>
            </a:xfrm>
          </p:grpSpPr>
          <p:sp>
            <p:nvSpPr>
              <p:cNvPr id="503" name=""/>
              <p:cNvSpPr/>
              <p:nvPr/>
            </p:nvSpPr>
            <p:spPr>
              <a:xfrm>
                <a:off x="2588040" y="4101120"/>
                <a:ext cx="1508400" cy="149220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21880" y="4134960"/>
                <a:ext cx="1442880" cy="142704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"/>
          <p:cNvGrpSpPr/>
          <p:nvPr/>
        </p:nvGrpSpPr>
        <p:grpSpPr>
          <a:xfrm>
            <a:off x="5246640" y="4030560"/>
            <a:ext cx="1631880" cy="1613160"/>
            <a:chOff x="5246640" y="4030560"/>
            <a:chExt cx="1631880" cy="1613160"/>
          </a:xfrm>
        </p:grpSpPr>
        <p:grpSp>
          <p:nvGrpSpPr>
            <p:cNvPr id="506" name=""/>
            <p:cNvGrpSpPr/>
            <p:nvPr/>
          </p:nvGrpSpPr>
          <p:grpSpPr>
            <a:xfrm>
              <a:off x="5246640" y="4030560"/>
              <a:ext cx="1631880" cy="1613160"/>
              <a:chOff x="5246640" y="4030560"/>
              <a:chExt cx="1631880" cy="1613160"/>
            </a:xfrm>
          </p:grpSpPr>
          <p:sp>
            <p:nvSpPr>
              <p:cNvPr id="507" name=""/>
              <p:cNvSpPr/>
              <p:nvPr/>
            </p:nvSpPr>
            <p:spPr>
              <a:xfrm>
                <a:off x="5246640" y="4030560"/>
                <a:ext cx="1631880" cy="1613160"/>
              </a:xfrm>
              <a:prstGeom prst="ellipse">
                <a:avLst/>
              </a:prstGeom>
              <a:solidFill>
                <a:srgbClr val="da7f7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83000" y="4066920"/>
                <a:ext cx="1560960" cy="15426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318640" y="4101120"/>
              <a:ext cx="1508040" cy="1492200"/>
              <a:chOff x="5318640" y="4101120"/>
              <a:chExt cx="1508040" cy="1492200"/>
            </a:xfrm>
          </p:grpSpPr>
          <p:sp>
            <p:nvSpPr>
              <p:cNvPr id="510" name=""/>
              <p:cNvSpPr/>
              <p:nvPr/>
            </p:nvSpPr>
            <p:spPr>
              <a:xfrm>
                <a:off x="5318640" y="4101120"/>
                <a:ext cx="150804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52480" y="4134960"/>
                <a:ext cx="1442520" cy="14270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4000680" y="1677960"/>
            <a:ext cx="1466280" cy="1447560"/>
            <a:chOff x="4000680" y="1677960"/>
            <a:chExt cx="1466280" cy="1447560"/>
          </a:xfrm>
        </p:grpSpPr>
        <p:sp>
          <p:nvSpPr>
            <p:cNvPr id="513" name=""/>
            <p:cNvSpPr/>
            <p:nvPr/>
          </p:nvSpPr>
          <p:spPr>
            <a:xfrm>
              <a:off x="4039560" y="174024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d87aa5"/>
                </a:gs>
                <a:gs pos="100000">
                  <a:srgbClr val="442634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4000680" y="167796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"/>
          <p:cNvSpPr/>
          <p:nvPr/>
        </p:nvSpPr>
        <p:spPr>
          <a:xfrm>
            <a:off x="4029120" y="2111400"/>
            <a:ext cx="1450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587680" y="4092480"/>
            <a:ext cx="1466280" cy="1447560"/>
            <a:chOff x="2587680" y="4092480"/>
            <a:chExt cx="1466280" cy="1447560"/>
          </a:xfrm>
        </p:grpSpPr>
        <p:sp>
          <p:nvSpPr>
            <p:cNvPr id="517" name=""/>
            <p:cNvSpPr/>
            <p:nvPr/>
          </p:nvSpPr>
          <p:spPr>
            <a:xfrm>
              <a:off x="2626560" y="41547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ac8cd0"/>
                </a:gs>
                <a:gs pos="100000">
                  <a:srgbClr val="362c41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2587680" y="40924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2603520" y="4510080"/>
            <a:ext cx="1450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348160" y="4092480"/>
            <a:ext cx="1466640" cy="1447560"/>
            <a:chOff x="5348160" y="4092480"/>
            <a:chExt cx="1466640" cy="1447560"/>
          </a:xfrm>
        </p:grpSpPr>
        <p:sp>
          <p:nvSpPr>
            <p:cNvPr id="521" name=""/>
            <p:cNvSpPr/>
            <p:nvPr/>
          </p:nvSpPr>
          <p:spPr>
            <a:xfrm>
              <a:off x="5387040" y="41547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040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5348160" y="409248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3" name=""/>
          <p:cNvGrpSpPr/>
          <p:nvPr/>
        </p:nvGrpSpPr>
        <p:grpSpPr>
          <a:xfrm>
            <a:off x="5330880" y="4092480"/>
            <a:ext cx="1466280" cy="1447560"/>
            <a:chOff x="5330880" y="4092480"/>
            <a:chExt cx="1466280" cy="1447560"/>
          </a:xfrm>
        </p:grpSpPr>
        <p:sp>
          <p:nvSpPr>
            <p:cNvPr id="524" name=""/>
            <p:cNvSpPr/>
            <p:nvPr/>
          </p:nvSpPr>
          <p:spPr>
            <a:xfrm>
              <a:off x="5369760" y="41547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da7f70"/>
                </a:gs>
                <a:gs pos="100000">
                  <a:srgbClr val="442823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5330880" y="40924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"/>
          <p:cNvSpPr/>
          <p:nvPr/>
        </p:nvSpPr>
        <p:spPr>
          <a:xfrm>
            <a:off x="5332320" y="4521240"/>
            <a:ext cx="1451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400000">
            <a:off x="-6480" y="331128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28600" y="431640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2320200" y="331128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56000" y="431640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4682520" y="331128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16520" y="431640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202440" y="2400480"/>
            <a:ext cx="1108080" cy="11077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1477800" y="240048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3803760" y="237492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608120" y="267984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86680" y="267984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33720" y="267984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4216320" y="3787920"/>
            <a:ext cx="412920" cy="3632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1847880" y="3787920"/>
            <a:ext cx="412560" cy="3632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6564240" y="3787920"/>
            <a:ext cx="412920" cy="3632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066680" y="1295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219320" y="5029200"/>
            <a:ext cx="2295000" cy="1365120"/>
            <a:chOff x="1219320" y="5029200"/>
            <a:chExt cx="2295000" cy="1365120"/>
          </a:xfrm>
        </p:grpSpPr>
        <p:sp>
          <p:nvSpPr>
            <p:cNvPr id="546" name=""/>
            <p:cNvSpPr/>
            <p:nvPr/>
          </p:nvSpPr>
          <p:spPr>
            <a:xfrm>
              <a:off x="1219320" y="606348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3280" y="5029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3384c"/>
                </a:gs>
                <a:gs pos="50000">
                  <a:srgbClr val="d87aa5">
                    <a:alpha val="50196"/>
                  </a:srgbClr>
                </a:gs>
                <a:gs pos="100000">
                  <a:srgbClr val="6338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219320" y="3733920"/>
            <a:ext cx="2295000" cy="1365120"/>
            <a:chOff x="1219320" y="3733920"/>
            <a:chExt cx="2295000" cy="1365120"/>
          </a:xfrm>
        </p:grpSpPr>
        <p:sp>
          <p:nvSpPr>
            <p:cNvPr id="549" name=""/>
            <p:cNvSpPr/>
            <p:nvPr/>
          </p:nvSpPr>
          <p:spPr>
            <a:xfrm>
              <a:off x="1219320" y="476820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23280" y="373392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4b62"/>
                </a:gs>
                <a:gs pos="50000">
                  <a:srgbClr val="85a3d5">
                    <a:alpha val="50196"/>
                  </a:srgbClr>
                </a:gs>
                <a:gs pos="100000">
                  <a:srgbClr val="3d4b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219320" y="2444760"/>
            <a:ext cx="2295000" cy="1365120"/>
            <a:chOff x="1219320" y="2444760"/>
            <a:chExt cx="2295000" cy="1365120"/>
          </a:xfrm>
        </p:grpSpPr>
        <p:sp>
          <p:nvSpPr>
            <p:cNvPr id="552" name=""/>
            <p:cNvSpPr/>
            <p:nvPr/>
          </p:nvSpPr>
          <p:spPr>
            <a:xfrm>
              <a:off x="1219320" y="347904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3280" y="24447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f405f"/>
                </a:gs>
                <a:gs pos="50000">
                  <a:srgbClr val="ac8cd0">
                    <a:alpha val="50196"/>
                  </a:srgbClr>
                </a:gs>
                <a:gs pos="100000">
                  <a:srgbClr val="4f40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506760" y="2673360"/>
            <a:ext cx="472284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ac8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01760" y="303840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86360" y="281952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01760" y="433224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01760" y="566244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03520" y="395604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85a3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94280" y="408312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03520" y="525456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d87a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84560" y="540072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06760" y="2978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514680" y="41846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05320" y="553068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1590840"/>
            <a:ext cx="807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811160" y="1317600"/>
            <a:ext cx="5569200" cy="531180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259236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da7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405612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d87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60920" y="259236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ac8c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60920" y="405612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5a3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73480" y="2954160"/>
            <a:ext cx="11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29320" y="2954160"/>
            <a:ext cx="11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73480" y="4373640"/>
            <a:ext cx="11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29320" y="4373640"/>
            <a:ext cx="11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32280" y="18907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5960" y="56498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3520" y="3720960"/>
            <a:ext cx="9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049480" y="372096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77800" y="212076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30680" y="2120760"/>
            <a:ext cx="307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1480" y="5168880"/>
            <a:ext cx="307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607000" y="516888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30400" y="4819680"/>
            <a:ext cx="7095960" cy="1504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4f4f4"/>
              </a:gs>
            </a:gsLst>
            <a:lin ang="13500000"/>
          </a:gradFill>
          <a:ln w="9360">
            <a:solidFill>
              <a:srgbClr val="969696"/>
            </a:solidFill>
            <a:miter/>
          </a:ln>
          <a:effectLst>
            <a:outerShdw dist="99192" dir="2381944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252520" y="5043600"/>
            <a:ext cx="5573880" cy="1017360"/>
          </a:xfrm>
          <a:prstGeom prst="rect">
            <a:avLst/>
          </a:prstGeom>
          <a:gradFill rotWithShape="0">
            <a:gsLst>
              <a:gs pos="0">
                <a:srgbClr val="9c5877"/>
              </a:gs>
              <a:gs pos="50000">
                <a:srgbClr val="d87aa5"/>
              </a:gs>
              <a:gs pos="100000">
                <a:srgbClr val="9c58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5080" y="5226120"/>
            <a:ext cx="5481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19320" y="531324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348000" y="2413080"/>
            <a:ext cx="1609920" cy="1606320"/>
            <a:chOff x="3348000" y="2413080"/>
            <a:chExt cx="1609920" cy="1606320"/>
          </a:xfrm>
        </p:grpSpPr>
        <p:sp>
          <p:nvSpPr>
            <p:cNvPr id="591" name=""/>
            <p:cNvSpPr/>
            <p:nvPr/>
          </p:nvSpPr>
          <p:spPr>
            <a:xfrm>
              <a:off x="3348000" y="2413080"/>
              <a:ext cx="1609920" cy="1606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886e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48000" y="2413080"/>
              <a:ext cx="1609920" cy="1606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86e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34400" y="2499480"/>
              <a:ext cx="1400040" cy="1396440"/>
            </a:xfrm>
            <a:prstGeom prst="ellipse">
              <a:avLst/>
            </a:prstGeom>
            <a:gradFill rotWithShape="0">
              <a:gsLst>
                <a:gs pos="0">
                  <a:srgbClr val="5a4878"/>
                </a:gs>
                <a:gs pos="50000">
                  <a:srgbClr val="a886e0"/>
                </a:gs>
                <a:gs pos="100000">
                  <a:srgbClr val="5a4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34400" y="2501280"/>
              <a:ext cx="1400040" cy="1396440"/>
            </a:xfrm>
            <a:prstGeom prst="ellipse">
              <a:avLst/>
            </a:prstGeom>
            <a:gradFill rotWithShape="0">
              <a:gsLst>
                <a:gs pos="0">
                  <a:srgbClr val="a886e0">
                    <a:alpha val="0"/>
                  </a:srgbClr>
                </a:gs>
                <a:gs pos="100000">
                  <a:srgbClr val="6a54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08920" y="2583000"/>
              <a:ext cx="1261800" cy="1258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534840" y="2592000"/>
              <a:ext cx="1220400" cy="1218960"/>
              <a:chOff x="3534840" y="2592000"/>
              <a:chExt cx="1220400" cy="1218960"/>
            </a:xfrm>
          </p:grpSpPr>
          <p:sp>
            <p:nvSpPr>
              <p:cNvPr id="597" name=""/>
              <p:cNvSpPr/>
              <p:nvPr/>
            </p:nvSpPr>
            <p:spPr>
              <a:xfrm>
                <a:off x="3534840" y="2592000"/>
                <a:ext cx="1220400" cy="1218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550320" y="2598840"/>
                <a:ext cx="1190880" cy="118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562920" y="2610360"/>
                <a:ext cx="1132560" cy="1110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629160" y="2641680"/>
                <a:ext cx="1006920" cy="901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5038560" y="1495440"/>
            <a:ext cx="1603440" cy="1603440"/>
            <a:chOff x="5038560" y="1495440"/>
            <a:chExt cx="1603440" cy="1603440"/>
          </a:xfrm>
        </p:grpSpPr>
        <p:sp>
          <p:nvSpPr>
            <p:cNvPr id="602" name=""/>
            <p:cNvSpPr/>
            <p:nvPr/>
          </p:nvSpPr>
          <p:spPr>
            <a:xfrm>
              <a:off x="5038560" y="1495440"/>
              <a:ext cx="1603440" cy="1603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38560" y="1495440"/>
              <a:ext cx="1603440" cy="1603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46200" y="1581840"/>
              <a:ext cx="1390680" cy="139248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48000" y="1584720"/>
              <a:ext cx="1390320" cy="13921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13160" y="165924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5237640" y="1674360"/>
              <a:ext cx="1214280" cy="1215720"/>
              <a:chOff x="5237640" y="1674360"/>
              <a:chExt cx="1214280" cy="1215720"/>
            </a:xfrm>
          </p:grpSpPr>
          <p:sp>
            <p:nvSpPr>
              <p:cNvPr id="608" name=""/>
              <p:cNvSpPr/>
              <p:nvPr/>
            </p:nvSpPr>
            <p:spPr>
              <a:xfrm>
                <a:off x="5237640" y="1674360"/>
                <a:ext cx="1214280" cy="121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53120" y="1680840"/>
                <a:ext cx="1185120" cy="1185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65720" y="1692720"/>
                <a:ext cx="1126800" cy="1107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331600" y="1723680"/>
                <a:ext cx="1001880" cy="898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6753240" y="2317680"/>
            <a:ext cx="1598760" cy="1630440"/>
            <a:chOff x="6753240" y="2317680"/>
            <a:chExt cx="1598760" cy="1630440"/>
          </a:xfrm>
        </p:grpSpPr>
        <p:sp>
          <p:nvSpPr>
            <p:cNvPr id="613" name=""/>
            <p:cNvSpPr/>
            <p:nvPr/>
          </p:nvSpPr>
          <p:spPr>
            <a:xfrm>
              <a:off x="6753240" y="2317680"/>
              <a:ext cx="1598760" cy="163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3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53240" y="2317680"/>
              <a:ext cx="1598760" cy="1630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3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1880" y="2416320"/>
              <a:ext cx="1388880" cy="1417320"/>
            </a:xfrm>
            <a:prstGeom prst="ellipse">
              <a:avLst/>
            </a:prstGeom>
            <a:gradFill rotWithShape="0">
              <a:gsLst>
                <a:gs pos="0">
                  <a:srgbClr val="89521b"/>
                </a:gs>
                <a:gs pos="50000">
                  <a:srgbClr val="ff9933"/>
                </a:gs>
                <a:gs pos="100000">
                  <a:srgbClr val="89521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000" y="2396520"/>
              <a:ext cx="1388880" cy="1417680"/>
            </a:xfrm>
            <a:prstGeom prst="ellipse">
              <a:avLst/>
            </a:prstGeom>
            <a:gradFill rotWithShape="0">
              <a:gsLst>
                <a:gs pos="0">
                  <a:srgbClr val="ff9933">
                    <a:alpha val="0"/>
                  </a:srgbClr>
                </a:gs>
                <a:gs pos="100000">
                  <a:srgbClr val="a160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918840" y="249408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6939720" y="2511720"/>
              <a:ext cx="1211400" cy="1235520"/>
              <a:chOff x="6939720" y="2511720"/>
              <a:chExt cx="1211400" cy="1235520"/>
            </a:xfrm>
          </p:grpSpPr>
          <p:sp>
            <p:nvSpPr>
              <p:cNvPr id="619" name=""/>
              <p:cNvSpPr/>
              <p:nvPr/>
            </p:nvSpPr>
            <p:spPr>
              <a:xfrm>
                <a:off x="6939720" y="2511720"/>
                <a:ext cx="1211400" cy="1235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955200" y="2518560"/>
                <a:ext cx="1182240" cy="1204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67800" y="2530440"/>
                <a:ext cx="1124280" cy="1125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33320" y="2561760"/>
                <a:ext cx="999360" cy="91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" name=""/>
          <p:cNvGrpSpPr/>
          <p:nvPr/>
        </p:nvGrpSpPr>
        <p:grpSpPr>
          <a:xfrm>
            <a:off x="1633680" y="1500120"/>
            <a:ext cx="1637640" cy="1620720"/>
            <a:chOff x="1633680" y="1500120"/>
            <a:chExt cx="1637640" cy="1620720"/>
          </a:xfrm>
        </p:grpSpPr>
        <p:sp>
          <p:nvSpPr>
            <p:cNvPr id="624" name=""/>
            <p:cNvSpPr/>
            <p:nvPr/>
          </p:nvSpPr>
          <p:spPr>
            <a:xfrm>
              <a:off x="1633680" y="1500120"/>
              <a:ext cx="1637640" cy="162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33680" y="1500120"/>
              <a:ext cx="1637640" cy="162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39880" y="1605240"/>
              <a:ext cx="1424880" cy="14101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41680" y="1605240"/>
              <a:ext cx="1423080" cy="14101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18000" y="1676880"/>
              <a:ext cx="1280520" cy="1267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38520" y="1697400"/>
              <a:ext cx="1240920" cy="12279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54000" y="1704960"/>
              <a:ext cx="1210320" cy="11955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66960" y="1716120"/>
              <a:ext cx="1151640" cy="11188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33920" y="1748160"/>
              <a:ext cx="1024200" cy="908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2416320" y="3220920"/>
            <a:ext cx="0" cy="15717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32440" y="4116240"/>
            <a:ext cx="0" cy="666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26240" y="3192480"/>
            <a:ext cx="0" cy="1590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508880" y="4040280"/>
            <a:ext cx="0" cy="7426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68320" y="201456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57440" y="291636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76800" y="198108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858000" y="284472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57880" y="1752480"/>
            <a:ext cx="3341520" cy="427320"/>
          </a:xfrm>
          <a:prstGeom prst="bevel">
            <a:avLst>
              <a:gd name="adj" fmla="val 12639"/>
            </a:avLst>
          </a:prstGeom>
          <a:solidFill>
            <a:srgbClr val="d8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457440" y="2930400"/>
            <a:ext cx="3341880" cy="427320"/>
          </a:xfrm>
          <a:prstGeom prst="bevel">
            <a:avLst>
              <a:gd name="adj" fmla="val 12639"/>
            </a:avLst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21000" y="4100400"/>
            <a:ext cx="3341520" cy="427320"/>
          </a:xfrm>
          <a:prstGeom prst="bevel">
            <a:avLst>
              <a:gd name="adj" fmla="val 10407"/>
            </a:avLst>
          </a:prstGeom>
          <a:solidFill>
            <a:srgbClr val="da7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98680" y="5291280"/>
            <a:ext cx="3341520" cy="426960"/>
          </a:xfrm>
          <a:prstGeom prst="bevel">
            <a:avLst>
              <a:gd name="adj" fmla="val 12639"/>
            </a:avLst>
          </a:prstGeom>
          <a:solidFill>
            <a:srgbClr val="85a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rot="18321000">
            <a:off x="3349440" y="2152800"/>
            <a:ext cx="1074600" cy="6015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6a8a8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 rot="18321000">
            <a:off x="2312640" y="3316320"/>
            <a:ext cx="1074600" cy="6015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6a8a8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rot="18321000">
            <a:off x="1377720" y="4525920"/>
            <a:ext cx="1074600" cy="6015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6a8a8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565440" y="2990880"/>
            <a:ext cx="2043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564080" y="1819440"/>
            <a:ext cx="2043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529000" y="4152960"/>
            <a:ext cx="2043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76440" y="5353200"/>
            <a:ext cx="2043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57880" y="22194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57440" y="341964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498760" y="45910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38280" y="5791320"/>
            <a:ext cx="40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838840" y="22194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838760" y="341964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79720" y="4591080"/>
            <a:ext cx="16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7f7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1680" y="577368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 rot="16200000">
            <a:off x="1571400" y="553320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a7f70"/>
              </a:gs>
              <a:gs pos="100000">
                <a:srgbClr val="a45f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 rot="16200000">
            <a:off x="774720" y="5353200"/>
            <a:ext cx="9079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87aa5"/>
              </a:gs>
              <a:gs pos="100000">
                <a:srgbClr val="a25b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65240" y="6064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895320" y="2027160"/>
            <a:ext cx="6857640" cy="1533240"/>
            <a:chOff x="895320" y="2027160"/>
            <a:chExt cx="6857640" cy="1533240"/>
          </a:xfrm>
        </p:grpSpPr>
        <p:sp>
          <p:nvSpPr>
            <p:cNvPr id="667" name=""/>
            <p:cNvSpPr/>
            <p:nvPr/>
          </p:nvSpPr>
          <p:spPr>
            <a:xfrm>
              <a:off x="911160" y="2027160"/>
              <a:ext cx="682848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95320" y="2079720"/>
              <a:ext cx="68576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289160" y="2157480"/>
            <a:ext cx="1238040" cy="1264680"/>
            <a:chOff x="1289160" y="2157480"/>
            <a:chExt cx="1238040" cy="1264680"/>
          </a:xfrm>
        </p:grpSpPr>
        <p:sp>
          <p:nvSpPr>
            <p:cNvPr id="670" name=""/>
            <p:cNvSpPr/>
            <p:nvPr/>
          </p:nvSpPr>
          <p:spPr>
            <a:xfrm>
              <a:off x="1289160" y="2199960"/>
              <a:ext cx="1238040" cy="1222200"/>
            </a:xfrm>
            <a:prstGeom prst="ellipse">
              <a:avLst/>
            </a:prstGeom>
            <a:solidFill>
              <a:srgbClr val="d87aa5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1393920" y="215748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"/>
          <p:cNvSpPr/>
          <p:nvPr/>
        </p:nvSpPr>
        <p:spPr>
          <a:xfrm>
            <a:off x="1557720" y="2646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89280" y="2560680"/>
            <a:ext cx="696960" cy="442800"/>
          </a:xfrm>
          <a:prstGeom prst="rightArrow">
            <a:avLst>
              <a:gd name="adj1" fmla="val 49380"/>
              <a:gd name="adj2" fmla="val 38883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714840" y="2133720"/>
            <a:ext cx="1238040" cy="1264680"/>
            <a:chOff x="3714840" y="2133720"/>
            <a:chExt cx="1238040" cy="1264680"/>
          </a:xfrm>
        </p:grpSpPr>
        <p:sp>
          <p:nvSpPr>
            <p:cNvPr id="675" name=""/>
            <p:cNvSpPr/>
            <p:nvPr/>
          </p:nvSpPr>
          <p:spPr>
            <a:xfrm>
              <a:off x="3714840" y="2176200"/>
              <a:ext cx="1238040" cy="1222200"/>
            </a:xfrm>
            <a:prstGeom prst="ellipse">
              <a:avLst/>
            </a:prstGeom>
            <a:solidFill>
              <a:srgbClr val="ac8cd0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2"/>
            <a:stretch/>
          </p:blipFill>
          <p:spPr>
            <a:xfrm>
              <a:off x="3819600" y="21337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7" name=""/>
          <p:cNvSpPr/>
          <p:nvPr/>
        </p:nvSpPr>
        <p:spPr>
          <a:xfrm>
            <a:off x="3981600" y="2624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086440" y="25765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165720" y="2133720"/>
            <a:ext cx="1236960" cy="1264680"/>
            <a:chOff x="6165720" y="2133720"/>
            <a:chExt cx="1236960" cy="1264680"/>
          </a:xfrm>
        </p:grpSpPr>
        <p:sp>
          <p:nvSpPr>
            <p:cNvPr id="680" name=""/>
            <p:cNvSpPr/>
            <p:nvPr/>
          </p:nvSpPr>
          <p:spPr>
            <a:xfrm>
              <a:off x="6165720" y="2176200"/>
              <a:ext cx="1236960" cy="1222200"/>
            </a:xfrm>
            <a:prstGeom prst="ellipse">
              <a:avLst/>
            </a:prstGeom>
            <a:solidFill>
              <a:srgbClr val="da7f70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1" name="" descr=""/>
            <p:cNvPicPr/>
            <p:nvPr/>
          </p:nvPicPr>
          <p:blipFill>
            <a:blip r:embed="rId3"/>
            <a:stretch/>
          </p:blipFill>
          <p:spPr>
            <a:xfrm>
              <a:off x="6270480" y="2133720"/>
              <a:ext cx="102060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2" name=""/>
          <p:cNvSpPr/>
          <p:nvPr/>
        </p:nvSpPr>
        <p:spPr>
          <a:xfrm>
            <a:off x="6431040" y="2624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38640" y="577368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 rot="16200000">
            <a:off x="4160880" y="5353200"/>
            <a:ext cx="9079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a7f70"/>
              </a:gs>
              <a:gs pos="100000">
                <a:srgbClr val="a45f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 rot="16200000">
            <a:off x="3281760" y="510444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87aa5"/>
              </a:gs>
              <a:gs pos="100000">
                <a:srgbClr val="a25b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950080" y="5773680"/>
            <a:ext cx="18842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 rot="16200000">
            <a:off x="6290640" y="4881240"/>
            <a:ext cx="1851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a7f70"/>
              </a:gs>
              <a:gs pos="100000">
                <a:srgbClr val="a45f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 rot="16200000">
            <a:off x="5499000" y="4699800"/>
            <a:ext cx="2214360" cy="4428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87aa5"/>
              </a:gs>
              <a:gs pos="100000">
                <a:srgbClr val="a25b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46240" y="6064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480000" y="6064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441440" y="477036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081160" y="522756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260960" y="458316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843440" y="509112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43600" y="370368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445520" y="41482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95320" y="1295280"/>
            <a:ext cx="7296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401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d7d7d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8884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d7d7d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349360" y="3532320"/>
            <a:ext cx="660600" cy="1157040"/>
            <a:chOff x="2349360" y="3532320"/>
            <a:chExt cx="660600" cy="1157040"/>
          </a:xfrm>
        </p:grpSpPr>
        <p:sp>
          <p:nvSpPr>
            <p:cNvPr id="702" name=""/>
            <p:cNvSpPr/>
            <p:nvPr/>
          </p:nvSpPr>
          <p:spPr>
            <a:xfrm>
              <a:off x="2349360" y="3758400"/>
              <a:ext cx="660600" cy="930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2544480" y="3532320"/>
              <a:ext cx="221760" cy="24048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492120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83560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84684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92880" y="276876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c1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1767"/>
                </a:solidFill>
                <a:latin typeface="Arial"/>
                <a:ea typeface="Arial"/>
              </a:rPr>
              <a:t>2008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650480" y="27432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c1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1767"/>
                </a:solidFill>
                <a:latin typeface="Arial"/>
                <a:ea typeface="Arial"/>
              </a:rPr>
              <a:t>2008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8320" y="5099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12840" y="5099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95960" y="50817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682160" y="509112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357280" y="38433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8916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19708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19392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201840" y="3003480"/>
            <a:ext cx="969840" cy="1695240"/>
            <a:chOff x="3201840" y="3003480"/>
            <a:chExt cx="969840" cy="1695240"/>
          </a:xfrm>
        </p:grpSpPr>
        <p:sp>
          <p:nvSpPr>
            <p:cNvPr id="718" name=""/>
            <p:cNvSpPr/>
            <p:nvPr/>
          </p:nvSpPr>
          <p:spPr>
            <a:xfrm>
              <a:off x="3201840" y="3334680"/>
              <a:ext cx="96984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487680" y="3003480"/>
              <a:ext cx="325800" cy="35244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322416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511280" y="3773520"/>
            <a:ext cx="519120" cy="910800"/>
            <a:chOff x="1511280" y="3773520"/>
            <a:chExt cx="519120" cy="910800"/>
          </a:xfrm>
        </p:grpSpPr>
        <p:sp>
          <p:nvSpPr>
            <p:cNvPr id="722" name=""/>
            <p:cNvSpPr/>
            <p:nvPr/>
          </p:nvSpPr>
          <p:spPr>
            <a:xfrm>
              <a:off x="1511280" y="395136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1664640" y="3773520"/>
              <a:ext cx="174240" cy="18936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444680" y="4032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902280" y="2976480"/>
            <a:ext cx="851040" cy="1698480"/>
            <a:chOff x="6902280" y="2976480"/>
            <a:chExt cx="851040" cy="1698480"/>
          </a:xfrm>
        </p:grpSpPr>
        <p:sp>
          <p:nvSpPr>
            <p:cNvPr id="726" name=""/>
            <p:cNvSpPr/>
            <p:nvPr/>
          </p:nvSpPr>
          <p:spPr>
            <a:xfrm>
              <a:off x="6902280" y="3273480"/>
              <a:ext cx="851040" cy="1401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54640" y="2976480"/>
              <a:ext cx="307080" cy="32436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695952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962680" y="3246480"/>
            <a:ext cx="717480" cy="1433160"/>
            <a:chOff x="5962680" y="3246480"/>
            <a:chExt cx="717480" cy="1433160"/>
          </a:xfrm>
        </p:grpSpPr>
        <p:sp>
          <p:nvSpPr>
            <p:cNvPr id="730" name=""/>
            <p:cNvSpPr/>
            <p:nvPr/>
          </p:nvSpPr>
          <p:spPr>
            <a:xfrm>
              <a:off x="5962680" y="3497040"/>
              <a:ext cx="71748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75440" y="3246480"/>
              <a:ext cx="258840" cy="27396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126040" y="3619440"/>
            <a:ext cx="533520" cy="1064880"/>
            <a:chOff x="5126040" y="3619440"/>
            <a:chExt cx="533520" cy="1064880"/>
          </a:xfrm>
        </p:grpSpPr>
        <p:sp>
          <p:nvSpPr>
            <p:cNvPr id="733" name=""/>
            <p:cNvSpPr/>
            <p:nvPr/>
          </p:nvSpPr>
          <p:spPr>
            <a:xfrm>
              <a:off x="5126040" y="380556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84080" y="3619440"/>
              <a:ext cx="192240" cy="20340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11488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9112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75248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990720" y="17334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2209680" y="2441520"/>
            <a:ext cx="3961800" cy="3729960"/>
            <a:chOff x="2209680" y="2441520"/>
            <a:chExt cx="3961800" cy="3729960"/>
          </a:xfrm>
        </p:grpSpPr>
        <p:sp>
          <p:nvSpPr>
            <p:cNvPr id="740" name=""/>
            <p:cNvSpPr/>
            <p:nvPr/>
          </p:nvSpPr>
          <p:spPr>
            <a:xfrm>
              <a:off x="2209680" y="2454120"/>
              <a:ext cx="2405160" cy="29430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84280" y="2441520"/>
              <a:ext cx="1987200" cy="22622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47040" y="4340880"/>
              <a:ext cx="3117960" cy="183060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8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2666880" y="2822400"/>
            <a:ext cx="3202920" cy="3016080"/>
            <a:chOff x="2666880" y="2822400"/>
            <a:chExt cx="3202920" cy="3016080"/>
          </a:xfrm>
        </p:grpSpPr>
        <p:sp>
          <p:nvSpPr>
            <p:cNvPr id="745" name=""/>
            <p:cNvSpPr/>
            <p:nvPr/>
          </p:nvSpPr>
          <p:spPr>
            <a:xfrm>
              <a:off x="2666880" y="2832480"/>
              <a:ext cx="1944720" cy="23796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ac8cd0"/>
                </a:gs>
                <a:gs pos="100000">
                  <a:srgbClr val="c9b5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63120" y="2822400"/>
              <a:ext cx="1606680" cy="182916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c4aedd"/>
                </a:gs>
                <a:gs pos="100000">
                  <a:srgbClr val="ac8c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43680" y="435816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81699c"/>
                </a:gs>
                <a:gs pos="100000">
                  <a:srgbClr val="ac8c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3734640" y="397656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442840" y="2682720"/>
            <a:ext cx="398520" cy="406800"/>
            <a:chOff x="5442840" y="2682720"/>
            <a:chExt cx="398520" cy="406800"/>
          </a:xfrm>
        </p:grpSpPr>
        <p:pic>
          <p:nvPicPr>
            <p:cNvPr id="750" name="" descr=""/>
            <p:cNvPicPr/>
            <p:nvPr/>
          </p:nvPicPr>
          <p:blipFill>
            <a:blip r:embed="rId1"/>
            <a:stretch/>
          </p:blipFill>
          <p:spPr>
            <a:xfrm rot="4977600">
              <a:off x="5501520" y="27468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 rot="4977000">
              <a:off x="5502240" y="274608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492520" y="2775960"/>
              <a:ext cx="108720" cy="241920"/>
              <a:chOff x="5492520" y="2775960"/>
              <a:chExt cx="108720" cy="24192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5495400" y="2820600"/>
                <a:ext cx="105840" cy="197280"/>
                <a:chOff x="5495400" y="2820600"/>
                <a:chExt cx="105840" cy="197280"/>
              </a:xfrm>
            </p:grpSpPr>
            <p:sp>
              <p:nvSpPr>
                <p:cNvPr id="754" name=""/>
                <p:cNvSpPr/>
                <p:nvPr/>
              </p:nvSpPr>
              <p:spPr>
                <a:xfrm flipH="1" flipV="1" rot="8941800">
                  <a:off x="5530320" y="28717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 flipV="1" rot="9757200">
                  <a:off x="5518800" y="28512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flipV="1" rot="10053000">
                  <a:off x="5515560" y="28371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flipV="1" rot="10585200">
                  <a:off x="5511960" y="28209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5492520" y="2775960"/>
                <a:ext cx="82080" cy="203040"/>
                <a:chOff x="5492520" y="2775960"/>
                <a:chExt cx="82080" cy="203040"/>
              </a:xfrm>
            </p:grpSpPr>
            <p:sp>
              <p:nvSpPr>
                <p:cNvPr id="759" name=""/>
                <p:cNvSpPr/>
                <p:nvPr/>
              </p:nvSpPr>
              <p:spPr>
                <a:xfrm flipH="1" flipV="1" rot="10294800">
                  <a:off x="5513040" y="28314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 flipV="1" rot="11110200">
                  <a:off x="5510880" y="28080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 flipV="1" rot="11406000">
                  <a:off x="5511600" y="2793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 flipV="1" rot="11938200">
                  <a:off x="5515200" y="27777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"/>
            <p:cNvSpPr/>
            <p:nvPr/>
          </p:nvSpPr>
          <p:spPr>
            <a:xfrm flipH="1" rot="1129200">
              <a:off x="5486400" y="272412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4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4800">
              <a:off x="5577840" y="27615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5" name=""/>
          <p:cNvGrpSpPr/>
          <p:nvPr/>
        </p:nvGrpSpPr>
        <p:grpSpPr>
          <a:xfrm>
            <a:off x="2474280" y="3186000"/>
            <a:ext cx="398520" cy="406800"/>
            <a:chOff x="2474280" y="3186000"/>
            <a:chExt cx="398520" cy="406800"/>
          </a:xfrm>
        </p:grpSpPr>
        <p:pic>
          <p:nvPicPr>
            <p:cNvPr id="766" name="" descr=""/>
            <p:cNvPicPr/>
            <p:nvPr/>
          </p:nvPicPr>
          <p:blipFill>
            <a:blip r:embed="rId3"/>
            <a:stretch/>
          </p:blipFill>
          <p:spPr>
            <a:xfrm rot="4977600">
              <a:off x="2532960" y="325008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 rot="4977000">
              <a:off x="2533680" y="324936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2523960" y="3279240"/>
              <a:ext cx="108720" cy="241920"/>
              <a:chOff x="2523960" y="3279240"/>
              <a:chExt cx="108720" cy="24192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2526840" y="3323880"/>
                <a:ext cx="105840" cy="197280"/>
                <a:chOff x="2526840" y="3323880"/>
                <a:chExt cx="105840" cy="197280"/>
              </a:xfrm>
            </p:grpSpPr>
            <p:sp>
              <p:nvSpPr>
                <p:cNvPr id="770" name=""/>
                <p:cNvSpPr/>
                <p:nvPr/>
              </p:nvSpPr>
              <p:spPr>
                <a:xfrm flipH="1" flipV="1" rot="8941800">
                  <a:off x="2561760" y="33750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flipV="1" rot="9757200">
                  <a:off x="2550240" y="33544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flipV="1" rot="10053000">
                  <a:off x="2547000" y="33404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flipV="1" rot="10585200">
                  <a:off x="2543400" y="33242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2523960" y="3279240"/>
                <a:ext cx="82080" cy="203040"/>
                <a:chOff x="2523960" y="3279240"/>
                <a:chExt cx="82080" cy="203040"/>
              </a:xfrm>
            </p:grpSpPr>
            <p:sp>
              <p:nvSpPr>
                <p:cNvPr id="775" name=""/>
                <p:cNvSpPr/>
                <p:nvPr/>
              </p:nvSpPr>
              <p:spPr>
                <a:xfrm flipH="1" flipV="1" rot="10294800">
                  <a:off x="2544480" y="33346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flipV="1" rot="11110200">
                  <a:off x="2542320" y="33112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flipV="1" rot="11406000">
                  <a:off x="2543040" y="32968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flipV="1" rot="11938200">
                  <a:off x="2546640" y="32810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9" name=""/>
            <p:cNvSpPr/>
            <p:nvPr/>
          </p:nvSpPr>
          <p:spPr>
            <a:xfrm flipH="1" rot="1129200">
              <a:off x="2517840" y="322740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0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2404800">
              <a:off x="2609280" y="326484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1" name=""/>
          <p:cNvGrpSpPr/>
          <p:nvPr/>
        </p:nvGrpSpPr>
        <p:grpSpPr>
          <a:xfrm>
            <a:off x="4447440" y="5632200"/>
            <a:ext cx="398520" cy="406800"/>
            <a:chOff x="4447440" y="5632200"/>
            <a:chExt cx="398520" cy="406800"/>
          </a:xfrm>
        </p:grpSpPr>
        <p:pic>
          <p:nvPicPr>
            <p:cNvPr id="782" name="" descr=""/>
            <p:cNvPicPr/>
            <p:nvPr/>
          </p:nvPicPr>
          <p:blipFill>
            <a:blip r:embed="rId5"/>
            <a:stretch/>
          </p:blipFill>
          <p:spPr>
            <a:xfrm rot="4977600">
              <a:off x="4506120" y="569628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 rot="4977000">
              <a:off x="4506840" y="569556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4497120" y="5725440"/>
              <a:ext cx="108720" cy="241920"/>
              <a:chOff x="4497120" y="5725440"/>
              <a:chExt cx="108720" cy="24192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4500000" y="5770080"/>
                <a:ext cx="105840" cy="197280"/>
                <a:chOff x="4500000" y="5770080"/>
                <a:chExt cx="105840" cy="197280"/>
              </a:xfrm>
            </p:grpSpPr>
            <p:sp>
              <p:nvSpPr>
                <p:cNvPr id="786" name=""/>
                <p:cNvSpPr/>
                <p:nvPr/>
              </p:nvSpPr>
              <p:spPr>
                <a:xfrm flipH="1" flipV="1" rot="8941800">
                  <a:off x="4534920" y="58212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 flipV="1" rot="9757200">
                  <a:off x="4523400" y="58006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flipV="1" rot="10053000">
                  <a:off x="4520160" y="57866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flipV="1" rot="10585200">
                  <a:off x="4516560" y="57704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497120" y="5725440"/>
                <a:ext cx="82080" cy="203040"/>
                <a:chOff x="4497120" y="5725440"/>
                <a:chExt cx="82080" cy="203040"/>
              </a:xfrm>
            </p:grpSpPr>
            <p:sp>
              <p:nvSpPr>
                <p:cNvPr id="791" name=""/>
                <p:cNvSpPr/>
                <p:nvPr/>
              </p:nvSpPr>
              <p:spPr>
                <a:xfrm flipH="1" flipV="1" rot="10294800">
                  <a:off x="4517640" y="57808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 flipV="1" rot="11110200">
                  <a:off x="4515480" y="57574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flipV="1" rot="11406000">
                  <a:off x="4516200" y="57430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flipV="1" rot="11938200">
                  <a:off x="4519800" y="57272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"/>
            <p:cNvSpPr/>
            <p:nvPr/>
          </p:nvSpPr>
          <p:spPr>
            <a:xfrm flipH="1" rot="1129200">
              <a:off x="4491000" y="567360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2404800">
              <a:off x="4582440" y="571104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"/>
          <p:cNvSpPr/>
          <p:nvPr/>
        </p:nvSpPr>
        <p:spPr>
          <a:xfrm>
            <a:off x="332172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74876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58080" y="4854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796080" y="2376360"/>
            <a:ext cx="150984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857920" y="5521320"/>
            <a:ext cx="150984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9080" y="3006720"/>
            <a:ext cx="150948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990720" y="1447920"/>
            <a:ext cx="7162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65200" y="2787480"/>
            <a:ext cx="7740720" cy="619200"/>
          </a:xfrm>
          <a:prstGeom prst="rect">
            <a:avLst/>
          </a:prstGeom>
          <a:solidFill>
            <a:srgbClr val="d8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554040" y="2787480"/>
            <a:ext cx="2053440" cy="618840"/>
            <a:chOff x="554040" y="2787480"/>
            <a:chExt cx="2053440" cy="618840"/>
          </a:xfrm>
        </p:grpSpPr>
        <p:sp>
          <p:nvSpPr>
            <p:cNvPr id="807" name=""/>
            <p:cNvSpPr/>
            <p:nvPr/>
          </p:nvSpPr>
          <p:spPr>
            <a:xfrm>
              <a:off x="554040" y="2787480"/>
              <a:ext cx="1915920" cy="618840"/>
            </a:xfrm>
            <a:prstGeom prst="rect">
              <a:avLst/>
            </a:prstGeom>
            <a:solidFill>
              <a:srgbClr val="da7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5400000">
              <a:off x="2367720" y="300240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da7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2468520" y="2919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76360" y="28940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040280" y="29541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d87aa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19720" y="29192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8880" y="29541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d87aa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407280" y="29192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51040" y="3537000"/>
            <a:ext cx="1114200" cy="1114200"/>
          </a:xfrm>
          <a:prstGeom prst="diamond">
            <a:avLst/>
          </a:prstGeom>
          <a:solidFill>
            <a:srgbClr val="da7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32120" y="3537000"/>
            <a:ext cx="111456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22920" y="3537000"/>
            <a:ext cx="111420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765840" y="3537000"/>
            <a:ext cx="111456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"/>
          <p:cNvCxnSpPr>
            <a:stCxn id="815" idx="3"/>
            <a:endCxn id="816" idx="1"/>
          </p:cNvCxnSpPr>
          <p:nvPr/>
        </p:nvCxnSpPr>
        <p:spPr>
          <a:xfrm>
            <a:off x="1965240" y="409392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20" name=""/>
          <p:cNvCxnSpPr>
            <a:stCxn id="816" idx="3"/>
            <a:endCxn id="817" idx="1"/>
          </p:cNvCxnSpPr>
          <p:nvPr/>
        </p:nvCxnSpPr>
        <p:spPr>
          <a:xfrm>
            <a:off x="3946680" y="409392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21" name=""/>
          <p:cNvCxnSpPr>
            <a:stCxn id="817" idx="3"/>
            <a:endCxn id="818" idx="1"/>
          </p:cNvCxnSpPr>
          <p:nvPr/>
        </p:nvCxnSpPr>
        <p:spPr>
          <a:xfrm>
            <a:off x="5937120" y="409392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822" name=""/>
          <p:cNvSpPr/>
          <p:nvPr/>
        </p:nvSpPr>
        <p:spPr>
          <a:xfrm>
            <a:off x="954000" y="38624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43360" y="3862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952880" y="38624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905520" y="38624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6880" y="47419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40160" y="474192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554360" y="47419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502320" y="47419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3520" y="1809720"/>
            <a:ext cx="777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7f7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4854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3418800">
            <a:off x="2077920" y="4277880"/>
            <a:ext cx="479160" cy="520560"/>
          </a:xfrm>
          <a:prstGeom prst="rect">
            <a:avLst/>
          </a:prstGeom>
          <a:gradFill rotWithShape="0">
            <a:gsLst>
              <a:gs pos="0">
                <a:srgbClr val="85a3d5"/>
              </a:gs>
              <a:gs pos="100000">
                <a:srgbClr val="3d4b62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d87aa5"/>
              </a:gs>
              <a:gs pos="100000">
                <a:srgbClr val="63384c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440" y="18511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1780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3418800">
            <a:off x="2077560" y="2602080"/>
            <a:ext cx="479520" cy="520560"/>
          </a:xfrm>
          <a:prstGeom prst="rect">
            <a:avLst/>
          </a:prstGeom>
          <a:gradFill rotWithShape="0">
            <a:gsLst>
              <a:gs pos="0">
                <a:srgbClr val="ac8cd0"/>
              </a:gs>
              <a:gs pos="100000">
                <a:srgbClr val="4f405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3760" y="4014720"/>
            <a:ext cx="479916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3418800">
            <a:off x="2077560" y="3440160"/>
            <a:ext cx="479520" cy="520560"/>
          </a:xfrm>
          <a:prstGeom prst="rect">
            <a:avLst/>
          </a:prstGeom>
          <a:gradFill rotWithShape="0">
            <a:gsLst>
              <a:gs pos="0">
                <a:srgbClr val="da7f70"/>
              </a:gs>
              <a:gs pos="100000">
                <a:srgbClr val="643a3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5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5715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3418800">
            <a:off x="2077920" y="5138280"/>
            <a:ext cx="479160" cy="520560"/>
          </a:xfrm>
          <a:prstGeom prst="rect">
            <a:avLst/>
          </a:prstGeom>
          <a:gradFill rotWithShape="0">
            <a:gsLst>
              <a:gs pos="0">
                <a:srgbClr val="5c1767"/>
              </a:gs>
              <a:gs pos="100000">
                <a:srgbClr val="2a0a2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552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0440" y="2712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440" y="35528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0440" y="4394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30440" y="5245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C36-D32E-44AC-B71F-38C3C301E3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883040" y="5695920"/>
            <a:ext cx="3880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06616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3000" spc="-1" strike="noStrike">
                <a:solidFill>
                  <a:srgbClr val="5c1767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200" spc="-1" strike="noStrike">
                <a:solidFill>
                  <a:srgbClr val="5c1767"/>
                </a:solidFill>
                <a:latin typeface="Arial"/>
              </a:rPr>
              <a:t>[View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200" spc="-1" strike="noStrike">
                <a:solidFill>
                  <a:srgbClr val="5c1767"/>
                </a:solidFill>
                <a:latin typeface="Arial"/>
              </a:rPr>
              <a:t>[Master]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200" spc="-1" strike="noStrike">
                <a:solidFill>
                  <a:srgbClr val="5c1767"/>
                </a:solidFill>
                <a:latin typeface="Arial"/>
              </a:rPr>
              <a:t>[Slide Master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200" spc="-1" strike="noStrike">
                <a:solidFill>
                  <a:srgbClr val="5c1767"/>
                </a:solidFill>
                <a:latin typeface="Arial"/>
              </a:rPr>
              <a:t>[Notes Master]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514980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1360" y="35226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75440" y="35226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15120" y="3271680"/>
            <a:ext cx="2355840" cy="523800"/>
            <a:chOff x="6315120" y="3271680"/>
            <a:chExt cx="2355840" cy="523800"/>
          </a:xfrm>
        </p:grpSpPr>
        <p:sp>
          <p:nvSpPr>
            <p:cNvPr id="134" name=""/>
            <p:cNvSpPr/>
            <p:nvPr/>
          </p:nvSpPr>
          <p:spPr>
            <a:xfrm>
              <a:off x="6315120" y="32716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ac8cd0"/>
            </a:solidFill>
            <a:ln w="381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51480" y="330336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8cd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743520" y="33228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522600" y="3271680"/>
            <a:ext cx="2355840" cy="523800"/>
            <a:chOff x="3522600" y="3271680"/>
            <a:chExt cx="2355840" cy="523800"/>
          </a:xfrm>
        </p:grpSpPr>
        <p:sp>
          <p:nvSpPr>
            <p:cNvPr id="138" name=""/>
            <p:cNvSpPr/>
            <p:nvPr/>
          </p:nvSpPr>
          <p:spPr>
            <a:xfrm>
              <a:off x="3522600" y="32716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85a3d5"/>
            </a:solidFill>
            <a:ln w="381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58960" y="330336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5a3d5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944880" y="33228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9440" y="352260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7720" y="3271680"/>
            <a:ext cx="2355840" cy="524160"/>
          </a:xfrm>
          <a:prstGeom prst="roundRect">
            <a:avLst>
              <a:gd name="adj" fmla="val 16667"/>
            </a:avLst>
          </a:prstGeom>
          <a:solidFill>
            <a:srgbClr val="da7f70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4080" y="3303720"/>
            <a:ext cx="2273400" cy="1252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da7f7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69640" y="33228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1560" y="282240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800" y="4065480"/>
            <a:ext cx="226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83000" y="409896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4760" y="4098960"/>
            <a:ext cx="2506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200" y="1776240"/>
            <a:ext cx="77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5c1767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7f7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90920" y="23652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90492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105520" y="26701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71840" y="32702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95480" y="1527120"/>
            <a:ext cx="1169280" cy="1175400"/>
            <a:chOff x="2895480" y="1527120"/>
            <a:chExt cx="1169280" cy="1175400"/>
          </a:xfrm>
        </p:grpSpPr>
        <p:sp>
          <p:nvSpPr>
            <p:cNvPr id="161" name=""/>
            <p:cNvSpPr/>
            <p:nvPr/>
          </p:nvSpPr>
          <p:spPr>
            <a:xfrm>
              <a:off x="2895480" y="15271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930400" y="1563480"/>
              <a:ext cx="1118520" cy="1139040"/>
              <a:chOff x="2930400" y="1563480"/>
              <a:chExt cx="1118520" cy="1139040"/>
            </a:xfrm>
          </p:grpSpPr>
          <p:pic>
            <p:nvPicPr>
              <p:cNvPr id="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30400" y="15634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2930400" y="1563480"/>
                <a:ext cx="1079640" cy="1085760"/>
              </a:xfrm>
              <a:prstGeom prst="ellipse">
                <a:avLst/>
              </a:prstGeom>
              <a:solidFill>
                <a:srgbClr val="da7f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5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40840" y="1608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6" name=""/>
              <p:cNvGrpSpPr/>
              <p:nvPr/>
            </p:nvGrpSpPr>
            <p:grpSpPr>
              <a:xfrm>
                <a:off x="3280680" y="2000880"/>
                <a:ext cx="768240" cy="701640"/>
                <a:chOff x="3280680" y="2000880"/>
                <a:chExt cx="768240" cy="701640"/>
              </a:xfrm>
            </p:grpSpPr>
            <p:grpSp>
              <p:nvGrpSpPr>
                <p:cNvPr id="167" name=""/>
                <p:cNvGrpSpPr/>
                <p:nvPr/>
              </p:nvGrpSpPr>
              <p:grpSpPr>
                <a:xfrm>
                  <a:off x="3457440" y="2000880"/>
                  <a:ext cx="591480" cy="694440"/>
                  <a:chOff x="3457440" y="2000880"/>
                  <a:chExt cx="591480" cy="6944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flipV="1" rot="1528800">
                    <a:off x="3787560" y="2002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flipV="1" rot="2344200">
                    <a:off x="3741840" y="2087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flipV="1" rot="2640000">
                    <a:off x="3704760" y="2129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flipV="1" rot="3172200">
                    <a:off x="3659040" y="2176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3280680" y="2192760"/>
                  <a:ext cx="743760" cy="509760"/>
                  <a:chOff x="3280680" y="2192760"/>
                  <a:chExt cx="743760" cy="50976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flipV="1" rot="2881800">
                    <a:off x="3692160" y="21488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flipV="1" rot="3697200">
                    <a:off x="3617280" y="22093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flipV="1" rot="3993000">
                    <a:off x="3567600" y="22341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flipV="1" rot="4525200">
                    <a:off x="3507480" y="2260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7" name=""/>
            <p:cNvGrpSpPr/>
            <p:nvPr/>
          </p:nvGrpSpPr>
          <p:grpSpPr>
            <a:xfrm>
              <a:off x="3387240" y="2030760"/>
              <a:ext cx="677520" cy="617760"/>
              <a:chOff x="3387240" y="2030760"/>
              <a:chExt cx="677520" cy="6177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3543120" y="2030760"/>
                <a:ext cx="521640" cy="611640"/>
                <a:chOff x="3543120" y="2030760"/>
                <a:chExt cx="521640" cy="611640"/>
              </a:xfrm>
            </p:grpSpPr>
            <p:sp>
              <p:nvSpPr>
                <p:cNvPr id="179" name=""/>
                <p:cNvSpPr/>
                <p:nvPr/>
              </p:nvSpPr>
              <p:spPr>
                <a:xfrm flipH="1" flipV="1" rot="1528800">
                  <a:off x="3833640" y="20325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 rot="2344200">
                  <a:off x="3793680" y="21063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 rot="2640000">
                  <a:off x="3760920" y="2143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 rot="3172200">
                  <a:off x="3720600" y="21852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387240" y="2198160"/>
                <a:ext cx="655200" cy="450360"/>
                <a:chOff x="3387240" y="2198160"/>
                <a:chExt cx="655200" cy="45036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flipV="1" rot="2881800">
                  <a:off x="3748680" y="216036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 rot="3697200">
                  <a:off x="3683160" y="2214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 rot="3993000">
                  <a:off x="3639600" y="2235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 rot="4525200">
                  <a:off x="3585600" y="2258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>
              <a:off x="3180240" y="1946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906560" y="2924280"/>
            <a:ext cx="1169280" cy="1175400"/>
            <a:chOff x="1906560" y="2924280"/>
            <a:chExt cx="1169280" cy="1175400"/>
          </a:xfrm>
        </p:grpSpPr>
        <p:sp>
          <p:nvSpPr>
            <p:cNvPr id="190" name=""/>
            <p:cNvSpPr/>
            <p:nvPr/>
          </p:nvSpPr>
          <p:spPr>
            <a:xfrm>
              <a:off x="1906560" y="29242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941480" y="2960640"/>
              <a:ext cx="1118520" cy="1139040"/>
              <a:chOff x="1941480" y="2960640"/>
              <a:chExt cx="1118520" cy="1139040"/>
            </a:xfrm>
          </p:grpSpPr>
          <p:pic>
            <p:nvPicPr>
              <p:cNvPr id="1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1480" y="29606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1941480" y="2960640"/>
                <a:ext cx="1079640" cy="1085760"/>
              </a:xfrm>
              <a:prstGeom prst="ellipse">
                <a:avLst/>
              </a:prstGeom>
              <a:solidFill>
                <a:srgbClr val="ac8c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951920" y="300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5" name=""/>
              <p:cNvGrpSpPr/>
              <p:nvPr/>
            </p:nvGrpSpPr>
            <p:grpSpPr>
              <a:xfrm>
                <a:off x="2291760" y="3398040"/>
                <a:ext cx="768240" cy="701640"/>
                <a:chOff x="2291760" y="3398040"/>
                <a:chExt cx="768240" cy="7016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2468520" y="3398040"/>
                  <a:ext cx="591480" cy="694440"/>
                  <a:chOff x="2468520" y="3398040"/>
                  <a:chExt cx="591480" cy="6944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 flipV="1" rot="1528800">
                    <a:off x="2798640" y="3399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flipV="1" rot="2344200">
                    <a:off x="2752920" y="3484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 rot="2640000">
                    <a:off x="2715840" y="3526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 rot="3172200">
                    <a:off x="2670120" y="3573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2291760" y="3589920"/>
                  <a:ext cx="743760" cy="509760"/>
                  <a:chOff x="2291760" y="3589920"/>
                  <a:chExt cx="743760" cy="5097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flipV="1" rot="2881800">
                    <a:off x="2703240" y="3546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 rot="3697200">
                    <a:off x="2628360" y="3606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 rot="3993000">
                    <a:off x="2578680" y="3631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flipV="1" rot="4525200">
                    <a:off x="2518560" y="3657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" name=""/>
            <p:cNvGrpSpPr/>
            <p:nvPr/>
          </p:nvGrpSpPr>
          <p:grpSpPr>
            <a:xfrm>
              <a:off x="2398320" y="3427920"/>
              <a:ext cx="677520" cy="617760"/>
              <a:chOff x="2398320" y="3427920"/>
              <a:chExt cx="677520" cy="617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2554200" y="3427920"/>
                <a:ext cx="521640" cy="611640"/>
                <a:chOff x="2554200" y="3427920"/>
                <a:chExt cx="521640" cy="611640"/>
              </a:xfrm>
            </p:grpSpPr>
            <p:sp>
              <p:nvSpPr>
                <p:cNvPr id="208" name=""/>
                <p:cNvSpPr/>
                <p:nvPr/>
              </p:nvSpPr>
              <p:spPr>
                <a:xfrm flipH="1" flipV="1" rot="1528800">
                  <a:off x="2844720" y="3429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 rot="2344200">
                  <a:off x="2804760" y="35035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2640000">
                  <a:off x="2772000" y="35402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 rot="3172200">
                  <a:off x="2731680" y="35823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398320" y="3595320"/>
                <a:ext cx="655200" cy="450360"/>
                <a:chOff x="2398320" y="3595320"/>
                <a:chExt cx="655200" cy="450360"/>
              </a:xfrm>
            </p:grpSpPr>
            <p:sp>
              <p:nvSpPr>
                <p:cNvPr id="213" name=""/>
                <p:cNvSpPr/>
                <p:nvPr/>
              </p:nvSpPr>
              <p:spPr>
                <a:xfrm flipH="1" flipV="1" rot="2881800">
                  <a:off x="2759760" y="355752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 rot="3697200">
                  <a:off x="2694240" y="361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 flipV="1" rot="3993000">
                  <a:off x="2650680" y="3633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flipV="1" rot="4525200">
                  <a:off x="2596680" y="3655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2191320" y="3343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019320" y="5272200"/>
            <a:ext cx="1169280" cy="1175400"/>
            <a:chOff x="3019320" y="5272200"/>
            <a:chExt cx="1169280" cy="1175400"/>
          </a:xfrm>
        </p:grpSpPr>
        <p:sp>
          <p:nvSpPr>
            <p:cNvPr id="219" name=""/>
            <p:cNvSpPr/>
            <p:nvPr/>
          </p:nvSpPr>
          <p:spPr>
            <a:xfrm>
              <a:off x="3019320" y="52722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054240" y="5308560"/>
              <a:ext cx="1118520" cy="1139040"/>
              <a:chOff x="3054240" y="5308560"/>
              <a:chExt cx="1118520" cy="1139040"/>
            </a:xfrm>
          </p:grpSpPr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054240" y="53085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3054240" y="5308560"/>
                <a:ext cx="1079640" cy="1085760"/>
              </a:xfrm>
              <a:prstGeom prst="ellipse">
                <a:avLst/>
              </a:prstGeom>
              <a:solidFill>
                <a:srgbClr val="d87a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3064680" y="5353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4" name=""/>
              <p:cNvGrpSpPr/>
              <p:nvPr/>
            </p:nvGrpSpPr>
            <p:grpSpPr>
              <a:xfrm>
                <a:off x="3404520" y="5745960"/>
                <a:ext cx="768240" cy="701640"/>
                <a:chOff x="3404520" y="5745960"/>
                <a:chExt cx="768240" cy="701640"/>
              </a:xfrm>
            </p:grpSpPr>
            <p:grpSp>
              <p:nvGrpSpPr>
                <p:cNvPr id="225" name=""/>
                <p:cNvGrpSpPr/>
                <p:nvPr/>
              </p:nvGrpSpPr>
              <p:grpSpPr>
                <a:xfrm>
                  <a:off x="3581280" y="5745960"/>
                  <a:ext cx="591480" cy="694440"/>
                  <a:chOff x="3581280" y="5745960"/>
                  <a:chExt cx="591480" cy="69444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flipH="1" flipV="1" rot="1528800">
                    <a:off x="3911400" y="5747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 rot="2344200">
                    <a:off x="3865680" y="5832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flipV="1" rot="2640000">
                    <a:off x="3828600" y="5874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flipV="1" rot="3172200">
                    <a:off x="3782880" y="5921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3404520" y="5937840"/>
                  <a:ext cx="743760" cy="509760"/>
                  <a:chOff x="3404520" y="5937840"/>
                  <a:chExt cx="743760" cy="509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flipV="1" rot="2881800">
                    <a:off x="3816000" y="58939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 rot="3697200">
                    <a:off x="3741120" y="59544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flipV="1" rot="3993000">
                    <a:off x="3691440" y="5979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flipV="1" rot="4525200">
                    <a:off x="3631320" y="6005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5" name=""/>
            <p:cNvGrpSpPr/>
            <p:nvPr/>
          </p:nvGrpSpPr>
          <p:grpSpPr>
            <a:xfrm>
              <a:off x="3511080" y="5775840"/>
              <a:ext cx="677520" cy="617760"/>
              <a:chOff x="3511080" y="5775840"/>
              <a:chExt cx="677520" cy="61776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3666960" y="5775840"/>
                <a:ext cx="521640" cy="611640"/>
                <a:chOff x="3666960" y="5775840"/>
                <a:chExt cx="521640" cy="611640"/>
              </a:xfrm>
            </p:grpSpPr>
            <p:sp>
              <p:nvSpPr>
                <p:cNvPr id="237" name=""/>
                <p:cNvSpPr/>
                <p:nvPr/>
              </p:nvSpPr>
              <p:spPr>
                <a:xfrm flipH="1" flipV="1" rot="1528800">
                  <a:off x="3957480" y="5777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2344200">
                  <a:off x="3917520" y="58514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 rot="2640000">
                  <a:off x="3884760" y="5888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3172200">
                  <a:off x="3844440" y="5930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511080" y="5943240"/>
                <a:ext cx="655200" cy="450360"/>
                <a:chOff x="3511080" y="5943240"/>
                <a:chExt cx="655200" cy="45036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flipV="1" rot="2881800">
                  <a:off x="3872520" y="590544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3697200">
                  <a:off x="3807000" y="5959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3993000">
                  <a:off x="3763440" y="5981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4525200">
                  <a:off x="3709440" y="6003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3304080" y="5691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64280" y="3813120"/>
            <a:ext cx="1168560" cy="1175400"/>
            <a:chOff x="5264280" y="3813120"/>
            <a:chExt cx="1168560" cy="1175400"/>
          </a:xfrm>
        </p:grpSpPr>
        <p:sp>
          <p:nvSpPr>
            <p:cNvPr id="248" name=""/>
            <p:cNvSpPr/>
            <p:nvPr/>
          </p:nvSpPr>
          <p:spPr>
            <a:xfrm>
              <a:off x="526428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298840" y="3849480"/>
              <a:ext cx="1118520" cy="1139040"/>
              <a:chOff x="5298840" y="3849480"/>
              <a:chExt cx="1118520" cy="1139040"/>
            </a:xfrm>
          </p:grpSpPr>
          <p:pic>
            <p:nvPicPr>
              <p:cNvPr id="2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98840" y="384948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298840" y="3849480"/>
                <a:ext cx="107928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309280" y="389448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3" name=""/>
              <p:cNvGrpSpPr/>
              <p:nvPr/>
            </p:nvGrpSpPr>
            <p:grpSpPr>
              <a:xfrm>
                <a:off x="5649120" y="4286880"/>
                <a:ext cx="768240" cy="701640"/>
                <a:chOff x="5649120" y="4286880"/>
                <a:chExt cx="768240" cy="7016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5825880" y="4286880"/>
                  <a:ext cx="591480" cy="694440"/>
                  <a:chOff x="5825880" y="4286880"/>
                  <a:chExt cx="591480" cy="694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flipV="1" rot="1528800">
                    <a:off x="6156000" y="4288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flipV="1" rot="2344200">
                    <a:off x="6110280" y="4373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flipV="1" rot="2640000">
                    <a:off x="6073200" y="4415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flipV="1" rot="3172200">
                    <a:off x="6027480" y="4462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5649120" y="4478760"/>
                  <a:ext cx="743760" cy="509760"/>
                  <a:chOff x="5649120" y="4478760"/>
                  <a:chExt cx="743760" cy="5097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flipV="1" rot="2881800">
                    <a:off x="6060600" y="44348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 rot="3697200">
                    <a:off x="5985720" y="44953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 rot="3993000">
                    <a:off x="5936040" y="45201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 rot="4525200">
                    <a:off x="5875920" y="454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4" name=""/>
            <p:cNvGrpSpPr/>
            <p:nvPr/>
          </p:nvGrpSpPr>
          <p:grpSpPr>
            <a:xfrm>
              <a:off x="5756040" y="4316760"/>
              <a:ext cx="676800" cy="617400"/>
              <a:chOff x="5756040" y="4316760"/>
              <a:chExt cx="676800" cy="61740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5911920" y="4316760"/>
                <a:ext cx="520920" cy="611280"/>
                <a:chOff x="5911920" y="4316760"/>
                <a:chExt cx="520920" cy="611280"/>
              </a:xfrm>
            </p:grpSpPr>
            <p:sp>
              <p:nvSpPr>
                <p:cNvPr id="266" name=""/>
                <p:cNvSpPr/>
                <p:nvPr/>
              </p:nvSpPr>
              <p:spPr>
                <a:xfrm flipH="1" flipV="1" rot="1528800">
                  <a:off x="6201720" y="4318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 rot="2344200">
                  <a:off x="6162480" y="4393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 rot="2640000">
                  <a:off x="6129720" y="4429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 rot="3172200">
                  <a:off x="6089040" y="4471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756040" y="4485240"/>
                <a:ext cx="654480" cy="448920"/>
                <a:chOff x="5756040" y="4485240"/>
                <a:chExt cx="654480" cy="448920"/>
              </a:xfrm>
            </p:grpSpPr>
            <p:sp>
              <p:nvSpPr>
                <p:cNvPr id="271" name=""/>
                <p:cNvSpPr/>
                <p:nvPr/>
              </p:nvSpPr>
              <p:spPr>
                <a:xfrm flipH="1" flipV="1" rot="2881800">
                  <a:off x="6117120" y="444744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3697200">
                  <a:off x="6052680" y="45003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3993000">
                  <a:off x="6008760" y="45216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 rot="4525200">
                  <a:off x="5954760" y="454536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5548680" y="423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257800" y="1650960"/>
            <a:ext cx="1169280" cy="1175400"/>
            <a:chOff x="5257800" y="1650960"/>
            <a:chExt cx="1169280" cy="1175400"/>
          </a:xfrm>
        </p:grpSpPr>
        <p:sp>
          <p:nvSpPr>
            <p:cNvPr id="277" name=""/>
            <p:cNvSpPr/>
            <p:nvPr/>
          </p:nvSpPr>
          <p:spPr>
            <a:xfrm>
              <a:off x="5257800" y="16509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292720" y="1687320"/>
              <a:ext cx="1118520" cy="1139040"/>
              <a:chOff x="5292720" y="1687320"/>
              <a:chExt cx="1118520" cy="1139040"/>
            </a:xfrm>
          </p:grpSpPr>
          <p:pic>
            <p:nvPicPr>
              <p:cNvPr id="27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92720" y="16873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5292720" y="1687320"/>
                <a:ext cx="1079640" cy="1085760"/>
              </a:xfrm>
              <a:prstGeom prst="ellipse">
                <a:avLst/>
              </a:prstGeom>
              <a:solidFill>
                <a:srgbClr val="85a3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30316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2" name=""/>
              <p:cNvGrpSpPr/>
              <p:nvPr/>
            </p:nvGrpSpPr>
            <p:grpSpPr>
              <a:xfrm>
                <a:off x="5643000" y="2124720"/>
                <a:ext cx="768240" cy="701640"/>
                <a:chOff x="5643000" y="2124720"/>
                <a:chExt cx="768240" cy="70164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5819760" y="2124720"/>
                  <a:ext cx="591480" cy="694440"/>
                  <a:chOff x="5819760" y="2124720"/>
                  <a:chExt cx="591480" cy="6944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H="1" flipV="1" rot="1528800">
                    <a:off x="6149880" y="2126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 rot="2344200">
                    <a:off x="6104160" y="22114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flipV="1" rot="2640000">
                    <a:off x="6067080" y="22528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 rot="3172200">
                    <a:off x="6021360" y="23004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5643000" y="2316600"/>
                  <a:ext cx="743760" cy="509760"/>
                  <a:chOff x="5643000" y="2316600"/>
                  <a:chExt cx="743760" cy="5097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H="1" flipV="1" rot="2881800">
                    <a:off x="6054480" y="2272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flipV="1" rot="3697200">
                    <a:off x="5979600" y="23331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flipV="1" rot="3993000">
                    <a:off x="5929920" y="2358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 rot="4525200">
                    <a:off x="5869800" y="2384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3" name=""/>
            <p:cNvGrpSpPr/>
            <p:nvPr/>
          </p:nvGrpSpPr>
          <p:grpSpPr>
            <a:xfrm>
              <a:off x="5749560" y="2154600"/>
              <a:ext cx="677520" cy="617760"/>
              <a:chOff x="5749560" y="2154600"/>
              <a:chExt cx="677520" cy="6177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5905440" y="2154600"/>
                <a:ext cx="521640" cy="611640"/>
                <a:chOff x="5905440" y="2154600"/>
                <a:chExt cx="521640" cy="611640"/>
              </a:xfrm>
            </p:grpSpPr>
            <p:sp>
              <p:nvSpPr>
                <p:cNvPr id="295" name=""/>
                <p:cNvSpPr/>
                <p:nvPr/>
              </p:nvSpPr>
              <p:spPr>
                <a:xfrm flipH="1" flipV="1" rot="1528800">
                  <a:off x="6195960" y="21564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2344200">
                  <a:off x="6156000" y="22302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2640000">
                  <a:off x="6123240" y="2266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 rot="3172200">
                  <a:off x="6082920" y="23090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749560" y="2322000"/>
                <a:ext cx="655200" cy="450360"/>
                <a:chOff x="5749560" y="2322000"/>
                <a:chExt cx="655200" cy="450360"/>
              </a:xfrm>
            </p:grpSpPr>
            <p:sp>
              <p:nvSpPr>
                <p:cNvPr id="300" name=""/>
                <p:cNvSpPr/>
                <p:nvPr/>
              </p:nvSpPr>
              <p:spPr>
                <a:xfrm flipH="1" flipV="1" rot="2881800">
                  <a:off x="6111000" y="228420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3697200">
                  <a:off x="6045480" y="2338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3993000">
                  <a:off x="6001920" y="2359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 rot="4525200">
                  <a:off x="5947920" y="238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5542560" y="20700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481640" y="3346560"/>
            <a:ext cx="829080" cy="845280"/>
            <a:chOff x="4481640" y="3346560"/>
            <a:chExt cx="829080" cy="845280"/>
          </a:xfrm>
        </p:grpSpPr>
        <p:pic>
          <p:nvPicPr>
            <p:cNvPr id="306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605480" y="347904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rot="4977000">
              <a:off x="4606560" y="3477240"/>
              <a:ext cx="570240" cy="56844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4584600" y="3539520"/>
              <a:ext cx="226440" cy="501120"/>
              <a:chOff x="4584600" y="3539520"/>
              <a:chExt cx="226440" cy="5011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4591080" y="3632400"/>
                <a:ext cx="219960" cy="408240"/>
                <a:chOff x="4591080" y="3632400"/>
                <a:chExt cx="219960" cy="408240"/>
              </a:xfrm>
            </p:grpSpPr>
            <p:sp>
              <p:nvSpPr>
                <p:cNvPr id="310" name=""/>
                <p:cNvSpPr/>
                <p:nvPr/>
              </p:nvSpPr>
              <p:spPr>
                <a:xfrm flipH="1" flipV="1" rot="8941800">
                  <a:off x="4663080" y="37400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flipV="1" rot="9757200">
                  <a:off x="4638600" y="36964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flipV="1" rot="10053000">
                  <a:off x="4632120" y="366804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 rot="10585200">
                  <a:off x="4624200" y="36338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584600" y="3539520"/>
                <a:ext cx="169560" cy="423000"/>
                <a:chOff x="4584600" y="3539520"/>
                <a:chExt cx="169560" cy="423000"/>
              </a:xfrm>
            </p:grpSpPr>
            <p:sp>
              <p:nvSpPr>
                <p:cNvPr id="315" name=""/>
                <p:cNvSpPr/>
                <p:nvPr/>
              </p:nvSpPr>
              <p:spPr>
                <a:xfrm flipH="1" flipV="1" rot="10294800">
                  <a:off x="4626360" y="36558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11110200">
                  <a:off x="4621320" y="36057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11406000">
                  <a:off x="4626720" y="35773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 rot="11938200">
                  <a:off x="4631400" y="35431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 flipH="1" rot="1129200">
              <a:off x="4572360" y="3432600"/>
              <a:ext cx="646560" cy="67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761720" y="350964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7253280" y="1922400"/>
            <a:ext cx="1509840" cy="366840"/>
          </a:xfrm>
          <a:noFill/>
          <a:ln w="9360">
            <a:solidFill>
              <a:srgbClr val="85a3d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3878280"/>
            <a:ext cx="150984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1523880"/>
            <a:ext cx="1593720" cy="435240"/>
          </a:xfrm>
          <a:noFill/>
          <a:ln w="9360">
            <a:solidFill>
              <a:srgbClr val="da7f7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1040" y="4030560"/>
            <a:ext cx="1594080" cy="435240"/>
          </a:xfrm>
          <a:noFill/>
          <a:ln w="9360">
            <a:solidFill>
              <a:srgbClr val="ac8cd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5337000"/>
            <a:ext cx="1509840" cy="392400"/>
          </a:xfrm>
          <a:noFill/>
          <a:ln w="9360">
            <a:solidFill>
              <a:srgbClr val="d87aa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76640" y="541332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30760" y="562932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413160" y="2755080"/>
            <a:ext cx="2262240" cy="181764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280980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da7f70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79640" y="2104920"/>
            <a:ext cx="338004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92600" y="2125800"/>
            <a:ext cx="3340080" cy="46008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00040" y="4871880"/>
            <a:ext cx="6294600" cy="1452600"/>
          </a:xfrm>
          <a:prstGeom prst="ellipse">
            <a:avLst/>
          </a:prstGeom>
          <a:solidFill>
            <a:srgbClr val="d87aa5">
              <a:alpha val="3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2124720" y="2437560"/>
            <a:ext cx="86544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6147720" y="248328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94040" y="213840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1767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28960" y="271296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33640" y="257184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85904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da7f70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99400" y="27986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ac8cd0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04080" y="186696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ac8cd0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32600" y="20541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32600" y="29844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5120" y="20638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5120" y="30034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31880" y="5205240"/>
            <a:ext cx="58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151000" y="261612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25320" y="2690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25320" y="32479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5320" y="3772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532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4819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320" y="536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52800" y="2730600"/>
            <a:ext cx="968400" cy="274680"/>
          </a:xfrm>
          <a:prstGeom prst="rect">
            <a:avLst/>
          </a:prstGeom>
          <a:gradFill rotWithShape="0">
            <a:gsLst>
              <a:gs pos="0">
                <a:srgbClr val="ccb9e1"/>
              </a:gs>
              <a:gs pos="100000">
                <a:srgbClr val="ac8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52800" y="3290760"/>
            <a:ext cx="849240" cy="274680"/>
          </a:xfrm>
          <a:prstGeom prst="rect">
            <a:avLst/>
          </a:prstGeom>
          <a:gradFill rotWithShape="0">
            <a:gsLst>
              <a:gs pos="0">
                <a:srgbClr val="b5c7e4"/>
              </a:gs>
              <a:gs pos="100000">
                <a:srgbClr val="85a3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52800" y="3833640"/>
            <a:ext cx="419040" cy="274680"/>
          </a:xfrm>
          <a:prstGeom prst="rect">
            <a:avLst/>
          </a:prstGeom>
          <a:gradFill rotWithShape="0">
            <a:gsLst>
              <a:gs pos="0">
                <a:srgbClr val="e6aec8"/>
              </a:gs>
              <a:gs pos="100000">
                <a:srgbClr val="d87a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52800" y="4336920"/>
            <a:ext cx="1315800" cy="274680"/>
          </a:xfrm>
          <a:prstGeom prst="rect">
            <a:avLst/>
          </a:prstGeom>
          <a:gradFill rotWithShape="0">
            <a:gsLst>
              <a:gs pos="0">
                <a:srgbClr val="e7b1a8"/>
              </a:gs>
              <a:gs pos="100000">
                <a:srgbClr val="da7f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52800" y="4890960"/>
            <a:ext cx="3573360" cy="274680"/>
          </a:xfrm>
          <a:prstGeom prst="rect">
            <a:avLst/>
          </a:prstGeom>
          <a:gradFill rotWithShape="0">
            <a:gsLst>
              <a:gs pos="0">
                <a:srgbClr val="a2a2fe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52800" y="5424480"/>
            <a:ext cx="4725720" cy="274680"/>
          </a:xfrm>
          <a:prstGeom prst="rect">
            <a:avLst/>
          </a:prstGeom>
          <a:gradFill rotWithShape="0">
            <a:gsLst>
              <a:gs pos="0">
                <a:srgbClr val="9c73a3"/>
              </a:gs>
              <a:gs pos="100000">
                <a:srgbClr val="5c17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50920" y="58672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65560" y="2720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556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92440" y="3816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98920" y="4330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37400" y="487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78600" y="5413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1581120"/>
            <a:ext cx="74674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51240" y="33764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70400" y="33116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69640" y="33764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089080" y="2178000"/>
            <a:ext cx="1361520" cy="1321560"/>
            <a:chOff x="2089080" y="2178000"/>
            <a:chExt cx="1361520" cy="1321560"/>
          </a:xfrm>
        </p:grpSpPr>
        <p:sp>
          <p:nvSpPr>
            <p:cNvPr id="374" name=""/>
            <p:cNvSpPr/>
            <p:nvPr/>
          </p:nvSpPr>
          <p:spPr>
            <a:xfrm>
              <a:off x="2089080" y="2178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96547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74760" y="2263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bdd2"/>
                </a:gs>
                <a:gs pos="50000">
                  <a:srgbClr val="d87aa5">
                    <a:alpha val="0"/>
                  </a:srgbClr>
                </a:gs>
                <a:gs pos="100000">
                  <a:srgbClr val="ebbd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315160" y="25588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868560" y="2178000"/>
            <a:ext cx="1361520" cy="1321560"/>
            <a:chOff x="3868560" y="2178000"/>
            <a:chExt cx="1361520" cy="1321560"/>
          </a:xfrm>
        </p:grpSpPr>
        <p:sp>
          <p:nvSpPr>
            <p:cNvPr id="378" name=""/>
            <p:cNvSpPr/>
            <p:nvPr/>
          </p:nvSpPr>
          <p:spPr>
            <a:xfrm>
              <a:off x="3868560" y="2178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8cd0"/>
                </a:gs>
                <a:gs pos="100000">
                  <a:srgbClr val="77619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54240" y="2263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5c6e7"/>
                </a:gs>
                <a:gs pos="50000">
                  <a:srgbClr val="ac8cd0">
                    <a:alpha val="0"/>
                  </a:srgbClr>
                </a:gs>
                <a:gs pos="100000">
                  <a:srgbClr val="d5c6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656320" y="2187720"/>
            <a:ext cx="1361160" cy="1321560"/>
            <a:chOff x="5656320" y="2187720"/>
            <a:chExt cx="1361160" cy="1321560"/>
          </a:xfrm>
        </p:grpSpPr>
        <p:sp>
          <p:nvSpPr>
            <p:cNvPr id="381" name=""/>
            <p:cNvSpPr/>
            <p:nvPr/>
          </p:nvSpPr>
          <p:spPr>
            <a:xfrm>
              <a:off x="5656320" y="2187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a7f70"/>
                </a:gs>
                <a:gs pos="100000">
                  <a:srgbClr val="97584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2000" y="2273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c0b8"/>
                </a:gs>
                <a:gs pos="50000">
                  <a:srgbClr val="da7f70">
                    <a:alpha val="0"/>
                  </a:srgbClr>
                </a:gs>
                <a:gs pos="100000">
                  <a:srgbClr val="ecc0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4050360" y="25588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8000" y="256860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1362240"/>
            <a:ext cx="74678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38080" y="4692600"/>
            <a:ext cx="7021440" cy="1936800"/>
            <a:chOff x="838080" y="4692600"/>
            <a:chExt cx="7021440" cy="1936800"/>
          </a:xfrm>
        </p:grpSpPr>
        <p:sp>
          <p:nvSpPr>
            <p:cNvPr id="387" name=""/>
            <p:cNvSpPr/>
            <p:nvPr/>
          </p:nvSpPr>
          <p:spPr>
            <a:xfrm>
              <a:off x="2311200" y="5006880"/>
              <a:ext cx="5548320" cy="124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3d5"/>
                </a:gs>
                <a:gs pos="50000">
                  <a:srgbClr val="cad7ec"/>
                </a:gs>
                <a:gs pos="100000">
                  <a:srgbClr val="85a3d5"/>
                </a:gs>
              </a:gsLst>
              <a:lin ang="5400000"/>
            </a:gra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30320" y="514836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838080" y="46926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145880" y="534204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054080" y="228132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7180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971800" y="4092480"/>
            <a:ext cx="1553760" cy="1633680"/>
            <a:chOff x="2971800" y="4092480"/>
            <a:chExt cx="1553760" cy="1633680"/>
          </a:xfrm>
        </p:grpSpPr>
        <p:grpSp>
          <p:nvGrpSpPr>
            <p:cNvPr id="394" name=""/>
            <p:cNvGrpSpPr/>
            <p:nvPr/>
          </p:nvGrpSpPr>
          <p:grpSpPr>
            <a:xfrm>
              <a:off x="2971800" y="5021280"/>
              <a:ext cx="1553760" cy="704880"/>
              <a:chOff x="2971800" y="5021280"/>
              <a:chExt cx="1553760" cy="704880"/>
            </a:xfrm>
          </p:grpSpPr>
          <p:sp>
            <p:nvSpPr>
              <p:cNvPr id="395" name=""/>
              <p:cNvSpPr/>
              <p:nvPr/>
            </p:nvSpPr>
            <p:spPr>
              <a:xfrm>
                <a:off x="297180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377b1"/>
                  </a:gs>
                  <a:gs pos="100000">
                    <a:srgbClr val="ac8cd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2880" y="50223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dba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2971800" y="4827600"/>
              <a:ext cx="1550520" cy="153720"/>
              <a:chOff x="2971800" y="4827600"/>
              <a:chExt cx="1550520" cy="153720"/>
            </a:xfrm>
          </p:grpSpPr>
          <p:sp>
            <p:nvSpPr>
              <p:cNvPr id="398" name=""/>
              <p:cNvSpPr/>
              <p:nvPr/>
            </p:nvSpPr>
            <p:spPr>
              <a:xfrm>
                <a:off x="2971800" y="4827600"/>
                <a:ext cx="1549080" cy="153720"/>
              </a:xfrm>
              <a:prstGeom prst="roundRect">
                <a:avLst>
                  <a:gd name="adj" fmla="val 20588"/>
                </a:avLst>
              </a:prstGeom>
              <a:solidFill>
                <a:srgbClr val="ac8cd0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972880" y="4827600"/>
                <a:ext cx="1549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4ae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971800" y="4641840"/>
              <a:ext cx="1550520" cy="152280"/>
              <a:chOff x="2971800" y="4641840"/>
              <a:chExt cx="1550520" cy="152280"/>
            </a:xfrm>
          </p:grpSpPr>
          <p:sp>
            <p:nvSpPr>
              <p:cNvPr id="401" name=""/>
              <p:cNvSpPr/>
              <p:nvPr/>
            </p:nvSpPr>
            <p:spPr>
              <a:xfrm>
                <a:off x="2971800" y="46418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377b1"/>
                  </a:gs>
                  <a:gs pos="100000">
                    <a:srgbClr val="ac8cd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972880" y="46418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4ae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2971800" y="4456080"/>
              <a:ext cx="1550520" cy="152280"/>
              <a:chOff x="2971800" y="4456080"/>
              <a:chExt cx="1550520" cy="152280"/>
            </a:xfrm>
          </p:grpSpPr>
          <p:sp>
            <p:nvSpPr>
              <p:cNvPr id="404" name=""/>
              <p:cNvSpPr/>
              <p:nvPr/>
            </p:nvSpPr>
            <p:spPr>
              <a:xfrm>
                <a:off x="2971800" y="44560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377b1"/>
                  </a:gs>
                  <a:gs pos="100000">
                    <a:srgbClr val="ac8cd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72880" y="44560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4ae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971800" y="4278240"/>
              <a:ext cx="1550520" cy="152280"/>
              <a:chOff x="2971800" y="4278240"/>
              <a:chExt cx="1550520" cy="152280"/>
            </a:xfrm>
          </p:grpSpPr>
          <p:sp>
            <p:nvSpPr>
              <p:cNvPr id="407" name=""/>
              <p:cNvSpPr/>
              <p:nvPr/>
            </p:nvSpPr>
            <p:spPr>
              <a:xfrm>
                <a:off x="2971800" y="42782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377b1"/>
                  </a:gs>
                  <a:gs pos="100000">
                    <a:srgbClr val="ac8cd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72880" y="42782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4ae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2971800" y="4092480"/>
              <a:ext cx="1550520" cy="152280"/>
              <a:chOff x="2971800" y="4092480"/>
              <a:chExt cx="1550520" cy="152280"/>
            </a:xfrm>
          </p:grpSpPr>
          <p:sp>
            <p:nvSpPr>
              <p:cNvPr id="410" name=""/>
              <p:cNvSpPr/>
              <p:nvPr/>
            </p:nvSpPr>
            <p:spPr>
              <a:xfrm>
                <a:off x="2971800" y="40924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377b1"/>
                  </a:gs>
                  <a:gs pos="100000">
                    <a:srgbClr val="ac8cd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72880" y="40924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4ae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458316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583160" y="4454640"/>
            <a:ext cx="1553760" cy="1271520"/>
            <a:chOff x="4583160" y="4454640"/>
            <a:chExt cx="1553760" cy="1271520"/>
          </a:xfrm>
        </p:grpSpPr>
        <p:grpSp>
          <p:nvGrpSpPr>
            <p:cNvPr id="414" name=""/>
            <p:cNvGrpSpPr/>
            <p:nvPr/>
          </p:nvGrpSpPr>
          <p:grpSpPr>
            <a:xfrm>
              <a:off x="4583160" y="5021280"/>
              <a:ext cx="1553760" cy="704880"/>
              <a:chOff x="4583160" y="5021280"/>
              <a:chExt cx="1553760" cy="704880"/>
            </a:xfrm>
          </p:grpSpPr>
          <p:sp>
            <p:nvSpPr>
              <p:cNvPr id="415" name=""/>
              <p:cNvSpPr/>
              <p:nvPr/>
            </p:nvSpPr>
            <p:spPr>
              <a:xfrm>
                <a:off x="458316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718bb6"/>
                  </a:gs>
                  <a:gs pos="100000">
                    <a:srgbClr val="85a3d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84240" y="50223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85a3d5"/>
                  </a:gs>
                  <a:gs pos="100000">
                    <a:srgbClr val="b6c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583160" y="4827600"/>
              <a:ext cx="1549080" cy="154080"/>
              <a:chOff x="4583160" y="4827600"/>
              <a:chExt cx="1549080" cy="154080"/>
            </a:xfrm>
          </p:grpSpPr>
          <p:sp>
            <p:nvSpPr>
              <p:cNvPr id="418" name=""/>
              <p:cNvSpPr/>
              <p:nvPr/>
            </p:nvSpPr>
            <p:spPr>
              <a:xfrm>
                <a:off x="4583160" y="48276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84240" y="48276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5a3d5"/>
                  </a:gs>
                  <a:gs pos="100000">
                    <a:srgbClr val="a9be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583160" y="4640400"/>
              <a:ext cx="1549080" cy="154080"/>
              <a:chOff x="4583160" y="4640400"/>
              <a:chExt cx="1549080" cy="154080"/>
            </a:xfrm>
          </p:grpSpPr>
          <p:sp>
            <p:nvSpPr>
              <p:cNvPr id="421" name=""/>
              <p:cNvSpPr/>
              <p:nvPr/>
            </p:nvSpPr>
            <p:spPr>
              <a:xfrm>
                <a:off x="4583160" y="46404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84240" y="46404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5a3d5"/>
                  </a:gs>
                  <a:gs pos="100000">
                    <a:srgbClr val="a9be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583160" y="4454640"/>
              <a:ext cx="1549080" cy="154080"/>
              <a:chOff x="4583160" y="4454640"/>
              <a:chExt cx="1549080" cy="154080"/>
            </a:xfrm>
          </p:grpSpPr>
          <p:sp>
            <p:nvSpPr>
              <p:cNvPr id="424" name=""/>
              <p:cNvSpPr/>
              <p:nvPr/>
            </p:nvSpPr>
            <p:spPr>
              <a:xfrm>
                <a:off x="4583160" y="445464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84240" y="445464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5a3d5"/>
                  </a:gs>
                  <a:gs pos="100000">
                    <a:srgbClr val="a9be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6197760" y="26416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197760" y="4632480"/>
            <a:ext cx="1553760" cy="1093680"/>
            <a:chOff x="6197760" y="4632480"/>
            <a:chExt cx="1553760" cy="1093680"/>
          </a:xfrm>
        </p:grpSpPr>
        <p:grpSp>
          <p:nvGrpSpPr>
            <p:cNvPr id="428" name=""/>
            <p:cNvGrpSpPr/>
            <p:nvPr/>
          </p:nvGrpSpPr>
          <p:grpSpPr>
            <a:xfrm>
              <a:off x="6197760" y="5021280"/>
              <a:ext cx="1553760" cy="704880"/>
              <a:chOff x="6197760" y="5021280"/>
              <a:chExt cx="1553760" cy="704880"/>
            </a:xfrm>
          </p:grpSpPr>
          <p:sp>
            <p:nvSpPr>
              <p:cNvPr id="429" name=""/>
              <p:cNvSpPr/>
              <p:nvPr/>
            </p:nvSpPr>
            <p:spPr>
              <a:xfrm>
                <a:off x="619776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ba6c5f"/>
                  </a:gs>
                  <a:gs pos="100000">
                    <a:srgbClr val="da7f7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98840" y="50223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da7f70"/>
                  </a:gs>
                  <a:gs pos="100000">
                    <a:srgbClr val="e7ae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6197760" y="4827600"/>
              <a:ext cx="1549080" cy="154080"/>
              <a:chOff x="6197760" y="4827600"/>
              <a:chExt cx="1549080" cy="154080"/>
            </a:xfrm>
          </p:grpSpPr>
          <p:sp>
            <p:nvSpPr>
              <p:cNvPr id="432" name=""/>
              <p:cNvSpPr/>
              <p:nvPr/>
            </p:nvSpPr>
            <p:spPr>
              <a:xfrm>
                <a:off x="6197760" y="4827600"/>
                <a:ext cx="154764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ba6c5f"/>
                  </a:gs>
                  <a:gs pos="100000">
                    <a:srgbClr val="da7f7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98840" y="48276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7f70"/>
                  </a:gs>
                  <a:gs pos="100000">
                    <a:srgbClr val="e4a5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6197760" y="4632480"/>
              <a:ext cx="1549080" cy="154080"/>
              <a:chOff x="6197760" y="4632480"/>
              <a:chExt cx="1549080" cy="154080"/>
            </a:xfrm>
          </p:grpSpPr>
          <p:sp>
            <p:nvSpPr>
              <p:cNvPr id="435" name=""/>
              <p:cNvSpPr/>
              <p:nvPr/>
            </p:nvSpPr>
            <p:spPr>
              <a:xfrm>
                <a:off x="6197760" y="4632480"/>
                <a:ext cx="154764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ba6c5f"/>
                  </a:gs>
                  <a:gs pos="100000">
                    <a:srgbClr val="da7f7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98840" y="463248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7f70"/>
                  </a:gs>
                  <a:gs pos="100000">
                    <a:srgbClr val="e4a5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1438200"/>
            <a:ext cx="7010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5720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39800" y="2643120"/>
            <a:ext cx="98100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27162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33880" y="264492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49920" y="264492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472080" y="2644920"/>
            <a:ext cx="981360" cy="1787400"/>
          </a:xfrm>
          <a:prstGeom prst="downArrow">
            <a:avLst>
              <a:gd name="adj1" fmla="val 77269"/>
              <a:gd name="adj2" fmla="val 362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16240" y="2678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19680" y="2678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2200" y="2670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362240" y="5021280"/>
            <a:ext cx="1553760" cy="704880"/>
            <a:chOff x="1362240" y="5021280"/>
            <a:chExt cx="1553760" cy="704880"/>
          </a:xfrm>
        </p:grpSpPr>
        <p:sp>
          <p:nvSpPr>
            <p:cNvPr id="449" name=""/>
            <p:cNvSpPr/>
            <p:nvPr/>
          </p:nvSpPr>
          <p:spPr>
            <a:xfrm>
              <a:off x="1362240" y="50212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63320" y="50223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428840" y="534816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3080" y="5348160"/>
            <a:ext cx="1427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83160" y="534816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65800" y="534816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7952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99736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19520" y="503388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1828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365120" y="4827600"/>
            <a:ext cx="1550880" cy="154080"/>
            <a:chOff x="1365120" y="4827600"/>
            <a:chExt cx="1550880" cy="154080"/>
          </a:xfrm>
        </p:grpSpPr>
        <p:sp>
          <p:nvSpPr>
            <p:cNvPr id="460" name=""/>
            <p:cNvSpPr/>
            <p:nvPr/>
          </p:nvSpPr>
          <p:spPr>
            <a:xfrm>
              <a:off x="1365120" y="48276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66200" y="48276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365120" y="4641840"/>
            <a:ext cx="1550880" cy="152280"/>
            <a:chOff x="1365120" y="4641840"/>
            <a:chExt cx="1550880" cy="152280"/>
          </a:xfrm>
        </p:grpSpPr>
        <p:sp>
          <p:nvSpPr>
            <p:cNvPr id="463" name=""/>
            <p:cNvSpPr/>
            <p:nvPr/>
          </p:nvSpPr>
          <p:spPr>
            <a:xfrm>
              <a:off x="1365120" y="46418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6200" y="4641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365120" y="4454640"/>
            <a:ext cx="1550880" cy="153720"/>
            <a:chOff x="1365120" y="4454640"/>
            <a:chExt cx="1550880" cy="153720"/>
          </a:xfrm>
        </p:grpSpPr>
        <p:sp>
          <p:nvSpPr>
            <p:cNvPr id="466" name=""/>
            <p:cNvSpPr/>
            <p:nvPr/>
          </p:nvSpPr>
          <p:spPr>
            <a:xfrm>
              <a:off x="1365120" y="44546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66200" y="44546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365120" y="4267080"/>
            <a:ext cx="1550880" cy="154080"/>
            <a:chOff x="1365120" y="4267080"/>
            <a:chExt cx="1550880" cy="154080"/>
          </a:xfrm>
        </p:grpSpPr>
        <p:sp>
          <p:nvSpPr>
            <p:cNvPr id="469" name=""/>
            <p:cNvSpPr/>
            <p:nvPr/>
          </p:nvSpPr>
          <p:spPr>
            <a:xfrm>
              <a:off x="1365120" y="42670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66200" y="42670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365120" y="4084560"/>
            <a:ext cx="1550880" cy="154080"/>
            <a:chOff x="1365120" y="4084560"/>
            <a:chExt cx="1550880" cy="154080"/>
          </a:xfrm>
        </p:grpSpPr>
        <p:sp>
          <p:nvSpPr>
            <p:cNvPr id="472" name=""/>
            <p:cNvSpPr/>
            <p:nvPr/>
          </p:nvSpPr>
          <p:spPr>
            <a:xfrm>
              <a:off x="1365120" y="40845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66200" y="40845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365120" y="3897360"/>
            <a:ext cx="1550880" cy="154080"/>
            <a:chOff x="1365120" y="3897360"/>
            <a:chExt cx="1550880" cy="154080"/>
          </a:xfrm>
        </p:grpSpPr>
        <p:sp>
          <p:nvSpPr>
            <p:cNvPr id="475" name=""/>
            <p:cNvSpPr/>
            <p:nvPr/>
          </p:nvSpPr>
          <p:spPr>
            <a:xfrm>
              <a:off x="1365120" y="38973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66200" y="38973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65120" y="3710160"/>
            <a:ext cx="1550880" cy="153720"/>
            <a:chOff x="1365120" y="3710160"/>
            <a:chExt cx="1550880" cy="153720"/>
          </a:xfrm>
        </p:grpSpPr>
        <p:sp>
          <p:nvSpPr>
            <p:cNvPr id="478" name=""/>
            <p:cNvSpPr/>
            <p:nvPr/>
          </p:nvSpPr>
          <p:spPr>
            <a:xfrm>
              <a:off x="1365120" y="371016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66200" y="371016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365120" y="3524400"/>
            <a:ext cx="1550880" cy="153720"/>
            <a:chOff x="1365120" y="3524400"/>
            <a:chExt cx="1550880" cy="153720"/>
          </a:xfrm>
        </p:grpSpPr>
        <p:sp>
          <p:nvSpPr>
            <p:cNvPr id="481" name=""/>
            <p:cNvSpPr/>
            <p:nvPr/>
          </p:nvSpPr>
          <p:spPr>
            <a:xfrm>
              <a:off x="1365120" y="352440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66200" y="352440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7f7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0:51:18Z</dcterms:created>
  <dc:creator>幻灯片之家：www.eeppt.com; www.themegallery.com</dc:creator>
  <dc:description>幻灯片之家：www.eeppt.com</dc:description>
  <cp:keywords>幻灯片之家：www.eeppt.com</cp:keywords>
  <dc:language>en-US</dc:language>
  <cp:lastModifiedBy>Data_server</cp:lastModifiedBy>
  <dcterms:modified xsi:type="dcterms:W3CDTF">2015-09-18T13:19:2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