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4F2-5C08-45E8-AB4C-CC4F6AE5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DD8-3751-4711-B591-260E3C1D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9B6-5ACE-4656-A32F-4CB89EC9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3F8-A6D0-4682-A4E7-3AEC10CF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D539-199F-4681-BF0C-912E761C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9253-A43C-4A8A-A1CA-2C0E4664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525B-88EC-4EBC-805D-A5714DAA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E080-152E-4D54-A1F3-D6383298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DA78-A729-4D7A-87AE-3400FDD7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14280" y="133200"/>
            <a:ext cx="78487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ED8B-D43B-4889-9F81-8FBF54E2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BF6A-62BF-49B9-BB5D-D737E2D4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33B-A638-40CD-AA5E-FA8E48F2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1918-E89C-4D83-8CAA-B16BAD54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EAE1-A363-4078-B154-2AC9630F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56A4-BD2A-4674-AE4C-009E7859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0BB0-7841-4246-A730-F730073B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778B-3578-4A27-B161-8F5D10A8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3EE4-87CB-4521-9F5E-E1D8A778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AB1-6C5F-4A17-9894-4E2A1A2B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B53-D042-4F73-8BE7-A3FCFB64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4280" y="133200"/>
            <a:ext cx="78487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459-7E27-4462-AA22-A6B475AE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CD6-DAC9-40EE-A699-8F0E95CD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2F5-8672-4B4D-B978-28A9F54F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4280" y="11340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C28-3BF4-4C2B-A1F1-7C26863B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376360"/>
            <a:ext cx="9144000" cy="4481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19360"/>
          </a:xfrm>
          <a:prstGeom prst="rect">
            <a:avLst/>
          </a:prstGeom>
          <a:gradFill rotWithShape="0">
            <a:gsLst>
              <a:gs pos="0">
                <a:srgbClr val="2b166e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44440" y="763560"/>
            <a:ext cx="8678880" cy="5732640"/>
          </a:xfrm>
          <a:prstGeom prst="roundRect">
            <a:avLst>
              <a:gd name="adj" fmla="val 20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4280" y="133200"/>
            <a:ext cx="78487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166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05772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2b166e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2CCD-3B12-436A-A2AC-46D549BC8D51}" type="slidenum">
              <a:rPr b="0" lang="ko-KR" sz="1200" spc="-1" strike="noStrike">
                <a:solidFill>
                  <a:srgbClr val="2b166e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31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5840" y="9360"/>
            <a:ext cx="9169200" cy="3162600"/>
          </a:xfrm>
          <a:custGeom>
            <a:avLst/>
            <a:gdLst/>
            <a:ahLst/>
            <a:rect l="l" t="t" r="r" b="b"/>
            <a:pathLst>
              <a:path w="5776" h="1992">
                <a:moveTo>
                  <a:pt x="0" y="1416"/>
                </a:moveTo>
                <a:lnTo>
                  <a:pt x="172" y="1300"/>
                </a:lnTo>
                <a:lnTo>
                  <a:pt x="345" y="1309"/>
                </a:lnTo>
                <a:lnTo>
                  <a:pt x="395" y="1407"/>
                </a:lnTo>
                <a:lnTo>
                  <a:pt x="403" y="1564"/>
                </a:lnTo>
                <a:lnTo>
                  <a:pt x="296" y="1613"/>
                </a:lnTo>
                <a:lnTo>
                  <a:pt x="246" y="1605"/>
                </a:lnTo>
                <a:lnTo>
                  <a:pt x="115" y="1712"/>
                </a:lnTo>
                <a:lnTo>
                  <a:pt x="123" y="1835"/>
                </a:lnTo>
                <a:lnTo>
                  <a:pt x="41" y="1868"/>
                </a:lnTo>
                <a:lnTo>
                  <a:pt x="16" y="1992"/>
                </a:lnTo>
                <a:lnTo>
                  <a:pt x="189" y="1909"/>
                </a:lnTo>
                <a:lnTo>
                  <a:pt x="699" y="1827"/>
                </a:lnTo>
                <a:lnTo>
                  <a:pt x="872" y="1885"/>
                </a:lnTo>
                <a:lnTo>
                  <a:pt x="1472" y="1909"/>
                </a:lnTo>
                <a:lnTo>
                  <a:pt x="2304" y="1671"/>
                </a:lnTo>
                <a:lnTo>
                  <a:pt x="2805" y="1366"/>
                </a:lnTo>
                <a:lnTo>
                  <a:pt x="3126" y="1235"/>
                </a:lnTo>
                <a:lnTo>
                  <a:pt x="3233" y="1309"/>
                </a:lnTo>
                <a:lnTo>
                  <a:pt x="3316" y="1235"/>
                </a:lnTo>
                <a:lnTo>
                  <a:pt x="3431" y="1259"/>
                </a:lnTo>
                <a:lnTo>
                  <a:pt x="3563" y="1144"/>
                </a:lnTo>
                <a:lnTo>
                  <a:pt x="3587" y="1053"/>
                </a:lnTo>
                <a:lnTo>
                  <a:pt x="3653" y="1021"/>
                </a:lnTo>
                <a:lnTo>
                  <a:pt x="3818" y="1045"/>
                </a:lnTo>
                <a:lnTo>
                  <a:pt x="3785" y="1128"/>
                </a:lnTo>
                <a:lnTo>
                  <a:pt x="3826" y="1169"/>
                </a:lnTo>
                <a:lnTo>
                  <a:pt x="3982" y="1160"/>
                </a:lnTo>
                <a:lnTo>
                  <a:pt x="4040" y="1210"/>
                </a:lnTo>
                <a:lnTo>
                  <a:pt x="4237" y="1235"/>
                </a:lnTo>
                <a:lnTo>
                  <a:pt x="4492" y="1144"/>
                </a:lnTo>
                <a:lnTo>
                  <a:pt x="4599" y="1004"/>
                </a:lnTo>
                <a:lnTo>
                  <a:pt x="4706" y="1037"/>
                </a:lnTo>
                <a:lnTo>
                  <a:pt x="4871" y="922"/>
                </a:lnTo>
                <a:lnTo>
                  <a:pt x="4937" y="774"/>
                </a:lnTo>
                <a:lnTo>
                  <a:pt x="5093" y="716"/>
                </a:lnTo>
                <a:lnTo>
                  <a:pt x="5225" y="552"/>
                </a:lnTo>
                <a:lnTo>
                  <a:pt x="5472" y="494"/>
                </a:lnTo>
                <a:lnTo>
                  <a:pt x="5595" y="338"/>
                </a:lnTo>
                <a:lnTo>
                  <a:pt x="5776" y="288"/>
                </a:lnTo>
                <a:lnTo>
                  <a:pt x="5776" y="0"/>
                </a:lnTo>
                <a:lnTo>
                  <a:pt x="0" y="0"/>
                </a:lnTo>
                <a:lnTo>
                  <a:pt x="0" y="141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646800">
            <a:off x="1042920" y="1441080"/>
            <a:ext cx="3489480" cy="4929120"/>
          </a:xfrm>
          <a:custGeom>
            <a:avLst/>
            <a:gdLst/>
            <a:ahLst/>
            <a:rect l="l" t="t" r="r" b="b"/>
            <a:pathLst>
              <a:path w="2238" h="3162">
                <a:moveTo>
                  <a:pt x="2238" y="258"/>
                </a:moveTo>
                <a:lnTo>
                  <a:pt x="2238" y="210"/>
                </a:lnTo>
                <a:lnTo>
                  <a:pt x="2184" y="132"/>
                </a:lnTo>
                <a:lnTo>
                  <a:pt x="2118" y="132"/>
                </a:lnTo>
                <a:lnTo>
                  <a:pt x="2076" y="66"/>
                </a:lnTo>
                <a:lnTo>
                  <a:pt x="2076" y="30"/>
                </a:lnTo>
                <a:lnTo>
                  <a:pt x="2016" y="6"/>
                </a:lnTo>
                <a:lnTo>
                  <a:pt x="1938" y="0"/>
                </a:lnTo>
                <a:lnTo>
                  <a:pt x="1896" y="78"/>
                </a:lnTo>
                <a:lnTo>
                  <a:pt x="1890" y="204"/>
                </a:lnTo>
                <a:lnTo>
                  <a:pt x="1836" y="222"/>
                </a:lnTo>
                <a:lnTo>
                  <a:pt x="1782" y="186"/>
                </a:lnTo>
                <a:lnTo>
                  <a:pt x="1710" y="246"/>
                </a:lnTo>
                <a:lnTo>
                  <a:pt x="1710" y="300"/>
                </a:lnTo>
                <a:lnTo>
                  <a:pt x="1668" y="306"/>
                </a:lnTo>
                <a:lnTo>
                  <a:pt x="1614" y="336"/>
                </a:lnTo>
                <a:lnTo>
                  <a:pt x="1500" y="366"/>
                </a:lnTo>
                <a:lnTo>
                  <a:pt x="1386" y="348"/>
                </a:lnTo>
                <a:lnTo>
                  <a:pt x="1326" y="378"/>
                </a:lnTo>
                <a:lnTo>
                  <a:pt x="1344" y="468"/>
                </a:lnTo>
                <a:lnTo>
                  <a:pt x="1410" y="522"/>
                </a:lnTo>
                <a:lnTo>
                  <a:pt x="1374" y="576"/>
                </a:lnTo>
                <a:lnTo>
                  <a:pt x="1308" y="588"/>
                </a:lnTo>
                <a:lnTo>
                  <a:pt x="1278" y="552"/>
                </a:lnTo>
                <a:lnTo>
                  <a:pt x="1218" y="582"/>
                </a:lnTo>
                <a:lnTo>
                  <a:pt x="1050" y="570"/>
                </a:lnTo>
                <a:lnTo>
                  <a:pt x="954" y="546"/>
                </a:lnTo>
                <a:lnTo>
                  <a:pt x="1008" y="528"/>
                </a:lnTo>
                <a:lnTo>
                  <a:pt x="966" y="474"/>
                </a:lnTo>
                <a:lnTo>
                  <a:pt x="918" y="450"/>
                </a:lnTo>
                <a:lnTo>
                  <a:pt x="822" y="486"/>
                </a:lnTo>
                <a:lnTo>
                  <a:pt x="786" y="528"/>
                </a:lnTo>
                <a:lnTo>
                  <a:pt x="786" y="642"/>
                </a:lnTo>
                <a:lnTo>
                  <a:pt x="738" y="618"/>
                </a:lnTo>
                <a:lnTo>
                  <a:pt x="678" y="714"/>
                </a:lnTo>
                <a:lnTo>
                  <a:pt x="366" y="876"/>
                </a:lnTo>
                <a:lnTo>
                  <a:pt x="222" y="966"/>
                </a:lnTo>
                <a:lnTo>
                  <a:pt x="162" y="942"/>
                </a:lnTo>
                <a:lnTo>
                  <a:pt x="66" y="1026"/>
                </a:lnTo>
                <a:lnTo>
                  <a:pt x="66" y="1074"/>
                </a:lnTo>
                <a:lnTo>
                  <a:pt x="0" y="1158"/>
                </a:lnTo>
                <a:lnTo>
                  <a:pt x="18" y="1194"/>
                </a:lnTo>
                <a:lnTo>
                  <a:pt x="78" y="1176"/>
                </a:lnTo>
                <a:lnTo>
                  <a:pt x="102" y="1230"/>
                </a:lnTo>
                <a:lnTo>
                  <a:pt x="126" y="1278"/>
                </a:lnTo>
                <a:lnTo>
                  <a:pt x="168" y="1218"/>
                </a:lnTo>
                <a:lnTo>
                  <a:pt x="336" y="1278"/>
                </a:lnTo>
                <a:lnTo>
                  <a:pt x="384" y="1278"/>
                </a:lnTo>
                <a:lnTo>
                  <a:pt x="384" y="1332"/>
                </a:lnTo>
                <a:lnTo>
                  <a:pt x="396" y="1386"/>
                </a:lnTo>
                <a:lnTo>
                  <a:pt x="336" y="1482"/>
                </a:lnTo>
                <a:lnTo>
                  <a:pt x="306" y="1554"/>
                </a:lnTo>
                <a:lnTo>
                  <a:pt x="354" y="1608"/>
                </a:lnTo>
                <a:lnTo>
                  <a:pt x="252" y="1656"/>
                </a:lnTo>
                <a:lnTo>
                  <a:pt x="216" y="1734"/>
                </a:lnTo>
                <a:lnTo>
                  <a:pt x="222" y="1788"/>
                </a:lnTo>
                <a:lnTo>
                  <a:pt x="150" y="1776"/>
                </a:lnTo>
                <a:lnTo>
                  <a:pt x="168" y="1830"/>
                </a:lnTo>
                <a:lnTo>
                  <a:pt x="276" y="1806"/>
                </a:lnTo>
                <a:lnTo>
                  <a:pt x="354" y="1830"/>
                </a:lnTo>
                <a:lnTo>
                  <a:pt x="264" y="1866"/>
                </a:lnTo>
                <a:lnTo>
                  <a:pt x="312" y="1902"/>
                </a:lnTo>
                <a:lnTo>
                  <a:pt x="366" y="1878"/>
                </a:lnTo>
                <a:lnTo>
                  <a:pt x="420" y="1872"/>
                </a:lnTo>
                <a:lnTo>
                  <a:pt x="384" y="1926"/>
                </a:lnTo>
                <a:lnTo>
                  <a:pt x="426" y="1956"/>
                </a:lnTo>
                <a:lnTo>
                  <a:pt x="468" y="1920"/>
                </a:lnTo>
                <a:lnTo>
                  <a:pt x="504" y="1866"/>
                </a:lnTo>
                <a:lnTo>
                  <a:pt x="456" y="1830"/>
                </a:lnTo>
                <a:lnTo>
                  <a:pt x="516" y="1830"/>
                </a:lnTo>
                <a:lnTo>
                  <a:pt x="594" y="1878"/>
                </a:lnTo>
                <a:lnTo>
                  <a:pt x="642" y="1884"/>
                </a:lnTo>
                <a:lnTo>
                  <a:pt x="672" y="1914"/>
                </a:lnTo>
                <a:lnTo>
                  <a:pt x="774" y="1854"/>
                </a:lnTo>
                <a:lnTo>
                  <a:pt x="804" y="1890"/>
                </a:lnTo>
                <a:lnTo>
                  <a:pt x="888" y="1890"/>
                </a:lnTo>
                <a:lnTo>
                  <a:pt x="906" y="1938"/>
                </a:lnTo>
                <a:lnTo>
                  <a:pt x="852" y="1920"/>
                </a:lnTo>
                <a:lnTo>
                  <a:pt x="846" y="1962"/>
                </a:lnTo>
                <a:lnTo>
                  <a:pt x="894" y="1980"/>
                </a:lnTo>
                <a:lnTo>
                  <a:pt x="924" y="2016"/>
                </a:lnTo>
                <a:lnTo>
                  <a:pt x="876" y="1998"/>
                </a:lnTo>
                <a:lnTo>
                  <a:pt x="918" y="2082"/>
                </a:lnTo>
                <a:lnTo>
                  <a:pt x="900" y="2142"/>
                </a:lnTo>
                <a:lnTo>
                  <a:pt x="948" y="2142"/>
                </a:lnTo>
                <a:lnTo>
                  <a:pt x="924" y="2178"/>
                </a:lnTo>
                <a:lnTo>
                  <a:pt x="972" y="2184"/>
                </a:lnTo>
                <a:lnTo>
                  <a:pt x="996" y="2244"/>
                </a:lnTo>
                <a:lnTo>
                  <a:pt x="954" y="2250"/>
                </a:lnTo>
                <a:lnTo>
                  <a:pt x="924" y="2202"/>
                </a:lnTo>
                <a:lnTo>
                  <a:pt x="846" y="2202"/>
                </a:lnTo>
                <a:lnTo>
                  <a:pt x="732" y="2250"/>
                </a:lnTo>
                <a:lnTo>
                  <a:pt x="690" y="2280"/>
                </a:lnTo>
                <a:lnTo>
                  <a:pt x="756" y="2340"/>
                </a:lnTo>
                <a:lnTo>
                  <a:pt x="822" y="2280"/>
                </a:lnTo>
                <a:lnTo>
                  <a:pt x="846" y="2334"/>
                </a:lnTo>
                <a:lnTo>
                  <a:pt x="822" y="2370"/>
                </a:lnTo>
                <a:lnTo>
                  <a:pt x="852" y="2394"/>
                </a:lnTo>
                <a:lnTo>
                  <a:pt x="846" y="2448"/>
                </a:lnTo>
                <a:lnTo>
                  <a:pt x="858" y="2508"/>
                </a:lnTo>
                <a:lnTo>
                  <a:pt x="894" y="2574"/>
                </a:lnTo>
                <a:lnTo>
                  <a:pt x="936" y="2604"/>
                </a:lnTo>
                <a:lnTo>
                  <a:pt x="942" y="2652"/>
                </a:lnTo>
                <a:lnTo>
                  <a:pt x="900" y="2640"/>
                </a:lnTo>
                <a:lnTo>
                  <a:pt x="834" y="2706"/>
                </a:lnTo>
                <a:lnTo>
                  <a:pt x="888" y="2718"/>
                </a:lnTo>
                <a:lnTo>
                  <a:pt x="792" y="2778"/>
                </a:lnTo>
                <a:lnTo>
                  <a:pt x="774" y="2844"/>
                </a:lnTo>
                <a:lnTo>
                  <a:pt x="828" y="2904"/>
                </a:lnTo>
                <a:lnTo>
                  <a:pt x="816" y="3000"/>
                </a:lnTo>
                <a:lnTo>
                  <a:pt x="906" y="3024"/>
                </a:lnTo>
                <a:lnTo>
                  <a:pt x="882" y="3060"/>
                </a:lnTo>
                <a:lnTo>
                  <a:pt x="834" y="3048"/>
                </a:lnTo>
                <a:lnTo>
                  <a:pt x="804" y="3096"/>
                </a:lnTo>
                <a:lnTo>
                  <a:pt x="768" y="3042"/>
                </a:lnTo>
                <a:lnTo>
                  <a:pt x="750" y="3096"/>
                </a:lnTo>
                <a:lnTo>
                  <a:pt x="762" y="3138"/>
                </a:lnTo>
                <a:lnTo>
                  <a:pt x="852" y="3096"/>
                </a:lnTo>
                <a:lnTo>
                  <a:pt x="864" y="3162"/>
                </a:lnTo>
                <a:lnTo>
                  <a:pt x="912" y="3150"/>
                </a:lnTo>
                <a:lnTo>
                  <a:pt x="948" y="3066"/>
                </a:lnTo>
                <a:lnTo>
                  <a:pt x="984" y="3096"/>
                </a:lnTo>
                <a:lnTo>
                  <a:pt x="1038" y="3096"/>
                </a:lnTo>
                <a:lnTo>
                  <a:pt x="1056" y="3024"/>
                </a:lnTo>
                <a:lnTo>
                  <a:pt x="1158" y="3000"/>
                </a:lnTo>
                <a:lnTo>
                  <a:pt x="1152" y="3060"/>
                </a:lnTo>
                <a:lnTo>
                  <a:pt x="1092" y="3096"/>
                </a:lnTo>
                <a:lnTo>
                  <a:pt x="1176" y="3096"/>
                </a:lnTo>
                <a:lnTo>
                  <a:pt x="1236" y="3030"/>
                </a:lnTo>
                <a:lnTo>
                  <a:pt x="1218" y="2964"/>
                </a:lnTo>
                <a:lnTo>
                  <a:pt x="1284" y="2958"/>
                </a:lnTo>
                <a:lnTo>
                  <a:pt x="1272" y="3006"/>
                </a:lnTo>
                <a:lnTo>
                  <a:pt x="1338" y="2994"/>
                </a:lnTo>
                <a:lnTo>
                  <a:pt x="1356" y="2940"/>
                </a:lnTo>
                <a:lnTo>
                  <a:pt x="1308" y="2928"/>
                </a:lnTo>
                <a:lnTo>
                  <a:pt x="1446" y="2904"/>
                </a:lnTo>
                <a:lnTo>
                  <a:pt x="1464" y="2958"/>
                </a:lnTo>
                <a:lnTo>
                  <a:pt x="1554" y="2916"/>
                </a:lnTo>
                <a:lnTo>
                  <a:pt x="1584" y="2952"/>
                </a:lnTo>
                <a:lnTo>
                  <a:pt x="1644" y="2934"/>
                </a:lnTo>
                <a:lnTo>
                  <a:pt x="1614" y="2886"/>
                </a:lnTo>
                <a:lnTo>
                  <a:pt x="1662" y="2838"/>
                </a:lnTo>
                <a:lnTo>
                  <a:pt x="1800" y="2826"/>
                </a:lnTo>
                <a:lnTo>
                  <a:pt x="1818" y="2874"/>
                </a:lnTo>
                <a:lnTo>
                  <a:pt x="1890" y="2832"/>
                </a:lnTo>
                <a:lnTo>
                  <a:pt x="1962" y="2748"/>
                </a:lnTo>
                <a:lnTo>
                  <a:pt x="1944" y="2688"/>
                </a:lnTo>
                <a:lnTo>
                  <a:pt x="1986" y="2688"/>
                </a:lnTo>
                <a:lnTo>
                  <a:pt x="1986" y="2610"/>
                </a:lnTo>
                <a:lnTo>
                  <a:pt x="2028" y="2562"/>
                </a:lnTo>
                <a:lnTo>
                  <a:pt x="2016" y="2496"/>
                </a:lnTo>
                <a:lnTo>
                  <a:pt x="1968" y="2514"/>
                </a:lnTo>
                <a:lnTo>
                  <a:pt x="1962" y="2466"/>
                </a:lnTo>
                <a:lnTo>
                  <a:pt x="1950" y="2274"/>
                </a:lnTo>
                <a:lnTo>
                  <a:pt x="1974" y="2172"/>
                </a:lnTo>
                <a:lnTo>
                  <a:pt x="1968" y="2130"/>
                </a:lnTo>
                <a:lnTo>
                  <a:pt x="1914" y="2100"/>
                </a:lnTo>
                <a:lnTo>
                  <a:pt x="1860" y="2016"/>
                </a:lnTo>
                <a:lnTo>
                  <a:pt x="1650" y="1788"/>
                </a:lnTo>
                <a:lnTo>
                  <a:pt x="1554" y="1632"/>
                </a:lnTo>
                <a:lnTo>
                  <a:pt x="1458" y="1536"/>
                </a:lnTo>
                <a:lnTo>
                  <a:pt x="1404" y="1536"/>
                </a:lnTo>
                <a:lnTo>
                  <a:pt x="1266" y="1428"/>
                </a:lnTo>
                <a:lnTo>
                  <a:pt x="1134" y="1404"/>
                </a:lnTo>
                <a:lnTo>
                  <a:pt x="1110" y="1314"/>
                </a:lnTo>
                <a:lnTo>
                  <a:pt x="1164" y="1332"/>
                </a:lnTo>
                <a:lnTo>
                  <a:pt x="1182" y="1248"/>
                </a:lnTo>
                <a:lnTo>
                  <a:pt x="1164" y="1176"/>
                </a:lnTo>
                <a:lnTo>
                  <a:pt x="1254" y="1158"/>
                </a:lnTo>
                <a:lnTo>
                  <a:pt x="1308" y="1098"/>
                </a:lnTo>
                <a:lnTo>
                  <a:pt x="1428" y="1074"/>
                </a:lnTo>
                <a:lnTo>
                  <a:pt x="1596" y="1008"/>
                </a:lnTo>
                <a:lnTo>
                  <a:pt x="1602" y="948"/>
                </a:lnTo>
                <a:lnTo>
                  <a:pt x="1716" y="888"/>
                </a:lnTo>
                <a:lnTo>
                  <a:pt x="1782" y="804"/>
                </a:lnTo>
                <a:lnTo>
                  <a:pt x="1878" y="786"/>
                </a:lnTo>
                <a:lnTo>
                  <a:pt x="1938" y="762"/>
                </a:lnTo>
                <a:lnTo>
                  <a:pt x="1968" y="648"/>
                </a:lnTo>
                <a:lnTo>
                  <a:pt x="1944" y="558"/>
                </a:lnTo>
                <a:lnTo>
                  <a:pt x="1884" y="522"/>
                </a:lnTo>
                <a:lnTo>
                  <a:pt x="1950" y="450"/>
                </a:lnTo>
                <a:lnTo>
                  <a:pt x="1956" y="402"/>
                </a:lnTo>
                <a:lnTo>
                  <a:pt x="2022" y="372"/>
                </a:lnTo>
                <a:lnTo>
                  <a:pt x="2106" y="282"/>
                </a:lnTo>
                <a:lnTo>
                  <a:pt x="2118" y="246"/>
                </a:lnTo>
                <a:lnTo>
                  <a:pt x="2172" y="222"/>
                </a:lnTo>
                <a:lnTo>
                  <a:pt x="2238" y="258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50000">
                <a:srgbClr val="005e00"/>
              </a:gs>
              <a:gs pos="100000">
                <a:srgbClr val="00cc00"/>
              </a:gs>
            </a:gsLst>
            <a:lin ang="47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b166e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b166e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b166e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b166e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b166e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0A5D-12FA-4F66-8BF9-D1AB184C4D65}" type="slidenum">
              <a:rPr b="0" lang="ko-KR" sz="1400" spc="-1" strike="noStrike">
                <a:solidFill>
                  <a:srgbClr val="2b166e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1160" y="-14400"/>
            <a:ext cx="9169560" cy="3162240"/>
          </a:xfrm>
          <a:custGeom>
            <a:avLst/>
            <a:gdLst/>
            <a:ahLst/>
            <a:rect l="l" t="t" r="r" b="b"/>
            <a:pathLst>
              <a:path w="5776" h="1992">
                <a:moveTo>
                  <a:pt x="0" y="1416"/>
                </a:moveTo>
                <a:lnTo>
                  <a:pt x="172" y="1300"/>
                </a:lnTo>
                <a:lnTo>
                  <a:pt x="345" y="1309"/>
                </a:lnTo>
                <a:lnTo>
                  <a:pt x="395" y="1407"/>
                </a:lnTo>
                <a:lnTo>
                  <a:pt x="403" y="1564"/>
                </a:lnTo>
                <a:lnTo>
                  <a:pt x="296" y="1613"/>
                </a:lnTo>
                <a:lnTo>
                  <a:pt x="246" y="1605"/>
                </a:lnTo>
                <a:lnTo>
                  <a:pt x="115" y="1712"/>
                </a:lnTo>
                <a:lnTo>
                  <a:pt x="123" y="1835"/>
                </a:lnTo>
                <a:lnTo>
                  <a:pt x="41" y="1868"/>
                </a:lnTo>
                <a:lnTo>
                  <a:pt x="16" y="1992"/>
                </a:lnTo>
                <a:lnTo>
                  <a:pt x="189" y="1909"/>
                </a:lnTo>
                <a:lnTo>
                  <a:pt x="699" y="1827"/>
                </a:lnTo>
                <a:lnTo>
                  <a:pt x="872" y="1885"/>
                </a:lnTo>
                <a:lnTo>
                  <a:pt x="1472" y="1909"/>
                </a:lnTo>
                <a:lnTo>
                  <a:pt x="2304" y="1671"/>
                </a:lnTo>
                <a:lnTo>
                  <a:pt x="2805" y="1366"/>
                </a:lnTo>
                <a:lnTo>
                  <a:pt x="3126" y="1235"/>
                </a:lnTo>
                <a:lnTo>
                  <a:pt x="3233" y="1309"/>
                </a:lnTo>
                <a:lnTo>
                  <a:pt x="3316" y="1235"/>
                </a:lnTo>
                <a:lnTo>
                  <a:pt x="3431" y="1259"/>
                </a:lnTo>
                <a:lnTo>
                  <a:pt x="3563" y="1144"/>
                </a:lnTo>
                <a:lnTo>
                  <a:pt x="3587" y="1053"/>
                </a:lnTo>
                <a:lnTo>
                  <a:pt x="3653" y="1021"/>
                </a:lnTo>
                <a:lnTo>
                  <a:pt x="3818" y="1045"/>
                </a:lnTo>
                <a:lnTo>
                  <a:pt x="3785" y="1128"/>
                </a:lnTo>
                <a:lnTo>
                  <a:pt x="3826" y="1169"/>
                </a:lnTo>
                <a:lnTo>
                  <a:pt x="3982" y="1160"/>
                </a:lnTo>
                <a:lnTo>
                  <a:pt x="4040" y="1210"/>
                </a:lnTo>
                <a:lnTo>
                  <a:pt x="4237" y="1235"/>
                </a:lnTo>
                <a:lnTo>
                  <a:pt x="4492" y="1144"/>
                </a:lnTo>
                <a:lnTo>
                  <a:pt x="4599" y="1004"/>
                </a:lnTo>
                <a:lnTo>
                  <a:pt x="4706" y="1037"/>
                </a:lnTo>
                <a:lnTo>
                  <a:pt x="4871" y="922"/>
                </a:lnTo>
                <a:lnTo>
                  <a:pt x="4937" y="774"/>
                </a:lnTo>
                <a:lnTo>
                  <a:pt x="5093" y="716"/>
                </a:lnTo>
                <a:lnTo>
                  <a:pt x="5225" y="552"/>
                </a:lnTo>
                <a:lnTo>
                  <a:pt x="5472" y="494"/>
                </a:lnTo>
                <a:lnTo>
                  <a:pt x="5595" y="338"/>
                </a:lnTo>
                <a:lnTo>
                  <a:pt x="5776" y="288"/>
                </a:lnTo>
                <a:lnTo>
                  <a:pt x="5776" y="0"/>
                </a:lnTo>
                <a:lnTo>
                  <a:pt x="0" y="0"/>
                </a:lnTo>
                <a:lnTo>
                  <a:pt x="0" y="1416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00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646800">
            <a:off x="1004760" y="1417320"/>
            <a:ext cx="3489480" cy="4929120"/>
          </a:xfrm>
          <a:custGeom>
            <a:avLst/>
            <a:gdLst/>
            <a:ahLst/>
            <a:rect l="l" t="t" r="r" b="b"/>
            <a:pathLst>
              <a:path w="2238" h="3162">
                <a:moveTo>
                  <a:pt x="2238" y="258"/>
                </a:moveTo>
                <a:lnTo>
                  <a:pt x="2238" y="210"/>
                </a:lnTo>
                <a:lnTo>
                  <a:pt x="2184" y="132"/>
                </a:lnTo>
                <a:lnTo>
                  <a:pt x="2118" y="132"/>
                </a:lnTo>
                <a:lnTo>
                  <a:pt x="2076" y="66"/>
                </a:lnTo>
                <a:lnTo>
                  <a:pt x="2076" y="30"/>
                </a:lnTo>
                <a:lnTo>
                  <a:pt x="2016" y="6"/>
                </a:lnTo>
                <a:lnTo>
                  <a:pt x="1938" y="0"/>
                </a:lnTo>
                <a:lnTo>
                  <a:pt x="1896" y="78"/>
                </a:lnTo>
                <a:lnTo>
                  <a:pt x="1890" y="204"/>
                </a:lnTo>
                <a:lnTo>
                  <a:pt x="1836" y="222"/>
                </a:lnTo>
                <a:lnTo>
                  <a:pt x="1782" y="186"/>
                </a:lnTo>
                <a:lnTo>
                  <a:pt x="1710" y="246"/>
                </a:lnTo>
                <a:lnTo>
                  <a:pt x="1710" y="300"/>
                </a:lnTo>
                <a:lnTo>
                  <a:pt x="1668" y="306"/>
                </a:lnTo>
                <a:lnTo>
                  <a:pt x="1614" y="336"/>
                </a:lnTo>
                <a:lnTo>
                  <a:pt x="1500" y="366"/>
                </a:lnTo>
                <a:lnTo>
                  <a:pt x="1386" y="348"/>
                </a:lnTo>
                <a:lnTo>
                  <a:pt x="1326" y="378"/>
                </a:lnTo>
                <a:lnTo>
                  <a:pt x="1344" y="468"/>
                </a:lnTo>
                <a:lnTo>
                  <a:pt x="1410" y="522"/>
                </a:lnTo>
                <a:lnTo>
                  <a:pt x="1374" y="576"/>
                </a:lnTo>
                <a:lnTo>
                  <a:pt x="1308" y="588"/>
                </a:lnTo>
                <a:lnTo>
                  <a:pt x="1278" y="552"/>
                </a:lnTo>
                <a:lnTo>
                  <a:pt x="1218" y="582"/>
                </a:lnTo>
                <a:lnTo>
                  <a:pt x="1050" y="570"/>
                </a:lnTo>
                <a:lnTo>
                  <a:pt x="954" y="546"/>
                </a:lnTo>
                <a:lnTo>
                  <a:pt x="1008" y="528"/>
                </a:lnTo>
                <a:lnTo>
                  <a:pt x="966" y="474"/>
                </a:lnTo>
                <a:lnTo>
                  <a:pt x="918" y="450"/>
                </a:lnTo>
                <a:lnTo>
                  <a:pt x="822" y="486"/>
                </a:lnTo>
                <a:lnTo>
                  <a:pt x="786" y="528"/>
                </a:lnTo>
                <a:lnTo>
                  <a:pt x="786" y="642"/>
                </a:lnTo>
                <a:lnTo>
                  <a:pt x="738" y="618"/>
                </a:lnTo>
                <a:lnTo>
                  <a:pt x="678" y="714"/>
                </a:lnTo>
                <a:lnTo>
                  <a:pt x="366" y="876"/>
                </a:lnTo>
                <a:lnTo>
                  <a:pt x="222" y="966"/>
                </a:lnTo>
                <a:lnTo>
                  <a:pt x="162" y="942"/>
                </a:lnTo>
                <a:lnTo>
                  <a:pt x="66" y="1026"/>
                </a:lnTo>
                <a:lnTo>
                  <a:pt x="66" y="1074"/>
                </a:lnTo>
                <a:lnTo>
                  <a:pt x="0" y="1158"/>
                </a:lnTo>
                <a:lnTo>
                  <a:pt x="18" y="1194"/>
                </a:lnTo>
                <a:lnTo>
                  <a:pt x="78" y="1176"/>
                </a:lnTo>
                <a:lnTo>
                  <a:pt x="102" y="1230"/>
                </a:lnTo>
                <a:lnTo>
                  <a:pt x="126" y="1278"/>
                </a:lnTo>
                <a:lnTo>
                  <a:pt x="168" y="1218"/>
                </a:lnTo>
                <a:lnTo>
                  <a:pt x="336" y="1278"/>
                </a:lnTo>
                <a:lnTo>
                  <a:pt x="384" y="1278"/>
                </a:lnTo>
                <a:lnTo>
                  <a:pt x="384" y="1332"/>
                </a:lnTo>
                <a:lnTo>
                  <a:pt x="396" y="1386"/>
                </a:lnTo>
                <a:lnTo>
                  <a:pt x="336" y="1482"/>
                </a:lnTo>
                <a:lnTo>
                  <a:pt x="306" y="1554"/>
                </a:lnTo>
                <a:lnTo>
                  <a:pt x="354" y="1608"/>
                </a:lnTo>
                <a:lnTo>
                  <a:pt x="252" y="1656"/>
                </a:lnTo>
                <a:lnTo>
                  <a:pt x="216" y="1734"/>
                </a:lnTo>
                <a:lnTo>
                  <a:pt x="222" y="1788"/>
                </a:lnTo>
                <a:lnTo>
                  <a:pt x="150" y="1776"/>
                </a:lnTo>
                <a:lnTo>
                  <a:pt x="168" y="1830"/>
                </a:lnTo>
                <a:lnTo>
                  <a:pt x="276" y="1806"/>
                </a:lnTo>
                <a:lnTo>
                  <a:pt x="354" y="1830"/>
                </a:lnTo>
                <a:lnTo>
                  <a:pt x="264" y="1866"/>
                </a:lnTo>
                <a:lnTo>
                  <a:pt x="312" y="1902"/>
                </a:lnTo>
                <a:lnTo>
                  <a:pt x="366" y="1878"/>
                </a:lnTo>
                <a:lnTo>
                  <a:pt x="420" y="1872"/>
                </a:lnTo>
                <a:lnTo>
                  <a:pt x="384" y="1926"/>
                </a:lnTo>
                <a:lnTo>
                  <a:pt x="426" y="1956"/>
                </a:lnTo>
                <a:lnTo>
                  <a:pt x="468" y="1920"/>
                </a:lnTo>
                <a:lnTo>
                  <a:pt x="504" y="1866"/>
                </a:lnTo>
                <a:lnTo>
                  <a:pt x="456" y="1830"/>
                </a:lnTo>
                <a:lnTo>
                  <a:pt x="516" y="1830"/>
                </a:lnTo>
                <a:lnTo>
                  <a:pt x="594" y="1878"/>
                </a:lnTo>
                <a:lnTo>
                  <a:pt x="642" y="1884"/>
                </a:lnTo>
                <a:lnTo>
                  <a:pt x="672" y="1914"/>
                </a:lnTo>
                <a:lnTo>
                  <a:pt x="774" y="1854"/>
                </a:lnTo>
                <a:lnTo>
                  <a:pt x="804" y="1890"/>
                </a:lnTo>
                <a:lnTo>
                  <a:pt x="888" y="1890"/>
                </a:lnTo>
                <a:lnTo>
                  <a:pt x="906" y="1938"/>
                </a:lnTo>
                <a:lnTo>
                  <a:pt x="852" y="1920"/>
                </a:lnTo>
                <a:lnTo>
                  <a:pt x="846" y="1962"/>
                </a:lnTo>
                <a:lnTo>
                  <a:pt x="894" y="1980"/>
                </a:lnTo>
                <a:lnTo>
                  <a:pt x="924" y="2016"/>
                </a:lnTo>
                <a:lnTo>
                  <a:pt x="876" y="1998"/>
                </a:lnTo>
                <a:lnTo>
                  <a:pt x="918" y="2082"/>
                </a:lnTo>
                <a:lnTo>
                  <a:pt x="900" y="2142"/>
                </a:lnTo>
                <a:lnTo>
                  <a:pt x="948" y="2142"/>
                </a:lnTo>
                <a:lnTo>
                  <a:pt x="924" y="2178"/>
                </a:lnTo>
                <a:lnTo>
                  <a:pt x="972" y="2184"/>
                </a:lnTo>
                <a:lnTo>
                  <a:pt x="996" y="2244"/>
                </a:lnTo>
                <a:lnTo>
                  <a:pt x="954" y="2250"/>
                </a:lnTo>
                <a:lnTo>
                  <a:pt x="924" y="2202"/>
                </a:lnTo>
                <a:lnTo>
                  <a:pt x="846" y="2202"/>
                </a:lnTo>
                <a:lnTo>
                  <a:pt x="732" y="2250"/>
                </a:lnTo>
                <a:lnTo>
                  <a:pt x="690" y="2280"/>
                </a:lnTo>
                <a:lnTo>
                  <a:pt x="756" y="2340"/>
                </a:lnTo>
                <a:lnTo>
                  <a:pt x="822" y="2280"/>
                </a:lnTo>
                <a:lnTo>
                  <a:pt x="846" y="2334"/>
                </a:lnTo>
                <a:lnTo>
                  <a:pt x="822" y="2370"/>
                </a:lnTo>
                <a:lnTo>
                  <a:pt x="852" y="2394"/>
                </a:lnTo>
                <a:lnTo>
                  <a:pt x="846" y="2448"/>
                </a:lnTo>
                <a:lnTo>
                  <a:pt x="858" y="2508"/>
                </a:lnTo>
                <a:lnTo>
                  <a:pt x="894" y="2574"/>
                </a:lnTo>
                <a:lnTo>
                  <a:pt x="936" y="2604"/>
                </a:lnTo>
                <a:lnTo>
                  <a:pt x="942" y="2652"/>
                </a:lnTo>
                <a:lnTo>
                  <a:pt x="900" y="2640"/>
                </a:lnTo>
                <a:lnTo>
                  <a:pt x="834" y="2706"/>
                </a:lnTo>
                <a:lnTo>
                  <a:pt x="888" y="2718"/>
                </a:lnTo>
                <a:lnTo>
                  <a:pt x="792" y="2778"/>
                </a:lnTo>
                <a:lnTo>
                  <a:pt x="774" y="2844"/>
                </a:lnTo>
                <a:lnTo>
                  <a:pt x="828" y="2904"/>
                </a:lnTo>
                <a:lnTo>
                  <a:pt x="816" y="3000"/>
                </a:lnTo>
                <a:lnTo>
                  <a:pt x="906" y="3024"/>
                </a:lnTo>
                <a:lnTo>
                  <a:pt x="882" y="3060"/>
                </a:lnTo>
                <a:lnTo>
                  <a:pt x="834" y="3048"/>
                </a:lnTo>
                <a:lnTo>
                  <a:pt x="804" y="3096"/>
                </a:lnTo>
                <a:lnTo>
                  <a:pt x="768" y="3042"/>
                </a:lnTo>
                <a:lnTo>
                  <a:pt x="750" y="3096"/>
                </a:lnTo>
                <a:lnTo>
                  <a:pt x="762" y="3138"/>
                </a:lnTo>
                <a:lnTo>
                  <a:pt x="852" y="3096"/>
                </a:lnTo>
                <a:lnTo>
                  <a:pt x="864" y="3162"/>
                </a:lnTo>
                <a:lnTo>
                  <a:pt x="912" y="3150"/>
                </a:lnTo>
                <a:lnTo>
                  <a:pt x="948" y="3066"/>
                </a:lnTo>
                <a:lnTo>
                  <a:pt x="984" y="3096"/>
                </a:lnTo>
                <a:lnTo>
                  <a:pt x="1038" y="3096"/>
                </a:lnTo>
                <a:lnTo>
                  <a:pt x="1056" y="3024"/>
                </a:lnTo>
                <a:lnTo>
                  <a:pt x="1158" y="3000"/>
                </a:lnTo>
                <a:lnTo>
                  <a:pt x="1152" y="3060"/>
                </a:lnTo>
                <a:lnTo>
                  <a:pt x="1092" y="3096"/>
                </a:lnTo>
                <a:lnTo>
                  <a:pt x="1176" y="3096"/>
                </a:lnTo>
                <a:lnTo>
                  <a:pt x="1236" y="3030"/>
                </a:lnTo>
                <a:lnTo>
                  <a:pt x="1218" y="2964"/>
                </a:lnTo>
                <a:lnTo>
                  <a:pt x="1284" y="2958"/>
                </a:lnTo>
                <a:lnTo>
                  <a:pt x="1272" y="3006"/>
                </a:lnTo>
                <a:lnTo>
                  <a:pt x="1338" y="2994"/>
                </a:lnTo>
                <a:lnTo>
                  <a:pt x="1356" y="2940"/>
                </a:lnTo>
                <a:lnTo>
                  <a:pt x="1308" y="2928"/>
                </a:lnTo>
                <a:lnTo>
                  <a:pt x="1446" y="2904"/>
                </a:lnTo>
                <a:lnTo>
                  <a:pt x="1464" y="2958"/>
                </a:lnTo>
                <a:lnTo>
                  <a:pt x="1554" y="2916"/>
                </a:lnTo>
                <a:lnTo>
                  <a:pt x="1584" y="2952"/>
                </a:lnTo>
                <a:lnTo>
                  <a:pt x="1644" y="2934"/>
                </a:lnTo>
                <a:lnTo>
                  <a:pt x="1614" y="2886"/>
                </a:lnTo>
                <a:lnTo>
                  <a:pt x="1662" y="2838"/>
                </a:lnTo>
                <a:lnTo>
                  <a:pt x="1800" y="2826"/>
                </a:lnTo>
                <a:lnTo>
                  <a:pt x="1818" y="2874"/>
                </a:lnTo>
                <a:lnTo>
                  <a:pt x="1890" y="2832"/>
                </a:lnTo>
                <a:lnTo>
                  <a:pt x="1962" y="2748"/>
                </a:lnTo>
                <a:lnTo>
                  <a:pt x="1944" y="2688"/>
                </a:lnTo>
                <a:lnTo>
                  <a:pt x="1986" y="2688"/>
                </a:lnTo>
                <a:lnTo>
                  <a:pt x="1986" y="2610"/>
                </a:lnTo>
                <a:lnTo>
                  <a:pt x="2028" y="2562"/>
                </a:lnTo>
                <a:lnTo>
                  <a:pt x="2016" y="2496"/>
                </a:lnTo>
                <a:lnTo>
                  <a:pt x="1968" y="2514"/>
                </a:lnTo>
                <a:lnTo>
                  <a:pt x="1962" y="2466"/>
                </a:lnTo>
                <a:lnTo>
                  <a:pt x="1950" y="2274"/>
                </a:lnTo>
                <a:lnTo>
                  <a:pt x="1974" y="2172"/>
                </a:lnTo>
                <a:lnTo>
                  <a:pt x="1968" y="2130"/>
                </a:lnTo>
                <a:lnTo>
                  <a:pt x="1914" y="2100"/>
                </a:lnTo>
                <a:lnTo>
                  <a:pt x="1860" y="2016"/>
                </a:lnTo>
                <a:lnTo>
                  <a:pt x="1650" y="1788"/>
                </a:lnTo>
                <a:lnTo>
                  <a:pt x="1554" y="1632"/>
                </a:lnTo>
                <a:lnTo>
                  <a:pt x="1458" y="1536"/>
                </a:lnTo>
                <a:lnTo>
                  <a:pt x="1404" y="1536"/>
                </a:lnTo>
                <a:lnTo>
                  <a:pt x="1266" y="1428"/>
                </a:lnTo>
                <a:lnTo>
                  <a:pt x="1134" y="1404"/>
                </a:lnTo>
                <a:lnTo>
                  <a:pt x="1110" y="1314"/>
                </a:lnTo>
                <a:lnTo>
                  <a:pt x="1164" y="1332"/>
                </a:lnTo>
                <a:lnTo>
                  <a:pt x="1182" y="1248"/>
                </a:lnTo>
                <a:lnTo>
                  <a:pt x="1164" y="1176"/>
                </a:lnTo>
                <a:lnTo>
                  <a:pt x="1254" y="1158"/>
                </a:lnTo>
                <a:lnTo>
                  <a:pt x="1308" y="1098"/>
                </a:lnTo>
                <a:lnTo>
                  <a:pt x="1428" y="1074"/>
                </a:lnTo>
                <a:lnTo>
                  <a:pt x="1596" y="1008"/>
                </a:lnTo>
                <a:lnTo>
                  <a:pt x="1602" y="948"/>
                </a:lnTo>
                <a:lnTo>
                  <a:pt x="1716" y="888"/>
                </a:lnTo>
                <a:lnTo>
                  <a:pt x="1782" y="804"/>
                </a:lnTo>
                <a:lnTo>
                  <a:pt x="1878" y="786"/>
                </a:lnTo>
                <a:lnTo>
                  <a:pt x="1938" y="762"/>
                </a:lnTo>
                <a:lnTo>
                  <a:pt x="1968" y="648"/>
                </a:lnTo>
                <a:lnTo>
                  <a:pt x="1944" y="558"/>
                </a:lnTo>
                <a:lnTo>
                  <a:pt x="1884" y="522"/>
                </a:lnTo>
                <a:lnTo>
                  <a:pt x="1950" y="450"/>
                </a:lnTo>
                <a:lnTo>
                  <a:pt x="1956" y="402"/>
                </a:lnTo>
                <a:lnTo>
                  <a:pt x="2022" y="372"/>
                </a:lnTo>
                <a:lnTo>
                  <a:pt x="2106" y="282"/>
                </a:lnTo>
                <a:lnTo>
                  <a:pt x="2118" y="246"/>
                </a:lnTo>
                <a:lnTo>
                  <a:pt x="2172" y="222"/>
                </a:lnTo>
                <a:lnTo>
                  <a:pt x="2238" y="258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50000">
                <a:srgbClr val="00cc00"/>
              </a:gs>
              <a:gs pos="100000">
                <a:srgbClr val="005e00"/>
              </a:gs>
            </a:gsLst>
            <a:lin ang="47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646800">
            <a:off x="2178000" y="3683160"/>
            <a:ext cx="1384200" cy="904680"/>
          </a:xfrm>
          <a:custGeom>
            <a:avLst/>
            <a:gdLst/>
            <a:ahLst/>
            <a:rect l="l" t="t" r="r" b="b"/>
            <a:pathLst>
              <a:path w="888" h="580">
                <a:moveTo>
                  <a:pt x="0" y="580"/>
                </a:moveTo>
                <a:cubicBezTo>
                  <a:pt x="58" y="511"/>
                  <a:pt x="116" y="442"/>
                  <a:pt x="164" y="390"/>
                </a:cubicBezTo>
                <a:cubicBezTo>
                  <a:pt x="212" y="338"/>
                  <a:pt x="241" y="294"/>
                  <a:pt x="288" y="267"/>
                </a:cubicBezTo>
                <a:cubicBezTo>
                  <a:pt x="335" y="240"/>
                  <a:pt x="400" y="238"/>
                  <a:pt x="444" y="226"/>
                </a:cubicBezTo>
                <a:cubicBezTo>
                  <a:pt x="488" y="214"/>
                  <a:pt x="517" y="205"/>
                  <a:pt x="551" y="193"/>
                </a:cubicBezTo>
                <a:cubicBezTo>
                  <a:pt x="585" y="181"/>
                  <a:pt x="594" y="182"/>
                  <a:pt x="650" y="152"/>
                </a:cubicBezTo>
                <a:cubicBezTo>
                  <a:pt x="706" y="122"/>
                  <a:pt x="839" y="0"/>
                  <a:pt x="888" y="12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64120" y="1371600"/>
            <a:ext cx="2913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166e"/>
                </a:solidFill>
                <a:latin typeface="Verdana"/>
              </a:rPr>
              <a:t>Vladivostok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54440" y="461880"/>
            <a:ext cx="1763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166e"/>
                </a:solidFill>
                <a:latin typeface="Verdana"/>
              </a:rPr>
              <a:t>Harbin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9760" y="104760"/>
            <a:ext cx="3332160" cy="1749600"/>
          </a:xfrm>
          <a:custGeom>
            <a:avLst/>
            <a:gdLst/>
            <a:ahLst/>
            <a:rect l="l" t="t" r="r" b="b"/>
            <a:pathLst>
              <a:path w="2099" h="1102">
                <a:moveTo>
                  <a:pt x="0" y="1102"/>
                </a:moveTo>
                <a:cubicBezTo>
                  <a:pt x="20" y="1073"/>
                  <a:pt x="34" y="1073"/>
                  <a:pt x="66" y="1061"/>
                </a:cubicBezTo>
                <a:cubicBezTo>
                  <a:pt x="89" y="1039"/>
                  <a:pt x="109" y="1036"/>
                  <a:pt x="140" y="1028"/>
                </a:cubicBezTo>
                <a:cubicBezTo>
                  <a:pt x="205" y="1033"/>
                  <a:pt x="289" y="1053"/>
                  <a:pt x="354" y="1037"/>
                </a:cubicBezTo>
                <a:cubicBezTo>
                  <a:pt x="392" y="998"/>
                  <a:pt x="427" y="977"/>
                  <a:pt x="478" y="954"/>
                </a:cubicBezTo>
                <a:cubicBezTo>
                  <a:pt x="494" y="947"/>
                  <a:pt x="527" y="938"/>
                  <a:pt x="527" y="938"/>
                </a:cubicBezTo>
                <a:cubicBezTo>
                  <a:pt x="545" y="919"/>
                  <a:pt x="569" y="909"/>
                  <a:pt x="585" y="889"/>
                </a:cubicBezTo>
                <a:cubicBezTo>
                  <a:pt x="632" y="830"/>
                  <a:pt x="572" y="893"/>
                  <a:pt x="618" y="847"/>
                </a:cubicBezTo>
                <a:cubicBezTo>
                  <a:pt x="627" y="820"/>
                  <a:pt x="659" y="773"/>
                  <a:pt x="659" y="773"/>
                </a:cubicBezTo>
                <a:cubicBezTo>
                  <a:pt x="661" y="768"/>
                  <a:pt x="692" y="707"/>
                  <a:pt x="692" y="707"/>
                </a:cubicBezTo>
                <a:cubicBezTo>
                  <a:pt x="722" y="687"/>
                  <a:pt x="763" y="695"/>
                  <a:pt x="799" y="691"/>
                </a:cubicBezTo>
                <a:cubicBezTo>
                  <a:pt x="845" y="676"/>
                  <a:pt x="891" y="662"/>
                  <a:pt x="938" y="650"/>
                </a:cubicBezTo>
                <a:cubicBezTo>
                  <a:pt x="995" y="612"/>
                  <a:pt x="969" y="623"/>
                  <a:pt x="1012" y="609"/>
                </a:cubicBezTo>
                <a:cubicBezTo>
                  <a:pt x="1057" y="672"/>
                  <a:pt x="995" y="592"/>
                  <a:pt x="1062" y="650"/>
                </a:cubicBezTo>
                <a:cubicBezTo>
                  <a:pt x="1083" y="668"/>
                  <a:pt x="1070" y="679"/>
                  <a:pt x="1095" y="691"/>
                </a:cubicBezTo>
                <a:cubicBezTo>
                  <a:pt x="1143" y="714"/>
                  <a:pt x="1189" y="711"/>
                  <a:pt x="1243" y="716"/>
                </a:cubicBezTo>
                <a:cubicBezTo>
                  <a:pt x="1272" y="725"/>
                  <a:pt x="1295" y="727"/>
                  <a:pt x="1317" y="749"/>
                </a:cubicBezTo>
                <a:cubicBezTo>
                  <a:pt x="1327" y="717"/>
                  <a:pt x="1338" y="710"/>
                  <a:pt x="1366" y="691"/>
                </a:cubicBezTo>
                <a:cubicBezTo>
                  <a:pt x="1389" y="658"/>
                  <a:pt x="1419" y="635"/>
                  <a:pt x="1449" y="609"/>
                </a:cubicBezTo>
                <a:cubicBezTo>
                  <a:pt x="1509" y="557"/>
                  <a:pt x="1466" y="577"/>
                  <a:pt x="1514" y="559"/>
                </a:cubicBezTo>
                <a:cubicBezTo>
                  <a:pt x="1552" y="523"/>
                  <a:pt x="1621" y="525"/>
                  <a:pt x="1671" y="518"/>
                </a:cubicBezTo>
                <a:cubicBezTo>
                  <a:pt x="1726" y="481"/>
                  <a:pt x="1691" y="439"/>
                  <a:pt x="1720" y="395"/>
                </a:cubicBezTo>
                <a:cubicBezTo>
                  <a:pt x="1746" y="355"/>
                  <a:pt x="1752" y="357"/>
                  <a:pt x="1786" y="345"/>
                </a:cubicBezTo>
                <a:cubicBezTo>
                  <a:pt x="1801" y="301"/>
                  <a:pt x="1809" y="324"/>
                  <a:pt x="1844" y="304"/>
                </a:cubicBezTo>
                <a:cubicBezTo>
                  <a:pt x="1881" y="283"/>
                  <a:pt x="1905" y="260"/>
                  <a:pt x="1934" y="230"/>
                </a:cubicBezTo>
                <a:cubicBezTo>
                  <a:pt x="1957" y="161"/>
                  <a:pt x="1924" y="247"/>
                  <a:pt x="1959" y="189"/>
                </a:cubicBezTo>
                <a:cubicBezTo>
                  <a:pt x="1963" y="181"/>
                  <a:pt x="1963" y="172"/>
                  <a:pt x="1967" y="164"/>
                </a:cubicBezTo>
                <a:cubicBezTo>
                  <a:pt x="1982" y="137"/>
                  <a:pt x="2003" y="104"/>
                  <a:pt x="2025" y="82"/>
                </a:cubicBezTo>
                <a:cubicBezTo>
                  <a:pt x="2035" y="52"/>
                  <a:pt x="2062" y="0"/>
                  <a:pt x="2099" y="0"/>
                </a:cubicBezTo>
              </a:path>
            </a:pathLst>
          </a:custGeom>
          <a:noFill/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41920" y="1465200"/>
            <a:ext cx="209520" cy="2095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9120" y="534960"/>
            <a:ext cx="209520" cy="2095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71520" y="6446880"/>
            <a:ext cx="453960" cy="222120"/>
          </a:xfrm>
          <a:custGeom>
            <a:avLst/>
            <a:gdLst/>
            <a:ahLst/>
            <a:rect l="l" t="t" r="r" b="b"/>
            <a:pathLst>
              <a:path w="252" h="123">
                <a:moveTo>
                  <a:pt x="0" y="96"/>
                </a:moveTo>
                <a:lnTo>
                  <a:pt x="9" y="63"/>
                </a:lnTo>
                <a:lnTo>
                  <a:pt x="27" y="54"/>
                </a:lnTo>
                <a:lnTo>
                  <a:pt x="78" y="18"/>
                </a:lnTo>
                <a:lnTo>
                  <a:pt x="201" y="0"/>
                </a:lnTo>
                <a:lnTo>
                  <a:pt x="225" y="15"/>
                </a:lnTo>
                <a:lnTo>
                  <a:pt x="249" y="15"/>
                </a:lnTo>
                <a:lnTo>
                  <a:pt x="252" y="36"/>
                </a:lnTo>
                <a:lnTo>
                  <a:pt x="231" y="78"/>
                </a:lnTo>
                <a:lnTo>
                  <a:pt x="159" y="102"/>
                </a:lnTo>
                <a:lnTo>
                  <a:pt x="129" y="120"/>
                </a:lnTo>
                <a:lnTo>
                  <a:pt x="54" y="102"/>
                </a:lnTo>
                <a:lnTo>
                  <a:pt x="42" y="123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50000">
                <a:srgbClr val="005e00"/>
              </a:gs>
              <a:gs pos="100000">
                <a:srgbClr val="00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0" y="5181480"/>
            <a:ext cx="9144000" cy="1676520"/>
          </a:xfrm>
          <a:custGeom>
            <a:avLst/>
            <a:gdLst/>
            <a:ahLst/>
            <a:rect l="l" t="t" r="r" b="b"/>
            <a:pathLst>
              <a:path w="5760" h="1388">
                <a:moveTo>
                  <a:pt x="5760" y="0"/>
                </a:moveTo>
                <a:lnTo>
                  <a:pt x="5760" y="1388"/>
                </a:lnTo>
                <a:lnTo>
                  <a:pt x="0" y="1388"/>
                </a:lnTo>
                <a:lnTo>
                  <a:pt x="0" y="960"/>
                </a:lnTo>
                <a:cubicBezTo>
                  <a:pt x="0" y="960"/>
                  <a:pt x="462" y="1161"/>
                  <a:pt x="916" y="1231"/>
                </a:cubicBezTo>
                <a:cubicBezTo>
                  <a:pt x="1370" y="1301"/>
                  <a:pt x="1823" y="1299"/>
                  <a:pt x="2313" y="1249"/>
                </a:cubicBezTo>
                <a:cubicBezTo>
                  <a:pt x="2803" y="1199"/>
                  <a:pt x="3387" y="1080"/>
                  <a:pt x="3857" y="933"/>
                </a:cubicBezTo>
                <a:cubicBezTo>
                  <a:pt x="4494" y="717"/>
                  <a:pt x="4867" y="488"/>
                  <a:pt x="5132" y="370"/>
                </a:cubicBez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440" y="5645160"/>
            <a:ext cx="9150120" cy="1212840"/>
          </a:xfrm>
          <a:custGeom>
            <a:avLst/>
            <a:gdLst/>
            <a:ahLst/>
            <a:rect l="l" t="t" r="r" b="b"/>
            <a:pathLst>
              <a:path w="5764" h="764">
                <a:moveTo>
                  <a:pt x="5764" y="0"/>
                </a:moveTo>
                <a:lnTo>
                  <a:pt x="5764" y="764"/>
                </a:lnTo>
                <a:lnTo>
                  <a:pt x="1" y="764"/>
                </a:lnTo>
                <a:lnTo>
                  <a:pt x="0" y="576"/>
                </a:lnTo>
                <a:lnTo>
                  <a:pt x="563" y="650"/>
                </a:lnTo>
                <a:cubicBezTo>
                  <a:pt x="1174" y="694"/>
                  <a:pt x="1488" y="739"/>
                  <a:pt x="2037" y="716"/>
                </a:cubicBezTo>
                <a:cubicBezTo>
                  <a:pt x="2586" y="693"/>
                  <a:pt x="3344" y="598"/>
                  <a:pt x="3860" y="513"/>
                </a:cubicBezTo>
                <a:cubicBezTo>
                  <a:pt x="4497" y="395"/>
                  <a:pt x="4871" y="268"/>
                  <a:pt x="5136" y="204"/>
                </a:cubicBez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08480" y="62229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2760" y="4465800"/>
            <a:ext cx="12589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eoul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8400" y="6427800"/>
            <a:ext cx="453960" cy="222120"/>
          </a:xfrm>
          <a:custGeom>
            <a:avLst/>
            <a:gdLst/>
            <a:ahLst/>
            <a:rect l="l" t="t" r="r" b="b"/>
            <a:pathLst>
              <a:path w="252" h="123">
                <a:moveTo>
                  <a:pt x="0" y="96"/>
                </a:moveTo>
                <a:lnTo>
                  <a:pt x="9" y="63"/>
                </a:lnTo>
                <a:lnTo>
                  <a:pt x="27" y="54"/>
                </a:lnTo>
                <a:lnTo>
                  <a:pt x="78" y="18"/>
                </a:lnTo>
                <a:lnTo>
                  <a:pt x="201" y="0"/>
                </a:lnTo>
                <a:lnTo>
                  <a:pt x="225" y="15"/>
                </a:lnTo>
                <a:lnTo>
                  <a:pt x="249" y="15"/>
                </a:lnTo>
                <a:lnTo>
                  <a:pt x="252" y="36"/>
                </a:lnTo>
                <a:lnTo>
                  <a:pt x="231" y="78"/>
                </a:lnTo>
                <a:lnTo>
                  <a:pt x="159" y="102"/>
                </a:lnTo>
                <a:lnTo>
                  <a:pt x="129" y="120"/>
                </a:lnTo>
                <a:lnTo>
                  <a:pt x="54" y="102"/>
                </a:lnTo>
                <a:lnTo>
                  <a:pt x="42" y="123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50000">
                <a:srgbClr val="00cc00"/>
              </a:gs>
              <a:gs pos="100000">
                <a:srgbClr val="00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33440" y="3983040"/>
            <a:ext cx="1135080" cy="74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801880" y="2354400"/>
            <a:ext cx="2076480" cy="1681200"/>
          </a:xfrm>
          <a:custGeom>
            <a:avLst/>
            <a:gdLst/>
            <a:ahLst/>
            <a:rect l="l" t="t" r="r" b="b"/>
            <a:pathLst>
              <a:path w="223" h="410">
                <a:moveTo>
                  <a:pt x="0" y="410"/>
                </a:moveTo>
                <a:cubicBezTo>
                  <a:pt x="20" y="295"/>
                  <a:pt x="40" y="180"/>
                  <a:pt x="66" y="114"/>
                </a:cubicBezTo>
                <a:cubicBezTo>
                  <a:pt x="92" y="48"/>
                  <a:pt x="131" y="22"/>
                  <a:pt x="157" y="15"/>
                </a:cubicBezTo>
                <a:cubicBezTo>
                  <a:pt x="183" y="8"/>
                  <a:pt x="197" y="0"/>
                  <a:pt x="223" y="73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4720" y="3976560"/>
            <a:ext cx="1609560" cy="1065240"/>
          </a:xfrm>
          <a:custGeom>
            <a:avLst/>
            <a:gdLst/>
            <a:ahLst/>
            <a:rect l="l" t="t" r="r" b="b"/>
            <a:pathLst>
              <a:path w="230" h="180">
                <a:moveTo>
                  <a:pt x="230" y="40"/>
                </a:moveTo>
                <a:cubicBezTo>
                  <a:pt x="191" y="20"/>
                  <a:pt x="153" y="0"/>
                  <a:pt x="115" y="23"/>
                </a:cubicBezTo>
                <a:cubicBezTo>
                  <a:pt x="77" y="46"/>
                  <a:pt x="16" y="100"/>
                  <a:pt x="0" y="18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5120" y="3621240"/>
            <a:ext cx="4243320" cy="1414440"/>
          </a:xfrm>
          <a:custGeom>
            <a:avLst/>
            <a:gdLst/>
            <a:ahLst/>
            <a:rect l="l" t="t" r="r" b="b"/>
            <a:pathLst>
              <a:path w="312" h="364">
                <a:moveTo>
                  <a:pt x="0" y="141"/>
                </a:moveTo>
                <a:cubicBezTo>
                  <a:pt x="34" y="88"/>
                  <a:pt x="69" y="36"/>
                  <a:pt x="106" y="18"/>
                </a:cubicBezTo>
                <a:cubicBezTo>
                  <a:pt x="143" y="0"/>
                  <a:pt x="193" y="11"/>
                  <a:pt x="222" y="34"/>
                </a:cubicBezTo>
                <a:cubicBezTo>
                  <a:pt x="251" y="57"/>
                  <a:pt x="264" y="103"/>
                  <a:pt x="279" y="158"/>
                </a:cubicBezTo>
                <a:cubicBezTo>
                  <a:pt x="294" y="213"/>
                  <a:pt x="311" y="228"/>
                  <a:pt x="312" y="364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7280" y="4237200"/>
            <a:ext cx="2070000" cy="2100240"/>
          </a:xfrm>
          <a:custGeom>
            <a:avLst/>
            <a:gdLst/>
            <a:ahLst/>
            <a:rect l="l" t="t" r="r" b="b"/>
            <a:pathLst>
              <a:path w="581" h="1613">
                <a:moveTo>
                  <a:pt x="0" y="0"/>
                </a:moveTo>
                <a:cubicBezTo>
                  <a:pt x="79" y="20"/>
                  <a:pt x="158" y="41"/>
                  <a:pt x="222" y="116"/>
                </a:cubicBezTo>
                <a:cubicBezTo>
                  <a:pt x="286" y="191"/>
                  <a:pt x="343" y="316"/>
                  <a:pt x="387" y="453"/>
                </a:cubicBezTo>
                <a:cubicBezTo>
                  <a:pt x="431" y="590"/>
                  <a:pt x="459" y="745"/>
                  <a:pt x="486" y="938"/>
                </a:cubicBezTo>
                <a:cubicBezTo>
                  <a:pt x="513" y="1131"/>
                  <a:pt x="581" y="1443"/>
                  <a:pt x="552" y="1613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880" y="3309840"/>
            <a:ext cx="2028960" cy="827280"/>
          </a:xfrm>
          <a:custGeom>
            <a:avLst/>
            <a:gdLst/>
            <a:ahLst/>
            <a:rect l="l" t="t" r="r" b="b"/>
            <a:pathLst>
              <a:path w="148" h="154">
                <a:moveTo>
                  <a:pt x="148" y="154"/>
                </a:moveTo>
                <a:cubicBezTo>
                  <a:pt x="135" y="91"/>
                  <a:pt x="123" y="28"/>
                  <a:pt x="98" y="14"/>
                </a:cubicBezTo>
                <a:cubicBezTo>
                  <a:pt x="73" y="0"/>
                  <a:pt x="29" y="14"/>
                  <a:pt x="0" y="72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166e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2b166e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2b166e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2b166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2b166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05120" y="2714400"/>
            <a:ext cx="5299200" cy="669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b166e"/>
                </a:solidFill>
                <a:latin typeface="Verdana"/>
                <a:ea typeface="Gulim"/>
              </a:rPr>
              <a:t>Korea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Verdana"/>
                <a:ea typeface="Gulim"/>
              </a:rPr>
              <a:t>Korea!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32400" y="3263760"/>
            <a:ext cx="4416480" cy="4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ff"/>
                </a:solidFill>
                <a:latin typeface="Verdana"/>
                <a:ea typeface="Gulim"/>
              </a:rPr>
              <a:t>Add Your Company Slogan</a:t>
            </a:r>
            <a:endParaRPr b="0" lang="en-US" sz="16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2029680" y="16444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166e"/>
                </a:solidFill>
                <a:latin typeface="Times New Roman"/>
              </a:rPr>
              <a:t>韩国经济发展企业</a:t>
            </a:r>
            <a:r>
              <a:rPr b="0" lang="zh-CN" sz="4000" spc="-1" strike="noStrike">
                <a:solidFill>
                  <a:srgbClr val="2b166e"/>
                </a:solidFill>
                <a:latin typeface="Times New Roman"/>
                <a:ea typeface="宋体"/>
              </a:rPr>
              <a:t>幻灯片免费下载</a:t>
            </a:r>
            <a:endParaRPr b="0" lang="en-US" sz="40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cc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4B7-230A-45C3-9C6F-F1D4610745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14280" y="133200"/>
            <a:ext cx="7848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Master title style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95440" y="1366920"/>
            <a:ext cx="2300040" cy="43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135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25400" y="1398600"/>
            <a:ext cx="1955880" cy="34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1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Gwangju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960" y="2328840"/>
            <a:ext cx="5553000" cy="3110040"/>
          </a:xfrm>
          <a:custGeom>
            <a:avLst/>
            <a:gdLst/>
            <a:ahLst/>
            <a:rect l="l" t="t" r="r" b="b"/>
            <a:pathLst>
              <a:path w="3498" h="1959">
                <a:moveTo>
                  <a:pt x="25" y="650"/>
                </a:moveTo>
                <a:lnTo>
                  <a:pt x="157" y="634"/>
                </a:lnTo>
                <a:lnTo>
                  <a:pt x="256" y="667"/>
                </a:lnTo>
                <a:lnTo>
                  <a:pt x="280" y="626"/>
                </a:lnTo>
                <a:lnTo>
                  <a:pt x="264" y="568"/>
                </a:lnTo>
                <a:lnTo>
                  <a:pt x="297" y="469"/>
                </a:lnTo>
                <a:lnTo>
                  <a:pt x="412" y="428"/>
                </a:lnTo>
                <a:lnTo>
                  <a:pt x="461" y="486"/>
                </a:lnTo>
                <a:lnTo>
                  <a:pt x="552" y="494"/>
                </a:lnTo>
                <a:lnTo>
                  <a:pt x="601" y="445"/>
                </a:lnTo>
                <a:lnTo>
                  <a:pt x="651" y="469"/>
                </a:lnTo>
                <a:lnTo>
                  <a:pt x="683" y="420"/>
                </a:lnTo>
                <a:lnTo>
                  <a:pt x="651" y="354"/>
                </a:lnTo>
                <a:lnTo>
                  <a:pt x="733" y="214"/>
                </a:lnTo>
                <a:lnTo>
                  <a:pt x="799" y="206"/>
                </a:lnTo>
                <a:lnTo>
                  <a:pt x="782" y="132"/>
                </a:lnTo>
                <a:lnTo>
                  <a:pt x="840" y="74"/>
                </a:lnTo>
                <a:lnTo>
                  <a:pt x="889" y="99"/>
                </a:lnTo>
                <a:lnTo>
                  <a:pt x="963" y="25"/>
                </a:lnTo>
                <a:lnTo>
                  <a:pt x="1062" y="17"/>
                </a:lnTo>
                <a:lnTo>
                  <a:pt x="1103" y="58"/>
                </a:lnTo>
                <a:lnTo>
                  <a:pt x="1054" y="74"/>
                </a:lnTo>
                <a:lnTo>
                  <a:pt x="1078" y="132"/>
                </a:lnTo>
                <a:lnTo>
                  <a:pt x="1004" y="181"/>
                </a:lnTo>
                <a:lnTo>
                  <a:pt x="1013" y="272"/>
                </a:lnTo>
                <a:lnTo>
                  <a:pt x="1128" y="272"/>
                </a:lnTo>
                <a:lnTo>
                  <a:pt x="1284" y="354"/>
                </a:lnTo>
                <a:lnTo>
                  <a:pt x="1292" y="404"/>
                </a:lnTo>
                <a:lnTo>
                  <a:pt x="1523" y="387"/>
                </a:lnTo>
                <a:lnTo>
                  <a:pt x="1654" y="288"/>
                </a:lnTo>
                <a:lnTo>
                  <a:pt x="1712" y="305"/>
                </a:lnTo>
                <a:lnTo>
                  <a:pt x="1786" y="330"/>
                </a:lnTo>
                <a:lnTo>
                  <a:pt x="1827" y="264"/>
                </a:lnTo>
                <a:lnTo>
                  <a:pt x="2008" y="190"/>
                </a:lnTo>
                <a:lnTo>
                  <a:pt x="2099" y="107"/>
                </a:lnTo>
                <a:lnTo>
                  <a:pt x="2156" y="107"/>
                </a:lnTo>
                <a:lnTo>
                  <a:pt x="2181" y="165"/>
                </a:lnTo>
                <a:lnTo>
                  <a:pt x="2255" y="148"/>
                </a:lnTo>
                <a:lnTo>
                  <a:pt x="2288" y="74"/>
                </a:lnTo>
                <a:lnTo>
                  <a:pt x="2346" y="91"/>
                </a:lnTo>
                <a:lnTo>
                  <a:pt x="2420" y="0"/>
                </a:lnTo>
                <a:lnTo>
                  <a:pt x="2494" y="66"/>
                </a:lnTo>
                <a:lnTo>
                  <a:pt x="2658" y="99"/>
                </a:lnTo>
                <a:lnTo>
                  <a:pt x="2683" y="157"/>
                </a:lnTo>
                <a:lnTo>
                  <a:pt x="2650" y="214"/>
                </a:lnTo>
                <a:lnTo>
                  <a:pt x="2708" y="280"/>
                </a:lnTo>
                <a:lnTo>
                  <a:pt x="2815" y="297"/>
                </a:lnTo>
                <a:lnTo>
                  <a:pt x="2806" y="395"/>
                </a:lnTo>
                <a:lnTo>
                  <a:pt x="2889" y="519"/>
                </a:lnTo>
                <a:lnTo>
                  <a:pt x="2955" y="519"/>
                </a:lnTo>
                <a:lnTo>
                  <a:pt x="2987" y="585"/>
                </a:lnTo>
                <a:lnTo>
                  <a:pt x="2922" y="618"/>
                </a:lnTo>
                <a:lnTo>
                  <a:pt x="2905" y="692"/>
                </a:lnTo>
                <a:lnTo>
                  <a:pt x="3020" y="790"/>
                </a:lnTo>
                <a:lnTo>
                  <a:pt x="3062" y="708"/>
                </a:lnTo>
                <a:lnTo>
                  <a:pt x="3144" y="708"/>
                </a:lnTo>
                <a:lnTo>
                  <a:pt x="3193" y="675"/>
                </a:lnTo>
                <a:lnTo>
                  <a:pt x="3243" y="708"/>
                </a:lnTo>
                <a:lnTo>
                  <a:pt x="3300" y="667"/>
                </a:lnTo>
                <a:lnTo>
                  <a:pt x="3366" y="724"/>
                </a:lnTo>
                <a:lnTo>
                  <a:pt x="3456" y="733"/>
                </a:lnTo>
                <a:lnTo>
                  <a:pt x="3448" y="807"/>
                </a:lnTo>
                <a:lnTo>
                  <a:pt x="3498" y="840"/>
                </a:lnTo>
                <a:lnTo>
                  <a:pt x="3465" y="914"/>
                </a:lnTo>
                <a:lnTo>
                  <a:pt x="3399" y="930"/>
                </a:lnTo>
                <a:lnTo>
                  <a:pt x="3391" y="996"/>
                </a:lnTo>
                <a:lnTo>
                  <a:pt x="3374" y="1062"/>
                </a:lnTo>
                <a:lnTo>
                  <a:pt x="3341" y="1119"/>
                </a:lnTo>
                <a:lnTo>
                  <a:pt x="3399" y="1144"/>
                </a:lnTo>
                <a:lnTo>
                  <a:pt x="3399" y="1276"/>
                </a:lnTo>
                <a:lnTo>
                  <a:pt x="3341" y="1292"/>
                </a:lnTo>
                <a:lnTo>
                  <a:pt x="3267" y="1375"/>
                </a:lnTo>
                <a:lnTo>
                  <a:pt x="3267" y="1432"/>
                </a:lnTo>
                <a:lnTo>
                  <a:pt x="3243" y="1490"/>
                </a:lnTo>
                <a:lnTo>
                  <a:pt x="3185" y="1490"/>
                </a:lnTo>
                <a:lnTo>
                  <a:pt x="3168" y="1580"/>
                </a:lnTo>
                <a:lnTo>
                  <a:pt x="3029" y="1588"/>
                </a:lnTo>
                <a:lnTo>
                  <a:pt x="2938" y="1605"/>
                </a:lnTo>
                <a:lnTo>
                  <a:pt x="2889" y="1695"/>
                </a:lnTo>
                <a:lnTo>
                  <a:pt x="2848" y="1770"/>
                </a:lnTo>
                <a:lnTo>
                  <a:pt x="2658" y="1737"/>
                </a:lnTo>
                <a:lnTo>
                  <a:pt x="2576" y="1663"/>
                </a:lnTo>
                <a:lnTo>
                  <a:pt x="2551" y="1588"/>
                </a:lnTo>
                <a:lnTo>
                  <a:pt x="2469" y="1597"/>
                </a:lnTo>
                <a:lnTo>
                  <a:pt x="2428" y="1679"/>
                </a:lnTo>
                <a:lnTo>
                  <a:pt x="2263" y="1728"/>
                </a:lnTo>
                <a:lnTo>
                  <a:pt x="2198" y="1687"/>
                </a:lnTo>
                <a:lnTo>
                  <a:pt x="2099" y="1770"/>
                </a:lnTo>
                <a:lnTo>
                  <a:pt x="1959" y="1728"/>
                </a:lnTo>
                <a:lnTo>
                  <a:pt x="1844" y="1786"/>
                </a:lnTo>
                <a:lnTo>
                  <a:pt x="1827" y="1860"/>
                </a:lnTo>
                <a:lnTo>
                  <a:pt x="1745" y="1876"/>
                </a:lnTo>
                <a:lnTo>
                  <a:pt x="1654" y="1860"/>
                </a:lnTo>
                <a:lnTo>
                  <a:pt x="1605" y="1959"/>
                </a:lnTo>
                <a:lnTo>
                  <a:pt x="1457" y="1959"/>
                </a:lnTo>
                <a:lnTo>
                  <a:pt x="1424" y="1901"/>
                </a:lnTo>
                <a:lnTo>
                  <a:pt x="1366" y="1868"/>
                </a:lnTo>
                <a:lnTo>
                  <a:pt x="1243" y="1959"/>
                </a:lnTo>
                <a:lnTo>
                  <a:pt x="1128" y="1934"/>
                </a:lnTo>
                <a:lnTo>
                  <a:pt x="1128" y="1860"/>
                </a:lnTo>
                <a:lnTo>
                  <a:pt x="1161" y="1761"/>
                </a:lnTo>
                <a:lnTo>
                  <a:pt x="1095" y="1720"/>
                </a:lnTo>
                <a:lnTo>
                  <a:pt x="1120" y="1663"/>
                </a:lnTo>
                <a:lnTo>
                  <a:pt x="1062" y="1621"/>
                </a:lnTo>
                <a:lnTo>
                  <a:pt x="1062" y="1564"/>
                </a:lnTo>
                <a:lnTo>
                  <a:pt x="980" y="1572"/>
                </a:lnTo>
                <a:lnTo>
                  <a:pt x="980" y="1498"/>
                </a:lnTo>
                <a:lnTo>
                  <a:pt x="807" y="1440"/>
                </a:lnTo>
                <a:lnTo>
                  <a:pt x="774" y="1366"/>
                </a:lnTo>
                <a:lnTo>
                  <a:pt x="733" y="1440"/>
                </a:lnTo>
                <a:lnTo>
                  <a:pt x="609" y="1424"/>
                </a:lnTo>
                <a:lnTo>
                  <a:pt x="502" y="1383"/>
                </a:lnTo>
                <a:lnTo>
                  <a:pt x="445" y="1457"/>
                </a:lnTo>
                <a:lnTo>
                  <a:pt x="346" y="1383"/>
                </a:lnTo>
                <a:lnTo>
                  <a:pt x="321" y="1457"/>
                </a:lnTo>
                <a:lnTo>
                  <a:pt x="214" y="1440"/>
                </a:lnTo>
                <a:lnTo>
                  <a:pt x="140" y="1358"/>
                </a:lnTo>
                <a:lnTo>
                  <a:pt x="99" y="1383"/>
                </a:lnTo>
                <a:lnTo>
                  <a:pt x="17" y="1309"/>
                </a:lnTo>
                <a:lnTo>
                  <a:pt x="75" y="1210"/>
                </a:lnTo>
                <a:lnTo>
                  <a:pt x="75" y="1095"/>
                </a:lnTo>
                <a:lnTo>
                  <a:pt x="0" y="1087"/>
                </a:lnTo>
                <a:lnTo>
                  <a:pt x="50" y="1012"/>
                </a:lnTo>
                <a:lnTo>
                  <a:pt x="42" y="897"/>
                </a:lnTo>
                <a:lnTo>
                  <a:pt x="107" y="864"/>
                </a:lnTo>
                <a:lnTo>
                  <a:pt x="149" y="914"/>
                </a:lnTo>
                <a:lnTo>
                  <a:pt x="214" y="823"/>
                </a:lnTo>
                <a:lnTo>
                  <a:pt x="140" y="766"/>
                </a:lnTo>
                <a:lnTo>
                  <a:pt x="149" y="716"/>
                </a:lnTo>
                <a:lnTo>
                  <a:pt x="58" y="700"/>
                </a:lnTo>
                <a:lnTo>
                  <a:pt x="25" y="650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28440">
            <a:solidFill>
              <a:srgbClr val="ffffff"/>
            </a:solidFill>
            <a:round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575080" y="2874960"/>
            <a:ext cx="3290760" cy="2298600"/>
            <a:chOff x="2575080" y="2874960"/>
            <a:chExt cx="3290760" cy="2298600"/>
          </a:xfrm>
        </p:grpSpPr>
        <p:sp>
          <p:nvSpPr>
            <p:cNvPr id="421" name=""/>
            <p:cNvSpPr/>
            <p:nvPr/>
          </p:nvSpPr>
          <p:spPr>
            <a:xfrm>
              <a:off x="3579840" y="2874960"/>
              <a:ext cx="2286000" cy="1644480"/>
            </a:xfrm>
            <a:custGeom>
              <a:avLst/>
              <a:gdLst/>
              <a:ahLst/>
              <a:rect l="l" t="t" r="r" b="b"/>
              <a:pathLst>
                <a:path w="1440" h="1036">
                  <a:moveTo>
                    <a:pt x="0" y="0"/>
                  </a:moveTo>
                  <a:lnTo>
                    <a:pt x="124" y="98"/>
                  </a:lnTo>
                  <a:lnTo>
                    <a:pt x="116" y="164"/>
                  </a:lnTo>
                  <a:lnTo>
                    <a:pt x="157" y="205"/>
                  </a:lnTo>
                  <a:lnTo>
                    <a:pt x="124" y="271"/>
                  </a:lnTo>
                  <a:lnTo>
                    <a:pt x="190" y="337"/>
                  </a:lnTo>
                  <a:lnTo>
                    <a:pt x="173" y="386"/>
                  </a:lnTo>
                  <a:lnTo>
                    <a:pt x="66" y="444"/>
                  </a:lnTo>
                  <a:lnTo>
                    <a:pt x="116" y="526"/>
                  </a:lnTo>
                  <a:lnTo>
                    <a:pt x="231" y="543"/>
                  </a:lnTo>
                  <a:lnTo>
                    <a:pt x="280" y="576"/>
                  </a:lnTo>
                  <a:lnTo>
                    <a:pt x="338" y="534"/>
                  </a:lnTo>
                  <a:lnTo>
                    <a:pt x="412" y="534"/>
                  </a:lnTo>
                  <a:lnTo>
                    <a:pt x="428" y="600"/>
                  </a:lnTo>
                  <a:lnTo>
                    <a:pt x="535" y="608"/>
                  </a:lnTo>
                  <a:lnTo>
                    <a:pt x="560" y="691"/>
                  </a:lnTo>
                  <a:lnTo>
                    <a:pt x="659" y="732"/>
                  </a:lnTo>
                  <a:lnTo>
                    <a:pt x="700" y="658"/>
                  </a:lnTo>
                  <a:lnTo>
                    <a:pt x="692" y="567"/>
                  </a:lnTo>
                  <a:lnTo>
                    <a:pt x="790" y="567"/>
                  </a:lnTo>
                  <a:lnTo>
                    <a:pt x="798" y="617"/>
                  </a:lnTo>
                  <a:lnTo>
                    <a:pt x="914" y="625"/>
                  </a:lnTo>
                  <a:lnTo>
                    <a:pt x="996" y="682"/>
                  </a:lnTo>
                  <a:lnTo>
                    <a:pt x="1054" y="699"/>
                  </a:lnTo>
                  <a:lnTo>
                    <a:pt x="1086" y="773"/>
                  </a:lnTo>
                  <a:lnTo>
                    <a:pt x="1185" y="847"/>
                  </a:lnTo>
                  <a:lnTo>
                    <a:pt x="1259" y="806"/>
                  </a:lnTo>
                  <a:lnTo>
                    <a:pt x="1333" y="831"/>
                  </a:lnTo>
                  <a:lnTo>
                    <a:pt x="1366" y="896"/>
                  </a:lnTo>
                  <a:lnTo>
                    <a:pt x="1424" y="921"/>
                  </a:lnTo>
                  <a:lnTo>
                    <a:pt x="1440" y="103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26000" y="4049640"/>
              <a:ext cx="260640" cy="797040"/>
            </a:xfrm>
            <a:custGeom>
              <a:avLst/>
              <a:gdLst/>
              <a:ahLst/>
              <a:rect l="l" t="t" r="r" b="b"/>
              <a:pathLst>
                <a:path w="164" h="502">
                  <a:moveTo>
                    <a:pt x="0" y="0"/>
                  </a:moveTo>
                  <a:lnTo>
                    <a:pt x="107" y="91"/>
                  </a:lnTo>
                  <a:lnTo>
                    <a:pt x="131" y="156"/>
                  </a:lnTo>
                  <a:lnTo>
                    <a:pt x="164" y="198"/>
                  </a:lnTo>
                  <a:lnTo>
                    <a:pt x="74" y="288"/>
                  </a:lnTo>
                  <a:lnTo>
                    <a:pt x="0" y="288"/>
                  </a:lnTo>
                  <a:lnTo>
                    <a:pt x="0" y="370"/>
                  </a:lnTo>
                  <a:lnTo>
                    <a:pt x="90" y="436"/>
                  </a:lnTo>
                  <a:lnTo>
                    <a:pt x="74" y="50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75080" y="3552840"/>
              <a:ext cx="1069920" cy="1620720"/>
            </a:xfrm>
            <a:custGeom>
              <a:avLst/>
              <a:gdLst/>
              <a:ahLst/>
              <a:rect l="l" t="t" r="r" b="b"/>
              <a:pathLst>
                <a:path w="674" h="1021">
                  <a:moveTo>
                    <a:pt x="674" y="42"/>
                  </a:moveTo>
                  <a:lnTo>
                    <a:pt x="617" y="0"/>
                  </a:lnTo>
                  <a:lnTo>
                    <a:pt x="576" y="116"/>
                  </a:lnTo>
                  <a:lnTo>
                    <a:pt x="510" y="124"/>
                  </a:lnTo>
                  <a:lnTo>
                    <a:pt x="461" y="181"/>
                  </a:lnTo>
                  <a:lnTo>
                    <a:pt x="461" y="264"/>
                  </a:lnTo>
                  <a:lnTo>
                    <a:pt x="535" y="297"/>
                  </a:lnTo>
                  <a:lnTo>
                    <a:pt x="543" y="371"/>
                  </a:lnTo>
                  <a:lnTo>
                    <a:pt x="477" y="404"/>
                  </a:lnTo>
                  <a:lnTo>
                    <a:pt x="436" y="469"/>
                  </a:lnTo>
                  <a:lnTo>
                    <a:pt x="477" y="527"/>
                  </a:lnTo>
                  <a:lnTo>
                    <a:pt x="411" y="618"/>
                  </a:lnTo>
                  <a:lnTo>
                    <a:pt x="362" y="593"/>
                  </a:lnTo>
                  <a:lnTo>
                    <a:pt x="288" y="642"/>
                  </a:lnTo>
                  <a:lnTo>
                    <a:pt x="312" y="741"/>
                  </a:lnTo>
                  <a:lnTo>
                    <a:pt x="263" y="790"/>
                  </a:lnTo>
                  <a:lnTo>
                    <a:pt x="288" y="856"/>
                  </a:lnTo>
                  <a:lnTo>
                    <a:pt x="197" y="914"/>
                  </a:lnTo>
                  <a:lnTo>
                    <a:pt x="115" y="1021"/>
                  </a:lnTo>
                  <a:lnTo>
                    <a:pt x="0" y="101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17880" y="3984480"/>
              <a:ext cx="1424160" cy="914400"/>
            </a:xfrm>
            <a:custGeom>
              <a:avLst/>
              <a:gdLst/>
              <a:ahLst/>
              <a:rect l="l" t="t" r="r" b="b"/>
              <a:pathLst>
                <a:path w="897" h="576">
                  <a:moveTo>
                    <a:pt x="0" y="527"/>
                  </a:moveTo>
                  <a:lnTo>
                    <a:pt x="91" y="568"/>
                  </a:lnTo>
                  <a:lnTo>
                    <a:pt x="157" y="576"/>
                  </a:lnTo>
                  <a:lnTo>
                    <a:pt x="239" y="510"/>
                  </a:lnTo>
                  <a:lnTo>
                    <a:pt x="338" y="502"/>
                  </a:lnTo>
                  <a:lnTo>
                    <a:pt x="453" y="428"/>
                  </a:lnTo>
                  <a:lnTo>
                    <a:pt x="552" y="453"/>
                  </a:lnTo>
                  <a:lnTo>
                    <a:pt x="634" y="395"/>
                  </a:lnTo>
                  <a:lnTo>
                    <a:pt x="651" y="313"/>
                  </a:lnTo>
                  <a:lnTo>
                    <a:pt x="749" y="329"/>
                  </a:lnTo>
                  <a:lnTo>
                    <a:pt x="807" y="321"/>
                  </a:lnTo>
                  <a:lnTo>
                    <a:pt x="799" y="206"/>
                  </a:lnTo>
                  <a:lnTo>
                    <a:pt x="749" y="173"/>
                  </a:lnTo>
                  <a:lnTo>
                    <a:pt x="799" y="132"/>
                  </a:lnTo>
                  <a:lnTo>
                    <a:pt x="790" y="49"/>
                  </a:lnTo>
                  <a:lnTo>
                    <a:pt x="823" y="8"/>
                  </a:lnTo>
                  <a:lnTo>
                    <a:pt x="89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441600" y="4011480"/>
            <a:ext cx="10526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Seo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799160" y="4390920"/>
            <a:ext cx="1052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Dong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08400" y="3224160"/>
            <a:ext cx="1052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Buk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475080" y="4703760"/>
            <a:ext cx="1052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Nam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73120" y="3616200"/>
            <a:ext cx="14446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Gwangsan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03840" y="1862280"/>
            <a:ext cx="220032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Location</a:t>
            </a:r>
            <a:br>
              <a:rPr sz="16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r>
              <a:rPr b="1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Climate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Area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Population</a:t>
            </a:r>
            <a:br>
              <a:rPr sz="16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Gulim"/>
              </a:rPr>
              <a:t> 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817560" y="1030320"/>
            <a:ext cx="2905200" cy="4728600"/>
            <a:chOff x="817560" y="1030320"/>
            <a:chExt cx="2905200" cy="4728600"/>
          </a:xfrm>
        </p:grpSpPr>
        <p:sp>
          <p:nvSpPr>
            <p:cNvPr id="112" name=""/>
            <p:cNvSpPr/>
            <p:nvPr/>
          </p:nvSpPr>
          <p:spPr>
            <a:xfrm>
              <a:off x="1903320" y="3139920"/>
              <a:ext cx="1290600" cy="1123560"/>
            </a:xfrm>
            <a:custGeom>
              <a:avLst/>
              <a:gdLst/>
              <a:ahLst/>
              <a:rect l="l" t="t" r="r" b="b"/>
              <a:pathLst>
                <a:path w="813" h="708">
                  <a:moveTo>
                    <a:pt x="267" y="0"/>
                  </a:moveTo>
                  <a:lnTo>
                    <a:pt x="309" y="18"/>
                  </a:lnTo>
                  <a:lnTo>
                    <a:pt x="330" y="9"/>
                  </a:lnTo>
                  <a:lnTo>
                    <a:pt x="372" y="63"/>
                  </a:lnTo>
                  <a:lnTo>
                    <a:pt x="462" y="138"/>
                  </a:lnTo>
                  <a:lnTo>
                    <a:pt x="489" y="135"/>
                  </a:lnTo>
                  <a:lnTo>
                    <a:pt x="510" y="156"/>
                  </a:lnTo>
                  <a:lnTo>
                    <a:pt x="504" y="174"/>
                  </a:lnTo>
                  <a:lnTo>
                    <a:pt x="513" y="192"/>
                  </a:lnTo>
                  <a:lnTo>
                    <a:pt x="540" y="225"/>
                  </a:lnTo>
                  <a:lnTo>
                    <a:pt x="582" y="303"/>
                  </a:lnTo>
                  <a:lnTo>
                    <a:pt x="597" y="342"/>
                  </a:lnTo>
                  <a:lnTo>
                    <a:pt x="648" y="402"/>
                  </a:lnTo>
                  <a:lnTo>
                    <a:pt x="663" y="417"/>
                  </a:lnTo>
                  <a:lnTo>
                    <a:pt x="705" y="471"/>
                  </a:lnTo>
                  <a:lnTo>
                    <a:pt x="726" y="489"/>
                  </a:lnTo>
                  <a:lnTo>
                    <a:pt x="726" y="507"/>
                  </a:lnTo>
                  <a:lnTo>
                    <a:pt x="771" y="576"/>
                  </a:lnTo>
                  <a:lnTo>
                    <a:pt x="801" y="594"/>
                  </a:lnTo>
                  <a:lnTo>
                    <a:pt x="798" y="615"/>
                  </a:lnTo>
                  <a:lnTo>
                    <a:pt x="813" y="633"/>
                  </a:lnTo>
                  <a:lnTo>
                    <a:pt x="810" y="657"/>
                  </a:lnTo>
                  <a:lnTo>
                    <a:pt x="768" y="708"/>
                  </a:lnTo>
                  <a:lnTo>
                    <a:pt x="747" y="687"/>
                  </a:lnTo>
                  <a:lnTo>
                    <a:pt x="717" y="687"/>
                  </a:lnTo>
                  <a:lnTo>
                    <a:pt x="693" y="699"/>
                  </a:lnTo>
                  <a:lnTo>
                    <a:pt x="642" y="678"/>
                  </a:lnTo>
                  <a:lnTo>
                    <a:pt x="633" y="699"/>
                  </a:lnTo>
                  <a:lnTo>
                    <a:pt x="612" y="687"/>
                  </a:lnTo>
                  <a:lnTo>
                    <a:pt x="591" y="705"/>
                  </a:lnTo>
                  <a:lnTo>
                    <a:pt x="534" y="675"/>
                  </a:lnTo>
                  <a:lnTo>
                    <a:pt x="474" y="672"/>
                  </a:lnTo>
                  <a:lnTo>
                    <a:pt x="462" y="651"/>
                  </a:lnTo>
                  <a:lnTo>
                    <a:pt x="435" y="651"/>
                  </a:lnTo>
                  <a:lnTo>
                    <a:pt x="393" y="642"/>
                  </a:lnTo>
                  <a:lnTo>
                    <a:pt x="369" y="663"/>
                  </a:lnTo>
                  <a:lnTo>
                    <a:pt x="345" y="642"/>
                  </a:lnTo>
                  <a:lnTo>
                    <a:pt x="309" y="636"/>
                  </a:lnTo>
                  <a:lnTo>
                    <a:pt x="309" y="600"/>
                  </a:lnTo>
                  <a:lnTo>
                    <a:pt x="327" y="564"/>
                  </a:lnTo>
                  <a:lnTo>
                    <a:pt x="318" y="543"/>
                  </a:lnTo>
                  <a:lnTo>
                    <a:pt x="315" y="519"/>
                  </a:lnTo>
                  <a:lnTo>
                    <a:pt x="291" y="516"/>
                  </a:lnTo>
                  <a:lnTo>
                    <a:pt x="249" y="528"/>
                  </a:lnTo>
                  <a:lnTo>
                    <a:pt x="249" y="504"/>
                  </a:lnTo>
                  <a:lnTo>
                    <a:pt x="252" y="465"/>
                  </a:lnTo>
                  <a:lnTo>
                    <a:pt x="273" y="453"/>
                  </a:lnTo>
                  <a:lnTo>
                    <a:pt x="258" y="396"/>
                  </a:lnTo>
                  <a:lnTo>
                    <a:pt x="225" y="381"/>
                  </a:lnTo>
                  <a:lnTo>
                    <a:pt x="222" y="351"/>
                  </a:lnTo>
                  <a:lnTo>
                    <a:pt x="201" y="366"/>
                  </a:lnTo>
                  <a:lnTo>
                    <a:pt x="189" y="348"/>
                  </a:lnTo>
                  <a:lnTo>
                    <a:pt x="165" y="342"/>
                  </a:lnTo>
                  <a:lnTo>
                    <a:pt x="153" y="318"/>
                  </a:lnTo>
                  <a:lnTo>
                    <a:pt x="114" y="321"/>
                  </a:lnTo>
                  <a:lnTo>
                    <a:pt x="102" y="303"/>
                  </a:lnTo>
                  <a:lnTo>
                    <a:pt x="66" y="303"/>
                  </a:lnTo>
                  <a:lnTo>
                    <a:pt x="57" y="273"/>
                  </a:lnTo>
                  <a:lnTo>
                    <a:pt x="45" y="258"/>
                  </a:lnTo>
                  <a:lnTo>
                    <a:pt x="18" y="264"/>
                  </a:lnTo>
                  <a:lnTo>
                    <a:pt x="3" y="228"/>
                  </a:lnTo>
                  <a:lnTo>
                    <a:pt x="15" y="210"/>
                  </a:lnTo>
                  <a:lnTo>
                    <a:pt x="0" y="180"/>
                  </a:lnTo>
                  <a:lnTo>
                    <a:pt x="9" y="162"/>
                  </a:lnTo>
                  <a:lnTo>
                    <a:pt x="30" y="156"/>
                  </a:lnTo>
                  <a:lnTo>
                    <a:pt x="48" y="129"/>
                  </a:lnTo>
                  <a:lnTo>
                    <a:pt x="72" y="126"/>
                  </a:lnTo>
                  <a:lnTo>
                    <a:pt x="60" y="90"/>
                  </a:lnTo>
                  <a:lnTo>
                    <a:pt x="84" y="78"/>
                  </a:lnTo>
                  <a:lnTo>
                    <a:pt x="105" y="93"/>
                  </a:lnTo>
                  <a:lnTo>
                    <a:pt x="135" y="87"/>
                  </a:lnTo>
                  <a:lnTo>
                    <a:pt x="174" y="30"/>
                  </a:lnTo>
                  <a:lnTo>
                    <a:pt x="195" y="54"/>
                  </a:lnTo>
                  <a:lnTo>
                    <a:pt x="186" y="75"/>
                  </a:lnTo>
                  <a:lnTo>
                    <a:pt x="189" y="102"/>
                  </a:lnTo>
                  <a:lnTo>
                    <a:pt x="216" y="129"/>
                  </a:lnTo>
                  <a:lnTo>
                    <a:pt x="243" y="102"/>
                  </a:lnTo>
                  <a:lnTo>
                    <a:pt x="261" y="108"/>
                  </a:lnTo>
                  <a:lnTo>
                    <a:pt x="279" y="90"/>
                  </a:lnTo>
                  <a:lnTo>
                    <a:pt x="282" y="60"/>
                  </a:lnTo>
                  <a:lnTo>
                    <a:pt x="291" y="42"/>
                  </a:lnTo>
                  <a:lnTo>
                    <a:pt x="264" y="21"/>
                  </a:lnTo>
                  <a:lnTo>
                    <a:pt x="267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817560" y="1030320"/>
              <a:ext cx="2905200" cy="2871000"/>
              <a:chOff x="817560" y="1030320"/>
              <a:chExt cx="2905200" cy="2871000"/>
            </a:xfrm>
          </p:grpSpPr>
          <p:sp>
            <p:nvSpPr>
              <p:cNvPr id="114" name=""/>
              <p:cNvSpPr/>
              <p:nvPr/>
            </p:nvSpPr>
            <p:spPr>
              <a:xfrm>
                <a:off x="2556000" y="1030320"/>
                <a:ext cx="1166760" cy="1371240"/>
              </a:xfrm>
              <a:custGeom>
                <a:avLst/>
                <a:gdLst/>
                <a:ahLst/>
                <a:rect l="l" t="t" r="r" b="b"/>
                <a:pathLst>
                  <a:path w="735" h="864">
                    <a:moveTo>
                      <a:pt x="513" y="0"/>
                    </a:moveTo>
                    <a:lnTo>
                      <a:pt x="573" y="0"/>
                    </a:lnTo>
                    <a:lnTo>
                      <a:pt x="570" y="33"/>
                    </a:lnTo>
                    <a:lnTo>
                      <a:pt x="615" y="24"/>
                    </a:lnTo>
                    <a:lnTo>
                      <a:pt x="615" y="51"/>
                    </a:lnTo>
                    <a:lnTo>
                      <a:pt x="636" y="105"/>
                    </a:lnTo>
                    <a:lnTo>
                      <a:pt x="654" y="129"/>
                    </a:lnTo>
                    <a:lnTo>
                      <a:pt x="687" y="129"/>
                    </a:lnTo>
                    <a:lnTo>
                      <a:pt x="690" y="162"/>
                    </a:lnTo>
                    <a:lnTo>
                      <a:pt x="717" y="186"/>
                    </a:lnTo>
                    <a:lnTo>
                      <a:pt x="735" y="219"/>
                    </a:lnTo>
                    <a:lnTo>
                      <a:pt x="729" y="243"/>
                    </a:lnTo>
                    <a:lnTo>
                      <a:pt x="666" y="225"/>
                    </a:lnTo>
                    <a:lnTo>
                      <a:pt x="657" y="243"/>
                    </a:lnTo>
                    <a:lnTo>
                      <a:pt x="627" y="264"/>
                    </a:lnTo>
                    <a:lnTo>
                      <a:pt x="594" y="303"/>
                    </a:lnTo>
                    <a:lnTo>
                      <a:pt x="555" y="333"/>
                    </a:lnTo>
                    <a:lnTo>
                      <a:pt x="522" y="378"/>
                    </a:lnTo>
                    <a:lnTo>
                      <a:pt x="504" y="414"/>
                    </a:lnTo>
                    <a:lnTo>
                      <a:pt x="468" y="459"/>
                    </a:lnTo>
                    <a:lnTo>
                      <a:pt x="453" y="483"/>
                    </a:lnTo>
                    <a:lnTo>
                      <a:pt x="465" y="519"/>
                    </a:lnTo>
                    <a:lnTo>
                      <a:pt x="489" y="561"/>
                    </a:lnTo>
                    <a:lnTo>
                      <a:pt x="474" y="615"/>
                    </a:lnTo>
                    <a:lnTo>
                      <a:pt x="477" y="681"/>
                    </a:lnTo>
                    <a:lnTo>
                      <a:pt x="489" y="702"/>
                    </a:lnTo>
                    <a:lnTo>
                      <a:pt x="471" y="744"/>
                    </a:lnTo>
                    <a:lnTo>
                      <a:pt x="441" y="735"/>
                    </a:lnTo>
                    <a:lnTo>
                      <a:pt x="375" y="783"/>
                    </a:lnTo>
                    <a:lnTo>
                      <a:pt x="342" y="795"/>
                    </a:lnTo>
                    <a:lnTo>
                      <a:pt x="312" y="849"/>
                    </a:lnTo>
                    <a:lnTo>
                      <a:pt x="285" y="864"/>
                    </a:lnTo>
                    <a:lnTo>
                      <a:pt x="276" y="804"/>
                    </a:lnTo>
                    <a:lnTo>
                      <a:pt x="252" y="789"/>
                    </a:lnTo>
                    <a:lnTo>
                      <a:pt x="240" y="753"/>
                    </a:lnTo>
                    <a:lnTo>
                      <a:pt x="255" y="705"/>
                    </a:lnTo>
                    <a:lnTo>
                      <a:pt x="243" y="675"/>
                    </a:lnTo>
                    <a:lnTo>
                      <a:pt x="243" y="654"/>
                    </a:lnTo>
                    <a:lnTo>
                      <a:pt x="228" y="633"/>
                    </a:lnTo>
                    <a:lnTo>
                      <a:pt x="195" y="633"/>
                    </a:lnTo>
                    <a:lnTo>
                      <a:pt x="180" y="603"/>
                    </a:lnTo>
                    <a:lnTo>
                      <a:pt x="150" y="561"/>
                    </a:lnTo>
                    <a:lnTo>
                      <a:pt x="159" y="543"/>
                    </a:lnTo>
                    <a:lnTo>
                      <a:pt x="156" y="513"/>
                    </a:lnTo>
                    <a:lnTo>
                      <a:pt x="162" y="477"/>
                    </a:lnTo>
                    <a:lnTo>
                      <a:pt x="132" y="438"/>
                    </a:lnTo>
                    <a:lnTo>
                      <a:pt x="81" y="429"/>
                    </a:lnTo>
                    <a:lnTo>
                      <a:pt x="69" y="408"/>
                    </a:lnTo>
                    <a:lnTo>
                      <a:pt x="51" y="420"/>
                    </a:lnTo>
                    <a:lnTo>
                      <a:pt x="30" y="387"/>
                    </a:lnTo>
                    <a:lnTo>
                      <a:pt x="0" y="348"/>
                    </a:lnTo>
                    <a:lnTo>
                      <a:pt x="27" y="348"/>
                    </a:lnTo>
                    <a:lnTo>
                      <a:pt x="69" y="333"/>
                    </a:lnTo>
                    <a:lnTo>
                      <a:pt x="111" y="336"/>
                    </a:lnTo>
                    <a:lnTo>
                      <a:pt x="150" y="348"/>
                    </a:lnTo>
                    <a:lnTo>
                      <a:pt x="183" y="321"/>
                    </a:lnTo>
                    <a:lnTo>
                      <a:pt x="210" y="336"/>
                    </a:lnTo>
                    <a:lnTo>
                      <a:pt x="249" y="315"/>
                    </a:lnTo>
                    <a:lnTo>
                      <a:pt x="318" y="276"/>
                    </a:lnTo>
                    <a:lnTo>
                      <a:pt x="315" y="246"/>
                    </a:lnTo>
                    <a:lnTo>
                      <a:pt x="336" y="201"/>
                    </a:lnTo>
                    <a:lnTo>
                      <a:pt x="378" y="195"/>
                    </a:lnTo>
                    <a:lnTo>
                      <a:pt x="408" y="198"/>
                    </a:lnTo>
                    <a:lnTo>
                      <a:pt x="441" y="174"/>
                    </a:lnTo>
                    <a:lnTo>
                      <a:pt x="456" y="186"/>
                    </a:lnTo>
                    <a:lnTo>
                      <a:pt x="462" y="135"/>
                    </a:lnTo>
                    <a:lnTo>
                      <a:pt x="477" y="111"/>
                    </a:lnTo>
                    <a:lnTo>
                      <a:pt x="474" y="75"/>
                    </a:lnTo>
                    <a:lnTo>
                      <a:pt x="480" y="33"/>
                    </a:lnTo>
                    <a:lnTo>
                      <a:pt x="5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84240" y="1577520"/>
                <a:ext cx="1123920" cy="1776240"/>
              </a:xfrm>
              <a:custGeom>
                <a:avLst/>
                <a:gdLst/>
                <a:ahLst/>
                <a:rect l="l" t="t" r="r" b="b"/>
                <a:pathLst>
                  <a:path w="708" h="1119">
                    <a:moveTo>
                      <a:pt x="393" y="0"/>
                    </a:moveTo>
                    <a:lnTo>
                      <a:pt x="435" y="3"/>
                    </a:lnTo>
                    <a:lnTo>
                      <a:pt x="468" y="51"/>
                    </a:lnTo>
                    <a:lnTo>
                      <a:pt x="492" y="60"/>
                    </a:lnTo>
                    <a:lnTo>
                      <a:pt x="504" y="84"/>
                    </a:lnTo>
                    <a:lnTo>
                      <a:pt x="552" y="87"/>
                    </a:lnTo>
                    <a:lnTo>
                      <a:pt x="588" y="129"/>
                    </a:lnTo>
                    <a:lnTo>
                      <a:pt x="579" y="168"/>
                    </a:lnTo>
                    <a:lnTo>
                      <a:pt x="591" y="195"/>
                    </a:lnTo>
                    <a:lnTo>
                      <a:pt x="579" y="216"/>
                    </a:lnTo>
                    <a:lnTo>
                      <a:pt x="615" y="285"/>
                    </a:lnTo>
                    <a:lnTo>
                      <a:pt x="657" y="288"/>
                    </a:lnTo>
                    <a:lnTo>
                      <a:pt x="669" y="303"/>
                    </a:lnTo>
                    <a:lnTo>
                      <a:pt x="669" y="330"/>
                    </a:lnTo>
                    <a:lnTo>
                      <a:pt x="681" y="354"/>
                    </a:lnTo>
                    <a:lnTo>
                      <a:pt x="669" y="405"/>
                    </a:lnTo>
                    <a:lnTo>
                      <a:pt x="678" y="438"/>
                    </a:lnTo>
                    <a:lnTo>
                      <a:pt x="705" y="462"/>
                    </a:lnTo>
                    <a:lnTo>
                      <a:pt x="708" y="516"/>
                    </a:lnTo>
                    <a:lnTo>
                      <a:pt x="678" y="531"/>
                    </a:lnTo>
                    <a:lnTo>
                      <a:pt x="663" y="561"/>
                    </a:lnTo>
                    <a:lnTo>
                      <a:pt x="600" y="588"/>
                    </a:lnTo>
                    <a:lnTo>
                      <a:pt x="588" y="615"/>
                    </a:lnTo>
                    <a:lnTo>
                      <a:pt x="549" y="648"/>
                    </a:lnTo>
                    <a:lnTo>
                      <a:pt x="483" y="672"/>
                    </a:lnTo>
                    <a:lnTo>
                      <a:pt x="447" y="681"/>
                    </a:lnTo>
                    <a:lnTo>
                      <a:pt x="420" y="675"/>
                    </a:lnTo>
                    <a:lnTo>
                      <a:pt x="372" y="696"/>
                    </a:lnTo>
                    <a:lnTo>
                      <a:pt x="366" y="723"/>
                    </a:lnTo>
                    <a:lnTo>
                      <a:pt x="309" y="756"/>
                    </a:lnTo>
                    <a:lnTo>
                      <a:pt x="285" y="756"/>
                    </a:lnTo>
                    <a:lnTo>
                      <a:pt x="255" y="783"/>
                    </a:lnTo>
                    <a:lnTo>
                      <a:pt x="261" y="819"/>
                    </a:lnTo>
                    <a:lnTo>
                      <a:pt x="282" y="819"/>
                    </a:lnTo>
                    <a:lnTo>
                      <a:pt x="276" y="843"/>
                    </a:lnTo>
                    <a:lnTo>
                      <a:pt x="264" y="864"/>
                    </a:lnTo>
                    <a:lnTo>
                      <a:pt x="270" y="894"/>
                    </a:lnTo>
                    <a:lnTo>
                      <a:pt x="285" y="924"/>
                    </a:lnTo>
                    <a:lnTo>
                      <a:pt x="246" y="897"/>
                    </a:lnTo>
                    <a:lnTo>
                      <a:pt x="219" y="927"/>
                    </a:lnTo>
                    <a:lnTo>
                      <a:pt x="225" y="957"/>
                    </a:lnTo>
                    <a:lnTo>
                      <a:pt x="258" y="975"/>
                    </a:lnTo>
                    <a:lnTo>
                      <a:pt x="282" y="984"/>
                    </a:lnTo>
                    <a:lnTo>
                      <a:pt x="273" y="1005"/>
                    </a:lnTo>
                    <a:lnTo>
                      <a:pt x="303" y="1017"/>
                    </a:lnTo>
                    <a:lnTo>
                      <a:pt x="297" y="1050"/>
                    </a:lnTo>
                    <a:lnTo>
                      <a:pt x="297" y="1077"/>
                    </a:lnTo>
                    <a:lnTo>
                      <a:pt x="276" y="1095"/>
                    </a:lnTo>
                    <a:lnTo>
                      <a:pt x="255" y="1089"/>
                    </a:lnTo>
                    <a:lnTo>
                      <a:pt x="225" y="1119"/>
                    </a:lnTo>
                    <a:lnTo>
                      <a:pt x="210" y="1089"/>
                    </a:lnTo>
                    <a:lnTo>
                      <a:pt x="195" y="1062"/>
                    </a:lnTo>
                    <a:lnTo>
                      <a:pt x="210" y="1044"/>
                    </a:lnTo>
                    <a:lnTo>
                      <a:pt x="183" y="1026"/>
                    </a:lnTo>
                    <a:lnTo>
                      <a:pt x="150" y="1074"/>
                    </a:lnTo>
                    <a:lnTo>
                      <a:pt x="111" y="1083"/>
                    </a:lnTo>
                    <a:lnTo>
                      <a:pt x="93" y="1059"/>
                    </a:lnTo>
                    <a:lnTo>
                      <a:pt x="108" y="1026"/>
                    </a:lnTo>
                    <a:lnTo>
                      <a:pt x="96" y="990"/>
                    </a:lnTo>
                    <a:lnTo>
                      <a:pt x="114" y="960"/>
                    </a:lnTo>
                    <a:lnTo>
                      <a:pt x="69" y="942"/>
                    </a:lnTo>
                    <a:lnTo>
                      <a:pt x="21" y="915"/>
                    </a:lnTo>
                    <a:lnTo>
                      <a:pt x="36" y="900"/>
                    </a:lnTo>
                    <a:lnTo>
                      <a:pt x="27" y="864"/>
                    </a:lnTo>
                    <a:lnTo>
                      <a:pt x="9" y="864"/>
                    </a:lnTo>
                    <a:lnTo>
                      <a:pt x="18" y="840"/>
                    </a:lnTo>
                    <a:lnTo>
                      <a:pt x="12" y="807"/>
                    </a:lnTo>
                    <a:lnTo>
                      <a:pt x="0" y="792"/>
                    </a:lnTo>
                    <a:lnTo>
                      <a:pt x="21" y="798"/>
                    </a:lnTo>
                    <a:lnTo>
                      <a:pt x="48" y="774"/>
                    </a:lnTo>
                    <a:lnTo>
                      <a:pt x="33" y="762"/>
                    </a:lnTo>
                    <a:lnTo>
                      <a:pt x="51" y="735"/>
                    </a:lnTo>
                    <a:lnTo>
                      <a:pt x="69" y="747"/>
                    </a:lnTo>
                    <a:lnTo>
                      <a:pt x="135" y="741"/>
                    </a:lnTo>
                    <a:lnTo>
                      <a:pt x="135" y="723"/>
                    </a:lnTo>
                    <a:lnTo>
                      <a:pt x="126" y="699"/>
                    </a:lnTo>
                    <a:lnTo>
                      <a:pt x="156" y="675"/>
                    </a:lnTo>
                    <a:lnTo>
                      <a:pt x="153" y="657"/>
                    </a:lnTo>
                    <a:lnTo>
                      <a:pt x="168" y="642"/>
                    </a:lnTo>
                    <a:lnTo>
                      <a:pt x="153" y="627"/>
                    </a:lnTo>
                    <a:lnTo>
                      <a:pt x="159" y="597"/>
                    </a:lnTo>
                    <a:lnTo>
                      <a:pt x="144" y="579"/>
                    </a:lnTo>
                    <a:lnTo>
                      <a:pt x="117" y="579"/>
                    </a:lnTo>
                    <a:lnTo>
                      <a:pt x="114" y="552"/>
                    </a:lnTo>
                    <a:lnTo>
                      <a:pt x="93" y="546"/>
                    </a:lnTo>
                    <a:lnTo>
                      <a:pt x="117" y="501"/>
                    </a:lnTo>
                    <a:lnTo>
                      <a:pt x="87" y="474"/>
                    </a:lnTo>
                    <a:lnTo>
                      <a:pt x="102" y="441"/>
                    </a:lnTo>
                    <a:lnTo>
                      <a:pt x="84" y="417"/>
                    </a:lnTo>
                    <a:lnTo>
                      <a:pt x="90" y="396"/>
                    </a:lnTo>
                    <a:lnTo>
                      <a:pt x="102" y="381"/>
                    </a:lnTo>
                    <a:lnTo>
                      <a:pt x="99" y="360"/>
                    </a:lnTo>
                    <a:lnTo>
                      <a:pt x="165" y="309"/>
                    </a:lnTo>
                    <a:lnTo>
                      <a:pt x="240" y="246"/>
                    </a:lnTo>
                    <a:lnTo>
                      <a:pt x="303" y="237"/>
                    </a:lnTo>
                    <a:lnTo>
                      <a:pt x="318" y="222"/>
                    </a:lnTo>
                    <a:lnTo>
                      <a:pt x="312" y="195"/>
                    </a:lnTo>
                    <a:lnTo>
                      <a:pt x="372" y="195"/>
                    </a:lnTo>
                    <a:lnTo>
                      <a:pt x="399" y="189"/>
                    </a:lnTo>
                    <a:lnTo>
                      <a:pt x="432" y="207"/>
                    </a:lnTo>
                    <a:lnTo>
                      <a:pt x="465" y="192"/>
                    </a:lnTo>
                    <a:lnTo>
                      <a:pt x="477" y="141"/>
                    </a:lnTo>
                    <a:lnTo>
                      <a:pt x="432" y="102"/>
                    </a:lnTo>
                    <a:lnTo>
                      <a:pt x="432" y="60"/>
                    </a:lnTo>
                    <a:lnTo>
                      <a:pt x="420" y="24"/>
                    </a:lnTo>
                    <a:lnTo>
                      <a:pt x="39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17560" y="1706400"/>
                <a:ext cx="1576440" cy="1213920"/>
              </a:xfrm>
              <a:custGeom>
                <a:avLst/>
                <a:gdLst/>
                <a:ahLst/>
                <a:rect l="l" t="t" r="r" b="b"/>
                <a:pathLst>
                  <a:path w="993" h="765">
                    <a:moveTo>
                      <a:pt x="696" y="21"/>
                    </a:moveTo>
                    <a:lnTo>
                      <a:pt x="750" y="9"/>
                    </a:lnTo>
                    <a:lnTo>
                      <a:pt x="780" y="0"/>
                    </a:lnTo>
                    <a:lnTo>
                      <a:pt x="801" y="54"/>
                    </a:lnTo>
                    <a:lnTo>
                      <a:pt x="846" y="78"/>
                    </a:lnTo>
                    <a:lnTo>
                      <a:pt x="867" y="102"/>
                    </a:lnTo>
                    <a:lnTo>
                      <a:pt x="948" y="105"/>
                    </a:lnTo>
                    <a:lnTo>
                      <a:pt x="960" y="120"/>
                    </a:lnTo>
                    <a:lnTo>
                      <a:pt x="987" y="114"/>
                    </a:lnTo>
                    <a:lnTo>
                      <a:pt x="993" y="144"/>
                    </a:lnTo>
                    <a:lnTo>
                      <a:pt x="966" y="156"/>
                    </a:lnTo>
                    <a:lnTo>
                      <a:pt x="906" y="168"/>
                    </a:lnTo>
                    <a:lnTo>
                      <a:pt x="879" y="201"/>
                    </a:lnTo>
                    <a:lnTo>
                      <a:pt x="774" y="276"/>
                    </a:lnTo>
                    <a:lnTo>
                      <a:pt x="762" y="315"/>
                    </a:lnTo>
                    <a:lnTo>
                      <a:pt x="768" y="366"/>
                    </a:lnTo>
                    <a:lnTo>
                      <a:pt x="774" y="399"/>
                    </a:lnTo>
                    <a:lnTo>
                      <a:pt x="786" y="417"/>
                    </a:lnTo>
                    <a:lnTo>
                      <a:pt x="774" y="459"/>
                    </a:lnTo>
                    <a:lnTo>
                      <a:pt x="786" y="477"/>
                    </a:lnTo>
                    <a:lnTo>
                      <a:pt x="750" y="498"/>
                    </a:lnTo>
                    <a:lnTo>
                      <a:pt x="723" y="561"/>
                    </a:lnTo>
                    <a:lnTo>
                      <a:pt x="705" y="576"/>
                    </a:lnTo>
                    <a:lnTo>
                      <a:pt x="663" y="573"/>
                    </a:lnTo>
                    <a:lnTo>
                      <a:pt x="621" y="618"/>
                    </a:lnTo>
                    <a:lnTo>
                      <a:pt x="600" y="612"/>
                    </a:lnTo>
                    <a:lnTo>
                      <a:pt x="555" y="657"/>
                    </a:lnTo>
                    <a:lnTo>
                      <a:pt x="522" y="678"/>
                    </a:lnTo>
                    <a:lnTo>
                      <a:pt x="483" y="666"/>
                    </a:lnTo>
                    <a:lnTo>
                      <a:pt x="453" y="693"/>
                    </a:lnTo>
                    <a:lnTo>
                      <a:pt x="423" y="705"/>
                    </a:lnTo>
                    <a:lnTo>
                      <a:pt x="387" y="723"/>
                    </a:lnTo>
                    <a:lnTo>
                      <a:pt x="336" y="747"/>
                    </a:lnTo>
                    <a:lnTo>
                      <a:pt x="351" y="717"/>
                    </a:lnTo>
                    <a:lnTo>
                      <a:pt x="300" y="747"/>
                    </a:lnTo>
                    <a:lnTo>
                      <a:pt x="288" y="765"/>
                    </a:lnTo>
                    <a:lnTo>
                      <a:pt x="264" y="738"/>
                    </a:lnTo>
                    <a:lnTo>
                      <a:pt x="243" y="753"/>
                    </a:lnTo>
                    <a:lnTo>
                      <a:pt x="207" y="726"/>
                    </a:lnTo>
                    <a:lnTo>
                      <a:pt x="180" y="729"/>
                    </a:lnTo>
                    <a:lnTo>
                      <a:pt x="153" y="696"/>
                    </a:lnTo>
                    <a:lnTo>
                      <a:pt x="120" y="693"/>
                    </a:lnTo>
                    <a:lnTo>
                      <a:pt x="117" y="711"/>
                    </a:lnTo>
                    <a:lnTo>
                      <a:pt x="84" y="732"/>
                    </a:lnTo>
                    <a:lnTo>
                      <a:pt x="81" y="699"/>
                    </a:lnTo>
                    <a:lnTo>
                      <a:pt x="60" y="687"/>
                    </a:lnTo>
                    <a:lnTo>
                      <a:pt x="57" y="663"/>
                    </a:lnTo>
                    <a:lnTo>
                      <a:pt x="15" y="654"/>
                    </a:lnTo>
                    <a:lnTo>
                      <a:pt x="0" y="630"/>
                    </a:lnTo>
                    <a:lnTo>
                      <a:pt x="6" y="579"/>
                    </a:lnTo>
                    <a:lnTo>
                      <a:pt x="30" y="582"/>
                    </a:lnTo>
                    <a:lnTo>
                      <a:pt x="21" y="549"/>
                    </a:lnTo>
                    <a:lnTo>
                      <a:pt x="39" y="522"/>
                    </a:lnTo>
                    <a:lnTo>
                      <a:pt x="108" y="492"/>
                    </a:lnTo>
                    <a:lnTo>
                      <a:pt x="141" y="468"/>
                    </a:lnTo>
                    <a:lnTo>
                      <a:pt x="195" y="441"/>
                    </a:lnTo>
                    <a:lnTo>
                      <a:pt x="207" y="417"/>
                    </a:lnTo>
                    <a:lnTo>
                      <a:pt x="297" y="387"/>
                    </a:lnTo>
                    <a:lnTo>
                      <a:pt x="327" y="393"/>
                    </a:lnTo>
                    <a:lnTo>
                      <a:pt x="330" y="372"/>
                    </a:lnTo>
                    <a:lnTo>
                      <a:pt x="381" y="342"/>
                    </a:lnTo>
                    <a:lnTo>
                      <a:pt x="390" y="315"/>
                    </a:lnTo>
                    <a:lnTo>
                      <a:pt x="468" y="303"/>
                    </a:lnTo>
                    <a:lnTo>
                      <a:pt x="522" y="258"/>
                    </a:lnTo>
                    <a:lnTo>
                      <a:pt x="570" y="210"/>
                    </a:lnTo>
                    <a:lnTo>
                      <a:pt x="582" y="189"/>
                    </a:lnTo>
                    <a:lnTo>
                      <a:pt x="612" y="162"/>
                    </a:lnTo>
                    <a:lnTo>
                      <a:pt x="642" y="108"/>
                    </a:lnTo>
                    <a:lnTo>
                      <a:pt x="642" y="90"/>
                    </a:lnTo>
                    <a:lnTo>
                      <a:pt x="663" y="75"/>
                    </a:lnTo>
                    <a:lnTo>
                      <a:pt x="654" y="54"/>
                    </a:lnTo>
                    <a:lnTo>
                      <a:pt x="696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65320" y="2458800"/>
                <a:ext cx="990360" cy="914040"/>
              </a:xfrm>
              <a:custGeom>
                <a:avLst/>
                <a:gdLst/>
                <a:ahLst/>
                <a:rect l="l" t="t" r="r" b="b"/>
                <a:pathLst>
                  <a:path w="624" h="576">
                    <a:moveTo>
                      <a:pt x="564" y="0"/>
                    </a:moveTo>
                    <a:lnTo>
                      <a:pt x="576" y="21"/>
                    </a:lnTo>
                    <a:lnTo>
                      <a:pt x="600" y="18"/>
                    </a:lnTo>
                    <a:lnTo>
                      <a:pt x="615" y="45"/>
                    </a:lnTo>
                    <a:lnTo>
                      <a:pt x="609" y="66"/>
                    </a:lnTo>
                    <a:lnTo>
                      <a:pt x="624" y="87"/>
                    </a:lnTo>
                    <a:lnTo>
                      <a:pt x="606" y="111"/>
                    </a:lnTo>
                    <a:lnTo>
                      <a:pt x="585" y="147"/>
                    </a:lnTo>
                    <a:lnTo>
                      <a:pt x="591" y="174"/>
                    </a:lnTo>
                    <a:lnTo>
                      <a:pt x="582" y="192"/>
                    </a:lnTo>
                    <a:lnTo>
                      <a:pt x="537" y="192"/>
                    </a:lnTo>
                    <a:lnTo>
                      <a:pt x="507" y="177"/>
                    </a:lnTo>
                    <a:lnTo>
                      <a:pt x="492" y="198"/>
                    </a:lnTo>
                    <a:lnTo>
                      <a:pt x="504" y="225"/>
                    </a:lnTo>
                    <a:lnTo>
                      <a:pt x="471" y="249"/>
                    </a:lnTo>
                    <a:lnTo>
                      <a:pt x="465" y="306"/>
                    </a:lnTo>
                    <a:lnTo>
                      <a:pt x="483" y="312"/>
                    </a:lnTo>
                    <a:lnTo>
                      <a:pt x="489" y="342"/>
                    </a:lnTo>
                    <a:lnTo>
                      <a:pt x="483" y="360"/>
                    </a:lnTo>
                    <a:lnTo>
                      <a:pt x="531" y="387"/>
                    </a:lnTo>
                    <a:lnTo>
                      <a:pt x="573" y="402"/>
                    </a:lnTo>
                    <a:lnTo>
                      <a:pt x="555" y="450"/>
                    </a:lnTo>
                    <a:lnTo>
                      <a:pt x="561" y="468"/>
                    </a:lnTo>
                    <a:lnTo>
                      <a:pt x="525" y="459"/>
                    </a:lnTo>
                    <a:lnTo>
                      <a:pt x="504" y="438"/>
                    </a:lnTo>
                    <a:lnTo>
                      <a:pt x="468" y="432"/>
                    </a:lnTo>
                    <a:lnTo>
                      <a:pt x="432" y="423"/>
                    </a:lnTo>
                    <a:lnTo>
                      <a:pt x="429" y="450"/>
                    </a:lnTo>
                    <a:lnTo>
                      <a:pt x="405" y="456"/>
                    </a:lnTo>
                    <a:lnTo>
                      <a:pt x="402" y="489"/>
                    </a:lnTo>
                    <a:lnTo>
                      <a:pt x="372" y="492"/>
                    </a:lnTo>
                    <a:lnTo>
                      <a:pt x="351" y="483"/>
                    </a:lnTo>
                    <a:lnTo>
                      <a:pt x="333" y="495"/>
                    </a:lnTo>
                    <a:lnTo>
                      <a:pt x="303" y="480"/>
                    </a:lnTo>
                    <a:lnTo>
                      <a:pt x="294" y="498"/>
                    </a:lnTo>
                    <a:lnTo>
                      <a:pt x="315" y="522"/>
                    </a:lnTo>
                    <a:lnTo>
                      <a:pt x="306" y="558"/>
                    </a:lnTo>
                    <a:lnTo>
                      <a:pt x="267" y="567"/>
                    </a:lnTo>
                    <a:lnTo>
                      <a:pt x="219" y="540"/>
                    </a:lnTo>
                    <a:lnTo>
                      <a:pt x="180" y="540"/>
                    </a:lnTo>
                    <a:lnTo>
                      <a:pt x="174" y="522"/>
                    </a:lnTo>
                    <a:lnTo>
                      <a:pt x="138" y="537"/>
                    </a:lnTo>
                    <a:lnTo>
                      <a:pt x="138" y="576"/>
                    </a:lnTo>
                    <a:lnTo>
                      <a:pt x="39" y="564"/>
                    </a:lnTo>
                    <a:lnTo>
                      <a:pt x="24" y="552"/>
                    </a:lnTo>
                    <a:lnTo>
                      <a:pt x="0" y="513"/>
                    </a:lnTo>
                    <a:lnTo>
                      <a:pt x="39" y="456"/>
                    </a:lnTo>
                    <a:lnTo>
                      <a:pt x="60" y="441"/>
                    </a:lnTo>
                    <a:lnTo>
                      <a:pt x="54" y="414"/>
                    </a:lnTo>
                    <a:lnTo>
                      <a:pt x="93" y="378"/>
                    </a:lnTo>
                    <a:lnTo>
                      <a:pt x="93" y="354"/>
                    </a:lnTo>
                    <a:lnTo>
                      <a:pt x="105" y="333"/>
                    </a:lnTo>
                    <a:lnTo>
                      <a:pt x="78" y="330"/>
                    </a:lnTo>
                    <a:lnTo>
                      <a:pt x="102" y="291"/>
                    </a:lnTo>
                    <a:lnTo>
                      <a:pt x="147" y="246"/>
                    </a:lnTo>
                    <a:lnTo>
                      <a:pt x="207" y="225"/>
                    </a:lnTo>
                    <a:lnTo>
                      <a:pt x="264" y="189"/>
                    </a:lnTo>
                    <a:lnTo>
                      <a:pt x="306" y="201"/>
                    </a:lnTo>
                    <a:lnTo>
                      <a:pt x="348" y="168"/>
                    </a:lnTo>
                    <a:lnTo>
                      <a:pt x="378" y="132"/>
                    </a:lnTo>
                    <a:lnTo>
                      <a:pt x="405" y="135"/>
                    </a:lnTo>
                    <a:lnTo>
                      <a:pt x="438" y="99"/>
                    </a:lnTo>
                    <a:lnTo>
                      <a:pt x="483" y="99"/>
                    </a:lnTo>
                    <a:lnTo>
                      <a:pt x="504" y="81"/>
                    </a:lnTo>
                    <a:lnTo>
                      <a:pt x="528" y="21"/>
                    </a:lnTo>
                    <a:lnTo>
                      <a:pt x="56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55800" y="3115800"/>
                <a:ext cx="1100160" cy="785520"/>
              </a:xfrm>
              <a:custGeom>
                <a:avLst/>
                <a:gdLst/>
                <a:ahLst/>
                <a:rect l="l" t="t" r="r" b="b"/>
                <a:pathLst>
                  <a:path w="693" h="495">
                    <a:moveTo>
                      <a:pt x="687" y="45"/>
                    </a:moveTo>
                    <a:lnTo>
                      <a:pt x="693" y="66"/>
                    </a:lnTo>
                    <a:lnTo>
                      <a:pt x="684" y="90"/>
                    </a:lnTo>
                    <a:lnTo>
                      <a:pt x="666" y="111"/>
                    </a:lnTo>
                    <a:lnTo>
                      <a:pt x="669" y="141"/>
                    </a:lnTo>
                    <a:lnTo>
                      <a:pt x="642" y="147"/>
                    </a:lnTo>
                    <a:lnTo>
                      <a:pt x="636" y="174"/>
                    </a:lnTo>
                    <a:lnTo>
                      <a:pt x="612" y="177"/>
                    </a:lnTo>
                    <a:lnTo>
                      <a:pt x="606" y="198"/>
                    </a:lnTo>
                    <a:lnTo>
                      <a:pt x="618" y="228"/>
                    </a:lnTo>
                    <a:lnTo>
                      <a:pt x="603" y="249"/>
                    </a:lnTo>
                    <a:lnTo>
                      <a:pt x="618" y="276"/>
                    </a:lnTo>
                    <a:lnTo>
                      <a:pt x="642" y="267"/>
                    </a:lnTo>
                    <a:lnTo>
                      <a:pt x="663" y="291"/>
                    </a:lnTo>
                    <a:lnTo>
                      <a:pt x="666" y="333"/>
                    </a:lnTo>
                    <a:lnTo>
                      <a:pt x="633" y="336"/>
                    </a:lnTo>
                    <a:lnTo>
                      <a:pt x="597" y="342"/>
                    </a:lnTo>
                    <a:lnTo>
                      <a:pt x="576" y="339"/>
                    </a:lnTo>
                    <a:lnTo>
                      <a:pt x="552" y="354"/>
                    </a:lnTo>
                    <a:lnTo>
                      <a:pt x="540" y="384"/>
                    </a:lnTo>
                    <a:lnTo>
                      <a:pt x="513" y="402"/>
                    </a:lnTo>
                    <a:lnTo>
                      <a:pt x="489" y="447"/>
                    </a:lnTo>
                    <a:lnTo>
                      <a:pt x="468" y="462"/>
                    </a:lnTo>
                    <a:lnTo>
                      <a:pt x="450" y="453"/>
                    </a:lnTo>
                    <a:lnTo>
                      <a:pt x="426" y="483"/>
                    </a:lnTo>
                    <a:lnTo>
                      <a:pt x="387" y="435"/>
                    </a:lnTo>
                    <a:lnTo>
                      <a:pt x="366" y="453"/>
                    </a:lnTo>
                    <a:lnTo>
                      <a:pt x="348" y="432"/>
                    </a:lnTo>
                    <a:lnTo>
                      <a:pt x="333" y="402"/>
                    </a:lnTo>
                    <a:lnTo>
                      <a:pt x="285" y="387"/>
                    </a:lnTo>
                    <a:lnTo>
                      <a:pt x="309" y="420"/>
                    </a:lnTo>
                    <a:lnTo>
                      <a:pt x="306" y="441"/>
                    </a:lnTo>
                    <a:lnTo>
                      <a:pt x="282" y="426"/>
                    </a:lnTo>
                    <a:lnTo>
                      <a:pt x="276" y="465"/>
                    </a:lnTo>
                    <a:lnTo>
                      <a:pt x="273" y="483"/>
                    </a:lnTo>
                    <a:lnTo>
                      <a:pt x="243" y="462"/>
                    </a:lnTo>
                    <a:lnTo>
                      <a:pt x="228" y="489"/>
                    </a:lnTo>
                    <a:lnTo>
                      <a:pt x="195" y="495"/>
                    </a:lnTo>
                    <a:lnTo>
                      <a:pt x="183" y="471"/>
                    </a:lnTo>
                    <a:lnTo>
                      <a:pt x="213" y="477"/>
                    </a:lnTo>
                    <a:lnTo>
                      <a:pt x="204" y="459"/>
                    </a:lnTo>
                    <a:lnTo>
                      <a:pt x="237" y="459"/>
                    </a:lnTo>
                    <a:lnTo>
                      <a:pt x="225" y="423"/>
                    </a:lnTo>
                    <a:lnTo>
                      <a:pt x="198" y="432"/>
                    </a:lnTo>
                    <a:lnTo>
                      <a:pt x="198" y="450"/>
                    </a:lnTo>
                    <a:lnTo>
                      <a:pt x="171" y="465"/>
                    </a:lnTo>
                    <a:lnTo>
                      <a:pt x="159" y="447"/>
                    </a:lnTo>
                    <a:lnTo>
                      <a:pt x="171" y="429"/>
                    </a:lnTo>
                    <a:lnTo>
                      <a:pt x="132" y="438"/>
                    </a:lnTo>
                    <a:lnTo>
                      <a:pt x="108" y="429"/>
                    </a:lnTo>
                    <a:lnTo>
                      <a:pt x="84" y="411"/>
                    </a:lnTo>
                    <a:lnTo>
                      <a:pt x="105" y="390"/>
                    </a:lnTo>
                    <a:lnTo>
                      <a:pt x="120" y="405"/>
                    </a:lnTo>
                    <a:lnTo>
                      <a:pt x="129" y="387"/>
                    </a:lnTo>
                    <a:lnTo>
                      <a:pt x="147" y="396"/>
                    </a:lnTo>
                    <a:lnTo>
                      <a:pt x="159" y="363"/>
                    </a:lnTo>
                    <a:lnTo>
                      <a:pt x="117" y="363"/>
                    </a:lnTo>
                    <a:lnTo>
                      <a:pt x="99" y="381"/>
                    </a:lnTo>
                    <a:lnTo>
                      <a:pt x="57" y="348"/>
                    </a:lnTo>
                    <a:lnTo>
                      <a:pt x="33" y="357"/>
                    </a:lnTo>
                    <a:lnTo>
                      <a:pt x="0" y="345"/>
                    </a:lnTo>
                    <a:lnTo>
                      <a:pt x="54" y="330"/>
                    </a:lnTo>
                    <a:lnTo>
                      <a:pt x="63" y="288"/>
                    </a:lnTo>
                    <a:lnTo>
                      <a:pt x="36" y="282"/>
                    </a:lnTo>
                    <a:lnTo>
                      <a:pt x="63" y="246"/>
                    </a:lnTo>
                    <a:lnTo>
                      <a:pt x="84" y="246"/>
                    </a:lnTo>
                    <a:lnTo>
                      <a:pt x="93" y="225"/>
                    </a:lnTo>
                    <a:lnTo>
                      <a:pt x="81" y="204"/>
                    </a:lnTo>
                    <a:lnTo>
                      <a:pt x="93" y="189"/>
                    </a:lnTo>
                    <a:lnTo>
                      <a:pt x="114" y="207"/>
                    </a:lnTo>
                    <a:lnTo>
                      <a:pt x="138" y="195"/>
                    </a:lnTo>
                    <a:lnTo>
                      <a:pt x="132" y="177"/>
                    </a:lnTo>
                    <a:lnTo>
                      <a:pt x="165" y="171"/>
                    </a:lnTo>
                    <a:lnTo>
                      <a:pt x="183" y="183"/>
                    </a:lnTo>
                    <a:lnTo>
                      <a:pt x="183" y="147"/>
                    </a:lnTo>
                    <a:lnTo>
                      <a:pt x="261" y="156"/>
                    </a:lnTo>
                    <a:lnTo>
                      <a:pt x="270" y="111"/>
                    </a:lnTo>
                    <a:lnTo>
                      <a:pt x="306" y="105"/>
                    </a:lnTo>
                    <a:lnTo>
                      <a:pt x="321" y="126"/>
                    </a:lnTo>
                    <a:lnTo>
                      <a:pt x="363" y="123"/>
                    </a:lnTo>
                    <a:lnTo>
                      <a:pt x="399" y="138"/>
                    </a:lnTo>
                    <a:lnTo>
                      <a:pt x="420" y="141"/>
                    </a:lnTo>
                    <a:lnTo>
                      <a:pt x="438" y="111"/>
                    </a:lnTo>
                    <a:lnTo>
                      <a:pt x="423" y="81"/>
                    </a:lnTo>
                    <a:lnTo>
                      <a:pt x="441" y="60"/>
                    </a:lnTo>
                    <a:lnTo>
                      <a:pt x="471" y="75"/>
                    </a:lnTo>
                    <a:lnTo>
                      <a:pt x="492" y="69"/>
                    </a:lnTo>
                    <a:lnTo>
                      <a:pt x="516" y="72"/>
                    </a:lnTo>
                    <a:lnTo>
                      <a:pt x="534" y="60"/>
                    </a:lnTo>
                    <a:lnTo>
                      <a:pt x="534" y="39"/>
                    </a:lnTo>
                    <a:lnTo>
                      <a:pt x="555" y="27"/>
                    </a:lnTo>
                    <a:lnTo>
                      <a:pt x="564" y="0"/>
                    </a:lnTo>
                    <a:lnTo>
                      <a:pt x="597" y="15"/>
                    </a:lnTo>
                    <a:lnTo>
                      <a:pt x="624" y="12"/>
                    </a:lnTo>
                    <a:lnTo>
                      <a:pt x="654" y="45"/>
                    </a:lnTo>
                    <a:lnTo>
                      <a:pt x="687" y="4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731960" y="3611160"/>
              <a:ext cx="695160" cy="747360"/>
            </a:xfrm>
            <a:custGeom>
              <a:avLst/>
              <a:gdLst/>
              <a:ahLst/>
              <a:rect l="l" t="t" r="r" b="b"/>
              <a:pathLst>
                <a:path w="438" h="471">
                  <a:moveTo>
                    <a:pt x="303" y="471"/>
                  </a:moveTo>
                  <a:lnTo>
                    <a:pt x="312" y="441"/>
                  </a:lnTo>
                  <a:lnTo>
                    <a:pt x="330" y="411"/>
                  </a:lnTo>
                  <a:lnTo>
                    <a:pt x="366" y="414"/>
                  </a:lnTo>
                  <a:lnTo>
                    <a:pt x="372" y="387"/>
                  </a:lnTo>
                  <a:lnTo>
                    <a:pt x="399" y="384"/>
                  </a:lnTo>
                  <a:lnTo>
                    <a:pt x="405" y="345"/>
                  </a:lnTo>
                  <a:lnTo>
                    <a:pt x="429" y="333"/>
                  </a:lnTo>
                  <a:lnTo>
                    <a:pt x="420" y="294"/>
                  </a:lnTo>
                  <a:lnTo>
                    <a:pt x="438" y="267"/>
                  </a:lnTo>
                  <a:lnTo>
                    <a:pt x="423" y="219"/>
                  </a:lnTo>
                  <a:lnTo>
                    <a:pt x="405" y="219"/>
                  </a:lnTo>
                  <a:lnTo>
                    <a:pt x="360" y="228"/>
                  </a:lnTo>
                  <a:lnTo>
                    <a:pt x="363" y="168"/>
                  </a:lnTo>
                  <a:lnTo>
                    <a:pt x="381" y="159"/>
                  </a:lnTo>
                  <a:lnTo>
                    <a:pt x="366" y="105"/>
                  </a:lnTo>
                  <a:lnTo>
                    <a:pt x="333" y="81"/>
                  </a:lnTo>
                  <a:lnTo>
                    <a:pt x="339" y="54"/>
                  </a:lnTo>
                  <a:lnTo>
                    <a:pt x="318" y="57"/>
                  </a:lnTo>
                  <a:lnTo>
                    <a:pt x="294" y="45"/>
                  </a:lnTo>
                  <a:lnTo>
                    <a:pt x="273" y="42"/>
                  </a:lnTo>
                  <a:lnTo>
                    <a:pt x="261" y="18"/>
                  </a:lnTo>
                  <a:lnTo>
                    <a:pt x="228" y="18"/>
                  </a:lnTo>
                  <a:lnTo>
                    <a:pt x="198" y="0"/>
                  </a:lnTo>
                  <a:lnTo>
                    <a:pt x="171" y="0"/>
                  </a:lnTo>
                  <a:lnTo>
                    <a:pt x="162" y="18"/>
                  </a:lnTo>
                  <a:lnTo>
                    <a:pt x="93" y="27"/>
                  </a:lnTo>
                  <a:lnTo>
                    <a:pt x="57" y="42"/>
                  </a:lnTo>
                  <a:lnTo>
                    <a:pt x="54" y="75"/>
                  </a:lnTo>
                  <a:lnTo>
                    <a:pt x="15" y="90"/>
                  </a:lnTo>
                  <a:lnTo>
                    <a:pt x="0" y="126"/>
                  </a:lnTo>
                  <a:lnTo>
                    <a:pt x="27" y="132"/>
                  </a:lnTo>
                  <a:lnTo>
                    <a:pt x="42" y="150"/>
                  </a:lnTo>
                  <a:lnTo>
                    <a:pt x="69" y="150"/>
                  </a:lnTo>
                  <a:lnTo>
                    <a:pt x="87" y="165"/>
                  </a:lnTo>
                  <a:lnTo>
                    <a:pt x="114" y="165"/>
                  </a:lnTo>
                  <a:lnTo>
                    <a:pt x="117" y="207"/>
                  </a:lnTo>
                  <a:lnTo>
                    <a:pt x="96" y="177"/>
                  </a:lnTo>
                  <a:lnTo>
                    <a:pt x="69" y="171"/>
                  </a:lnTo>
                  <a:lnTo>
                    <a:pt x="48" y="165"/>
                  </a:lnTo>
                  <a:lnTo>
                    <a:pt x="27" y="153"/>
                  </a:lnTo>
                  <a:lnTo>
                    <a:pt x="12" y="168"/>
                  </a:lnTo>
                  <a:lnTo>
                    <a:pt x="24" y="192"/>
                  </a:lnTo>
                  <a:lnTo>
                    <a:pt x="12" y="216"/>
                  </a:lnTo>
                  <a:lnTo>
                    <a:pt x="30" y="228"/>
                  </a:lnTo>
                  <a:lnTo>
                    <a:pt x="48" y="210"/>
                  </a:lnTo>
                  <a:lnTo>
                    <a:pt x="66" y="219"/>
                  </a:lnTo>
                  <a:lnTo>
                    <a:pt x="84" y="231"/>
                  </a:lnTo>
                  <a:lnTo>
                    <a:pt x="96" y="255"/>
                  </a:lnTo>
                  <a:lnTo>
                    <a:pt x="84" y="273"/>
                  </a:lnTo>
                  <a:lnTo>
                    <a:pt x="114" y="288"/>
                  </a:lnTo>
                  <a:lnTo>
                    <a:pt x="117" y="306"/>
                  </a:lnTo>
                  <a:lnTo>
                    <a:pt x="132" y="321"/>
                  </a:lnTo>
                  <a:lnTo>
                    <a:pt x="129" y="348"/>
                  </a:lnTo>
                  <a:lnTo>
                    <a:pt x="108" y="339"/>
                  </a:lnTo>
                  <a:lnTo>
                    <a:pt x="99" y="372"/>
                  </a:lnTo>
                  <a:lnTo>
                    <a:pt x="120" y="390"/>
                  </a:lnTo>
                  <a:lnTo>
                    <a:pt x="150" y="375"/>
                  </a:lnTo>
                  <a:lnTo>
                    <a:pt x="132" y="411"/>
                  </a:lnTo>
                  <a:lnTo>
                    <a:pt x="150" y="420"/>
                  </a:lnTo>
                  <a:lnTo>
                    <a:pt x="159" y="438"/>
                  </a:lnTo>
                  <a:lnTo>
                    <a:pt x="177" y="456"/>
                  </a:lnTo>
                  <a:lnTo>
                    <a:pt x="225" y="453"/>
                  </a:lnTo>
                  <a:lnTo>
                    <a:pt x="264" y="453"/>
                  </a:lnTo>
                  <a:lnTo>
                    <a:pt x="282" y="471"/>
                  </a:lnTo>
                  <a:lnTo>
                    <a:pt x="303" y="471"/>
                  </a:lnTo>
                  <a:close/>
                </a:path>
              </a:pathLst>
            </a:custGeom>
            <a:gradFill rotWithShape="0">
              <a:gsLst>
                <a:gs pos="0">
                  <a:srgbClr val="005e00"/>
                </a:gs>
                <a:gs pos="100000">
                  <a:srgbClr val="00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55920" y="4163760"/>
              <a:ext cx="885600" cy="871200"/>
            </a:xfrm>
            <a:custGeom>
              <a:avLst/>
              <a:gdLst/>
              <a:ahLst/>
              <a:rect l="l" t="t" r="r" b="b"/>
              <a:pathLst>
                <a:path w="558" h="549">
                  <a:moveTo>
                    <a:pt x="465" y="0"/>
                  </a:moveTo>
                  <a:lnTo>
                    <a:pt x="474" y="39"/>
                  </a:lnTo>
                  <a:lnTo>
                    <a:pt x="486" y="54"/>
                  </a:lnTo>
                  <a:lnTo>
                    <a:pt x="486" y="90"/>
                  </a:lnTo>
                  <a:lnTo>
                    <a:pt x="501" y="105"/>
                  </a:lnTo>
                  <a:lnTo>
                    <a:pt x="495" y="126"/>
                  </a:lnTo>
                  <a:lnTo>
                    <a:pt x="507" y="162"/>
                  </a:lnTo>
                  <a:lnTo>
                    <a:pt x="495" y="192"/>
                  </a:lnTo>
                  <a:lnTo>
                    <a:pt x="504" y="231"/>
                  </a:lnTo>
                  <a:lnTo>
                    <a:pt x="495" y="297"/>
                  </a:lnTo>
                  <a:lnTo>
                    <a:pt x="483" y="333"/>
                  </a:lnTo>
                  <a:lnTo>
                    <a:pt x="501" y="357"/>
                  </a:lnTo>
                  <a:lnTo>
                    <a:pt x="495" y="414"/>
                  </a:lnTo>
                  <a:lnTo>
                    <a:pt x="525" y="405"/>
                  </a:lnTo>
                  <a:lnTo>
                    <a:pt x="546" y="381"/>
                  </a:lnTo>
                  <a:lnTo>
                    <a:pt x="558" y="396"/>
                  </a:lnTo>
                  <a:lnTo>
                    <a:pt x="537" y="435"/>
                  </a:lnTo>
                  <a:lnTo>
                    <a:pt x="537" y="474"/>
                  </a:lnTo>
                  <a:lnTo>
                    <a:pt x="525" y="495"/>
                  </a:lnTo>
                  <a:lnTo>
                    <a:pt x="528" y="537"/>
                  </a:lnTo>
                  <a:lnTo>
                    <a:pt x="498" y="531"/>
                  </a:lnTo>
                  <a:lnTo>
                    <a:pt x="480" y="522"/>
                  </a:lnTo>
                  <a:lnTo>
                    <a:pt x="459" y="537"/>
                  </a:lnTo>
                  <a:lnTo>
                    <a:pt x="435" y="534"/>
                  </a:lnTo>
                  <a:lnTo>
                    <a:pt x="423" y="504"/>
                  </a:lnTo>
                  <a:lnTo>
                    <a:pt x="378" y="519"/>
                  </a:lnTo>
                  <a:lnTo>
                    <a:pt x="363" y="543"/>
                  </a:lnTo>
                  <a:lnTo>
                    <a:pt x="318" y="549"/>
                  </a:lnTo>
                  <a:lnTo>
                    <a:pt x="291" y="537"/>
                  </a:lnTo>
                  <a:lnTo>
                    <a:pt x="264" y="549"/>
                  </a:lnTo>
                  <a:lnTo>
                    <a:pt x="225" y="525"/>
                  </a:lnTo>
                  <a:lnTo>
                    <a:pt x="216" y="507"/>
                  </a:lnTo>
                  <a:lnTo>
                    <a:pt x="198" y="531"/>
                  </a:lnTo>
                  <a:lnTo>
                    <a:pt x="174" y="540"/>
                  </a:lnTo>
                  <a:lnTo>
                    <a:pt x="150" y="531"/>
                  </a:lnTo>
                  <a:lnTo>
                    <a:pt x="108" y="528"/>
                  </a:lnTo>
                  <a:lnTo>
                    <a:pt x="105" y="498"/>
                  </a:lnTo>
                  <a:lnTo>
                    <a:pt x="81" y="480"/>
                  </a:lnTo>
                  <a:lnTo>
                    <a:pt x="45" y="498"/>
                  </a:lnTo>
                  <a:lnTo>
                    <a:pt x="21" y="459"/>
                  </a:lnTo>
                  <a:lnTo>
                    <a:pt x="24" y="435"/>
                  </a:lnTo>
                  <a:lnTo>
                    <a:pt x="39" y="420"/>
                  </a:lnTo>
                  <a:lnTo>
                    <a:pt x="39" y="402"/>
                  </a:lnTo>
                  <a:lnTo>
                    <a:pt x="18" y="399"/>
                  </a:lnTo>
                  <a:lnTo>
                    <a:pt x="33" y="363"/>
                  </a:lnTo>
                  <a:lnTo>
                    <a:pt x="63" y="360"/>
                  </a:lnTo>
                  <a:lnTo>
                    <a:pt x="63" y="324"/>
                  </a:lnTo>
                  <a:lnTo>
                    <a:pt x="27" y="315"/>
                  </a:lnTo>
                  <a:lnTo>
                    <a:pt x="6" y="285"/>
                  </a:lnTo>
                  <a:lnTo>
                    <a:pt x="27" y="273"/>
                  </a:lnTo>
                  <a:lnTo>
                    <a:pt x="3" y="240"/>
                  </a:lnTo>
                  <a:lnTo>
                    <a:pt x="0" y="198"/>
                  </a:lnTo>
                  <a:lnTo>
                    <a:pt x="39" y="165"/>
                  </a:lnTo>
                  <a:lnTo>
                    <a:pt x="60" y="171"/>
                  </a:lnTo>
                  <a:lnTo>
                    <a:pt x="57" y="144"/>
                  </a:lnTo>
                  <a:lnTo>
                    <a:pt x="93" y="129"/>
                  </a:lnTo>
                  <a:lnTo>
                    <a:pt x="165" y="153"/>
                  </a:lnTo>
                  <a:lnTo>
                    <a:pt x="201" y="126"/>
                  </a:lnTo>
                  <a:lnTo>
                    <a:pt x="198" y="69"/>
                  </a:lnTo>
                  <a:lnTo>
                    <a:pt x="258" y="42"/>
                  </a:lnTo>
                  <a:lnTo>
                    <a:pt x="279" y="54"/>
                  </a:lnTo>
                  <a:lnTo>
                    <a:pt x="291" y="30"/>
                  </a:lnTo>
                  <a:lnTo>
                    <a:pt x="342" y="48"/>
                  </a:lnTo>
                  <a:lnTo>
                    <a:pt x="363" y="33"/>
                  </a:lnTo>
                  <a:lnTo>
                    <a:pt x="411" y="39"/>
                  </a:lnTo>
                  <a:lnTo>
                    <a:pt x="46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005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89160" y="4140000"/>
              <a:ext cx="642960" cy="666360"/>
            </a:xfrm>
            <a:custGeom>
              <a:avLst/>
              <a:gdLst/>
              <a:ahLst/>
              <a:rect l="l" t="t" r="r" b="b"/>
              <a:pathLst>
                <a:path w="405" h="420">
                  <a:moveTo>
                    <a:pt x="135" y="0"/>
                  </a:moveTo>
                  <a:lnTo>
                    <a:pt x="174" y="12"/>
                  </a:lnTo>
                  <a:lnTo>
                    <a:pt x="189" y="30"/>
                  </a:lnTo>
                  <a:lnTo>
                    <a:pt x="210" y="6"/>
                  </a:lnTo>
                  <a:lnTo>
                    <a:pt x="279" y="15"/>
                  </a:lnTo>
                  <a:lnTo>
                    <a:pt x="297" y="36"/>
                  </a:lnTo>
                  <a:lnTo>
                    <a:pt x="351" y="45"/>
                  </a:lnTo>
                  <a:lnTo>
                    <a:pt x="405" y="69"/>
                  </a:lnTo>
                  <a:lnTo>
                    <a:pt x="372" y="93"/>
                  </a:lnTo>
                  <a:lnTo>
                    <a:pt x="366" y="147"/>
                  </a:lnTo>
                  <a:lnTo>
                    <a:pt x="327" y="171"/>
                  </a:lnTo>
                  <a:lnTo>
                    <a:pt x="258" y="144"/>
                  </a:lnTo>
                  <a:lnTo>
                    <a:pt x="228" y="156"/>
                  </a:lnTo>
                  <a:lnTo>
                    <a:pt x="228" y="186"/>
                  </a:lnTo>
                  <a:lnTo>
                    <a:pt x="210" y="183"/>
                  </a:lnTo>
                  <a:lnTo>
                    <a:pt x="168" y="216"/>
                  </a:lnTo>
                  <a:lnTo>
                    <a:pt x="171" y="252"/>
                  </a:lnTo>
                  <a:lnTo>
                    <a:pt x="195" y="291"/>
                  </a:lnTo>
                  <a:lnTo>
                    <a:pt x="177" y="300"/>
                  </a:lnTo>
                  <a:lnTo>
                    <a:pt x="201" y="333"/>
                  </a:lnTo>
                  <a:lnTo>
                    <a:pt x="234" y="342"/>
                  </a:lnTo>
                  <a:lnTo>
                    <a:pt x="228" y="381"/>
                  </a:lnTo>
                  <a:lnTo>
                    <a:pt x="201" y="381"/>
                  </a:lnTo>
                  <a:lnTo>
                    <a:pt x="189" y="420"/>
                  </a:lnTo>
                  <a:lnTo>
                    <a:pt x="111" y="411"/>
                  </a:lnTo>
                  <a:lnTo>
                    <a:pt x="96" y="366"/>
                  </a:lnTo>
                  <a:lnTo>
                    <a:pt x="63" y="345"/>
                  </a:lnTo>
                  <a:lnTo>
                    <a:pt x="60" y="312"/>
                  </a:lnTo>
                  <a:lnTo>
                    <a:pt x="78" y="300"/>
                  </a:lnTo>
                  <a:lnTo>
                    <a:pt x="48" y="273"/>
                  </a:lnTo>
                  <a:lnTo>
                    <a:pt x="27" y="273"/>
                  </a:lnTo>
                  <a:lnTo>
                    <a:pt x="27" y="234"/>
                  </a:lnTo>
                  <a:lnTo>
                    <a:pt x="0" y="219"/>
                  </a:lnTo>
                  <a:lnTo>
                    <a:pt x="18" y="195"/>
                  </a:lnTo>
                  <a:lnTo>
                    <a:pt x="15" y="177"/>
                  </a:lnTo>
                  <a:lnTo>
                    <a:pt x="36" y="174"/>
                  </a:lnTo>
                  <a:lnTo>
                    <a:pt x="12" y="132"/>
                  </a:lnTo>
                  <a:lnTo>
                    <a:pt x="33" y="69"/>
                  </a:lnTo>
                  <a:lnTo>
                    <a:pt x="72" y="81"/>
                  </a:lnTo>
                  <a:lnTo>
                    <a:pt x="78" y="54"/>
                  </a:lnTo>
                  <a:lnTo>
                    <a:pt x="111" y="45"/>
                  </a:lnTo>
                  <a:lnTo>
                    <a:pt x="111" y="18"/>
                  </a:lnTo>
                  <a:lnTo>
                    <a:pt x="135" y="0"/>
                  </a:ln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36560" y="4296960"/>
              <a:ext cx="728640" cy="566280"/>
            </a:xfrm>
            <a:custGeom>
              <a:avLst/>
              <a:gdLst/>
              <a:ahLst/>
              <a:rect l="l" t="t" r="r" b="b"/>
              <a:pathLst>
                <a:path w="459" h="357">
                  <a:moveTo>
                    <a:pt x="72" y="3"/>
                  </a:moveTo>
                  <a:lnTo>
                    <a:pt x="102" y="3"/>
                  </a:lnTo>
                  <a:lnTo>
                    <a:pt x="102" y="39"/>
                  </a:lnTo>
                  <a:lnTo>
                    <a:pt x="117" y="15"/>
                  </a:lnTo>
                  <a:lnTo>
                    <a:pt x="135" y="0"/>
                  </a:lnTo>
                  <a:lnTo>
                    <a:pt x="159" y="6"/>
                  </a:lnTo>
                  <a:lnTo>
                    <a:pt x="162" y="27"/>
                  </a:lnTo>
                  <a:lnTo>
                    <a:pt x="183" y="12"/>
                  </a:lnTo>
                  <a:lnTo>
                    <a:pt x="207" y="24"/>
                  </a:lnTo>
                  <a:lnTo>
                    <a:pt x="219" y="48"/>
                  </a:lnTo>
                  <a:lnTo>
                    <a:pt x="246" y="18"/>
                  </a:lnTo>
                  <a:lnTo>
                    <a:pt x="291" y="12"/>
                  </a:lnTo>
                  <a:lnTo>
                    <a:pt x="333" y="21"/>
                  </a:lnTo>
                  <a:lnTo>
                    <a:pt x="342" y="39"/>
                  </a:lnTo>
                  <a:lnTo>
                    <a:pt x="363" y="39"/>
                  </a:lnTo>
                  <a:lnTo>
                    <a:pt x="387" y="78"/>
                  </a:lnTo>
                  <a:lnTo>
                    <a:pt x="363" y="81"/>
                  </a:lnTo>
                  <a:lnTo>
                    <a:pt x="375" y="102"/>
                  </a:lnTo>
                  <a:lnTo>
                    <a:pt x="351" y="111"/>
                  </a:lnTo>
                  <a:lnTo>
                    <a:pt x="381" y="135"/>
                  </a:lnTo>
                  <a:lnTo>
                    <a:pt x="378" y="171"/>
                  </a:lnTo>
                  <a:lnTo>
                    <a:pt x="405" y="171"/>
                  </a:lnTo>
                  <a:lnTo>
                    <a:pt x="429" y="204"/>
                  </a:lnTo>
                  <a:lnTo>
                    <a:pt x="408" y="216"/>
                  </a:lnTo>
                  <a:lnTo>
                    <a:pt x="408" y="240"/>
                  </a:lnTo>
                  <a:lnTo>
                    <a:pt x="450" y="270"/>
                  </a:lnTo>
                  <a:lnTo>
                    <a:pt x="459" y="321"/>
                  </a:lnTo>
                  <a:lnTo>
                    <a:pt x="426" y="357"/>
                  </a:lnTo>
                  <a:lnTo>
                    <a:pt x="378" y="345"/>
                  </a:lnTo>
                  <a:lnTo>
                    <a:pt x="351" y="327"/>
                  </a:lnTo>
                  <a:lnTo>
                    <a:pt x="357" y="303"/>
                  </a:lnTo>
                  <a:lnTo>
                    <a:pt x="327" y="300"/>
                  </a:lnTo>
                  <a:lnTo>
                    <a:pt x="306" y="306"/>
                  </a:lnTo>
                  <a:lnTo>
                    <a:pt x="273" y="303"/>
                  </a:lnTo>
                  <a:lnTo>
                    <a:pt x="222" y="318"/>
                  </a:lnTo>
                  <a:lnTo>
                    <a:pt x="210" y="300"/>
                  </a:lnTo>
                  <a:lnTo>
                    <a:pt x="159" y="327"/>
                  </a:lnTo>
                  <a:lnTo>
                    <a:pt x="135" y="303"/>
                  </a:lnTo>
                  <a:lnTo>
                    <a:pt x="105" y="279"/>
                  </a:lnTo>
                  <a:lnTo>
                    <a:pt x="126" y="267"/>
                  </a:lnTo>
                  <a:lnTo>
                    <a:pt x="123" y="228"/>
                  </a:lnTo>
                  <a:lnTo>
                    <a:pt x="102" y="195"/>
                  </a:lnTo>
                  <a:lnTo>
                    <a:pt x="123" y="180"/>
                  </a:lnTo>
                  <a:lnTo>
                    <a:pt x="99" y="153"/>
                  </a:lnTo>
                  <a:lnTo>
                    <a:pt x="111" y="123"/>
                  </a:lnTo>
                  <a:lnTo>
                    <a:pt x="96" y="108"/>
                  </a:lnTo>
                  <a:lnTo>
                    <a:pt x="75" y="117"/>
                  </a:lnTo>
                  <a:lnTo>
                    <a:pt x="63" y="90"/>
                  </a:lnTo>
                  <a:lnTo>
                    <a:pt x="15" y="96"/>
                  </a:lnTo>
                  <a:lnTo>
                    <a:pt x="0" y="78"/>
                  </a:lnTo>
                  <a:lnTo>
                    <a:pt x="18" y="39"/>
                  </a:lnTo>
                  <a:lnTo>
                    <a:pt x="39" y="27"/>
                  </a:lnTo>
                  <a:lnTo>
                    <a:pt x="60" y="36"/>
                  </a:lnTo>
                  <a:lnTo>
                    <a:pt x="42" y="48"/>
                  </a:lnTo>
                  <a:lnTo>
                    <a:pt x="66" y="63"/>
                  </a:lnTo>
                  <a:lnTo>
                    <a:pt x="81" y="42"/>
                  </a:lnTo>
                  <a:lnTo>
                    <a:pt x="72" y="3"/>
                  </a:lnTo>
                  <a:close/>
                </a:path>
              </a:pathLst>
            </a:custGeom>
            <a:gradFill rotWithShape="0">
              <a:gsLst>
                <a:gs pos="0">
                  <a:srgbClr val="002f75"/>
                </a:gs>
                <a:gs pos="100000">
                  <a:srgbClr val="00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41440" y="4882680"/>
              <a:ext cx="947880" cy="595080"/>
            </a:xfrm>
            <a:custGeom>
              <a:avLst/>
              <a:gdLst/>
              <a:ahLst/>
              <a:rect l="l" t="t" r="r" b="b"/>
              <a:pathLst>
                <a:path w="597" h="375">
                  <a:moveTo>
                    <a:pt x="93" y="0"/>
                  </a:moveTo>
                  <a:lnTo>
                    <a:pt x="120" y="42"/>
                  </a:lnTo>
                  <a:lnTo>
                    <a:pt x="153" y="24"/>
                  </a:lnTo>
                  <a:lnTo>
                    <a:pt x="183" y="39"/>
                  </a:lnTo>
                  <a:lnTo>
                    <a:pt x="186" y="78"/>
                  </a:lnTo>
                  <a:lnTo>
                    <a:pt x="225" y="72"/>
                  </a:lnTo>
                  <a:lnTo>
                    <a:pt x="246" y="87"/>
                  </a:lnTo>
                  <a:lnTo>
                    <a:pt x="294" y="51"/>
                  </a:lnTo>
                  <a:lnTo>
                    <a:pt x="309" y="75"/>
                  </a:lnTo>
                  <a:lnTo>
                    <a:pt x="351" y="93"/>
                  </a:lnTo>
                  <a:lnTo>
                    <a:pt x="378" y="75"/>
                  </a:lnTo>
                  <a:lnTo>
                    <a:pt x="402" y="90"/>
                  </a:lnTo>
                  <a:lnTo>
                    <a:pt x="456" y="57"/>
                  </a:lnTo>
                  <a:lnTo>
                    <a:pt x="498" y="48"/>
                  </a:lnTo>
                  <a:lnTo>
                    <a:pt x="504" y="72"/>
                  </a:lnTo>
                  <a:lnTo>
                    <a:pt x="534" y="75"/>
                  </a:lnTo>
                  <a:lnTo>
                    <a:pt x="549" y="60"/>
                  </a:lnTo>
                  <a:lnTo>
                    <a:pt x="597" y="81"/>
                  </a:lnTo>
                  <a:lnTo>
                    <a:pt x="585" y="105"/>
                  </a:lnTo>
                  <a:lnTo>
                    <a:pt x="588" y="129"/>
                  </a:lnTo>
                  <a:lnTo>
                    <a:pt x="567" y="147"/>
                  </a:lnTo>
                  <a:lnTo>
                    <a:pt x="528" y="192"/>
                  </a:lnTo>
                  <a:lnTo>
                    <a:pt x="534" y="219"/>
                  </a:lnTo>
                  <a:lnTo>
                    <a:pt x="495" y="270"/>
                  </a:lnTo>
                  <a:lnTo>
                    <a:pt x="459" y="285"/>
                  </a:lnTo>
                  <a:lnTo>
                    <a:pt x="426" y="273"/>
                  </a:lnTo>
                  <a:lnTo>
                    <a:pt x="393" y="297"/>
                  </a:lnTo>
                  <a:lnTo>
                    <a:pt x="369" y="270"/>
                  </a:lnTo>
                  <a:lnTo>
                    <a:pt x="327" y="258"/>
                  </a:lnTo>
                  <a:lnTo>
                    <a:pt x="342" y="291"/>
                  </a:lnTo>
                  <a:lnTo>
                    <a:pt x="297" y="285"/>
                  </a:lnTo>
                  <a:lnTo>
                    <a:pt x="309" y="267"/>
                  </a:lnTo>
                  <a:lnTo>
                    <a:pt x="291" y="264"/>
                  </a:lnTo>
                  <a:lnTo>
                    <a:pt x="258" y="300"/>
                  </a:lnTo>
                  <a:lnTo>
                    <a:pt x="288" y="294"/>
                  </a:lnTo>
                  <a:lnTo>
                    <a:pt x="297" y="312"/>
                  </a:lnTo>
                  <a:lnTo>
                    <a:pt x="270" y="330"/>
                  </a:lnTo>
                  <a:lnTo>
                    <a:pt x="291" y="354"/>
                  </a:lnTo>
                  <a:lnTo>
                    <a:pt x="333" y="339"/>
                  </a:lnTo>
                  <a:lnTo>
                    <a:pt x="327" y="312"/>
                  </a:lnTo>
                  <a:lnTo>
                    <a:pt x="360" y="306"/>
                  </a:lnTo>
                  <a:lnTo>
                    <a:pt x="360" y="330"/>
                  </a:lnTo>
                  <a:lnTo>
                    <a:pt x="372" y="354"/>
                  </a:lnTo>
                  <a:lnTo>
                    <a:pt x="345" y="375"/>
                  </a:lnTo>
                  <a:lnTo>
                    <a:pt x="327" y="363"/>
                  </a:lnTo>
                  <a:lnTo>
                    <a:pt x="270" y="369"/>
                  </a:lnTo>
                  <a:lnTo>
                    <a:pt x="270" y="348"/>
                  </a:lnTo>
                  <a:lnTo>
                    <a:pt x="240" y="351"/>
                  </a:lnTo>
                  <a:lnTo>
                    <a:pt x="225" y="336"/>
                  </a:lnTo>
                  <a:lnTo>
                    <a:pt x="171" y="351"/>
                  </a:lnTo>
                  <a:lnTo>
                    <a:pt x="150" y="330"/>
                  </a:lnTo>
                  <a:lnTo>
                    <a:pt x="147" y="294"/>
                  </a:lnTo>
                  <a:lnTo>
                    <a:pt x="126" y="318"/>
                  </a:lnTo>
                  <a:lnTo>
                    <a:pt x="90" y="336"/>
                  </a:lnTo>
                  <a:lnTo>
                    <a:pt x="63" y="324"/>
                  </a:lnTo>
                  <a:lnTo>
                    <a:pt x="39" y="264"/>
                  </a:lnTo>
                  <a:lnTo>
                    <a:pt x="12" y="249"/>
                  </a:lnTo>
                  <a:lnTo>
                    <a:pt x="15" y="219"/>
                  </a:lnTo>
                  <a:lnTo>
                    <a:pt x="0" y="201"/>
                  </a:lnTo>
                  <a:lnTo>
                    <a:pt x="0" y="174"/>
                  </a:lnTo>
                  <a:lnTo>
                    <a:pt x="15" y="150"/>
                  </a:lnTo>
                  <a:lnTo>
                    <a:pt x="6" y="120"/>
                  </a:lnTo>
                  <a:lnTo>
                    <a:pt x="24" y="81"/>
                  </a:lnTo>
                  <a:lnTo>
                    <a:pt x="18" y="51"/>
                  </a:lnTo>
                  <a:lnTo>
                    <a:pt x="48" y="42"/>
                  </a:lnTo>
                  <a:lnTo>
                    <a:pt x="45" y="15"/>
                  </a:lnTo>
                  <a:lnTo>
                    <a:pt x="72" y="3"/>
                  </a:lnTo>
                  <a:lnTo>
                    <a:pt x="9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1040" y="4758840"/>
              <a:ext cx="771480" cy="466560"/>
            </a:xfrm>
            <a:custGeom>
              <a:avLst/>
              <a:gdLst/>
              <a:ahLst/>
              <a:rect l="l" t="t" r="r" b="b"/>
              <a:pathLst>
                <a:path w="486" h="294">
                  <a:moveTo>
                    <a:pt x="387" y="21"/>
                  </a:moveTo>
                  <a:lnTo>
                    <a:pt x="456" y="24"/>
                  </a:lnTo>
                  <a:lnTo>
                    <a:pt x="486" y="39"/>
                  </a:lnTo>
                  <a:lnTo>
                    <a:pt x="468" y="54"/>
                  </a:lnTo>
                  <a:lnTo>
                    <a:pt x="468" y="84"/>
                  </a:lnTo>
                  <a:lnTo>
                    <a:pt x="429" y="90"/>
                  </a:lnTo>
                  <a:lnTo>
                    <a:pt x="420" y="123"/>
                  </a:lnTo>
                  <a:lnTo>
                    <a:pt x="393" y="132"/>
                  </a:lnTo>
                  <a:lnTo>
                    <a:pt x="399" y="156"/>
                  </a:lnTo>
                  <a:lnTo>
                    <a:pt x="381" y="189"/>
                  </a:lnTo>
                  <a:lnTo>
                    <a:pt x="387" y="216"/>
                  </a:lnTo>
                  <a:lnTo>
                    <a:pt x="378" y="243"/>
                  </a:lnTo>
                  <a:lnTo>
                    <a:pt x="372" y="285"/>
                  </a:lnTo>
                  <a:lnTo>
                    <a:pt x="345" y="279"/>
                  </a:lnTo>
                  <a:lnTo>
                    <a:pt x="318" y="294"/>
                  </a:lnTo>
                  <a:lnTo>
                    <a:pt x="297" y="270"/>
                  </a:lnTo>
                  <a:lnTo>
                    <a:pt x="270" y="285"/>
                  </a:lnTo>
                  <a:lnTo>
                    <a:pt x="255" y="273"/>
                  </a:lnTo>
                  <a:lnTo>
                    <a:pt x="225" y="282"/>
                  </a:lnTo>
                  <a:lnTo>
                    <a:pt x="204" y="273"/>
                  </a:lnTo>
                  <a:lnTo>
                    <a:pt x="204" y="246"/>
                  </a:lnTo>
                  <a:lnTo>
                    <a:pt x="168" y="249"/>
                  </a:lnTo>
                  <a:lnTo>
                    <a:pt x="138" y="219"/>
                  </a:lnTo>
                  <a:lnTo>
                    <a:pt x="114" y="225"/>
                  </a:lnTo>
                  <a:lnTo>
                    <a:pt x="96" y="240"/>
                  </a:lnTo>
                  <a:lnTo>
                    <a:pt x="96" y="264"/>
                  </a:lnTo>
                  <a:lnTo>
                    <a:pt x="69" y="285"/>
                  </a:lnTo>
                  <a:lnTo>
                    <a:pt x="0" y="258"/>
                  </a:lnTo>
                  <a:lnTo>
                    <a:pt x="24" y="237"/>
                  </a:lnTo>
                  <a:lnTo>
                    <a:pt x="30" y="207"/>
                  </a:lnTo>
                  <a:lnTo>
                    <a:pt x="75" y="201"/>
                  </a:lnTo>
                  <a:lnTo>
                    <a:pt x="78" y="183"/>
                  </a:lnTo>
                  <a:lnTo>
                    <a:pt x="30" y="186"/>
                  </a:lnTo>
                  <a:lnTo>
                    <a:pt x="54" y="144"/>
                  </a:lnTo>
                  <a:lnTo>
                    <a:pt x="84" y="138"/>
                  </a:lnTo>
                  <a:lnTo>
                    <a:pt x="72" y="120"/>
                  </a:lnTo>
                  <a:lnTo>
                    <a:pt x="96" y="108"/>
                  </a:lnTo>
                  <a:lnTo>
                    <a:pt x="120" y="102"/>
                  </a:lnTo>
                  <a:lnTo>
                    <a:pt x="108" y="84"/>
                  </a:lnTo>
                  <a:lnTo>
                    <a:pt x="60" y="84"/>
                  </a:lnTo>
                  <a:lnTo>
                    <a:pt x="75" y="60"/>
                  </a:lnTo>
                  <a:lnTo>
                    <a:pt x="105" y="57"/>
                  </a:lnTo>
                  <a:lnTo>
                    <a:pt x="93" y="21"/>
                  </a:lnTo>
                  <a:lnTo>
                    <a:pt x="135" y="3"/>
                  </a:lnTo>
                  <a:lnTo>
                    <a:pt x="150" y="21"/>
                  </a:lnTo>
                  <a:lnTo>
                    <a:pt x="201" y="6"/>
                  </a:lnTo>
                  <a:lnTo>
                    <a:pt x="228" y="12"/>
                  </a:lnTo>
                  <a:lnTo>
                    <a:pt x="282" y="0"/>
                  </a:lnTo>
                  <a:lnTo>
                    <a:pt x="279" y="27"/>
                  </a:lnTo>
                  <a:lnTo>
                    <a:pt x="309" y="51"/>
                  </a:lnTo>
                  <a:lnTo>
                    <a:pt x="339" y="57"/>
                  </a:lnTo>
                  <a:lnTo>
                    <a:pt x="387" y="21"/>
                  </a:lnTo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74720" y="5097240"/>
              <a:ext cx="766800" cy="661680"/>
            </a:xfrm>
            <a:custGeom>
              <a:avLst/>
              <a:gdLst/>
              <a:ahLst/>
              <a:rect l="l" t="t" r="r" b="b"/>
              <a:pathLst>
                <a:path w="483" h="417">
                  <a:moveTo>
                    <a:pt x="63" y="45"/>
                  </a:moveTo>
                  <a:lnTo>
                    <a:pt x="111" y="66"/>
                  </a:lnTo>
                  <a:lnTo>
                    <a:pt x="132" y="57"/>
                  </a:lnTo>
                  <a:lnTo>
                    <a:pt x="144" y="12"/>
                  </a:lnTo>
                  <a:lnTo>
                    <a:pt x="186" y="0"/>
                  </a:lnTo>
                  <a:lnTo>
                    <a:pt x="210" y="27"/>
                  </a:lnTo>
                  <a:lnTo>
                    <a:pt x="249" y="30"/>
                  </a:lnTo>
                  <a:lnTo>
                    <a:pt x="252" y="54"/>
                  </a:lnTo>
                  <a:lnTo>
                    <a:pt x="279" y="66"/>
                  </a:lnTo>
                  <a:lnTo>
                    <a:pt x="300" y="54"/>
                  </a:lnTo>
                  <a:lnTo>
                    <a:pt x="312" y="72"/>
                  </a:lnTo>
                  <a:lnTo>
                    <a:pt x="342" y="54"/>
                  </a:lnTo>
                  <a:lnTo>
                    <a:pt x="369" y="72"/>
                  </a:lnTo>
                  <a:lnTo>
                    <a:pt x="387" y="57"/>
                  </a:lnTo>
                  <a:lnTo>
                    <a:pt x="423" y="69"/>
                  </a:lnTo>
                  <a:lnTo>
                    <a:pt x="441" y="87"/>
                  </a:lnTo>
                  <a:lnTo>
                    <a:pt x="438" y="117"/>
                  </a:lnTo>
                  <a:lnTo>
                    <a:pt x="465" y="126"/>
                  </a:lnTo>
                  <a:lnTo>
                    <a:pt x="477" y="162"/>
                  </a:lnTo>
                  <a:lnTo>
                    <a:pt x="483" y="183"/>
                  </a:lnTo>
                  <a:lnTo>
                    <a:pt x="444" y="219"/>
                  </a:lnTo>
                  <a:lnTo>
                    <a:pt x="450" y="240"/>
                  </a:lnTo>
                  <a:lnTo>
                    <a:pt x="477" y="231"/>
                  </a:lnTo>
                  <a:lnTo>
                    <a:pt x="480" y="270"/>
                  </a:lnTo>
                  <a:lnTo>
                    <a:pt x="441" y="267"/>
                  </a:lnTo>
                  <a:lnTo>
                    <a:pt x="447" y="300"/>
                  </a:lnTo>
                  <a:lnTo>
                    <a:pt x="411" y="288"/>
                  </a:lnTo>
                  <a:lnTo>
                    <a:pt x="426" y="270"/>
                  </a:lnTo>
                  <a:lnTo>
                    <a:pt x="417" y="240"/>
                  </a:lnTo>
                  <a:lnTo>
                    <a:pt x="405" y="222"/>
                  </a:lnTo>
                  <a:lnTo>
                    <a:pt x="363" y="234"/>
                  </a:lnTo>
                  <a:lnTo>
                    <a:pt x="369" y="270"/>
                  </a:lnTo>
                  <a:lnTo>
                    <a:pt x="393" y="297"/>
                  </a:lnTo>
                  <a:lnTo>
                    <a:pt x="381" y="327"/>
                  </a:lnTo>
                  <a:lnTo>
                    <a:pt x="330" y="363"/>
                  </a:lnTo>
                  <a:lnTo>
                    <a:pt x="303" y="336"/>
                  </a:lnTo>
                  <a:lnTo>
                    <a:pt x="303" y="306"/>
                  </a:lnTo>
                  <a:lnTo>
                    <a:pt x="339" y="276"/>
                  </a:lnTo>
                  <a:lnTo>
                    <a:pt x="324" y="258"/>
                  </a:lnTo>
                  <a:lnTo>
                    <a:pt x="288" y="288"/>
                  </a:lnTo>
                  <a:lnTo>
                    <a:pt x="246" y="303"/>
                  </a:lnTo>
                  <a:lnTo>
                    <a:pt x="228" y="321"/>
                  </a:lnTo>
                  <a:lnTo>
                    <a:pt x="240" y="345"/>
                  </a:lnTo>
                  <a:lnTo>
                    <a:pt x="201" y="366"/>
                  </a:lnTo>
                  <a:lnTo>
                    <a:pt x="177" y="357"/>
                  </a:lnTo>
                  <a:lnTo>
                    <a:pt x="162" y="321"/>
                  </a:lnTo>
                  <a:lnTo>
                    <a:pt x="144" y="342"/>
                  </a:lnTo>
                  <a:lnTo>
                    <a:pt x="162" y="348"/>
                  </a:lnTo>
                  <a:lnTo>
                    <a:pt x="120" y="372"/>
                  </a:lnTo>
                  <a:lnTo>
                    <a:pt x="102" y="417"/>
                  </a:lnTo>
                  <a:lnTo>
                    <a:pt x="66" y="399"/>
                  </a:lnTo>
                  <a:lnTo>
                    <a:pt x="90" y="378"/>
                  </a:lnTo>
                  <a:lnTo>
                    <a:pt x="63" y="348"/>
                  </a:lnTo>
                  <a:lnTo>
                    <a:pt x="84" y="324"/>
                  </a:lnTo>
                  <a:lnTo>
                    <a:pt x="45" y="330"/>
                  </a:lnTo>
                  <a:lnTo>
                    <a:pt x="0" y="297"/>
                  </a:lnTo>
                  <a:lnTo>
                    <a:pt x="6" y="264"/>
                  </a:lnTo>
                  <a:lnTo>
                    <a:pt x="36" y="264"/>
                  </a:lnTo>
                  <a:lnTo>
                    <a:pt x="33" y="294"/>
                  </a:lnTo>
                  <a:lnTo>
                    <a:pt x="57" y="312"/>
                  </a:lnTo>
                  <a:lnTo>
                    <a:pt x="54" y="285"/>
                  </a:lnTo>
                  <a:lnTo>
                    <a:pt x="75" y="291"/>
                  </a:lnTo>
                  <a:lnTo>
                    <a:pt x="93" y="309"/>
                  </a:lnTo>
                  <a:lnTo>
                    <a:pt x="114" y="297"/>
                  </a:lnTo>
                  <a:lnTo>
                    <a:pt x="93" y="282"/>
                  </a:lnTo>
                  <a:lnTo>
                    <a:pt x="51" y="261"/>
                  </a:lnTo>
                  <a:lnTo>
                    <a:pt x="96" y="240"/>
                  </a:lnTo>
                  <a:lnTo>
                    <a:pt x="123" y="240"/>
                  </a:lnTo>
                  <a:lnTo>
                    <a:pt x="99" y="213"/>
                  </a:lnTo>
                  <a:lnTo>
                    <a:pt x="66" y="252"/>
                  </a:lnTo>
                  <a:lnTo>
                    <a:pt x="42" y="228"/>
                  </a:lnTo>
                  <a:lnTo>
                    <a:pt x="60" y="192"/>
                  </a:lnTo>
                  <a:lnTo>
                    <a:pt x="30" y="192"/>
                  </a:lnTo>
                  <a:lnTo>
                    <a:pt x="27" y="174"/>
                  </a:lnTo>
                  <a:lnTo>
                    <a:pt x="57" y="159"/>
                  </a:lnTo>
                  <a:lnTo>
                    <a:pt x="57" y="132"/>
                  </a:lnTo>
                  <a:lnTo>
                    <a:pt x="30" y="99"/>
                  </a:lnTo>
                  <a:lnTo>
                    <a:pt x="42" y="48"/>
                  </a:lnTo>
                  <a:lnTo>
                    <a:pt x="63" y="45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4280" y="133200"/>
            <a:ext cx="7848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Master title style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46400" y="1887480"/>
            <a:ext cx="4381560" cy="711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9560" y="1960560"/>
            <a:ext cx="4094280" cy="558720"/>
          </a:xfrm>
          <a:prstGeom prst="roundRect">
            <a:avLst>
              <a:gd name="adj" fmla="val 50000"/>
            </a:avLst>
          </a:prstGeom>
          <a:solidFill>
            <a:srgbClr val="00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9360" y="2720880"/>
            <a:ext cx="4381200" cy="711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32160" y="2792520"/>
            <a:ext cx="4094280" cy="56016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71960" y="3552840"/>
            <a:ext cx="4381560" cy="711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45120" y="3625920"/>
            <a:ext cx="4093920" cy="55872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84560" y="4386240"/>
            <a:ext cx="4381560" cy="711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7720" y="4459320"/>
            <a:ext cx="4094280" cy="558720"/>
          </a:xfrm>
          <a:prstGeom prst="roundRect">
            <a:avLst>
              <a:gd name="adj" fmla="val 50000"/>
            </a:avLst>
          </a:prstGeom>
          <a:solidFill>
            <a:srgbClr val="00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38720" y="2895480"/>
            <a:ext cx="33274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2. Strategy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9880" y="3716280"/>
            <a:ext cx="40622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3. Challengers Forward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49880" y="4560840"/>
            <a:ext cx="3316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4. Conclusion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27560" y="2039760"/>
            <a:ext cx="334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1. Introduction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60680" y="6094440"/>
            <a:ext cx="399960" cy="195120"/>
          </a:xfrm>
          <a:custGeom>
            <a:avLst/>
            <a:gdLst/>
            <a:ahLst/>
            <a:rect l="l" t="t" r="r" b="b"/>
            <a:pathLst>
              <a:path w="252" h="123">
                <a:moveTo>
                  <a:pt x="0" y="96"/>
                </a:moveTo>
                <a:lnTo>
                  <a:pt x="9" y="63"/>
                </a:lnTo>
                <a:lnTo>
                  <a:pt x="27" y="54"/>
                </a:lnTo>
                <a:lnTo>
                  <a:pt x="78" y="18"/>
                </a:lnTo>
                <a:lnTo>
                  <a:pt x="201" y="0"/>
                </a:lnTo>
                <a:lnTo>
                  <a:pt x="225" y="15"/>
                </a:lnTo>
                <a:lnTo>
                  <a:pt x="249" y="15"/>
                </a:lnTo>
                <a:lnTo>
                  <a:pt x="252" y="36"/>
                </a:lnTo>
                <a:lnTo>
                  <a:pt x="231" y="78"/>
                </a:lnTo>
                <a:lnTo>
                  <a:pt x="159" y="102"/>
                </a:lnTo>
                <a:lnTo>
                  <a:pt x="129" y="120"/>
                </a:lnTo>
                <a:lnTo>
                  <a:pt x="54" y="102"/>
                </a:lnTo>
                <a:lnTo>
                  <a:pt x="42" y="123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35120" y="6048360"/>
            <a:ext cx="399960" cy="195120"/>
          </a:xfrm>
          <a:custGeom>
            <a:avLst/>
            <a:gdLst/>
            <a:ahLst/>
            <a:rect l="l" t="t" r="r" b="b"/>
            <a:pathLst>
              <a:path w="252" h="123">
                <a:moveTo>
                  <a:pt x="0" y="96"/>
                </a:moveTo>
                <a:lnTo>
                  <a:pt x="9" y="63"/>
                </a:lnTo>
                <a:lnTo>
                  <a:pt x="27" y="54"/>
                </a:lnTo>
                <a:lnTo>
                  <a:pt x="78" y="18"/>
                </a:lnTo>
                <a:lnTo>
                  <a:pt x="201" y="0"/>
                </a:lnTo>
                <a:lnTo>
                  <a:pt x="225" y="15"/>
                </a:lnTo>
                <a:lnTo>
                  <a:pt x="249" y="15"/>
                </a:lnTo>
                <a:lnTo>
                  <a:pt x="252" y="36"/>
                </a:lnTo>
                <a:lnTo>
                  <a:pt x="231" y="78"/>
                </a:lnTo>
                <a:lnTo>
                  <a:pt x="159" y="102"/>
                </a:lnTo>
                <a:lnTo>
                  <a:pt x="129" y="120"/>
                </a:lnTo>
                <a:lnTo>
                  <a:pt x="54" y="102"/>
                </a:lnTo>
                <a:lnTo>
                  <a:pt x="42" y="123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74080" y="4538520"/>
            <a:ext cx="766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Jeju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55640" y="1015920"/>
            <a:ext cx="2905200" cy="4729320"/>
            <a:chOff x="755640" y="1015920"/>
            <a:chExt cx="2905200" cy="4729320"/>
          </a:xfrm>
        </p:grpSpPr>
        <p:grpSp>
          <p:nvGrpSpPr>
            <p:cNvPr id="143" name=""/>
            <p:cNvGrpSpPr/>
            <p:nvPr/>
          </p:nvGrpSpPr>
          <p:grpSpPr>
            <a:xfrm>
              <a:off x="755640" y="1015920"/>
              <a:ext cx="2905200" cy="4729320"/>
              <a:chOff x="755640" y="1015920"/>
              <a:chExt cx="2905200" cy="4729320"/>
            </a:xfrm>
          </p:grpSpPr>
          <p:sp>
            <p:nvSpPr>
              <p:cNvPr id="144" name=""/>
              <p:cNvSpPr/>
              <p:nvPr/>
            </p:nvSpPr>
            <p:spPr>
              <a:xfrm>
                <a:off x="1841400" y="3125880"/>
                <a:ext cx="1290600" cy="1123920"/>
              </a:xfrm>
              <a:custGeom>
                <a:avLst/>
                <a:gdLst/>
                <a:ahLst/>
                <a:rect l="l" t="t" r="r" b="b"/>
                <a:pathLst>
                  <a:path w="813" h="708">
                    <a:moveTo>
                      <a:pt x="267" y="0"/>
                    </a:moveTo>
                    <a:lnTo>
                      <a:pt x="309" y="18"/>
                    </a:lnTo>
                    <a:lnTo>
                      <a:pt x="330" y="9"/>
                    </a:lnTo>
                    <a:lnTo>
                      <a:pt x="372" y="63"/>
                    </a:lnTo>
                    <a:lnTo>
                      <a:pt x="462" y="138"/>
                    </a:lnTo>
                    <a:lnTo>
                      <a:pt x="489" y="135"/>
                    </a:lnTo>
                    <a:lnTo>
                      <a:pt x="510" y="156"/>
                    </a:lnTo>
                    <a:lnTo>
                      <a:pt x="504" y="174"/>
                    </a:lnTo>
                    <a:lnTo>
                      <a:pt x="513" y="192"/>
                    </a:lnTo>
                    <a:lnTo>
                      <a:pt x="540" y="225"/>
                    </a:lnTo>
                    <a:lnTo>
                      <a:pt x="582" y="303"/>
                    </a:lnTo>
                    <a:lnTo>
                      <a:pt x="597" y="342"/>
                    </a:lnTo>
                    <a:lnTo>
                      <a:pt x="648" y="402"/>
                    </a:lnTo>
                    <a:lnTo>
                      <a:pt x="663" y="417"/>
                    </a:lnTo>
                    <a:lnTo>
                      <a:pt x="705" y="471"/>
                    </a:lnTo>
                    <a:lnTo>
                      <a:pt x="726" y="489"/>
                    </a:lnTo>
                    <a:lnTo>
                      <a:pt x="726" y="507"/>
                    </a:lnTo>
                    <a:lnTo>
                      <a:pt x="771" y="576"/>
                    </a:lnTo>
                    <a:lnTo>
                      <a:pt x="801" y="594"/>
                    </a:lnTo>
                    <a:lnTo>
                      <a:pt x="798" y="615"/>
                    </a:lnTo>
                    <a:lnTo>
                      <a:pt x="813" y="633"/>
                    </a:lnTo>
                    <a:lnTo>
                      <a:pt x="810" y="657"/>
                    </a:lnTo>
                    <a:lnTo>
                      <a:pt x="768" y="708"/>
                    </a:lnTo>
                    <a:lnTo>
                      <a:pt x="747" y="687"/>
                    </a:lnTo>
                    <a:lnTo>
                      <a:pt x="717" y="687"/>
                    </a:lnTo>
                    <a:lnTo>
                      <a:pt x="693" y="699"/>
                    </a:lnTo>
                    <a:lnTo>
                      <a:pt x="642" y="678"/>
                    </a:lnTo>
                    <a:lnTo>
                      <a:pt x="633" y="699"/>
                    </a:lnTo>
                    <a:lnTo>
                      <a:pt x="612" y="687"/>
                    </a:lnTo>
                    <a:lnTo>
                      <a:pt x="591" y="705"/>
                    </a:lnTo>
                    <a:lnTo>
                      <a:pt x="534" y="675"/>
                    </a:lnTo>
                    <a:lnTo>
                      <a:pt x="474" y="672"/>
                    </a:lnTo>
                    <a:lnTo>
                      <a:pt x="462" y="651"/>
                    </a:lnTo>
                    <a:lnTo>
                      <a:pt x="435" y="651"/>
                    </a:lnTo>
                    <a:lnTo>
                      <a:pt x="393" y="642"/>
                    </a:lnTo>
                    <a:lnTo>
                      <a:pt x="369" y="663"/>
                    </a:lnTo>
                    <a:lnTo>
                      <a:pt x="345" y="642"/>
                    </a:lnTo>
                    <a:lnTo>
                      <a:pt x="309" y="636"/>
                    </a:lnTo>
                    <a:lnTo>
                      <a:pt x="309" y="600"/>
                    </a:lnTo>
                    <a:lnTo>
                      <a:pt x="327" y="564"/>
                    </a:lnTo>
                    <a:lnTo>
                      <a:pt x="318" y="543"/>
                    </a:lnTo>
                    <a:lnTo>
                      <a:pt x="315" y="519"/>
                    </a:lnTo>
                    <a:lnTo>
                      <a:pt x="291" y="516"/>
                    </a:lnTo>
                    <a:lnTo>
                      <a:pt x="249" y="528"/>
                    </a:lnTo>
                    <a:lnTo>
                      <a:pt x="249" y="504"/>
                    </a:lnTo>
                    <a:lnTo>
                      <a:pt x="252" y="465"/>
                    </a:lnTo>
                    <a:lnTo>
                      <a:pt x="273" y="453"/>
                    </a:lnTo>
                    <a:lnTo>
                      <a:pt x="258" y="396"/>
                    </a:lnTo>
                    <a:lnTo>
                      <a:pt x="225" y="381"/>
                    </a:lnTo>
                    <a:lnTo>
                      <a:pt x="222" y="351"/>
                    </a:lnTo>
                    <a:lnTo>
                      <a:pt x="201" y="366"/>
                    </a:lnTo>
                    <a:lnTo>
                      <a:pt x="189" y="348"/>
                    </a:lnTo>
                    <a:lnTo>
                      <a:pt x="165" y="342"/>
                    </a:lnTo>
                    <a:lnTo>
                      <a:pt x="153" y="318"/>
                    </a:lnTo>
                    <a:lnTo>
                      <a:pt x="114" y="321"/>
                    </a:lnTo>
                    <a:lnTo>
                      <a:pt x="102" y="303"/>
                    </a:lnTo>
                    <a:lnTo>
                      <a:pt x="66" y="303"/>
                    </a:lnTo>
                    <a:lnTo>
                      <a:pt x="57" y="273"/>
                    </a:lnTo>
                    <a:lnTo>
                      <a:pt x="45" y="258"/>
                    </a:lnTo>
                    <a:lnTo>
                      <a:pt x="18" y="264"/>
                    </a:lnTo>
                    <a:lnTo>
                      <a:pt x="3" y="228"/>
                    </a:lnTo>
                    <a:lnTo>
                      <a:pt x="15" y="210"/>
                    </a:lnTo>
                    <a:lnTo>
                      <a:pt x="0" y="180"/>
                    </a:lnTo>
                    <a:lnTo>
                      <a:pt x="9" y="162"/>
                    </a:lnTo>
                    <a:lnTo>
                      <a:pt x="30" y="156"/>
                    </a:lnTo>
                    <a:lnTo>
                      <a:pt x="48" y="129"/>
                    </a:lnTo>
                    <a:lnTo>
                      <a:pt x="72" y="126"/>
                    </a:lnTo>
                    <a:lnTo>
                      <a:pt x="60" y="90"/>
                    </a:lnTo>
                    <a:lnTo>
                      <a:pt x="84" y="78"/>
                    </a:lnTo>
                    <a:lnTo>
                      <a:pt x="105" y="93"/>
                    </a:lnTo>
                    <a:lnTo>
                      <a:pt x="135" y="87"/>
                    </a:lnTo>
                    <a:lnTo>
                      <a:pt x="174" y="30"/>
                    </a:lnTo>
                    <a:lnTo>
                      <a:pt x="195" y="54"/>
                    </a:lnTo>
                    <a:lnTo>
                      <a:pt x="186" y="75"/>
                    </a:lnTo>
                    <a:lnTo>
                      <a:pt x="189" y="102"/>
                    </a:lnTo>
                    <a:lnTo>
                      <a:pt x="216" y="129"/>
                    </a:lnTo>
                    <a:lnTo>
                      <a:pt x="243" y="102"/>
                    </a:lnTo>
                    <a:lnTo>
                      <a:pt x="261" y="108"/>
                    </a:lnTo>
                    <a:lnTo>
                      <a:pt x="279" y="90"/>
                    </a:lnTo>
                    <a:lnTo>
                      <a:pt x="282" y="60"/>
                    </a:lnTo>
                    <a:lnTo>
                      <a:pt x="291" y="42"/>
                    </a:lnTo>
                    <a:lnTo>
                      <a:pt x="264" y="21"/>
                    </a:lnTo>
                    <a:lnTo>
                      <a:pt x="26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755640" y="1015920"/>
                <a:ext cx="2905200" cy="2871720"/>
                <a:chOff x="755640" y="1015920"/>
                <a:chExt cx="2905200" cy="2871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494080" y="1015920"/>
                  <a:ext cx="1166760" cy="1371600"/>
                </a:xfrm>
                <a:custGeom>
                  <a:avLst/>
                  <a:gdLst/>
                  <a:ahLst/>
                  <a:rect l="l" t="t" r="r" b="b"/>
                  <a:pathLst>
                    <a:path w="735" h="864">
                      <a:moveTo>
                        <a:pt x="513" y="0"/>
                      </a:moveTo>
                      <a:lnTo>
                        <a:pt x="573" y="0"/>
                      </a:lnTo>
                      <a:lnTo>
                        <a:pt x="570" y="33"/>
                      </a:lnTo>
                      <a:lnTo>
                        <a:pt x="615" y="24"/>
                      </a:lnTo>
                      <a:lnTo>
                        <a:pt x="615" y="51"/>
                      </a:lnTo>
                      <a:lnTo>
                        <a:pt x="636" y="105"/>
                      </a:lnTo>
                      <a:lnTo>
                        <a:pt x="654" y="129"/>
                      </a:lnTo>
                      <a:lnTo>
                        <a:pt x="687" y="129"/>
                      </a:lnTo>
                      <a:lnTo>
                        <a:pt x="690" y="162"/>
                      </a:lnTo>
                      <a:lnTo>
                        <a:pt x="717" y="186"/>
                      </a:lnTo>
                      <a:lnTo>
                        <a:pt x="735" y="219"/>
                      </a:lnTo>
                      <a:lnTo>
                        <a:pt x="729" y="243"/>
                      </a:lnTo>
                      <a:lnTo>
                        <a:pt x="666" y="225"/>
                      </a:lnTo>
                      <a:lnTo>
                        <a:pt x="657" y="243"/>
                      </a:lnTo>
                      <a:lnTo>
                        <a:pt x="627" y="264"/>
                      </a:lnTo>
                      <a:lnTo>
                        <a:pt x="594" y="303"/>
                      </a:lnTo>
                      <a:lnTo>
                        <a:pt x="555" y="333"/>
                      </a:lnTo>
                      <a:lnTo>
                        <a:pt x="522" y="378"/>
                      </a:lnTo>
                      <a:lnTo>
                        <a:pt x="504" y="414"/>
                      </a:lnTo>
                      <a:lnTo>
                        <a:pt x="468" y="459"/>
                      </a:lnTo>
                      <a:lnTo>
                        <a:pt x="453" y="483"/>
                      </a:lnTo>
                      <a:lnTo>
                        <a:pt x="465" y="519"/>
                      </a:lnTo>
                      <a:lnTo>
                        <a:pt x="489" y="561"/>
                      </a:lnTo>
                      <a:lnTo>
                        <a:pt x="474" y="615"/>
                      </a:lnTo>
                      <a:lnTo>
                        <a:pt x="477" y="681"/>
                      </a:lnTo>
                      <a:lnTo>
                        <a:pt x="489" y="702"/>
                      </a:lnTo>
                      <a:lnTo>
                        <a:pt x="471" y="744"/>
                      </a:lnTo>
                      <a:lnTo>
                        <a:pt x="441" y="735"/>
                      </a:lnTo>
                      <a:lnTo>
                        <a:pt x="375" y="783"/>
                      </a:lnTo>
                      <a:lnTo>
                        <a:pt x="342" y="795"/>
                      </a:lnTo>
                      <a:lnTo>
                        <a:pt x="312" y="849"/>
                      </a:lnTo>
                      <a:lnTo>
                        <a:pt x="285" y="864"/>
                      </a:lnTo>
                      <a:lnTo>
                        <a:pt x="276" y="804"/>
                      </a:lnTo>
                      <a:lnTo>
                        <a:pt x="252" y="789"/>
                      </a:lnTo>
                      <a:lnTo>
                        <a:pt x="240" y="753"/>
                      </a:lnTo>
                      <a:lnTo>
                        <a:pt x="255" y="705"/>
                      </a:lnTo>
                      <a:lnTo>
                        <a:pt x="243" y="675"/>
                      </a:lnTo>
                      <a:lnTo>
                        <a:pt x="243" y="654"/>
                      </a:lnTo>
                      <a:lnTo>
                        <a:pt x="228" y="633"/>
                      </a:lnTo>
                      <a:lnTo>
                        <a:pt x="195" y="633"/>
                      </a:lnTo>
                      <a:lnTo>
                        <a:pt x="180" y="603"/>
                      </a:lnTo>
                      <a:lnTo>
                        <a:pt x="150" y="561"/>
                      </a:lnTo>
                      <a:lnTo>
                        <a:pt x="159" y="543"/>
                      </a:lnTo>
                      <a:lnTo>
                        <a:pt x="156" y="513"/>
                      </a:lnTo>
                      <a:lnTo>
                        <a:pt x="162" y="477"/>
                      </a:lnTo>
                      <a:lnTo>
                        <a:pt x="132" y="438"/>
                      </a:lnTo>
                      <a:lnTo>
                        <a:pt x="81" y="429"/>
                      </a:lnTo>
                      <a:lnTo>
                        <a:pt x="69" y="408"/>
                      </a:lnTo>
                      <a:lnTo>
                        <a:pt x="51" y="420"/>
                      </a:lnTo>
                      <a:lnTo>
                        <a:pt x="30" y="387"/>
                      </a:lnTo>
                      <a:lnTo>
                        <a:pt x="0" y="348"/>
                      </a:lnTo>
                      <a:lnTo>
                        <a:pt x="27" y="348"/>
                      </a:lnTo>
                      <a:lnTo>
                        <a:pt x="69" y="333"/>
                      </a:lnTo>
                      <a:lnTo>
                        <a:pt x="111" y="336"/>
                      </a:lnTo>
                      <a:lnTo>
                        <a:pt x="150" y="348"/>
                      </a:lnTo>
                      <a:lnTo>
                        <a:pt x="183" y="321"/>
                      </a:lnTo>
                      <a:lnTo>
                        <a:pt x="210" y="336"/>
                      </a:lnTo>
                      <a:lnTo>
                        <a:pt x="249" y="315"/>
                      </a:lnTo>
                      <a:lnTo>
                        <a:pt x="318" y="276"/>
                      </a:lnTo>
                      <a:lnTo>
                        <a:pt x="315" y="246"/>
                      </a:lnTo>
                      <a:lnTo>
                        <a:pt x="336" y="201"/>
                      </a:lnTo>
                      <a:lnTo>
                        <a:pt x="378" y="195"/>
                      </a:lnTo>
                      <a:lnTo>
                        <a:pt x="408" y="198"/>
                      </a:lnTo>
                      <a:lnTo>
                        <a:pt x="441" y="174"/>
                      </a:lnTo>
                      <a:lnTo>
                        <a:pt x="456" y="186"/>
                      </a:lnTo>
                      <a:lnTo>
                        <a:pt x="462" y="135"/>
                      </a:lnTo>
                      <a:lnTo>
                        <a:pt x="477" y="111"/>
                      </a:lnTo>
                      <a:lnTo>
                        <a:pt x="474" y="75"/>
                      </a:lnTo>
                      <a:lnTo>
                        <a:pt x="480" y="33"/>
                      </a:lnTo>
                      <a:lnTo>
                        <a:pt x="5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822320" y="1563480"/>
                  <a:ext cx="1123920" cy="1776600"/>
                </a:xfrm>
                <a:custGeom>
                  <a:avLst/>
                  <a:gdLst/>
                  <a:ahLst/>
                  <a:rect l="l" t="t" r="r" b="b"/>
                  <a:pathLst>
                    <a:path w="708" h="1119">
                      <a:moveTo>
                        <a:pt x="393" y="0"/>
                      </a:moveTo>
                      <a:lnTo>
                        <a:pt x="435" y="3"/>
                      </a:lnTo>
                      <a:lnTo>
                        <a:pt x="468" y="51"/>
                      </a:lnTo>
                      <a:lnTo>
                        <a:pt x="492" y="60"/>
                      </a:lnTo>
                      <a:lnTo>
                        <a:pt x="504" y="84"/>
                      </a:lnTo>
                      <a:lnTo>
                        <a:pt x="552" y="87"/>
                      </a:lnTo>
                      <a:lnTo>
                        <a:pt x="588" y="129"/>
                      </a:lnTo>
                      <a:lnTo>
                        <a:pt x="579" y="168"/>
                      </a:lnTo>
                      <a:lnTo>
                        <a:pt x="591" y="195"/>
                      </a:lnTo>
                      <a:lnTo>
                        <a:pt x="579" y="216"/>
                      </a:lnTo>
                      <a:lnTo>
                        <a:pt x="615" y="285"/>
                      </a:lnTo>
                      <a:lnTo>
                        <a:pt x="657" y="288"/>
                      </a:lnTo>
                      <a:lnTo>
                        <a:pt x="669" y="303"/>
                      </a:lnTo>
                      <a:lnTo>
                        <a:pt x="669" y="330"/>
                      </a:lnTo>
                      <a:lnTo>
                        <a:pt x="681" y="354"/>
                      </a:lnTo>
                      <a:lnTo>
                        <a:pt x="669" y="405"/>
                      </a:lnTo>
                      <a:lnTo>
                        <a:pt x="678" y="438"/>
                      </a:lnTo>
                      <a:lnTo>
                        <a:pt x="705" y="462"/>
                      </a:lnTo>
                      <a:lnTo>
                        <a:pt x="708" y="516"/>
                      </a:lnTo>
                      <a:lnTo>
                        <a:pt x="678" y="531"/>
                      </a:lnTo>
                      <a:lnTo>
                        <a:pt x="663" y="561"/>
                      </a:lnTo>
                      <a:lnTo>
                        <a:pt x="600" y="588"/>
                      </a:lnTo>
                      <a:lnTo>
                        <a:pt x="588" y="615"/>
                      </a:lnTo>
                      <a:lnTo>
                        <a:pt x="549" y="648"/>
                      </a:lnTo>
                      <a:lnTo>
                        <a:pt x="483" y="672"/>
                      </a:lnTo>
                      <a:lnTo>
                        <a:pt x="447" y="681"/>
                      </a:lnTo>
                      <a:lnTo>
                        <a:pt x="420" y="675"/>
                      </a:lnTo>
                      <a:lnTo>
                        <a:pt x="372" y="696"/>
                      </a:lnTo>
                      <a:lnTo>
                        <a:pt x="366" y="723"/>
                      </a:lnTo>
                      <a:lnTo>
                        <a:pt x="309" y="756"/>
                      </a:lnTo>
                      <a:lnTo>
                        <a:pt x="285" y="756"/>
                      </a:lnTo>
                      <a:lnTo>
                        <a:pt x="255" y="783"/>
                      </a:lnTo>
                      <a:lnTo>
                        <a:pt x="261" y="819"/>
                      </a:lnTo>
                      <a:lnTo>
                        <a:pt x="282" y="819"/>
                      </a:lnTo>
                      <a:lnTo>
                        <a:pt x="276" y="843"/>
                      </a:lnTo>
                      <a:lnTo>
                        <a:pt x="264" y="864"/>
                      </a:lnTo>
                      <a:lnTo>
                        <a:pt x="270" y="894"/>
                      </a:lnTo>
                      <a:lnTo>
                        <a:pt x="285" y="924"/>
                      </a:lnTo>
                      <a:lnTo>
                        <a:pt x="246" y="897"/>
                      </a:lnTo>
                      <a:lnTo>
                        <a:pt x="219" y="927"/>
                      </a:lnTo>
                      <a:lnTo>
                        <a:pt x="225" y="957"/>
                      </a:lnTo>
                      <a:lnTo>
                        <a:pt x="258" y="975"/>
                      </a:lnTo>
                      <a:lnTo>
                        <a:pt x="282" y="984"/>
                      </a:lnTo>
                      <a:lnTo>
                        <a:pt x="273" y="1005"/>
                      </a:lnTo>
                      <a:lnTo>
                        <a:pt x="303" y="1017"/>
                      </a:lnTo>
                      <a:lnTo>
                        <a:pt x="297" y="1050"/>
                      </a:lnTo>
                      <a:lnTo>
                        <a:pt x="297" y="1077"/>
                      </a:lnTo>
                      <a:lnTo>
                        <a:pt x="276" y="1095"/>
                      </a:lnTo>
                      <a:lnTo>
                        <a:pt x="255" y="1089"/>
                      </a:lnTo>
                      <a:lnTo>
                        <a:pt x="225" y="1119"/>
                      </a:lnTo>
                      <a:lnTo>
                        <a:pt x="210" y="1089"/>
                      </a:lnTo>
                      <a:lnTo>
                        <a:pt x="195" y="1062"/>
                      </a:lnTo>
                      <a:lnTo>
                        <a:pt x="210" y="1044"/>
                      </a:lnTo>
                      <a:lnTo>
                        <a:pt x="183" y="1026"/>
                      </a:lnTo>
                      <a:lnTo>
                        <a:pt x="150" y="1074"/>
                      </a:lnTo>
                      <a:lnTo>
                        <a:pt x="111" y="1083"/>
                      </a:lnTo>
                      <a:lnTo>
                        <a:pt x="93" y="1059"/>
                      </a:lnTo>
                      <a:lnTo>
                        <a:pt x="108" y="1026"/>
                      </a:lnTo>
                      <a:lnTo>
                        <a:pt x="96" y="990"/>
                      </a:lnTo>
                      <a:lnTo>
                        <a:pt x="114" y="960"/>
                      </a:lnTo>
                      <a:lnTo>
                        <a:pt x="69" y="942"/>
                      </a:lnTo>
                      <a:lnTo>
                        <a:pt x="21" y="915"/>
                      </a:lnTo>
                      <a:lnTo>
                        <a:pt x="36" y="900"/>
                      </a:lnTo>
                      <a:lnTo>
                        <a:pt x="27" y="864"/>
                      </a:lnTo>
                      <a:lnTo>
                        <a:pt x="9" y="864"/>
                      </a:lnTo>
                      <a:lnTo>
                        <a:pt x="18" y="840"/>
                      </a:lnTo>
                      <a:lnTo>
                        <a:pt x="12" y="807"/>
                      </a:lnTo>
                      <a:lnTo>
                        <a:pt x="0" y="792"/>
                      </a:lnTo>
                      <a:lnTo>
                        <a:pt x="21" y="798"/>
                      </a:lnTo>
                      <a:lnTo>
                        <a:pt x="48" y="774"/>
                      </a:lnTo>
                      <a:lnTo>
                        <a:pt x="33" y="762"/>
                      </a:lnTo>
                      <a:lnTo>
                        <a:pt x="51" y="735"/>
                      </a:lnTo>
                      <a:lnTo>
                        <a:pt x="69" y="747"/>
                      </a:lnTo>
                      <a:lnTo>
                        <a:pt x="135" y="741"/>
                      </a:lnTo>
                      <a:lnTo>
                        <a:pt x="135" y="723"/>
                      </a:lnTo>
                      <a:lnTo>
                        <a:pt x="126" y="699"/>
                      </a:lnTo>
                      <a:lnTo>
                        <a:pt x="156" y="675"/>
                      </a:lnTo>
                      <a:lnTo>
                        <a:pt x="153" y="657"/>
                      </a:lnTo>
                      <a:lnTo>
                        <a:pt x="168" y="642"/>
                      </a:lnTo>
                      <a:lnTo>
                        <a:pt x="153" y="627"/>
                      </a:lnTo>
                      <a:lnTo>
                        <a:pt x="159" y="597"/>
                      </a:lnTo>
                      <a:lnTo>
                        <a:pt x="144" y="579"/>
                      </a:lnTo>
                      <a:lnTo>
                        <a:pt x="117" y="579"/>
                      </a:lnTo>
                      <a:lnTo>
                        <a:pt x="114" y="552"/>
                      </a:lnTo>
                      <a:lnTo>
                        <a:pt x="93" y="546"/>
                      </a:lnTo>
                      <a:lnTo>
                        <a:pt x="117" y="501"/>
                      </a:lnTo>
                      <a:lnTo>
                        <a:pt x="87" y="474"/>
                      </a:lnTo>
                      <a:lnTo>
                        <a:pt x="102" y="441"/>
                      </a:lnTo>
                      <a:lnTo>
                        <a:pt x="84" y="417"/>
                      </a:lnTo>
                      <a:lnTo>
                        <a:pt x="90" y="396"/>
                      </a:lnTo>
                      <a:lnTo>
                        <a:pt x="102" y="381"/>
                      </a:lnTo>
                      <a:lnTo>
                        <a:pt x="99" y="360"/>
                      </a:lnTo>
                      <a:lnTo>
                        <a:pt x="165" y="309"/>
                      </a:lnTo>
                      <a:lnTo>
                        <a:pt x="240" y="246"/>
                      </a:lnTo>
                      <a:lnTo>
                        <a:pt x="303" y="237"/>
                      </a:lnTo>
                      <a:lnTo>
                        <a:pt x="318" y="222"/>
                      </a:lnTo>
                      <a:lnTo>
                        <a:pt x="312" y="195"/>
                      </a:lnTo>
                      <a:lnTo>
                        <a:pt x="372" y="195"/>
                      </a:lnTo>
                      <a:lnTo>
                        <a:pt x="399" y="189"/>
                      </a:lnTo>
                      <a:lnTo>
                        <a:pt x="432" y="207"/>
                      </a:lnTo>
                      <a:lnTo>
                        <a:pt x="465" y="192"/>
                      </a:lnTo>
                      <a:lnTo>
                        <a:pt x="477" y="141"/>
                      </a:lnTo>
                      <a:lnTo>
                        <a:pt x="432" y="102"/>
                      </a:lnTo>
                      <a:lnTo>
                        <a:pt x="432" y="60"/>
                      </a:lnTo>
                      <a:lnTo>
                        <a:pt x="420" y="24"/>
                      </a:lnTo>
                      <a:lnTo>
                        <a:pt x="39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5640" y="1692360"/>
                  <a:ext cx="1576440" cy="1214280"/>
                </a:xfrm>
                <a:custGeom>
                  <a:avLst/>
                  <a:gdLst/>
                  <a:ahLst/>
                  <a:rect l="l" t="t" r="r" b="b"/>
                  <a:pathLst>
                    <a:path w="993" h="765">
                      <a:moveTo>
                        <a:pt x="696" y="21"/>
                      </a:moveTo>
                      <a:lnTo>
                        <a:pt x="750" y="9"/>
                      </a:lnTo>
                      <a:lnTo>
                        <a:pt x="780" y="0"/>
                      </a:lnTo>
                      <a:lnTo>
                        <a:pt x="801" y="54"/>
                      </a:lnTo>
                      <a:lnTo>
                        <a:pt x="846" y="78"/>
                      </a:lnTo>
                      <a:lnTo>
                        <a:pt x="867" y="102"/>
                      </a:lnTo>
                      <a:lnTo>
                        <a:pt x="948" y="105"/>
                      </a:lnTo>
                      <a:lnTo>
                        <a:pt x="960" y="120"/>
                      </a:lnTo>
                      <a:lnTo>
                        <a:pt x="987" y="114"/>
                      </a:lnTo>
                      <a:lnTo>
                        <a:pt x="993" y="144"/>
                      </a:lnTo>
                      <a:lnTo>
                        <a:pt x="966" y="156"/>
                      </a:lnTo>
                      <a:lnTo>
                        <a:pt x="906" y="168"/>
                      </a:lnTo>
                      <a:lnTo>
                        <a:pt x="879" y="201"/>
                      </a:lnTo>
                      <a:lnTo>
                        <a:pt x="774" y="276"/>
                      </a:lnTo>
                      <a:lnTo>
                        <a:pt x="762" y="315"/>
                      </a:lnTo>
                      <a:lnTo>
                        <a:pt x="768" y="366"/>
                      </a:lnTo>
                      <a:lnTo>
                        <a:pt x="774" y="399"/>
                      </a:lnTo>
                      <a:lnTo>
                        <a:pt x="786" y="417"/>
                      </a:lnTo>
                      <a:lnTo>
                        <a:pt x="774" y="459"/>
                      </a:lnTo>
                      <a:lnTo>
                        <a:pt x="786" y="477"/>
                      </a:lnTo>
                      <a:lnTo>
                        <a:pt x="750" y="498"/>
                      </a:lnTo>
                      <a:lnTo>
                        <a:pt x="723" y="561"/>
                      </a:lnTo>
                      <a:lnTo>
                        <a:pt x="705" y="576"/>
                      </a:lnTo>
                      <a:lnTo>
                        <a:pt x="663" y="573"/>
                      </a:lnTo>
                      <a:lnTo>
                        <a:pt x="621" y="618"/>
                      </a:lnTo>
                      <a:lnTo>
                        <a:pt x="600" y="612"/>
                      </a:lnTo>
                      <a:lnTo>
                        <a:pt x="555" y="657"/>
                      </a:lnTo>
                      <a:lnTo>
                        <a:pt x="522" y="678"/>
                      </a:lnTo>
                      <a:lnTo>
                        <a:pt x="483" y="666"/>
                      </a:lnTo>
                      <a:lnTo>
                        <a:pt x="453" y="693"/>
                      </a:lnTo>
                      <a:lnTo>
                        <a:pt x="423" y="705"/>
                      </a:lnTo>
                      <a:lnTo>
                        <a:pt x="387" y="723"/>
                      </a:lnTo>
                      <a:lnTo>
                        <a:pt x="336" y="747"/>
                      </a:lnTo>
                      <a:lnTo>
                        <a:pt x="351" y="717"/>
                      </a:lnTo>
                      <a:lnTo>
                        <a:pt x="300" y="747"/>
                      </a:lnTo>
                      <a:lnTo>
                        <a:pt x="288" y="765"/>
                      </a:lnTo>
                      <a:lnTo>
                        <a:pt x="264" y="738"/>
                      </a:lnTo>
                      <a:lnTo>
                        <a:pt x="243" y="753"/>
                      </a:lnTo>
                      <a:lnTo>
                        <a:pt x="207" y="726"/>
                      </a:lnTo>
                      <a:lnTo>
                        <a:pt x="180" y="729"/>
                      </a:lnTo>
                      <a:lnTo>
                        <a:pt x="153" y="696"/>
                      </a:lnTo>
                      <a:lnTo>
                        <a:pt x="120" y="693"/>
                      </a:lnTo>
                      <a:lnTo>
                        <a:pt x="117" y="711"/>
                      </a:lnTo>
                      <a:lnTo>
                        <a:pt x="84" y="732"/>
                      </a:lnTo>
                      <a:lnTo>
                        <a:pt x="81" y="699"/>
                      </a:lnTo>
                      <a:lnTo>
                        <a:pt x="60" y="687"/>
                      </a:lnTo>
                      <a:lnTo>
                        <a:pt x="57" y="663"/>
                      </a:lnTo>
                      <a:lnTo>
                        <a:pt x="15" y="654"/>
                      </a:lnTo>
                      <a:lnTo>
                        <a:pt x="0" y="630"/>
                      </a:lnTo>
                      <a:lnTo>
                        <a:pt x="6" y="579"/>
                      </a:lnTo>
                      <a:lnTo>
                        <a:pt x="30" y="582"/>
                      </a:lnTo>
                      <a:lnTo>
                        <a:pt x="21" y="549"/>
                      </a:lnTo>
                      <a:lnTo>
                        <a:pt x="39" y="522"/>
                      </a:lnTo>
                      <a:lnTo>
                        <a:pt x="108" y="492"/>
                      </a:lnTo>
                      <a:lnTo>
                        <a:pt x="141" y="468"/>
                      </a:lnTo>
                      <a:lnTo>
                        <a:pt x="195" y="441"/>
                      </a:lnTo>
                      <a:lnTo>
                        <a:pt x="207" y="417"/>
                      </a:lnTo>
                      <a:lnTo>
                        <a:pt x="297" y="387"/>
                      </a:lnTo>
                      <a:lnTo>
                        <a:pt x="327" y="393"/>
                      </a:lnTo>
                      <a:lnTo>
                        <a:pt x="330" y="372"/>
                      </a:lnTo>
                      <a:lnTo>
                        <a:pt x="381" y="342"/>
                      </a:lnTo>
                      <a:lnTo>
                        <a:pt x="390" y="315"/>
                      </a:lnTo>
                      <a:lnTo>
                        <a:pt x="468" y="303"/>
                      </a:lnTo>
                      <a:lnTo>
                        <a:pt x="522" y="258"/>
                      </a:lnTo>
                      <a:lnTo>
                        <a:pt x="570" y="210"/>
                      </a:lnTo>
                      <a:lnTo>
                        <a:pt x="582" y="189"/>
                      </a:lnTo>
                      <a:lnTo>
                        <a:pt x="612" y="162"/>
                      </a:lnTo>
                      <a:lnTo>
                        <a:pt x="642" y="108"/>
                      </a:lnTo>
                      <a:lnTo>
                        <a:pt x="642" y="90"/>
                      </a:lnTo>
                      <a:lnTo>
                        <a:pt x="663" y="75"/>
                      </a:lnTo>
                      <a:lnTo>
                        <a:pt x="654" y="54"/>
                      </a:lnTo>
                      <a:lnTo>
                        <a:pt x="696" y="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103400" y="2444760"/>
                  <a:ext cx="990360" cy="914400"/>
                </a:xfrm>
                <a:custGeom>
                  <a:avLst/>
                  <a:gdLst/>
                  <a:ahLst/>
                  <a:rect l="l" t="t" r="r" b="b"/>
                  <a:pathLst>
                    <a:path w="624" h="576">
                      <a:moveTo>
                        <a:pt x="564" y="0"/>
                      </a:moveTo>
                      <a:lnTo>
                        <a:pt x="576" y="21"/>
                      </a:lnTo>
                      <a:lnTo>
                        <a:pt x="600" y="18"/>
                      </a:lnTo>
                      <a:lnTo>
                        <a:pt x="615" y="45"/>
                      </a:lnTo>
                      <a:lnTo>
                        <a:pt x="609" y="66"/>
                      </a:lnTo>
                      <a:lnTo>
                        <a:pt x="624" y="87"/>
                      </a:lnTo>
                      <a:lnTo>
                        <a:pt x="606" y="111"/>
                      </a:lnTo>
                      <a:lnTo>
                        <a:pt x="585" y="147"/>
                      </a:lnTo>
                      <a:lnTo>
                        <a:pt x="591" y="174"/>
                      </a:lnTo>
                      <a:lnTo>
                        <a:pt x="582" y="192"/>
                      </a:lnTo>
                      <a:lnTo>
                        <a:pt x="537" y="192"/>
                      </a:lnTo>
                      <a:lnTo>
                        <a:pt x="507" y="177"/>
                      </a:lnTo>
                      <a:lnTo>
                        <a:pt x="492" y="198"/>
                      </a:lnTo>
                      <a:lnTo>
                        <a:pt x="504" y="225"/>
                      </a:lnTo>
                      <a:lnTo>
                        <a:pt x="471" y="249"/>
                      </a:lnTo>
                      <a:lnTo>
                        <a:pt x="465" y="306"/>
                      </a:lnTo>
                      <a:lnTo>
                        <a:pt x="483" y="312"/>
                      </a:lnTo>
                      <a:lnTo>
                        <a:pt x="489" y="342"/>
                      </a:lnTo>
                      <a:lnTo>
                        <a:pt x="483" y="360"/>
                      </a:lnTo>
                      <a:lnTo>
                        <a:pt x="531" y="387"/>
                      </a:lnTo>
                      <a:lnTo>
                        <a:pt x="573" y="402"/>
                      </a:lnTo>
                      <a:lnTo>
                        <a:pt x="555" y="450"/>
                      </a:lnTo>
                      <a:lnTo>
                        <a:pt x="561" y="468"/>
                      </a:lnTo>
                      <a:lnTo>
                        <a:pt x="525" y="459"/>
                      </a:lnTo>
                      <a:lnTo>
                        <a:pt x="504" y="438"/>
                      </a:lnTo>
                      <a:lnTo>
                        <a:pt x="468" y="432"/>
                      </a:lnTo>
                      <a:lnTo>
                        <a:pt x="432" y="423"/>
                      </a:lnTo>
                      <a:lnTo>
                        <a:pt x="429" y="450"/>
                      </a:lnTo>
                      <a:lnTo>
                        <a:pt x="405" y="456"/>
                      </a:lnTo>
                      <a:lnTo>
                        <a:pt x="402" y="489"/>
                      </a:lnTo>
                      <a:lnTo>
                        <a:pt x="372" y="492"/>
                      </a:lnTo>
                      <a:lnTo>
                        <a:pt x="351" y="483"/>
                      </a:lnTo>
                      <a:lnTo>
                        <a:pt x="333" y="495"/>
                      </a:lnTo>
                      <a:lnTo>
                        <a:pt x="303" y="480"/>
                      </a:lnTo>
                      <a:lnTo>
                        <a:pt x="294" y="498"/>
                      </a:lnTo>
                      <a:lnTo>
                        <a:pt x="315" y="522"/>
                      </a:lnTo>
                      <a:lnTo>
                        <a:pt x="306" y="558"/>
                      </a:lnTo>
                      <a:lnTo>
                        <a:pt x="267" y="567"/>
                      </a:lnTo>
                      <a:lnTo>
                        <a:pt x="219" y="540"/>
                      </a:lnTo>
                      <a:lnTo>
                        <a:pt x="180" y="540"/>
                      </a:lnTo>
                      <a:lnTo>
                        <a:pt x="174" y="522"/>
                      </a:lnTo>
                      <a:lnTo>
                        <a:pt x="138" y="537"/>
                      </a:lnTo>
                      <a:lnTo>
                        <a:pt x="138" y="576"/>
                      </a:lnTo>
                      <a:lnTo>
                        <a:pt x="39" y="564"/>
                      </a:lnTo>
                      <a:lnTo>
                        <a:pt x="24" y="552"/>
                      </a:lnTo>
                      <a:lnTo>
                        <a:pt x="0" y="513"/>
                      </a:lnTo>
                      <a:lnTo>
                        <a:pt x="39" y="456"/>
                      </a:lnTo>
                      <a:lnTo>
                        <a:pt x="60" y="441"/>
                      </a:lnTo>
                      <a:lnTo>
                        <a:pt x="54" y="414"/>
                      </a:lnTo>
                      <a:lnTo>
                        <a:pt x="93" y="378"/>
                      </a:lnTo>
                      <a:lnTo>
                        <a:pt x="93" y="354"/>
                      </a:lnTo>
                      <a:lnTo>
                        <a:pt x="105" y="333"/>
                      </a:lnTo>
                      <a:lnTo>
                        <a:pt x="78" y="330"/>
                      </a:lnTo>
                      <a:lnTo>
                        <a:pt x="102" y="291"/>
                      </a:lnTo>
                      <a:lnTo>
                        <a:pt x="147" y="246"/>
                      </a:lnTo>
                      <a:lnTo>
                        <a:pt x="207" y="225"/>
                      </a:lnTo>
                      <a:lnTo>
                        <a:pt x="264" y="189"/>
                      </a:lnTo>
                      <a:lnTo>
                        <a:pt x="306" y="201"/>
                      </a:lnTo>
                      <a:lnTo>
                        <a:pt x="348" y="168"/>
                      </a:lnTo>
                      <a:lnTo>
                        <a:pt x="378" y="132"/>
                      </a:lnTo>
                      <a:lnTo>
                        <a:pt x="405" y="135"/>
                      </a:lnTo>
                      <a:lnTo>
                        <a:pt x="438" y="99"/>
                      </a:lnTo>
                      <a:lnTo>
                        <a:pt x="483" y="99"/>
                      </a:lnTo>
                      <a:lnTo>
                        <a:pt x="504" y="81"/>
                      </a:lnTo>
                      <a:lnTo>
                        <a:pt x="528" y="21"/>
                      </a:lnTo>
                      <a:lnTo>
                        <a:pt x="56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93880" y="3101760"/>
                  <a:ext cx="1100160" cy="785880"/>
                </a:xfrm>
                <a:custGeom>
                  <a:avLst/>
                  <a:gdLst/>
                  <a:ahLst/>
                  <a:rect l="l" t="t" r="r" b="b"/>
                  <a:pathLst>
                    <a:path w="693" h="495">
                      <a:moveTo>
                        <a:pt x="687" y="45"/>
                      </a:moveTo>
                      <a:lnTo>
                        <a:pt x="693" y="66"/>
                      </a:lnTo>
                      <a:lnTo>
                        <a:pt x="684" y="90"/>
                      </a:lnTo>
                      <a:lnTo>
                        <a:pt x="666" y="111"/>
                      </a:lnTo>
                      <a:lnTo>
                        <a:pt x="669" y="141"/>
                      </a:lnTo>
                      <a:lnTo>
                        <a:pt x="642" y="147"/>
                      </a:lnTo>
                      <a:lnTo>
                        <a:pt x="636" y="174"/>
                      </a:lnTo>
                      <a:lnTo>
                        <a:pt x="612" y="177"/>
                      </a:lnTo>
                      <a:lnTo>
                        <a:pt x="606" y="198"/>
                      </a:lnTo>
                      <a:lnTo>
                        <a:pt x="618" y="228"/>
                      </a:lnTo>
                      <a:lnTo>
                        <a:pt x="603" y="249"/>
                      </a:lnTo>
                      <a:lnTo>
                        <a:pt x="618" y="276"/>
                      </a:lnTo>
                      <a:lnTo>
                        <a:pt x="642" y="267"/>
                      </a:lnTo>
                      <a:lnTo>
                        <a:pt x="663" y="291"/>
                      </a:lnTo>
                      <a:lnTo>
                        <a:pt x="666" y="333"/>
                      </a:lnTo>
                      <a:lnTo>
                        <a:pt x="633" y="336"/>
                      </a:lnTo>
                      <a:lnTo>
                        <a:pt x="597" y="342"/>
                      </a:lnTo>
                      <a:lnTo>
                        <a:pt x="576" y="339"/>
                      </a:lnTo>
                      <a:lnTo>
                        <a:pt x="552" y="354"/>
                      </a:lnTo>
                      <a:lnTo>
                        <a:pt x="540" y="384"/>
                      </a:lnTo>
                      <a:lnTo>
                        <a:pt x="513" y="402"/>
                      </a:lnTo>
                      <a:lnTo>
                        <a:pt x="489" y="447"/>
                      </a:lnTo>
                      <a:lnTo>
                        <a:pt x="468" y="462"/>
                      </a:lnTo>
                      <a:lnTo>
                        <a:pt x="450" y="453"/>
                      </a:lnTo>
                      <a:lnTo>
                        <a:pt x="426" y="483"/>
                      </a:lnTo>
                      <a:lnTo>
                        <a:pt x="387" y="435"/>
                      </a:lnTo>
                      <a:lnTo>
                        <a:pt x="366" y="453"/>
                      </a:lnTo>
                      <a:lnTo>
                        <a:pt x="348" y="432"/>
                      </a:lnTo>
                      <a:lnTo>
                        <a:pt x="333" y="402"/>
                      </a:lnTo>
                      <a:lnTo>
                        <a:pt x="285" y="387"/>
                      </a:lnTo>
                      <a:lnTo>
                        <a:pt x="309" y="420"/>
                      </a:lnTo>
                      <a:lnTo>
                        <a:pt x="306" y="441"/>
                      </a:lnTo>
                      <a:lnTo>
                        <a:pt x="282" y="426"/>
                      </a:lnTo>
                      <a:lnTo>
                        <a:pt x="276" y="465"/>
                      </a:lnTo>
                      <a:lnTo>
                        <a:pt x="273" y="483"/>
                      </a:lnTo>
                      <a:lnTo>
                        <a:pt x="243" y="462"/>
                      </a:lnTo>
                      <a:lnTo>
                        <a:pt x="228" y="489"/>
                      </a:lnTo>
                      <a:lnTo>
                        <a:pt x="195" y="495"/>
                      </a:lnTo>
                      <a:lnTo>
                        <a:pt x="183" y="471"/>
                      </a:lnTo>
                      <a:lnTo>
                        <a:pt x="213" y="477"/>
                      </a:lnTo>
                      <a:lnTo>
                        <a:pt x="204" y="459"/>
                      </a:lnTo>
                      <a:lnTo>
                        <a:pt x="237" y="459"/>
                      </a:lnTo>
                      <a:lnTo>
                        <a:pt x="225" y="423"/>
                      </a:lnTo>
                      <a:lnTo>
                        <a:pt x="198" y="432"/>
                      </a:lnTo>
                      <a:lnTo>
                        <a:pt x="198" y="450"/>
                      </a:lnTo>
                      <a:lnTo>
                        <a:pt x="171" y="465"/>
                      </a:lnTo>
                      <a:lnTo>
                        <a:pt x="159" y="447"/>
                      </a:lnTo>
                      <a:lnTo>
                        <a:pt x="171" y="429"/>
                      </a:lnTo>
                      <a:lnTo>
                        <a:pt x="132" y="438"/>
                      </a:lnTo>
                      <a:lnTo>
                        <a:pt x="108" y="429"/>
                      </a:lnTo>
                      <a:lnTo>
                        <a:pt x="84" y="411"/>
                      </a:lnTo>
                      <a:lnTo>
                        <a:pt x="105" y="390"/>
                      </a:lnTo>
                      <a:lnTo>
                        <a:pt x="120" y="405"/>
                      </a:lnTo>
                      <a:lnTo>
                        <a:pt x="129" y="387"/>
                      </a:lnTo>
                      <a:lnTo>
                        <a:pt x="147" y="396"/>
                      </a:lnTo>
                      <a:lnTo>
                        <a:pt x="159" y="363"/>
                      </a:lnTo>
                      <a:lnTo>
                        <a:pt x="117" y="363"/>
                      </a:lnTo>
                      <a:lnTo>
                        <a:pt x="99" y="381"/>
                      </a:lnTo>
                      <a:lnTo>
                        <a:pt x="57" y="348"/>
                      </a:lnTo>
                      <a:lnTo>
                        <a:pt x="33" y="357"/>
                      </a:lnTo>
                      <a:lnTo>
                        <a:pt x="0" y="345"/>
                      </a:lnTo>
                      <a:lnTo>
                        <a:pt x="54" y="330"/>
                      </a:lnTo>
                      <a:lnTo>
                        <a:pt x="63" y="288"/>
                      </a:lnTo>
                      <a:lnTo>
                        <a:pt x="36" y="282"/>
                      </a:lnTo>
                      <a:lnTo>
                        <a:pt x="63" y="246"/>
                      </a:lnTo>
                      <a:lnTo>
                        <a:pt x="84" y="246"/>
                      </a:lnTo>
                      <a:lnTo>
                        <a:pt x="93" y="225"/>
                      </a:lnTo>
                      <a:lnTo>
                        <a:pt x="81" y="204"/>
                      </a:lnTo>
                      <a:lnTo>
                        <a:pt x="93" y="189"/>
                      </a:lnTo>
                      <a:lnTo>
                        <a:pt x="114" y="207"/>
                      </a:lnTo>
                      <a:lnTo>
                        <a:pt x="138" y="195"/>
                      </a:lnTo>
                      <a:lnTo>
                        <a:pt x="132" y="177"/>
                      </a:lnTo>
                      <a:lnTo>
                        <a:pt x="165" y="171"/>
                      </a:lnTo>
                      <a:lnTo>
                        <a:pt x="183" y="183"/>
                      </a:lnTo>
                      <a:lnTo>
                        <a:pt x="183" y="147"/>
                      </a:lnTo>
                      <a:lnTo>
                        <a:pt x="261" y="156"/>
                      </a:lnTo>
                      <a:lnTo>
                        <a:pt x="270" y="111"/>
                      </a:lnTo>
                      <a:lnTo>
                        <a:pt x="306" y="105"/>
                      </a:lnTo>
                      <a:lnTo>
                        <a:pt x="321" y="126"/>
                      </a:lnTo>
                      <a:lnTo>
                        <a:pt x="363" y="123"/>
                      </a:lnTo>
                      <a:lnTo>
                        <a:pt x="399" y="138"/>
                      </a:lnTo>
                      <a:lnTo>
                        <a:pt x="420" y="141"/>
                      </a:lnTo>
                      <a:lnTo>
                        <a:pt x="438" y="111"/>
                      </a:lnTo>
                      <a:lnTo>
                        <a:pt x="423" y="81"/>
                      </a:lnTo>
                      <a:lnTo>
                        <a:pt x="441" y="60"/>
                      </a:lnTo>
                      <a:lnTo>
                        <a:pt x="471" y="75"/>
                      </a:lnTo>
                      <a:lnTo>
                        <a:pt x="492" y="69"/>
                      </a:lnTo>
                      <a:lnTo>
                        <a:pt x="516" y="72"/>
                      </a:lnTo>
                      <a:lnTo>
                        <a:pt x="534" y="60"/>
                      </a:lnTo>
                      <a:lnTo>
                        <a:pt x="534" y="39"/>
                      </a:lnTo>
                      <a:lnTo>
                        <a:pt x="555" y="27"/>
                      </a:lnTo>
                      <a:lnTo>
                        <a:pt x="564" y="0"/>
                      </a:lnTo>
                      <a:lnTo>
                        <a:pt x="597" y="15"/>
                      </a:lnTo>
                      <a:lnTo>
                        <a:pt x="624" y="12"/>
                      </a:lnTo>
                      <a:lnTo>
                        <a:pt x="654" y="45"/>
                      </a:lnTo>
                      <a:lnTo>
                        <a:pt x="687" y="4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1670040" y="3597120"/>
                <a:ext cx="695160" cy="747720"/>
              </a:xfrm>
              <a:custGeom>
                <a:avLst/>
                <a:gdLst/>
                <a:ahLst/>
                <a:rect l="l" t="t" r="r" b="b"/>
                <a:pathLst>
                  <a:path w="438" h="471">
                    <a:moveTo>
                      <a:pt x="303" y="471"/>
                    </a:moveTo>
                    <a:lnTo>
                      <a:pt x="312" y="441"/>
                    </a:lnTo>
                    <a:lnTo>
                      <a:pt x="330" y="411"/>
                    </a:lnTo>
                    <a:lnTo>
                      <a:pt x="366" y="414"/>
                    </a:lnTo>
                    <a:lnTo>
                      <a:pt x="372" y="387"/>
                    </a:lnTo>
                    <a:lnTo>
                      <a:pt x="399" y="384"/>
                    </a:lnTo>
                    <a:lnTo>
                      <a:pt x="405" y="345"/>
                    </a:lnTo>
                    <a:lnTo>
                      <a:pt x="429" y="333"/>
                    </a:lnTo>
                    <a:lnTo>
                      <a:pt x="420" y="294"/>
                    </a:lnTo>
                    <a:lnTo>
                      <a:pt x="438" y="267"/>
                    </a:lnTo>
                    <a:lnTo>
                      <a:pt x="423" y="219"/>
                    </a:lnTo>
                    <a:lnTo>
                      <a:pt x="405" y="219"/>
                    </a:lnTo>
                    <a:lnTo>
                      <a:pt x="360" y="228"/>
                    </a:lnTo>
                    <a:lnTo>
                      <a:pt x="363" y="168"/>
                    </a:lnTo>
                    <a:lnTo>
                      <a:pt x="381" y="159"/>
                    </a:lnTo>
                    <a:lnTo>
                      <a:pt x="366" y="105"/>
                    </a:lnTo>
                    <a:lnTo>
                      <a:pt x="333" y="81"/>
                    </a:lnTo>
                    <a:lnTo>
                      <a:pt x="339" y="54"/>
                    </a:lnTo>
                    <a:lnTo>
                      <a:pt x="318" y="57"/>
                    </a:lnTo>
                    <a:lnTo>
                      <a:pt x="294" y="45"/>
                    </a:lnTo>
                    <a:lnTo>
                      <a:pt x="273" y="42"/>
                    </a:lnTo>
                    <a:lnTo>
                      <a:pt x="261" y="18"/>
                    </a:lnTo>
                    <a:lnTo>
                      <a:pt x="228" y="18"/>
                    </a:lnTo>
                    <a:lnTo>
                      <a:pt x="198" y="0"/>
                    </a:lnTo>
                    <a:lnTo>
                      <a:pt x="171" y="0"/>
                    </a:lnTo>
                    <a:lnTo>
                      <a:pt x="162" y="18"/>
                    </a:lnTo>
                    <a:lnTo>
                      <a:pt x="93" y="27"/>
                    </a:lnTo>
                    <a:lnTo>
                      <a:pt x="57" y="42"/>
                    </a:lnTo>
                    <a:lnTo>
                      <a:pt x="54" y="75"/>
                    </a:lnTo>
                    <a:lnTo>
                      <a:pt x="15" y="90"/>
                    </a:lnTo>
                    <a:lnTo>
                      <a:pt x="0" y="126"/>
                    </a:lnTo>
                    <a:lnTo>
                      <a:pt x="27" y="132"/>
                    </a:lnTo>
                    <a:lnTo>
                      <a:pt x="42" y="150"/>
                    </a:lnTo>
                    <a:lnTo>
                      <a:pt x="69" y="150"/>
                    </a:lnTo>
                    <a:lnTo>
                      <a:pt x="87" y="165"/>
                    </a:lnTo>
                    <a:lnTo>
                      <a:pt x="114" y="165"/>
                    </a:lnTo>
                    <a:lnTo>
                      <a:pt x="117" y="207"/>
                    </a:lnTo>
                    <a:lnTo>
                      <a:pt x="96" y="177"/>
                    </a:lnTo>
                    <a:lnTo>
                      <a:pt x="69" y="171"/>
                    </a:lnTo>
                    <a:lnTo>
                      <a:pt x="48" y="165"/>
                    </a:lnTo>
                    <a:lnTo>
                      <a:pt x="27" y="153"/>
                    </a:lnTo>
                    <a:lnTo>
                      <a:pt x="12" y="168"/>
                    </a:lnTo>
                    <a:lnTo>
                      <a:pt x="24" y="192"/>
                    </a:lnTo>
                    <a:lnTo>
                      <a:pt x="12" y="216"/>
                    </a:lnTo>
                    <a:lnTo>
                      <a:pt x="30" y="228"/>
                    </a:lnTo>
                    <a:lnTo>
                      <a:pt x="48" y="210"/>
                    </a:lnTo>
                    <a:lnTo>
                      <a:pt x="66" y="219"/>
                    </a:lnTo>
                    <a:lnTo>
                      <a:pt x="84" y="231"/>
                    </a:lnTo>
                    <a:lnTo>
                      <a:pt x="96" y="255"/>
                    </a:lnTo>
                    <a:lnTo>
                      <a:pt x="84" y="273"/>
                    </a:lnTo>
                    <a:lnTo>
                      <a:pt x="114" y="288"/>
                    </a:lnTo>
                    <a:lnTo>
                      <a:pt x="117" y="306"/>
                    </a:lnTo>
                    <a:lnTo>
                      <a:pt x="132" y="321"/>
                    </a:lnTo>
                    <a:lnTo>
                      <a:pt x="129" y="348"/>
                    </a:lnTo>
                    <a:lnTo>
                      <a:pt x="108" y="339"/>
                    </a:lnTo>
                    <a:lnTo>
                      <a:pt x="99" y="372"/>
                    </a:lnTo>
                    <a:lnTo>
                      <a:pt x="120" y="390"/>
                    </a:lnTo>
                    <a:lnTo>
                      <a:pt x="150" y="375"/>
                    </a:lnTo>
                    <a:lnTo>
                      <a:pt x="132" y="411"/>
                    </a:lnTo>
                    <a:lnTo>
                      <a:pt x="150" y="420"/>
                    </a:lnTo>
                    <a:lnTo>
                      <a:pt x="159" y="438"/>
                    </a:lnTo>
                    <a:lnTo>
                      <a:pt x="177" y="456"/>
                    </a:lnTo>
                    <a:lnTo>
                      <a:pt x="225" y="453"/>
                    </a:lnTo>
                    <a:lnTo>
                      <a:pt x="264" y="453"/>
                    </a:lnTo>
                    <a:lnTo>
                      <a:pt x="282" y="471"/>
                    </a:lnTo>
                    <a:lnTo>
                      <a:pt x="303" y="4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e00"/>
                  </a:gs>
                  <a:gs pos="100000">
                    <a:srgbClr val="00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94000" y="4149720"/>
                <a:ext cx="885600" cy="871560"/>
              </a:xfrm>
              <a:custGeom>
                <a:avLst/>
                <a:gdLst/>
                <a:ahLst/>
                <a:rect l="l" t="t" r="r" b="b"/>
                <a:pathLst>
                  <a:path w="558" h="549">
                    <a:moveTo>
                      <a:pt x="465" y="0"/>
                    </a:moveTo>
                    <a:lnTo>
                      <a:pt x="474" y="39"/>
                    </a:lnTo>
                    <a:lnTo>
                      <a:pt x="486" y="54"/>
                    </a:lnTo>
                    <a:lnTo>
                      <a:pt x="486" y="90"/>
                    </a:lnTo>
                    <a:lnTo>
                      <a:pt x="501" y="105"/>
                    </a:lnTo>
                    <a:lnTo>
                      <a:pt x="495" y="126"/>
                    </a:lnTo>
                    <a:lnTo>
                      <a:pt x="507" y="162"/>
                    </a:lnTo>
                    <a:lnTo>
                      <a:pt x="495" y="192"/>
                    </a:lnTo>
                    <a:lnTo>
                      <a:pt x="504" y="231"/>
                    </a:lnTo>
                    <a:lnTo>
                      <a:pt x="495" y="297"/>
                    </a:lnTo>
                    <a:lnTo>
                      <a:pt x="483" y="333"/>
                    </a:lnTo>
                    <a:lnTo>
                      <a:pt x="501" y="357"/>
                    </a:lnTo>
                    <a:lnTo>
                      <a:pt x="495" y="414"/>
                    </a:lnTo>
                    <a:lnTo>
                      <a:pt x="525" y="405"/>
                    </a:lnTo>
                    <a:lnTo>
                      <a:pt x="546" y="381"/>
                    </a:lnTo>
                    <a:lnTo>
                      <a:pt x="558" y="396"/>
                    </a:lnTo>
                    <a:lnTo>
                      <a:pt x="537" y="435"/>
                    </a:lnTo>
                    <a:lnTo>
                      <a:pt x="537" y="474"/>
                    </a:lnTo>
                    <a:lnTo>
                      <a:pt x="525" y="495"/>
                    </a:lnTo>
                    <a:lnTo>
                      <a:pt x="528" y="537"/>
                    </a:lnTo>
                    <a:lnTo>
                      <a:pt x="498" y="531"/>
                    </a:lnTo>
                    <a:lnTo>
                      <a:pt x="480" y="522"/>
                    </a:lnTo>
                    <a:lnTo>
                      <a:pt x="459" y="537"/>
                    </a:lnTo>
                    <a:lnTo>
                      <a:pt x="435" y="534"/>
                    </a:lnTo>
                    <a:lnTo>
                      <a:pt x="423" y="504"/>
                    </a:lnTo>
                    <a:lnTo>
                      <a:pt x="378" y="519"/>
                    </a:lnTo>
                    <a:lnTo>
                      <a:pt x="363" y="543"/>
                    </a:lnTo>
                    <a:lnTo>
                      <a:pt x="318" y="549"/>
                    </a:lnTo>
                    <a:lnTo>
                      <a:pt x="291" y="537"/>
                    </a:lnTo>
                    <a:lnTo>
                      <a:pt x="264" y="549"/>
                    </a:lnTo>
                    <a:lnTo>
                      <a:pt x="225" y="525"/>
                    </a:lnTo>
                    <a:lnTo>
                      <a:pt x="216" y="507"/>
                    </a:lnTo>
                    <a:lnTo>
                      <a:pt x="198" y="531"/>
                    </a:lnTo>
                    <a:lnTo>
                      <a:pt x="174" y="540"/>
                    </a:lnTo>
                    <a:lnTo>
                      <a:pt x="150" y="531"/>
                    </a:lnTo>
                    <a:lnTo>
                      <a:pt x="108" y="528"/>
                    </a:lnTo>
                    <a:lnTo>
                      <a:pt x="105" y="498"/>
                    </a:lnTo>
                    <a:lnTo>
                      <a:pt x="81" y="480"/>
                    </a:lnTo>
                    <a:lnTo>
                      <a:pt x="45" y="498"/>
                    </a:lnTo>
                    <a:lnTo>
                      <a:pt x="21" y="459"/>
                    </a:lnTo>
                    <a:lnTo>
                      <a:pt x="24" y="435"/>
                    </a:lnTo>
                    <a:lnTo>
                      <a:pt x="39" y="420"/>
                    </a:lnTo>
                    <a:lnTo>
                      <a:pt x="39" y="402"/>
                    </a:lnTo>
                    <a:lnTo>
                      <a:pt x="18" y="399"/>
                    </a:lnTo>
                    <a:lnTo>
                      <a:pt x="33" y="363"/>
                    </a:lnTo>
                    <a:lnTo>
                      <a:pt x="63" y="360"/>
                    </a:lnTo>
                    <a:lnTo>
                      <a:pt x="63" y="324"/>
                    </a:lnTo>
                    <a:lnTo>
                      <a:pt x="27" y="315"/>
                    </a:lnTo>
                    <a:lnTo>
                      <a:pt x="6" y="285"/>
                    </a:lnTo>
                    <a:lnTo>
                      <a:pt x="27" y="273"/>
                    </a:lnTo>
                    <a:lnTo>
                      <a:pt x="3" y="240"/>
                    </a:lnTo>
                    <a:lnTo>
                      <a:pt x="0" y="198"/>
                    </a:lnTo>
                    <a:lnTo>
                      <a:pt x="39" y="165"/>
                    </a:lnTo>
                    <a:lnTo>
                      <a:pt x="60" y="171"/>
                    </a:lnTo>
                    <a:lnTo>
                      <a:pt x="57" y="144"/>
                    </a:lnTo>
                    <a:lnTo>
                      <a:pt x="93" y="129"/>
                    </a:lnTo>
                    <a:lnTo>
                      <a:pt x="165" y="153"/>
                    </a:lnTo>
                    <a:lnTo>
                      <a:pt x="201" y="126"/>
                    </a:lnTo>
                    <a:lnTo>
                      <a:pt x="198" y="69"/>
                    </a:lnTo>
                    <a:lnTo>
                      <a:pt x="258" y="42"/>
                    </a:lnTo>
                    <a:lnTo>
                      <a:pt x="279" y="54"/>
                    </a:lnTo>
                    <a:lnTo>
                      <a:pt x="291" y="30"/>
                    </a:lnTo>
                    <a:lnTo>
                      <a:pt x="342" y="48"/>
                    </a:lnTo>
                    <a:lnTo>
                      <a:pt x="363" y="33"/>
                    </a:lnTo>
                    <a:lnTo>
                      <a:pt x="411" y="39"/>
                    </a:lnTo>
                    <a:lnTo>
                      <a:pt x="4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e00"/>
                  </a:gs>
                  <a:gs pos="100000">
                    <a:srgbClr val="00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27240" y="4125960"/>
                <a:ext cx="642960" cy="666720"/>
              </a:xfrm>
              <a:custGeom>
                <a:avLst/>
                <a:gdLst/>
                <a:ahLst/>
                <a:rect l="l" t="t" r="r" b="b"/>
                <a:pathLst>
                  <a:path w="405" h="420">
                    <a:moveTo>
                      <a:pt x="135" y="0"/>
                    </a:moveTo>
                    <a:lnTo>
                      <a:pt x="174" y="12"/>
                    </a:lnTo>
                    <a:lnTo>
                      <a:pt x="189" y="30"/>
                    </a:lnTo>
                    <a:lnTo>
                      <a:pt x="210" y="6"/>
                    </a:lnTo>
                    <a:lnTo>
                      <a:pt x="279" y="15"/>
                    </a:lnTo>
                    <a:lnTo>
                      <a:pt x="297" y="36"/>
                    </a:lnTo>
                    <a:lnTo>
                      <a:pt x="351" y="45"/>
                    </a:lnTo>
                    <a:lnTo>
                      <a:pt x="405" y="69"/>
                    </a:lnTo>
                    <a:lnTo>
                      <a:pt x="372" y="93"/>
                    </a:lnTo>
                    <a:lnTo>
                      <a:pt x="366" y="147"/>
                    </a:lnTo>
                    <a:lnTo>
                      <a:pt x="327" y="171"/>
                    </a:lnTo>
                    <a:lnTo>
                      <a:pt x="258" y="144"/>
                    </a:lnTo>
                    <a:lnTo>
                      <a:pt x="228" y="156"/>
                    </a:lnTo>
                    <a:lnTo>
                      <a:pt x="228" y="186"/>
                    </a:lnTo>
                    <a:lnTo>
                      <a:pt x="210" y="183"/>
                    </a:lnTo>
                    <a:lnTo>
                      <a:pt x="168" y="216"/>
                    </a:lnTo>
                    <a:lnTo>
                      <a:pt x="171" y="252"/>
                    </a:lnTo>
                    <a:lnTo>
                      <a:pt x="195" y="291"/>
                    </a:lnTo>
                    <a:lnTo>
                      <a:pt x="177" y="300"/>
                    </a:lnTo>
                    <a:lnTo>
                      <a:pt x="201" y="333"/>
                    </a:lnTo>
                    <a:lnTo>
                      <a:pt x="234" y="342"/>
                    </a:lnTo>
                    <a:lnTo>
                      <a:pt x="228" y="381"/>
                    </a:lnTo>
                    <a:lnTo>
                      <a:pt x="201" y="381"/>
                    </a:lnTo>
                    <a:lnTo>
                      <a:pt x="189" y="420"/>
                    </a:lnTo>
                    <a:lnTo>
                      <a:pt x="111" y="411"/>
                    </a:lnTo>
                    <a:lnTo>
                      <a:pt x="96" y="366"/>
                    </a:lnTo>
                    <a:lnTo>
                      <a:pt x="63" y="345"/>
                    </a:lnTo>
                    <a:lnTo>
                      <a:pt x="60" y="312"/>
                    </a:lnTo>
                    <a:lnTo>
                      <a:pt x="78" y="300"/>
                    </a:lnTo>
                    <a:lnTo>
                      <a:pt x="48" y="273"/>
                    </a:lnTo>
                    <a:lnTo>
                      <a:pt x="27" y="273"/>
                    </a:lnTo>
                    <a:lnTo>
                      <a:pt x="27" y="234"/>
                    </a:lnTo>
                    <a:lnTo>
                      <a:pt x="0" y="219"/>
                    </a:lnTo>
                    <a:lnTo>
                      <a:pt x="18" y="195"/>
                    </a:lnTo>
                    <a:lnTo>
                      <a:pt x="15" y="177"/>
                    </a:lnTo>
                    <a:lnTo>
                      <a:pt x="36" y="174"/>
                    </a:lnTo>
                    <a:lnTo>
                      <a:pt x="12" y="132"/>
                    </a:lnTo>
                    <a:lnTo>
                      <a:pt x="33" y="69"/>
                    </a:lnTo>
                    <a:lnTo>
                      <a:pt x="72" y="81"/>
                    </a:lnTo>
                    <a:lnTo>
                      <a:pt x="78" y="54"/>
                    </a:lnTo>
                    <a:lnTo>
                      <a:pt x="111" y="45"/>
                    </a:lnTo>
                    <a:lnTo>
                      <a:pt x="111" y="18"/>
                    </a:lnTo>
                    <a:lnTo>
                      <a:pt x="1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574640" y="4282920"/>
                <a:ext cx="728640" cy="566640"/>
              </a:xfrm>
              <a:custGeom>
                <a:avLst/>
                <a:gdLst/>
                <a:ahLst/>
                <a:rect l="l" t="t" r="r" b="b"/>
                <a:pathLst>
                  <a:path w="459" h="357">
                    <a:moveTo>
                      <a:pt x="72" y="3"/>
                    </a:moveTo>
                    <a:lnTo>
                      <a:pt x="102" y="3"/>
                    </a:lnTo>
                    <a:lnTo>
                      <a:pt x="102" y="39"/>
                    </a:lnTo>
                    <a:lnTo>
                      <a:pt x="117" y="15"/>
                    </a:lnTo>
                    <a:lnTo>
                      <a:pt x="135" y="0"/>
                    </a:lnTo>
                    <a:lnTo>
                      <a:pt x="159" y="6"/>
                    </a:lnTo>
                    <a:lnTo>
                      <a:pt x="162" y="27"/>
                    </a:lnTo>
                    <a:lnTo>
                      <a:pt x="183" y="12"/>
                    </a:lnTo>
                    <a:lnTo>
                      <a:pt x="207" y="24"/>
                    </a:lnTo>
                    <a:lnTo>
                      <a:pt x="219" y="48"/>
                    </a:lnTo>
                    <a:lnTo>
                      <a:pt x="246" y="18"/>
                    </a:lnTo>
                    <a:lnTo>
                      <a:pt x="291" y="12"/>
                    </a:lnTo>
                    <a:lnTo>
                      <a:pt x="333" y="21"/>
                    </a:lnTo>
                    <a:lnTo>
                      <a:pt x="342" y="39"/>
                    </a:lnTo>
                    <a:lnTo>
                      <a:pt x="363" y="39"/>
                    </a:lnTo>
                    <a:lnTo>
                      <a:pt x="387" y="78"/>
                    </a:lnTo>
                    <a:lnTo>
                      <a:pt x="363" y="81"/>
                    </a:lnTo>
                    <a:lnTo>
                      <a:pt x="375" y="102"/>
                    </a:lnTo>
                    <a:lnTo>
                      <a:pt x="351" y="111"/>
                    </a:lnTo>
                    <a:lnTo>
                      <a:pt x="381" y="135"/>
                    </a:lnTo>
                    <a:lnTo>
                      <a:pt x="378" y="171"/>
                    </a:lnTo>
                    <a:lnTo>
                      <a:pt x="405" y="171"/>
                    </a:lnTo>
                    <a:lnTo>
                      <a:pt x="429" y="204"/>
                    </a:lnTo>
                    <a:lnTo>
                      <a:pt x="408" y="216"/>
                    </a:lnTo>
                    <a:lnTo>
                      <a:pt x="408" y="240"/>
                    </a:lnTo>
                    <a:lnTo>
                      <a:pt x="450" y="270"/>
                    </a:lnTo>
                    <a:lnTo>
                      <a:pt x="459" y="321"/>
                    </a:lnTo>
                    <a:lnTo>
                      <a:pt x="426" y="357"/>
                    </a:lnTo>
                    <a:lnTo>
                      <a:pt x="378" y="345"/>
                    </a:lnTo>
                    <a:lnTo>
                      <a:pt x="351" y="327"/>
                    </a:lnTo>
                    <a:lnTo>
                      <a:pt x="357" y="303"/>
                    </a:lnTo>
                    <a:lnTo>
                      <a:pt x="327" y="300"/>
                    </a:lnTo>
                    <a:lnTo>
                      <a:pt x="306" y="306"/>
                    </a:lnTo>
                    <a:lnTo>
                      <a:pt x="273" y="303"/>
                    </a:lnTo>
                    <a:lnTo>
                      <a:pt x="222" y="318"/>
                    </a:lnTo>
                    <a:lnTo>
                      <a:pt x="210" y="300"/>
                    </a:lnTo>
                    <a:lnTo>
                      <a:pt x="159" y="327"/>
                    </a:lnTo>
                    <a:lnTo>
                      <a:pt x="135" y="303"/>
                    </a:lnTo>
                    <a:lnTo>
                      <a:pt x="105" y="279"/>
                    </a:lnTo>
                    <a:lnTo>
                      <a:pt x="126" y="267"/>
                    </a:lnTo>
                    <a:lnTo>
                      <a:pt x="123" y="228"/>
                    </a:lnTo>
                    <a:lnTo>
                      <a:pt x="102" y="195"/>
                    </a:lnTo>
                    <a:lnTo>
                      <a:pt x="123" y="180"/>
                    </a:lnTo>
                    <a:lnTo>
                      <a:pt x="99" y="153"/>
                    </a:lnTo>
                    <a:lnTo>
                      <a:pt x="111" y="123"/>
                    </a:lnTo>
                    <a:lnTo>
                      <a:pt x="96" y="108"/>
                    </a:lnTo>
                    <a:lnTo>
                      <a:pt x="75" y="117"/>
                    </a:lnTo>
                    <a:lnTo>
                      <a:pt x="63" y="90"/>
                    </a:lnTo>
                    <a:lnTo>
                      <a:pt x="15" y="96"/>
                    </a:lnTo>
                    <a:lnTo>
                      <a:pt x="0" y="78"/>
                    </a:lnTo>
                    <a:lnTo>
                      <a:pt x="18" y="39"/>
                    </a:lnTo>
                    <a:lnTo>
                      <a:pt x="39" y="27"/>
                    </a:lnTo>
                    <a:lnTo>
                      <a:pt x="60" y="36"/>
                    </a:lnTo>
                    <a:lnTo>
                      <a:pt x="42" y="48"/>
                    </a:lnTo>
                    <a:lnTo>
                      <a:pt x="66" y="63"/>
                    </a:lnTo>
                    <a:lnTo>
                      <a:pt x="81" y="42"/>
                    </a:lnTo>
                    <a:lnTo>
                      <a:pt x="72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2f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79520" y="4868640"/>
                <a:ext cx="947880" cy="595440"/>
              </a:xfrm>
              <a:custGeom>
                <a:avLst/>
                <a:gdLst/>
                <a:ahLst/>
                <a:rect l="l" t="t" r="r" b="b"/>
                <a:pathLst>
                  <a:path w="597" h="375">
                    <a:moveTo>
                      <a:pt x="93" y="0"/>
                    </a:moveTo>
                    <a:lnTo>
                      <a:pt x="120" y="42"/>
                    </a:lnTo>
                    <a:lnTo>
                      <a:pt x="153" y="24"/>
                    </a:lnTo>
                    <a:lnTo>
                      <a:pt x="183" y="39"/>
                    </a:lnTo>
                    <a:lnTo>
                      <a:pt x="186" y="78"/>
                    </a:lnTo>
                    <a:lnTo>
                      <a:pt x="225" y="72"/>
                    </a:lnTo>
                    <a:lnTo>
                      <a:pt x="246" y="87"/>
                    </a:lnTo>
                    <a:lnTo>
                      <a:pt x="294" y="51"/>
                    </a:lnTo>
                    <a:lnTo>
                      <a:pt x="309" y="75"/>
                    </a:lnTo>
                    <a:lnTo>
                      <a:pt x="351" y="93"/>
                    </a:lnTo>
                    <a:lnTo>
                      <a:pt x="378" y="75"/>
                    </a:lnTo>
                    <a:lnTo>
                      <a:pt x="402" y="90"/>
                    </a:lnTo>
                    <a:lnTo>
                      <a:pt x="456" y="57"/>
                    </a:lnTo>
                    <a:lnTo>
                      <a:pt x="498" y="48"/>
                    </a:lnTo>
                    <a:lnTo>
                      <a:pt x="504" y="72"/>
                    </a:lnTo>
                    <a:lnTo>
                      <a:pt x="534" y="75"/>
                    </a:lnTo>
                    <a:lnTo>
                      <a:pt x="549" y="60"/>
                    </a:lnTo>
                    <a:lnTo>
                      <a:pt x="597" y="81"/>
                    </a:lnTo>
                    <a:lnTo>
                      <a:pt x="585" y="105"/>
                    </a:lnTo>
                    <a:lnTo>
                      <a:pt x="588" y="129"/>
                    </a:lnTo>
                    <a:lnTo>
                      <a:pt x="567" y="147"/>
                    </a:lnTo>
                    <a:lnTo>
                      <a:pt x="528" y="192"/>
                    </a:lnTo>
                    <a:lnTo>
                      <a:pt x="534" y="219"/>
                    </a:lnTo>
                    <a:lnTo>
                      <a:pt x="495" y="270"/>
                    </a:lnTo>
                    <a:lnTo>
                      <a:pt x="459" y="285"/>
                    </a:lnTo>
                    <a:lnTo>
                      <a:pt x="426" y="273"/>
                    </a:lnTo>
                    <a:lnTo>
                      <a:pt x="393" y="297"/>
                    </a:lnTo>
                    <a:lnTo>
                      <a:pt x="369" y="270"/>
                    </a:lnTo>
                    <a:lnTo>
                      <a:pt x="327" y="258"/>
                    </a:lnTo>
                    <a:lnTo>
                      <a:pt x="342" y="291"/>
                    </a:lnTo>
                    <a:lnTo>
                      <a:pt x="297" y="285"/>
                    </a:lnTo>
                    <a:lnTo>
                      <a:pt x="309" y="267"/>
                    </a:lnTo>
                    <a:lnTo>
                      <a:pt x="291" y="264"/>
                    </a:lnTo>
                    <a:lnTo>
                      <a:pt x="258" y="300"/>
                    </a:lnTo>
                    <a:lnTo>
                      <a:pt x="288" y="294"/>
                    </a:lnTo>
                    <a:lnTo>
                      <a:pt x="297" y="312"/>
                    </a:lnTo>
                    <a:lnTo>
                      <a:pt x="270" y="330"/>
                    </a:lnTo>
                    <a:lnTo>
                      <a:pt x="291" y="354"/>
                    </a:lnTo>
                    <a:lnTo>
                      <a:pt x="333" y="339"/>
                    </a:lnTo>
                    <a:lnTo>
                      <a:pt x="327" y="312"/>
                    </a:lnTo>
                    <a:lnTo>
                      <a:pt x="360" y="306"/>
                    </a:lnTo>
                    <a:lnTo>
                      <a:pt x="360" y="330"/>
                    </a:lnTo>
                    <a:lnTo>
                      <a:pt x="372" y="354"/>
                    </a:lnTo>
                    <a:lnTo>
                      <a:pt x="345" y="375"/>
                    </a:lnTo>
                    <a:lnTo>
                      <a:pt x="327" y="363"/>
                    </a:lnTo>
                    <a:lnTo>
                      <a:pt x="270" y="369"/>
                    </a:lnTo>
                    <a:lnTo>
                      <a:pt x="270" y="348"/>
                    </a:lnTo>
                    <a:lnTo>
                      <a:pt x="240" y="351"/>
                    </a:lnTo>
                    <a:lnTo>
                      <a:pt x="225" y="336"/>
                    </a:lnTo>
                    <a:lnTo>
                      <a:pt x="171" y="351"/>
                    </a:lnTo>
                    <a:lnTo>
                      <a:pt x="150" y="330"/>
                    </a:lnTo>
                    <a:lnTo>
                      <a:pt x="147" y="294"/>
                    </a:lnTo>
                    <a:lnTo>
                      <a:pt x="126" y="318"/>
                    </a:lnTo>
                    <a:lnTo>
                      <a:pt x="90" y="336"/>
                    </a:lnTo>
                    <a:lnTo>
                      <a:pt x="63" y="324"/>
                    </a:lnTo>
                    <a:lnTo>
                      <a:pt x="39" y="264"/>
                    </a:lnTo>
                    <a:lnTo>
                      <a:pt x="12" y="249"/>
                    </a:lnTo>
                    <a:lnTo>
                      <a:pt x="15" y="219"/>
                    </a:lnTo>
                    <a:lnTo>
                      <a:pt x="0" y="201"/>
                    </a:lnTo>
                    <a:lnTo>
                      <a:pt x="0" y="174"/>
                    </a:lnTo>
                    <a:lnTo>
                      <a:pt x="15" y="150"/>
                    </a:lnTo>
                    <a:lnTo>
                      <a:pt x="6" y="120"/>
                    </a:lnTo>
                    <a:lnTo>
                      <a:pt x="24" y="81"/>
                    </a:lnTo>
                    <a:lnTo>
                      <a:pt x="18" y="51"/>
                    </a:lnTo>
                    <a:lnTo>
                      <a:pt x="48" y="42"/>
                    </a:lnTo>
                    <a:lnTo>
                      <a:pt x="45" y="15"/>
                    </a:lnTo>
                    <a:lnTo>
                      <a:pt x="72" y="3"/>
                    </a:lnTo>
                    <a:lnTo>
                      <a:pt x="9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f75"/>
                  </a:gs>
                  <a:gs pos="100000">
                    <a:srgbClr val="00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89120" y="4744800"/>
                <a:ext cx="771480" cy="466920"/>
              </a:xfrm>
              <a:custGeom>
                <a:avLst/>
                <a:gdLst/>
                <a:ahLst/>
                <a:rect l="l" t="t" r="r" b="b"/>
                <a:pathLst>
                  <a:path w="486" h="294">
                    <a:moveTo>
                      <a:pt x="387" y="21"/>
                    </a:moveTo>
                    <a:lnTo>
                      <a:pt x="456" y="24"/>
                    </a:lnTo>
                    <a:lnTo>
                      <a:pt x="486" y="39"/>
                    </a:lnTo>
                    <a:lnTo>
                      <a:pt x="468" y="54"/>
                    </a:lnTo>
                    <a:lnTo>
                      <a:pt x="468" y="84"/>
                    </a:lnTo>
                    <a:lnTo>
                      <a:pt x="429" y="90"/>
                    </a:lnTo>
                    <a:lnTo>
                      <a:pt x="420" y="123"/>
                    </a:lnTo>
                    <a:lnTo>
                      <a:pt x="393" y="132"/>
                    </a:lnTo>
                    <a:lnTo>
                      <a:pt x="399" y="156"/>
                    </a:lnTo>
                    <a:lnTo>
                      <a:pt x="381" y="189"/>
                    </a:lnTo>
                    <a:lnTo>
                      <a:pt x="387" y="216"/>
                    </a:lnTo>
                    <a:lnTo>
                      <a:pt x="378" y="243"/>
                    </a:lnTo>
                    <a:lnTo>
                      <a:pt x="372" y="285"/>
                    </a:lnTo>
                    <a:lnTo>
                      <a:pt x="345" y="279"/>
                    </a:lnTo>
                    <a:lnTo>
                      <a:pt x="318" y="294"/>
                    </a:lnTo>
                    <a:lnTo>
                      <a:pt x="297" y="270"/>
                    </a:lnTo>
                    <a:lnTo>
                      <a:pt x="270" y="285"/>
                    </a:lnTo>
                    <a:lnTo>
                      <a:pt x="255" y="273"/>
                    </a:lnTo>
                    <a:lnTo>
                      <a:pt x="225" y="282"/>
                    </a:lnTo>
                    <a:lnTo>
                      <a:pt x="204" y="273"/>
                    </a:lnTo>
                    <a:lnTo>
                      <a:pt x="204" y="246"/>
                    </a:lnTo>
                    <a:lnTo>
                      <a:pt x="168" y="249"/>
                    </a:lnTo>
                    <a:lnTo>
                      <a:pt x="138" y="219"/>
                    </a:lnTo>
                    <a:lnTo>
                      <a:pt x="114" y="225"/>
                    </a:lnTo>
                    <a:lnTo>
                      <a:pt x="96" y="240"/>
                    </a:lnTo>
                    <a:lnTo>
                      <a:pt x="96" y="264"/>
                    </a:lnTo>
                    <a:lnTo>
                      <a:pt x="69" y="285"/>
                    </a:lnTo>
                    <a:lnTo>
                      <a:pt x="0" y="258"/>
                    </a:lnTo>
                    <a:lnTo>
                      <a:pt x="24" y="237"/>
                    </a:lnTo>
                    <a:lnTo>
                      <a:pt x="30" y="207"/>
                    </a:lnTo>
                    <a:lnTo>
                      <a:pt x="75" y="201"/>
                    </a:lnTo>
                    <a:lnTo>
                      <a:pt x="78" y="183"/>
                    </a:lnTo>
                    <a:lnTo>
                      <a:pt x="30" y="186"/>
                    </a:lnTo>
                    <a:lnTo>
                      <a:pt x="54" y="144"/>
                    </a:lnTo>
                    <a:lnTo>
                      <a:pt x="84" y="138"/>
                    </a:lnTo>
                    <a:lnTo>
                      <a:pt x="72" y="120"/>
                    </a:lnTo>
                    <a:lnTo>
                      <a:pt x="96" y="108"/>
                    </a:lnTo>
                    <a:lnTo>
                      <a:pt x="120" y="102"/>
                    </a:lnTo>
                    <a:lnTo>
                      <a:pt x="108" y="84"/>
                    </a:lnTo>
                    <a:lnTo>
                      <a:pt x="60" y="84"/>
                    </a:lnTo>
                    <a:lnTo>
                      <a:pt x="75" y="60"/>
                    </a:lnTo>
                    <a:lnTo>
                      <a:pt x="105" y="57"/>
                    </a:lnTo>
                    <a:lnTo>
                      <a:pt x="93" y="21"/>
                    </a:lnTo>
                    <a:lnTo>
                      <a:pt x="135" y="3"/>
                    </a:lnTo>
                    <a:lnTo>
                      <a:pt x="150" y="21"/>
                    </a:lnTo>
                    <a:lnTo>
                      <a:pt x="201" y="6"/>
                    </a:lnTo>
                    <a:lnTo>
                      <a:pt x="228" y="12"/>
                    </a:lnTo>
                    <a:lnTo>
                      <a:pt x="282" y="0"/>
                    </a:lnTo>
                    <a:lnTo>
                      <a:pt x="279" y="27"/>
                    </a:lnTo>
                    <a:lnTo>
                      <a:pt x="309" y="51"/>
                    </a:lnTo>
                    <a:lnTo>
                      <a:pt x="339" y="57"/>
                    </a:lnTo>
                    <a:lnTo>
                      <a:pt x="387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12800" y="5083200"/>
                <a:ext cx="766800" cy="662040"/>
              </a:xfrm>
              <a:custGeom>
                <a:avLst/>
                <a:gdLst/>
                <a:ahLst/>
                <a:rect l="l" t="t" r="r" b="b"/>
                <a:pathLst>
                  <a:path w="483" h="417">
                    <a:moveTo>
                      <a:pt x="63" y="45"/>
                    </a:moveTo>
                    <a:lnTo>
                      <a:pt x="111" y="66"/>
                    </a:lnTo>
                    <a:lnTo>
                      <a:pt x="132" y="57"/>
                    </a:lnTo>
                    <a:lnTo>
                      <a:pt x="144" y="12"/>
                    </a:lnTo>
                    <a:lnTo>
                      <a:pt x="186" y="0"/>
                    </a:lnTo>
                    <a:lnTo>
                      <a:pt x="210" y="27"/>
                    </a:lnTo>
                    <a:lnTo>
                      <a:pt x="249" y="30"/>
                    </a:lnTo>
                    <a:lnTo>
                      <a:pt x="252" y="54"/>
                    </a:lnTo>
                    <a:lnTo>
                      <a:pt x="279" y="66"/>
                    </a:lnTo>
                    <a:lnTo>
                      <a:pt x="300" y="54"/>
                    </a:lnTo>
                    <a:lnTo>
                      <a:pt x="312" y="72"/>
                    </a:lnTo>
                    <a:lnTo>
                      <a:pt x="342" y="54"/>
                    </a:lnTo>
                    <a:lnTo>
                      <a:pt x="369" y="72"/>
                    </a:lnTo>
                    <a:lnTo>
                      <a:pt x="387" y="57"/>
                    </a:lnTo>
                    <a:lnTo>
                      <a:pt x="423" y="69"/>
                    </a:lnTo>
                    <a:lnTo>
                      <a:pt x="441" y="87"/>
                    </a:lnTo>
                    <a:lnTo>
                      <a:pt x="438" y="117"/>
                    </a:lnTo>
                    <a:lnTo>
                      <a:pt x="465" y="126"/>
                    </a:lnTo>
                    <a:lnTo>
                      <a:pt x="477" y="162"/>
                    </a:lnTo>
                    <a:lnTo>
                      <a:pt x="483" y="183"/>
                    </a:lnTo>
                    <a:lnTo>
                      <a:pt x="444" y="219"/>
                    </a:lnTo>
                    <a:lnTo>
                      <a:pt x="450" y="240"/>
                    </a:lnTo>
                    <a:lnTo>
                      <a:pt x="477" y="231"/>
                    </a:lnTo>
                    <a:lnTo>
                      <a:pt x="480" y="270"/>
                    </a:lnTo>
                    <a:lnTo>
                      <a:pt x="441" y="267"/>
                    </a:lnTo>
                    <a:lnTo>
                      <a:pt x="447" y="300"/>
                    </a:lnTo>
                    <a:lnTo>
                      <a:pt x="411" y="288"/>
                    </a:lnTo>
                    <a:lnTo>
                      <a:pt x="426" y="270"/>
                    </a:lnTo>
                    <a:lnTo>
                      <a:pt x="417" y="240"/>
                    </a:lnTo>
                    <a:lnTo>
                      <a:pt x="405" y="222"/>
                    </a:lnTo>
                    <a:lnTo>
                      <a:pt x="363" y="234"/>
                    </a:lnTo>
                    <a:lnTo>
                      <a:pt x="369" y="270"/>
                    </a:lnTo>
                    <a:lnTo>
                      <a:pt x="393" y="297"/>
                    </a:lnTo>
                    <a:lnTo>
                      <a:pt x="381" y="327"/>
                    </a:lnTo>
                    <a:lnTo>
                      <a:pt x="330" y="363"/>
                    </a:lnTo>
                    <a:lnTo>
                      <a:pt x="303" y="336"/>
                    </a:lnTo>
                    <a:lnTo>
                      <a:pt x="303" y="306"/>
                    </a:lnTo>
                    <a:lnTo>
                      <a:pt x="339" y="276"/>
                    </a:lnTo>
                    <a:lnTo>
                      <a:pt x="324" y="258"/>
                    </a:lnTo>
                    <a:lnTo>
                      <a:pt x="288" y="288"/>
                    </a:lnTo>
                    <a:lnTo>
                      <a:pt x="246" y="303"/>
                    </a:lnTo>
                    <a:lnTo>
                      <a:pt x="228" y="321"/>
                    </a:lnTo>
                    <a:lnTo>
                      <a:pt x="240" y="345"/>
                    </a:lnTo>
                    <a:lnTo>
                      <a:pt x="201" y="366"/>
                    </a:lnTo>
                    <a:lnTo>
                      <a:pt x="177" y="357"/>
                    </a:lnTo>
                    <a:lnTo>
                      <a:pt x="162" y="321"/>
                    </a:lnTo>
                    <a:lnTo>
                      <a:pt x="144" y="342"/>
                    </a:lnTo>
                    <a:lnTo>
                      <a:pt x="162" y="348"/>
                    </a:lnTo>
                    <a:lnTo>
                      <a:pt x="120" y="372"/>
                    </a:lnTo>
                    <a:lnTo>
                      <a:pt x="102" y="417"/>
                    </a:lnTo>
                    <a:lnTo>
                      <a:pt x="66" y="399"/>
                    </a:lnTo>
                    <a:lnTo>
                      <a:pt x="90" y="378"/>
                    </a:lnTo>
                    <a:lnTo>
                      <a:pt x="63" y="348"/>
                    </a:lnTo>
                    <a:lnTo>
                      <a:pt x="84" y="324"/>
                    </a:lnTo>
                    <a:lnTo>
                      <a:pt x="45" y="330"/>
                    </a:lnTo>
                    <a:lnTo>
                      <a:pt x="0" y="297"/>
                    </a:lnTo>
                    <a:lnTo>
                      <a:pt x="6" y="264"/>
                    </a:lnTo>
                    <a:lnTo>
                      <a:pt x="36" y="264"/>
                    </a:lnTo>
                    <a:lnTo>
                      <a:pt x="33" y="294"/>
                    </a:lnTo>
                    <a:lnTo>
                      <a:pt x="57" y="312"/>
                    </a:lnTo>
                    <a:lnTo>
                      <a:pt x="54" y="285"/>
                    </a:lnTo>
                    <a:lnTo>
                      <a:pt x="75" y="291"/>
                    </a:lnTo>
                    <a:lnTo>
                      <a:pt x="93" y="309"/>
                    </a:lnTo>
                    <a:lnTo>
                      <a:pt x="114" y="297"/>
                    </a:lnTo>
                    <a:lnTo>
                      <a:pt x="93" y="282"/>
                    </a:lnTo>
                    <a:lnTo>
                      <a:pt x="51" y="261"/>
                    </a:lnTo>
                    <a:lnTo>
                      <a:pt x="96" y="240"/>
                    </a:lnTo>
                    <a:lnTo>
                      <a:pt x="123" y="240"/>
                    </a:lnTo>
                    <a:lnTo>
                      <a:pt x="99" y="213"/>
                    </a:lnTo>
                    <a:lnTo>
                      <a:pt x="66" y="252"/>
                    </a:lnTo>
                    <a:lnTo>
                      <a:pt x="42" y="228"/>
                    </a:lnTo>
                    <a:lnTo>
                      <a:pt x="60" y="192"/>
                    </a:lnTo>
                    <a:lnTo>
                      <a:pt x="30" y="192"/>
                    </a:lnTo>
                    <a:lnTo>
                      <a:pt x="27" y="174"/>
                    </a:lnTo>
                    <a:lnTo>
                      <a:pt x="57" y="159"/>
                    </a:lnTo>
                    <a:lnTo>
                      <a:pt x="57" y="132"/>
                    </a:lnTo>
                    <a:lnTo>
                      <a:pt x="30" y="99"/>
                    </a:lnTo>
                    <a:lnTo>
                      <a:pt x="42" y="48"/>
                    </a:lnTo>
                    <a:lnTo>
                      <a:pt x="63" y="4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5e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009880" y="3355920"/>
              <a:ext cx="9223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Gangwon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 </a:t>
              </a:r>
              <a:endParaRPr b="0" lang="en-US" sz="1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08080" y="4125960"/>
              <a:ext cx="9637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Chungbuk</a:t>
              </a:r>
              <a:endParaRPr b="0" lang="en-US" sz="1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52600" y="4502160"/>
              <a:ext cx="12873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Gyeongnam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 </a:t>
              </a:r>
              <a:endParaRPr b="0" lang="en-US" sz="1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39800" y="4294080"/>
              <a:ext cx="10940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Chungnam </a:t>
              </a:r>
              <a:endParaRPr b="0" lang="en-US" sz="1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66880" y="4668840"/>
              <a:ext cx="911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Jeonbuk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 </a:t>
              </a:r>
              <a:endParaRPr b="0" lang="en-US" sz="1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04880" y="5111640"/>
              <a:ext cx="871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Jeonnam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 </a:t>
              </a:r>
              <a:endParaRPr b="0" lang="en-US" sz="1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46400" y="4929120"/>
              <a:ext cx="1095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Gyeongbuk</a:t>
              </a:r>
              <a:endParaRPr b="0" lang="en-US" sz="1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49600" y="1485720"/>
              <a:ext cx="89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b166e"/>
                  </a:solidFill>
                  <a:latin typeface="Verdana"/>
                  <a:ea typeface="Gulim"/>
                </a:rPr>
                <a:t>Hambuk</a:t>
              </a:r>
              <a:endParaRPr b="0" lang="en-US" sz="1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20600" y="2251080"/>
              <a:ext cx="989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b166e"/>
                  </a:solidFill>
                  <a:latin typeface="Verdana"/>
                  <a:ea typeface="Gulim"/>
                </a:rPr>
                <a:t>Pyeongbuk</a:t>
              </a:r>
              <a:r>
                <a:rPr b="1" lang="en-US" sz="1000" spc="-1" strike="noStrike">
                  <a:solidFill>
                    <a:srgbClr val="2b166e"/>
                  </a:solidFill>
                  <a:latin typeface="Verdana"/>
                  <a:ea typeface="Gulim"/>
                </a:rPr>
                <a:t> </a:t>
              </a:r>
              <a:endParaRPr b="0" lang="en-US" sz="1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11240" y="3351240"/>
              <a:ext cx="923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b166e"/>
                  </a:solidFill>
                  <a:latin typeface="Verdana"/>
                  <a:ea typeface="Gulim"/>
                </a:rPr>
                <a:t>Hwanghae</a:t>
              </a:r>
              <a:r>
                <a:rPr b="1" lang="en-US" sz="1000" spc="-1" strike="noStrike">
                  <a:solidFill>
                    <a:srgbClr val="2b166e"/>
                  </a:solidFill>
                  <a:latin typeface="Verdana"/>
                  <a:ea typeface="Gulim"/>
                </a:rPr>
                <a:t> </a:t>
              </a:r>
              <a:endParaRPr b="0" lang="en-US" sz="1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44800" y="2135160"/>
              <a:ext cx="896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b166e"/>
                  </a:solidFill>
                  <a:latin typeface="Verdana"/>
                  <a:ea typeface="Gulim"/>
                </a:rPr>
                <a:t>Hamnam</a:t>
              </a:r>
              <a:endParaRPr b="0" lang="en-US" sz="1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63520" y="2822400"/>
              <a:ext cx="9781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b166e"/>
                  </a:solidFill>
                  <a:latin typeface="Verdana"/>
                  <a:ea typeface="Gulim"/>
                </a:rPr>
                <a:t>Pyeongnam</a:t>
              </a:r>
              <a:r>
                <a:rPr b="1" lang="en-US" sz="1000" spc="-1" strike="noStrike">
                  <a:solidFill>
                    <a:srgbClr val="2b166e"/>
                  </a:solidFill>
                  <a:latin typeface="Verdana"/>
                  <a:ea typeface="Gulim"/>
                </a:rPr>
                <a:t> </a:t>
              </a:r>
              <a:endParaRPr b="0" lang="en-US" sz="1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01720" y="3743280"/>
              <a:ext cx="1000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Gyeonggi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  </a:t>
              </a:r>
              <a:endParaRPr b="0" lang="en-US" sz="10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4280" y="133200"/>
            <a:ext cx="78487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430200" y="3081240"/>
            <a:ext cx="1082520" cy="2546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0560" y="3567240"/>
            <a:ext cx="262080" cy="195120"/>
          </a:xfrm>
          <a:prstGeom prst="rect">
            <a:avLst/>
          </a:prstGeom>
          <a:solidFill>
            <a:srgbClr val="c0c0c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0560" y="3909960"/>
            <a:ext cx="262080" cy="195480"/>
          </a:xfrm>
          <a:prstGeom prst="rect">
            <a:avLst/>
          </a:prstGeom>
          <a:solidFill>
            <a:srgbClr val="ffcc0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560" y="4253040"/>
            <a:ext cx="262080" cy="195120"/>
          </a:xfrm>
          <a:prstGeom prst="rect">
            <a:avLst/>
          </a:prstGeom>
          <a:solidFill>
            <a:srgbClr val="00cc0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0560" y="4595760"/>
            <a:ext cx="262080" cy="195480"/>
          </a:xfrm>
          <a:prstGeom prst="rect">
            <a:avLst/>
          </a:prstGeom>
          <a:solidFill>
            <a:srgbClr val="ff000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0560" y="4938840"/>
            <a:ext cx="262080" cy="195120"/>
          </a:xfrm>
          <a:prstGeom prst="rect">
            <a:avLst/>
          </a:prstGeom>
          <a:solidFill>
            <a:srgbClr val="99ccff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0560" y="5281560"/>
            <a:ext cx="262080" cy="195480"/>
          </a:xfrm>
          <a:prstGeom prst="rect">
            <a:avLst/>
          </a:prstGeom>
          <a:solidFill>
            <a:srgbClr val="0066ff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0560" y="3235320"/>
            <a:ext cx="26208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1080" y="3170160"/>
            <a:ext cx="790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Text 1</a:t>
            </a:r>
            <a:r>
              <a:rPr b="1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 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1080" y="3500280"/>
            <a:ext cx="790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Text 2</a:t>
            </a:r>
            <a:r>
              <a:rPr b="1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 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1080" y="3843360"/>
            <a:ext cx="790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Text 3</a:t>
            </a:r>
            <a:r>
              <a:rPr b="1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 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11080" y="4173480"/>
            <a:ext cx="790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Text 4</a:t>
            </a:r>
            <a:r>
              <a:rPr b="1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 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1080" y="4503600"/>
            <a:ext cx="790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Text 5</a:t>
            </a:r>
            <a:r>
              <a:rPr b="1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 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11080" y="4859280"/>
            <a:ext cx="790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Text 6</a:t>
            </a:r>
            <a:r>
              <a:rPr b="1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 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11080" y="5214960"/>
            <a:ext cx="790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Text 7</a:t>
            </a:r>
            <a:r>
              <a:rPr b="1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 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962600" y="2154240"/>
            <a:ext cx="4257720" cy="2505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800840" y="3049560"/>
            <a:ext cx="914400" cy="309600"/>
          </a:xfrm>
          <a:prstGeom prst="borderCallout2">
            <a:avLst>
              <a:gd name="adj1" fmla="val 18750"/>
              <a:gd name="adj2" fmla="val -8333"/>
              <a:gd name="adj3" fmla="val 32819"/>
              <a:gd name="adj4" fmla="val -31944"/>
              <a:gd name="adj5" fmla="val 134361"/>
              <a:gd name="adj6" fmla="val -55555"/>
            </a:avLst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166e"/>
                </a:solidFill>
                <a:latin typeface="Verdana"/>
                <a:ea typeface="Gulim"/>
              </a:rPr>
              <a:t>Text A</a:t>
            </a:r>
            <a:endParaRPr b="0" lang="en-US" sz="13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9480" y="2317680"/>
            <a:ext cx="914400" cy="322200"/>
          </a:xfrm>
          <a:prstGeom prst="borderCallout2">
            <a:avLst>
              <a:gd name="adj1" fmla="val 18750"/>
              <a:gd name="adj2" fmla="val -8333"/>
              <a:gd name="adj3" fmla="val 31527"/>
              <a:gd name="adj4" fmla="val -35592"/>
              <a:gd name="adj5" fmla="val 197537"/>
              <a:gd name="adj6" fmla="val -64064"/>
            </a:avLst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166e"/>
                </a:solidFill>
                <a:latin typeface="Verdana"/>
                <a:ea typeface="Gulim"/>
              </a:rPr>
              <a:t>Text B</a:t>
            </a:r>
            <a:endParaRPr b="0" lang="en-US" sz="13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2224080"/>
            <a:ext cx="914400" cy="295200"/>
          </a:xfrm>
          <a:prstGeom prst="borderCallout2">
            <a:avLst>
              <a:gd name="adj1" fmla="val 18750"/>
              <a:gd name="adj2" fmla="val -8333"/>
              <a:gd name="adj3" fmla="val 34407"/>
              <a:gd name="adj4" fmla="val 125175"/>
              <a:gd name="adj5" fmla="val 260212"/>
              <a:gd name="adj6" fmla="val 142537"/>
            </a:avLst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166e"/>
                </a:solidFill>
                <a:latin typeface="Verdana"/>
                <a:ea typeface="Gulim"/>
              </a:rPr>
              <a:t>Text C</a:t>
            </a:r>
            <a:endParaRPr b="0" lang="en-US" sz="13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31040" y="4487760"/>
            <a:ext cx="914400" cy="297000"/>
          </a:xfrm>
          <a:prstGeom prst="borderCallout2">
            <a:avLst>
              <a:gd name="adj1" fmla="val 18750"/>
              <a:gd name="adj2" fmla="val -8333"/>
              <a:gd name="adj3" fmla="val 34226"/>
              <a:gd name="adj4" fmla="val -20314"/>
              <a:gd name="adj5" fmla="val -278611"/>
              <a:gd name="adj6" fmla="val -22569"/>
            </a:avLst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166e"/>
                </a:solidFill>
                <a:latin typeface="Verdana"/>
                <a:ea typeface="Gulim"/>
              </a:rPr>
              <a:t>Text E</a:t>
            </a:r>
            <a:endParaRPr b="0" lang="en-US" sz="13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402160" y="1349280"/>
            <a:ext cx="3060720" cy="547560"/>
            <a:chOff x="5402160" y="1349280"/>
            <a:chExt cx="3060720" cy="547560"/>
          </a:xfrm>
        </p:grpSpPr>
        <p:sp>
          <p:nvSpPr>
            <p:cNvPr id="193" name=""/>
            <p:cNvSpPr/>
            <p:nvPr/>
          </p:nvSpPr>
          <p:spPr>
            <a:xfrm>
              <a:off x="5402160" y="1349280"/>
              <a:ext cx="30607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22760" y="1404720"/>
              <a:ext cx="2860920" cy="430200"/>
            </a:xfrm>
            <a:prstGeom prst="roundRect">
              <a:avLst>
                <a:gd name="adj" fmla="val 50000"/>
              </a:avLst>
            </a:prstGeom>
            <a:solidFill>
              <a:srgbClr val="0066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467320" y="1424160"/>
            <a:ext cx="2871720" cy="34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1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6960" y="5618160"/>
            <a:ext cx="1081080" cy="63972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731960" y="1184400"/>
            <a:ext cx="3338280" cy="4744440"/>
            <a:chOff x="1731960" y="1184400"/>
            <a:chExt cx="3338280" cy="4744440"/>
          </a:xfrm>
        </p:grpSpPr>
        <p:sp>
          <p:nvSpPr>
            <p:cNvPr id="198" name=""/>
            <p:cNvSpPr/>
            <p:nvPr/>
          </p:nvSpPr>
          <p:spPr>
            <a:xfrm>
              <a:off x="2922840" y="1184400"/>
              <a:ext cx="1931760" cy="1618200"/>
            </a:xfrm>
            <a:custGeom>
              <a:avLst/>
              <a:gdLst/>
              <a:ahLst/>
              <a:rect l="l" t="t" r="r" b="b"/>
              <a:pathLst>
                <a:path w="1260" h="1056">
                  <a:moveTo>
                    <a:pt x="720" y="9"/>
                  </a:moveTo>
                  <a:lnTo>
                    <a:pt x="678" y="0"/>
                  </a:lnTo>
                  <a:lnTo>
                    <a:pt x="663" y="36"/>
                  </a:lnTo>
                  <a:lnTo>
                    <a:pt x="672" y="87"/>
                  </a:lnTo>
                  <a:lnTo>
                    <a:pt x="666" y="132"/>
                  </a:lnTo>
                  <a:lnTo>
                    <a:pt x="630" y="153"/>
                  </a:lnTo>
                  <a:lnTo>
                    <a:pt x="606" y="120"/>
                  </a:lnTo>
                  <a:lnTo>
                    <a:pt x="594" y="84"/>
                  </a:lnTo>
                  <a:lnTo>
                    <a:pt x="558" y="81"/>
                  </a:lnTo>
                  <a:lnTo>
                    <a:pt x="534" y="111"/>
                  </a:lnTo>
                  <a:lnTo>
                    <a:pt x="546" y="147"/>
                  </a:lnTo>
                  <a:lnTo>
                    <a:pt x="531" y="189"/>
                  </a:lnTo>
                  <a:lnTo>
                    <a:pt x="396" y="198"/>
                  </a:lnTo>
                  <a:lnTo>
                    <a:pt x="285" y="189"/>
                  </a:lnTo>
                  <a:lnTo>
                    <a:pt x="258" y="156"/>
                  </a:lnTo>
                  <a:lnTo>
                    <a:pt x="198" y="162"/>
                  </a:lnTo>
                  <a:lnTo>
                    <a:pt x="180" y="195"/>
                  </a:lnTo>
                  <a:lnTo>
                    <a:pt x="132" y="192"/>
                  </a:lnTo>
                  <a:lnTo>
                    <a:pt x="117" y="171"/>
                  </a:lnTo>
                  <a:lnTo>
                    <a:pt x="75" y="156"/>
                  </a:lnTo>
                  <a:lnTo>
                    <a:pt x="60" y="174"/>
                  </a:lnTo>
                  <a:lnTo>
                    <a:pt x="27" y="186"/>
                  </a:lnTo>
                  <a:lnTo>
                    <a:pt x="0" y="219"/>
                  </a:lnTo>
                  <a:lnTo>
                    <a:pt x="15" y="261"/>
                  </a:lnTo>
                  <a:lnTo>
                    <a:pt x="84" y="291"/>
                  </a:lnTo>
                  <a:lnTo>
                    <a:pt x="93" y="315"/>
                  </a:lnTo>
                  <a:lnTo>
                    <a:pt x="144" y="309"/>
                  </a:lnTo>
                  <a:lnTo>
                    <a:pt x="177" y="336"/>
                  </a:lnTo>
                  <a:lnTo>
                    <a:pt x="177" y="390"/>
                  </a:lnTo>
                  <a:lnTo>
                    <a:pt x="249" y="423"/>
                  </a:lnTo>
                  <a:lnTo>
                    <a:pt x="252" y="477"/>
                  </a:lnTo>
                  <a:lnTo>
                    <a:pt x="219" y="483"/>
                  </a:lnTo>
                  <a:lnTo>
                    <a:pt x="210" y="522"/>
                  </a:lnTo>
                  <a:lnTo>
                    <a:pt x="192" y="543"/>
                  </a:lnTo>
                  <a:lnTo>
                    <a:pt x="225" y="576"/>
                  </a:lnTo>
                  <a:lnTo>
                    <a:pt x="219" y="621"/>
                  </a:lnTo>
                  <a:lnTo>
                    <a:pt x="237" y="657"/>
                  </a:lnTo>
                  <a:lnTo>
                    <a:pt x="273" y="645"/>
                  </a:lnTo>
                  <a:lnTo>
                    <a:pt x="315" y="657"/>
                  </a:lnTo>
                  <a:lnTo>
                    <a:pt x="324" y="678"/>
                  </a:lnTo>
                  <a:lnTo>
                    <a:pt x="357" y="672"/>
                  </a:lnTo>
                  <a:lnTo>
                    <a:pt x="375" y="699"/>
                  </a:lnTo>
                  <a:lnTo>
                    <a:pt x="372" y="723"/>
                  </a:lnTo>
                  <a:lnTo>
                    <a:pt x="348" y="738"/>
                  </a:lnTo>
                  <a:lnTo>
                    <a:pt x="360" y="774"/>
                  </a:lnTo>
                  <a:lnTo>
                    <a:pt x="378" y="783"/>
                  </a:lnTo>
                  <a:lnTo>
                    <a:pt x="369" y="825"/>
                  </a:lnTo>
                  <a:lnTo>
                    <a:pt x="345" y="822"/>
                  </a:lnTo>
                  <a:lnTo>
                    <a:pt x="336" y="855"/>
                  </a:lnTo>
                  <a:lnTo>
                    <a:pt x="345" y="906"/>
                  </a:lnTo>
                  <a:lnTo>
                    <a:pt x="342" y="963"/>
                  </a:lnTo>
                  <a:lnTo>
                    <a:pt x="405" y="993"/>
                  </a:lnTo>
                  <a:lnTo>
                    <a:pt x="447" y="981"/>
                  </a:lnTo>
                  <a:lnTo>
                    <a:pt x="465" y="951"/>
                  </a:lnTo>
                  <a:lnTo>
                    <a:pt x="465" y="915"/>
                  </a:lnTo>
                  <a:lnTo>
                    <a:pt x="489" y="891"/>
                  </a:lnTo>
                  <a:lnTo>
                    <a:pt x="510" y="915"/>
                  </a:lnTo>
                  <a:lnTo>
                    <a:pt x="498" y="942"/>
                  </a:lnTo>
                  <a:lnTo>
                    <a:pt x="522" y="960"/>
                  </a:lnTo>
                  <a:lnTo>
                    <a:pt x="570" y="936"/>
                  </a:lnTo>
                  <a:lnTo>
                    <a:pt x="576" y="912"/>
                  </a:lnTo>
                  <a:lnTo>
                    <a:pt x="600" y="906"/>
                  </a:lnTo>
                  <a:lnTo>
                    <a:pt x="639" y="933"/>
                  </a:lnTo>
                  <a:lnTo>
                    <a:pt x="654" y="963"/>
                  </a:lnTo>
                  <a:lnTo>
                    <a:pt x="681" y="996"/>
                  </a:lnTo>
                  <a:lnTo>
                    <a:pt x="729" y="993"/>
                  </a:lnTo>
                  <a:lnTo>
                    <a:pt x="756" y="1029"/>
                  </a:lnTo>
                  <a:lnTo>
                    <a:pt x="804" y="1038"/>
                  </a:lnTo>
                  <a:lnTo>
                    <a:pt x="822" y="1056"/>
                  </a:lnTo>
                  <a:lnTo>
                    <a:pt x="906" y="1053"/>
                  </a:lnTo>
                  <a:lnTo>
                    <a:pt x="948" y="1029"/>
                  </a:lnTo>
                  <a:lnTo>
                    <a:pt x="993" y="1032"/>
                  </a:lnTo>
                  <a:lnTo>
                    <a:pt x="1008" y="1050"/>
                  </a:lnTo>
                  <a:lnTo>
                    <a:pt x="1056" y="1032"/>
                  </a:lnTo>
                  <a:lnTo>
                    <a:pt x="1140" y="1023"/>
                  </a:lnTo>
                  <a:lnTo>
                    <a:pt x="1188" y="1038"/>
                  </a:lnTo>
                  <a:lnTo>
                    <a:pt x="1221" y="996"/>
                  </a:lnTo>
                  <a:lnTo>
                    <a:pt x="1233" y="969"/>
                  </a:lnTo>
                  <a:lnTo>
                    <a:pt x="1260" y="960"/>
                  </a:lnTo>
                  <a:lnTo>
                    <a:pt x="1260" y="915"/>
                  </a:lnTo>
                  <a:lnTo>
                    <a:pt x="1242" y="897"/>
                  </a:lnTo>
                  <a:lnTo>
                    <a:pt x="1239" y="864"/>
                  </a:lnTo>
                  <a:lnTo>
                    <a:pt x="1188" y="795"/>
                  </a:lnTo>
                  <a:lnTo>
                    <a:pt x="1143" y="762"/>
                  </a:lnTo>
                  <a:lnTo>
                    <a:pt x="1113" y="729"/>
                  </a:lnTo>
                  <a:lnTo>
                    <a:pt x="1107" y="681"/>
                  </a:lnTo>
                  <a:lnTo>
                    <a:pt x="1092" y="654"/>
                  </a:lnTo>
                  <a:lnTo>
                    <a:pt x="1074" y="630"/>
                  </a:lnTo>
                  <a:lnTo>
                    <a:pt x="1077" y="597"/>
                  </a:lnTo>
                  <a:lnTo>
                    <a:pt x="1047" y="567"/>
                  </a:lnTo>
                  <a:lnTo>
                    <a:pt x="1014" y="549"/>
                  </a:lnTo>
                  <a:lnTo>
                    <a:pt x="996" y="522"/>
                  </a:lnTo>
                  <a:lnTo>
                    <a:pt x="990" y="489"/>
                  </a:lnTo>
                  <a:lnTo>
                    <a:pt x="987" y="468"/>
                  </a:lnTo>
                  <a:lnTo>
                    <a:pt x="936" y="423"/>
                  </a:lnTo>
                  <a:lnTo>
                    <a:pt x="885" y="363"/>
                  </a:lnTo>
                  <a:lnTo>
                    <a:pt x="846" y="321"/>
                  </a:lnTo>
                  <a:lnTo>
                    <a:pt x="822" y="270"/>
                  </a:lnTo>
                  <a:lnTo>
                    <a:pt x="822" y="231"/>
                  </a:lnTo>
                  <a:lnTo>
                    <a:pt x="810" y="198"/>
                  </a:lnTo>
                  <a:lnTo>
                    <a:pt x="780" y="162"/>
                  </a:lnTo>
                  <a:lnTo>
                    <a:pt x="765" y="105"/>
                  </a:lnTo>
                  <a:lnTo>
                    <a:pt x="735" y="66"/>
                  </a:lnTo>
                  <a:lnTo>
                    <a:pt x="720" y="9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35440" y="1505880"/>
              <a:ext cx="1476360" cy="1461960"/>
            </a:xfrm>
            <a:custGeom>
              <a:avLst/>
              <a:gdLst/>
              <a:ahLst/>
              <a:rect l="l" t="t" r="r" b="b"/>
              <a:pathLst>
                <a:path w="963" h="954">
                  <a:moveTo>
                    <a:pt x="420" y="15"/>
                  </a:moveTo>
                  <a:lnTo>
                    <a:pt x="444" y="6"/>
                  </a:lnTo>
                  <a:lnTo>
                    <a:pt x="465" y="33"/>
                  </a:lnTo>
                  <a:lnTo>
                    <a:pt x="489" y="33"/>
                  </a:lnTo>
                  <a:lnTo>
                    <a:pt x="501" y="0"/>
                  </a:lnTo>
                  <a:lnTo>
                    <a:pt x="585" y="3"/>
                  </a:lnTo>
                  <a:lnTo>
                    <a:pt x="591" y="45"/>
                  </a:lnTo>
                  <a:lnTo>
                    <a:pt x="669" y="81"/>
                  </a:lnTo>
                  <a:lnTo>
                    <a:pt x="672" y="102"/>
                  </a:lnTo>
                  <a:lnTo>
                    <a:pt x="726" y="99"/>
                  </a:lnTo>
                  <a:lnTo>
                    <a:pt x="762" y="123"/>
                  </a:lnTo>
                  <a:lnTo>
                    <a:pt x="759" y="180"/>
                  </a:lnTo>
                  <a:lnTo>
                    <a:pt x="828" y="213"/>
                  </a:lnTo>
                  <a:lnTo>
                    <a:pt x="831" y="270"/>
                  </a:lnTo>
                  <a:lnTo>
                    <a:pt x="804" y="273"/>
                  </a:lnTo>
                  <a:lnTo>
                    <a:pt x="792" y="309"/>
                  </a:lnTo>
                  <a:lnTo>
                    <a:pt x="774" y="330"/>
                  </a:lnTo>
                  <a:lnTo>
                    <a:pt x="807" y="369"/>
                  </a:lnTo>
                  <a:lnTo>
                    <a:pt x="801" y="408"/>
                  </a:lnTo>
                  <a:lnTo>
                    <a:pt x="819" y="450"/>
                  </a:lnTo>
                  <a:lnTo>
                    <a:pt x="849" y="429"/>
                  </a:lnTo>
                  <a:lnTo>
                    <a:pt x="897" y="447"/>
                  </a:lnTo>
                  <a:lnTo>
                    <a:pt x="900" y="468"/>
                  </a:lnTo>
                  <a:lnTo>
                    <a:pt x="936" y="456"/>
                  </a:lnTo>
                  <a:lnTo>
                    <a:pt x="960" y="489"/>
                  </a:lnTo>
                  <a:lnTo>
                    <a:pt x="951" y="519"/>
                  </a:lnTo>
                  <a:lnTo>
                    <a:pt x="930" y="525"/>
                  </a:lnTo>
                  <a:lnTo>
                    <a:pt x="939" y="564"/>
                  </a:lnTo>
                  <a:lnTo>
                    <a:pt x="963" y="573"/>
                  </a:lnTo>
                  <a:lnTo>
                    <a:pt x="948" y="618"/>
                  </a:lnTo>
                  <a:lnTo>
                    <a:pt x="927" y="609"/>
                  </a:lnTo>
                  <a:lnTo>
                    <a:pt x="912" y="642"/>
                  </a:lnTo>
                  <a:lnTo>
                    <a:pt x="927" y="699"/>
                  </a:lnTo>
                  <a:lnTo>
                    <a:pt x="921" y="762"/>
                  </a:lnTo>
                  <a:lnTo>
                    <a:pt x="870" y="816"/>
                  </a:lnTo>
                  <a:lnTo>
                    <a:pt x="801" y="834"/>
                  </a:lnTo>
                  <a:lnTo>
                    <a:pt x="744" y="888"/>
                  </a:lnTo>
                  <a:lnTo>
                    <a:pt x="696" y="918"/>
                  </a:lnTo>
                  <a:lnTo>
                    <a:pt x="675" y="954"/>
                  </a:lnTo>
                  <a:lnTo>
                    <a:pt x="603" y="918"/>
                  </a:lnTo>
                  <a:lnTo>
                    <a:pt x="528" y="921"/>
                  </a:lnTo>
                  <a:lnTo>
                    <a:pt x="501" y="939"/>
                  </a:lnTo>
                  <a:lnTo>
                    <a:pt x="432" y="951"/>
                  </a:lnTo>
                  <a:lnTo>
                    <a:pt x="375" y="930"/>
                  </a:lnTo>
                  <a:lnTo>
                    <a:pt x="327" y="876"/>
                  </a:lnTo>
                  <a:lnTo>
                    <a:pt x="333" y="822"/>
                  </a:lnTo>
                  <a:lnTo>
                    <a:pt x="321" y="798"/>
                  </a:lnTo>
                  <a:lnTo>
                    <a:pt x="285" y="789"/>
                  </a:lnTo>
                  <a:lnTo>
                    <a:pt x="264" y="759"/>
                  </a:lnTo>
                  <a:lnTo>
                    <a:pt x="267" y="723"/>
                  </a:lnTo>
                  <a:lnTo>
                    <a:pt x="315" y="714"/>
                  </a:lnTo>
                  <a:lnTo>
                    <a:pt x="312" y="672"/>
                  </a:lnTo>
                  <a:lnTo>
                    <a:pt x="336" y="645"/>
                  </a:lnTo>
                  <a:lnTo>
                    <a:pt x="345" y="600"/>
                  </a:lnTo>
                  <a:lnTo>
                    <a:pt x="309" y="597"/>
                  </a:lnTo>
                  <a:lnTo>
                    <a:pt x="282" y="567"/>
                  </a:lnTo>
                  <a:lnTo>
                    <a:pt x="249" y="558"/>
                  </a:lnTo>
                  <a:lnTo>
                    <a:pt x="237" y="582"/>
                  </a:lnTo>
                  <a:lnTo>
                    <a:pt x="186" y="567"/>
                  </a:lnTo>
                  <a:lnTo>
                    <a:pt x="174" y="582"/>
                  </a:lnTo>
                  <a:lnTo>
                    <a:pt x="183" y="615"/>
                  </a:lnTo>
                  <a:lnTo>
                    <a:pt x="162" y="618"/>
                  </a:lnTo>
                  <a:lnTo>
                    <a:pt x="138" y="573"/>
                  </a:lnTo>
                  <a:lnTo>
                    <a:pt x="108" y="549"/>
                  </a:lnTo>
                  <a:lnTo>
                    <a:pt x="123" y="531"/>
                  </a:lnTo>
                  <a:lnTo>
                    <a:pt x="102" y="507"/>
                  </a:lnTo>
                  <a:lnTo>
                    <a:pt x="93" y="474"/>
                  </a:lnTo>
                  <a:lnTo>
                    <a:pt x="111" y="459"/>
                  </a:lnTo>
                  <a:lnTo>
                    <a:pt x="105" y="438"/>
                  </a:lnTo>
                  <a:lnTo>
                    <a:pt x="66" y="450"/>
                  </a:lnTo>
                  <a:lnTo>
                    <a:pt x="45" y="423"/>
                  </a:lnTo>
                  <a:lnTo>
                    <a:pt x="0" y="411"/>
                  </a:lnTo>
                  <a:lnTo>
                    <a:pt x="6" y="378"/>
                  </a:lnTo>
                  <a:lnTo>
                    <a:pt x="48" y="363"/>
                  </a:lnTo>
                  <a:lnTo>
                    <a:pt x="57" y="330"/>
                  </a:lnTo>
                  <a:lnTo>
                    <a:pt x="78" y="282"/>
                  </a:lnTo>
                  <a:lnTo>
                    <a:pt x="96" y="282"/>
                  </a:lnTo>
                  <a:lnTo>
                    <a:pt x="102" y="309"/>
                  </a:lnTo>
                  <a:lnTo>
                    <a:pt x="132" y="306"/>
                  </a:lnTo>
                  <a:lnTo>
                    <a:pt x="135" y="273"/>
                  </a:lnTo>
                  <a:lnTo>
                    <a:pt x="171" y="258"/>
                  </a:lnTo>
                  <a:lnTo>
                    <a:pt x="198" y="279"/>
                  </a:lnTo>
                  <a:lnTo>
                    <a:pt x="195" y="303"/>
                  </a:lnTo>
                  <a:lnTo>
                    <a:pt x="222" y="315"/>
                  </a:lnTo>
                  <a:lnTo>
                    <a:pt x="246" y="336"/>
                  </a:lnTo>
                  <a:lnTo>
                    <a:pt x="294" y="330"/>
                  </a:lnTo>
                  <a:lnTo>
                    <a:pt x="306" y="294"/>
                  </a:lnTo>
                  <a:lnTo>
                    <a:pt x="354" y="285"/>
                  </a:lnTo>
                  <a:lnTo>
                    <a:pt x="354" y="252"/>
                  </a:lnTo>
                  <a:lnTo>
                    <a:pt x="324" y="234"/>
                  </a:lnTo>
                  <a:lnTo>
                    <a:pt x="336" y="195"/>
                  </a:lnTo>
                  <a:lnTo>
                    <a:pt x="372" y="201"/>
                  </a:lnTo>
                  <a:lnTo>
                    <a:pt x="396" y="177"/>
                  </a:lnTo>
                  <a:lnTo>
                    <a:pt x="390" y="156"/>
                  </a:lnTo>
                  <a:lnTo>
                    <a:pt x="408" y="135"/>
                  </a:lnTo>
                  <a:lnTo>
                    <a:pt x="441" y="141"/>
                  </a:lnTo>
                  <a:lnTo>
                    <a:pt x="435" y="99"/>
                  </a:lnTo>
                  <a:lnTo>
                    <a:pt x="417" y="90"/>
                  </a:lnTo>
                  <a:lnTo>
                    <a:pt x="384" y="105"/>
                  </a:lnTo>
                  <a:lnTo>
                    <a:pt x="360" y="78"/>
                  </a:lnTo>
                  <a:lnTo>
                    <a:pt x="372" y="54"/>
                  </a:lnTo>
                  <a:lnTo>
                    <a:pt x="423" y="69"/>
                  </a:lnTo>
                  <a:lnTo>
                    <a:pt x="435" y="42"/>
                  </a:lnTo>
                  <a:lnTo>
                    <a:pt x="420" y="15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005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97200" y="2503800"/>
              <a:ext cx="505800" cy="23904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327" y="69"/>
                  </a:moveTo>
                  <a:lnTo>
                    <a:pt x="330" y="30"/>
                  </a:lnTo>
                  <a:lnTo>
                    <a:pt x="318" y="15"/>
                  </a:lnTo>
                  <a:lnTo>
                    <a:pt x="264" y="12"/>
                  </a:lnTo>
                  <a:lnTo>
                    <a:pt x="237" y="39"/>
                  </a:lnTo>
                  <a:lnTo>
                    <a:pt x="204" y="24"/>
                  </a:lnTo>
                  <a:lnTo>
                    <a:pt x="198" y="3"/>
                  </a:lnTo>
                  <a:lnTo>
                    <a:pt x="162" y="0"/>
                  </a:lnTo>
                  <a:lnTo>
                    <a:pt x="150" y="27"/>
                  </a:lnTo>
                  <a:lnTo>
                    <a:pt x="129" y="45"/>
                  </a:lnTo>
                  <a:lnTo>
                    <a:pt x="105" y="15"/>
                  </a:lnTo>
                  <a:lnTo>
                    <a:pt x="72" y="24"/>
                  </a:lnTo>
                  <a:lnTo>
                    <a:pt x="45" y="9"/>
                  </a:lnTo>
                  <a:lnTo>
                    <a:pt x="18" y="33"/>
                  </a:lnTo>
                  <a:lnTo>
                    <a:pt x="21" y="51"/>
                  </a:lnTo>
                  <a:lnTo>
                    <a:pt x="0" y="69"/>
                  </a:lnTo>
                  <a:lnTo>
                    <a:pt x="15" y="108"/>
                  </a:lnTo>
                  <a:lnTo>
                    <a:pt x="39" y="120"/>
                  </a:lnTo>
                  <a:lnTo>
                    <a:pt x="87" y="99"/>
                  </a:lnTo>
                  <a:lnTo>
                    <a:pt x="114" y="120"/>
                  </a:lnTo>
                  <a:lnTo>
                    <a:pt x="117" y="144"/>
                  </a:lnTo>
                  <a:lnTo>
                    <a:pt x="174" y="156"/>
                  </a:lnTo>
                  <a:lnTo>
                    <a:pt x="204" y="102"/>
                  </a:lnTo>
                  <a:lnTo>
                    <a:pt x="267" y="93"/>
                  </a:lnTo>
                  <a:lnTo>
                    <a:pt x="291" y="57"/>
                  </a:lnTo>
                  <a:lnTo>
                    <a:pt x="327" y="69"/>
                  </a:lnTo>
                  <a:close/>
                </a:path>
              </a:pathLst>
            </a:custGeom>
            <a:gradFill rotWithShape="0">
              <a:gsLst>
                <a:gs pos="0">
                  <a:srgbClr val="005e00"/>
                </a:gs>
                <a:gs pos="100000">
                  <a:srgbClr val="00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89360" y="2747520"/>
              <a:ext cx="1388520" cy="1208880"/>
            </a:xfrm>
            <a:custGeom>
              <a:avLst/>
              <a:gdLst/>
              <a:ahLst/>
              <a:rect l="l" t="t" r="r" b="b"/>
              <a:pathLst>
                <a:path w="906" h="789">
                  <a:moveTo>
                    <a:pt x="177" y="21"/>
                  </a:moveTo>
                  <a:lnTo>
                    <a:pt x="249" y="0"/>
                  </a:lnTo>
                  <a:lnTo>
                    <a:pt x="270" y="36"/>
                  </a:lnTo>
                  <a:lnTo>
                    <a:pt x="318" y="48"/>
                  </a:lnTo>
                  <a:lnTo>
                    <a:pt x="315" y="75"/>
                  </a:lnTo>
                  <a:lnTo>
                    <a:pt x="336" y="96"/>
                  </a:lnTo>
                  <a:lnTo>
                    <a:pt x="357" y="66"/>
                  </a:lnTo>
                  <a:lnTo>
                    <a:pt x="399" y="120"/>
                  </a:lnTo>
                  <a:lnTo>
                    <a:pt x="465" y="138"/>
                  </a:lnTo>
                  <a:lnTo>
                    <a:pt x="525" y="126"/>
                  </a:lnTo>
                  <a:lnTo>
                    <a:pt x="558" y="111"/>
                  </a:lnTo>
                  <a:lnTo>
                    <a:pt x="642" y="111"/>
                  </a:lnTo>
                  <a:lnTo>
                    <a:pt x="705" y="138"/>
                  </a:lnTo>
                  <a:lnTo>
                    <a:pt x="729" y="180"/>
                  </a:lnTo>
                  <a:lnTo>
                    <a:pt x="771" y="207"/>
                  </a:lnTo>
                  <a:lnTo>
                    <a:pt x="780" y="243"/>
                  </a:lnTo>
                  <a:lnTo>
                    <a:pt x="741" y="264"/>
                  </a:lnTo>
                  <a:lnTo>
                    <a:pt x="705" y="243"/>
                  </a:lnTo>
                  <a:lnTo>
                    <a:pt x="687" y="279"/>
                  </a:lnTo>
                  <a:lnTo>
                    <a:pt x="690" y="324"/>
                  </a:lnTo>
                  <a:lnTo>
                    <a:pt x="726" y="345"/>
                  </a:lnTo>
                  <a:lnTo>
                    <a:pt x="744" y="372"/>
                  </a:lnTo>
                  <a:lnTo>
                    <a:pt x="741" y="426"/>
                  </a:lnTo>
                  <a:lnTo>
                    <a:pt x="768" y="456"/>
                  </a:lnTo>
                  <a:lnTo>
                    <a:pt x="816" y="444"/>
                  </a:lnTo>
                  <a:lnTo>
                    <a:pt x="834" y="471"/>
                  </a:lnTo>
                  <a:lnTo>
                    <a:pt x="825" y="504"/>
                  </a:lnTo>
                  <a:lnTo>
                    <a:pt x="837" y="537"/>
                  </a:lnTo>
                  <a:lnTo>
                    <a:pt x="810" y="582"/>
                  </a:lnTo>
                  <a:lnTo>
                    <a:pt x="816" y="618"/>
                  </a:lnTo>
                  <a:lnTo>
                    <a:pt x="858" y="612"/>
                  </a:lnTo>
                  <a:lnTo>
                    <a:pt x="879" y="636"/>
                  </a:lnTo>
                  <a:lnTo>
                    <a:pt x="867" y="678"/>
                  </a:lnTo>
                  <a:lnTo>
                    <a:pt x="906" y="711"/>
                  </a:lnTo>
                  <a:lnTo>
                    <a:pt x="897" y="759"/>
                  </a:lnTo>
                  <a:lnTo>
                    <a:pt x="840" y="789"/>
                  </a:lnTo>
                  <a:lnTo>
                    <a:pt x="780" y="774"/>
                  </a:lnTo>
                  <a:lnTo>
                    <a:pt x="741" y="747"/>
                  </a:lnTo>
                  <a:lnTo>
                    <a:pt x="720" y="681"/>
                  </a:lnTo>
                  <a:lnTo>
                    <a:pt x="693" y="672"/>
                  </a:lnTo>
                  <a:lnTo>
                    <a:pt x="660" y="717"/>
                  </a:lnTo>
                  <a:lnTo>
                    <a:pt x="609" y="723"/>
                  </a:lnTo>
                  <a:lnTo>
                    <a:pt x="591" y="753"/>
                  </a:lnTo>
                  <a:lnTo>
                    <a:pt x="564" y="738"/>
                  </a:lnTo>
                  <a:lnTo>
                    <a:pt x="561" y="696"/>
                  </a:lnTo>
                  <a:lnTo>
                    <a:pt x="546" y="666"/>
                  </a:lnTo>
                  <a:lnTo>
                    <a:pt x="534" y="645"/>
                  </a:lnTo>
                  <a:lnTo>
                    <a:pt x="489" y="645"/>
                  </a:lnTo>
                  <a:lnTo>
                    <a:pt x="468" y="669"/>
                  </a:lnTo>
                  <a:lnTo>
                    <a:pt x="462" y="711"/>
                  </a:lnTo>
                  <a:lnTo>
                    <a:pt x="429" y="738"/>
                  </a:lnTo>
                  <a:lnTo>
                    <a:pt x="396" y="747"/>
                  </a:lnTo>
                  <a:lnTo>
                    <a:pt x="363" y="780"/>
                  </a:lnTo>
                  <a:lnTo>
                    <a:pt x="321" y="783"/>
                  </a:lnTo>
                  <a:lnTo>
                    <a:pt x="291" y="762"/>
                  </a:lnTo>
                  <a:lnTo>
                    <a:pt x="327" y="750"/>
                  </a:lnTo>
                  <a:lnTo>
                    <a:pt x="318" y="711"/>
                  </a:lnTo>
                  <a:lnTo>
                    <a:pt x="276" y="693"/>
                  </a:lnTo>
                  <a:lnTo>
                    <a:pt x="258" y="651"/>
                  </a:lnTo>
                  <a:lnTo>
                    <a:pt x="225" y="642"/>
                  </a:lnTo>
                  <a:lnTo>
                    <a:pt x="237" y="609"/>
                  </a:lnTo>
                  <a:lnTo>
                    <a:pt x="255" y="597"/>
                  </a:lnTo>
                  <a:lnTo>
                    <a:pt x="273" y="561"/>
                  </a:lnTo>
                  <a:lnTo>
                    <a:pt x="237" y="546"/>
                  </a:lnTo>
                  <a:lnTo>
                    <a:pt x="237" y="507"/>
                  </a:lnTo>
                  <a:lnTo>
                    <a:pt x="216" y="492"/>
                  </a:lnTo>
                  <a:lnTo>
                    <a:pt x="186" y="507"/>
                  </a:lnTo>
                  <a:lnTo>
                    <a:pt x="159" y="498"/>
                  </a:lnTo>
                  <a:lnTo>
                    <a:pt x="120" y="477"/>
                  </a:lnTo>
                  <a:lnTo>
                    <a:pt x="111" y="432"/>
                  </a:lnTo>
                  <a:lnTo>
                    <a:pt x="138" y="417"/>
                  </a:lnTo>
                  <a:lnTo>
                    <a:pt x="132" y="372"/>
                  </a:lnTo>
                  <a:lnTo>
                    <a:pt x="120" y="336"/>
                  </a:lnTo>
                  <a:lnTo>
                    <a:pt x="102" y="303"/>
                  </a:lnTo>
                  <a:lnTo>
                    <a:pt x="117" y="288"/>
                  </a:lnTo>
                  <a:lnTo>
                    <a:pt x="87" y="276"/>
                  </a:lnTo>
                  <a:lnTo>
                    <a:pt x="69" y="324"/>
                  </a:lnTo>
                  <a:lnTo>
                    <a:pt x="39" y="321"/>
                  </a:lnTo>
                  <a:lnTo>
                    <a:pt x="6" y="273"/>
                  </a:lnTo>
                  <a:lnTo>
                    <a:pt x="0" y="234"/>
                  </a:lnTo>
                  <a:lnTo>
                    <a:pt x="30" y="234"/>
                  </a:lnTo>
                  <a:lnTo>
                    <a:pt x="39" y="174"/>
                  </a:lnTo>
                  <a:lnTo>
                    <a:pt x="27" y="144"/>
                  </a:lnTo>
                  <a:lnTo>
                    <a:pt x="108" y="90"/>
                  </a:lnTo>
                  <a:lnTo>
                    <a:pt x="141" y="51"/>
                  </a:lnTo>
                  <a:lnTo>
                    <a:pt x="177" y="60"/>
                  </a:lnTo>
                  <a:lnTo>
                    <a:pt x="177" y="21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37680" y="2540520"/>
              <a:ext cx="1144800" cy="1388160"/>
            </a:xfrm>
            <a:custGeom>
              <a:avLst/>
              <a:gdLst/>
              <a:ahLst/>
              <a:rect l="l" t="t" r="r" b="b"/>
              <a:pathLst>
                <a:path w="747" h="906">
                  <a:moveTo>
                    <a:pt x="270" y="75"/>
                  </a:moveTo>
                  <a:lnTo>
                    <a:pt x="327" y="108"/>
                  </a:lnTo>
                  <a:lnTo>
                    <a:pt x="372" y="90"/>
                  </a:lnTo>
                  <a:lnTo>
                    <a:pt x="384" y="63"/>
                  </a:lnTo>
                  <a:lnTo>
                    <a:pt x="384" y="24"/>
                  </a:lnTo>
                  <a:lnTo>
                    <a:pt x="408" y="0"/>
                  </a:lnTo>
                  <a:lnTo>
                    <a:pt x="438" y="30"/>
                  </a:lnTo>
                  <a:lnTo>
                    <a:pt x="429" y="57"/>
                  </a:lnTo>
                  <a:lnTo>
                    <a:pt x="447" y="75"/>
                  </a:lnTo>
                  <a:lnTo>
                    <a:pt x="495" y="51"/>
                  </a:lnTo>
                  <a:lnTo>
                    <a:pt x="498" y="24"/>
                  </a:lnTo>
                  <a:lnTo>
                    <a:pt x="525" y="21"/>
                  </a:lnTo>
                  <a:lnTo>
                    <a:pt x="561" y="42"/>
                  </a:lnTo>
                  <a:lnTo>
                    <a:pt x="606" y="114"/>
                  </a:lnTo>
                  <a:lnTo>
                    <a:pt x="651" y="105"/>
                  </a:lnTo>
                  <a:lnTo>
                    <a:pt x="681" y="138"/>
                  </a:lnTo>
                  <a:lnTo>
                    <a:pt x="735" y="156"/>
                  </a:lnTo>
                  <a:lnTo>
                    <a:pt x="747" y="171"/>
                  </a:lnTo>
                  <a:lnTo>
                    <a:pt x="708" y="189"/>
                  </a:lnTo>
                  <a:lnTo>
                    <a:pt x="681" y="213"/>
                  </a:lnTo>
                  <a:lnTo>
                    <a:pt x="684" y="252"/>
                  </a:lnTo>
                  <a:lnTo>
                    <a:pt x="666" y="276"/>
                  </a:lnTo>
                  <a:lnTo>
                    <a:pt x="657" y="318"/>
                  </a:lnTo>
                  <a:lnTo>
                    <a:pt x="642" y="345"/>
                  </a:lnTo>
                  <a:lnTo>
                    <a:pt x="603" y="345"/>
                  </a:lnTo>
                  <a:lnTo>
                    <a:pt x="579" y="309"/>
                  </a:lnTo>
                  <a:lnTo>
                    <a:pt x="558" y="291"/>
                  </a:lnTo>
                  <a:lnTo>
                    <a:pt x="537" y="285"/>
                  </a:lnTo>
                  <a:lnTo>
                    <a:pt x="516" y="324"/>
                  </a:lnTo>
                  <a:lnTo>
                    <a:pt x="498" y="345"/>
                  </a:lnTo>
                  <a:lnTo>
                    <a:pt x="468" y="345"/>
                  </a:lnTo>
                  <a:lnTo>
                    <a:pt x="459" y="366"/>
                  </a:lnTo>
                  <a:lnTo>
                    <a:pt x="417" y="390"/>
                  </a:lnTo>
                  <a:lnTo>
                    <a:pt x="405" y="423"/>
                  </a:lnTo>
                  <a:lnTo>
                    <a:pt x="375" y="429"/>
                  </a:lnTo>
                  <a:lnTo>
                    <a:pt x="366" y="465"/>
                  </a:lnTo>
                  <a:lnTo>
                    <a:pt x="336" y="471"/>
                  </a:lnTo>
                  <a:lnTo>
                    <a:pt x="330" y="501"/>
                  </a:lnTo>
                  <a:lnTo>
                    <a:pt x="360" y="522"/>
                  </a:lnTo>
                  <a:lnTo>
                    <a:pt x="369" y="552"/>
                  </a:lnTo>
                  <a:lnTo>
                    <a:pt x="366" y="603"/>
                  </a:lnTo>
                  <a:lnTo>
                    <a:pt x="345" y="609"/>
                  </a:lnTo>
                  <a:lnTo>
                    <a:pt x="324" y="642"/>
                  </a:lnTo>
                  <a:lnTo>
                    <a:pt x="339" y="672"/>
                  </a:lnTo>
                  <a:lnTo>
                    <a:pt x="333" y="699"/>
                  </a:lnTo>
                  <a:lnTo>
                    <a:pt x="360" y="732"/>
                  </a:lnTo>
                  <a:lnTo>
                    <a:pt x="387" y="705"/>
                  </a:lnTo>
                  <a:lnTo>
                    <a:pt x="414" y="726"/>
                  </a:lnTo>
                  <a:lnTo>
                    <a:pt x="441" y="726"/>
                  </a:lnTo>
                  <a:lnTo>
                    <a:pt x="453" y="744"/>
                  </a:lnTo>
                  <a:lnTo>
                    <a:pt x="447" y="768"/>
                  </a:lnTo>
                  <a:lnTo>
                    <a:pt x="429" y="762"/>
                  </a:lnTo>
                  <a:lnTo>
                    <a:pt x="405" y="786"/>
                  </a:lnTo>
                  <a:lnTo>
                    <a:pt x="411" y="825"/>
                  </a:lnTo>
                  <a:lnTo>
                    <a:pt x="375" y="861"/>
                  </a:lnTo>
                  <a:lnTo>
                    <a:pt x="372" y="879"/>
                  </a:lnTo>
                  <a:lnTo>
                    <a:pt x="345" y="906"/>
                  </a:lnTo>
                  <a:lnTo>
                    <a:pt x="327" y="891"/>
                  </a:lnTo>
                  <a:lnTo>
                    <a:pt x="285" y="903"/>
                  </a:lnTo>
                  <a:lnTo>
                    <a:pt x="246" y="894"/>
                  </a:lnTo>
                  <a:lnTo>
                    <a:pt x="240" y="861"/>
                  </a:lnTo>
                  <a:lnTo>
                    <a:pt x="219" y="849"/>
                  </a:lnTo>
                  <a:lnTo>
                    <a:pt x="183" y="807"/>
                  </a:lnTo>
                  <a:lnTo>
                    <a:pt x="186" y="768"/>
                  </a:lnTo>
                  <a:lnTo>
                    <a:pt x="168" y="744"/>
                  </a:lnTo>
                  <a:lnTo>
                    <a:pt x="129" y="753"/>
                  </a:lnTo>
                  <a:lnTo>
                    <a:pt x="126" y="717"/>
                  </a:lnTo>
                  <a:lnTo>
                    <a:pt x="150" y="672"/>
                  </a:lnTo>
                  <a:lnTo>
                    <a:pt x="141" y="636"/>
                  </a:lnTo>
                  <a:lnTo>
                    <a:pt x="144" y="600"/>
                  </a:lnTo>
                  <a:lnTo>
                    <a:pt x="135" y="579"/>
                  </a:lnTo>
                  <a:lnTo>
                    <a:pt x="84" y="591"/>
                  </a:lnTo>
                  <a:lnTo>
                    <a:pt x="54" y="558"/>
                  </a:lnTo>
                  <a:lnTo>
                    <a:pt x="57" y="498"/>
                  </a:lnTo>
                  <a:lnTo>
                    <a:pt x="42" y="477"/>
                  </a:lnTo>
                  <a:lnTo>
                    <a:pt x="0" y="453"/>
                  </a:lnTo>
                  <a:lnTo>
                    <a:pt x="3" y="414"/>
                  </a:lnTo>
                  <a:lnTo>
                    <a:pt x="15" y="366"/>
                  </a:lnTo>
                  <a:lnTo>
                    <a:pt x="54" y="399"/>
                  </a:lnTo>
                  <a:lnTo>
                    <a:pt x="99" y="375"/>
                  </a:lnTo>
                  <a:lnTo>
                    <a:pt x="90" y="345"/>
                  </a:lnTo>
                  <a:lnTo>
                    <a:pt x="42" y="315"/>
                  </a:lnTo>
                  <a:lnTo>
                    <a:pt x="21" y="270"/>
                  </a:lnTo>
                  <a:lnTo>
                    <a:pt x="42" y="240"/>
                  </a:lnTo>
                  <a:lnTo>
                    <a:pt x="99" y="210"/>
                  </a:lnTo>
                  <a:lnTo>
                    <a:pt x="141" y="150"/>
                  </a:lnTo>
                  <a:lnTo>
                    <a:pt x="207" y="144"/>
                  </a:lnTo>
                  <a:lnTo>
                    <a:pt x="270" y="75"/>
                  </a:ln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34480" y="2641680"/>
              <a:ext cx="1535760" cy="1737360"/>
            </a:xfrm>
            <a:custGeom>
              <a:avLst/>
              <a:gdLst/>
              <a:ahLst/>
              <a:rect l="l" t="t" r="r" b="b"/>
              <a:pathLst>
                <a:path w="1002" h="1134">
                  <a:moveTo>
                    <a:pt x="855" y="0"/>
                  </a:moveTo>
                  <a:lnTo>
                    <a:pt x="903" y="60"/>
                  </a:lnTo>
                  <a:lnTo>
                    <a:pt x="900" y="129"/>
                  </a:lnTo>
                  <a:lnTo>
                    <a:pt x="894" y="180"/>
                  </a:lnTo>
                  <a:lnTo>
                    <a:pt x="930" y="228"/>
                  </a:lnTo>
                  <a:lnTo>
                    <a:pt x="945" y="285"/>
                  </a:lnTo>
                  <a:lnTo>
                    <a:pt x="948" y="333"/>
                  </a:lnTo>
                  <a:lnTo>
                    <a:pt x="918" y="363"/>
                  </a:lnTo>
                  <a:lnTo>
                    <a:pt x="918" y="405"/>
                  </a:lnTo>
                  <a:lnTo>
                    <a:pt x="912" y="435"/>
                  </a:lnTo>
                  <a:lnTo>
                    <a:pt x="918" y="495"/>
                  </a:lnTo>
                  <a:lnTo>
                    <a:pt x="909" y="573"/>
                  </a:lnTo>
                  <a:lnTo>
                    <a:pt x="894" y="597"/>
                  </a:lnTo>
                  <a:lnTo>
                    <a:pt x="891" y="699"/>
                  </a:lnTo>
                  <a:lnTo>
                    <a:pt x="915" y="732"/>
                  </a:lnTo>
                  <a:lnTo>
                    <a:pt x="912" y="771"/>
                  </a:lnTo>
                  <a:lnTo>
                    <a:pt x="900" y="798"/>
                  </a:lnTo>
                  <a:lnTo>
                    <a:pt x="912" y="822"/>
                  </a:lnTo>
                  <a:lnTo>
                    <a:pt x="942" y="819"/>
                  </a:lnTo>
                  <a:lnTo>
                    <a:pt x="954" y="789"/>
                  </a:lnTo>
                  <a:lnTo>
                    <a:pt x="984" y="759"/>
                  </a:lnTo>
                  <a:lnTo>
                    <a:pt x="1002" y="780"/>
                  </a:lnTo>
                  <a:lnTo>
                    <a:pt x="984" y="822"/>
                  </a:lnTo>
                  <a:lnTo>
                    <a:pt x="996" y="888"/>
                  </a:lnTo>
                  <a:lnTo>
                    <a:pt x="972" y="957"/>
                  </a:lnTo>
                  <a:lnTo>
                    <a:pt x="981" y="1005"/>
                  </a:lnTo>
                  <a:lnTo>
                    <a:pt x="960" y="1035"/>
                  </a:lnTo>
                  <a:lnTo>
                    <a:pt x="957" y="1068"/>
                  </a:lnTo>
                  <a:lnTo>
                    <a:pt x="930" y="1080"/>
                  </a:lnTo>
                  <a:lnTo>
                    <a:pt x="909" y="1050"/>
                  </a:lnTo>
                  <a:lnTo>
                    <a:pt x="879" y="1059"/>
                  </a:lnTo>
                  <a:lnTo>
                    <a:pt x="834" y="1077"/>
                  </a:lnTo>
                  <a:lnTo>
                    <a:pt x="801" y="1059"/>
                  </a:lnTo>
                  <a:lnTo>
                    <a:pt x="795" y="1032"/>
                  </a:lnTo>
                  <a:lnTo>
                    <a:pt x="759" y="1017"/>
                  </a:lnTo>
                  <a:lnTo>
                    <a:pt x="750" y="1056"/>
                  </a:lnTo>
                  <a:lnTo>
                    <a:pt x="726" y="1053"/>
                  </a:lnTo>
                  <a:lnTo>
                    <a:pt x="702" y="1089"/>
                  </a:lnTo>
                  <a:lnTo>
                    <a:pt x="681" y="1092"/>
                  </a:lnTo>
                  <a:lnTo>
                    <a:pt x="642" y="1089"/>
                  </a:lnTo>
                  <a:lnTo>
                    <a:pt x="579" y="1134"/>
                  </a:lnTo>
                  <a:lnTo>
                    <a:pt x="534" y="1131"/>
                  </a:lnTo>
                  <a:lnTo>
                    <a:pt x="447" y="1122"/>
                  </a:lnTo>
                  <a:lnTo>
                    <a:pt x="405" y="1089"/>
                  </a:lnTo>
                  <a:lnTo>
                    <a:pt x="336" y="1101"/>
                  </a:lnTo>
                  <a:lnTo>
                    <a:pt x="300" y="1098"/>
                  </a:lnTo>
                  <a:lnTo>
                    <a:pt x="297" y="1116"/>
                  </a:lnTo>
                  <a:lnTo>
                    <a:pt x="258" y="1110"/>
                  </a:lnTo>
                  <a:lnTo>
                    <a:pt x="240" y="1086"/>
                  </a:lnTo>
                  <a:lnTo>
                    <a:pt x="195" y="1083"/>
                  </a:lnTo>
                  <a:lnTo>
                    <a:pt x="195" y="1059"/>
                  </a:lnTo>
                  <a:lnTo>
                    <a:pt x="222" y="1026"/>
                  </a:lnTo>
                  <a:lnTo>
                    <a:pt x="198" y="984"/>
                  </a:lnTo>
                  <a:lnTo>
                    <a:pt x="171" y="951"/>
                  </a:lnTo>
                  <a:lnTo>
                    <a:pt x="117" y="945"/>
                  </a:lnTo>
                  <a:lnTo>
                    <a:pt x="75" y="945"/>
                  </a:lnTo>
                  <a:lnTo>
                    <a:pt x="69" y="906"/>
                  </a:lnTo>
                  <a:lnTo>
                    <a:pt x="6" y="906"/>
                  </a:lnTo>
                  <a:lnTo>
                    <a:pt x="45" y="870"/>
                  </a:lnTo>
                  <a:lnTo>
                    <a:pt x="12" y="834"/>
                  </a:lnTo>
                  <a:lnTo>
                    <a:pt x="42" y="819"/>
                  </a:lnTo>
                  <a:lnTo>
                    <a:pt x="48" y="792"/>
                  </a:lnTo>
                  <a:lnTo>
                    <a:pt x="81" y="759"/>
                  </a:lnTo>
                  <a:lnTo>
                    <a:pt x="78" y="726"/>
                  </a:lnTo>
                  <a:lnTo>
                    <a:pt x="99" y="690"/>
                  </a:lnTo>
                  <a:lnTo>
                    <a:pt x="126" y="702"/>
                  </a:lnTo>
                  <a:lnTo>
                    <a:pt x="132" y="675"/>
                  </a:lnTo>
                  <a:lnTo>
                    <a:pt x="117" y="663"/>
                  </a:lnTo>
                  <a:lnTo>
                    <a:pt x="90" y="663"/>
                  </a:lnTo>
                  <a:lnTo>
                    <a:pt x="66" y="636"/>
                  </a:lnTo>
                  <a:lnTo>
                    <a:pt x="30" y="666"/>
                  </a:lnTo>
                  <a:lnTo>
                    <a:pt x="9" y="627"/>
                  </a:lnTo>
                  <a:lnTo>
                    <a:pt x="15" y="603"/>
                  </a:lnTo>
                  <a:lnTo>
                    <a:pt x="0" y="576"/>
                  </a:lnTo>
                  <a:lnTo>
                    <a:pt x="18" y="540"/>
                  </a:lnTo>
                  <a:lnTo>
                    <a:pt x="39" y="534"/>
                  </a:lnTo>
                  <a:lnTo>
                    <a:pt x="39" y="477"/>
                  </a:lnTo>
                  <a:lnTo>
                    <a:pt x="30" y="447"/>
                  </a:lnTo>
                  <a:lnTo>
                    <a:pt x="3" y="435"/>
                  </a:lnTo>
                  <a:lnTo>
                    <a:pt x="12" y="396"/>
                  </a:lnTo>
                  <a:lnTo>
                    <a:pt x="45" y="396"/>
                  </a:lnTo>
                  <a:lnTo>
                    <a:pt x="54" y="363"/>
                  </a:lnTo>
                  <a:lnTo>
                    <a:pt x="81" y="357"/>
                  </a:lnTo>
                  <a:lnTo>
                    <a:pt x="93" y="321"/>
                  </a:lnTo>
                  <a:lnTo>
                    <a:pt x="132" y="303"/>
                  </a:lnTo>
                  <a:lnTo>
                    <a:pt x="141" y="279"/>
                  </a:lnTo>
                  <a:lnTo>
                    <a:pt x="171" y="276"/>
                  </a:lnTo>
                  <a:lnTo>
                    <a:pt x="189" y="261"/>
                  </a:lnTo>
                  <a:lnTo>
                    <a:pt x="213" y="219"/>
                  </a:lnTo>
                  <a:lnTo>
                    <a:pt x="231" y="225"/>
                  </a:lnTo>
                  <a:lnTo>
                    <a:pt x="255" y="243"/>
                  </a:lnTo>
                  <a:lnTo>
                    <a:pt x="285" y="276"/>
                  </a:lnTo>
                  <a:lnTo>
                    <a:pt x="318" y="279"/>
                  </a:lnTo>
                  <a:lnTo>
                    <a:pt x="336" y="246"/>
                  </a:lnTo>
                  <a:lnTo>
                    <a:pt x="339" y="213"/>
                  </a:lnTo>
                  <a:lnTo>
                    <a:pt x="357" y="186"/>
                  </a:lnTo>
                  <a:lnTo>
                    <a:pt x="351" y="141"/>
                  </a:lnTo>
                  <a:lnTo>
                    <a:pt x="420" y="96"/>
                  </a:lnTo>
                  <a:lnTo>
                    <a:pt x="501" y="102"/>
                  </a:lnTo>
                  <a:lnTo>
                    <a:pt x="543" y="78"/>
                  </a:lnTo>
                  <a:lnTo>
                    <a:pt x="588" y="72"/>
                  </a:lnTo>
                  <a:lnTo>
                    <a:pt x="615" y="96"/>
                  </a:lnTo>
                  <a:lnTo>
                    <a:pt x="660" y="78"/>
                  </a:lnTo>
                  <a:lnTo>
                    <a:pt x="738" y="66"/>
                  </a:lnTo>
                  <a:lnTo>
                    <a:pt x="792" y="84"/>
                  </a:lnTo>
                  <a:lnTo>
                    <a:pt x="825" y="30"/>
                  </a:lnTo>
                  <a:lnTo>
                    <a:pt x="837" y="9"/>
                  </a:lnTo>
                  <a:lnTo>
                    <a:pt x="85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e00"/>
                </a:gs>
                <a:gs pos="100000">
                  <a:srgbClr val="00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22800" y="4025520"/>
              <a:ext cx="1674000" cy="1346760"/>
            </a:xfrm>
            <a:custGeom>
              <a:avLst/>
              <a:gdLst/>
              <a:ahLst/>
              <a:rect l="l" t="t" r="r" b="b"/>
              <a:pathLst>
                <a:path w="1092" h="879">
                  <a:moveTo>
                    <a:pt x="144" y="3"/>
                  </a:moveTo>
                  <a:lnTo>
                    <a:pt x="126" y="42"/>
                  </a:lnTo>
                  <a:lnTo>
                    <a:pt x="90" y="51"/>
                  </a:lnTo>
                  <a:lnTo>
                    <a:pt x="51" y="75"/>
                  </a:lnTo>
                  <a:lnTo>
                    <a:pt x="57" y="108"/>
                  </a:lnTo>
                  <a:lnTo>
                    <a:pt x="24" y="141"/>
                  </a:lnTo>
                  <a:lnTo>
                    <a:pt x="27" y="174"/>
                  </a:lnTo>
                  <a:lnTo>
                    <a:pt x="6" y="210"/>
                  </a:lnTo>
                  <a:lnTo>
                    <a:pt x="9" y="267"/>
                  </a:lnTo>
                  <a:lnTo>
                    <a:pt x="15" y="309"/>
                  </a:lnTo>
                  <a:lnTo>
                    <a:pt x="51" y="300"/>
                  </a:lnTo>
                  <a:lnTo>
                    <a:pt x="57" y="348"/>
                  </a:lnTo>
                  <a:lnTo>
                    <a:pt x="30" y="360"/>
                  </a:lnTo>
                  <a:lnTo>
                    <a:pt x="24" y="402"/>
                  </a:lnTo>
                  <a:lnTo>
                    <a:pt x="0" y="417"/>
                  </a:lnTo>
                  <a:lnTo>
                    <a:pt x="15" y="465"/>
                  </a:lnTo>
                  <a:lnTo>
                    <a:pt x="45" y="495"/>
                  </a:lnTo>
                  <a:lnTo>
                    <a:pt x="21" y="534"/>
                  </a:lnTo>
                  <a:lnTo>
                    <a:pt x="36" y="558"/>
                  </a:lnTo>
                  <a:lnTo>
                    <a:pt x="75" y="567"/>
                  </a:lnTo>
                  <a:lnTo>
                    <a:pt x="114" y="615"/>
                  </a:lnTo>
                  <a:lnTo>
                    <a:pt x="111" y="666"/>
                  </a:lnTo>
                  <a:lnTo>
                    <a:pt x="132" y="705"/>
                  </a:lnTo>
                  <a:lnTo>
                    <a:pt x="135" y="744"/>
                  </a:lnTo>
                  <a:lnTo>
                    <a:pt x="156" y="783"/>
                  </a:lnTo>
                  <a:lnTo>
                    <a:pt x="135" y="837"/>
                  </a:lnTo>
                  <a:lnTo>
                    <a:pt x="156" y="840"/>
                  </a:lnTo>
                  <a:lnTo>
                    <a:pt x="195" y="828"/>
                  </a:lnTo>
                  <a:lnTo>
                    <a:pt x="210" y="852"/>
                  </a:lnTo>
                  <a:lnTo>
                    <a:pt x="270" y="879"/>
                  </a:lnTo>
                  <a:lnTo>
                    <a:pt x="297" y="873"/>
                  </a:lnTo>
                  <a:lnTo>
                    <a:pt x="306" y="855"/>
                  </a:lnTo>
                  <a:lnTo>
                    <a:pt x="276" y="828"/>
                  </a:lnTo>
                  <a:lnTo>
                    <a:pt x="279" y="768"/>
                  </a:lnTo>
                  <a:lnTo>
                    <a:pt x="309" y="753"/>
                  </a:lnTo>
                  <a:lnTo>
                    <a:pt x="333" y="780"/>
                  </a:lnTo>
                  <a:lnTo>
                    <a:pt x="381" y="777"/>
                  </a:lnTo>
                  <a:lnTo>
                    <a:pt x="405" y="753"/>
                  </a:lnTo>
                  <a:lnTo>
                    <a:pt x="435" y="765"/>
                  </a:lnTo>
                  <a:lnTo>
                    <a:pt x="444" y="807"/>
                  </a:lnTo>
                  <a:lnTo>
                    <a:pt x="477" y="831"/>
                  </a:lnTo>
                  <a:lnTo>
                    <a:pt x="513" y="828"/>
                  </a:lnTo>
                  <a:lnTo>
                    <a:pt x="540" y="855"/>
                  </a:lnTo>
                  <a:lnTo>
                    <a:pt x="537" y="873"/>
                  </a:lnTo>
                  <a:lnTo>
                    <a:pt x="594" y="879"/>
                  </a:lnTo>
                  <a:lnTo>
                    <a:pt x="618" y="834"/>
                  </a:lnTo>
                  <a:lnTo>
                    <a:pt x="657" y="786"/>
                  </a:lnTo>
                  <a:lnTo>
                    <a:pt x="687" y="780"/>
                  </a:lnTo>
                  <a:lnTo>
                    <a:pt x="699" y="708"/>
                  </a:lnTo>
                  <a:lnTo>
                    <a:pt x="675" y="678"/>
                  </a:lnTo>
                  <a:lnTo>
                    <a:pt x="684" y="642"/>
                  </a:lnTo>
                  <a:lnTo>
                    <a:pt x="708" y="630"/>
                  </a:lnTo>
                  <a:lnTo>
                    <a:pt x="726" y="642"/>
                  </a:lnTo>
                  <a:lnTo>
                    <a:pt x="756" y="630"/>
                  </a:lnTo>
                  <a:lnTo>
                    <a:pt x="762" y="612"/>
                  </a:lnTo>
                  <a:lnTo>
                    <a:pt x="807" y="609"/>
                  </a:lnTo>
                  <a:lnTo>
                    <a:pt x="828" y="585"/>
                  </a:lnTo>
                  <a:lnTo>
                    <a:pt x="885" y="558"/>
                  </a:lnTo>
                  <a:lnTo>
                    <a:pt x="903" y="534"/>
                  </a:lnTo>
                  <a:lnTo>
                    <a:pt x="954" y="528"/>
                  </a:lnTo>
                  <a:lnTo>
                    <a:pt x="960" y="471"/>
                  </a:lnTo>
                  <a:lnTo>
                    <a:pt x="978" y="417"/>
                  </a:lnTo>
                  <a:lnTo>
                    <a:pt x="1038" y="375"/>
                  </a:lnTo>
                  <a:lnTo>
                    <a:pt x="1029" y="318"/>
                  </a:lnTo>
                  <a:lnTo>
                    <a:pt x="1071" y="279"/>
                  </a:lnTo>
                  <a:lnTo>
                    <a:pt x="1080" y="243"/>
                  </a:lnTo>
                  <a:lnTo>
                    <a:pt x="1092" y="171"/>
                  </a:lnTo>
                  <a:lnTo>
                    <a:pt x="1065" y="177"/>
                  </a:lnTo>
                  <a:lnTo>
                    <a:pt x="1056" y="147"/>
                  </a:lnTo>
                  <a:lnTo>
                    <a:pt x="978" y="165"/>
                  </a:lnTo>
                  <a:lnTo>
                    <a:pt x="939" y="159"/>
                  </a:lnTo>
                  <a:lnTo>
                    <a:pt x="936" y="132"/>
                  </a:lnTo>
                  <a:lnTo>
                    <a:pt x="897" y="117"/>
                  </a:lnTo>
                  <a:lnTo>
                    <a:pt x="885" y="150"/>
                  </a:lnTo>
                  <a:lnTo>
                    <a:pt x="867" y="150"/>
                  </a:lnTo>
                  <a:lnTo>
                    <a:pt x="831" y="192"/>
                  </a:lnTo>
                  <a:lnTo>
                    <a:pt x="777" y="183"/>
                  </a:lnTo>
                  <a:lnTo>
                    <a:pt x="708" y="231"/>
                  </a:lnTo>
                  <a:lnTo>
                    <a:pt x="588" y="219"/>
                  </a:lnTo>
                  <a:lnTo>
                    <a:pt x="540" y="186"/>
                  </a:lnTo>
                  <a:lnTo>
                    <a:pt x="471" y="201"/>
                  </a:lnTo>
                  <a:lnTo>
                    <a:pt x="438" y="189"/>
                  </a:lnTo>
                  <a:lnTo>
                    <a:pt x="432" y="213"/>
                  </a:lnTo>
                  <a:lnTo>
                    <a:pt x="393" y="204"/>
                  </a:lnTo>
                  <a:lnTo>
                    <a:pt x="378" y="183"/>
                  </a:lnTo>
                  <a:lnTo>
                    <a:pt x="330" y="174"/>
                  </a:lnTo>
                  <a:lnTo>
                    <a:pt x="336" y="153"/>
                  </a:lnTo>
                  <a:lnTo>
                    <a:pt x="360" y="123"/>
                  </a:lnTo>
                  <a:lnTo>
                    <a:pt x="339" y="72"/>
                  </a:lnTo>
                  <a:lnTo>
                    <a:pt x="309" y="48"/>
                  </a:lnTo>
                  <a:lnTo>
                    <a:pt x="213" y="39"/>
                  </a:lnTo>
                  <a:lnTo>
                    <a:pt x="204" y="0"/>
                  </a:lnTo>
                  <a:lnTo>
                    <a:pt x="144" y="3"/>
                  </a:lnTo>
                  <a:close/>
                </a:path>
              </a:pathLst>
            </a:custGeom>
            <a:gradFill rotWithShape="0">
              <a:gsLst>
                <a:gs pos="0">
                  <a:srgbClr val="002f75"/>
                </a:gs>
                <a:gs pos="100000">
                  <a:srgbClr val="00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78800" y="3731400"/>
              <a:ext cx="1319760" cy="969840"/>
            </a:xfrm>
            <a:custGeom>
              <a:avLst/>
              <a:gdLst/>
              <a:ahLst/>
              <a:rect l="l" t="t" r="r" b="b"/>
              <a:pathLst>
                <a:path w="861" h="633">
                  <a:moveTo>
                    <a:pt x="105" y="120"/>
                  </a:moveTo>
                  <a:lnTo>
                    <a:pt x="78" y="123"/>
                  </a:lnTo>
                  <a:lnTo>
                    <a:pt x="72" y="156"/>
                  </a:lnTo>
                  <a:lnTo>
                    <a:pt x="102" y="174"/>
                  </a:lnTo>
                  <a:lnTo>
                    <a:pt x="114" y="159"/>
                  </a:lnTo>
                  <a:lnTo>
                    <a:pt x="111" y="195"/>
                  </a:lnTo>
                  <a:lnTo>
                    <a:pt x="129" y="198"/>
                  </a:lnTo>
                  <a:lnTo>
                    <a:pt x="120" y="243"/>
                  </a:lnTo>
                  <a:lnTo>
                    <a:pt x="138" y="273"/>
                  </a:lnTo>
                  <a:lnTo>
                    <a:pt x="108" y="297"/>
                  </a:lnTo>
                  <a:lnTo>
                    <a:pt x="105" y="333"/>
                  </a:lnTo>
                  <a:lnTo>
                    <a:pt x="81" y="354"/>
                  </a:lnTo>
                  <a:lnTo>
                    <a:pt x="54" y="342"/>
                  </a:lnTo>
                  <a:lnTo>
                    <a:pt x="39" y="354"/>
                  </a:lnTo>
                  <a:lnTo>
                    <a:pt x="45" y="390"/>
                  </a:lnTo>
                  <a:lnTo>
                    <a:pt x="45" y="429"/>
                  </a:lnTo>
                  <a:lnTo>
                    <a:pt x="12" y="450"/>
                  </a:lnTo>
                  <a:lnTo>
                    <a:pt x="0" y="489"/>
                  </a:lnTo>
                  <a:lnTo>
                    <a:pt x="6" y="534"/>
                  </a:lnTo>
                  <a:lnTo>
                    <a:pt x="39" y="540"/>
                  </a:lnTo>
                  <a:lnTo>
                    <a:pt x="60" y="564"/>
                  </a:lnTo>
                  <a:lnTo>
                    <a:pt x="69" y="591"/>
                  </a:lnTo>
                  <a:lnTo>
                    <a:pt x="120" y="603"/>
                  </a:lnTo>
                  <a:lnTo>
                    <a:pt x="156" y="576"/>
                  </a:lnTo>
                  <a:lnTo>
                    <a:pt x="192" y="570"/>
                  </a:lnTo>
                  <a:lnTo>
                    <a:pt x="210" y="549"/>
                  </a:lnTo>
                  <a:lnTo>
                    <a:pt x="204" y="513"/>
                  </a:lnTo>
                  <a:lnTo>
                    <a:pt x="231" y="480"/>
                  </a:lnTo>
                  <a:lnTo>
                    <a:pt x="258" y="495"/>
                  </a:lnTo>
                  <a:lnTo>
                    <a:pt x="255" y="516"/>
                  </a:lnTo>
                  <a:lnTo>
                    <a:pt x="309" y="543"/>
                  </a:lnTo>
                  <a:lnTo>
                    <a:pt x="360" y="540"/>
                  </a:lnTo>
                  <a:lnTo>
                    <a:pt x="381" y="564"/>
                  </a:lnTo>
                  <a:lnTo>
                    <a:pt x="372" y="582"/>
                  </a:lnTo>
                  <a:lnTo>
                    <a:pt x="369" y="615"/>
                  </a:lnTo>
                  <a:lnTo>
                    <a:pt x="384" y="633"/>
                  </a:lnTo>
                  <a:lnTo>
                    <a:pt x="432" y="630"/>
                  </a:lnTo>
                  <a:lnTo>
                    <a:pt x="453" y="609"/>
                  </a:lnTo>
                  <a:lnTo>
                    <a:pt x="525" y="600"/>
                  </a:lnTo>
                  <a:lnTo>
                    <a:pt x="540" y="627"/>
                  </a:lnTo>
                  <a:lnTo>
                    <a:pt x="573" y="630"/>
                  </a:lnTo>
                  <a:lnTo>
                    <a:pt x="588" y="591"/>
                  </a:lnTo>
                  <a:lnTo>
                    <a:pt x="624" y="573"/>
                  </a:lnTo>
                  <a:lnTo>
                    <a:pt x="636" y="597"/>
                  </a:lnTo>
                  <a:lnTo>
                    <a:pt x="684" y="609"/>
                  </a:lnTo>
                  <a:lnTo>
                    <a:pt x="699" y="591"/>
                  </a:lnTo>
                  <a:lnTo>
                    <a:pt x="714" y="549"/>
                  </a:lnTo>
                  <a:lnTo>
                    <a:pt x="738" y="540"/>
                  </a:lnTo>
                  <a:lnTo>
                    <a:pt x="735" y="492"/>
                  </a:lnTo>
                  <a:lnTo>
                    <a:pt x="696" y="495"/>
                  </a:lnTo>
                  <a:lnTo>
                    <a:pt x="687" y="447"/>
                  </a:lnTo>
                  <a:lnTo>
                    <a:pt x="687" y="399"/>
                  </a:lnTo>
                  <a:lnTo>
                    <a:pt x="705" y="366"/>
                  </a:lnTo>
                  <a:lnTo>
                    <a:pt x="705" y="330"/>
                  </a:lnTo>
                  <a:lnTo>
                    <a:pt x="738" y="300"/>
                  </a:lnTo>
                  <a:lnTo>
                    <a:pt x="735" y="273"/>
                  </a:lnTo>
                  <a:lnTo>
                    <a:pt x="765" y="243"/>
                  </a:lnTo>
                  <a:lnTo>
                    <a:pt x="810" y="246"/>
                  </a:lnTo>
                  <a:lnTo>
                    <a:pt x="822" y="195"/>
                  </a:lnTo>
                  <a:lnTo>
                    <a:pt x="861" y="159"/>
                  </a:lnTo>
                  <a:lnTo>
                    <a:pt x="834" y="111"/>
                  </a:lnTo>
                  <a:lnTo>
                    <a:pt x="792" y="126"/>
                  </a:lnTo>
                  <a:lnTo>
                    <a:pt x="741" y="117"/>
                  </a:lnTo>
                  <a:lnTo>
                    <a:pt x="732" y="78"/>
                  </a:lnTo>
                  <a:lnTo>
                    <a:pt x="711" y="69"/>
                  </a:lnTo>
                  <a:lnTo>
                    <a:pt x="708" y="117"/>
                  </a:lnTo>
                  <a:lnTo>
                    <a:pt x="645" y="147"/>
                  </a:lnTo>
                  <a:lnTo>
                    <a:pt x="585" y="123"/>
                  </a:lnTo>
                  <a:lnTo>
                    <a:pt x="552" y="96"/>
                  </a:lnTo>
                  <a:lnTo>
                    <a:pt x="528" y="33"/>
                  </a:lnTo>
                  <a:lnTo>
                    <a:pt x="504" y="27"/>
                  </a:lnTo>
                  <a:lnTo>
                    <a:pt x="468" y="75"/>
                  </a:lnTo>
                  <a:lnTo>
                    <a:pt x="420" y="81"/>
                  </a:lnTo>
                  <a:lnTo>
                    <a:pt x="405" y="114"/>
                  </a:lnTo>
                  <a:lnTo>
                    <a:pt x="375" y="90"/>
                  </a:lnTo>
                  <a:lnTo>
                    <a:pt x="375" y="54"/>
                  </a:lnTo>
                  <a:lnTo>
                    <a:pt x="345" y="3"/>
                  </a:lnTo>
                  <a:lnTo>
                    <a:pt x="297" y="0"/>
                  </a:lnTo>
                  <a:lnTo>
                    <a:pt x="276" y="27"/>
                  </a:lnTo>
                  <a:lnTo>
                    <a:pt x="273" y="69"/>
                  </a:lnTo>
                  <a:lnTo>
                    <a:pt x="237" y="96"/>
                  </a:lnTo>
                  <a:lnTo>
                    <a:pt x="201" y="108"/>
                  </a:lnTo>
                  <a:lnTo>
                    <a:pt x="177" y="135"/>
                  </a:lnTo>
                  <a:lnTo>
                    <a:pt x="135" y="144"/>
                  </a:lnTo>
                  <a:lnTo>
                    <a:pt x="105" y="12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31960" y="4466880"/>
              <a:ext cx="1830240" cy="1461960"/>
            </a:xfrm>
            <a:custGeom>
              <a:avLst/>
              <a:gdLst/>
              <a:ahLst/>
              <a:rect l="l" t="t" r="r" b="b"/>
              <a:pathLst>
                <a:path w="1194" h="954">
                  <a:moveTo>
                    <a:pt x="300" y="252"/>
                  </a:moveTo>
                  <a:lnTo>
                    <a:pt x="306" y="213"/>
                  </a:lnTo>
                  <a:lnTo>
                    <a:pt x="282" y="189"/>
                  </a:lnTo>
                  <a:lnTo>
                    <a:pt x="294" y="162"/>
                  </a:lnTo>
                  <a:lnTo>
                    <a:pt x="318" y="162"/>
                  </a:lnTo>
                  <a:lnTo>
                    <a:pt x="315" y="120"/>
                  </a:lnTo>
                  <a:lnTo>
                    <a:pt x="348" y="99"/>
                  </a:lnTo>
                  <a:lnTo>
                    <a:pt x="348" y="63"/>
                  </a:lnTo>
                  <a:lnTo>
                    <a:pt x="366" y="51"/>
                  </a:lnTo>
                  <a:lnTo>
                    <a:pt x="396" y="54"/>
                  </a:lnTo>
                  <a:lnTo>
                    <a:pt x="417" y="84"/>
                  </a:lnTo>
                  <a:lnTo>
                    <a:pt x="429" y="114"/>
                  </a:lnTo>
                  <a:lnTo>
                    <a:pt x="471" y="123"/>
                  </a:lnTo>
                  <a:lnTo>
                    <a:pt x="513" y="96"/>
                  </a:lnTo>
                  <a:lnTo>
                    <a:pt x="549" y="93"/>
                  </a:lnTo>
                  <a:lnTo>
                    <a:pt x="567" y="75"/>
                  </a:lnTo>
                  <a:lnTo>
                    <a:pt x="555" y="33"/>
                  </a:lnTo>
                  <a:lnTo>
                    <a:pt x="591" y="0"/>
                  </a:lnTo>
                  <a:lnTo>
                    <a:pt x="618" y="15"/>
                  </a:lnTo>
                  <a:lnTo>
                    <a:pt x="615" y="33"/>
                  </a:lnTo>
                  <a:lnTo>
                    <a:pt x="663" y="60"/>
                  </a:lnTo>
                  <a:lnTo>
                    <a:pt x="714" y="57"/>
                  </a:lnTo>
                  <a:lnTo>
                    <a:pt x="735" y="84"/>
                  </a:lnTo>
                  <a:lnTo>
                    <a:pt x="726" y="108"/>
                  </a:lnTo>
                  <a:lnTo>
                    <a:pt x="720" y="132"/>
                  </a:lnTo>
                  <a:lnTo>
                    <a:pt x="741" y="153"/>
                  </a:lnTo>
                  <a:lnTo>
                    <a:pt x="789" y="147"/>
                  </a:lnTo>
                  <a:lnTo>
                    <a:pt x="810" y="123"/>
                  </a:lnTo>
                  <a:lnTo>
                    <a:pt x="879" y="117"/>
                  </a:lnTo>
                  <a:lnTo>
                    <a:pt x="897" y="147"/>
                  </a:lnTo>
                  <a:lnTo>
                    <a:pt x="927" y="147"/>
                  </a:lnTo>
                  <a:lnTo>
                    <a:pt x="945" y="111"/>
                  </a:lnTo>
                  <a:lnTo>
                    <a:pt x="981" y="96"/>
                  </a:lnTo>
                  <a:lnTo>
                    <a:pt x="996" y="117"/>
                  </a:lnTo>
                  <a:lnTo>
                    <a:pt x="1041" y="126"/>
                  </a:lnTo>
                  <a:lnTo>
                    <a:pt x="1050" y="177"/>
                  </a:lnTo>
                  <a:lnTo>
                    <a:pt x="1086" y="207"/>
                  </a:lnTo>
                  <a:lnTo>
                    <a:pt x="1056" y="243"/>
                  </a:lnTo>
                  <a:lnTo>
                    <a:pt x="1077" y="267"/>
                  </a:lnTo>
                  <a:lnTo>
                    <a:pt x="1113" y="279"/>
                  </a:lnTo>
                  <a:lnTo>
                    <a:pt x="1158" y="327"/>
                  </a:lnTo>
                  <a:lnTo>
                    <a:pt x="1149" y="366"/>
                  </a:lnTo>
                  <a:lnTo>
                    <a:pt x="1176" y="417"/>
                  </a:lnTo>
                  <a:lnTo>
                    <a:pt x="1167" y="447"/>
                  </a:lnTo>
                  <a:lnTo>
                    <a:pt x="1194" y="501"/>
                  </a:lnTo>
                  <a:lnTo>
                    <a:pt x="1173" y="546"/>
                  </a:lnTo>
                  <a:lnTo>
                    <a:pt x="1167" y="582"/>
                  </a:lnTo>
                  <a:lnTo>
                    <a:pt x="1146" y="603"/>
                  </a:lnTo>
                  <a:lnTo>
                    <a:pt x="1158" y="633"/>
                  </a:lnTo>
                  <a:lnTo>
                    <a:pt x="1122" y="648"/>
                  </a:lnTo>
                  <a:lnTo>
                    <a:pt x="1086" y="633"/>
                  </a:lnTo>
                  <a:lnTo>
                    <a:pt x="1074" y="612"/>
                  </a:lnTo>
                  <a:lnTo>
                    <a:pt x="1026" y="618"/>
                  </a:lnTo>
                  <a:lnTo>
                    <a:pt x="1005" y="642"/>
                  </a:lnTo>
                  <a:lnTo>
                    <a:pt x="996" y="687"/>
                  </a:lnTo>
                  <a:lnTo>
                    <a:pt x="1026" y="708"/>
                  </a:lnTo>
                  <a:lnTo>
                    <a:pt x="1029" y="744"/>
                  </a:lnTo>
                  <a:lnTo>
                    <a:pt x="1002" y="774"/>
                  </a:lnTo>
                  <a:lnTo>
                    <a:pt x="975" y="780"/>
                  </a:lnTo>
                  <a:lnTo>
                    <a:pt x="957" y="753"/>
                  </a:lnTo>
                  <a:lnTo>
                    <a:pt x="951" y="729"/>
                  </a:lnTo>
                  <a:lnTo>
                    <a:pt x="909" y="735"/>
                  </a:lnTo>
                  <a:lnTo>
                    <a:pt x="888" y="774"/>
                  </a:lnTo>
                  <a:lnTo>
                    <a:pt x="843" y="777"/>
                  </a:lnTo>
                  <a:lnTo>
                    <a:pt x="813" y="807"/>
                  </a:lnTo>
                  <a:lnTo>
                    <a:pt x="774" y="810"/>
                  </a:lnTo>
                  <a:lnTo>
                    <a:pt x="762" y="840"/>
                  </a:lnTo>
                  <a:lnTo>
                    <a:pt x="765" y="861"/>
                  </a:lnTo>
                  <a:lnTo>
                    <a:pt x="735" y="876"/>
                  </a:lnTo>
                  <a:lnTo>
                    <a:pt x="654" y="864"/>
                  </a:lnTo>
                  <a:lnTo>
                    <a:pt x="630" y="846"/>
                  </a:lnTo>
                  <a:lnTo>
                    <a:pt x="573" y="852"/>
                  </a:lnTo>
                  <a:lnTo>
                    <a:pt x="561" y="879"/>
                  </a:lnTo>
                  <a:lnTo>
                    <a:pt x="510" y="867"/>
                  </a:lnTo>
                  <a:lnTo>
                    <a:pt x="495" y="849"/>
                  </a:lnTo>
                  <a:lnTo>
                    <a:pt x="444" y="846"/>
                  </a:lnTo>
                  <a:lnTo>
                    <a:pt x="396" y="837"/>
                  </a:lnTo>
                  <a:lnTo>
                    <a:pt x="390" y="807"/>
                  </a:lnTo>
                  <a:lnTo>
                    <a:pt x="369" y="783"/>
                  </a:lnTo>
                  <a:lnTo>
                    <a:pt x="330" y="783"/>
                  </a:lnTo>
                  <a:lnTo>
                    <a:pt x="297" y="807"/>
                  </a:lnTo>
                  <a:lnTo>
                    <a:pt x="294" y="831"/>
                  </a:lnTo>
                  <a:lnTo>
                    <a:pt x="264" y="831"/>
                  </a:lnTo>
                  <a:lnTo>
                    <a:pt x="228" y="813"/>
                  </a:lnTo>
                  <a:lnTo>
                    <a:pt x="210" y="828"/>
                  </a:lnTo>
                  <a:lnTo>
                    <a:pt x="219" y="867"/>
                  </a:lnTo>
                  <a:lnTo>
                    <a:pt x="240" y="879"/>
                  </a:lnTo>
                  <a:lnTo>
                    <a:pt x="237" y="909"/>
                  </a:lnTo>
                  <a:lnTo>
                    <a:pt x="192" y="921"/>
                  </a:lnTo>
                  <a:lnTo>
                    <a:pt x="186" y="888"/>
                  </a:lnTo>
                  <a:lnTo>
                    <a:pt x="153" y="897"/>
                  </a:lnTo>
                  <a:lnTo>
                    <a:pt x="120" y="948"/>
                  </a:lnTo>
                  <a:lnTo>
                    <a:pt x="72" y="954"/>
                  </a:lnTo>
                  <a:lnTo>
                    <a:pt x="30" y="948"/>
                  </a:lnTo>
                  <a:lnTo>
                    <a:pt x="30" y="915"/>
                  </a:lnTo>
                  <a:lnTo>
                    <a:pt x="0" y="888"/>
                  </a:lnTo>
                  <a:lnTo>
                    <a:pt x="3" y="855"/>
                  </a:lnTo>
                  <a:lnTo>
                    <a:pt x="36" y="837"/>
                  </a:lnTo>
                  <a:lnTo>
                    <a:pt x="48" y="792"/>
                  </a:lnTo>
                  <a:lnTo>
                    <a:pt x="81" y="771"/>
                  </a:lnTo>
                  <a:lnTo>
                    <a:pt x="90" y="729"/>
                  </a:lnTo>
                  <a:lnTo>
                    <a:pt x="126" y="702"/>
                  </a:lnTo>
                  <a:lnTo>
                    <a:pt x="132" y="660"/>
                  </a:lnTo>
                  <a:lnTo>
                    <a:pt x="114" y="648"/>
                  </a:lnTo>
                  <a:lnTo>
                    <a:pt x="75" y="657"/>
                  </a:lnTo>
                  <a:lnTo>
                    <a:pt x="66" y="633"/>
                  </a:lnTo>
                  <a:lnTo>
                    <a:pt x="81" y="576"/>
                  </a:lnTo>
                  <a:lnTo>
                    <a:pt x="54" y="555"/>
                  </a:lnTo>
                  <a:lnTo>
                    <a:pt x="48" y="507"/>
                  </a:lnTo>
                  <a:lnTo>
                    <a:pt x="60" y="480"/>
                  </a:lnTo>
                  <a:lnTo>
                    <a:pt x="93" y="480"/>
                  </a:lnTo>
                  <a:lnTo>
                    <a:pt x="84" y="441"/>
                  </a:lnTo>
                  <a:lnTo>
                    <a:pt x="84" y="411"/>
                  </a:lnTo>
                  <a:lnTo>
                    <a:pt x="132" y="381"/>
                  </a:lnTo>
                  <a:lnTo>
                    <a:pt x="171" y="387"/>
                  </a:lnTo>
                  <a:lnTo>
                    <a:pt x="180" y="360"/>
                  </a:lnTo>
                  <a:lnTo>
                    <a:pt x="171" y="333"/>
                  </a:lnTo>
                  <a:lnTo>
                    <a:pt x="132" y="324"/>
                  </a:lnTo>
                  <a:lnTo>
                    <a:pt x="123" y="282"/>
                  </a:lnTo>
                  <a:lnTo>
                    <a:pt x="126" y="246"/>
                  </a:lnTo>
                  <a:lnTo>
                    <a:pt x="165" y="255"/>
                  </a:lnTo>
                  <a:lnTo>
                    <a:pt x="189" y="234"/>
                  </a:lnTo>
                  <a:lnTo>
                    <a:pt x="222" y="249"/>
                  </a:lnTo>
                  <a:lnTo>
                    <a:pt x="258" y="228"/>
                  </a:lnTo>
                  <a:lnTo>
                    <a:pt x="270" y="252"/>
                  </a:lnTo>
                  <a:lnTo>
                    <a:pt x="30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692360" y="1163520"/>
            <a:ext cx="3337920" cy="4744800"/>
            <a:chOff x="1692360" y="1163520"/>
            <a:chExt cx="3337920" cy="4744800"/>
          </a:xfrm>
        </p:grpSpPr>
        <p:sp>
          <p:nvSpPr>
            <p:cNvPr id="208" name=""/>
            <p:cNvSpPr/>
            <p:nvPr/>
          </p:nvSpPr>
          <p:spPr>
            <a:xfrm>
              <a:off x="2882880" y="1163520"/>
              <a:ext cx="1931400" cy="1618560"/>
            </a:xfrm>
            <a:custGeom>
              <a:avLst/>
              <a:gdLst/>
              <a:ahLst/>
              <a:rect l="l" t="t" r="r" b="b"/>
              <a:pathLst>
                <a:path w="1260" h="1056">
                  <a:moveTo>
                    <a:pt x="720" y="9"/>
                  </a:moveTo>
                  <a:lnTo>
                    <a:pt x="678" y="0"/>
                  </a:lnTo>
                  <a:lnTo>
                    <a:pt x="663" y="36"/>
                  </a:lnTo>
                  <a:lnTo>
                    <a:pt x="672" y="87"/>
                  </a:lnTo>
                  <a:lnTo>
                    <a:pt x="666" y="132"/>
                  </a:lnTo>
                  <a:lnTo>
                    <a:pt x="630" y="153"/>
                  </a:lnTo>
                  <a:lnTo>
                    <a:pt x="606" y="120"/>
                  </a:lnTo>
                  <a:lnTo>
                    <a:pt x="594" y="84"/>
                  </a:lnTo>
                  <a:lnTo>
                    <a:pt x="558" y="81"/>
                  </a:lnTo>
                  <a:lnTo>
                    <a:pt x="534" y="111"/>
                  </a:lnTo>
                  <a:lnTo>
                    <a:pt x="546" y="147"/>
                  </a:lnTo>
                  <a:lnTo>
                    <a:pt x="531" y="189"/>
                  </a:lnTo>
                  <a:lnTo>
                    <a:pt x="396" y="198"/>
                  </a:lnTo>
                  <a:lnTo>
                    <a:pt x="285" y="189"/>
                  </a:lnTo>
                  <a:lnTo>
                    <a:pt x="258" y="156"/>
                  </a:lnTo>
                  <a:lnTo>
                    <a:pt x="198" y="162"/>
                  </a:lnTo>
                  <a:lnTo>
                    <a:pt x="180" y="195"/>
                  </a:lnTo>
                  <a:lnTo>
                    <a:pt x="132" y="192"/>
                  </a:lnTo>
                  <a:lnTo>
                    <a:pt x="117" y="171"/>
                  </a:lnTo>
                  <a:lnTo>
                    <a:pt x="75" y="156"/>
                  </a:lnTo>
                  <a:lnTo>
                    <a:pt x="60" y="174"/>
                  </a:lnTo>
                  <a:lnTo>
                    <a:pt x="27" y="186"/>
                  </a:lnTo>
                  <a:lnTo>
                    <a:pt x="0" y="219"/>
                  </a:lnTo>
                  <a:lnTo>
                    <a:pt x="15" y="261"/>
                  </a:lnTo>
                  <a:lnTo>
                    <a:pt x="84" y="291"/>
                  </a:lnTo>
                  <a:lnTo>
                    <a:pt x="93" y="315"/>
                  </a:lnTo>
                  <a:lnTo>
                    <a:pt x="144" y="309"/>
                  </a:lnTo>
                  <a:lnTo>
                    <a:pt x="177" y="336"/>
                  </a:lnTo>
                  <a:lnTo>
                    <a:pt x="177" y="390"/>
                  </a:lnTo>
                  <a:lnTo>
                    <a:pt x="249" y="423"/>
                  </a:lnTo>
                  <a:lnTo>
                    <a:pt x="252" y="477"/>
                  </a:lnTo>
                  <a:lnTo>
                    <a:pt x="219" y="483"/>
                  </a:lnTo>
                  <a:lnTo>
                    <a:pt x="210" y="522"/>
                  </a:lnTo>
                  <a:lnTo>
                    <a:pt x="192" y="543"/>
                  </a:lnTo>
                  <a:lnTo>
                    <a:pt x="225" y="576"/>
                  </a:lnTo>
                  <a:lnTo>
                    <a:pt x="219" y="621"/>
                  </a:lnTo>
                  <a:lnTo>
                    <a:pt x="237" y="657"/>
                  </a:lnTo>
                  <a:lnTo>
                    <a:pt x="273" y="645"/>
                  </a:lnTo>
                  <a:lnTo>
                    <a:pt x="315" y="657"/>
                  </a:lnTo>
                  <a:lnTo>
                    <a:pt x="324" y="678"/>
                  </a:lnTo>
                  <a:lnTo>
                    <a:pt x="357" y="672"/>
                  </a:lnTo>
                  <a:lnTo>
                    <a:pt x="375" y="699"/>
                  </a:lnTo>
                  <a:lnTo>
                    <a:pt x="372" y="723"/>
                  </a:lnTo>
                  <a:lnTo>
                    <a:pt x="348" y="738"/>
                  </a:lnTo>
                  <a:lnTo>
                    <a:pt x="360" y="774"/>
                  </a:lnTo>
                  <a:lnTo>
                    <a:pt x="378" y="783"/>
                  </a:lnTo>
                  <a:lnTo>
                    <a:pt x="369" y="825"/>
                  </a:lnTo>
                  <a:lnTo>
                    <a:pt x="345" y="822"/>
                  </a:lnTo>
                  <a:lnTo>
                    <a:pt x="336" y="855"/>
                  </a:lnTo>
                  <a:lnTo>
                    <a:pt x="345" y="906"/>
                  </a:lnTo>
                  <a:lnTo>
                    <a:pt x="342" y="963"/>
                  </a:lnTo>
                  <a:lnTo>
                    <a:pt x="405" y="993"/>
                  </a:lnTo>
                  <a:lnTo>
                    <a:pt x="447" y="981"/>
                  </a:lnTo>
                  <a:lnTo>
                    <a:pt x="465" y="951"/>
                  </a:lnTo>
                  <a:lnTo>
                    <a:pt x="465" y="915"/>
                  </a:lnTo>
                  <a:lnTo>
                    <a:pt x="489" y="891"/>
                  </a:lnTo>
                  <a:lnTo>
                    <a:pt x="510" y="915"/>
                  </a:lnTo>
                  <a:lnTo>
                    <a:pt x="498" y="942"/>
                  </a:lnTo>
                  <a:lnTo>
                    <a:pt x="522" y="960"/>
                  </a:lnTo>
                  <a:lnTo>
                    <a:pt x="570" y="936"/>
                  </a:lnTo>
                  <a:lnTo>
                    <a:pt x="576" y="912"/>
                  </a:lnTo>
                  <a:lnTo>
                    <a:pt x="600" y="906"/>
                  </a:lnTo>
                  <a:lnTo>
                    <a:pt x="639" y="933"/>
                  </a:lnTo>
                  <a:lnTo>
                    <a:pt x="654" y="963"/>
                  </a:lnTo>
                  <a:lnTo>
                    <a:pt x="681" y="996"/>
                  </a:lnTo>
                  <a:lnTo>
                    <a:pt x="729" y="993"/>
                  </a:lnTo>
                  <a:lnTo>
                    <a:pt x="756" y="1029"/>
                  </a:lnTo>
                  <a:lnTo>
                    <a:pt x="804" y="1038"/>
                  </a:lnTo>
                  <a:lnTo>
                    <a:pt x="822" y="1056"/>
                  </a:lnTo>
                  <a:lnTo>
                    <a:pt x="906" y="1053"/>
                  </a:lnTo>
                  <a:lnTo>
                    <a:pt x="948" y="1029"/>
                  </a:lnTo>
                  <a:lnTo>
                    <a:pt x="993" y="1032"/>
                  </a:lnTo>
                  <a:lnTo>
                    <a:pt x="1008" y="1050"/>
                  </a:lnTo>
                  <a:lnTo>
                    <a:pt x="1056" y="1032"/>
                  </a:lnTo>
                  <a:lnTo>
                    <a:pt x="1140" y="1023"/>
                  </a:lnTo>
                  <a:lnTo>
                    <a:pt x="1188" y="1038"/>
                  </a:lnTo>
                  <a:lnTo>
                    <a:pt x="1221" y="996"/>
                  </a:lnTo>
                  <a:lnTo>
                    <a:pt x="1233" y="969"/>
                  </a:lnTo>
                  <a:lnTo>
                    <a:pt x="1260" y="960"/>
                  </a:lnTo>
                  <a:lnTo>
                    <a:pt x="1260" y="915"/>
                  </a:lnTo>
                  <a:lnTo>
                    <a:pt x="1242" y="897"/>
                  </a:lnTo>
                  <a:lnTo>
                    <a:pt x="1239" y="864"/>
                  </a:lnTo>
                  <a:lnTo>
                    <a:pt x="1188" y="795"/>
                  </a:lnTo>
                  <a:lnTo>
                    <a:pt x="1143" y="762"/>
                  </a:lnTo>
                  <a:lnTo>
                    <a:pt x="1113" y="729"/>
                  </a:lnTo>
                  <a:lnTo>
                    <a:pt x="1107" y="681"/>
                  </a:lnTo>
                  <a:lnTo>
                    <a:pt x="1092" y="654"/>
                  </a:lnTo>
                  <a:lnTo>
                    <a:pt x="1074" y="630"/>
                  </a:lnTo>
                  <a:lnTo>
                    <a:pt x="1077" y="597"/>
                  </a:lnTo>
                  <a:lnTo>
                    <a:pt x="1047" y="567"/>
                  </a:lnTo>
                  <a:lnTo>
                    <a:pt x="1014" y="549"/>
                  </a:lnTo>
                  <a:lnTo>
                    <a:pt x="996" y="522"/>
                  </a:lnTo>
                  <a:lnTo>
                    <a:pt x="990" y="489"/>
                  </a:lnTo>
                  <a:lnTo>
                    <a:pt x="987" y="468"/>
                  </a:lnTo>
                  <a:lnTo>
                    <a:pt x="936" y="423"/>
                  </a:lnTo>
                  <a:lnTo>
                    <a:pt x="885" y="363"/>
                  </a:lnTo>
                  <a:lnTo>
                    <a:pt x="846" y="321"/>
                  </a:lnTo>
                  <a:lnTo>
                    <a:pt x="822" y="270"/>
                  </a:lnTo>
                  <a:lnTo>
                    <a:pt x="822" y="231"/>
                  </a:lnTo>
                  <a:lnTo>
                    <a:pt x="810" y="198"/>
                  </a:lnTo>
                  <a:lnTo>
                    <a:pt x="780" y="162"/>
                  </a:lnTo>
                  <a:lnTo>
                    <a:pt x="765" y="105"/>
                  </a:lnTo>
                  <a:lnTo>
                    <a:pt x="735" y="66"/>
                  </a:lnTo>
                  <a:lnTo>
                    <a:pt x="720" y="9"/>
                  </a:lnTo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95480" y="1485000"/>
              <a:ext cx="1476000" cy="1461960"/>
            </a:xfrm>
            <a:custGeom>
              <a:avLst/>
              <a:gdLst/>
              <a:ahLst/>
              <a:rect l="l" t="t" r="r" b="b"/>
              <a:pathLst>
                <a:path w="963" h="954">
                  <a:moveTo>
                    <a:pt x="420" y="15"/>
                  </a:moveTo>
                  <a:lnTo>
                    <a:pt x="444" y="6"/>
                  </a:lnTo>
                  <a:lnTo>
                    <a:pt x="465" y="33"/>
                  </a:lnTo>
                  <a:lnTo>
                    <a:pt x="489" y="33"/>
                  </a:lnTo>
                  <a:lnTo>
                    <a:pt x="501" y="0"/>
                  </a:lnTo>
                  <a:lnTo>
                    <a:pt x="585" y="3"/>
                  </a:lnTo>
                  <a:lnTo>
                    <a:pt x="591" y="45"/>
                  </a:lnTo>
                  <a:lnTo>
                    <a:pt x="669" y="81"/>
                  </a:lnTo>
                  <a:lnTo>
                    <a:pt x="672" y="102"/>
                  </a:lnTo>
                  <a:lnTo>
                    <a:pt x="726" y="99"/>
                  </a:lnTo>
                  <a:lnTo>
                    <a:pt x="762" y="123"/>
                  </a:lnTo>
                  <a:lnTo>
                    <a:pt x="759" y="180"/>
                  </a:lnTo>
                  <a:lnTo>
                    <a:pt x="828" y="213"/>
                  </a:lnTo>
                  <a:lnTo>
                    <a:pt x="831" y="270"/>
                  </a:lnTo>
                  <a:lnTo>
                    <a:pt x="804" y="273"/>
                  </a:lnTo>
                  <a:lnTo>
                    <a:pt x="792" y="309"/>
                  </a:lnTo>
                  <a:lnTo>
                    <a:pt x="774" y="330"/>
                  </a:lnTo>
                  <a:lnTo>
                    <a:pt x="807" y="369"/>
                  </a:lnTo>
                  <a:lnTo>
                    <a:pt x="801" y="408"/>
                  </a:lnTo>
                  <a:lnTo>
                    <a:pt x="819" y="450"/>
                  </a:lnTo>
                  <a:lnTo>
                    <a:pt x="849" y="429"/>
                  </a:lnTo>
                  <a:lnTo>
                    <a:pt x="897" y="447"/>
                  </a:lnTo>
                  <a:lnTo>
                    <a:pt x="900" y="468"/>
                  </a:lnTo>
                  <a:lnTo>
                    <a:pt x="936" y="456"/>
                  </a:lnTo>
                  <a:lnTo>
                    <a:pt x="960" y="489"/>
                  </a:lnTo>
                  <a:lnTo>
                    <a:pt x="951" y="519"/>
                  </a:lnTo>
                  <a:lnTo>
                    <a:pt x="930" y="525"/>
                  </a:lnTo>
                  <a:lnTo>
                    <a:pt x="939" y="564"/>
                  </a:lnTo>
                  <a:lnTo>
                    <a:pt x="963" y="573"/>
                  </a:lnTo>
                  <a:lnTo>
                    <a:pt x="948" y="618"/>
                  </a:lnTo>
                  <a:lnTo>
                    <a:pt x="927" y="609"/>
                  </a:lnTo>
                  <a:lnTo>
                    <a:pt x="912" y="642"/>
                  </a:lnTo>
                  <a:lnTo>
                    <a:pt x="927" y="699"/>
                  </a:lnTo>
                  <a:lnTo>
                    <a:pt x="921" y="762"/>
                  </a:lnTo>
                  <a:lnTo>
                    <a:pt x="870" y="816"/>
                  </a:lnTo>
                  <a:lnTo>
                    <a:pt x="801" y="834"/>
                  </a:lnTo>
                  <a:lnTo>
                    <a:pt x="744" y="888"/>
                  </a:lnTo>
                  <a:lnTo>
                    <a:pt x="696" y="918"/>
                  </a:lnTo>
                  <a:lnTo>
                    <a:pt x="675" y="954"/>
                  </a:lnTo>
                  <a:lnTo>
                    <a:pt x="603" y="918"/>
                  </a:lnTo>
                  <a:lnTo>
                    <a:pt x="528" y="921"/>
                  </a:lnTo>
                  <a:lnTo>
                    <a:pt x="501" y="939"/>
                  </a:lnTo>
                  <a:lnTo>
                    <a:pt x="432" y="951"/>
                  </a:lnTo>
                  <a:lnTo>
                    <a:pt x="375" y="930"/>
                  </a:lnTo>
                  <a:lnTo>
                    <a:pt x="327" y="876"/>
                  </a:lnTo>
                  <a:lnTo>
                    <a:pt x="333" y="822"/>
                  </a:lnTo>
                  <a:lnTo>
                    <a:pt x="321" y="798"/>
                  </a:lnTo>
                  <a:lnTo>
                    <a:pt x="285" y="789"/>
                  </a:lnTo>
                  <a:lnTo>
                    <a:pt x="264" y="759"/>
                  </a:lnTo>
                  <a:lnTo>
                    <a:pt x="267" y="723"/>
                  </a:lnTo>
                  <a:lnTo>
                    <a:pt x="315" y="714"/>
                  </a:lnTo>
                  <a:lnTo>
                    <a:pt x="312" y="672"/>
                  </a:lnTo>
                  <a:lnTo>
                    <a:pt x="336" y="645"/>
                  </a:lnTo>
                  <a:lnTo>
                    <a:pt x="345" y="600"/>
                  </a:lnTo>
                  <a:lnTo>
                    <a:pt x="309" y="597"/>
                  </a:lnTo>
                  <a:lnTo>
                    <a:pt x="282" y="567"/>
                  </a:lnTo>
                  <a:lnTo>
                    <a:pt x="249" y="558"/>
                  </a:lnTo>
                  <a:lnTo>
                    <a:pt x="237" y="582"/>
                  </a:lnTo>
                  <a:lnTo>
                    <a:pt x="186" y="567"/>
                  </a:lnTo>
                  <a:lnTo>
                    <a:pt x="174" y="582"/>
                  </a:lnTo>
                  <a:lnTo>
                    <a:pt x="183" y="615"/>
                  </a:lnTo>
                  <a:lnTo>
                    <a:pt x="162" y="618"/>
                  </a:lnTo>
                  <a:lnTo>
                    <a:pt x="138" y="573"/>
                  </a:lnTo>
                  <a:lnTo>
                    <a:pt x="108" y="549"/>
                  </a:lnTo>
                  <a:lnTo>
                    <a:pt x="123" y="531"/>
                  </a:lnTo>
                  <a:lnTo>
                    <a:pt x="102" y="507"/>
                  </a:lnTo>
                  <a:lnTo>
                    <a:pt x="93" y="474"/>
                  </a:lnTo>
                  <a:lnTo>
                    <a:pt x="111" y="459"/>
                  </a:lnTo>
                  <a:lnTo>
                    <a:pt x="105" y="438"/>
                  </a:lnTo>
                  <a:lnTo>
                    <a:pt x="66" y="450"/>
                  </a:lnTo>
                  <a:lnTo>
                    <a:pt x="45" y="423"/>
                  </a:lnTo>
                  <a:lnTo>
                    <a:pt x="0" y="411"/>
                  </a:lnTo>
                  <a:lnTo>
                    <a:pt x="6" y="378"/>
                  </a:lnTo>
                  <a:lnTo>
                    <a:pt x="48" y="363"/>
                  </a:lnTo>
                  <a:lnTo>
                    <a:pt x="57" y="330"/>
                  </a:lnTo>
                  <a:lnTo>
                    <a:pt x="78" y="282"/>
                  </a:lnTo>
                  <a:lnTo>
                    <a:pt x="96" y="282"/>
                  </a:lnTo>
                  <a:lnTo>
                    <a:pt x="102" y="309"/>
                  </a:lnTo>
                  <a:lnTo>
                    <a:pt x="132" y="306"/>
                  </a:lnTo>
                  <a:lnTo>
                    <a:pt x="135" y="273"/>
                  </a:lnTo>
                  <a:lnTo>
                    <a:pt x="171" y="258"/>
                  </a:lnTo>
                  <a:lnTo>
                    <a:pt x="198" y="279"/>
                  </a:lnTo>
                  <a:lnTo>
                    <a:pt x="195" y="303"/>
                  </a:lnTo>
                  <a:lnTo>
                    <a:pt x="222" y="315"/>
                  </a:lnTo>
                  <a:lnTo>
                    <a:pt x="246" y="336"/>
                  </a:lnTo>
                  <a:lnTo>
                    <a:pt x="294" y="330"/>
                  </a:lnTo>
                  <a:lnTo>
                    <a:pt x="306" y="294"/>
                  </a:lnTo>
                  <a:lnTo>
                    <a:pt x="354" y="285"/>
                  </a:lnTo>
                  <a:lnTo>
                    <a:pt x="354" y="252"/>
                  </a:lnTo>
                  <a:lnTo>
                    <a:pt x="324" y="234"/>
                  </a:lnTo>
                  <a:lnTo>
                    <a:pt x="336" y="195"/>
                  </a:lnTo>
                  <a:lnTo>
                    <a:pt x="372" y="201"/>
                  </a:lnTo>
                  <a:lnTo>
                    <a:pt x="396" y="177"/>
                  </a:lnTo>
                  <a:lnTo>
                    <a:pt x="390" y="156"/>
                  </a:lnTo>
                  <a:lnTo>
                    <a:pt x="408" y="135"/>
                  </a:lnTo>
                  <a:lnTo>
                    <a:pt x="441" y="141"/>
                  </a:lnTo>
                  <a:lnTo>
                    <a:pt x="435" y="99"/>
                  </a:lnTo>
                  <a:lnTo>
                    <a:pt x="417" y="90"/>
                  </a:lnTo>
                  <a:lnTo>
                    <a:pt x="384" y="105"/>
                  </a:lnTo>
                  <a:lnTo>
                    <a:pt x="360" y="78"/>
                  </a:lnTo>
                  <a:lnTo>
                    <a:pt x="372" y="54"/>
                  </a:lnTo>
                  <a:lnTo>
                    <a:pt x="423" y="69"/>
                  </a:lnTo>
                  <a:lnTo>
                    <a:pt x="435" y="42"/>
                  </a:lnTo>
                  <a:lnTo>
                    <a:pt x="420" y="15"/>
                  </a:lnTo>
                  <a:close/>
                </a:path>
              </a:pathLst>
            </a:custGeom>
            <a:gradFill rotWithShape="0">
              <a:gsLst>
                <a:gs pos="0">
                  <a:srgbClr val="005e00"/>
                </a:gs>
                <a:gs pos="100000">
                  <a:srgbClr val="00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57600" y="2482920"/>
              <a:ext cx="505440" cy="23904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327" y="69"/>
                  </a:moveTo>
                  <a:lnTo>
                    <a:pt x="330" y="30"/>
                  </a:lnTo>
                  <a:lnTo>
                    <a:pt x="318" y="15"/>
                  </a:lnTo>
                  <a:lnTo>
                    <a:pt x="264" y="12"/>
                  </a:lnTo>
                  <a:lnTo>
                    <a:pt x="237" y="39"/>
                  </a:lnTo>
                  <a:lnTo>
                    <a:pt x="204" y="24"/>
                  </a:lnTo>
                  <a:lnTo>
                    <a:pt x="198" y="3"/>
                  </a:lnTo>
                  <a:lnTo>
                    <a:pt x="162" y="0"/>
                  </a:lnTo>
                  <a:lnTo>
                    <a:pt x="150" y="27"/>
                  </a:lnTo>
                  <a:lnTo>
                    <a:pt x="129" y="45"/>
                  </a:lnTo>
                  <a:lnTo>
                    <a:pt x="105" y="15"/>
                  </a:lnTo>
                  <a:lnTo>
                    <a:pt x="72" y="24"/>
                  </a:lnTo>
                  <a:lnTo>
                    <a:pt x="45" y="9"/>
                  </a:lnTo>
                  <a:lnTo>
                    <a:pt x="18" y="33"/>
                  </a:lnTo>
                  <a:lnTo>
                    <a:pt x="21" y="51"/>
                  </a:lnTo>
                  <a:lnTo>
                    <a:pt x="0" y="69"/>
                  </a:lnTo>
                  <a:lnTo>
                    <a:pt x="15" y="108"/>
                  </a:lnTo>
                  <a:lnTo>
                    <a:pt x="39" y="120"/>
                  </a:lnTo>
                  <a:lnTo>
                    <a:pt x="87" y="99"/>
                  </a:lnTo>
                  <a:lnTo>
                    <a:pt x="114" y="120"/>
                  </a:lnTo>
                  <a:lnTo>
                    <a:pt x="117" y="144"/>
                  </a:lnTo>
                  <a:lnTo>
                    <a:pt x="174" y="156"/>
                  </a:lnTo>
                  <a:lnTo>
                    <a:pt x="204" y="102"/>
                  </a:lnTo>
                  <a:lnTo>
                    <a:pt x="267" y="93"/>
                  </a:lnTo>
                  <a:lnTo>
                    <a:pt x="291" y="57"/>
                  </a:lnTo>
                  <a:lnTo>
                    <a:pt x="327" y="69"/>
                  </a:lnTo>
                  <a:close/>
                </a:path>
              </a:pathLst>
            </a:custGeom>
            <a:gradFill rotWithShape="0">
              <a:gsLst>
                <a:gs pos="0">
                  <a:srgbClr val="005e00"/>
                </a:gs>
                <a:gs pos="100000">
                  <a:srgbClr val="00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49760" y="2726640"/>
              <a:ext cx="1388520" cy="1208880"/>
            </a:xfrm>
            <a:custGeom>
              <a:avLst/>
              <a:gdLst/>
              <a:ahLst/>
              <a:rect l="l" t="t" r="r" b="b"/>
              <a:pathLst>
                <a:path w="906" h="789">
                  <a:moveTo>
                    <a:pt x="177" y="21"/>
                  </a:moveTo>
                  <a:lnTo>
                    <a:pt x="249" y="0"/>
                  </a:lnTo>
                  <a:lnTo>
                    <a:pt x="270" y="36"/>
                  </a:lnTo>
                  <a:lnTo>
                    <a:pt x="318" y="48"/>
                  </a:lnTo>
                  <a:lnTo>
                    <a:pt x="315" y="75"/>
                  </a:lnTo>
                  <a:lnTo>
                    <a:pt x="336" y="96"/>
                  </a:lnTo>
                  <a:lnTo>
                    <a:pt x="357" y="66"/>
                  </a:lnTo>
                  <a:lnTo>
                    <a:pt x="399" y="120"/>
                  </a:lnTo>
                  <a:lnTo>
                    <a:pt x="465" y="138"/>
                  </a:lnTo>
                  <a:lnTo>
                    <a:pt x="525" y="126"/>
                  </a:lnTo>
                  <a:lnTo>
                    <a:pt x="558" y="111"/>
                  </a:lnTo>
                  <a:lnTo>
                    <a:pt x="642" y="111"/>
                  </a:lnTo>
                  <a:lnTo>
                    <a:pt x="705" y="138"/>
                  </a:lnTo>
                  <a:lnTo>
                    <a:pt x="729" y="180"/>
                  </a:lnTo>
                  <a:lnTo>
                    <a:pt x="771" y="207"/>
                  </a:lnTo>
                  <a:lnTo>
                    <a:pt x="780" y="243"/>
                  </a:lnTo>
                  <a:lnTo>
                    <a:pt x="741" y="264"/>
                  </a:lnTo>
                  <a:lnTo>
                    <a:pt x="705" y="243"/>
                  </a:lnTo>
                  <a:lnTo>
                    <a:pt x="687" y="279"/>
                  </a:lnTo>
                  <a:lnTo>
                    <a:pt x="690" y="324"/>
                  </a:lnTo>
                  <a:lnTo>
                    <a:pt x="726" y="345"/>
                  </a:lnTo>
                  <a:lnTo>
                    <a:pt x="744" y="372"/>
                  </a:lnTo>
                  <a:lnTo>
                    <a:pt x="741" y="426"/>
                  </a:lnTo>
                  <a:lnTo>
                    <a:pt x="768" y="456"/>
                  </a:lnTo>
                  <a:lnTo>
                    <a:pt x="816" y="444"/>
                  </a:lnTo>
                  <a:lnTo>
                    <a:pt x="834" y="471"/>
                  </a:lnTo>
                  <a:lnTo>
                    <a:pt x="825" y="504"/>
                  </a:lnTo>
                  <a:lnTo>
                    <a:pt x="837" y="537"/>
                  </a:lnTo>
                  <a:lnTo>
                    <a:pt x="810" y="582"/>
                  </a:lnTo>
                  <a:lnTo>
                    <a:pt x="816" y="618"/>
                  </a:lnTo>
                  <a:lnTo>
                    <a:pt x="858" y="612"/>
                  </a:lnTo>
                  <a:lnTo>
                    <a:pt x="879" y="636"/>
                  </a:lnTo>
                  <a:lnTo>
                    <a:pt x="867" y="678"/>
                  </a:lnTo>
                  <a:lnTo>
                    <a:pt x="906" y="711"/>
                  </a:lnTo>
                  <a:lnTo>
                    <a:pt x="897" y="759"/>
                  </a:lnTo>
                  <a:lnTo>
                    <a:pt x="840" y="789"/>
                  </a:lnTo>
                  <a:lnTo>
                    <a:pt x="780" y="774"/>
                  </a:lnTo>
                  <a:lnTo>
                    <a:pt x="741" y="747"/>
                  </a:lnTo>
                  <a:lnTo>
                    <a:pt x="720" y="681"/>
                  </a:lnTo>
                  <a:lnTo>
                    <a:pt x="693" y="672"/>
                  </a:lnTo>
                  <a:lnTo>
                    <a:pt x="660" y="717"/>
                  </a:lnTo>
                  <a:lnTo>
                    <a:pt x="609" y="723"/>
                  </a:lnTo>
                  <a:lnTo>
                    <a:pt x="591" y="753"/>
                  </a:lnTo>
                  <a:lnTo>
                    <a:pt x="564" y="738"/>
                  </a:lnTo>
                  <a:lnTo>
                    <a:pt x="561" y="696"/>
                  </a:lnTo>
                  <a:lnTo>
                    <a:pt x="546" y="666"/>
                  </a:lnTo>
                  <a:lnTo>
                    <a:pt x="534" y="645"/>
                  </a:lnTo>
                  <a:lnTo>
                    <a:pt x="489" y="645"/>
                  </a:lnTo>
                  <a:lnTo>
                    <a:pt x="468" y="669"/>
                  </a:lnTo>
                  <a:lnTo>
                    <a:pt x="462" y="711"/>
                  </a:lnTo>
                  <a:lnTo>
                    <a:pt x="429" y="738"/>
                  </a:lnTo>
                  <a:lnTo>
                    <a:pt x="396" y="747"/>
                  </a:lnTo>
                  <a:lnTo>
                    <a:pt x="363" y="780"/>
                  </a:lnTo>
                  <a:lnTo>
                    <a:pt x="321" y="783"/>
                  </a:lnTo>
                  <a:lnTo>
                    <a:pt x="291" y="762"/>
                  </a:lnTo>
                  <a:lnTo>
                    <a:pt x="327" y="750"/>
                  </a:lnTo>
                  <a:lnTo>
                    <a:pt x="318" y="711"/>
                  </a:lnTo>
                  <a:lnTo>
                    <a:pt x="276" y="693"/>
                  </a:lnTo>
                  <a:lnTo>
                    <a:pt x="258" y="651"/>
                  </a:lnTo>
                  <a:lnTo>
                    <a:pt x="225" y="642"/>
                  </a:lnTo>
                  <a:lnTo>
                    <a:pt x="237" y="609"/>
                  </a:lnTo>
                  <a:lnTo>
                    <a:pt x="255" y="597"/>
                  </a:lnTo>
                  <a:lnTo>
                    <a:pt x="273" y="561"/>
                  </a:lnTo>
                  <a:lnTo>
                    <a:pt x="237" y="546"/>
                  </a:lnTo>
                  <a:lnTo>
                    <a:pt x="237" y="507"/>
                  </a:lnTo>
                  <a:lnTo>
                    <a:pt x="216" y="492"/>
                  </a:lnTo>
                  <a:lnTo>
                    <a:pt x="186" y="507"/>
                  </a:lnTo>
                  <a:lnTo>
                    <a:pt x="159" y="498"/>
                  </a:lnTo>
                  <a:lnTo>
                    <a:pt x="120" y="477"/>
                  </a:lnTo>
                  <a:lnTo>
                    <a:pt x="111" y="432"/>
                  </a:lnTo>
                  <a:lnTo>
                    <a:pt x="138" y="417"/>
                  </a:lnTo>
                  <a:lnTo>
                    <a:pt x="132" y="372"/>
                  </a:lnTo>
                  <a:lnTo>
                    <a:pt x="120" y="336"/>
                  </a:lnTo>
                  <a:lnTo>
                    <a:pt x="102" y="303"/>
                  </a:lnTo>
                  <a:lnTo>
                    <a:pt x="117" y="288"/>
                  </a:lnTo>
                  <a:lnTo>
                    <a:pt x="87" y="276"/>
                  </a:lnTo>
                  <a:lnTo>
                    <a:pt x="69" y="324"/>
                  </a:lnTo>
                  <a:lnTo>
                    <a:pt x="39" y="321"/>
                  </a:lnTo>
                  <a:lnTo>
                    <a:pt x="6" y="273"/>
                  </a:lnTo>
                  <a:lnTo>
                    <a:pt x="0" y="234"/>
                  </a:lnTo>
                  <a:lnTo>
                    <a:pt x="30" y="234"/>
                  </a:lnTo>
                  <a:lnTo>
                    <a:pt x="39" y="174"/>
                  </a:lnTo>
                  <a:lnTo>
                    <a:pt x="27" y="144"/>
                  </a:lnTo>
                  <a:lnTo>
                    <a:pt x="108" y="90"/>
                  </a:lnTo>
                  <a:lnTo>
                    <a:pt x="141" y="51"/>
                  </a:lnTo>
                  <a:lnTo>
                    <a:pt x="177" y="60"/>
                  </a:lnTo>
                  <a:lnTo>
                    <a:pt x="177" y="21"/>
                  </a:lnTo>
                  <a:close/>
                </a:path>
              </a:pathLst>
            </a:custGeom>
            <a:gradFill rotWithShape="0">
              <a:gsLst>
                <a:gs pos="0">
                  <a:srgbClr val="002f75"/>
                </a:gs>
                <a:gs pos="100000">
                  <a:srgbClr val="00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98080" y="2520000"/>
              <a:ext cx="1144800" cy="1388160"/>
            </a:xfrm>
            <a:custGeom>
              <a:avLst/>
              <a:gdLst/>
              <a:ahLst/>
              <a:rect l="l" t="t" r="r" b="b"/>
              <a:pathLst>
                <a:path w="747" h="906">
                  <a:moveTo>
                    <a:pt x="270" y="75"/>
                  </a:moveTo>
                  <a:lnTo>
                    <a:pt x="327" y="108"/>
                  </a:lnTo>
                  <a:lnTo>
                    <a:pt x="372" y="90"/>
                  </a:lnTo>
                  <a:lnTo>
                    <a:pt x="384" y="63"/>
                  </a:lnTo>
                  <a:lnTo>
                    <a:pt x="384" y="24"/>
                  </a:lnTo>
                  <a:lnTo>
                    <a:pt x="408" y="0"/>
                  </a:lnTo>
                  <a:lnTo>
                    <a:pt x="438" y="30"/>
                  </a:lnTo>
                  <a:lnTo>
                    <a:pt x="429" y="57"/>
                  </a:lnTo>
                  <a:lnTo>
                    <a:pt x="447" y="75"/>
                  </a:lnTo>
                  <a:lnTo>
                    <a:pt x="495" y="51"/>
                  </a:lnTo>
                  <a:lnTo>
                    <a:pt x="498" y="24"/>
                  </a:lnTo>
                  <a:lnTo>
                    <a:pt x="525" y="21"/>
                  </a:lnTo>
                  <a:lnTo>
                    <a:pt x="561" y="42"/>
                  </a:lnTo>
                  <a:lnTo>
                    <a:pt x="606" y="114"/>
                  </a:lnTo>
                  <a:lnTo>
                    <a:pt x="651" y="105"/>
                  </a:lnTo>
                  <a:lnTo>
                    <a:pt x="681" y="138"/>
                  </a:lnTo>
                  <a:lnTo>
                    <a:pt x="735" y="156"/>
                  </a:lnTo>
                  <a:lnTo>
                    <a:pt x="747" y="171"/>
                  </a:lnTo>
                  <a:lnTo>
                    <a:pt x="708" y="189"/>
                  </a:lnTo>
                  <a:lnTo>
                    <a:pt x="681" y="213"/>
                  </a:lnTo>
                  <a:lnTo>
                    <a:pt x="684" y="252"/>
                  </a:lnTo>
                  <a:lnTo>
                    <a:pt x="666" y="276"/>
                  </a:lnTo>
                  <a:lnTo>
                    <a:pt x="657" y="318"/>
                  </a:lnTo>
                  <a:lnTo>
                    <a:pt x="642" y="345"/>
                  </a:lnTo>
                  <a:lnTo>
                    <a:pt x="603" y="345"/>
                  </a:lnTo>
                  <a:lnTo>
                    <a:pt x="579" y="309"/>
                  </a:lnTo>
                  <a:lnTo>
                    <a:pt x="558" y="291"/>
                  </a:lnTo>
                  <a:lnTo>
                    <a:pt x="537" y="285"/>
                  </a:lnTo>
                  <a:lnTo>
                    <a:pt x="516" y="324"/>
                  </a:lnTo>
                  <a:lnTo>
                    <a:pt x="498" y="345"/>
                  </a:lnTo>
                  <a:lnTo>
                    <a:pt x="468" y="345"/>
                  </a:lnTo>
                  <a:lnTo>
                    <a:pt x="459" y="366"/>
                  </a:lnTo>
                  <a:lnTo>
                    <a:pt x="417" y="390"/>
                  </a:lnTo>
                  <a:lnTo>
                    <a:pt x="405" y="423"/>
                  </a:lnTo>
                  <a:lnTo>
                    <a:pt x="375" y="429"/>
                  </a:lnTo>
                  <a:lnTo>
                    <a:pt x="366" y="465"/>
                  </a:lnTo>
                  <a:lnTo>
                    <a:pt x="336" y="471"/>
                  </a:lnTo>
                  <a:lnTo>
                    <a:pt x="330" y="501"/>
                  </a:lnTo>
                  <a:lnTo>
                    <a:pt x="360" y="522"/>
                  </a:lnTo>
                  <a:lnTo>
                    <a:pt x="369" y="552"/>
                  </a:lnTo>
                  <a:lnTo>
                    <a:pt x="366" y="603"/>
                  </a:lnTo>
                  <a:lnTo>
                    <a:pt x="345" y="609"/>
                  </a:lnTo>
                  <a:lnTo>
                    <a:pt x="324" y="642"/>
                  </a:lnTo>
                  <a:lnTo>
                    <a:pt x="339" y="672"/>
                  </a:lnTo>
                  <a:lnTo>
                    <a:pt x="333" y="699"/>
                  </a:lnTo>
                  <a:lnTo>
                    <a:pt x="360" y="732"/>
                  </a:lnTo>
                  <a:lnTo>
                    <a:pt x="387" y="705"/>
                  </a:lnTo>
                  <a:lnTo>
                    <a:pt x="414" y="726"/>
                  </a:lnTo>
                  <a:lnTo>
                    <a:pt x="441" y="726"/>
                  </a:lnTo>
                  <a:lnTo>
                    <a:pt x="453" y="744"/>
                  </a:lnTo>
                  <a:lnTo>
                    <a:pt x="447" y="768"/>
                  </a:lnTo>
                  <a:lnTo>
                    <a:pt x="429" y="762"/>
                  </a:lnTo>
                  <a:lnTo>
                    <a:pt x="405" y="786"/>
                  </a:lnTo>
                  <a:lnTo>
                    <a:pt x="411" y="825"/>
                  </a:lnTo>
                  <a:lnTo>
                    <a:pt x="375" y="861"/>
                  </a:lnTo>
                  <a:lnTo>
                    <a:pt x="372" y="879"/>
                  </a:lnTo>
                  <a:lnTo>
                    <a:pt x="345" y="906"/>
                  </a:lnTo>
                  <a:lnTo>
                    <a:pt x="327" y="891"/>
                  </a:lnTo>
                  <a:lnTo>
                    <a:pt x="285" y="903"/>
                  </a:lnTo>
                  <a:lnTo>
                    <a:pt x="246" y="894"/>
                  </a:lnTo>
                  <a:lnTo>
                    <a:pt x="240" y="861"/>
                  </a:lnTo>
                  <a:lnTo>
                    <a:pt x="219" y="849"/>
                  </a:lnTo>
                  <a:lnTo>
                    <a:pt x="183" y="807"/>
                  </a:lnTo>
                  <a:lnTo>
                    <a:pt x="186" y="768"/>
                  </a:lnTo>
                  <a:lnTo>
                    <a:pt x="168" y="744"/>
                  </a:lnTo>
                  <a:lnTo>
                    <a:pt x="129" y="753"/>
                  </a:lnTo>
                  <a:lnTo>
                    <a:pt x="126" y="717"/>
                  </a:lnTo>
                  <a:lnTo>
                    <a:pt x="150" y="672"/>
                  </a:lnTo>
                  <a:lnTo>
                    <a:pt x="141" y="636"/>
                  </a:lnTo>
                  <a:lnTo>
                    <a:pt x="144" y="600"/>
                  </a:lnTo>
                  <a:lnTo>
                    <a:pt x="135" y="579"/>
                  </a:lnTo>
                  <a:lnTo>
                    <a:pt x="84" y="591"/>
                  </a:lnTo>
                  <a:lnTo>
                    <a:pt x="54" y="558"/>
                  </a:lnTo>
                  <a:lnTo>
                    <a:pt x="57" y="498"/>
                  </a:lnTo>
                  <a:lnTo>
                    <a:pt x="42" y="477"/>
                  </a:lnTo>
                  <a:lnTo>
                    <a:pt x="0" y="453"/>
                  </a:lnTo>
                  <a:lnTo>
                    <a:pt x="3" y="414"/>
                  </a:lnTo>
                  <a:lnTo>
                    <a:pt x="15" y="366"/>
                  </a:lnTo>
                  <a:lnTo>
                    <a:pt x="54" y="399"/>
                  </a:lnTo>
                  <a:lnTo>
                    <a:pt x="99" y="375"/>
                  </a:lnTo>
                  <a:lnTo>
                    <a:pt x="90" y="345"/>
                  </a:lnTo>
                  <a:lnTo>
                    <a:pt x="42" y="315"/>
                  </a:lnTo>
                  <a:lnTo>
                    <a:pt x="21" y="270"/>
                  </a:lnTo>
                  <a:lnTo>
                    <a:pt x="42" y="240"/>
                  </a:lnTo>
                  <a:lnTo>
                    <a:pt x="99" y="210"/>
                  </a:lnTo>
                  <a:lnTo>
                    <a:pt x="141" y="150"/>
                  </a:lnTo>
                  <a:lnTo>
                    <a:pt x="207" y="144"/>
                  </a:lnTo>
                  <a:lnTo>
                    <a:pt x="270" y="75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94880" y="2621160"/>
              <a:ext cx="1535400" cy="1737720"/>
            </a:xfrm>
            <a:custGeom>
              <a:avLst/>
              <a:gdLst/>
              <a:ahLst/>
              <a:rect l="l" t="t" r="r" b="b"/>
              <a:pathLst>
                <a:path w="1002" h="1134">
                  <a:moveTo>
                    <a:pt x="855" y="0"/>
                  </a:moveTo>
                  <a:lnTo>
                    <a:pt x="903" y="60"/>
                  </a:lnTo>
                  <a:lnTo>
                    <a:pt x="900" y="129"/>
                  </a:lnTo>
                  <a:lnTo>
                    <a:pt x="894" y="180"/>
                  </a:lnTo>
                  <a:lnTo>
                    <a:pt x="930" y="228"/>
                  </a:lnTo>
                  <a:lnTo>
                    <a:pt x="945" y="285"/>
                  </a:lnTo>
                  <a:lnTo>
                    <a:pt x="948" y="333"/>
                  </a:lnTo>
                  <a:lnTo>
                    <a:pt x="918" y="363"/>
                  </a:lnTo>
                  <a:lnTo>
                    <a:pt x="918" y="405"/>
                  </a:lnTo>
                  <a:lnTo>
                    <a:pt x="912" y="435"/>
                  </a:lnTo>
                  <a:lnTo>
                    <a:pt x="918" y="495"/>
                  </a:lnTo>
                  <a:lnTo>
                    <a:pt x="909" y="573"/>
                  </a:lnTo>
                  <a:lnTo>
                    <a:pt x="894" y="597"/>
                  </a:lnTo>
                  <a:lnTo>
                    <a:pt x="891" y="699"/>
                  </a:lnTo>
                  <a:lnTo>
                    <a:pt x="915" y="732"/>
                  </a:lnTo>
                  <a:lnTo>
                    <a:pt x="912" y="771"/>
                  </a:lnTo>
                  <a:lnTo>
                    <a:pt x="900" y="798"/>
                  </a:lnTo>
                  <a:lnTo>
                    <a:pt x="912" y="822"/>
                  </a:lnTo>
                  <a:lnTo>
                    <a:pt x="942" y="819"/>
                  </a:lnTo>
                  <a:lnTo>
                    <a:pt x="954" y="789"/>
                  </a:lnTo>
                  <a:lnTo>
                    <a:pt x="984" y="759"/>
                  </a:lnTo>
                  <a:lnTo>
                    <a:pt x="1002" y="780"/>
                  </a:lnTo>
                  <a:lnTo>
                    <a:pt x="984" y="822"/>
                  </a:lnTo>
                  <a:lnTo>
                    <a:pt x="996" y="888"/>
                  </a:lnTo>
                  <a:lnTo>
                    <a:pt x="972" y="957"/>
                  </a:lnTo>
                  <a:lnTo>
                    <a:pt x="981" y="1005"/>
                  </a:lnTo>
                  <a:lnTo>
                    <a:pt x="960" y="1035"/>
                  </a:lnTo>
                  <a:lnTo>
                    <a:pt x="957" y="1068"/>
                  </a:lnTo>
                  <a:lnTo>
                    <a:pt x="930" y="1080"/>
                  </a:lnTo>
                  <a:lnTo>
                    <a:pt x="909" y="1050"/>
                  </a:lnTo>
                  <a:lnTo>
                    <a:pt x="879" y="1059"/>
                  </a:lnTo>
                  <a:lnTo>
                    <a:pt x="834" y="1077"/>
                  </a:lnTo>
                  <a:lnTo>
                    <a:pt x="801" y="1059"/>
                  </a:lnTo>
                  <a:lnTo>
                    <a:pt x="795" y="1032"/>
                  </a:lnTo>
                  <a:lnTo>
                    <a:pt x="759" y="1017"/>
                  </a:lnTo>
                  <a:lnTo>
                    <a:pt x="750" y="1056"/>
                  </a:lnTo>
                  <a:lnTo>
                    <a:pt x="726" y="1053"/>
                  </a:lnTo>
                  <a:lnTo>
                    <a:pt x="702" y="1089"/>
                  </a:lnTo>
                  <a:lnTo>
                    <a:pt x="681" y="1092"/>
                  </a:lnTo>
                  <a:lnTo>
                    <a:pt x="642" y="1089"/>
                  </a:lnTo>
                  <a:lnTo>
                    <a:pt x="579" y="1134"/>
                  </a:lnTo>
                  <a:lnTo>
                    <a:pt x="534" y="1131"/>
                  </a:lnTo>
                  <a:lnTo>
                    <a:pt x="447" y="1122"/>
                  </a:lnTo>
                  <a:lnTo>
                    <a:pt x="405" y="1089"/>
                  </a:lnTo>
                  <a:lnTo>
                    <a:pt x="336" y="1101"/>
                  </a:lnTo>
                  <a:lnTo>
                    <a:pt x="300" y="1098"/>
                  </a:lnTo>
                  <a:lnTo>
                    <a:pt x="297" y="1116"/>
                  </a:lnTo>
                  <a:lnTo>
                    <a:pt x="258" y="1110"/>
                  </a:lnTo>
                  <a:lnTo>
                    <a:pt x="240" y="1086"/>
                  </a:lnTo>
                  <a:lnTo>
                    <a:pt x="195" y="1083"/>
                  </a:lnTo>
                  <a:lnTo>
                    <a:pt x="195" y="1059"/>
                  </a:lnTo>
                  <a:lnTo>
                    <a:pt x="222" y="1026"/>
                  </a:lnTo>
                  <a:lnTo>
                    <a:pt x="198" y="984"/>
                  </a:lnTo>
                  <a:lnTo>
                    <a:pt x="171" y="951"/>
                  </a:lnTo>
                  <a:lnTo>
                    <a:pt x="117" y="945"/>
                  </a:lnTo>
                  <a:lnTo>
                    <a:pt x="75" y="945"/>
                  </a:lnTo>
                  <a:lnTo>
                    <a:pt x="69" y="906"/>
                  </a:lnTo>
                  <a:lnTo>
                    <a:pt x="6" y="906"/>
                  </a:lnTo>
                  <a:lnTo>
                    <a:pt x="45" y="870"/>
                  </a:lnTo>
                  <a:lnTo>
                    <a:pt x="12" y="834"/>
                  </a:lnTo>
                  <a:lnTo>
                    <a:pt x="42" y="819"/>
                  </a:lnTo>
                  <a:lnTo>
                    <a:pt x="48" y="792"/>
                  </a:lnTo>
                  <a:lnTo>
                    <a:pt x="81" y="759"/>
                  </a:lnTo>
                  <a:lnTo>
                    <a:pt x="78" y="726"/>
                  </a:lnTo>
                  <a:lnTo>
                    <a:pt x="99" y="690"/>
                  </a:lnTo>
                  <a:lnTo>
                    <a:pt x="126" y="702"/>
                  </a:lnTo>
                  <a:lnTo>
                    <a:pt x="132" y="675"/>
                  </a:lnTo>
                  <a:lnTo>
                    <a:pt x="117" y="663"/>
                  </a:lnTo>
                  <a:lnTo>
                    <a:pt x="90" y="663"/>
                  </a:lnTo>
                  <a:lnTo>
                    <a:pt x="66" y="636"/>
                  </a:lnTo>
                  <a:lnTo>
                    <a:pt x="30" y="666"/>
                  </a:lnTo>
                  <a:lnTo>
                    <a:pt x="9" y="627"/>
                  </a:lnTo>
                  <a:lnTo>
                    <a:pt x="15" y="603"/>
                  </a:lnTo>
                  <a:lnTo>
                    <a:pt x="0" y="576"/>
                  </a:lnTo>
                  <a:lnTo>
                    <a:pt x="18" y="540"/>
                  </a:lnTo>
                  <a:lnTo>
                    <a:pt x="39" y="534"/>
                  </a:lnTo>
                  <a:lnTo>
                    <a:pt x="39" y="477"/>
                  </a:lnTo>
                  <a:lnTo>
                    <a:pt x="30" y="447"/>
                  </a:lnTo>
                  <a:lnTo>
                    <a:pt x="3" y="435"/>
                  </a:lnTo>
                  <a:lnTo>
                    <a:pt x="12" y="396"/>
                  </a:lnTo>
                  <a:lnTo>
                    <a:pt x="45" y="396"/>
                  </a:lnTo>
                  <a:lnTo>
                    <a:pt x="54" y="363"/>
                  </a:lnTo>
                  <a:lnTo>
                    <a:pt x="81" y="357"/>
                  </a:lnTo>
                  <a:lnTo>
                    <a:pt x="93" y="321"/>
                  </a:lnTo>
                  <a:lnTo>
                    <a:pt x="132" y="303"/>
                  </a:lnTo>
                  <a:lnTo>
                    <a:pt x="141" y="279"/>
                  </a:lnTo>
                  <a:lnTo>
                    <a:pt x="171" y="276"/>
                  </a:lnTo>
                  <a:lnTo>
                    <a:pt x="189" y="261"/>
                  </a:lnTo>
                  <a:lnTo>
                    <a:pt x="213" y="219"/>
                  </a:lnTo>
                  <a:lnTo>
                    <a:pt x="231" y="225"/>
                  </a:lnTo>
                  <a:lnTo>
                    <a:pt x="255" y="243"/>
                  </a:lnTo>
                  <a:lnTo>
                    <a:pt x="285" y="276"/>
                  </a:lnTo>
                  <a:lnTo>
                    <a:pt x="318" y="279"/>
                  </a:lnTo>
                  <a:lnTo>
                    <a:pt x="336" y="246"/>
                  </a:lnTo>
                  <a:lnTo>
                    <a:pt x="339" y="213"/>
                  </a:lnTo>
                  <a:lnTo>
                    <a:pt x="357" y="186"/>
                  </a:lnTo>
                  <a:lnTo>
                    <a:pt x="351" y="141"/>
                  </a:lnTo>
                  <a:lnTo>
                    <a:pt x="420" y="96"/>
                  </a:lnTo>
                  <a:lnTo>
                    <a:pt x="501" y="102"/>
                  </a:lnTo>
                  <a:lnTo>
                    <a:pt x="543" y="78"/>
                  </a:lnTo>
                  <a:lnTo>
                    <a:pt x="588" y="72"/>
                  </a:lnTo>
                  <a:lnTo>
                    <a:pt x="615" y="96"/>
                  </a:lnTo>
                  <a:lnTo>
                    <a:pt x="660" y="78"/>
                  </a:lnTo>
                  <a:lnTo>
                    <a:pt x="738" y="66"/>
                  </a:lnTo>
                  <a:lnTo>
                    <a:pt x="792" y="84"/>
                  </a:lnTo>
                  <a:lnTo>
                    <a:pt x="825" y="30"/>
                  </a:lnTo>
                  <a:lnTo>
                    <a:pt x="837" y="9"/>
                  </a:lnTo>
                  <a:lnTo>
                    <a:pt x="85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005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83200" y="4005000"/>
              <a:ext cx="1674000" cy="1347120"/>
            </a:xfrm>
            <a:custGeom>
              <a:avLst/>
              <a:gdLst/>
              <a:ahLst/>
              <a:rect l="l" t="t" r="r" b="b"/>
              <a:pathLst>
                <a:path w="1092" h="879">
                  <a:moveTo>
                    <a:pt x="144" y="3"/>
                  </a:moveTo>
                  <a:lnTo>
                    <a:pt x="126" y="42"/>
                  </a:lnTo>
                  <a:lnTo>
                    <a:pt x="90" y="51"/>
                  </a:lnTo>
                  <a:lnTo>
                    <a:pt x="51" y="75"/>
                  </a:lnTo>
                  <a:lnTo>
                    <a:pt x="57" y="108"/>
                  </a:lnTo>
                  <a:lnTo>
                    <a:pt x="24" y="141"/>
                  </a:lnTo>
                  <a:lnTo>
                    <a:pt x="27" y="174"/>
                  </a:lnTo>
                  <a:lnTo>
                    <a:pt x="6" y="210"/>
                  </a:lnTo>
                  <a:lnTo>
                    <a:pt x="9" y="267"/>
                  </a:lnTo>
                  <a:lnTo>
                    <a:pt x="15" y="309"/>
                  </a:lnTo>
                  <a:lnTo>
                    <a:pt x="51" y="300"/>
                  </a:lnTo>
                  <a:lnTo>
                    <a:pt x="57" y="348"/>
                  </a:lnTo>
                  <a:lnTo>
                    <a:pt x="30" y="360"/>
                  </a:lnTo>
                  <a:lnTo>
                    <a:pt x="24" y="402"/>
                  </a:lnTo>
                  <a:lnTo>
                    <a:pt x="0" y="417"/>
                  </a:lnTo>
                  <a:lnTo>
                    <a:pt x="15" y="465"/>
                  </a:lnTo>
                  <a:lnTo>
                    <a:pt x="45" y="495"/>
                  </a:lnTo>
                  <a:lnTo>
                    <a:pt x="21" y="534"/>
                  </a:lnTo>
                  <a:lnTo>
                    <a:pt x="36" y="558"/>
                  </a:lnTo>
                  <a:lnTo>
                    <a:pt x="75" y="567"/>
                  </a:lnTo>
                  <a:lnTo>
                    <a:pt x="114" y="615"/>
                  </a:lnTo>
                  <a:lnTo>
                    <a:pt x="111" y="666"/>
                  </a:lnTo>
                  <a:lnTo>
                    <a:pt x="132" y="705"/>
                  </a:lnTo>
                  <a:lnTo>
                    <a:pt x="135" y="744"/>
                  </a:lnTo>
                  <a:lnTo>
                    <a:pt x="156" y="783"/>
                  </a:lnTo>
                  <a:lnTo>
                    <a:pt x="135" y="837"/>
                  </a:lnTo>
                  <a:lnTo>
                    <a:pt x="156" y="840"/>
                  </a:lnTo>
                  <a:lnTo>
                    <a:pt x="195" y="828"/>
                  </a:lnTo>
                  <a:lnTo>
                    <a:pt x="210" y="852"/>
                  </a:lnTo>
                  <a:lnTo>
                    <a:pt x="270" y="879"/>
                  </a:lnTo>
                  <a:lnTo>
                    <a:pt x="297" y="873"/>
                  </a:lnTo>
                  <a:lnTo>
                    <a:pt x="306" y="855"/>
                  </a:lnTo>
                  <a:lnTo>
                    <a:pt x="276" y="828"/>
                  </a:lnTo>
                  <a:lnTo>
                    <a:pt x="279" y="768"/>
                  </a:lnTo>
                  <a:lnTo>
                    <a:pt x="309" y="753"/>
                  </a:lnTo>
                  <a:lnTo>
                    <a:pt x="333" y="780"/>
                  </a:lnTo>
                  <a:lnTo>
                    <a:pt x="381" y="777"/>
                  </a:lnTo>
                  <a:lnTo>
                    <a:pt x="405" y="753"/>
                  </a:lnTo>
                  <a:lnTo>
                    <a:pt x="435" y="765"/>
                  </a:lnTo>
                  <a:lnTo>
                    <a:pt x="444" y="807"/>
                  </a:lnTo>
                  <a:lnTo>
                    <a:pt x="477" y="831"/>
                  </a:lnTo>
                  <a:lnTo>
                    <a:pt x="513" y="828"/>
                  </a:lnTo>
                  <a:lnTo>
                    <a:pt x="540" y="855"/>
                  </a:lnTo>
                  <a:lnTo>
                    <a:pt x="537" y="873"/>
                  </a:lnTo>
                  <a:lnTo>
                    <a:pt x="594" y="879"/>
                  </a:lnTo>
                  <a:lnTo>
                    <a:pt x="618" y="834"/>
                  </a:lnTo>
                  <a:lnTo>
                    <a:pt x="657" y="786"/>
                  </a:lnTo>
                  <a:lnTo>
                    <a:pt x="687" y="780"/>
                  </a:lnTo>
                  <a:lnTo>
                    <a:pt x="699" y="708"/>
                  </a:lnTo>
                  <a:lnTo>
                    <a:pt x="675" y="678"/>
                  </a:lnTo>
                  <a:lnTo>
                    <a:pt x="684" y="642"/>
                  </a:lnTo>
                  <a:lnTo>
                    <a:pt x="708" y="630"/>
                  </a:lnTo>
                  <a:lnTo>
                    <a:pt x="726" y="642"/>
                  </a:lnTo>
                  <a:lnTo>
                    <a:pt x="756" y="630"/>
                  </a:lnTo>
                  <a:lnTo>
                    <a:pt x="762" y="612"/>
                  </a:lnTo>
                  <a:lnTo>
                    <a:pt x="807" y="609"/>
                  </a:lnTo>
                  <a:lnTo>
                    <a:pt x="828" y="585"/>
                  </a:lnTo>
                  <a:lnTo>
                    <a:pt x="885" y="558"/>
                  </a:lnTo>
                  <a:lnTo>
                    <a:pt x="903" y="534"/>
                  </a:lnTo>
                  <a:lnTo>
                    <a:pt x="954" y="528"/>
                  </a:lnTo>
                  <a:lnTo>
                    <a:pt x="960" y="471"/>
                  </a:lnTo>
                  <a:lnTo>
                    <a:pt x="978" y="417"/>
                  </a:lnTo>
                  <a:lnTo>
                    <a:pt x="1038" y="375"/>
                  </a:lnTo>
                  <a:lnTo>
                    <a:pt x="1029" y="318"/>
                  </a:lnTo>
                  <a:lnTo>
                    <a:pt x="1071" y="279"/>
                  </a:lnTo>
                  <a:lnTo>
                    <a:pt x="1080" y="243"/>
                  </a:lnTo>
                  <a:lnTo>
                    <a:pt x="1092" y="171"/>
                  </a:lnTo>
                  <a:lnTo>
                    <a:pt x="1065" y="177"/>
                  </a:lnTo>
                  <a:lnTo>
                    <a:pt x="1056" y="147"/>
                  </a:lnTo>
                  <a:lnTo>
                    <a:pt x="978" y="165"/>
                  </a:lnTo>
                  <a:lnTo>
                    <a:pt x="939" y="159"/>
                  </a:lnTo>
                  <a:lnTo>
                    <a:pt x="936" y="132"/>
                  </a:lnTo>
                  <a:lnTo>
                    <a:pt x="897" y="117"/>
                  </a:lnTo>
                  <a:lnTo>
                    <a:pt x="885" y="150"/>
                  </a:lnTo>
                  <a:lnTo>
                    <a:pt x="867" y="150"/>
                  </a:lnTo>
                  <a:lnTo>
                    <a:pt x="831" y="192"/>
                  </a:lnTo>
                  <a:lnTo>
                    <a:pt x="777" y="183"/>
                  </a:lnTo>
                  <a:lnTo>
                    <a:pt x="708" y="231"/>
                  </a:lnTo>
                  <a:lnTo>
                    <a:pt x="588" y="219"/>
                  </a:lnTo>
                  <a:lnTo>
                    <a:pt x="540" y="186"/>
                  </a:lnTo>
                  <a:lnTo>
                    <a:pt x="471" y="201"/>
                  </a:lnTo>
                  <a:lnTo>
                    <a:pt x="438" y="189"/>
                  </a:lnTo>
                  <a:lnTo>
                    <a:pt x="432" y="213"/>
                  </a:lnTo>
                  <a:lnTo>
                    <a:pt x="393" y="204"/>
                  </a:lnTo>
                  <a:lnTo>
                    <a:pt x="378" y="183"/>
                  </a:lnTo>
                  <a:lnTo>
                    <a:pt x="330" y="174"/>
                  </a:lnTo>
                  <a:lnTo>
                    <a:pt x="336" y="153"/>
                  </a:lnTo>
                  <a:lnTo>
                    <a:pt x="360" y="123"/>
                  </a:lnTo>
                  <a:lnTo>
                    <a:pt x="339" y="72"/>
                  </a:lnTo>
                  <a:lnTo>
                    <a:pt x="309" y="48"/>
                  </a:lnTo>
                  <a:lnTo>
                    <a:pt x="213" y="39"/>
                  </a:lnTo>
                  <a:lnTo>
                    <a:pt x="204" y="0"/>
                  </a:lnTo>
                  <a:lnTo>
                    <a:pt x="144" y="3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39200" y="3710520"/>
              <a:ext cx="1319760" cy="969840"/>
            </a:xfrm>
            <a:custGeom>
              <a:avLst/>
              <a:gdLst/>
              <a:ahLst/>
              <a:rect l="l" t="t" r="r" b="b"/>
              <a:pathLst>
                <a:path w="861" h="633">
                  <a:moveTo>
                    <a:pt x="105" y="120"/>
                  </a:moveTo>
                  <a:lnTo>
                    <a:pt x="78" y="123"/>
                  </a:lnTo>
                  <a:lnTo>
                    <a:pt x="72" y="156"/>
                  </a:lnTo>
                  <a:lnTo>
                    <a:pt x="102" y="174"/>
                  </a:lnTo>
                  <a:lnTo>
                    <a:pt x="114" y="159"/>
                  </a:lnTo>
                  <a:lnTo>
                    <a:pt x="111" y="195"/>
                  </a:lnTo>
                  <a:lnTo>
                    <a:pt x="129" y="198"/>
                  </a:lnTo>
                  <a:lnTo>
                    <a:pt x="120" y="243"/>
                  </a:lnTo>
                  <a:lnTo>
                    <a:pt x="138" y="273"/>
                  </a:lnTo>
                  <a:lnTo>
                    <a:pt x="108" y="297"/>
                  </a:lnTo>
                  <a:lnTo>
                    <a:pt x="105" y="333"/>
                  </a:lnTo>
                  <a:lnTo>
                    <a:pt x="81" y="354"/>
                  </a:lnTo>
                  <a:lnTo>
                    <a:pt x="54" y="342"/>
                  </a:lnTo>
                  <a:lnTo>
                    <a:pt x="39" y="354"/>
                  </a:lnTo>
                  <a:lnTo>
                    <a:pt x="45" y="390"/>
                  </a:lnTo>
                  <a:lnTo>
                    <a:pt x="45" y="429"/>
                  </a:lnTo>
                  <a:lnTo>
                    <a:pt x="12" y="450"/>
                  </a:lnTo>
                  <a:lnTo>
                    <a:pt x="0" y="489"/>
                  </a:lnTo>
                  <a:lnTo>
                    <a:pt x="6" y="534"/>
                  </a:lnTo>
                  <a:lnTo>
                    <a:pt x="39" y="540"/>
                  </a:lnTo>
                  <a:lnTo>
                    <a:pt x="60" y="564"/>
                  </a:lnTo>
                  <a:lnTo>
                    <a:pt x="69" y="591"/>
                  </a:lnTo>
                  <a:lnTo>
                    <a:pt x="120" y="603"/>
                  </a:lnTo>
                  <a:lnTo>
                    <a:pt x="156" y="576"/>
                  </a:lnTo>
                  <a:lnTo>
                    <a:pt x="192" y="570"/>
                  </a:lnTo>
                  <a:lnTo>
                    <a:pt x="210" y="549"/>
                  </a:lnTo>
                  <a:lnTo>
                    <a:pt x="204" y="513"/>
                  </a:lnTo>
                  <a:lnTo>
                    <a:pt x="231" y="480"/>
                  </a:lnTo>
                  <a:lnTo>
                    <a:pt x="258" y="495"/>
                  </a:lnTo>
                  <a:lnTo>
                    <a:pt x="255" y="516"/>
                  </a:lnTo>
                  <a:lnTo>
                    <a:pt x="309" y="543"/>
                  </a:lnTo>
                  <a:lnTo>
                    <a:pt x="360" y="540"/>
                  </a:lnTo>
                  <a:lnTo>
                    <a:pt x="381" y="564"/>
                  </a:lnTo>
                  <a:lnTo>
                    <a:pt x="372" y="582"/>
                  </a:lnTo>
                  <a:lnTo>
                    <a:pt x="369" y="615"/>
                  </a:lnTo>
                  <a:lnTo>
                    <a:pt x="384" y="633"/>
                  </a:lnTo>
                  <a:lnTo>
                    <a:pt x="432" y="630"/>
                  </a:lnTo>
                  <a:lnTo>
                    <a:pt x="453" y="609"/>
                  </a:lnTo>
                  <a:lnTo>
                    <a:pt x="525" y="600"/>
                  </a:lnTo>
                  <a:lnTo>
                    <a:pt x="540" y="627"/>
                  </a:lnTo>
                  <a:lnTo>
                    <a:pt x="573" y="630"/>
                  </a:lnTo>
                  <a:lnTo>
                    <a:pt x="588" y="591"/>
                  </a:lnTo>
                  <a:lnTo>
                    <a:pt x="624" y="573"/>
                  </a:lnTo>
                  <a:lnTo>
                    <a:pt x="636" y="597"/>
                  </a:lnTo>
                  <a:lnTo>
                    <a:pt x="684" y="609"/>
                  </a:lnTo>
                  <a:lnTo>
                    <a:pt x="699" y="591"/>
                  </a:lnTo>
                  <a:lnTo>
                    <a:pt x="714" y="549"/>
                  </a:lnTo>
                  <a:lnTo>
                    <a:pt x="738" y="540"/>
                  </a:lnTo>
                  <a:lnTo>
                    <a:pt x="735" y="492"/>
                  </a:lnTo>
                  <a:lnTo>
                    <a:pt x="696" y="495"/>
                  </a:lnTo>
                  <a:lnTo>
                    <a:pt x="687" y="447"/>
                  </a:lnTo>
                  <a:lnTo>
                    <a:pt x="687" y="399"/>
                  </a:lnTo>
                  <a:lnTo>
                    <a:pt x="705" y="366"/>
                  </a:lnTo>
                  <a:lnTo>
                    <a:pt x="705" y="330"/>
                  </a:lnTo>
                  <a:lnTo>
                    <a:pt x="738" y="300"/>
                  </a:lnTo>
                  <a:lnTo>
                    <a:pt x="735" y="273"/>
                  </a:lnTo>
                  <a:lnTo>
                    <a:pt x="765" y="243"/>
                  </a:lnTo>
                  <a:lnTo>
                    <a:pt x="810" y="246"/>
                  </a:lnTo>
                  <a:lnTo>
                    <a:pt x="822" y="195"/>
                  </a:lnTo>
                  <a:lnTo>
                    <a:pt x="861" y="159"/>
                  </a:lnTo>
                  <a:lnTo>
                    <a:pt x="834" y="111"/>
                  </a:lnTo>
                  <a:lnTo>
                    <a:pt x="792" y="126"/>
                  </a:lnTo>
                  <a:lnTo>
                    <a:pt x="741" y="117"/>
                  </a:lnTo>
                  <a:lnTo>
                    <a:pt x="732" y="78"/>
                  </a:lnTo>
                  <a:lnTo>
                    <a:pt x="711" y="69"/>
                  </a:lnTo>
                  <a:lnTo>
                    <a:pt x="708" y="117"/>
                  </a:lnTo>
                  <a:lnTo>
                    <a:pt x="645" y="147"/>
                  </a:lnTo>
                  <a:lnTo>
                    <a:pt x="585" y="123"/>
                  </a:lnTo>
                  <a:lnTo>
                    <a:pt x="552" y="96"/>
                  </a:lnTo>
                  <a:lnTo>
                    <a:pt x="528" y="33"/>
                  </a:lnTo>
                  <a:lnTo>
                    <a:pt x="504" y="27"/>
                  </a:lnTo>
                  <a:lnTo>
                    <a:pt x="468" y="75"/>
                  </a:lnTo>
                  <a:lnTo>
                    <a:pt x="420" y="81"/>
                  </a:lnTo>
                  <a:lnTo>
                    <a:pt x="405" y="114"/>
                  </a:lnTo>
                  <a:lnTo>
                    <a:pt x="375" y="90"/>
                  </a:lnTo>
                  <a:lnTo>
                    <a:pt x="375" y="54"/>
                  </a:lnTo>
                  <a:lnTo>
                    <a:pt x="345" y="3"/>
                  </a:lnTo>
                  <a:lnTo>
                    <a:pt x="297" y="0"/>
                  </a:lnTo>
                  <a:lnTo>
                    <a:pt x="276" y="27"/>
                  </a:lnTo>
                  <a:lnTo>
                    <a:pt x="273" y="69"/>
                  </a:lnTo>
                  <a:lnTo>
                    <a:pt x="237" y="96"/>
                  </a:lnTo>
                  <a:lnTo>
                    <a:pt x="201" y="108"/>
                  </a:lnTo>
                  <a:lnTo>
                    <a:pt x="177" y="135"/>
                  </a:lnTo>
                  <a:lnTo>
                    <a:pt x="135" y="144"/>
                  </a:lnTo>
                  <a:lnTo>
                    <a:pt x="105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360" y="4446360"/>
              <a:ext cx="1829880" cy="1461960"/>
            </a:xfrm>
            <a:custGeom>
              <a:avLst/>
              <a:gdLst/>
              <a:ahLst/>
              <a:rect l="l" t="t" r="r" b="b"/>
              <a:pathLst>
                <a:path w="1194" h="954">
                  <a:moveTo>
                    <a:pt x="300" y="252"/>
                  </a:moveTo>
                  <a:lnTo>
                    <a:pt x="306" y="213"/>
                  </a:lnTo>
                  <a:lnTo>
                    <a:pt x="282" y="189"/>
                  </a:lnTo>
                  <a:lnTo>
                    <a:pt x="294" y="162"/>
                  </a:lnTo>
                  <a:lnTo>
                    <a:pt x="318" y="162"/>
                  </a:lnTo>
                  <a:lnTo>
                    <a:pt x="315" y="120"/>
                  </a:lnTo>
                  <a:lnTo>
                    <a:pt x="348" y="99"/>
                  </a:lnTo>
                  <a:lnTo>
                    <a:pt x="348" y="63"/>
                  </a:lnTo>
                  <a:lnTo>
                    <a:pt x="366" y="51"/>
                  </a:lnTo>
                  <a:lnTo>
                    <a:pt x="396" y="54"/>
                  </a:lnTo>
                  <a:lnTo>
                    <a:pt x="417" y="84"/>
                  </a:lnTo>
                  <a:lnTo>
                    <a:pt x="429" y="114"/>
                  </a:lnTo>
                  <a:lnTo>
                    <a:pt x="471" y="123"/>
                  </a:lnTo>
                  <a:lnTo>
                    <a:pt x="513" y="96"/>
                  </a:lnTo>
                  <a:lnTo>
                    <a:pt x="549" y="93"/>
                  </a:lnTo>
                  <a:lnTo>
                    <a:pt x="567" y="75"/>
                  </a:lnTo>
                  <a:lnTo>
                    <a:pt x="555" y="33"/>
                  </a:lnTo>
                  <a:lnTo>
                    <a:pt x="591" y="0"/>
                  </a:lnTo>
                  <a:lnTo>
                    <a:pt x="618" y="15"/>
                  </a:lnTo>
                  <a:lnTo>
                    <a:pt x="615" y="33"/>
                  </a:lnTo>
                  <a:lnTo>
                    <a:pt x="663" y="60"/>
                  </a:lnTo>
                  <a:lnTo>
                    <a:pt x="714" y="57"/>
                  </a:lnTo>
                  <a:lnTo>
                    <a:pt x="735" y="84"/>
                  </a:lnTo>
                  <a:lnTo>
                    <a:pt x="726" y="108"/>
                  </a:lnTo>
                  <a:lnTo>
                    <a:pt x="720" y="132"/>
                  </a:lnTo>
                  <a:lnTo>
                    <a:pt x="741" y="153"/>
                  </a:lnTo>
                  <a:lnTo>
                    <a:pt x="789" y="147"/>
                  </a:lnTo>
                  <a:lnTo>
                    <a:pt x="810" y="123"/>
                  </a:lnTo>
                  <a:lnTo>
                    <a:pt x="879" y="117"/>
                  </a:lnTo>
                  <a:lnTo>
                    <a:pt x="897" y="147"/>
                  </a:lnTo>
                  <a:lnTo>
                    <a:pt x="927" y="147"/>
                  </a:lnTo>
                  <a:lnTo>
                    <a:pt x="945" y="111"/>
                  </a:lnTo>
                  <a:lnTo>
                    <a:pt x="981" y="96"/>
                  </a:lnTo>
                  <a:lnTo>
                    <a:pt x="996" y="117"/>
                  </a:lnTo>
                  <a:lnTo>
                    <a:pt x="1041" y="126"/>
                  </a:lnTo>
                  <a:lnTo>
                    <a:pt x="1050" y="177"/>
                  </a:lnTo>
                  <a:lnTo>
                    <a:pt x="1086" y="207"/>
                  </a:lnTo>
                  <a:lnTo>
                    <a:pt x="1056" y="243"/>
                  </a:lnTo>
                  <a:lnTo>
                    <a:pt x="1077" y="267"/>
                  </a:lnTo>
                  <a:lnTo>
                    <a:pt x="1113" y="279"/>
                  </a:lnTo>
                  <a:lnTo>
                    <a:pt x="1158" y="327"/>
                  </a:lnTo>
                  <a:lnTo>
                    <a:pt x="1149" y="366"/>
                  </a:lnTo>
                  <a:lnTo>
                    <a:pt x="1176" y="417"/>
                  </a:lnTo>
                  <a:lnTo>
                    <a:pt x="1167" y="447"/>
                  </a:lnTo>
                  <a:lnTo>
                    <a:pt x="1194" y="501"/>
                  </a:lnTo>
                  <a:lnTo>
                    <a:pt x="1173" y="546"/>
                  </a:lnTo>
                  <a:lnTo>
                    <a:pt x="1167" y="582"/>
                  </a:lnTo>
                  <a:lnTo>
                    <a:pt x="1146" y="603"/>
                  </a:lnTo>
                  <a:lnTo>
                    <a:pt x="1158" y="633"/>
                  </a:lnTo>
                  <a:lnTo>
                    <a:pt x="1122" y="648"/>
                  </a:lnTo>
                  <a:lnTo>
                    <a:pt x="1086" y="633"/>
                  </a:lnTo>
                  <a:lnTo>
                    <a:pt x="1074" y="612"/>
                  </a:lnTo>
                  <a:lnTo>
                    <a:pt x="1026" y="618"/>
                  </a:lnTo>
                  <a:lnTo>
                    <a:pt x="1005" y="642"/>
                  </a:lnTo>
                  <a:lnTo>
                    <a:pt x="996" y="687"/>
                  </a:lnTo>
                  <a:lnTo>
                    <a:pt x="1026" y="708"/>
                  </a:lnTo>
                  <a:lnTo>
                    <a:pt x="1029" y="744"/>
                  </a:lnTo>
                  <a:lnTo>
                    <a:pt x="1002" y="774"/>
                  </a:lnTo>
                  <a:lnTo>
                    <a:pt x="975" y="780"/>
                  </a:lnTo>
                  <a:lnTo>
                    <a:pt x="957" y="753"/>
                  </a:lnTo>
                  <a:lnTo>
                    <a:pt x="951" y="729"/>
                  </a:lnTo>
                  <a:lnTo>
                    <a:pt x="909" y="735"/>
                  </a:lnTo>
                  <a:lnTo>
                    <a:pt x="888" y="774"/>
                  </a:lnTo>
                  <a:lnTo>
                    <a:pt x="843" y="777"/>
                  </a:lnTo>
                  <a:lnTo>
                    <a:pt x="813" y="807"/>
                  </a:lnTo>
                  <a:lnTo>
                    <a:pt x="774" y="810"/>
                  </a:lnTo>
                  <a:lnTo>
                    <a:pt x="762" y="840"/>
                  </a:lnTo>
                  <a:lnTo>
                    <a:pt x="765" y="861"/>
                  </a:lnTo>
                  <a:lnTo>
                    <a:pt x="735" y="876"/>
                  </a:lnTo>
                  <a:lnTo>
                    <a:pt x="654" y="864"/>
                  </a:lnTo>
                  <a:lnTo>
                    <a:pt x="630" y="846"/>
                  </a:lnTo>
                  <a:lnTo>
                    <a:pt x="573" y="852"/>
                  </a:lnTo>
                  <a:lnTo>
                    <a:pt x="561" y="879"/>
                  </a:lnTo>
                  <a:lnTo>
                    <a:pt x="510" y="867"/>
                  </a:lnTo>
                  <a:lnTo>
                    <a:pt x="495" y="849"/>
                  </a:lnTo>
                  <a:lnTo>
                    <a:pt x="444" y="846"/>
                  </a:lnTo>
                  <a:lnTo>
                    <a:pt x="396" y="837"/>
                  </a:lnTo>
                  <a:lnTo>
                    <a:pt x="390" y="807"/>
                  </a:lnTo>
                  <a:lnTo>
                    <a:pt x="369" y="783"/>
                  </a:lnTo>
                  <a:lnTo>
                    <a:pt x="330" y="783"/>
                  </a:lnTo>
                  <a:lnTo>
                    <a:pt x="297" y="807"/>
                  </a:lnTo>
                  <a:lnTo>
                    <a:pt x="294" y="831"/>
                  </a:lnTo>
                  <a:lnTo>
                    <a:pt x="264" y="831"/>
                  </a:lnTo>
                  <a:lnTo>
                    <a:pt x="228" y="813"/>
                  </a:lnTo>
                  <a:lnTo>
                    <a:pt x="210" y="828"/>
                  </a:lnTo>
                  <a:lnTo>
                    <a:pt x="219" y="867"/>
                  </a:lnTo>
                  <a:lnTo>
                    <a:pt x="240" y="879"/>
                  </a:lnTo>
                  <a:lnTo>
                    <a:pt x="237" y="909"/>
                  </a:lnTo>
                  <a:lnTo>
                    <a:pt x="192" y="921"/>
                  </a:lnTo>
                  <a:lnTo>
                    <a:pt x="186" y="888"/>
                  </a:lnTo>
                  <a:lnTo>
                    <a:pt x="153" y="897"/>
                  </a:lnTo>
                  <a:lnTo>
                    <a:pt x="120" y="948"/>
                  </a:lnTo>
                  <a:lnTo>
                    <a:pt x="72" y="954"/>
                  </a:lnTo>
                  <a:lnTo>
                    <a:pt x="30" y="948"/>
                  </a:lnTo>
                  <a:lnTo>
                    <a:pt x="30" y="915"/>
                  </a:lnTo>
                  <a:lnTo>
                    <a:pt x="0" y="888"/>
                  </a:lnTo>
                  <a:lnTo>
                    <a:pt x="3" y="855"/>
                  </a:lnTo>
                  <a:lnTo>
                    <a:pt x="36" y="837"/>
                  </a:lnTo>
                  <a:lnTo>
                    <a:pt x="48" y="792"/>
                  </a:lnTo>
                  <a:lnTo>
                    <a:pt x="81" y="771"/>
                  </a:lnTo>
                  <a:lnTo>
                    <a:pt x="90" y="729"/>
                  </a:lnTo>
                  <a:lnTo>
                    <a:pt x="126" y="702"/>
                  </a:lnTo>
                  <a:lnTo>
                    <a:pt x="132" y="660"/>
                  </a:lnTo>
                  <a:lnTo>
                    <a:pt x="114" y="648"/>
                  </a:lnTo>
                  <a:lnTo>
                    <a:pt x="75" y="657"/>
                  </a:lnTo>
                  <a:lnTo>
                    <a:pt x="66" y="633"/>
                  </a:lnTo>
                  <a:lnTo>
                    <a:pt x="81" y="576"/>
                  </a:lnTo>
                  <a:lnTo>
                    <a:pt x="54" y="555"/>
                  </a:lnTo>
                  <a:lnTo>
                    <a:pt x="48" y="507"/>
                  </a:lnTo>
                  <a:lnTo>
                    <a:pt x="60" y="480"/>
                  </a:lnTo>
                  <a:lnTo>
                    <a:pt x="93" y="480"/>
                  </a:lnTo>
                  <a:lnTo>
                    <a:pt x="84" y="441"/>
                  </a:lnTo>
                  <a:lnTo>
                    <a:pt x="84" y="411"/>
                  </a:lnTo>
                  <a:lnTo>
                    <a:pt x="132" y="381"/>
                  </a:lnTo>
                  <a:lnTo>
                    <a:pt x="171" y="387"/>
                  </a:lnTo>
                  <a:lnTo>
                    <a:pt x="180" y="360"/>
                  </a:lnTo>
                  <a:lnTo>
                    <a:pt x="171" y="333"/>
                  </a:lnTo>
                  <a:lnTo>
                    <a:pt x="132" y="324"/>
                  </a:lnTo>
                  <a:lnTo>
                    <a:pt x="123" y="282"/>
                  </a:lnTo>
                  <a:lnTo>
                    <a:pt x="126" y="246"/>
                  </a:lnTo>
                  <a:lnTo>
                    <a:pt x="165" y="255"/>
                  </a:lnTo>
                  <a:lnTo>
                    <a:pt x="189" y="234"/>
                  </a:lnTo>
                  <a:lnTo>
                    <a:pt x="222" y="249"/>
                  </a:lnTo>
                  <a:lnTo>
                    <a:pt x="258" y="228"/>
                  </a:lnTo>
                  <a:lnTo>
                    <a:pt x="270" y="252"/>
                  </a:lnTo>
                  <a:lnTo>
                    <a:pt x="30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705120" y="4491000"/>
            <a:ext cx="1014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Busan 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93760" y="4971960"/>
            <a:ext cx="12099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Gwangju 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35440" y="3701880"/>
            <a:ext cx="1014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Daegu 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51440" y="4273560"/>
            <a:ext cx="896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Ulsan 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46320" y="3192480"/>
            <a:ext cx="1014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Daejeon 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71840" y="1901880"/>
            <a:ext cx="314280" cy="3142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28760" y="2041560"/>
            <a:ext cx="209520" cy="2095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28960" y="2152800"/>
            <a:ext cx="11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Incheon 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46240" y="3422520"/>
            <a:ext cx="209880" cy="2095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51440" y="3956040"/>
            <a:ext cx="209520" cy="2095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16360" y="4276800"/>
            <a:ext cx="209520" cy="2095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67240" y="4686480"/>
            <a:ext cx="209520" cy="2095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82920" y="4818240"/>
            <a:ext cx="209520" cy="2095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80040" y="2830680"/>
            <a:ext cx="914400" cy="296640"/>
          </a:xfrm>
          <a:prstGeom prst="borderCallout2">
            <a:avLst>
              <a:gd name="adj1" fmla="val 18750"/>
              <a:gd name="adj2" fmla="val -8333"/>
              <a:gd name="adj3" fmla="val 34226"/>
              <a:gd name="adj4" fmla="val 123611"/>
              <a:gd name="adj5" fmla="val 131550"/>
              <a:gd name="adj6" fmla="val 149828"/>
            </a:avLst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b166e"/>
                </a:solidFill>
                <a:latin typeface="Verdana"/>
                <a:ea typeface="Gulim"/>
              </a:rPr>
              <a:t>Text D</a:t>
            </a:r>
            <a:endParaRPr b="0" lang="en-US" sz="13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57280" y="5724360"/>
            <a:ext cx="772560" cy="433080"/>
            <a:chOff x="557280" y="5724360"/>
            <a:chExt cx="772560" cy="433080"/>
          </a:xfrm>
        </p:grpSpPr>
        <p:sp>
          <p:nvSpPr>
            <p:cNvPr id="232" name=""/>
            <p:cNvSpPr/>
            <p:nvPr/>
          </p:nvSpPr>
          <p:spPr>
            <a:xfrm>
              <a:off x="598680" y="5742360"/>
              <a:ext cx="731160" cy="415080"/>
            </a:xfrm>
            <a:custGeom>
              <a:avLst/>
              <a:gdLst/>
              <a:ahLst/>
              <a:rect l="l" t="t" r="r" b="b"/>
              <a:pathLst>
                <a:path w="561" h="318">
                  <a:moveTo>
                    <a:pt x="51" y="141"/>
                  </a:moveTo>
                  <a:lnTo>
                    <a:pt x="102" y="129"/>
                  </a:lnTo>
                  <a:lnTo>
                    <a:pt x="129" y="111"/>
                  </a:lnTo>
                  <a:lnTo>
                    <a:pt x="156" y="54"/>
                  </a:lnTo>
                  <a:lnTo>
                    <a:pt x="213" y="60"/>
                  </a:lnTo>
                  <a:lnTo>
                    <a:pt x="261" y="51"/>
                  </a:lnTo>
                  <a:lnTo>
                    <a:pt x="291" y="36"/>
                  </a:lnTo>
                  <a:lnTo>
                    <a:pt x="339" y="45"/>
                  </a:lnTo>
                  <a:lnTo>
                    <a:pt x="399" y="24"/>
                  </a:lnTo>
                  <a:lnTo>
                    <a:pt x="417" y="30"/>
                  </a:lnTo>
                  <a:lnTo>
                    <a:pt x="468" y="0"/>
                  </a:lnTo>
                  <a:lnTo>
                    <a:pt x="483" y="18"/>
                  </a:lnTo>
                  <a:lnTo>
                    <a:pt x="516" y="27"/>
                  </a:lnTo>
                  <a:lnTo>
                    <a:pt x="534" y="54"/>
                  </a:lnTo>
                  <a:lnTo>
                    <a:pt x="552" y="60"/>
                  </a:lnTo>
                  <a:lnTo>
                    <a:pt x="555" y="108"/>
                  </a:lnTo>
                  <a:lnTo>
                    <a:pt x="546" y="138"/>
                  </a:lnTo>
                  <a:lnTo>
                    <a:pt x="561" y="159"/>
                  </a:lnTo>
                  <a:lnTo>
                    <a:pt x="513" y="183"/>
                  </a:lnTo>
                  <a:lnTo>
                    <a:pt x="480" y="198"/>
                  </a:lnTo>
                  <a:lnTo>
                    <a:pt x="447" y="240"/>
                  </a:lnTo>
                  <a:lnTo>
                    <a:pt x="417" y="252"/>
                  </a:lnTo>
                  <a:lnTo>
                    <a:pt x="381" y="270"/>
                  </a:lnTo>
                  <a:lnTo>
                    <a:pt x="342" y="300"/>
                  </a:lnTo>
                  <a:lnTo>
                    <a:pt x="288" y="285"/>
                  </a:lnTo>
                  <a:lnTo>
                    <a:pt x="222" y="294"/>
                  </a:lnTo>
                  <a:lnTo>
                    <a:pt x="165" y="297"/>
                  </a:lnTo>
                  <a:lnTo>
                    <a:pt x="144" y="318"/>
                  </a:lnTo>
                  <a:lnTo>
                    <a:pt x="84" y="315"/>
                  </a:lnTo>
                  <a:lnTo>
                    <a:pt x="75" y="282"/>
                  </a:lnTo>
                  <a:lnTo>
                    <a:pt x="24" y="252"/>
                  </a:lnTo>
                  <a:lnTo>
                    <a:pt x="0" y="234"/>
                  </a:lnTo>
                  <a:lnTo>
                    <a:pt x="0" y="189"/>
                  </a:lnTo>
                  <a:lnTo>
                    <a:pt x="27" y="171"/>
                  </a:lnTo>
                  <a:lnTo>
                    <a:pt x="30" y="135"/>
                  </a:lnTo>
                  <a:lnTo>
                    <a:pt x="51" y="141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7280" y="5724360"/>
              <a:ext cx="731160" cy="415080"/>
            </a:xfrm>
            <a:custGeom>
              <a:avLst/>
              <a:gdLst/>
              <a:ahLst/>
              <a:rect l="l" t="t" r="r" b="b"/>
              <a:pathLst>
                <a:path w="561" h="318">
                  <a:moveTo>
                    <a:pt x="51" y="141"/>
                  </a:moveTo>
                  <a:lnTo>
                    <a:pt x="102" y="129"/>
                  </a:lnTo>
                  <a:lnTo>
                    <a:pt x="129" y="111"/>
                  </a:lnTo>
                  <a:lnTo>
                    <a:pt x="156" y="54"/>
                  </a:lnTo>
                  <a:lnTo>
                    <a:pt x="213" y="60"/>
                  </a:lnTo>
                  <a:lnTo>
                    <a:pt x="261" y="51"/>
                  </a:lnTo>
                  <a:lnTo>
                    <a:pt x="291" y="36"/>
                  </a:lnTo>
                  <a:lnTo>
                    <a:pt x="339" y="45"/>
                  </a:lnTo>
                  <a:lnTo>
                    <a:pt x="399" y="24"/>
                  </a:lnTo>
                  <a:lnTo>
                    <a:pt x="417" y="30"/>
                  </a:lnTo>
                  <a:lnTo>
                    <a:pt x="468" y="0"/>
                  </a:lnTo>
                  <a:lnTo>
                    <a:pt x="483" y="18"/>
                  </a:lnTo>
                  <a:lnTo>
                    <a:pt x="516" y="27"/>
                  </a:lnTo>
                  <a:lnTo>
                    <a:pt x="534" y="54"/>
                  </a:lnTo>
                  <a:lnTo>
                    <a:pt x="552" y="60"/>
                  </a:lnTo>
                  <a:lnTo>
                    <a:pt x="555" y="108"/>
                  </a:lnTo>
                  <a:lnTo>
                    <a:pt x="546" y="138"/>
                  </a:lnTo>
                  <a:lnTo>
                    <a:pt x="561" y="159"/>
                  </a:lnTo>
                  <a:lnTo>
                    <a:pt x="513" y="183"/>
                  </a:lnTo>
                  <a:lnTo>
                    <a:pt x="480" y="198"/>
                  </a:lnTo>
                  <a:lnTo>
                    <a:pt x="447" y="240"/>
                  </a:lnTo>
                  <a:lnTo>
                    <a:pt x="417" y="252"/>
                  </a:lnTo>
                  <a:lnTo>
                    <a:pt x="381" y="270"/>
                  </a:lnTo>
                  <a:lnTo>
                    <a:pt x="342" y="300"/>
                  </a:lnTo>
                  <a:lnTo>
                    <a:pt x="288" y="285"/>
                  </a:lnTo>
                  <a:lnTo>
                    <a:pt x="222" y="294"/>
                  </a:lnTo>
                  <a:lnTo>
                    <a:pt x="165" y="297"/>
                  </a:lnTo>
                  <a:lnTo>
                    <a:pt x="144" y="318"/>
                  </a:lnTo>
                  <a:lnTo>
                    <a:pt x="84" y="315"/>
                  </a:lnTo>
                  <a:lnTo>
                    <a:pt x="75" y="282"/>
                  </a:lnTo>
                  <a:lnTo>
                    <a:pt x="24" y="252"/>
                  </a:lnTo>
                  <a:lnTo>
                    <a:pt x="0" y="234"/>
                  </a:lnTo>
                  <a:lnTo>
                    <a:pt x="0" y="189"/>
                  </a:lnTo>
                  <a:lnTo>
                    <a:pt x="27" y="171"/>
                  </a:lnTo>
                  <a:lnTo>
                    <a:pt x="30" y="135"/>
                  </a:lnTo>
                  <a:lnTo>
                    <a:pt x="51" y="141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1760" y="1679400"/>
            <a:ext cx="1041120" cy="29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1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Seoul 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14280" y="133200"/>
            <a:ext cx="7848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Master title style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819440"/>
            <a:ext cx="5629320" cy="3697200"/>
          </a:xfrm>
          <a:custGeom>
            <a:avLst/>
            <a:gdLst/>
            <a:ahLst/>
            <a:rect l="l" t="t" r="r" b="b"/>
            <a:pathLst>
              <a:path w="3546" h="2329">
                <a:moveTo>
                  <a:pt x="0" y="1259"/>
                </a:moveTo>
                <a:lnTo>
                  <a:pt x="99" y="1218"/>
                </a:lnTo>
                <a:lnTo>
                  <a:pt x="66" y="1119"/>
                </a:lnTo>
                <a:lnTo>
                  <a:pt x="140" y="1103"/>
                </a:lnTo>
                <a:lnTo>
                  <a:pt x="288" y="963"/>
                </a:lnTo>
                <a:lnTo>
                  <a:pt x="263" y="872"/>
                </a:lnTo>
                <a:lnTo>
                  <a:pt x="321" y="798"/>
                </a:lnTo>
                <a:lnTo>
                  <a:pt x="477" y="946"/>
                </a:lnTo>
                <a:lnTo>
                  <a:pt x="765" y="1095"/>
                </a:lnTo>
                <a:lnTo>
                  <a:pt x="954" y="1037"/>
                </a:lnTo>
                <a:lnTo>
                  <a:pt x="979" y="930"/>
                </a:lnTo>
                <a:lnTo>
                  <a:pt x="1053" y="963"/>
                </a:lnTo>
                <a:lnTo>
                  <a:pt x="1135" y="938"/>
                </a:lnTo>
                <a:lnTo>
                  <a:pt x="1152" y="881"/>
                </a:lnTo>
                <a:lnTo>
                  <a:pt x="1135" y="749"/>
                </a:lnTo>
                <a:lnTo>
                  <a:pt x="1226" y="642"/>
                </a:lnTo>
                <a:lnTo>
                  <a:pt x="1185" y="584"/>
                </a:lnTo>
                <a:lnTo>
                  <a:pt x="1226" y="560"/>
                </a:lnTo>
                <a:lnTo>
                  <a:pt x="1218" y="469"/>
                </a:lnTo>
                <a:lnTo>
                  <a:pt x="1333" y="486"/>
                </a:lnTo>
                <a:lnTo>
                  <a:pt x="1506" y="387"/>
                </a:lnTo>
                <a:lnTo>
                  <a:pt x="1530" y="346"/>
                </a:lnTo>
                <a:lnTo>
                  <a:pt x="1588" y="403"/>
                </a:lnTo>
                <a:lnTo>
                  <a:pt x="1654" y="445"/>
                </a:lnTo>
                <a:lnTo>
                  <a:pt x="1654" y="519"/>
                </a:lnTo>
                <a:lnTo>
                  <a:pt x="1728" y="535"/>
                </a:lnTo>
                <a:lnTo>
                  <a:pt x="1753" y="601"/>
                </a:lnTo>
                <a:lnTo>
                  <a:pt x="1868" y="543"/>
                </a:lnTo>
                <a:lnTo>
                  <a:pt x="1810" y="387"/>
                </a:lnTo>
                <a:lnTo>
                  <a:pt x="1860" y="321"/>
                </a:lnTo>
                <a:lnTo>
                  <a:pt x="1934" y="296"/>
                </a:lnTo>
                <a:lnTo>
                  <a:pt x="1909" y="206"/>
                </a:lnTo>
                <a:lnTo>
                  <a:pt x="1975" y="148"/>
                </a:lnTo>
                <a:lnTo>
                  <a:pt x="2041" y="148"/>
                </a:lnTo>
                <a:lnTo>
                  <a:pt x="2065" y="58"/>
                </a:lnTo>
                <a:lnTo>
                  <a:pt x="2139" y="0"/>
                </a:lnTo>
                <a:lnTo>
                  <a:pt x="2238" y="17"/>
                </a:lnTo>
                <a:lnTo>
                  <a:pt x="2263" y="82"/>
                </a:lnTo>
                <a:lnTo>
                  <a:pt x="2386" y="58"/>
                </a:lnTo>
                <a:lnTo>
                  <a:pt x="2419" y="115"/>
                </a:lnTo>
                <a:lnTo>
                  <a:pt x="2510" y="82"/>
                </a:lnTo>
                <a:lnTo>
                  <a:pt x="2592" y="91"/>
                </a:lnTo>
                <a:lnTo>
                  <a:pt x="2666" y="17"/>
                </a:lnTo>
                <a:lnTo>
                  <a:pt x="2699" y="91"/>
                </a:lnTo>
                <a:lnTo>
                  <a:pt x="2806" y="124"/>
                </a:lnTo>
                <a:lnTo>
                  <a:pt x="2765" y="206"/>
                </a:lnTo>
                <a:lnTo>
                  <a:pt x="2806" y="263"/>
                </a:lnTo>
                <a:lnTo>
                  <a:pt x="2789" y="346"/>
                </a:lnTo>
                <a:lnTo>
                  <a:pt x="2740" y="403"/>
                </a:lnTo>
                <a:lnTo>
                  <a:pt x="2781" y="477"/>
                </a:lnTo>
                <a:lnTo>
                  <a:pt x="2880" y="469"/>
                </a:lnTo>
                <a:lnTo>
                  <a:pt x="2921" y="510"/>
                </a:lnTo>
                <a:lnTo>
                  <a:pt x="2937" y="593"/>
                </a:lnTo>
                <a:lnTo>
                  <a:pt x="2872" y="650"/>
                </a:lnTo>
                <a:lnTo>
                  <a:pt x="2839" y="716"/>
                </a:lnTo>
                <a:lnTo>
                  <a:pt x="2946" y="691"/>
                </a:lnTo>
                <a:lnTo>
                  <a:pt x="2979" y="749"/>
                </a:lnTo>
                <a:lnTo>
                  <a:pt x="2970" y="839"/>
                </a:lnTo>
                <a:lnTo>
                  <a:pt x="2970" y="914"/>
                </a:lnTo>
                <a:lnTo>
                  <a:pt x="2929" y="979"/>
                </a:lnTo>
                <a:lnTo>
                  <a:pt x="2830" y="1062"/>
                </a:lnTo>
                <a:lnTo>
                  <a:pt x="2872" y="1136"/>
                </a:lnTo>
                <a:lnTo>
                  <a:pt x="2830" y="1193"/>
                </a:lnTo>
                <a:lnTo>
                  <a:pt x="2888" y="1234"/>
                </a:lnTo>
                <a:lnTo>
                  <a:pt x="2954" y="1185"/>
                </a:lnTo>
                <a:lnTo>
                  <a:pt x="2962" y="1234"/>
                </a:lnTo>
                <a:lnTo>
                  <a:pt x="3069" y="1127"/>
                </a:lnTo>
                <a:lnTo>
                  <a:pt x="3250" y="1111"/>
                </a:lnTo>
                <a:lnTo>
                  <a:pt x="3415" y="1029"/>
                </a:lnTo>
                <a:lnTo>
                  <a:pt x="3472" y="1078"/>
                </a:lnTo>
                <a:lnTo>
                  <a:pt x="3522" y="1210"/>
                </a:lnTo>
                <a:lnTo>
                  <a:pt x="3546" y="1325"/>
                </a:lnTo>
                <a:lnTo>
                  <a:pt x="3341" y="1350"/>
                </a:lnTo>
                <a:lnTo>
                  <a:pt x="3267" y="1490"/>
                </a:lnTo>
                <a:lnTo>
                  <a:pt x="3168" y="1564"/>
                </a:lnTo>
                <a:lnTo>
                  <a:pt x="3151" y="1654"/>
                </a:lnTo>
                <a:lnTo>
                  <a:pt x="3275" y="1687"/>
                </a:lnTo>
                <a:lnTo>
                  <a:pt x="3357" y="1720"/>
                </a:lnTo>
                <a:lnTo>
                  <a:pt x="3291" y="1868"/>
                </a:lnTo>
                <a:lnTo>
                  <a:pt x="3160" y="1950"/>
                </a:lnTo>
                <a:lnTo>
                  <a:pt x="3077" y="1926"/>
                </a:lnTo>
                <a:lnTo>
                  <a:pt x="3094" y="1991"/>
                </a:lnTo>
                <a:lnTo>
                  <a:pt x="3012" y="2008"/>
                </a:lnTo>
                <a:lnTo>
                  <a:pt x="2962" y="2090"/>
                </a:lnTo>
                <a:lnTo>
                  <a:pt x="2830" y="2024"/>
                </a:lnTo>
                <a:lnTo>
                  <a:pt x="2740" y="2107"/>
                </a:lnTo>
                <a:lnTo>
                  <a:pt x="2699" y="2230"/>
                </a:lnTo>
                <a:lnTo>
                  <a:pt x="2592" y="2197"/>
                </a:lnTo>
                <a:lnTo>
                  <a:pt x="2600" y="2288"/>
                </a:lnTo>
                <a:lnTo>
                  <a:pt x="2542" y="2329"/>
                </a:lnTo>
                <a:lnTo>
                  <a:pt x="2394" y="2312"/>
                </a:lnTo>
                <a:lnTo>
                  <a:pt x="2287" y="2214"/>
                </a:lnTo>
                <a:lnTo>
                  <a:pt x="2320" y="2156"/>
                </a:lnTo>
                <a:lnTo>
                  <a:pt x="2254" y="2008"/>
                </a:lnTo>
                <a:lnTo>
                  <a:pt x="2189" y="2090"/>
                </a:lnTo>
                <a:lnTo>
                  <a:pt x="2057" y="2098"/>
                </a:lnTo>
                <a:lnTo>
                  <a:pt x="2016" y="2000"/>
                </a:lnTo>
                <a:lnTo>
                  <a:pt x="1925" y="1991"/>
                </a:lnTo>
                <a:lnTo>
                  <a:pt x="1950" y="2057"/>
                </a:lnTo>
                <a:lnTo>
                  <a:pt x="1851" y="2082"/>
                </a:lnTo>
                <a:lnTo>
                  <a:pt x="1753" y="2173"/>
                </a:lnTo>
                <a:lnTo>
                  <a:pt x="1687" y="2181"/>
                </a:lnTo>
                <a:lnTo>
                  <a:pt x="1670" y="2238"/>
                </a:lnTo>
                <a:lnTo>
                  <a:pt x="1456" y="2247"/>
                </a:lnTo>
                <a:lnTo>
                  <a:pt x="1399" y="2189"/>
                </a:lnTo>
                <a:lnTo>
                  <a:pt x="1390" y="2140"/>
                </a:lnTo>
                <a:lnTo>
                  <a:pt x="1308" y="2222"/>
                </a:lnTo>
                <a:lnTo>
                  <a:pt x="1185" y="2288"/>
                </a:lnTo>
                <a:lnTo>
                  <a:pt x="1086" y="2181"/>
                </a:lnTo>
                <a:lnTo>
                  <a:pt x="1078" y="2082"/>
                </a:lnTo>
                <a:lnTo>
                  <a:pt x="913" y="1893"/>
                </a:lnTo>
                <a:lnTo>
                  <a:pt x="938" y="1810"/>
                </a:lnTo>
                <a:lnTo>
                  <a:pt x="872" y="1753"/>
                </a:lnTo>
                <a:lnTo>
                  <a:pt x="708" y="1885"/>
                </a:lnTo>
                <a:lnTo>
                  <a:pt x="691" y="1967"/>
                </a:lnTo>
                <a:lnTo>
                  <a:pt x="551" y="1909"/>
                </a:lnTo>
                <a:lnTo>
                  <a:pt x="428" y="1950"/>
                </a:lnTo>
                <a:lnTo>
                  <a:pt x="469" y="1802"/>
                </a:lnTo>
                <a:lnTo>
                  <a:pt x="395" y="1728"/>
                </a:lnTo>
                <a:lnTo>
                  <a:pt x="477" y="1695"/>
                </a:lnTo>
                <a:lnTo>
                  <a:pt x="518" y="1613"/>
                </a:lnTo>
                <a:lnTo>
                  <a:pt x="485" y="1555"/>
                </a:lnTo>
                <a:lnTo>
                  <a:pt x="518" y="1490"/>
                </a:lnTo>
                <a:lnTo>
                  <a:pt x="469" y="1424"/>
                </a:lnTo>
                <a:lnTo>
                  <a:pt x="469" y="1374"/>
                </a:lnTo>
                <a:lnTo>
                  <a:pt x="321" y="1350"/>
                </a:lnTo>
                <a:lnTo>
                  <a:pt x="238" y="1432"/>
                </a:lnTo>
                <a:lnTo>
                  <a:pt x="222" y="1350"/>
                </a:lnTo>
                <a:lnTo>
                  <a:pt x="140" y="1300"/>
                </a:lnTo>
                <a:lnTo>
                  <a:pt x="49" y="1317"/>
                </a:lnTo>
                <a:lnTo>
                  <a:pt x="0" y="1259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13500000"/>
          </a:gradFill>
          <a:ln w="28440">
            <a:solidFill>
              <a:srgbClr val="ffffff"/>
            </a:solidFill>
            <a:round/>
          </a:ln>
          <a:effectLst>
            <a:outerShdw dist="63504" dir="2216091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5440" y="1366920"/>
            <a:ext cx="2300040" cy="43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13500000" blurRad="0" rotWithShape="0">
              <a:srgbClr val="00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5400" y="1386000"/>
            <a:ext cx="1955880" cy="34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1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Seou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3160" y="3521160"/>
            <a:ext cx="974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Gangseo 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06440" y="3936960"/>
            <a:ext cx="12495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Yangcheon 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25520" y="4454640"/>
            <a:ext cx="12495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Gur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54200" y="4983120"/>
            <a:ext cx="1249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ff"/>
                </a:solidFill>
                <a:latin typeface="Verdana"/>
                <a:ea typeface="Gulim"/>
              </a:rPr>
              <a:t>Geumcheon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22600" y="4808520"/>
            <a:ext cx="1249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Gwanak 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41680" y="4621320"/>
            <a:ext cx="12495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Seocho 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75280" y="4459320"/>
            <a:ext cx="1249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Gangnam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48120" y="4295880"/>
            <a:ext cx="12495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Songpa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48440" y="3639960"/>
            <a:ext cx="1249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Gangdong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0" y="3765600"/>
            <a:ext cx="12495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Gwangjin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65600" y="3638520"/>
            <a:ext cx="1249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Seongdong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67200" y="3943440"/>
            <a:ext cx="1249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Yongsan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73360" y="4311720"/>
            <a:ext cx="1249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Dongjak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87560" y="4095720"/>
            <a:ext cx="14842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Yeongdeungpo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43160" y="3624120"/>
            <a:ext cx="1249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Mapo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95440" y="3357720"/>
            <a:ext cx="12495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Seodaemun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48000" y="2727360"/>
            <a:ext cx="1249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Eunpyeong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00440" y="3013200"/>
            <a:ext cx="1249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Jongno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84600" y="2970360"/>
            <a:ext cx="1249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Seongbuk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17920" y="2548080"/>
            <a:ext cx="1249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Kangbuk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75240" y="2062080"/>
            <a:ext cx="1249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Dobong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00640" y="2462040"/>
            <a:ext cx="1249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Nowon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32480" y="3009960"/>
            <a:ext cx="1249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ff"/>
                </a:solidFill>
                <a:latin typeface="Verdana"/>
                <a:ea typeface="Gulim"/>
              </a:rPr>
              <a:t>Jungnang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35520" y="3254400"/>
            <a:ext cx="13795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Dongdaemun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64040" y="3529080"/>
            <a:ext cx="1249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Junggu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371600" y="1973160"/>
            <a:ext cx="4297320" cy="3225960"/>
            <a:chOff x="1371600" y="1973160"/>
            <a:chExt cx="4297320" cy="3225960"/>
          </a:xfrm>
        </p:grpSpPr>
        <p:sp>
          <p:nvSpPr>
            <p:cNvPr id="265" name=""/>
            <p:cNvSpPr/>
            <p:nvPr/>
          </p:nvSpPr>
          <p:spPr>
            <a:xfrm>
              <a:off x="1371600" y="3514680"/>
              <a:ext cx="809640" cy="665280"/>
            </a:xfrm>
            <a:custGeom>
              <a:avLst/>
              <a:gdLst/>
              <a:ahLst/>
              <a:rect l="l" t="t" r="r" b="b"/>
              <a:pathLst>
                <a:path w="510" h="419">
                  <a:moveTo>
                    <a:pt x="0" y="296"/>
                  </a:moveTo>
                  <a:lnTo>
                    <a:pt x="74" y="197"/>
                  </a:lnTo>
                  <a:lnTo>
                    <a:pt x="132" y="320"/>
                  </a:lnTo>
                  <a:lnTo>
                    <a:pt x="197" y="419"/>
                  </a:lnTo>
                  <a:lnTo>
                    <a:pt x="321" y="419"/>
                  </a:lnTo>
                  <a:lnTo>
                    <a:pt x="370" y="279"/>
                  </a:lnTo>
                  <a:lnTo>
                    <a:pt x="337" y="172"/>
                  </a:lnTo>
                  <a:lnTo>
                    <a:pt x="436" y="230"/>
                  </a:lnTo>
                  <a:lnTo>
                    <a:pt x="510" y="205"/>
                  </a:lnTo>
                  <a:lnTo>
                    <a:pt x="452" y="172"/>
                  </a:lnTo>
                  <a:lnTo>
                    <a:pt x="444" y="98"/>
                  </a:lnTo>
                  <a:lnTo>
                    <a:pt x="28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24160" y="3867120"/>
              <a:ext cx="861840" cy="612720"/>
            </a:xfrm>
            <a:custGeom>
              <a:avLst/>
              <a:gdLst/>
              <a:ahLst/>
              <a:rect l="l" t="t" r="r" b="b"/>
              <a:pathLst>
                <a:path w="543" h="386">
                  <a:moveTo>
                    <a:pt x="0" y="304"/>
                  </a:moveTo>
                  <a:lnTo>
                    <a:pt x="90" y="386"/>
                  </a:lnTo>
                  <a:lnTo>
                    <a:pt x="173" y="312"/>
                  </a:lnTo>
                  <a:lnTo>
                    <a:pt x="296" y="296"/>
                  </a:lnTo>
                  <a:lnTo>
                    <a:pt x="378" y="362"/>
                  </a:lnTo>
                  <a:lnTo>
                    <a:pt x="461" y="230"/>
                  </a:lnTo>
                  <a:lnTo>
                    <a:pt x="452" y="173"/>
                  </a:lnTo>
                  <a:lnTo>
                    <a:pt x="543" y="123"/>
                  </a:lnTo>
                  <a:lnTo>
                    <a:pt x="494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89080" y="3762360"/>
              <a:ext cx="1019160" cy="966600"/>
            </a:xfrm>
            <a:custGeom>
              <a:avLst/>
              <a:gdLst/>
              <a:ahLst/>
              <a:rect l="l" t="t" r="r" b="b"/>
              <a:pathLst>
                <a:path w="642" h="609">
                  <a:moveTo>
                    <a:pt x="33" y="321"/>
                  </a:moveTo>
                  <a:lnTo>
                    <a:pt x="149" y="387"/>
                  </a:lnTo>
                  <a:lnTo>
                    <a:pt x="149" y="477"/>
                  </a:lnTo>
                  <a:lnTo>
                    <a:pt x="231" y="609"/>
                  </a:lnTo>
                  <a:lnTo>
                    <a:pt x="313" y="477"/>
                  </a:lnTo>
                  <a:lnTo>
                    <a:pt x="387" y="469"/>
                  </a:lnTo>
                  <a:lnTo>
                    <a:pt x="445" y="321"/>
                  </a:lnTo>
                  <a:lnTo>
                    <a:pt x="642" y="304"/>
                  </a:lnTo>
                  <a:lnTo>
                    <a:pt x="642" y="230"/>
                  </a:lnTo>
                  <a:lnTo>
                    <a:pt x="502" y="123"/>
                  </a:lnTo>
                  <a:lnTo>
                    <a:pt x="420" y="140"/>
                  </a:lnTo>
                  <a:lnTo>
                    <a:pt x="363" y="99"/>
                  </a:lnTo>
                  <a:lnTo>
                    <a:pt x="305" y="115"/>
                  </a:lnTo>
                  <a:lnTo>
                    <a:pt x="157" y="3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28680" y="4271760"/>
              <a:ext cx="1424160" cy="561960"/>
            </a:xfrm>
            <a:custGeom>
              <a:avLst/>
              <a:gdLst/>
              <a:ahLst/>
              <a:rect l="l" t="t" r="r" b="b"/>
              <a:pathLst>
                <a:path w="897" h="354">
                  <a:moveTo>
                    <a:pt x="0" y="255"/>
                  </a:moveTo>
                  <a:lnTo>
                    <a:pt x="140" y="329"/>
                  </a:lnTo>
                  <a:lnTo>
                    <a:pt x="206" y="329"/>
                  </a:lnTo>
                  <a:lnTo>
                    <a:pt x="222" y="271"/>
                  </a:lnTo>
                  <a:lnTo>
                    <a:pt x="395" y="222"/>
                  </a:lnTo>
                  <a:lnTo>
                    <a:pt x="412" y="173"/>
                  </a:lnTo>
                  <a:lnTo>
                    <a:pt x="543" y="214"/>
                  </a:lnTo>
                  <a:lnTo>
                    <a:pt x="617" y="197"/>
                  </a:lnTo>
                  <a:lnTo>
                    <a:pt x="700" y="197"/>
                  </a:lnTo>
                  <a:lnTo>
                    <a:pt x="724" y="247"/>
                  </a:lnTo>
                  <a:lnTo>
                    <a:pt x="782" y="354"/>
                  </a:lnTo>
                  <a:lnTo>
                    <a:pt x="864" y="337"/>
                  </a:lnTo>
                  <a:lnTo>
                    <a:pt x="864" y="238"/>
                  </a:lnTo>
                  <a:lnTo>
                    <a:pt x="897" y="148"/>
                  </a:lnTo>
                  <a:lnTo>
                    <a:pt x="823" y="90"/>
                  </a:lnTo>
                  <a:lnTo>
                    <a:pt x="64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68520" y="4794120"/>
              <a:ext cx="365040" cy="405000"/>
            </a:xfrm>
            <a:custGeom>
              <a:avLst/>
              <a:gdLst/>
              <a:ahLst/>
              <a:rect l="l" t="t" r="r" b="b"/>
              <a:pathLst>
                <a:path w="230" h="255">
                  <a:moveTo>
                    <a:pt x="0" y="0"/>
                  </a:moveTo>
                  <a:lnTo>
                    <a:pt x="74" y="0"/>
                  </a:lnTo>
                  <a:lnTo>
                    <a:pt x="99" y="58"/>
                  </a:lnTo>
                  <a:lnTo>
                    <a:pt x="66" y="132"/>
                  </a:lnTo>
                  <a:lnTo>
                    <a:pt x="91" y="173"/>
                  </a:lnTo>
                  <a:lnTo>
                    <a:pt x="156" y="165"/>
                  </a:lnTo>
                  <a:lnTo>
                    <a:pt x="230" y="25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75080" y="4806720"/>
              <a:ext cx="155520" cy="249480"/>
            </a:xfrm>
            <a:custGeom>
              <a:avLst/>
              <a:gdLst/>
              <a:ahLst/>
              <a:rect l="l" t="t" r="r" b="b"/>
              <a:pathLst>
                <a:path w="98" h="157">
                  <a:moveTo>
                    <a:pt x="0" y="0"/>
                  </a:moveTo>
                  <a:lnTo>
                    <a:pt x="98" y="91"/>
                  </a:lnTo>
                  <a:lnTo>
                    <a:pt x="66" y="15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48080" y="4101840"/>
              <a:ext cx="1568520" cy="901800"/>
            </a:xfrm>
            <a:custGeom>
              <a:avLst/>
              <a:gdLst/>
              <a:ahLst/>
              <a:rect l="l" t="t" r="r" b="b"/>
              <a:pathLst>
                <a:path w="988" h="568">
                  <a:moveTo>
                    <a:pt x="0" y="197"/>
                  </a:moveTo>
                  <a:lnTo>
                    <a:pt x="99" y="173"/>
                  </a:lnTo>
                  <a:lnTo>
                    <a:pt x="288" y="0"/>
                  </a:lnTo>
                  <a:lnTo>
                    <a:pt x="362" y="66"/>
                  </a:lnTo>
                  <a:lnTo>
                    <a:pt x="362" y="140"/>
                  </a:lnTo>
                  <a:lnTo>
                    <a:pt x="502" y="378"/>
                  </a:lnTo>
                  <a:lnTo>
                    <a:pt x="552" y="370"/>
                  </a:lnTo>
                  <a:lnTo>
                    <a:pt x="609" y="477"/>
                  </a:lnTo>
                  <a:lnTo>
                    <a:pt x="691" y="518"/>
                  </a:lnTo>
                  <a:lnTo>
                    <a:pt x="881" y="461"/>
                  </a:lnTo>
                  <a:lnTo>
                    <a:pt x="930" y="444"/>
                  </a:lnTo>
                  <a:lnTo>
                    <a:pt x="930" y="510"/>
                  </a:lnTo>
                  <a:lnTo>
                    <a:pt x="988" y="56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05280" y="3984480"/>
              <a:ext cx="1503360" cy="979560"/>
            </a:xfrm>
            <a:custGeom>
              <a:avLst/>
              <a:gdLst/>
              <a:ahLst/>
              <a:rect l="l" t="t" r="r" b="b"/>
              <a:pathLst>
                <a:path w="947" h="617">
                  <a:moveTo>
                    <a:pt x="0" y="74"/>
                  </a:moveTo>
                  <a:lnTo>
                    <a:pt x="124" y="0"/>
                  </a:lnTo>
                  <a:lnTo>
                    <a:pt x="354" y="49"/>
                  </a:lnTo>
                  <a:lnTo>
                    <a:pt x="494" y="131"/>
                  </a:lnTo>
                  <a:lnTo>
                    <a:pt x="510" y="296"/>
                  </a:lnTo>
                  <a:lnTo>
                    <a:pt x="790" y="362"/>
                  </a:lnTo>
                  <a:lnTo>
                    <a:pt x="897" y="510"/>
                  </a:lnTo>
                  <a:lnTo>
                    <a:pt x="947" y="61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14920" y="3905280"/>
              <a:ext cx="954000" cy="379440"/>
            </a:xfrm>
            <a:custGeom>
              <a:avLst/>
              <a:gdLst/>
              <a:ahLst/>
              <a:rect l="l" t="t" r="r" b="b"/>
              <a:pathLst>
                <a:path w="601" h="239">
                  <a:moveTo>
                    <a:pt x="601" y="239"/>
                  </a:moveTo>
                  <a:lnTo>
                    <a:pt x="420" y="124"/>
                  </a:lnTo>
                  <a:lnTo>
                    <a:pt x="437" y="25"/>
                  </a:lnTo>
                  <a:lnTo>
                    <a:pt x="338" y="0"/>
                  </a:lnTo>
                  <a:lnTo>
                    <a:pt x="140" y="190"/>
                  </a:lnTo>
                  <a:lnTo>
                    <a:pt x="0" y="16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251320" y="3735360"/>
              <a:ext cx="52560" cy="1699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79720" y="3527280"/>
              <a:ext cx="862200" cy="574560"/>
            </a:xfrm>
            <a:custGeom>
              <a:avLst/>
              <a:gdLst/>
              <a:ahLst/>
              <a:rect l="l" t="t" r="r" b="b"/>
              <a:pathLst>
                <a:path w="543" h="362">
                  <a:moveTo>
                    <a:pt x="419" y="362"/>
                  </a:moveTo>
                  <a:lnTo>
                    <a:pt x="502" y="206"/>
                  </a:lnTo>
                  <a:lnTo>
                    <a:pt x="543" y="123"/>
                  </a:lnTo>
                  <a:lnTo>
                    <a:pt x="461" y="107"/>
                  </a:lnTo>
                  <a:lnTo>
                    <a:pt x="312" y="0"/>
                  </a:lnTo>
                  <a:lnTo>
                    <a:pt x="189" y="16"/>
                  </a:lnTo>
                  <a:lnTo>
                    <a:pt x="123" y="0"/>
                  </a:lnTo>
                  <a:lnTo>
                    <a:pt x="140" y="90"/>
                  </a:lnTo>
                  <a:lnTo>
                    <a:pt x="49" y="148"/>
                  </a:lnTo>
                  <a:lnTo>
                    <a:pt x="0" y="230"/>
                  </a:lnTo>
                  <a:lnTo>
                    <a:pt x="49" y="29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03480" y="3762360"/>
              <a:ext cx="876240" cy="247680"/>
            </a:xfrm>
            <a:custGeom>
              <a:avLst/>
              <a:gdLst/>
              <a:ahLst/>
              <a:rect l="l" t="t" r="r" b="b"/>
              <a:pathLst>
                <a:path w="552" h="156">
                  <a:moveTo>
                    <a:pt x="552" y="82"/>
                  </a:moveTo>
                  <a:lnTo>
                    <a:pt x="469" y="33"/>
                  </a:lnTo>
                  <a:lnTo>
                    <a:pt x="420" y="58"/>
                  </a:lnTo>
                  <a:lnTo>
                    <a:pt x="346" y="0"/>
                  </a:lnTo>
                  <a:lnTo>
                    <a:pt x="181" y="8"/>
                  </a:lnTo>
                  <a:lnTo>
                    <a:pt x="116" y="82"/>
                  </a:lnTo>
                  <a:lnTo>
                    <a:pt x="107" y="140"/>
                  </a:lnTo>
                  <a:lnTo>
                    <a:pt x="0" y="15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46400" y="3344760"/>
              <a:ext cx="1044360" cy="457200"/>
            </a:xfrm>
            <a:custGeom>
              <a:avLst/>
              <a:gdLst/>
              <a:ahLst/>
              <a:rect l="l" t="t" r="r" b="b"/>
              <a:pathLst>
                <a:path w="658" h="288">
                  <a:moveTo>
                    <a:pt x="658" y="288"/>
                  </a:moveTo>
                  <a:lnTo>
                    <a:pt x="634" y="214"/>
                  </a:lnTo>
                  <a:lnTo>
                    <a:pt x="403" y="255"/>
                  </a:lnTo>
                  <a:lnTo>
                    <a:pt x="321" y="238"/>
                  </a:lnTo>
                  <a:lnTo>
                    <a:pt x="354" y="189"/>
                  </a:lnTo>
                  <a:lnTo>
                    <a:pt x="272" y="139"/>
                  </a:lnTo>
                  <a:lnTo>
                    <a:pt x="198" y="139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81120" y="3004920"/>
              <a:ext cx="876600" cy="704880"/>
            </a:xfrm>
            <a:custGeom>
              <a:avLst/>
              <a:gdLst/>
              <a:ahLst/>
              <a:rect l="l" t="t" r="r" b="b"/>
              <a:pathLst>
                <a:path w="552" h="444">
                  <a:moveTo>
                    <a:pt x="0" y="288"/>
                  </a:moveTo>
                  <a:lnTo>
                    <a:pt x="74" y="205"/>
                  </a:lnTo>
                  <a:lnTo>
                    <a:pt x="132" y="238"/>
                  </a:lnTo>
                  <a:lnTo>
                    <a:pt x="198" y="189"/>
                  </a:lnTo>
                  <a:lnTo>
                    <a:pt x="231" y="123"/>
                  </a:lnTo>
                  <a:lnTo>
                    <a:pt x="297" y="107"/>
                  </a:lnTo>
                  <a:lnTo>
                    <a:pt x="329" y="33"/>
                  </a:lnTo>
                  <a:lnTo>
                    <a:pt x="404" y="0"/>
                  </a:lnTo>
                  <a:lnTo>
                    <a:pt x="436" y="57"/>
                  </a:lnTo>
                  <a:lnTo>
                    <a:pt x="478" y="214"/>
                  </a:lnTo>
                  <a:lnTo>
                    <a:pt x="436" y="279"/>
                  </a:lnTo>
                  <a:lnTo>
                    <a:pt x="552" y="411"/>
                  </a:lnTo>
                  <a:lnTo>
                    <a:pt x="502" y="44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95640" y="2678040"/>
              <a:ext cx="1671480" cy="784080"/>
            </a:xfrm>
            <a:custGeom>
              <a:avLst/>
              <a:gdLst/>
              <a:ahLst/>
              <a:rect l="l" t="t" r="r" b="b"/>
              <a:pathLst>
                <a:path w="1053" h="494">
                  <a:moveTo>
                    <a:pt x="0" y="197"/>
                  </a:moveTo>
                  <a:lnTo>
                    <a:pt x="8" y="82"/>
                  </a:lnTo>
                  <a:lnTo>
                    <a:pt x="206" y="25"/>
                  </a:lnTo>
                  <a:lnTo>
                    <a:pt x="272" y="107"/>
                  </a:lnTo>
                  <a:lnTo>
                    <a:pt x="313" y="263"/>
                  </a:lnTo>
                  <a:lnTo>
                    <a:pt x="288" y="337"/>
                  </a:lnTo>
                  <a:lnTo>
                    <a:pt x="337" y="378"/>
                  </a:lnTo>
                  <a:lnTo>
                    <a:pt x="428" y="354"/>
                  </a:lnTo>
                  <a:lnTo>
                    <a:pt x="494" y="453"/>
                  </a:lnTo>
                  <a:lnTo>
                    <a:pt x="568" y="453"/>
                  </a:lnTo>
                  <a:lnTo>
                    <a:pt x="617" y="494"/>
                  </a:lnTo>
                  <a:lnTo>
                    <a:pt x="732" y="395"/>
                  </a:lnTo>
                  <a:lnTo>
                    <a:pt x="765" y="313"/>
                  </a:lnTo>
                  <a:lnTo>
                    <a:pt x="823" y="329"/>
                  </a:lnTo>
                  <a:lnTo>
                    <a:pt x="864" y="288"/>
                  </a:lnTo>
                  <a:lnTo>
                    <a:pt x="905" y="313"/>
                  </a:lnTo>
                  <a:lnTo>
                    <a:pt x="971" y="247"/>
                  </a:lnTo>
                  <a:lnTo>
                    <a:pt x="1053" y="230"/>
                  </a:lnTo>
                  <a:lnTo>
                    <a:pt x="1037" y="181"/>
                  </a:lnTo>
                  <a:lnTo>
                    <a:pt x="955" y="181"/>
                  </a:lnTo>
                  <a:lnTo>
                    <a:pt x="839" y="90"/>
                  </a:lnTo>
                  <a:lnTo>
                    <a:pt x="749" y="173"/>
                  </a:lnTo>
                  <a:lnTo>
                    <a:pt x="699" y="230"/>
                  </a:lnTo>
                  <a:lnTo>
                    <a:pt x="486" y="148"/>
                  </a:lnTo>
                  <a:lnTo>
                    <a:pt x="469" y="99"/>
                  </a:lnTo>
                  <a:lnTo>
                    <a:pt x="29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89360" y="3095640"/>
              <a:ext cx="130320" cy="627120"/>
            </a:xfrm>
            <a:custGeom>
              <a:avLst/>
              <a:gdLst/>
              <a:ahLst/>
              <a:rect l="l" t="t" r="r" b="b"/>
              <a:pathLst>
                <a:path w="82" h="395">
                  <a:moveTo>
                    <a:pt x="8" y="395"/>
                  </a:moveTo>
                  <a:lnTo>
                    <a:pt x="82" y="280"/>
                  </a:lnTo>
                  <a:lnTo>
                    <a:pt x="82" y="198"/>
                  </a:lnTo>
                  <a:lnTo>
                    <a:pt x="25" y="165"/>
                  </a:lnTo>
                  <a:lnTo>
                    <a:pt x="0" y="83"/>
                  </a:lnTo>
                  <a:lnTo>
                    <a:pt x="49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32280" y="3527280"/>
              <a:ext cx="157320" cy="651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989600" y="3514680"/>
              <a:ext cx="144360" cy="777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79720" y="2050920"/>
              <a:ext cx="534960" cy="770040"/>
            </a:xfrm>
            <a:custGeom>
              <a:avLst/>
              <a:gdLst/>
              <a:ahLst/>
              <a:rect l="l" t="t" r="r" b="b"/>
              <a:pathLst>
                <a:path w="337" h="485">
                  <a:moveTo>
                    <a:pt x="337" y="485"/>
                  </a:moveTo>
                  <a:lnTo>
                    <a:pt x="222" y="354"/>
                  </a:lnTo>
                  <a:lnTo>
                    <a:pt x="107" y="296"/>
                  </a:lnTo>
                  <a:lnTo>
                    <a:pt x="66" y="321"/>
                  </a:lnTo>
                  <a:lnTo>
                    <a:pt x="8" y="263"/>
                  </a:lnTo>
                  <a:lnTo>
                    <a:pt x="66" y="173"/>
                  </a:lnTo>
                  <a:lnTo>
                    <a:pt x="33" y="123"/>
                  </a:lnTo>
                  <a:lnTo>
                    <a:pt x="66" y="8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62480" y="1973160"/>
              <a:ext cx="182520" cy="717480"/>
            </a:xfrm>
            <a:custGeom>
              <a:avLst/>
              <a:gdLst/>
              <a:ahLst/>
              <a:rect l="l" t="t" r="r" b="b"/>
              <a:pathLst>
                <a:path w="115" h="452">
                  <a:moveTo>
                    <a:pt x="58" y="0"/>
                  </a:moveTo>
                  <a:lnTo>
                    <a:pt x="58" y="90"/>
                  </a:lnTo>
                  <a:lnTo>
                    <a:pt x="25" y="131"/>
                  </a:lnTo>
                  <a:lnTo>
                    <a:pt x="74" y="246"/>
                  </a:lnTo>
                  <a:lnTo>
                    <a:pt x="74" y="329"/>
                  </a:lnTo>
                  <a:lnTo>
                    <a:pt x="115" y="386"/>
                  </a:lnTo>
                  <a:lnTo>
                    <a:pt x="83" y="427"/>
                  </a:lnTo>
                  <a:lnTo>
                    <a:pt x="41" y="362"/>
                  </a:lnTo>
                  <a:lnTo>
                    <a:pt x="0" y="45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4920" y="2860560"/>
              <a:ext cx="484200" cy="92160"/>
            </a:xfrm>
            <a:custGeom>
              <a:avLst/>
              <a:gdLst/>
              <a:ahLst/>
              <a:rect l="l" t="t" r="r" b="b"/>
              <a:pathLst>
                <a:path w="305" h="58">
                  <a:moveTo>
                    <a:pt x="0" y="58"/>
                  </a:moveTo>
                  <a:lnTo>
                    <a:pt x="140" y="8"/>
                  </a:lnTo>
                  <a:lnTo>
                    <a:pt x="190" y="41"/>
                  </a:lnTo>
                  <a:lnTo>
                    <a:pt x="305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43320" y="3498840"/>
              <a:ext cx="704880" cy="156960"/>
            </a:xfrm>
            <a:custGeom>
              <a:avLst/>
              <a:gdLst/>
              <a:ahLst/>
              <a:rect l="l" t="t" r="r" b="b"/>
              <a:pathLst>
                <a:path w="444" h="99">
                  <a:moveTo>
                    <a:pt x="0" y="99"/>
                  </a:moveTo>
                  <a:lnTo>
                    <a:pt x="271" y="74"/>
                  </a:lnTo>
                  <a:lnTo>
                    <a:pt x="444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603840" y="1862280"/>
            <a:ext cx="220032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Location</a:t>
            </a:r>
            <a:br>
              <a:rPr sz="16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r>
              <a:rPr b="1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Climate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Area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Population</a:t>
            </a:r>
            <a:br>
              <a:rPr sz="16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Gulim"/>
              </a:rPr>
              <a:t> 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87520" y="1566720"/>
            <a:ext cx="4846320" cy="451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5440" y="1366920"/>
            <a:ext cx="2300040" cy="43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135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25400" y="1398600"/>
            <a:ext cx="1955880" cy="34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1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Incheon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057320" y="1855800"/>
            <a:ext cx="4510080" cy="4076640"/>
            <a:chOff x="1057320" y="1855800"/>
            <a:chExt cx="4510080" cy="4076640"/>
          </a:xfrm>
        </p:grpSpPr>
        <p:sp>
          <p:nvSpPr>
            <p:cNvPr id="292" name=""/>
            <p:cNvSpPr/>
            <p:nvPr/>
          </p:nvSpPr>
          <p:spPr>
            <a:xfrm>
              <a:off x="2781360" y="1855800"/>
              <a:ext cx="1176480" cy="1646280"/>
            </a:xfrm>
            <a:custGeom>
              <a:avLst/>
              <a:gdLst/>
              <a:ahLst/>
              <a:rect l="l" t="t" r="r" b="b"/>
              <a:pathLst>
                <a:path w="741" h="1037">
                  <a:moveTo>
                    <a:pt x="0" y="148"/>
                  </a:moveTo>
                  <a:lnTo>
                    <a:pt x="41" y="223"/>
                  </a:lnTo>
                  <a:lnTo>
                    <a:pt x="16" y="511"/>
                  </a:lnTo>
                  <a:lnTo>
                    <a:pt x="107" y="519"/>
                  </a:lnTo>
                  <a:lnTo>
                    <a:pt x="173" y="552"/>
                  </a:lnTo>
                  <a:lnTo>
                    <a:pt x="156" y="601"/>
                  </a:lnTo>
                  <a:lnTo>
                    <a:pt x="222" y="634"/>
                  </a:lnTo>
                  <a:lnTo>
                    <a:pt x="239" y="716"/>
                  </a:lnTo>
                  <a:lnTo>
                    <a:pt x="206" y="782"/>
                  </a:lnTo>
                  <a:lnTo>
                    <a:pt x="132" y="766"/>
                  </a:lnTo>
                  <a:lnTo>
                    <a:pt x="58" y="766"/>
                  </a:lnTo>
                  <a:lnTo>
                    <a:pt x="99" y="897"/>
                  </a:lnTo>
                  <a:lnTo>
                    <a:pt x="230" y="955"/>
                  </a:lnTo>
                  <a:lnTo>
                    <a:pt x="387" y="930"/>
                  </a:lnTo>
                  <a:lnTo>
                    <a:pt x="444" y="996"/>
                  </a:lnTo>
                  <a:lnTo>
                    <a:pt x="510" y="897"/>
                  </a:lnTo>
                  <a:lnTo>
                    <a:pt x="617" y="922"/>
                  </a:lnTo>
                  <a:lnTo>
                    <a:pt x="650" y="1037"/>
                  </a:lnTo>
                  <a:lnTo>
                    <a:pt x="708" y="971"/>
                  </a:lnTo>
                  <a:lnTo>
                    <a:pt x="658" y="881"/>
                  </a:lnTo>
                  <a:lnTo>
                    <a:pt x="741" y="881"/>
                  </a:lnTo>
                  <a:lnTo>
                    <a:pt x="716" y="790"/>
                  </a:lnTo>
                  <a:lnTo>
                    <a:pt x="675" y="716"/>
                  </a:lnTo>
                  <a:lnTo>
                    <a:pt x="716" y="683"/>
                  </a:lnTo>
                  <a:lnTo>
                    <a:pt x="650" y="634"/>
                  </a:lnTo>
                  <a:lnTo>
                    <a:pt x="691" y="543"/>
                  </a:lnTo>
                  <a:lnTo>
                    <a:pt x="658" y="469"/>
                  </a:lnTo>
                  <a:lnTo>
                    <a:pt x="691" y="371"/>
                  </a:lnTo>
                  <a:lnTo>
                    <a:pt x="724" y="330"/>
                  </a:lnTo>
                  <a:lnTo>
                    <a:pt x="650" y="280"/>
                  </a:lnTo>
                  <a:lnTo>
                    <a:pt x="658" y="157"/>
                  </a:lnTo>
                  <a:lnTo>
                    <a:pt x="592" y="124"/>
                  </a:lnTo>
                  <a:lnTo>
                    <a:pt x="576" y="214"/>
                  </a:lnTo>
                  <a:lnTo>
                    <a:pt x="469" y="116"/>
                  </a:lnTo>
                  <a:lnTo>
                    <a:pt x="379" y="99"/>
                  </a:lnTo>
                  <a:lnTo>
                    <a:pt x="370" y="33"/>
                  </a:lnTo>
                  <a:lnTo>
                    <a:pt x="321" y="0"/>
                  </a:lnTo>
                  <a:lnTo>
                    <a:pt x="255" y="58"/>
                  </a:lnTo>
                  <a:lnTo>
                    <a:pt x="197" y="58"/>
                  </a:lnTo>
                  <a:lnTo>
                    <a:pt x="115" y="148"/>
                  </a:lnTo>
                  <a:lnTo>
                    <a:pt x="0" y="148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ffffff"/>
              </a:solidFill>
              <a:round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54360" y="1960560"/>
              <a:ext cx="849240" cy="419040"/>
            </a:xfrm>
            <a:custGeom>
              <a:avLst/>
              <a:gdLst/>
              <a:ahLst/>
              <a:rect l="l" t="t" r="r" b="b"/>
              <a:pathLst>
                <a:path w="535" h="264">
                  <a:moveTo>
                    <a:pt x="74" y="82"/>
                  </a:moveTo>
                  <a:lnTo>
                    <a:pt x="131" y="8"/>
                  </a:lnTo>
                  <a:lnTo>
                    <a:pt x="255" y="0"/>
                  </a:lnTo>
                  <a:lnTo>
                    <a:pt x="329" y="50"/>
                  </a:lnTo>
                  <a:lnTo>
                    <a:pt x="403" y="74"/>
                  </a:lnTo>
                  <a:lnTo>
                    <a:pt x="485" y="41"/>
                  </a:lnTo>
                  <a:lnTo>
                    <a:pt x="535" y="91"/>
                  </a:lnTo>
                  <a:lnTo>
                    <a:pt x="469" y="124"/>
                  </a:lnTo>
                  <a:lnTo>
                    <a:pt x="444" y="189"/>
                  </a:lnTo>
                  <a:lnTo>
                    <a:pt x="337" y="222"/>
                  </a:lnTo>
                  <a:lnTo>
                    <a:pt x="271" y="189"/>
                  </a:lnTo>
                  <a:lnTo>
                    <a:pt x="173" y="222"/>
                  </a:lnTo>
                  <a:lnTo>
                    <a:pt x="115" y="264"/>
                  </a:lnTo>
                  <a:lnTo>
                    <a:pt x="0" y="181"/>
                  </a:lnTo>
                  <a:lnTo>
                    <a:pt x="82" y="132"/>
                  </a:lnTo>
                  <a:lnTo>
                    <a:pt x="74" y="82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ffffff"/>
              </a:solidFill>
              <a:round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71600" y="2327400"/>
              <a:ext cx="719280" cy="757080"/>
            </a:xfrm>
            <a:custGeom>
              <a:avLst/>
              <a:gdLst/>
              <a:ahLst/>
              <a:rect l="l" t="t" r="r" b="b"/>
              <a:pathLst>
                <a:path w="453" h="477">
                  <a:moveTo>
                    <a:pt x="58" y="74"/>
                  </a:moveTo>
                  <a:lnTo>
                    <a:pt x="115" y="33"/>
                  </a:lnTo>
                  <a:lnTo>
                    <a:pt x="181" y="49"/>
                  </a:lnTo>
                  <a:lnTo>
                    <a:pt x="230" y="0"/>
                  </a:lnTo>
                  <a:lnTo>
                    <a:pt x="255" y="49"/>
                  </a:lnTo>
                  <a:lnTo>
                    <a:pt x="206" y="82"/>
                  </a:lnTo>
                  <a:lnTo>
                    <a:pt x="206" y="181"/>
                  </a:lnTo>
                  <a:lnTo>
                    <a:pt x="296" y="255"/>
                  </a:lnTo>
                  <a:lnTo>
                    <a:pt x="370" y="255"/>
                  </a:lnTo>
                  <a:lnTo>
                    <a:pt x="453" y="329"/>
                  </a:lnTo>
                  <a:lnTo>
                    <a:pt x="387" y="395"/>
                  </a:lnTo>
                  <a:lnTo>
                    <a:pt x="329" y="386"/>
                  </a:lnTo>
                  <a:lnTo>
                    <a:pt x="272" y="477"/>
                  </a:lnTo>
                  <a:lnTo>
                    <a:pt x="214" y="419"/>
                  </a:lnTo>
                  <a:lnTo>
                    <a:pt x="255" y="353"/>
                  </a:lnTo>
                  <a:lnTo>
                    <a:pt x="189" y="304"/>
                  </a:lnTo>
                  <a:lnTo>
                    <a:pt x="66" y="263"/>
                  </a:lnTo>
                  <a:lnTo>
                    <a:pt x="0" y="189"/>
                  </a:lnTo>
                  <a:lnTo>
                    <a:pt x="66" y="189"/>
                  </a:lnTo>
                  <a:lnTo>
                    <a:pt x="58" y="74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ffffff"/>
              </a:solidFill>
              <a:round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35400" y="3114720"/>
              <a:ext cx="1332000" cy="1646280"/>
            </a:xfrm>
            <a:custGeom>
              <a:avLst/>
              <a:gdLst/>
              <a:ahLst/>
              <a:rect l="l" t="t" r="r" b="b"/>
              <a:pathLst>
                <a:path w="839" h="1037">
                  <a:moveTo>
                    <a:pt x="0" y="214"/>
                  </a:moveTo>
                  <a:lnTo>
                    <a:pt x="107" y="123"/>
                  </a:lnTo>
                  <a:lnTo>
                    <a:pt x="189" y="123"/>
                  </a:lnTo>
                  <a:lnTo>
                    <a:pt x="239" y="0"/>
                  </a:lnTo>
                  <a:lnTo>
                    <a:pt x="370" y="0"/>
                  </a:lnTo>
                  <a:lnTo>
                    <a:pt x="444" y="74"/>
                  </a:lnTo>
                  <a:lnTo>
                    <a:pt x="535" y="132"/>
                  </a:lnTo>
                  <a:lnTo>
                    <a:pt x="543" y="181"/>
                  </a:lnTo>
                  <a:lnTo>
                    <a:pt x="642" y="164"/>
                  </a:lnTo>
                  <a:lnTo>
                    <a:pt x="732" y="238"/>
                  </a:lnTo>
                  <a:lnTo>
                    <a:pt x="823" y="238"/>
                  </a:lnTo>
                  <a:lnTo>
                    <a:pt x="839" y="321"/>
                  </a:lnTo>
                  <a:lnTo>
                    <a:pt x="765" y="354"/>
                  </a:lnTo>
                  <a:lnTo>
                    <a:pt x="691" y="420"/>
                  </a:lnTo>
                  <a:lnTo>
                    <a:pt x="700" y="469"/>
                  </a:lnTo>
                  <a:lnTo>
                    <a:pt x="774" y="494"/>
                  </a:lnTo>
                  <a:lnTo>
                    <a:pt x="782" y="584"/>
                  </a:lnTo>
                  <a:lnTo>
                    <a:pt x="732" y="642"/>
                  </a:lnTo>
                  <a:lnTo>
                    <a:pt x="798" y="691"/>
                  </a:lnTo>
                  <a:lnTo>
                    <a:pt x="798" y="773"/>
                  </a:lnTo>
                  <a:lnTo>
                    <a:pt x="749" y="798"/>
                  </a:lnTo>
                  <a:lnTo>
                    <a:pt x="568" y="1037"/>
                  </a:lnTo>
                  <a:lnTo>
                    <a:pt x="436" y="979"/>
                  </a:lnTo>
                  <a:lnTo>
                    <a:pt x="288" y="996"/>
                  </a:lnTo>
                  <a:lnTo>
                    <a:pt x="247" y="930"/>
                  </a:lnTo>
                  <a:lnTo>
                    <a:pt x="231" y="790"/>
                  </a:lnTo>
                  <a:lnTo>
                    <a:pt x="165" y="831"/>
                  </a:lnTo>
                  <a:lnTo>
                    <a:pt x="124" y="740"/>
                  </a:lnTo>
                  <a:lnTo>
                    <a:pt x="50" y="798"/>
                  </a:lnTo>
                  <a:lnTo>
                    <a:pt x="17" y="749"/>
                  </a:lnTo>
                  <a:lnTo>
                    <a:pt x="82" y="724"/>
                  </a:lnTo>
                  <a:lnTo>
                    <a:pt x="58" y="601"/>
                  </a:lnTo>
                  <a:lnTo>
                    <a:pt x="140" y="543"/>
                  </a:lnTo>
                  <a:lnTo>
                    <a:pt x="148" y="461"/>
                  </a:lnTo>
                  <a:lnTo>
                    <a:pt x="99" y="411"/>
                  </a:lnTo>
                  <a:lnTo>
                    <a:pt x="124" y="354"/>
                  </a:lnTo>
                  <a:lnTo>
                    <a:pt x="82" y="296"/>
                  </a:lnTo>
                  <a:lnTo>
                    <a:pt x="17" y="263"/>
                  </a:lnTo>
                  <a:lnTo>
                    <a:pt x="0" y="214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ffffff"/>
              </a:solidFill>
              <a:round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81360" y="3699000"/>
              <a:ext cx="1436760" cy="769680"/>
            </a:xfrm>
            <a:custGeom>
              <a:avLst/>
              <a:gdLst/>
              <a:ahLst/>
              <a:rect l="l" t="t" r="r" b="b"/>
              <a:pathLst>
                <a:path w="905" h="485">
                  <a:moveTo>
                    <a:pt x="485" y="197"/>
                  </a:moveTo>
                  <a:lnTo>
                    <a:pt x="576" y="107"/>
                  </a:lnTo>
                  <a:lnTo>
                    <a:pt x="584" y="24"/>
                  </a:lnTo>
                  <a:lnTo>
                    <a:pt x="683" y="0"/>
                  </a:lnTo>
                  <a:lnTo>
                    <a:pt x="708" y="49"/>
                  </a:lnTo>
                  <a:lnTo>
                    <a:pt x="773" y="107"/>
                  </a:lnTo>
                  <a:lnTo>
                    <a:pt x="864" y="82"/>
                  </a:lnTo>
                  <a:lnTo>
                    <a:pt x="905" y="172"/>
                  </a:lnTo>
                  <a:lnTo>
                    <a:pt x="905" y="271"/>
                  </a:lnTo>
                  <a:lnTo>
                    <a:pt x="798" y="271"/>
                  </a:lnTo>
                  <a:lnTo>
                    <a:pt x="675" y="279"/>
                  </a:lnTo>
                  <a:lnTo>
                    <a:pt x="560" y="321"/>
                  </a:lnTo>
                  <a:lnTo>
                    <a:pt x="510" y="395"/>
                  </a:lnTo>
                  <a:lnTo>
                    <a:pt x="370" y="485"/>
                  </a:lnTo>
                  <a:lnTo>
                    <a:pt x="304" y="469"/>
                  </a:lnTo>
                  <a:lnTo>
                    <a:pt x="222" y="386"/>
                  </a:lnTo>
                  <a:lnTo>
                    <a:pt x="156" y="427"/>
                  </a:lnTo>
                  <a:lnTo>
                    <a:pt x="58" y="403"/>
                  </a:lnTo>
                  <a:lnTo>
                    <a:pt x="82" y="353"/>
                  </a:lnTo>
                  <a:lnTo>
                    <a:pt x="0" y="271"/>
                  </a:lnTo>
                  <a:lnTo>
                    <a:pt x="49" y="246"/>
                  </a:lnTo>
                  <a:lnTo>
                    <a:pt x="91" y="271"/>
                  </a:lnTo>
                  <a:lnTo>
                    <a:pt x="247" y="164"/>
                  </a:lnTo>
                  <a:lnTo>
                    <a:pt x="428" y="148"/>
                  </a:lnTo>
                  <a:lnTo>
                    <a:pt x="485" y="197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ffffff"/>
              </a:solidFill>
              <a:round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25960" y="5265720"/>
              <a:ext cx="522000" cy="509760"/>
            </a:xfrm>
            <a:custGeom>
              <a:avLst/>
              <a:gdLst/>
              <a:ahLst/>
              <a:rect l="l" t="t" r="r" b="b"/>
              <a:pathLst>
                <a:path w="329" h="321">
                  <a:moveTo>
                    <a:pt x="107" y="74"/>
                  </a:moveTo>
                  <a:lnTo>
                    <a:pt x="173" y="0"/>
                  </a:lnTo>
                  <a:lnTo>
                    <a:pt x="255" y="0"/>
                  </a:lnTo>
                  <a:lnTo>
                    <a:pt x="304" y="49"/>
                  </a:lnTo>
                  <a:lnTo>
                    <a:pt x="329" y="132"/>
                  </a:lnTo>
                  <a:lnTo>
                    <a:pt x="321" y="206"/>
                  </a:lnTo>
                  <a:lnTo>
                    <a:pt x="222" y="255"/>
                  </a:lnTo>
                  <a:lnTo>
                    <a:pt x="189" y="321"/>
                  </a:lnTo>
                  <a:lnTo>
                    <a:pt x="123" y="288"/>
                  </a:lnTo>
                  <a:lnTo>
                    <a:pt x="131" y="206"/>
                  </a:lnTo>
                  <a:lnTo>
                    <a:pt x="57" y="255"/>
                  </a:lnTo>
                  <a:lnTo>
                    <a:pt x="8" y="214"/>
                  </a:lnTo>
                  <a:lnTo>
                    <a:pt x="49" y="156"/>
                  </a:lnTo>
                  <a:lnTo>
                    <a:pt x="0" y="99"/>
                  </a:lnTo>
                  <a:lnTo>
                    <a:pt x="24" y="33"/>
                  </a:lnTo>
                  <a:lnTo>
                    <a:pt x="107" y="74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ffffff"/>
              </a:solidFill>
              <a:round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57320" y="5240520"/>
              <a:ext cx="797040" cy="691920"/>
            </a:xfrm>
            <a:custGeom>
              <a:avLst/>
              <a:gdLst/>
              <a:ahLst/>
              <a:rect l="l" t="t" r="r" b="b"/>
              <a:pathLst>
                <a:path w="502" h="436">
                  <a:moveTo>
                    <a:pt x="0" y="24"/>
                  </a:moveTo>
                  <a:lnTo>
                    <a:pt x="57" y="0"/>
                  </a:lnTo>
                  <a:lnTo>
                    <a:pt x="148" y="57"/>
                  </a:lnTo>
                  <a:lnTo>
                    <a:pt x="148" y="139"/>
                  </a:lnTo>
                  <a:lnTo>
                    <a:pt x="230" y="189"/>
                  </a:lnTo>
                  <a:lnTo>
                    <a:pt x="337" y="197"/>
                  </a:lnTo>
                  <a:lnTo>
                    <a:pt x="436" y="279"/>
                  </a:lnTo>
                  <a:lnTo>
                    <a:pt x="502" y="345"/>
                  </a:lnTo>
                  <a:lnTo>
                    <a:pt x="444" y="436"/>
                  </a:lnTo>
                  <a:lnTo>
                    <a:pt x="387" y="312"/>
                  </a:lnTo>
                  <a:lnTo>
                    <a:pt x="296" y="279"/>
                  </a:lnTo>
                  <a:lnTo>
                    <a:pt x="255" y="320"/>
                  </a:lnTo>
                  <a:lnTo>
                    <a:pt x="156" y="320"/>
                  </a:lnTo>
                  <a:lnTo>
                    <a:pt x="57" y="238"/>
                  </a:lnTo>
                  <a:lnTo>
                    <a:pt x="66" y="164"/>
                  </a:lnTo>
                  <a:lnTo>
                    <a:pt x="107" y="107"/>
                  </a:lnTo>
                  <a:lnTo>
                    <a:pt x="0" y="24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ffffff"/>
              </a:solidFill>
              <a:round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98600" y="5357880"/>
              <a:ext cx="547920" cy="208080"/>
            </a:xfrm>
            <a:custGeom>
              <a:avLst/>
              <a:gdLst/>
              <a:ahLst/>
              <a:rect l="l" t="t" r="r" b="b"/>
              <a:pathLst>
                <a:path w="345" h="131">
                  <a:moveTo>
                    <a:pt x="41" y="0"/>
                  </a:moveTo>
                  <a:lnTo>
                    <a:pt x="181" y="41"/>
                  </a:lnTo>
                  <a:lnTo>
                    <a:pt x="230" y="65"/>
                  </a:lnTo>
                  <a:lnTo>
                    <a:pt x="288" y="24"/>
                  </a:lnTo>
                  <a:lnTo>
                    <a:pt x="345" y="74"/>
                  </a:lnTo>
                  <a:lnTo>
                    <a:pt x="255" y="115"/>
                  </a:lnTo>
                  <a:lnTo>
                    <a:pt x="172" y="131"/>
                  </a:lnTo>
                  <a:lnTo>
                    <a:pt x="65" y="65"/>
                  </a:lnTo>
                  <a:lnTo>
                    <a:pt x="0" y="49"/>
                  </a:lnTo>
                  <a:lnTo>
                    <a:pt x="41" y="0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ffffff"/>
              </a:solidFill>
              <a:round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94080" y="3541680"/>
              <a:ext cx="561960" cy="300240"/>
            </a:xfrm>
            <a:custGeom>
              <a:avLst/>
              <a:gdLst/>
              <a:ahLst/>
              <a:rect l="l" t="t" r="r" b="b"/>
              <a:pathLst>
                <a:path w="354" h="189">
                  <a:moveTo>
                    <a:pt x="354" y="82"/>
                  </a:moveTo>
                  <a:lnTo>
                    <a:pt x="173" y="107"/>
                  </a:lnTo>
                  <a:lnTo>
                    <a:pt x="132" y="57"/>
                  </a:lnTo>
                  <a:lnTo>
                    <a:pt x="0" y="0"/>
                  </a:lnTo>
                  <a:lnTo>
                    <a:pt x="25" y="66"/>
                  </a:lnTo>
                  <a:lnTo>
                    <a:pt x="90" y="123"/>
                  </a:lnTo>
                  <a:lnTo>
                    <a:pt x="90" y="189"/>
                  </a:lnTo>
                  <a:lnTo>
                    <a:pt x="247" y="156"/>
                  </a:lnTo>
                  <a:lnTo>
                    <a:pt x="346" y="181"/>
                  </a:lnTo>
                  <a:lnTo>
                    <a:pt x="354" y="82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ffffff"/>
              </a:solidFill>
              <a:round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16440" y="4481640"/>
              <a:ext cx="392040" cy="326880"/>
            </a:xfrm>
            <a:custGeom>
              <a:avLst/>
              <a:gdLst/>
              <a:ahLst/>
              <a:rect l="l" t="t" r="r" b="b"/>
              <a:pathLst>
                <a:path w="247" h="206">
                  <a:moveTo>
                    <a:pt x="247" y="206"/>
                  </a:moveTo>
                  <a:lnTo>
                    <a:pt x="247" y="132"/>
                  </a:lnTo>
                  <a:lnTo>
                    <a:pt x="58" y="0"/>
                  </a:lnTo>
                  <a:lnTo>
                    <a:pt x="0" y="58"/>
                  </a:lnTo>
                  <a:lnTo>
                    <a:pt x="82" y="99"/>
                  </a:lnTo>
                  <a:lnTo>
                    <a:pt x="91" y="181"/>
                  </a:lnTo>
                  <a:lnTo>
                    <a:pt x="181" y="165"/>
                  </a:lnTo>
                  <a:lnTo>
                    <a:pt x="247" y="206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ffffff"/>
              </a:solidFill>
              <a:round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73400" y="3619440"/>
              <a:ext cx="405000" cy="235080"/>
            </a:xfrm>
            <a:custGeom>
              <a:avLst/>
              <a:gdLst/>
              <a:ahLst/>
              <a:rect l="l" t="t" r="r" b="b"/>
              <a:pathLst>
                <a:path w="255" h="148">
                  <a:moveTo>
                    <a:pt x="255" y="83"/>
                  </a:moveTo>
                  <a:lnTo>
                    <a:pt x="189" y="41"/>
                  </a:lnTo>
                  <a:lnTo>
                    <a:pt x="140" y="99"/>
                  </a:lnTo>
                  <a:lnTo>
                    <a:pt x="82" y="25"/>
                  </a:lnTo>
                  <a:lnTo>
                    <a:pt x="33" y="0"/>
                  </a:lnTo>
                  <a:lnTo>
                    <a:pt x="0" y="91"/>
                  </a:lnTo>
                  <a:lnTo>
                    <a:pt x="90" y="132"/>
                  </a:lnTo>
                  <a:lnTo>
                    <a:pt x="164" y="124"/>
                  </a:lnTo>
                  <a:lnTo>
                    <a:pt x="222" y="148"/>
                  </a:lnTo>
                  <a:lnTo>
                    <a:pt x="255" y="83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ffffff"/>
              </a:solidFill>
              <a:round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32000" y="2717640"/>
              <a:ext cx="639720" cy="287640"/>
            </a:xfrm>
            <a:custGeom>
              <a:avLst/>
              <a:gdLst/>
              <a:ahLst/>
              <a:rect l="l" t="t" r="r" b="b"/>
              <a:pathLst>
                <a:path w="403" h="181">
                  <a:moveTo>
                    <a:pt x="403" y="124"/>
                  </a:moveTo>
                  <a:lnTo>
                    <a:pt x="304" y="91"/>
                  </a:lnTo>
                  <a:lnTo>
                    <a:pt x="304" y="9"/>
                  </a:lnTo>
                  <a:lnTo>
                    <a:pt x="238" y="66"/>
                  </a:lnTo>
                  <a:lnTo>
                    <a:pt x="197" y="33"/>
                  </a:lnTo>
                  <a:lnTo>
                    <a:pt x="123" y="99"/>
                  </a:lnTo>
                  <a:lnTo>
                    <a:pt x="98" y="0"/>
                  </a:lnTo>
                  <a:lnTo>
                    <a:pt x="0" y="9"/>
                  </a:lnTo>
                  <a:lnTo>
                    <a:pt x="8" y="75"/>
                  </a:lnTo>
                  <a:lnTo>
                    <a:pt x="148" y="99"/>
                  </a:lnTo>
                  <a:lnTo>
                    <a:pt x="181" y="157"/>
                  </a:lnTo>
                  <a:lnTo>
                    <a:pt x="255" y="116"/>
                  </a:lnTo>
                  <a:lnTo>
                    <a:pt x="288" y="181"/>
                  </a:lnTo>
                  <a:lnTo>
                    <a:pt x="362" y="181"/>
                  </a:lnTo>
                  <a:lnTo>
                    <a:pt x="403" y="124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ffffff"/>
              </a:solidFill>
              <a:round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913120" y="2405160"/>
            <a:ext cx="1041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Ganghw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-gun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479840" y="3371760"/>
            <a:ext cx="914400" cy="1279440"/>
            <a:chOff x="4479840" y="3371760"/>
            <a:chExt cx="914400" cy="1279440"/>
          </a:xfrm>
        </p:grpSpPr>
        <p:sp>
          <p:nvSpPr>
            <p:cNvPr id="306" name=""/>
            <p:cNvSpPr/>
            <p:nvPr/>
          </p:nvSpPr>
          <p:spPr>
            <a:xfrm>
              <a:off x="4479840" y="3371760"/>
              <a:ext cx="587520" cy="692280"/>
            </a:xfrm>
            <a:custGeom>
              <a:avLst/>
              <a:gdLst/>
              <a:ahLst/>
              <a:rect l="l" t="t" r="r" b="b"/>
              <a:pathLst>
                <a:path w="370" h="436">
                  <a:moveTo>
                    <a:pt x="370" y="0"/>
                  </a:moveTo>
                  <a:lnTo>
                    <a:pt x="263" y="8"/>
                  </a:lnTo>
                  <a:lnTo>
                    <a:pt x="247" y="90"/>
                  </a:lnTo>
                  <a:lnTo>
                    <a:pt x="304" y="123"/>
                  </a:lnTo>
                  <a:lnTo>
                    <a:pt x="329" y="181"/>
                  </a:lnTo>
                  <a:lnTo>
                    <a:pt x="304" y="222"/>
                  </a:lnTo>
                  <a:lnTo>
                    <a:pt x="230" y="197"/>
                  </a:lnTo>
                  <a:lnTo>
                    <a:pt x="205" y="247"/>
                  </a:lnTo>
                  <a:lnTo>
                    <a:pt x="238" y="345"/>
                  </a:lnTo>
                  <a:lnTo>
                    <a:pt x="263" y="436"/>
                  </a:lnTo>
                  <a:lnTo>
                    <a:pt x="189" y="436"/>
                  </a:lnTo>
                  <a:lnTo>
                    <a:pt x="123" y="362"/>
                  </a:lnTo>
                  <a:lnTo>
                    <a:pt x="0" y="35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57840" y="3724200"/>
              <a:ext cx="483840" cy="144360"/>
            </a:xfrm>
            <a:custGeom>
              <a:avLst/>
              <a:gdLst/>
              <a:ahLst/>
              <a:rect l="l" t="t" r="r" b="b"/>
              <a:pathLst>
                <a:path w="305" h="91">
                  <a:moveTo>
                    <a:pt x="0" y="0"/>
                  </a:moveTo>
                  <a:lnTo>
                    <a:pt x="50" y="74"/>
                  </a:lnTo>
                  <a:lnTo>
                    <a:pt x="198" y="33"/>
                  </a:lnTo>
                  <a:lnTo>
                    <a:pt x="255" y="91"/>
                  </a:lnTo>
                  <a:lnTo>
                    <a:pt x="305" y="6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84600" y="4103640"/>
              <a:ext cx="809640" cy="260280"/>
            </a:xfrm>
            <a:custGeom>
              <a:avLst/>
              <a:gdLst/>
              <a:ahLst/>
              <a:rect l="l" t="t" r="r" b="b"/>
              <a:pathLst>
                <a:path w="510" h="164">
                  <a:moveTo>
                    <a:pt x="510" y="16"/>
                  </a:moveTo>
                  <a:lnTo>
                    <a:pt x="419" y="57"/>
                  </a:lnTo>
                  <a:lnTo>
                    <a:pt x="279" y="0"/>
                  </a:lnTo>
                  <a:lnTo>
                    <a:pt x="222" y="74"/>
                  </a:lnTo>
                  <a:lnTo>
                    <a:pt x="205" y="148"/>
                  </a:lnTo>
                  <a:lnTo>
                    <a:pt x="90" y="131"/>
                  </a:lnTo>
                  <a:lnTo>
                    <a:pt x="0" y="16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19680" y="4286160"/>
              <a:ext cx="195120" cy="365040"/>
            </a:xfrm>
            <a:custGeom>
              <a:avLst/>
              <a:gdLst/>
              <a:ahLst/>
              <a:rect l="l" t="t" r="r" b="b"/>
              <a:pathLst>
                <a:path w="123" h="230">
                  <a:moveTo>
                    <a:pt x="57" y="0"/>
                  </a:moveTo>
                  <a:lnTo>
                    <a:pt x="123" y="33"/>
                  </a:lnTo>
                  <a:lnTo>
                    <a:pt x="115" y="90"/>
                  </a:lnTo>
                  <a:lnTo>
                    <a:pt x="65" y="123"/>
                  </a:lnTo>
                  <a:lnTo>
                    <a:pt x="49" y="189"/>
                  </a:lnTo>
                  <a:lnTo>
                    <a:pt x="0" y="23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10040" y="4051080"/>
              <a:ext cx="79560" cy="777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4300560" y="4029120"/>
            <a:ext cx="909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Nam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52760" y="3394080"/>
            <a:ext cx="8305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Seo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38680" y="3497400"/>
            <a:ext cx="12351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Gyeyang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27600" y="3789360"/>
            <a:ext cx="14572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Bupyeong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03920" y="4284720"/>
            <a:ext cx="14572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Namdong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71960" y="3852720"/>
            <a:ext cx="14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Dong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83040" y="4373640"/>
            <a:ext cx="14572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Yeonsu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75120" y="4030560"/>
            <a:ext cx="7268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Jung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-gu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962440" y="5335560"/>
            <a:ext cx="14065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166e"/>
                </a:solidFill>
                <a:latin typeface="Verdana"/>
                <a:ea typeface="Gulim"/>
              </a:rPr>
              <a:t>Ongjin-gun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03840" y="1862280"/>
            <a:ext cx="220032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Location</a:t>
            </a:r>
            <a:br>
              <a:rPr sz="16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r>
              <a:rPr b="1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Climate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Area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Population</a:t>
            </a:r>
            <a:br>
              <a:rPr sz="16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Gulim"/>
              </a:rPr>
              <a:t> 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4280" y="133200"/>
            <a:ext cx="7848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Master title style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95440" y="1366920"/>
            <a:ext cx="2300040" cy="43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135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25400" y="1398600"/>
            <a:ext cx="1955880" cy="34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1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Daejeon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81040" y="1868400"/>
            <a:ext cx="3919680" cy="4075200"/>
          </a:xfrm>
          <a:custGeom>
            <a:avLst/>
            <a:gdLst/>
            <a:ahLst/>
            <a:rect l="l" t="t" r="r" b="b"/>
            <a:pathLst>
              <a:path w="2469" h="2567">
                <a:moveTo>
                  <a:pt x="905" y="82"/>
                </a:moveTo>
                <a:lnTo>
                  <a:pt x="988" y="98"/>
                </a:lnTo>
                <a:lnTo>
                  <a:pt x="1054" y="0"/>
                </a:lnTo>
                <a:lnTo>
                  <a:pt x="1128" y="0"/>
                </a:lnTo>
                <a:lnTo>
                  <a:pt x="1144" y="66"/>
                </a:lnTo>
                <a:lnTo>
                  <a:pt x="1251" y="98"/>
                </a:lnTo>
                <a:lnTo>
                  <a:pt x="1259" y="181"/>
                </a:lnTo>
                <a:lnTo>
                  <a:pt x="1218" y="247"/>
                </a:lnTo>
                <a:lnTo>
                  <a:pt x="1235" y="370"/>
                </a:lnTo>
                <a:lnTo>
                  <a:pt x="1309" y="395"/>
                </a:lnTo>
                <a:lnTo>
                  <a:pt x="1366" y="345"/>
                </a:lnTo>
                <a:lnTo>
                  <a:pt x="1531" y="345"/>
                </a:lnTo>
                <a:lnTo>
                  <a:pt x="1580" y="411"/>
                </a:lnTo>
                <a:lnTo>
                  <a:pt x="1687" y="419"/>
                </a:lnTo>
                <a:lnTo>
                  <a:pt x="1736" y="329"/>
                </a:lnTo>
                <a:lnTo>
                  <a:pt x="1736" y="247"/>
                </a:lnTo>
                <a:lnTo>
                  <a:pt x="1835" y="197"/>
                </a:lnTo>
                <a:lnTo>
                  <a:pt x="1901" y="181"/>
                </a:lnTo>
                <a:lnTo>
                  <a:pt x="1909" y="238"/>
                </a:lnTo>
                <a:lnTo>
                  <a:pt x="1868" y="288"/>
                </a:lnTo>
                <a:lnTo>
                  <a:pt x="1868" y="370"/>
                </a:lnTo>
                <a:lnTo>
                  <a:pt x="1942" y="386"/>
                </a:lnTo>
                <a:lnTo>
                  <a:pt x="2016" y="354"/>
                </a:lnTo>
                <a:lnTo>
                  <a:pt x="2082" y="378"/>
                </a:lnTo>
                <a:lnTo>
                  <a:pt x="2057" y="469"/>
                </a:lnTo>
                <a:lnTo>
                  <a:pt x="1967" y="551"/>
                </a:lnTo>
                <a:lnTo>
                  <a:pt x="1992" y="658"/>
                </a:lnTo>
                <a:lnTo>
                  <a:pt x="2049" y="740"/>
                </a:lnTo>
                <a:lnTo>
                  <a:pt x="2148" y="724"/>
                </a:lnTo>
                <a:lnTo>
                  <a:pt x="2148" y="633"/>
                </a:lnTo>
                <a:lnTo>
                  <a:pt x="2230" y="625"/>
                </a:lnTo>
                <a:lnTo>
                  <a:pt x="2263" y="666"/>
                </a:lnTo>
                <a:lnTo>
                  <a:pt x="2370" y="642"/>
                </a:lnTo>
                <a:lnTo>
                  <a:pt x="2362" y="732"/>
                </a:lnTo>
                <a:lnTo>
                  <a:pt x="2461" y="798"/>
                </a:lnTo>
                <a:lnTo>
                  <a:pt x="2469" y="864"/>
                </a:lnTo>
                <a:lnTo>
                  <a:pt x="2321" y="855"/>
                </a:lnTo>
                <a:lnTo>
                  <a:pt x="2222" y="913"/>
                </a:lnTo>
                <a:lnTo>
                  <a:pt x="2238" y="1045"/>
                </a:lnTo>
                <a:lnTo>
                  <a:pt x="2214" y="1218"/>
                </a:lnTo>
                <a:lnTo>
                  <a:pt x="2099" y="1267"/>
                </a:lnTo>
                <a:lnTo>
                  <a:pt x="2049" y="1324"/>
                </a:lnTo>
                <a:lnTo>
                  <a:pt x="2049" y="1423"/>
                </a:lnTo>
                <a:lnTo>
                  <a:pt x="1992" y="1522"/>
                </a:lnTo>
                <a:lnTo>
                  <a:pt x="1983" y="1629"/>
                </a:lnTo>
                <a:lnTo>
                  <a:pt x="2016" y="1736"/>
                </a:lnTo>
                <a:lnTo>
                  <a:pt x="1992" y="1826"/>
                </a:lnTo>
                <a:lnTo>
                  <a:pt x="1926" y="1868"/>
                </a:lnTo>
                <a:lnTo>
                  <a:pt x="1926" y="2007"/>
                </a:lnTo>
                <a:lnTo>
                  <a:pt x="1975" y="2082"/>
                </a:lnTo>
                <a:lnTo>
                  <a:pt x="1942" y="2180"/>
                </a:lnTo>
                <a:lnTo>
                  <a:pt x="1835" y="2180"/>
                </a:lnTo>
                <a:lnTo>
                  <a:pt x="1761" y="2197"/>
                </a:lnTo>
                <a:lnTo>
                  <a:pt x="1753" y="2304"/>
                </a:lnTo>
                <a:lnTo>
                  <a:pt x="1654" y="2361"/>
                </a:lnTo>
                <a:lnTo>
                  <a:pt x="1638" y="2460"/>
                </a:lnTo>
                <a:lnTo>
                  <a:pt x="1498" y="2427"/>
                </a:lnTo>
                <a:lnTo>
                  <a:pt x="1457" y="2394"/>
                </a:lnTo>
                <a:lnTo>
                  <a:pt x="1300" y="2337"/>
                </a:lnTo>
                <a:lnTo>
                  <a:pt x="1300" y="2246"/>
                </a:lnTo>
                <a:lnTo>
                  <a:pt x="1235" y="2213"/>
                </a:lnTo>
                <a:lnTo>
                  <a:pt x="1226" y="2156"/>
                </a:lnTo>
                <a:lnTo>
                  <a:pt x="1152" y="2131"/>
                </a:lnTo>
                <a:lnTo>
                  <a:pt x="1144" y="2040"/>
                </a:lnTo>
                <a:lnTo>
                  <a:pt x="1119" y="1999"/>
                </a:lnTo>
                <a:lnTo>
                  <a:pt x="1160" y="1933"/>
                </a:lnTo>
                <a:lnTo>
                  <a:pt x="1136" y="1876"/>
                </a:lnTo>
                <a:lnTo>
                  <a:pt x="988" y="1843"/>
                </a:lnTo>
                <a:lnTo>
                  <a:pt x="914" y="1868"/>
                </a:lnTo>
                <a:lnTo>
                  <a:pt x="897" y="1958"/>
                </a:lnTo>
                <a:lnTo>
                  <a:pt x="938" y="2016"/>
                </a:lnTo>
                <a:lnTo>
                  <a:pt x="905" y="2213"/>
                </a:lnTo>
                <a:lnTo>
                  <a:pt x="947" y="2279"/>
                </a:lnTo>
                <a:lnTo>
                  <a:pt x="872" y="2345"/>
                </a:lnTo>
                <a:lnTo>
                  <a:pt x="815" y="2320"/>
                </a:lnTo>
                <a:lnTo>
                  <a:pt x="798" y="2394"/>
                </a:lnTo>
                <a:lnTo>
                  <a:pt x="798" y="2452"/>
                </a:lnTo>
                <a:lnTo>
                  <a:pt x="683" y="2567"/>
                </a:lnTo>
                <a:lnTo>
                  <a:pt x="667" y="2485"/>
                </a:lnTo>
                <a:lnTo>
                  <a:pt x="691" y="2386"/>
                </a:lnTo>
                <a:lnTo>
                  <a:pt x="593" y="2361"/>
                </a:lnTo>
                <a:lnTo>
                  <a:pt x="593" y="2279"/>
                </a:lnTo>
                <a:lnTo>
                  <a:pt x="543" y="2230"/>
                </a:lnTo>
                <a:lnTo>
                  <a:pt x="453" y="2180"/>
                </a:lnTo>
                <a:lnTo>
                  <a:pt x="445" y="2263"/>
                </a:lnTo>
                <a:lnTo>
                  <a:pt x="379" y="2254"/>
                </a:lnTo>
                <a:lnTo>
                  <a:pt x="362" y="2188"/>
                </a:lnTo>
                <a:lnTo>
                  <a:pt x="280" y="2131"/>
                </a:lnTo>
                <a:lnTo>
                  <a:pt x="264" y="2032"/>
                </a:lnTo>
                <a:lnTo>
                  <a:pt x="272" y="1950"/>
                </a:lnTo>
                <a:lnTo>
                  <a:pt x="338" y="1900"/>
                </a:lnTo>
                <a:lnTo>
                  <a:pt x="214" y="1884"/>
                </a:lnTo>
                <a:lnTo>
                  <a:pt x="157" y="1835"/>
                </a:lnTo>
                <a:lnTo>
                  <a:pt x="124" y="1794"/>
                </a:lnTo>
                <a:lnTo>
                  <a:pt x="0" y="1752"/>
                </a:lnTo>
                <a:lnTo>
                  <a:pt x="17" y="1695"/>
                </a:lnTo>
                <a:lnTo>
                  <a:pt x="83" y="1621"/>
                </a:lnTo>
                <a:lnTo>
                  <a:pt x="83" y="1514"/>
                </a:lnTo>
                <a:lnTo>
                  <a:pt x="91" y="1382"/>
                </a:lnTo>
                <a:lnTo>
                  <a:pt x="157" y="1390"/>
                </a:lnTo>
                <a:lnTo>
                  <a:pt x="165" y="1316"/>
                </a:lnTo>
                <a:lnTo>
                  <a:pt x="247" y="1218"/>
                </a:lnTo>
                <a:lnTo>
                  <a:pt x="198" y="1143"/>
                </a:lnTo>
                <a:lnTo>
                  <a:pt x="198" y="1078"/>
                </a:lnTo>
                <a:lnTo>
                  <a:pt x="255" y="1102"/>
                </a:lnTo>
                <a:lnTo>
                  <a:pt x="272" y="987"/>
                </a:lnTo>
                <a:lnTo>
                  <a:pt x="239" y="930"/>
                </a:lnTo>
                <a:lnTo>
                  <a:pt x="264" y="707"/>
                </a:lnTo>
                <a:lnTo>
                  <a:pt x="395" y="617"/>
                </a:lnTo>
                <a:lnTo>
                  <a:pt x="527" y="609"/>
                </a:lnTo>
                <a:lnTo>
                  <a:pt x="560" y="658"/>
                </a:lnTo>
                <a:lnTo>
                  <a:pt x="757" y="584"/>
                </a:lnTo>
                <a:lnTo>
                  <a:pt x="749" y="502"/>
                </a:lnTo>
                <a:lnTo>
                  <a:pt x="798" y="444"/>
                </a:lnTo>
                <a:lnTo>
                  <a:pt x="872" y="428"/>
                </a:lnTo>
                <a:lnTo>
                  <a:pt x="889" y="304"/>
                </a:lnTo>
                <a:lnTo>
                  <a:pt x="955" y="230"/>
                </a:lnTo>
                <a:lnTo>
                  <a:pt x="881" y="140"/>
                </a:lnTo>
                <a:lnTo>
                  <a:pt x="905" y="82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28440">
            <a:solidFill>
              <a:srgbClr val="ffffff"/>
            </a:solidFill>
            <a:round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78200" y="2481120"/>
            <a:ext cx="2585880" cy="3135240"/>
            <a:chOff x="1978200" y="2481120"/>
            <a:chExt cx="2585880" cy="3135240"/>
          </a:xfrm>
        </p:grpSpPr>
        <p:sp>
          <p:nvSpPr>
            <p:cNvPr id="326" name=""/>
            <p:cNvSpPr/>
            <p:nvPr/>
          </p:nvSpPr>
          <p:spPr>
            <a:xfrm>
              <a:off x="1978200" y="2481120"/>
              <a:ext cx="1724040" cy="2403360"/>
            </a:xfrm>
            <a:custGeom>
              <a:avLst/>
              <a:gdLst/>
              <a:ahLst/>
              <a:rect l="l" t="t" r="r" b="b"/>
              <a:pathLst>
                <a:path w="1086" h="1514">
                  <a:moveTo>
                    <a:pt x="0" y="1514"/>
                  </a:moveTo>
                  <a:lnTo>
                    <a:pt x="197" y="1449"/>
                  </a:lnTo>
                  <a:lnTo>
                    <a:pt x="247" y="1317"/>
                  </a:lnTo>
                  <a:lnTo>
                    <a:pt x="337" y="1243"/>
                  </a:lnTo>
                  <a:lnTo>
                    <a:pt x="362" y="1087"/>
                  </a:lnTo>
                  <a:lnTo>
                    <a:pt x="428" y="1013"/>
                  </a:lnTo>
                  <a:lnTo>
                    <a:pt x="535" y="955"/>
                  </a:lnTo>
                  <a:lnTo>
                    <a:pt x="518" y="782"/>
                  </a:lnTo>
                  <a:lnTo>
                    <a:pt x="675" y="683"/>
                  </a:lnTo>
                  <a:lnTo>
                    <a:pt x="782" y="634"/>
                  </a:lnTo>
                  <a:lnTo>
                    <a:pt x="880" y="659"/>
                  </a:lnTo>
                  <a:lnTo>
                    <a:pt x="987" y="609"/>
                  </a:lnTo>
                  <a:lnTo>
                    <a:pt x="979" y="494"/>
                  </a:lnTo>
                  <a:lnTo>
                    <a:pt x="1020" y="379"/>
                  </a:lnTo>
                  <a:lnTo>
                    <a:pt x="1086" y="362"/>
                  </a:lnTo>
                  <a:lnTo>
                    <a:pt x="1037" y="231"/>
                  </a:lnTo>
                  <a:lnTo>
                    <a:pt x="922" y="181"/>
                  </a:lnTo>
                  <a:lnTo>
                    <a:pt x="856" y="124"/>
                  </a:lnTo>
                  <a:lnTo>
                    <a:pt x="839" y="42"/>
                  </a:lnTo>
                  <a:lnTo>
                    <a:pt x="93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22920" y="3539880"/>
              <a:ext cx="457200" cy="1254240"/>
            </a:xfrm>
            <a:custGeom>
              <a:avLst/>
              <a:gdLst/>
              <a:ahLst/>
              <a:rect l="l" t="t" r="r" b="b"/>
              <a:pathLst>
                <a:path w="288" h="790">
                  <a:moveTo>
                    <a:pt x="33" y="790"/>
                  </a:moveTo>
                  <a:lnTo>
                    <a:pt x="0" y="708"/>
                  </a:lnTo>
                  <a:lnTo>
                    <a:pt x="41" y="625"/>
                  </a:lnTo>
                  <a:lnTo>
                    <a:pt x="99" y="625"/>
                  </a:lnTo>
                  <a:lnTo>
                    <a:pt x="99" y="551"/>
                  </a:lnTo>
                  <a:lnTo>
                    <a:pt x="148" y="485"/>
                  </a:lnTo>
                  <a:lnTo>
                    <a:pt x="157" y="362"/>
                  </a:lnTo>
                  <a:lnTo>
                    <a:pt x="264" y="288"/>
                  </a:lnTo>
                  <a:lnTo>
                    <a:pt x="288" y="132"/>
                  </a:lnTo>
                  <a:lnTo>
                    <a:pt x="214" y="49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92720" y="3801960"/>
              <a:ext cx="601560" cy="1814400"/>
            </a:xfrm>
            <a:custGeom>
              <a:avLst/>
              <a:gdLst/>
              <a:ahLst/>
              <a:rect l="l" t="t" r="r" b="b"/>
              <a:pathLst>
                <a:path w="379" h="1143">
                  <a:moveTo>
                    <a:pt x="0" y="0"/>
                  </a:moveTo>
                  <a:lnTo>
                    <a:pt x="75" y="32"/>
                  </a:lnTo>
                  <a:lnTo>
                    <a:pt x="75" y="98"/>
                  </a:lnTo>
                  <a:lnTo>
                    <a:pt x="206" y="181"/>
                  </a:lnTo>
                  <a:lnTo>
                    <a:pt x="272" y="320"/>
                  </a:lnTo>
                  <a:lnTo>
                    <a:pt x="371" y="337"/>
                  </a:lnTo>
                  <a:lnTo>
                    <a:pt x="379" y="460"/>
                  </a:lnTo>
                  <a:lnTo>
                    <a:pt x="313" y="469"/>
                  </a:lnTo>
                  <a:lnTo>
                    <a:pt x="256" y="411"/>
                  </a:lnTo>
                  <a:lnTo>
                    <a:pt x="165" y="469"/>
                  </a:lnTo>
                  <a:lnTo>
                    <a:pt x="231" y="551"/>
                  </a:lnTo>
                  <a:lnTo>
                    <a:pt x="247" y="674"/>
                  </a:lnTo>
                  <a:lnTo>
                    <a:pt x="198" y="699"/>
                  </a:lnTo>
                  <a:lnTo>
                    <a:pt x="190" y="765"/>
                  </a:lnTo>
                  <a:lnTo>
                    <a:pt x="288" y="839"/>
                  </a:lnTo>
                  <a:lnTo>
                    <a:pt x="288" y="905"/>
                  </a:lnTo>
                  <a:lnTo>
                    <a:pt x="231" y="938"/>
                  </a:lnTo>
                  <a:lnTo>
                    <a:pt x="239" y="987"/>
                  </a:lnTo>
                  <a:lnTo>
                    <a:pt x="165" y="954"/>
                  </a:lnTo>
                  <a:lnTo>
                    <a:pt x="173" y="1053"/>
                  </a:lnTo>
                  <a:lnTo>
                    <a:pt x="124" y="1086"/>
                  </a:lnTo>
                  <a:lnTo>
                    <a:pt x="157" y="114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24480" y="2703240"/>
              <a:ext cx="939600" cy="1123920"/>
            </a:xfrm>
            <a:custGeom>
              <a:avLst/>
              <a:gdLst/>
              <a:ahLst/>
              <a:rect l="l" t="t" r="r" b="b"/>
              <a:pathLst>
                <a:path w="592" h="708">
                  <a:moveTo>
                    <a:pt x="0" y="708"/>
                  </a:moveTo>
                  <a:lnTo>
                    <a:pt x="90" y="700"/>
                  </a:lnTo>
                  <a:lnTo>
                    <a:pt x="123" y="626"/>
                  </a:lnTo>
                  <a:lnTo>
                    <a:pt x="173" y="593"/>
                  </a:lnTo>
                  <a:lnTo>
                    <a:pt x="189" y="675"/>
                  </a:lnTo>
                  <a:lnTo>
                    <a:pt x="280" y="675"/>
                  </a:lnTo>
                  <a:lnTo>
                    <a:pt x="304" y="626"/>
                  </a:lnTo>
                  <a:lnTo>
                    <a:pt x="370" y="667"/>
                  </a:lnTo>
                  <a:lnTo>
                    <a:pt x="419" y="650"/>
                  </a:lnTo>
                  <a:lnTo>
                    <a:pt x="403" y="576"/>
                  </a:lnTo>
                  <a:lnTo>
                    <a:pt x="288" y="478"/>
                  </a:lnTo>
                  <a:lnTo>
                    <a:pt x="337" y="420"/>
                  </a:lnTo>
                  <a:lnTo>
                    <a:pt x="288" y="354"/>
                  </a:lnTo>
                  <a:lnTo>
                    <a:pt x="312" y="255"/>
                  </a:lnTo>
                  <a:lnTo>
                    <a:pt x="378" y="255"/>
                  </a:lnTo>
                  <a:lnTo>
                    <a:pt x="510" y="116"/>
                  </a:lnTo>
                  <a:lnTo>
                    <a:pt x="551" y="0"/>
                  </a:lnTo>
                  <a:lnTo>
                    <a:pt x="592" y="2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946160" y="3187800"/>
            <a:ext cx="1312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Yuseong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52720" y="4759200"/>
            <a:ext cx="1052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Seo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27240" y="4494240"/>
            <a:ext cx="1052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Jung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4480" y="2674800"/>
            <a:ext cx="12351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Daedeok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21040" y="3929040"/>
            <a:ext cx="1052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Dong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603840" y="1862280"/>
            <a:ext cx="220032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Location</a:t>
            </a:r>
            <a:br>
              <a:rPr sz="16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r>
              <a:rPr b="1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Climate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Area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Population</a:t>
            </a:r>
            <a:br>
              <a:rPr sz="16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Gulim"/>
              </a:rPr>
              <a:t> 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4280" y="133200"/>
            <a:ext cx="7848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Master title style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b166e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cc00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2b166e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2b166e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14280" y="133200"/>
            <a:ext cx="7848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Master title style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95440" y="1366920"/>
            <a:ext cx="2300040" cy="43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13500000" blurRad="0" rotWithShape="0">
              <a:srgbClr val="00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25400" y="1400040"/>
            <a:ext cx="1955880" cy="30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1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Daegu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73240" y="1887480"/>
            <a:ext cx="4102200" cy="4010040"/>
          </a:xfrm>
          <a:custGeom>
            <a:avLst/>
            <a:gdLst/>
            <a:ahLst/>
            <a:rect l="l" t="t" r="r" b="b"/>
            <a:pathLst>
              <a:path w="2584" h="2526">
                <a:moveTo>
                  <a:pt x="24" y="1917"/>
                </a:moveTo>
                <a:lnTo>
                  <a:pt x="107" y="1900"/>
                </a:lnTo>
                <a:lnTo>
                  <a:pt x="148" y="1950"/>
                </a:lnTo>
                <a:lnTo>
                  <a:pt x="263" y="1966"/>
                </a:lnTo>
                <a:lnTo>
                  <a:pt x="428" y="2024"/>
                </a:lnTo>
                <a:lnTo>
                  <a:pt x="502" y="1975"/>
                </a:lnTo>
                <a:lnTo>
                  <a:pt x="543" y="1917"/>
                </a:lnTo>
                <a:lnTo>
                  <a:pt x="559" y="1835"/>
                </a:lnTo>
                <a:lnTo>
                  <a:pt x="485" y="1761"/>
                </a:lnTo>
                <a:lnTo>
                  <a:pt x="362" y="1719"/>
                </a:lnTo>
                <a:lnTo>
                  <a:pt x="288" y="1703"/>
                </a:lnTo>
                <a:lnTo>
                  <a:pt x="230" y="1629"/>
                </a:lnTo>
                <a:lnTo>
                  <a:pt x="238" y="1555"/>
                </a:lnTo>
                <a:lnTo>
                  <a:pt x="321" y="1506"/>
                </a:lnTo>
                <a:lnTo>
                  <a:pt x="321" y="1423"/>
                </a:lnTo>
                <a:lnTo>
                  <a:pt x="378" y="1333"/>
                </a:lnTo>
                <a:lnTo>
                  <a:pt x="469" y="1275"/>
                </a:lnTo>
                <a:lnTo>
                  <a:pt x="576" y="1292"/>
                </a:lnTo>
                <a:lnTo>
                  <a:pt x="749" y="1283"/>
                </a:lnTo>
                <a:lnTo>
                  <a:pt x="814" y="1250"/>
                </a:lnTo>
                <a:lnTo>
                  <a:pt x="806" y="1193"/>
                </a:lnTo>
                <a:lnTo>
                  <a:pt x="749" y="1119"/>
                </a:lnTo>
                <a:lnTo>
                  <a:pt x="617" y="1069"/>
                </a:lnTo>
                <a:lnTo>
                  <a:pt x="526" y="1020"/>
                </a:lnTo>
                <a:lnTo>
                  <a:pt x="403" y="1045"/>
                </a:lnTo>
                <a:lnTo>
                  <a:pt x="271" y="1045"/>
                </a:lnTo>
                <a:lnTo>
                  <a:pt x="238" y="979"/>
                </a:lnTo>
                <a:lnTo>
                  <a:pt x="271" y="905"/>
                </a:lnTo>
                <a:lnTo>
                  <a:pt x="271" y="831"/>
                </a:lnTo>
                <a:lnTo>
                  <a:pt x="337" y="806"/>
                </a:lnTo>
                <a:lnTo>
                  <a:pt x="387" y="666"/>
                </a:lnTo>
                <a:lnTo>
                  <a:pt x="494" y="543"/>
                </a:lnTo>
                <a:lnTo>
                  <a:pt x="584" y="526"/>
                </a:lnTo>
                <a:lnTo>
                  <a:pt x="666" y="502"/>
                </a:lnTo>
                <a:lnTo>
                  <a:pt x="666" y="452"/>
                </a:lnTo>
                <a:lnTo>
                  <a:pt x="724" y="493"/>
                </a:lnTo>
                <a:lnTo>
                  <a:pt x="790" y="502"/>
                </a:lnTo>
                <a:lnTo>
                  <a:pt x="806" y="559"/>
                </a:lnTo>
                <a:lnTo>
                  <a:pt x="757" y="658"/>
                </a:lnTo>
                <a:lnTo>
                  <a:pt x="765" y="757"/>
                </a:lnTo>
                <a:lnTo>
                  <a:pt x="872" y="757"/>
                </a:lnTo>
                <a:lnTo>
                  <a:pt x="963" y="823"/>
                </a:lnTo>
                <a:lnTo>
                  <a:pt x="995" y="781"/>
                </a:lnTo>
                <a:lnTo>
                  <a:pt x="971" y="707"/>
                </a:lnTo>
                <a:lnTo>
                  <a:pt x="1037" y="650"/>
                </a:lnTo>
                <a:lnTo>
                  <a:pt x="1135" y="576"/>
                </a:lnTo>
                <a:lnTo>
                  <a:pt x="1168" y="493"/>
                </a:lnTo>
                <a:lnTo>
                  <a:pt x="1127" y="411"/>
                </a:lnTo>
                <a:lnTo>
                  <a:pt x="1152" y="370"/>
                </a:lnTo>
                <a:lnTo>
                  <a:pt x="1119" y="321"/>
                </a:lnTo>
                <a:lnTo>
                  <a:pt x="1119" y="214"/>
                </a:lnTo>
                <a:lnTo>
                  <a:pt x="1185" y="238"/>
                </a:lnTo>
                <a:lnTo>
                  <a:pt x="1226" y="271"/>
                </a:lnTo>
                <a:lnTo>
                  <a:pt x="1267" y="337"/>
                </a:lnTo>
                <a:lnTo>
                  <a:pt x="1341" y="263"/>
                </a:lnTo>
                <a:lnTo>
                  <a:pt x="1440" y="230"/>
                </a:lnTo>
                <a:lnTo>
                  <a:pt x="1497" y="238"/>
                </a:lnTo>
                <a:lnTo>
                  <a:pt x="1613" y="181"/>
                </a:lnTo>
                <a:lnTo>
                  <a:pt x="1637" y="98"/>
                </a:lnTo>
                <a:lnTo>
                  <a:pt x="1761" y="33"/>
                </a:lnTo>
                <a:lnTo>
                  <a:pt x="1884" y="57"/>
                </a:lnTo>
                <a:lnTo>
                  <a:pt x="1991" y="0"/>
                </a:lnTo>
                <a:lnTo>
                  <a:pt x="2147" y="8"/>
                </a:lnTo>
                <a:lnTo>
                  <a:pt x="2254" y="33"/>
                </a:lnTo>
                <a:lnTo>
                  <a:pt x="2361" y="90"/>
                </a:lnTo>
                <a:lnTo>
                  <a:pt x="2411" y="140"/>
                </a:lnTo>
                <a:lnTo>
                  <a:pt x="2378" y="189"/>
                </a:lnTo>
                <a:lnTo>
                  <a:pt x="2419" y="263"/>
                </a:lnTo>
                <a:lnTo>
                  <a:pt x="2485" y="271"/>
                </a:lnTo>
                <a:lnTo>
                  <a:pt x="2468" y="329"/>
                </a:lnTo>
                <a:lnTo>
                  <a:pt x="2419" y="386"/>
                </a:lnTo>
                <a:lnTo>
                  <a:pt x="2468" y="436"/>
                </a:lnTo>
                <a:lnTo>
                  <a:pt x="2468" y="485"/>
                </a:lnTo>
                <a:lnTo>
                  <a:pt x="2427" y="518"/>
                </a:lnTo>
                <a:lnTo>
                  <a:pt x="2460" y="584"/>
                </a:lnTo>
                <a:lnTo>
                  <a:pt x="2534" y="609"/>
                </a:lnTo>
                <a:lnTo>
                  <a:pt x="2567" y="683"/>
                </a:lnTo>
                <a:lnTo>
                  <a:pt x="2534" y="724"/>
                </a:lnTo>
                <a:lnTo>
                  <a:pt x="2551" y="798"/>
                </a:lnTo>
                <a:lnTo>
                  <a:pt x="2575" y="847"/>
                </a:lnTo>
                <a:lnTo>
                  <a:pt x="2534" y="905"/>
                </a:lnTo>
                <a:lnTo>
                  <a:pt x="2584" y="979"/>
                </a:lnTo>
                <a:lnTo>
                  <a:pt x="2534" y="1004"/>
                </a:lnTo>
                <a:lnTo>
                  <a:pt x="2493" y="979"/>
                </a:lnTo>
                <a:lnTo>
                  <a:pt x="2435" y="1053"/>
                </a:lnTo>
                <a:lnTo>
                  <a:pt x="2386" y="1028"/>
                </a:lnTo>
                <a:lnTo>
                  <a:pt x="2345" y="995"/>
                </a:lnTo>
                <a:lnTo>
                  <a:pt x="2361" y="1078"/>
                </a:lnTo>
                <a:lnTo>
                  <a:pt x="2345" y="1127"/>
                </a:lnTo>
                <a:lnTo>
                  <a:pt x="2287" y="1135"/>
                </a:lnTo>
                <a:lnTo>
                  <a:pt x="2230" y="1193"/>
                </a:lnTo>
                <a:lnTo>
                  <a:pt x="2279" y="1267"/>
                </a:lnTo>
                <a:lnTo>
                  <a:pt x="2279" y="1324"/>
                </a:lnTo>
                <a:lnTo>
                  <a:pt x="2222" y="1349"/>
                </a:lnTo>
                <a:lnTo>
                  <a:pt x="2180" y="1390"/>
                </a:lnTo>
                <a:lnTo>
                  <a:pt x="2131" y="1366"/>
                </a:lnTo>
                <a:lnTo>
                  <a:pt x="2065" y="1423"/>
                </a:lnTo>
                <a:lnTo>
                  <a:pt x="2082" y="1489"/>
                </a:lnTo>
                <a:lnTo>
                  <a:pt x="2106" y="1555"/>
                </a:lnTo>
                <a:lnTo>
                  <a:pt x="2164" y="1596"/>
                </a:lnTo>
                <a:lnTo>
                  <a:pt x="2147" y="1670"/>
                </a:lnTo>
                <a:lnTo>
                  <a:pt x="2106" y="1711"/>
                </a:lnTo>
                <a:lnTo>
                  <a:pt x="2131" y="1777"/>
                </a:lnTo>
                <a:lnTo>
                  <a:pt x="2090" y="1810"/>
                </a:lnTo>
                <a:lnTo>
                  <a:pt x="2040" y="1826"/>
                </a:lnTo>
                <a:lnTo>
                  <a:pt x="1958" y="1843"/>
                </a:lnTo>
                <a:lnTo>
                  <a:pt x="1917" y="1909"/>
                </a:lnTo>
                <a:lnTo>
                  <a:pt x="1802" y="1950"/>
                </a:lnTo>
                <a:lnTo>
                  <a:pt x="1736" y="1933"/>
                </a:lnTo>
                <a:lnTo>
                  <a:pt x="1687" y="1950"/>
                </a:lnTo>
                <a:lnTo>
                  <a:pt x="1654" y="1909"/>
                </a:lnTo>
                <a:lnTo>
                  <a:pt x="1678" y="1859"/>
                </a:lnTo>
                <a:lnTo>
                  <a:pt x="1637" y="1802"/>
                </a:lnTo>
                <a:lnTo>
                  <a:pt x="1662" y="1736"/>
                </a:lnTo>
                <a:lnTo>
                  <a:pt x="1613" y="1711"/>
                </a:lnTo>
                <a:lnTo>
                  <a:pt x="1522" y="1728"/>
                </a:lnTo>
                <a:lnTo>
                  <a:pt x="1423" y="1728"/>
                </a:lnTo>
                <a:lnTo>
                  <a:pt x="1349" y="1769"/>
                </a:lnTo>
                <a:lnTo>
                  <a:pt x="1283" y="1794"/>
                </a:lnTo>
                <a:lnTo>
                  <a:pt x="1275" y="1859"/>
                </a:lnTo>
                <a:lnTo>
                  <a:pt x="1234" y="1835"/>
                </a:lnTo>
                <a:lnTo>
                  <a:pt x="1160" y="1868"/>
                </a:lnTo>
                <a:lnTo>
                  <a:pt x="1144" y="1958"/>
                </a:lnTo>
                <a:lnTo>
                  <a:pt x="1168" y="2032"/>
                </a:lnTo>
                <a:lnTo>
                  <a:pt x="1144" y="2090"/>
                </a:lnTo>
                <a:lnTo>
                  <a:pt x="1070" y="2090"/>
                </a:lnTo>
                <a:lnTo>
                  <a:pt x="1020" y="2139"/>
                </a:lnTo>
                <a:lnTo>
                  <a:pt x="995" y="2213"/>
                </a:lnTo>
                <a:lnTo>
                  <a:pt x="1028" y="2279"/>
                </a:lnTo>
                <a:lnTo>
                  <a:pt x="1004" y="2328"/>
                </a:lnTo>
                <a:lnTo>
                  <a:pt x="897" y="2361"/>
                </a:lnTo>
                <a:lnTo>
                  <a:pt x="790" y="2337"/>
                </a:lnTo>
                <a:lnTo>
                  <a:pt x="740" y="2370"/>
                </a:lnTo>
                <a:lnTo>
                  <a:pt x="666" y="2328"/>
                </a:lnTo>
                <a:lnTo>
                  <a:pt x="568" y="2370"/>
                </a:lnTo>
                <a:lnTo>
                  <a:pt x="551" y="2452"/>
                </a:lnTo>
                <a:lnTo>
                  <a:pt x="444" y="2452"/>
                </a:lnTo>
                <a:lnTo>
                  <a:pt x="321" y="2493"/>
                </a:lnTo>
                <a:lnTo>
                  <a:pt x="238" y="2526"/>
                </a:lnTo>
                <a:lnTo>
                  <a:pt x="263" y="2427"/>
                </a:lnTo>
                <a:lnTo>
                  <a:pt x="337" y="2361"/>
                </a:lnTo>
                <a:lnTo>
                  <a:pt x="296" y="2287"/>
                </a:lnTo>
                <a:lnTo>
                  <a:pt x="181" y="2238"/>
                </a:lnTo>
                <a:lnTo>
                  <a:pt x="181" y="2156"/>
                </a:lnTo>
                <a:lnTo>
                  <a:pt x="90" y="2123"/>
                </a:lnTo>
                <a:lnTo>
                  <a:pt x="49" y="2057"/>
                </a:lnTo>
                <a:lnTo>
                  <a:pt x="0" y="1991"/>
                </a:lnTo>
                <a:lnTo>
                  <a:pt x="24" y="1917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13500000"/>
          </a:gradFill>
          <a:ln w="28440">
            <a:solidFill>
              <a:srgbClr val="ffffff"/>
            </a:solidFill>
            <a:round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390760" y="2155680"/>
            <a:ext cx="2494080" cy="2128680"/>
            <a:chOff x="2390760" y="2155680"/>
            <a:chExt cx="2494080" cy="2128680"/>
          </a:xfrm>
        </p:grpSpPr>
        <p:sp>
          <p:nvSpPr>
            <p:cNvPr id="343" name=""/>
            <p:cNvSpPr/>
            <p:nvPr/>
          </p:nvSpPr>
          <p:spPr>
            <a:xfrm>
              <a:off x="2390760" y="3344760"/>
              <a:ext cx="1201680" cy="939600"/>
            </a:xfrm>
            <a:custGeom>
              <a:avLst/>
              <a:gdLst/>
              <a:ahLst/>
              <a:rect l="l" t="t" r="r" b="b"/>
              <a:pathLst>
                <a:path w="757" h="592">
                  <a:moveTo>
                    <a:pt x="66" y="246"/>
                  </a:moveTo>
                  <a:lnTo>
                    <a:pt x="140" y="320"/>
                  </a:lnTo>
                  <a:lnTo>
                    <a:pt x="247" y="304"/>
                  </a:lnTo>
                  <a:lnTo>
                    <a:pt x="296" y="378"/>
                  </a:lnTo>
                  <a:lnTo>
                    <a:pt x="370" y="501"/>
                  </a:lnTo>
                  <a:lnTo>
                    <a:pt x="485" y="526"/>
                  </a:lnTo>
                  <a:lnTo>
                    <a:pt x="543" y="592"/>
                  </a:lnTo>
                  <a:lnTo>
                    <a:pt x="609" y="576"/>
                  </a:lnTo>
                  <a:lnTo>
                    <a:pt x="633" y="510"/>
                  </a:lnTo>
                  <a:lnTo>
                    <a:pt x="617" y="419"/>
                  </a:lnTo>
                  <a:lnTo>
                    <a:pt x="707" y="427"/>
                  </a:lnTo>
                  <a:lnTo>
                    <a:pt x="757" y="362"/>
                  </a:lnTo>
                  <a:lnTo>
                    <a:pt x="592" y="279"/>
                  </a:lnTo>
                  <a:lnTo>
                    <a:pt x="543" y="172"/>
                  </a:lnTo>
                  <a:lnTo>
                    <a:pt x="642" y="139"/>
                  </a:lnTo>
                  <a:lnTo>
                    <a:pt x="666" y="65"/>
                  </a:lnTo>
                  <a:lnTo>
                    <a:pt x="609" y="49"/>
                  </a:lnTo>
                  <a:lnTo>
                    <a:pt x="543" y="82"/>
                  </a:lnTo>
                  <a:lnTo>
                    <a:pt x="469" y="57"/>
                  </a:lnTo>
                  <a:lnTo>
                    <a:pt x="387" y="24"/>
                  </a:lnTo>
                  <a:lnTo>
                    <a:pt x="304" y="0"/>
                  </a:lnTo>
                  <a:lnTo>
                    <a:pt x="189" y="24"/>
                  </a:lnTo>
                  <a:lnTo>
                    <a:pt x="90" y="8"/>
                  </a:lnTo>
                  <a:lnTo>
                    <a:pt x="8" y="41"/>
                  </a:lnTo>
                  <a:lnTo>
                    <a:pt x="0" y="197"/>
                  </a:lnTo>
                  <a:lnTo>
                    <a:pt x="66" y="24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0600" y="2155680"/>
              <a:ext cx="1319040" cy="1096920"/>
            </a:xfrm>
            <a:custGeom>
              <a:avLst/>
              <a:gdLst/>
              <a:ahLst/>
              <a:rect l="l" t="t" r="r" b="b"/>
              <a:pathLst>
                <a:path w="831" h="691">
                  <a:moveTo>
                    <a:pt x="0" y="609"/>
                  </a:moveTo>
                  <a:lnTo>
                    <a:pt x="90" y="584"/>
                  </a:lnTo>
                  <a:lnTo>
                    <a:pt x="140" y="642"/>
                  </a:lnTo>
                  <a:lnTo>
                    <a:pt x="288" y="576"/>
                  </a:lnTo>
                  <a:lnTo>
                    <a:pt x="345" y="609"/>
                  </a:lnTo>
                  <a:lnTo>
                    <a:pt x="436" y="617"/>
                  </a:lnTo>
                  <a:lnTo>
                    <a:pt x="477" y="674"/>
                  </a:lnTo>
                  <a:lnTo>
                    <a:pt x="633" y="691"/>
                  </a:lnTo>
                  <a:lnTo>
                    <a:pt x="740" y="600"/>
                  </a:lnTo>
                  <a:lnTo>
                    <a:pt x="806" y="600"/>
                  </a:lnTo>
                  <a:lnTo>
                    <a:pt x="773" y="526"/>
                  </a:lnTo>
                  <a:lnTo>
                    <a:pt x="831" y="461"/>
                  </a:lnTo>
                  <a:lnTo>
                    <a:pt x="806" y="378"/>
                  </a:lnTo>
                  <a:lnTo>
                    <a:pt x="740" y="304"/>
                  </a:lnTo>
                  <a:lnTo>
                    <a:pt x="790" y="222"/>
                  </a:lnTo>
                  <a:lnTo>
                    <a:pt x="740" y="66"/>
                  </a:lnTo>
                  <a:lnTo>
                    <a:pt x="633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60560" y="3174840"/>
              <a:ext cx="65160" cy="182520"/>
            </a:xfrm>
            <a:custGeom>
              <a:avLst/>
              <a:gdLst/>
              <a:ahLst/>
              <a:rect l="l" t="t" r="r" b="b"/>
              <a:pathLst>
                <a:path w="41" h="115">
                  <a:moveTo>
                    <a:pt x="41" y="0"/>
                  </a:moveTo>
                  <a:lnTo>
                    <a:pt x="0" y="32"/>
                  </a:lnTo>
                  <a:lnTo>
                    <a:pt x="41" y="1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09920" y="3225600"/>
              <a:ext cx="117360" cy="196920"/>
            </a:xfrm>
            <a:custGeom>
              <a:avLst/>
              <a:gdLst/>
              <a:ahLst/>
              <a:rect l="l" t="t" r="r" b="b"/>
              <a:pathLst>
                <a:path w="74" h="124">
                  <a:moveTo>
                    <a:pt x="49" y="0"/>
                  </a:moveTo>
                  <a:lnTo>
                    <a:pt x="74" y="42"/>
                  </a:lnTo>
                  <a:lnTo>
                    <a:pt x="0" y="12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62480" y="3435120"/>
              <a:ext cx="339480" cy="484200"/>
            </a:xfrm>
            <a:custGeom>
              <a:avLst/>
              <a:gdLst/>
              <a:ahLst/>
              <a:rect l="l" t="t" r="r" b="b"/>
              <a:pathLst>
                <a:path w="214" h="305">
                  <a:moveTo>
                    <a:pt x="0" y="0"/>
                  </a:moveTo>
                  <a:lnTo>
                    <a:pt x="65" y="41"/>
                  </a:lnTo>
                  <a:lnTo>
                    <a:pt x="172" y="8"/>
                  </a:lnTo>
                  <a:lnTo>
                    <a:pt x="214" y="41"/>
                  </a:lnTo>
                  <a:lnTo>
                    <a:pt x="181" y="99"/>
                  </a:lnTo>
                  <a:lnTo>
                    <a:pt x="214" y="148"/>
                  </a:lnTo>
                  <a:lnTo>
                    <a:pt x="156" y="255"/>
                  </a:lnTo>
                  <a:lnTo>
                    <a:pt x="90" y="30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62360" y="3240000"/>
              <a:ext cx="65160" cy="651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49760" y="3187440"/>
              <a:ext cx="1135080" cy="274680"/>
            </a:xfrm>
            <a:custGeom>
              <a:avLst/>
              <a:gdLst/>
              <a:ahLst/>
              <a:rect l="l" t="t" r="r" b="b"/>
              <a:pathLst>
                <a:path w="715" h="173">
                  <a:moveTo>
                    <a:pt x="0" y="164"/>
                  </a:moveTo>
                  <a:lnTo>
                    <a:pt x="49" y="90"/>
                  </a:lnTo>
                  <a:lnTo>
                    <a:pt x="123" y="115"/>
                  </a:lnTo>
                  <a:lnTo>
                    <a:pt x="271" y="0"/>
                  </a:lnTo>
                  <a:lnTo>
                    <a:pt x="329" y="57"/>
                  </a:lnTo>
                  <a:lnTo>
                    <a:pt x="411" y="57"/>
                  </a:lnTo>
                  <a:lnTo>
                    <a:pt x="427" y="140"/>
                  </a:lnTo>
                  <a:lnTo>
                    <a:pt x="518" y="164"/>
                  </a:lnTo>
                  <a:lnTo>
                    <a:pt x="609" y="164"/>
                  </a:lnTo>
                  <a:lnTo>
                    <a:pt x="666" y="123"/>
                  </a:lnTo>
                  <a:lnTo>
                    <a:pt x="715" y="17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18000" y="3919320"/>
              <a:ext cx="861840" cy="182520"/>
            </a:xfrm>
            <a:custGeom>
              <a:avLst/>
              <a:gdLst/>
              <a:ahLst/>
              <a:rect l="l" t="t" r="r" b="b"/>
              <a:pathLst>
                <a:path w="543" h="115">
                  <a:moveTo>
                    <a:pt x="0" y="0"/>
                  </a:moveTo>
                  <a:lnTo>
                    <a:pt x="74" y="32"/>
                  </a:lnTo>
                  <a:lnTo>
                    <a:pt x="181" y="8"/>
                  </a:lnTo>
                  <a:lnTo>
                    <a:pt x="247" y="49"/>
                  </a:lnTo>
                  <a:lnTo>
                    <a:pt x="329" y="32"/>
                  </a:lnTo>
                  <a:lnTo>
                    <a:pt x="420" y="82"/>
                  </a:lnTo>
                  <a:lnTo>
                    <a:pt x="486" y="65"/>
                  </a:lnTo>
                  <a:lnTo>
                    <a:pt x="543" y="1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379680" y="3187800"/>
            <a:ext cx="1052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Jung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79880" y="2417760"/>
            <a:ext cx="1052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Dong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32280" y="2622600"/>
            <a:ext cx="10522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Buk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63880" y="3564000"/>
            <a:ext cx="1052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Suseong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70080" y="3538440"/>
            <a:ext cx="1052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Nam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04840" y="4408560"/>
            <a:ext cx="14065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Dalseong-gun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48000" y="3448080"/>
            <a:ext cx="8049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Dalseo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03840" y="1862280"/>
            <a:ext cx="220032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Location</a:t>
            </a:r>
            <a:br>
              <a:rPr sz="16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r>
              <a:rPr b="1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Climate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Area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Population</a:t>
            </a:r>
            <a:br>
              <a:rPr sz="16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Gulim"/>
              </a:rPr>
              <a:t> 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263760" y="1566720"/>
            <a:ext cx="2772000" cy="45198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4280" y="133200"/>
            <a:ext cx="7848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Master title style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5440" y="1366920"/>
            <a:ext cx="2300040" cy="43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135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25400" y="1398600"/>
            <a:ext cx="1955880" cy="34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1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Ulsan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60480" y="1976400"/>
            <a:ext cx="4754520" cy="3774960"/>
          </a:xfrm>
          <a:custGeom>
            <a:avLst/>
            <a:gdLst/>
            <a:ahLst/>
            <a:rect l="l" t="t" r="r" b="b"/>
            <a:pathLst>
              <a:path w="2995" h="2378">
                <a:moveTo>
                  <a:pt x="0" y="987"/>
                </a:moveTo>
                <a:lnTo>
                  <a:pt x="115" y="946"/>
                </a:lnTo>
                <a:lnTo>
                  <a:pt x="164" y="971"/>
                </a:lnTo>
                <a:lnTo>
                  <a:pt x="271" y="872"/>
                </a:lnTo>
                <a:lnTo>
                  <a:pt x="337" y="864"/>
                </a:lnTo>
                <a:lnTo>
                  <a:pt x="362" y="773"/>
                </a:lnTo>
                <a:lnTo>
                  <a:pt x="329" y="724"/>
                </a:lnTo>
                <a:lnTo>
                  <a:pt x="345" y="650"/>
                </a:lnTo>
                <a:lnTo>
                  <a:pt x="238" y="658"/>
                </a:lnTo>
                <a:lnTo>
                  <a:pt x="230" y="584"/>
                </a:lnTo>
                <a:lnTo>
                  <a:pt x="345" y="535"/>
                </a:lnTo>
                <a:lnTo>
                  <a:pt x="403" y="567"/>
                </a:lnTo>
                <a:lnTo>
                  <a:pt x="469" y="535"/>
                </a:lnTo>
                <a:lnTo>
                  <a:pt x="477" y="460"/>
                </a:lnTo>
                <a:lnTo>
                  <a:pt x="567" y="469"/>
                </a:lnTo>
                <a:lnTo>
                  <a:pt x="633" y="535"/>
                </a:lnTo>
                <a:lnTo>
                  <a:pt x="715" y="493"/>
                </a:lnTo>
                <a:lnTo>
                  <a:pt x="617" y="395"/>
                </a:lnTo>
                <a:lnTo>
                  <a:pt x="625" y="279"/>
                </a:lnTo>
                <a:lnTo>
                  <a:pt x="650" y="197"/>
                </a:lnTo>
                <a:lnTo>
                  <a:pt x="724" y="140"/>
                </a:lnTo>
                <a:lnTo>
                  <a:pt x="765" y="197"/>
                </a:lnTo>
                <a:lnTo>
                  <a:pt x="798" y="115"/>
                </a:lnTo>
                <a:lnTo>
                  <a:pt x="921" y="107"/>
                </a:lnTo>
                <a:lnTo>
                  <a:pt x="971" y="57"/>
                </a:lnTo>
                <a:lnTo>
                  <a:pt x="1020" y="82"/>
                </a:lnTo>
                <a:lnTo>
                  <a:pt x="1061" y="0"/>
                </a:lnTo>
                <a:lnTo>
                  <a:pt x="1127" y="0"/>
                </a:lnTo>
                <a:lnTo>
                  <a:pt x="1160" y="65"/>
                </a:lnTo>
                <a:lnTo>
                  <a:pt x="1250" y="65"/>
                </a:lnTo>
                <a:lnTo>
                  <a:pt x="1300" y="24"/>
                </a:lnTo>
                <a:lnTo>
                  <a:pt x="1357" y="41"/>
                </a:lnTo>
                <a:lnTo>
                  <a:pt x="1464" y="24"/>
                </a:lnTo>
                <a:lnTo>
                  <a:pt x="1571" y="107"/>
                </a:lnTo>
                <a:lnTo>
                  <a:pt x="1612" y="148"/>
                </a:lnTo>
                <a:lnTo>
                  <a:pt x="1736" y="148"/>
                </a:lnTo>
                <a:lnTo>
                  <a:pt x="1802" y="214"/>
                </a:lnTo>
                <a:lnTo>
                  <a:pt x="1736" y="271"/>
                </a:lnTo>
                <a:lnTo>
                  <a:pt x="1769" y="321"/>
                </a:lnTo>
                <a:lnTo>
                  <a:pt x="1728" y="378"/>
                </a:lnTo>
                <a:lnTo>
                  <a:pt x="1760" y="436"/>
                </a:lnTo>
                <a:lnTo>
                  <a:pt x="1859" y="428"/>
                </a:lnTo>
                <a:lnTo>
                  <a:pt x="1966" y="502"/>
                </a:lnTo>
                <a:lnTo>
                  <a:pt x="2024" y="460"/>
                </a:lnTo>
                <a:lnTo>
                  <a:pt x="2032" y="411"/>
                </a:lnTo>
                <a:lnTo>
                  <a:pt x="2081" y="403"/>
                </a:lnTo>
                <a:lnTo>
                  <a:pt x="2147" y="419"/>
                </a:lnTo>
                <a:lnTo>
                  <a:pt x="2205" y="345"/>
                </a:lnTo>
                <a:lnTo>
                  <a:pt x="2336" y="279"/>
                </a:lnTo>
                <a:lnTo>
                  <a:pt x="2402" y="296"/>
                </a:lnTo>
                <a:lnTo>
                  <a:pt x="2435" y="353"/>
                </a:lnTo>
                <a:lnTo>
                  <a:pt x="2559" y="329"/>
                </a:lnTo>
                <a:lnTo>
                  <a:pt x="2649" y="403"/>
                </a:lnTo>
                <a:lnTo>
                  <a:pt x="2707" y="386"/>
                </a:lnTo>
                <a:lnTo>
                  <a:pt x="2830" y="436"/>
                </a:lnTo>
                <a:lnTo>
                  <a:pt x="2896" y="428"/>
                </a:lnTo>
                <a:lnTo>
                  <a:pt x="2855" y="485"/>
                </a:lnTo>
                <a:lnTo>
                  <a:pt x="2855" y="592"/>
                </a:lnTo>
                <a:lnTo>
                  <a:pt x="2954" y="691"/>
                </a:lnTo>
                <a:lnTo>
                  <a:pt x="2995" y="748"/>
                </a:lnTo>
                <a:lnTo>
                  <a:pt x="2970" y="823"/>
                </a:lnTo>
                <a:lnTo>
                  <a:pt x="2912" y="880"/>
                </a:lnTo>
                <a:lnTo>
                  <a:pt x="2954" y="987"/>
                </a:lnTo>
                <a:lnTo>
                  <a:pt x="2904" y="1094"/>
                </a:lnTo>
                <a:lnTo>
                  <a:pt x="2888" y="1242"/>
                </a:lnTo>
                <a:lnTo>
                  <a:pt x="2880" y="1374"/>
                </a:lnTo>
                <a:lnTo>
                  <a:pt x="2806" y="1464"/>
                </a:lnTo>
                <a:lnTo>
                  <a:pt x="2731" y="1464"/>
                </a:lnTo>
                <a:lnTo>
                  <a:pt x="2682" y="1547"/>
                </a:lnTo>
                <a:lnTo>
                  <a:pt x="2616" y="1505"/>
                </a:lnTo>
                <a:lnTo>
                  <a:pt x="2624" y="1448"/>
                </a:lnTo>
                <a:lnTo>
                  <a:pt x="2666" y="1390"/>
                </a:lnTo>
                <a:lnTo>
                  <a:pt x="2592" y="1333"/>
                </a:lnTo>
                <a:lnTo>
                  <a:pt x="2592" y="1242"/>
                </a:lnTo>
                <a:lnTo>
                  <a:pt x="2534" y="1201"/>
                </a:lnTo>
                <a:lnTo>
                  <a:pt x="2443" y="1185"/>
                </a:lnTo>
                <a:lnTo>
                  <a:pt x="2435" y="1259"/>
                </a:lnTo>
                <a:lnTo>
                  <a:pt x="2526" y="1292"/>
                </a:lnTo>
                <a:lnTo>
                  <a:pt x="2526" y="1341"/>
                </a:lnTo>
                <a:lnTo>
                  <a:pt x="2476" y="1357"/>
                </a:lnTo>
                <a:lnTo>
                  <a:pt x="2542" y="1423"/>
                </a:lnTo>
                <a:lnTo>
                  <a:pt x="2518" y="1530"/>
                </a:lnTo>
                <a:lnTo>
                  <a:pt x="2411" y="1547"/>
                </a:lnTo>
                <a:lnTo>
                  <a:pt x="2369" y="1612"/>
                </a:lnTo>
                <a:lnTo>
                  <a:pt x="2262" y="1522"/>
                </a:lnTo>
                <a:lnTo>
                  <a:pt x="2254" y="1604"/>
                </a:lnTo>
                <a:lnTo>
                  <a:pt x="2312" y="1719"/>
                </a:lnTo>
                <a:lnTo>
                  <a:pt x="2386" y="1719"/>
                </a:lnTo>
                <a:lnTo>
                  <a:pt x="2419" y="1785"/>
                </a:lnTo>
                <a:lnTo>
                  <a:pt x="2328" y="1802"/>
                </a:lnTo>
                <a:lnTo>
                  <a:pt x="2295" y="1892"/>
                </a:lnTo>
                <a:lnTo>
                  <a:pt x="2369" y="1917"/>
                </a:lnTo>
                <a:lnTo>
                  <a:pt x="2320" y="2007"/>
                </a:lnTo>
                <a:lnTo>
                  <a:pt x="2271" y="2024"/>
                </a:lnTo>
                <a:lnTo>
                  <a:pt x="2271" y="2098"/>
                </a:lnTo>
                <a:lnTo>
                  <a:pt x="2328" y="2139"/>
                </a:lnTo>
                <a:lnTo>
                  <a:pt x="2386" y="2230"/>
                </a:lnTo>
                <a:lnTo>
                  <a:pt x="2295" y="2263"/>
                </a:lnTo>
                <a:lnTo>
                  <a:pt x="2230" y="2213"/>
                </a:lnTo>
                <a:lnTo>
                  <a:pt x="2180" y="2263"/>
                </a:lnTo>
                <a:lnTo>
                  <a:pt x="2155" y="2320"/>
                </a:lnTo>
                <a:lnTo>
                  <a:pt x="2040" y="2378"/>
                </a:lnTo>
                <a:lnTo>
                  <a:pt x="1900" y="2320"/>
                </a:lnTo>
                <a:lnTo>
                  <a:pt x="1917" y="2238"/>
                </a:lnTo>
                <a:lnTo>
                  <a:pt x="1884" y="2164"/>
                </a:lnTo>
                <a:lnTo>
                  <a:pt x="1826" y="2040"/>
                </a:lnTo>
                <a:lnTo>
                  <a:pt x="1719" y="2032"/>
                </a:lnTo>
                <a:lnTo>
                  <a:pt x="1596" y="2090"/>
                </a:lnTo>
                <a:lnTo>
                  <a:pt x="1448" y="2073"/>
                </a:lnTo>
                <a:lnTo>
                  <a:pt x="1398" y="2032"/>
                </a:lnTo>
                <a:lnTo>
                  <a:pt x="1472" y="1950"/>
                </a:lnTo>
                <a:lnTo>
                  <a:pt x="1547" y="1925"/>
                </a:lnTo>
                <a:lnTo>
                  <a:pt x="1464" y="1826"/>
                </a:lnTo>
                <a:lnTo>
                  <a:pt x="1415" y="1826"/>
                </a:lnTo>
                <a:lnTo>
                  <a:pt x="1407" y="1728"/>
                </a:lnTo>
                <a:lnTo>
                  <a:pt x="1357" y="1719"/>
                </a:lnTo>
                <a:lnTo>
                  <a:pt x="1209" y="1761"/>
                </a:lnTo>
                <a:lnTo>
                  <a:pt x="987" y="1604"/>
                </a:lnTo>
                <a:lnTo>
                  <a:pt x="888" y="1530"/>
                </a:lnTo>
                <a:lnTo>
                  <a:pt x="855" y="1390"/>
                </a:lnTo>
                <a:lnTo>
                  <a:pt x="748" y="1357"/>
                </a:lnTo>
                <a:lnTo>
                  <a:pt x="576" y="1283"/>
                </a:lnTo>
                <a:lnTo>
                  <a:pt x="534" y="1259"/>
                </a:lnTo>
                <a:lnTo>
                  <a:pt x="526" y="1135"/>
                </a:lnTo>
                <a:lnTo>
                  <a:pt x="362" y="1209"/>
                </a:lnTo>
                <a:lnTo>
                  <a:pt x="238" y="1226"/>
                </a:lnTo>
                <a:lnTo>
                  <a:pt x="156" y="1168"/>
                </a:lnTo>
                <a:lnTo>
                  <a:pt x="214" y="1086"/>
                </a:lnTo>
                <a:lnTo>
                  <a:pt x="148" y="1053"/>
                </a:lnTo>
                <a:lnTo>
                  <a:pt x="57" y="1061"/>
                </a:lnTo>
                <a:lnTo>
                  <a:pt x="0" y="987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13500000"/>
          </a:gradFill>
          <a:ln w="28440">
            <a:solidFill>
              <a:srgbClr val="ffffff"/>
            </a:solidFill>
            <a:round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571920" y="2784600"/>
            <a:ext cx="2023920" cy="1592280"/>
            <a:chOff x="3571920" y="2784600"/>
            <a:chExt cx="2023920" cy="1592280"/>
          </a:xfrm>
        </p:grpSpPr>
        <p:sp>
          <p:nvSpPr>
            <p:cNvPr id="365" name=""/>
            <p:cNvSpPr/>
            <p:nvPr/>
          </p:nvSpPr>
          <p:spPr>
            <a:xfrm>
              <a:off x="3571920" y="2784600"/>
              <a:ext cx="954000" cy="1592280"/>
            </a:xfrm>
            <a:custGeom>
              <a:avLst/>
              <a:gdLst/>
              <a:ahLst/>
              <a:rect l="l" t="t" r="r" b="b"/>
              <a:pathLst>
                <a:path w="601" h="1003">
                  <a:moveTo>
                    <a:pt x="346" y="0"/>
                  </a:moveTo>
                  <a:lnTo>
                    <a:pt x="346" y="65"/>
                  </a:lnTo>
                  <a:lnTo>
                    <a:pt x="313" y="115"/>
                  </a:lnTo>
                  <a:lnTo>
                    <a:pt x="354" y="172"/>
                  </a:lnTo>
                  <a:lnTo>
                    <a:pt x="305" y="230"/>
                  </a:lnTo>
                  <a:lnTo>
                    <a:pt x="329" y="296"/>
                  </a:lnTo>
                  <a:lnTo>
                    <a:pt x="255" y="337"/>
                  </a:lnTo>
                  <a:lnTo>
                    <a:pt x="148" y="321"/>
                  </a:lnTo>
                  <a:lnTo>
                    <a:pt x="91" y="370"/>
                  </a:lnTo>
                  <a:lnTo>
                    <a:pt x="132" y="436"/>
                  </a:lnTo>
                  <a:lnTo>
                    <a:pt x="99" y="526"/>
                  </a:lnTo>
                  <a:lnTo>
                    <a:pt x="33" y="551"/>
                  </a:lnTo>
                  <a:lnTo>
                    <a:pt x="0" y="592"/>
                  </a:lnTo>
                  <a:lnTo>
                    <a:pt x="25" y="633"/>
                  </a:lnTo>
                  <a:lnTo>
                    <a:pt x="66" y="683"/>
                  </a:lnTo>
                  <a:lnTo>
                    <a:pt x="156" y="650"/>
                  </a:lnTo>
                  <a:lnTo>
                    <a:pt x="255" y="707"/>
                  </a:lnTo>
                  <a:lnTo>
                    <a:pt x="329" y="880"/>
                  </a:lnTo>
                  <a:lnTo>
                    <a:pt x="469" y="913"/>
                  </a:lnTo>
                  <a:lnTo>
                    <a:pt x="568" y="913"/>
                  </a:lnTo>
                  <a:lnTo>
                    <a:pt x="601" y="100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1440" y="3189240"/>
              <a:ext cx="874800" cy="522360"/>
            </a:xfrm>
            <a:custGeom>
              <a:avLst/>
              <a:gdLst/>
              <a:ahLst/>
              <a:rect l="l" t="t" r="r" b="b"/>
              <a:pathLst>
                <a:path w="551" h="329">
                  <a:moveTo>
                    <a:pt x="0" y="214"/>
                  </a:moveTo>
                  <a:lnTo>
                    <a:pt x="41" y="279"/>
                  </a:lnTo>
                  <a:lnTo>
                    <a:pt x="140" y="279"/>
                  </a:lnTo>
                  <a:lnTo>
                    <a:pt x="205" y="329"/>
                  </a:lnTo>
                  <a:lnTo>
                    <a:pt x="255" y="312"/>
                  </a:lnTo>
                  <a:lnTo>
                    <a:pt x="263" y="263"/>
                  </a:lnTo>
                  <a:lnTo>
                    <a:pt x="370" y="312"/>
                  </a:lnTo>
                  <a:lnTo>
                    <a:pt x="526" y="288"/>
                  </a:lnTo>
                  <a:lnTo>
                    <a:pt x="551" y="205"/>
                  </a:lnTo>
                  <a:lnTo>
                    <a:pt x="535" y="98"/>
                  </a:lnTo>
                  <a:lnTo>
                    <a:pt x="543" y="41"/>
                  </a:lnTo>
                  <a:lnTo>
                    <a:pt x="502" y="8"/>
                  </a:lnTo>
                  <a:lnTo>
                    <a:pt x="444" y="33"/>
                  </a:lnTo>
                  <a:lnTo>
                    <a:pt x="378" y="0"/>
                  </a:lnTo>
                  <a:lnTo>
                    <a:pt x="321" y="41"/>
                  </a:lnTo>
                  <a:lnTo>
                    <a:pt x="197" y="3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03680" y="3659400"/>
              <a:ext cx="262080" cy="195120"/>
            </a:xfrm>
            <a:custGeom>
              <a:avLst/>
              <a:gdLst/>
              <a:ahLst/>
              <a:rect l="l" t="t" r="r" b="b"/>
              <a:pathLst>
                <a:path w="165" h="123">
                  <a:moveTo>
                    <a:pt x="0" y="0"/>
                  </a:moveTo>
                  <a:lnTo>
                    <a:pt x="124" y="16"/>
                  </a:lnTo>
                  <a:lnTo>
                    <a:pt x="165" y="12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26040" y="3476880"/>
              <a:ext cx="469800" cy="612720"/>
            </a:xfrm>
            <a:custGeom>
              <a:avLst/>
              <a:gdLst/>
              <a:ahLst/>
              <a:rect l="l" t="t" r="r" b="b"/>
              <a:pathLst>
                <a:path w="296" h="386">
                  <a:moveTo>
                    <a:pt x="0" y="386"/>
                  </a:moveTo>
                  <a:lnTo>
                    <a:pt x="66" y="288"/>
                  </a:lnTo>
                  <a:lnTo>
                    <a:pt x="17" y="230"/>
                  </a:lnTo>
                  <a:lnTo>
                    <a:pt x="58" y="140"/>
                  </a:lnTo>
                  <a:lnTo>
                    <a:pt x="50" y="41"/>
                  </a:lnTo>
                  <a:lnTo>
                    <a:pt x="115" y="0"/>
                  </a:lnTo>
                  <a:lnTo>
                    <a:pt x="148" y="49"/>
                  </a:lnTo>
                  <a:lnTo>
                    <a:pt x="222" y="0"/>
                  </a:lnTo>
                  <a:lnTo>
                    <a:pt x="296" y="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033880" y="3736800"/>
            <a:ext cx="10526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Dong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63920" y="2819520"/>
            <a:ext cx="1052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Buk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9280" y="3825720"/>
            <a:ext cx="1052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Nam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35360" y="3263760"/>
            <a:ext cx="10526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Jung-gu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89280" y="3246480"/>
            <a:ext cx="10522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Ulsu-gun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03840" y="1862280"/>
            <a:ext cx="220032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Location</a:t>
            </a:r>
            <a:br>
              <a:rPr sz="16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r>
              <a:rPr b="1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Climate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Area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Population</a:t>
            </a:r>
            <a:br>
              <a:rPr sz="16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Gulim"/>
              </a:rPr>
              <a:t> 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87520" y="1566720"/>
            <a:ext cx="5513400" cy="45198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14280" y="133200"/>
            <a:ext cx="78487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595440" y="1366920"/>
            <a:ext cx="2300040" cy="43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135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5400" y="1398600"/>
            <a:ext cx="1955880" cy="34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1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Busan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3560" y="2049480"/>
            <a:ext cx="5211720" cy="3592440"/>
          </a:xfrm>
          <a:custGeom>
            <a:avLst/>
            <a:gdLst/>
            <a:ahLst/>
            <a:rect l="l" t="t" r="r" b="b"/>
            <a:pathLst>
              <a:path w="3283" h="2263">
                <a:moveTo>
                  <a:pt x="247" y="1679"/>
                </a:moveTo>
                <a:lnTo>
                  <a:pt x="173" y="1679"/>
                </a:lnTo>
                <a:lnTo>
                  <a:pt x="91" y="1662"/>
                </a:lnTo>
                <a:lnTo>
                  <a:pt x="41" y="1580"/>
                </a:lnTo>
                <a:lnTo>
                  <a:pt x="0" y="1481"/>
                </a:lnTo>
                <a:lnTo>
                  <a:pt x="132" y="1456"/>
                </a:lnTo>
                <a:lnTo>
                  <a:pt x="198" y="1514"/>
                </a:lnTo>
                <a:lnTo>
                  <a:pt x="263" y="1473"/>
                </a:lnTo>
                <a:lnTo>
                  <a:pt x="305" y="1497"/>
                </a:lnTo>
                <a:lnTo>
                  <a:pt x="338" y="1448"/>
                </a:lnTo>
                <a:lnTo>
                  <a:pt x="403" y="1423"/>
                </a:lnTo>
                <a:lnTo>
                  <a:pt x="543" y="1465"/>
                </a:lnTo>
                <a:lnTo>
                  <a:pt x="601" y="1440"/>
                </a:lnTo>
                <a:lnTo>
                  <a:pt x="535" y="1366"/>
                </a:lnTo>
                <a:lnTo>
                  <a:pt x="560" y="1325"/>
                </a:lnTo>
                <a:lnTo>
                  <a:pt x="527" y="1267"/>
                </a:lnTo>
                <a:lnTo>
                  <a:pt x="494" y="1201"/>
                </a:lnTo>
                <a:lnTo>
                  <a:pt x="601" y="1111"/>
                </a:lnTo>
                <a:lnTo>
                  <a:pt x="683" y="1144"/>
                </a:lnTo>
                <a:lnTo>
                  <a:pt x="774" y="1086"/>
                </a:lnTo>
                <a:lnTo>
                  <a:pt x="848" y="1103"/>
                </a:lnTo>
                <a:lnTo>
                  <a:pt x="922" y="1053"/>
                </a:lnTo>
                <a:lnTo>
                  <a:pt x="1169" y="1070"/>
                </a:lnTo>
                <a:lnTo>
                  <a:pt x="1333" y="996"/>
                </a:lnTo>
                <a:lnTo>
                  <a:pt x="1358" y="872"/>
                </a:lnTo>
                <a:lnTo>
                  <a:pt x="1424" y="782"/>
                </a:lnTo>
                <a:lnTo>
                  <a:pt x="1415" y="716"/>
                </a:lnTo>
                <a:lnTo>
                  <a:pt x="1531" y="708"/>
                </a:lnTo>
                <a:lnTo>
                  <a:pt x="1613" y="740"/>
                </a:lnTo>
                <a:lnTo>
                  <a:pt x="1654" y="716"/>
                </a:lnTo>
                <a:lnTo>
                  <a:pt x="1662" y="650"/>
                </a:lnTo>
                <a:lnTo>
                  <a:pt x="1728" y="601"/>
                </a:lnTo>
                <a:lnTo>
                  <a:pt x="1810" y="617"/>
                </a:lnTo>
                <a:lnTo>
                  <a:pt x="1884" y="551"/>
                </a:lnTo>
                <a:lnTo>
                  <a:pt x="2016" y="535"/>
                </a:lnTo>
                <a:lnTo>
                  <a:pt x="2057" y="444"/>
                </a:lnTo>
                <a:lnTo>
                  <a:pt x="2123" y="395"/>
                </a:lnTo>
                <a:lnTo>
                  <a:pt x="2123" y="304"/>
                </a:lnTo>
                <a:lnTo>
                  <a:pt x="2172" y="230"/>
                </a:lnTo>
                <a:lnTo>
                  <a:pt x="2172" y="156"/>
                </a:lnTo>
                <a:lnTo>
                  <a:pt x="2271" y="140"/>
                </a:lnTo>
                <a:lnTo>
                  <a:pt x="2312" y="206"/>
                </a:lnTo>
                <a:lnTo>
                  <a:pt x="2428" y="239"/>
                </a:lnTo>
                <a:lnTo>
                  <a:pt x="2518" y="189"/>
                </a:lnTo>
                <a:lnTo>
                  <a:pt x="2567" y="206"/>
                </a:lnTo>
                <a:lnTo>
                  <a:pt x="2609" y="99"/>
                </a:lnTo>
                <a:lnTo>
                  <a:pt x="2567" y="33"/>
                </a:lnTo>
                <a:lnTo>
                  <a:pt x="2609" y="0"/>
                </a:lnTo>
                <a:lnTo>
                  <a:pt x="2707" y="66"/>
                </a:lnTo>
                <a:lnTo>
                  <a:pt x="2798" y="33"/>
                </a:lnTo>
                <a:lnTo>
                  <a:pt x="2913" y="57"/>
                </a:lnTo>
                <a:lnTo>
                  <a:pt x="2995" y="16"/>
                </a:lnTo>
                <a:lnTo>
                  <a:pt x="3053" y="57"/>
                </a:lnTo>
                <a:lnTo>
                  <a:pt x="3127" y="140"/>
                </a:lnTo>
                <a:lnTo>
                  <a:pt x="3119" y="206"/>
                </a:lnTo>
                <a:lnTo>
                  <a:pt x="3143" y="263"/>
                </a:lnTo>
                <a:lnTo>
                  <a:pt x="3119" y="304"/>
                </a:lnTo>
                <a:lnTo>
                  <a:pt x="3226" y="329"/>
                </a:lnTo>
                <a:lnTo>
                  <a:pt x="3283" y="420"/>
                </a:lnTo>
                <a:lnTo>
                  <a:pt x="3234" y="461"/>
                </a:lnTo>
                <a:lnTo>
                  <a:pt x="3160" y="461"/>
                </a:lnTo>
                <a:lnTo>
                  <a:pt x="3127" y="411"/>
                </a:lnTo>
                <a:lnTo>
                  <a:pt x="3004" y="444"/>
                </a:lnTo>
                <a:lnTo>
                  <a:pt x="2971" y="535"/>
                </a:lnTo>
                <a:lnTo>
                  <a:pt x="3004" y="592"/>
                </a:lnTo>
                <a:lnTo>
                  <a:pt x="2971" y="691"/>
                </a:lnTo>
                <a:lnTo>
                  <a:pt x="2954" y="765"/>
                </a:lnTo>
                <a:lnTo>
                  <a:pt x="2864" y="749"/>
                </a:lnTo>
                <a:lnTo>
                  <a:pt x="2823" y="831"/>
                </a:lnTo>
                <a:lnTo>
                  <a:pt x="2930" y="831"/>
                </a:lnTo>
                <a:lnTo>
                  <a:pt x="2954" y="897"/>
                </a:lnTo>
                <a:lnTo>
                  <a:pt x="2905" y="938"/>
                </a:lnTo>
                <a:lnTo>
                  <a:pt x="2905" y="1020"/>
                </a:lnTo>
                <a:lnTo>
                  <a:pt x="2839" y="1086"/>
                </a:lnTo>
                <a:lnTo>
                  <a:pt x="2790" y="1053"/>
                </a:lnTo>
                <a:lnTo>
                  <a:pt x="2732" y="1144"/>
                </a:lnTo>
                <a:lnTo>
                  <a:pt x="2798" y="1193"/>
                </a:lnTo>
                <a:lnTo>
                  <a:pt x="2765" y="1275"/>
                </a:lnTo>
                <a:lnTo>
                  <a:pt x="2732" y="1333"/>
                </a:lnTo>
                <a:lnTo>
                  <a:pt x="2650" y="1333"/>
                </a:lnTo>
                <a:lnTo>
                  <a:pt x="2592" y="1374"/>
                </a:lnTo>
                <a:lnTo>
                  <a:pt x="2592" y="1440"/>
                </a:lnTo>
                <a:lnTo>
                  <a:pt x="2485" y="1506"/>
                </a:lnTo>
                <a:lnTo>
                  <a:pt x="2362" y="1489"/>
                </a:lnTo>
                <a:lnTo>
                  <a:pt x="2279" y="1514"/>
                </a:lnTo>
                <a:lnTo>
                  <a:pt x="2222" y="1473"/>
                </a:lnTo>
                <a:lnTo>
                  <a:pt x="2123" y="1547"/>
                </a:lnTo>
                <a:lnTo>
                  <a:pt x="2049" y="1522"/>
                </a:lnTo>
                <a:lnTo>
                  <a:pt x="2082" y="1596"/>
                </a:lnTo>
                <a:lnTo>
                  <a:pt x="2033" y="1637"/>
                </a:lnTo>
                <a:lnTo>
                  <a:pt x="2057" y="1687"/>
                </a:lnTo>
                <a:lnTo>
                  <a:pt x="2107" y="1670"/>
                </a:lnTo>
                <a:lnTo>
                  <a:pt x="2140" y="1769"/>
                </a:lnTo>
                <a:lnTo>
                  <a:pt x="2090" y="1876"/>
                </a:lnTo>
                <a:lnTo>
                  <a:pt x="2024" y="1835"/>
                </a:lnTo>
                <a:lnTo>
                  <a:pt x="1975" y="1868"/>
                </a:lnTo>
                <a:lnTo>
                  <a:pt x="1926" y="1868"/>
                </a:lnTo>
                <a:lnTo>
                  <a:pt x="1934" y="1794"/>
                </a:lnTo>
                <a:lnTo>
                  <a:pt x="1778" y="1802"/>
                </a:lnTo>
                <a:lnTo>
                  <a:pt x="1786" y="1736"/>
                </a:lnTo>
                <a:lnTo>
                  <a:pt x="1703" y="1703"/>
                </a:lnTo>
                <a:lnTo>
                  <a:pt x="1638" y="1753"/>
                </a:lnTo>
                <a:lnTo>
                  <a:pt x="1654" y="1802"/>
                </a:lnTo>
                <a:lnTo>
                  <a:pt x="1720" y="1835"/>
                </a:lnTo>
                <a:lnTo>
                  <a:pt x="1802" y="1925"/>
                </a:lnTo>
                <a:lnTo>
                  <a:pt x="1843" y="1991"/>
                </a:lnTo>
                <a:lnTo>
                  <a:pt x="1868" y="2090"/>
                </a:lnTo>
                <a:lnTo>
                  <a:pt x="1942" y="2115"/>
                </a:lnTo>
                <a:lnTo>
                  <a:pt x="1917" y="2172"/>
                </a:lnTo>
                <a:lnTo>
                  <a:pt x="1868" y="2197"/>
                </a:lnTo>
                <a:lnTo>
                  <a:pt x="1827" y="2106"/>
                </a:lnTo>
                <a:lnTo>
                  <a:pt x="1761" y="2098"/>
                </a:lnTo>
                <a:lnTo>
                  <a:pt x="1687" y="2041"/>
                </a:lnTo>
                <a:lnTo>
                  <a:pt x="1588" y="2008"/>
                </a:lnTo>
                <a:lnTo>
                  <a:pt x="1547" y="1967"/>
                </a:lnTo>
                <a:lnTo>
                  <a:pt x="1539" y="1901"/>
                </a:lnTo>
                <a:lnTo>
                  <a:pt x="1490" y="1868"/>
                </a:lnTo>
                <a:lnTo>
                  <a:pt x="1481" y="1958"/>
                </a:lnTo>
                <a:lnTo>
                  <a:pt x="1498" y="2024"/>
                </a:lnTo>
                <a:lnTo>
                  <a:pt x="1448" y="2041"/>
                </a:lnTo>
                <a:lnTo>
                  <a:pt x="1481" y="2123"/>
                </a:lnTo>
                <a:lnTo>
                  <a:pt x="1424" y="2156"/>
                </a:lnTo>
                <a:lnTo>
                  <a:pt x="1383" y="2073"/>
                </a:lnTo>
                <a:lnTo>
                  <a:pt x="1366" y="1942"/>
                </a:lnTo>
                <a:lnTo>
                  <a:pt x="1276" y="1967"/>
                </a:lnTo>
                <a:lnTo>
                  <a:pt x="1300" y="2016"/>
                </a:lnTo>
                <a:lnTo>
                  <a:pt x="1292" y="2090"/>
                </a:lnTo>
                <a:lnTo>
                  <a:pt x="1317" y="2156"/>
                </a:lnTo>
                <a:lnTo>
                  <a:pt x="1292" y="2222"/>
                </a:lnTo>
                <a:lnTo>
                  <a:pt x="1259" y="2156"/>
                </a:lnTo>
                <a:lnTo>
                  <a:pt x="1193" y="2123"/>
                </a:lnTo>
                <a:lnTo>
                  <a:pt x="1193" y="2205"/>
                </a:lnTo>
                <a:lnTo>
                  <a:pt x="1144" y="2263"/>
                </a:lnTo>
                <a:lnTo>
                  <a:pt x="1111" y="2205"/>
                </a:lnTo>
                <a:lnTo>
                  <a:pt x="1062" y="2180"/>
                </a:lnTo>
                <a:lnTo>
                  <a:pt x="1037" y="2065"/>
                </a:lnTo>
                <a:lnTo>
                  <a:pt x="1070" y="1999"/>
                </a:lnTo>
                <a:lnTo>
                  <a:pt x="1037" y="1958"/>
                </a:lnTo>
                <a:lnTo>
                  <a:pt x="1045" y="1802"/>
                </a:lnTo>
                <a:lnTo>
                  <a:pt x="996" y="1810"/>
                </a:lnTo>
                <a:lnTo>
                  <a:pt x="979" y="1909"/>
                </a:lnTo>
                <a:lnTo>
                  <a:pt x="922" y="1975"/>
                </a:lnTo>
                <a:lnTo>
                  <a:pt x="889" y="1917"/>
                </a:lnTo>
                <a:lnTo>
                  <a:pt x="930" y="1810"/>
                </a:lnTo>
                <a:lnTo>
                  <a:pt x="881" y="1802"/>
                </a:lnTo>
                <a:lnTo>
                  <a:pt x="856" y="1884"/>
                </a:lnTo>
                <a:lnTo>
                  <a:pt x="790" y="1934"/>
                </a:lnTo>
                <a:lnTo>
                  <a:pt x="716" y="1942"/>
                </a:lnTo>
                <a:lnTo>
                  <a:pt x="658" y="1901"/>
                </a:lnTo>
                <a:lnTo>
                  <a:pt x="683" y="1827"/>
                </a:lnTo>
                <a:lnTo>
                  <a:pt x="741" y="1736"/>
                </a:lnTo>
                <a:lnTo>
                  <a:pt x="658" y="1720"/>
                </a:lnTo>
                <a:lnTo>
                  <a:pt x="593" y="1777"/>
                </a:lnTo>
                <a:lnTo>
                  <a:pt x="626" y="1868"/>
                </a:lnTo>
                <a:lnTo>
                  <a:pt x="593" y="1950"/>
                </a:lnTo>
                <a:lnTo>
                  <a:pt x="494" y="1967"/>
                </a:lnTo>
                <a:lnTo>
                  <a:pt x="461" y="1917"/>
                </a:lnTo>
                <a:lnTo>
                  <a:pt x="420" y="1958"/>
                </a:lnTo>
                <a:lnTo>
                  <a:pt x="280" y="1975"/>
                </a:lnTo>
                <a:lnTo>
                  <a:pt x="181" y="1917"/>
                </a:lnTo>
                <a:lnTo>
                  <a:pt x="181" y="1851"/>
                </a:lnTo>
                <a:lnTo>
                  <a:pt x="255" y="1851"/>
                </a:lnTo>
                <a:lnTo>
                  <a:pt x="321" y="1769"/>
                </a:lnTo>
                <a:lnTo>
                  <a:pt x="255" y="1744"/>
                </a:lnTo>
                <a:lnTo>
                  <a:pt x="247" y="1679"/>
                </a:lnTo>
                <a:close/>
              </a:path>
            </a:pathLst>
          </a:cu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28440">
            <a:solidFill>
              <a:srgbClr val="ffffff"/>
            </a:solidFill>
            <a:round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238480" y="2873520"/>
            <a:ext cx="2770200" cy="2403360"/>
            <a:chOff x="2238480" y="2873520"/>
            <a:chExt cx="2770200" cy="2403360"/>
          </a:xfrm>
        </p:grpSpPr>
        <p:sp>
          <p:nvSpPr>
            <p:cNvPr id="381" name=""/>
            <p:cNvSpPr/>
            <p:nvPr/>
          </p:nvSpPr>
          <p:spPr>
            <a:xfrm>
              <a:off x="2238480" y="3657600"/>
              <a:ext cx="627120" cy="1254240"/>
            </a:xfrm>
            <a:custGeom>
              <a:avLst/>
              <a:gdLst/>
              <a:ahLst/>
              <a:rect l="l" t="t" r="r" b="b"/>
              <a:pathLst>
                <a:path w="395" h="790">
                  <a:moveTo>
                    <a:pt x="387" y="0"/>
                  </a:moveTo>
                  <a:lnTo>
                    <a:pt x="395" y="99"/>
                  </a:lnTo>
                  <a:lnTo>
                    <a:pt x="329" y="214"/>
                  </a:lnTo>
                  <a:lnTo>
                    <a:pt x="231" y="239"/>
                  </a:lnTo>
                  <a:lnTo>
                    <a:pt x="157" y="346"/>
                  </a:lnTo>
                  <a:lnTo>
                    <a:pt x="157" y="444"/>
                  </a:lnTo>
                  <a:lnTo>
                    <a:pt x="132" y="560"/>
                  </a:lnTo>
                  <a:lnTo>
                    <a:pt x="157" y="609"/>
                  </a:lnTo>
                  <a:lnTo>
                    <a:pt x="107" y="699"/>
                  </a:lnTo>
                  <a:lnTo>
                    <a:pt x="0" y="79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60840" y="3240360"/>
              <a:ext cx="744480" cy="861840"/>
            </a:xfrm>
            <a:custGeom>
              <a:avLst/>
              <a:gdLst/>
              <a:ahLst/>
              <a:rect l="l" t="t" r="r" b="b"/>
              <a:pathLst>
                <a:path w="469" h="543">
                  <a:moveTo>
                    <a:pt x="0" y="477"/>
                  </a:moveTo>
                  <a:lnTo>
                    <a:pt x="66" y="526"/>
                  </a:lnTo>
                  <a:lnTo>
                    <a:pt x="206" y="543"/>
                  </a:lnTo>
                  <a:lnTo>
                    <a:pt x="264" y="485"/>
                  </a:lnTo>
                  <a:lnTo>
                    <a:pt x="371" y="477"/>
                  </a:lnTo>
                  <a:lnTo>
                    <a:pt x="428" y="378"/>
                  </a:lnTo>
                  <a:lnTo>
                    <a:pt x="469" y="312"/>
                  </a:lnTo>
                  <a:lnTo>
                    <a:pt x="445" y="247"/>
                  </a:lnTo>
                  <a:lnTo>
                    <a:pt x="354" y="255"/>
                  </a:lnTo>
                  <a:lnTo>
                    <a:pt x="404" y="172"/>
                  </a:lnTo>
                  <a:lnTo>
                    <a:pt x="387" y="90"/>
                  </a:lnTo>
                  <a:lnTo>
                    <a:pt x="313" y="49"/>
                  </a:lnTo>
                  <a:lnTo>
                    <a:pt x="371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29120" y="2873520"/>
              <a:ext cx="979560" cy="1293840"/>
            </a:xfrm>
            <a:custGeom>
              <a:avLst/>
              <a:gdLst/>
              <a:ahLst/>
              <a:rect l="l" t="t" r="r" b="b"/>
              <a:pathLst>
                <a:path w="617" h="815">
                  <a:moveTo>
                    <a:pt x="0" y="0"/>
                  </a:moveTo>
                  <a:lnTo>
                    <a:pt x="131" y="66"/>
                  </a:lnTo>
                  <a:lnTo>
                    <a:pt x="131" y="124"/>
                  </a:lnTo>
                  <a:lnTo>
                    <a:pt x="74" y="148"/>
                  </a:lnTo>
                  <a:lnTo>
                    <a:pt x="65" y="305"/>
                  </a:lnTo>
                  <a:lnTo>
                    <a:pt x="172" y="288"/>
                  </a:lnTo>
                  <a:lnTo>
                    <a:pt x="181" y="403"/>
                  </a:lnTo>
                  <a:lnTo>
                    <a:pt x="279" y="403"/>
                  </a:lnTo>
                  <a:lnTo>
                    <a:pt x="279" y="461"/>
                  </a:lnTo>
                  <a:lnTo>
                    <a:pt x="362" y="519"/>
                  </a:lnTo>
                  <a:lnTo>
                    <a:pt x="378" y="601"/>
                  </a:lnTo>
                  <a:lnTo>
                    <a:pt x="304" y="650"/>
                  </a:lnTo>
                  <a:lnTo>
                    <a:pt x="345" y="716"/>
                  </a:lnTo>
                  <a:lnTo>
                    <a:pt x="444" y="667"/>
                  </a:lnTo>
                  <a:lnTo>
                    <a:pt x="477" y="708"/>
                  </a:lnTo>
                  <a:lnTo>
                    <a:pt x="477" y="766"/>
                  </a:lnTo>
                  <a:lnTo>
                    <a:pt x="576" y="700"/>
                  </a:lnTo>
                  <a:lnTo>
                    <a:pt x="617" y="724"/>
                  </a:lnTo>
                  <a:lnTo>
                    <a:pt x="617" y="8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02120" y="3527640"/>
              <a:ext cx="300240" cy="914400"/>
            </a:xfrm>
            <a:custGeom>
              <a:avLst/>
              <a:gdLst/>
              <a:ahLst/>
              <a:rect l="l" t="t" r="r" b="b"/>
              <a:pathLst>
                <a:path w="189" h="576">
                  <a:moveTo>
                    <a:pt x="189" y="0"/>
                  </a:moveTo>
                  <a:lnTo>
                    <a:pt x="140" y="107"/>
                  </a:lnTo>
                  <a:lnTo>
                    <a:pt x="66" y="115"/>
                  </a:lnTo>
                  <a:lnTo>
                    <a:pt x="17" y="197"/>
                  </a:lnTo>
                  <a:lnTo>
                    <a:pt x="41" y="263"/>
                  </a:lnTo>
                  <a:lnTo>
                    <a:pt x="0" y="411"/>
                  </a:lnTo>
                  <a:lnTo>
                    <a:pt x="107" y="461"/>
                  </a:lnTo>
                  <a:lnTo>
                    <a:pt x="124" y="57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3000" y="4102200"/>
              <a:ext cx="247320" cy="1174680"/>
            </a:xfrm>
            <a:custGeom>
              <a:avLst/>
              <a:gdLst/>
              <a:ahLst/>
              <a:rect l="l" t="t" r="r" b="b"/>
              <a:pathLst>
                <a:path w="156" h="740">
                  <a:moveTo>
                    <a:pt x="132" y="0"/>
                  </a:moveTo>
                  <a:lnTo>
                    <a:pt x="156" y="49"/>
                  </a:lnTo>
                  <a:lnTo>
                    <a:pt x="82" y="107"/>
                  </a:lnTo>
                  <a:lnTo>
                    <a:pt x="91" y="173"/>
                  </a:lnTo>
                  <a:lnTo>
                    <a:pt x="148" y="205"/>
                  </a:lnTo>
                  <a:lnTo>
                    <a:pt x="123" y="345"/>
                  </a:lnTo>
                  <a:lnTo>
                    <a:pt x="49" y="296"/>
                  </a:lnTo>
                  <a:lnTo>
                    <a:pt x="49" y="395"/>
                  </a:lnTo>
                  <a:lnTo>
                    <a:pt x="0" y="469"/>
                  </a:lnTo>
                  <a:lnTo>
                    <a:pt x="82" y="535"/>
                  </a:lnTo>
                  <a:lnTo>
                    <a:pt x="66" y="592"/>
                  </a:lnTo>
                  <a:lnTo>
                    <a:pt x="123" y="642"/>
                  </a:lnTo>
                  <a:lnTo>
                    <a:pt x="91" y="691"/>
                  </a:lnTo>
                  <a:lnTo>
                    <a:pt x="156" y="74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08400" y="4716720"/>
              <a:ext cx="431640" cy="102960"/>
            </a:xfrm>
            <a:custGeom>
              <a:avLst/>
              <a:gdLst/>
              <a:ahLst/>
              <a:rect l="l" t="t" r="r" b="b"/>
              <a:pathLst>
                <a:path w="272" h="65">
                  <a:moveTo>
                    <a:pt x="0" y="32"/>
                  </a:moveTo>
                  <a:lnTo>
                    <a:pt x="165" y="65"/>
                  </a:lnTo>
                  <a:lnTo>
                    <a:pt x="239" y="0"/>
                  </a:lnTo>
                  <a:lnTo>
                    <a:pt x="272" y="41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48120" y="3970440"/>
              <a:ext cx="1006560" cy="679320"/>
            </a:xfrm>
            <a:custGeom>
              <a:avLst/>
              <a:gdLst/>
              <a:ahLst/>
              <a:rect l="l" t="t" r="r" b="b"/>
              <a:pathLst>
                <a:path w="634" h="428">
                  <a:moveTo>
                    <a:pt x="0" y="428"/>
                  </a:moveTo>
                  <a:lnTo>
                    <a:pt x="124" y="412"/>
                  </a:lnTo>
                  <a:lnTo>
                    <a:pt x="157" y="330"/>
                  </a:lnTo>
                  <a:lnTo>
                    <a:pt x="256" y="346"/>
                  </a:lnTo>
                  <a:lnTo>
                    <a:pt x="338" y="305"/>
                  </a:lnTo>
                  <a:lnTo>
                    <a:pt x="387" y="313"/>
                  </a:lnTo>
                  <a:lnTo>
                    <a:pt x="445" y="280"/>
                  </a:lnTo>
                  <a:lnTo>
                    <a:pt x="395" y="239"/>
                  </a:lnTo>
                  <a:lnTo>
                    <a:pt x="428" y="165"/>
                  </a:lnTo>
                  <a:lnTo>
                    <a:pt x="321" y="132"/>
                  </a:lnTo>
                  <a:lnTo>
                    <a:pt x="264" y="149"/>
                  </a:lnTo>
                  <a:lnTo>
                    <a:pt x="206" y="58"/>
                  </a:lnTo>
                  <a:lnTo>
                    <a:pt x="190" y="0"/>
                  </a:lnTo>
                  <a:lnTo>
                    <a:pt x="297" y="50"/>
                  </a:lnTo>
                  <a:lnTo>
                    <a:pt x="412" y="0"/>
                  </a:lnTo>
                  <a:lnTo>
                    <a:pt x="511" y="58"/>
                  </a:lnTo>
                  <a:lnTo>
                    <a:pt x="634" y="3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05320" y="3710160"/>
              <a:ext cx="536400" cy="156960"/>
            </a:xfrm>
            <a:custGeom>
              <a:avLst/>
              <a:gdLst/>
              <a:ahLst/>
              <a:rect l="l" t="t" r="r" b="b"/>
              <a:pathLst>
                <a:path w="338" h="99">
                  <a:moveTo>
                    <a:pt x="0" y="8"/>
                  </a:moveTo>
                  <a:lnTo>
                    <a:pt x="190" y="0"/>
                  </a:lnTo>
                  <a:lnTo>
                    <a:pt x="272" y="82"/>
                  </a:lnTo>
                  <a:lnTo>
                    <a:pt x="338" y="99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4440" y="4362480"/>
              <a:ext cx="260280" cy="287280"/>
            </a:xfrm>
            <a:custGeom>
              <a:avLst/>
              <a:gdLst/>
              <a:ahLst/>
              <a:rect l="l" t="t" r="r" b="b"/>
              <a:pathLst>
                <a:path w="164" h="181">
                  <a:moveTo>
                    <a:pt x="0" y="33"/>
                  </a:moveTo>
                  <a:lnTo>
                    <a:pt x="66" y="0"/>
                  </a:lnTo>
                  <a:lnTo>
                    <a:pt x="115" y="58"/>
                  </a:lnTo>
                  <a:lnTo>
                    <a:pt x="123" y="140"/>
                  </a:lnTo>
                  <a:lnTo>
                    <a:pt x="164" y="181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59200" y="4192560"/>
              <a:ext cx="142920" cy="16992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0" y="107"/>
                  </a:moveTo>
                  <a:lnTo>
                    <a:pt x="41" y="25"/>
                  </a:lnTo>
                  <a:lnTo>
                    <a:pt x="9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27320" y="4624560"/>
              <a:ext cx="117720" cy="404640"/>
            </a:xfrm>
            <a:custGeom>
              <a:avLst/>
              <a:gdLst/>
              <a:ahLst/>
              <a:rect l="l" t="t" r="r" b="b"/>
              <a:pathLst>
                <a:path w="74" h="255">
                  <a:moveTo>
                    <a:pt x="33" y="0"/>
                  </a:moveTo>
                  <a:lnTo>
                    <a:pt x="0" y="90"/>
                  </a:lnTo>
                  <a:lnTo>
                    <a:pt x="74" y="148"/>
                  </a:lnTo>
                  <a:lnTo>
                    <a:pt x="8" y="181"/>
                  </a:lnTo>
                  <a:lnTo>
                    <a:pt x="8" y="25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05320" y="4519800"/>
              <a:ext cx="92160" cy="235080"/>
            </a:xfrm>
            <a:custGeom>
              <a:avLst/>
              <a:gdLst/>
              <a:ahLst/>
              <a:rect l="l" t="t" r="r" b="b"/>
              <a:pathLst>
                <a:path w="58" h="148">
                  <a:moveTo>
                    <a:pt x="25" y="0"/>
                  </a:moveTo>
                  <a:lnTo>
                    <a:pt x="58" y="66"/>
                  </a:lnTo>
                  <a:lnTo>
                    <a:pt x="0" y="14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3232080" y="4834080"/>
              <a:ext cx="130320" cy="381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257640" y="5016600"/>
              <a:ext cx="247680" cy="525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881440" y="3614760"/>
            <a:ext cx="542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Buk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90800" y="4202280"/>
            <a:ext cx="11574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Suyeong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13200" y="4808520"/>
            <a:ext cx="6220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Jung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367000" y="4884840"/>
            <a:ext cx="6350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Saha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33840" y="4668840"/>
            <a:ext cx="5443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Se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246320" y="4383000"/>
            <a:ext cx="9745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Kangse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81320" y="4116240"/>
            <a:ext cx="906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Sasang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86000" y="3255840"/>
            <a:ext cx="11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Geumjeong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03400" y="4205160"/>
            <a:ext cx="9367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Busanjin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90840" y="2743200"/>
            <a:ext cx="11844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Gajang-gun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71880" y="3978360"/>
            <a:ext cx="11844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Haeundae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49720" y="3738600"/>
            <a:ext cx="92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Dongra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87880" y="3992400"/>
            <a:ext cx="92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Yeonj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44960" y="5011560"/>
            <a:ext cx="11570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Yeongd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03840" y="1862280"/>
            <a:ext cx="220032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Location</a:t>
            </a:r>
            <a:br>
              <a:rPr sz="16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r>
              <a:rPr b="1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Climate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Area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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Gulim"/>
              </a:rPr>
              <a:t>Population</a:t>
            </a:r>
            <a:br>
              <a:rPr sz="16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1..</a:t>
            </a:r>
            <a:br>
              <a:rPr sz="1400"/>
            </a:b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Gulim"/>
              </a:rPr>
              <a:t>- Click to edit text2..</a:t>
            </a:r>
            <a:br>
              <a:rPr sz="1400"/>
            </a:b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Gulim"/>
              </a:rPr>
              <a:t> 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24400" y="4583160"/>
            <a:ext cx="609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Nam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41640" y="4519440"/>
            <a:ext cx="6890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Dong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b166e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cc00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2b166e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2b166e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10Z</dcterms:modified>
  <cp:revision>66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