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29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D11-A701-434D-AC56-2041F7E4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6568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756-3FCA-41E3-9824-D57943F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6D2-213B-447E-B218-5E79E140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65680"/>
            <a:ext cx="264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F46-26FE-4579-942F-78050EC7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806-E73D-45EC-938B-1280631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77A-6770-4E40-98B0-38A8CF3A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908-0E24-41A0-89F3-A695F4D3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D91-DAD7-4E1F-986B-CE69538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48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8DE-B59A-4F11-B0B4-0438B4E3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1FB-5684-4898-9F64-8B29842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6568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A4C-BABC-4FD4-A7A3-D76366C4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65680"/>
            <a:ext cx="8229600" cy="16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F7E-84A1-4176-AF7B-919634A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20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20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20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E4E-2E8B-4E06-B847-F8AD1EA0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080" y="46544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39520" y="2565360"/>
            <a:ext cx="55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辉煌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1120"/>
            <a:ext cx="8207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949320"/>
            <a:ext cx="89280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249120"/>
            <a:ext cx="1388880" cy="262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7C7-E3E2-4B5B-9139-D6E31FD7B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1648080" y="2997360"/>
            <a:ext cx="222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Arial"/>
              </a:rPr>
              <a:t>节日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ff0000"/>
                </a:solidFill>
                <a:latin typeface="Arial"/>
              </a:rPr>
              <a:t>模板：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www.1ppt.com/jieri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4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22:59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