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sldIdLst>
    <p:sldId id="256" r:id="rId53"/>
    <p:sldId id="257" r:id="rId54"/>
    <p:sldId id="258" r:id="rId55"/>
    <p:sldId id="25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AFEB-75AA-49B5-B726-04C1588BDA0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298C-B469-427D-85B0-DDA1B93004A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D036-0DFB-4826-AF0B-F881DED4EF9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0596-08B2-4166-81FC-D3D09388A8E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4DA8-F51A-4F2E-BE33-63ABAF21EF7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9D4D-430F-4F55-9A88-23C42D2428B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46D3-2434-42CE-A2F2-3BFD211FF98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583B-6506-44DF-A66B-D23EBF58AB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1E5E-E066-4EEB-B452-C928578C6D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5128-24B3-4148-AEE6-D690B44C6F6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6FAE-72D4-4A11-90F0-3B3A3051019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C5B6-7271-44C1-95BC-4F73029A3E9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C4D9-3087-4EE6-8D2D-C1634089447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4C7E-FCE4-4B00-BFE0-010D12BAD1F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E13F-01E6-4B39-8A8A-C029104AADC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1ED6-4A4F-4608-9F87-50C3BF4A23A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45F1-45DD-413C-9551-B20F78761B5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F314-BF76-409C-A3FF-77E226A6532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CAE6-46E4-4CA1-8D69-D49C167A9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500C-4405-456F-9875-0973B05ECE0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0FBF-93D2-475D-AD84-E48E8F3BE4C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ED0C-8DD4-4930-AC59-8FBE708E9B2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16B6-86EA-476C-9C88-9DE62C7A549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10EF-FEA3-4DD7-9851-62B5F596EA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751-9893-4BD9-9A5E-5B8CB3A61AE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20E-53B7-4AAE-83AD-BA29F716C27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395-8A42-45AB-9769-B2B2740C8AF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897-4774-442C-AAEB-AE5EAAF4751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48C-B71C-4D8D-A76C-A7D10B4E15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193-3AAE-4C81-885B-31BE330EB90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B34-9F4E-447B-96D0-17A23FFB0D3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BCE-9EF9-4588-A3AD-7D657D672F4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265-C473-4903-BB27-984E1830257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3E7-129A-41FF-B996-7CA9E29BA33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C99-648C-4C0D-A71B-C22B0C34C7B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BA8-FDE5-4E9C-851F-26AE360D8C5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A912-E264-4427-B72D-88299091C2F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15548-0712-4065-8E1A-68DF82195D8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E667B-3D85-4D8A-8F5E-6F4CCF4ABF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CCF34-A8EF-4AAB-BD51-1C23443AC54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65D81-2014-4A50-9229-D2013D41096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7B6D6-C7DB-4C56-B006-713D805BC40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B47B6-ACCF-4C33-911E-2D30D9788AC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E3A53-C407-4DA7-9BA0-57E5936FBA8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84DBC-5F51-4A8E-8CD8-A7438A6559E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654A3-536C-412E-AC9B-9E76F53B5E1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B1F8A-6F88-4697-9040-3114C7C67D6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DA8AF-5013-4133-BAF7-24DCB917AF2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48FAF-E6B0-46D1-B34F-DC294FEE3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ED6C3-A35B-4D50-BAD9-CD64995C297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8A146-C065-4017-A5E5-97B245D34D2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85761-B675-42E4-98C1-7778AF517D1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E4970-26A7-41D9-8922-68C78694D4C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58372-C2AB-4871-801E-BFCF484D1EE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826D8-2469-46D0-A420-E0F9817D6BE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65037-4788-42F2-89B9-6D65F2E3161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4AAEF-D844-4266-90B8-A6192ED1A7E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5188A-335B-4985-A71F-BB2AB001C22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ACE2E-5370-447D-BCD5-E66BC905E6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A8014-692A-467B-A14F-2568984043C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8BAB-60C0-4466-816C-E50D5DC6F8D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F600-737F-423A-A7EF-E237CF08DE5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F692-EE3A-4F61-BFDA-3C73E5BD07A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40B7-C5D8-4EC1-A508-DC78A96413B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E05-6369-4CA7-A2DE-A6865A4A9D8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EB8B-3F73-41A0-A7E8-16208B959D2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B380-EB64-48F3-9CE1-2A93EDDCE0F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68EA-A0F5-4D00-A686-5539BB542AF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36D1-92A3-41FD-AA92-8DB62BE5EA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11A3-1EA8-4A19-9B95-FBAF7FA76C2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2C83-4692-40EE-923E-AE852F546E6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C6D-213B-4A5E-8B45-B9479910D1B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92CB6-4C6F-4A9F-B049-45243EBB7B3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448D9-85D3-4AC0-8571-953FDBAC095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DCDB14-0CCD-400C-BA18-BA8F748B46C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B2010-472F-45B4-99E1-3A7B93A1800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5C1A5-1885-4081-AC58-DF1C4AC3C2D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1827D-C6BA-4E6E-BACE-C3299CB2188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F5C16-B7FD-4359-AA27-19509C938E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86FD9-7EE7-4A44-BD2E-FCDE949278D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FF841-0633-46DF-B91E-AD71C1AEC9E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121F3-176B-49B6-8248-2F58F77E072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D701D-C844-4F7C-B3EE-D52FAD9482F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C0144-3994-46BC-B81C-ACF853E78C8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71B57-6CC5-434B-9700-E1BB6104D80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F003B-8F35-4403-A295-5E86AD4CA22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2F600-1918-4C30-98ED-798B6373B1A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5EBB8-0549-446F-B567-2EDD0DAF87A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51B6E-C0D9-44BE-9973-515543B4C9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F3B44-FEF4-4635-BEA4-8225047E2E8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3C79A-0FE5-4E37-942C-BA4DED69830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61839-A0E6-4A66-9707-05C37D1038B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AE614-ACFA-4558-B60C-B1CA801AE9A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4B757-38DA-48AA-9306-7D2757748D7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D1BC7-18B2-49E0-9BEF-C64D8D90A48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C4779-131F-4B27-8376-F32D0D13473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2FCC-A7B6-458F-8BB0-36E005D3493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E79C-681C-488A-BF2E-1A5B9011F1A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7E59-4BFC-4718-A5B4-7380C4D572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CEA5-7CDA-4A41-8F5C-1F07EBB31B2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9EC2-42EE-46E0-A244-E875C814ACF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11BB-B819-4839-9EB4-D4D6FE1FF1F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CA1A-F6D0-4980-BD43-D7FAFF9A513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1586D-D763-4431-8048-A787434AA23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32C7-4013-4416-846A-D29FCAF7F71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BBBA-8471-4CCE-9513-CC70CB73A6B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3D0B-4C63-4636-A152-53EB0EC1325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8EC0-62DD-468E-AC93-C8ADF9BC33C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0FB8F-4EA0-408D-8AF6-66B93C1319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799F9-BF9C-4955-8F91-66AAD755867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F7BE9-05F4-4887-8CDE-D856F145030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18F69-9228-4CA1-861A-2B505B4BAB9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DE130-AF0C-46D1-A990-6C8C827EBBC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BECC9-CA98-4976-810B-174067B312D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64DBC-68A2-43A4-A082-262358BA27C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9BFC9-B6BC-4E00-8F45-7C40D87588E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E27AD-E5C0-4B9E-A0C0-634507877D4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A54FF-E775-4ECE-9209-A9440BE9A25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F495F-1B38-421A-9EBA-62B6122C8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03951-75CF-454D-85D9-F6C1940D2CD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7E8C9-A69A-4FA9-A23E-1C50E81F039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C6617-2BA0-49BD-AC13-B4EDF851063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BD4E7-95E5-4FEB-92DB-7D488DA9CE9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59D88-42F5-49F1-A976-98D372C6400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8464F-5BB3-4E5A-BDE2-75E2E31FC02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B28BB-A893-464E-8A10-23F968A2658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7E586-ED65-467E-B719-9983B87788D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0E2F7-DDC1-49EE-9875-6053222FB2B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449C9-AB5A-4435-8996-212C5A39E8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994DA-AA42-4FDA-8547-A152E8FFB3C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BEDF7-063E-41E5-97DC-0CE6C41EFAE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7A185-31C6-4E75-9D8D-D2A3B2CE5F2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139D-9CB7-4A6B-8DB1-DC8EFFDFB04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0EC3-F8B8-42BA-B861-2A73A2F1FAA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BFDF-0E4D-4683-B977-A5D55290FE1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D80C-5022-4A68-811B-9650FF6B409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CF7E-A469-4AD1-8CAC-96636504BE4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F66D-389C-4018-833D-738FF65FD2C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0FCB-C830-48F4-BB36-AB68051BE6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1D550-6283-4E79-9DD9-C93AB3856C8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885D-0B10-4968-ACFA-52C113446BB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D388-9C99-499C-8370-BD1F0DD3AFE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A800-D397-4D6C-AE66-96BBF76C1BD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3184-874E-4EB8-A546-14B3B005030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C6451-563E-4304-8970-68888526CA9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5CCBA-F062-4C2D-BAE8-1B0144D8F9F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CEDA10-B805-44D1-B468-776FFD95358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C6D65-9A75-46DE-B581-B179FCAF085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73870-3D5C-4523-A6A5-8758BF4506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C84B23-DACD-4619-8B6F-E360BBC96E6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9B2BB-C007-4EB4-B8A6-84750C5CB16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66D78-143A-4E52-A4B0-FB2DD312036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5DAB6-A47C-4048-97ED-1877CDE7CD7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19334-1B1E-4DE3-94EB-CB31F1048C6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1F4B2-942F-4D8C-AC25-3DA02C5AF0C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C1920-954A-49B0-A73D-6F648884634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34868-8BD7-434B-B4EA-E85AB128E90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A816E-317C-42A0-AB0F-06CD7E8879E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F9D65-872B-410F-8B2A-B8F4B969FD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F5E73-B70F-4D01-B958-A4142662BCA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2425C-48E8-4DED-9A6A-5198BC1798A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C8359-DF57-40B4-8689-47BBCEDDCBD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1F8AE-8FF0-4463-B189-6E0A86173C2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6D64C-1082-477A-926B-6AD95A215B5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7D070-E257-4383-B8B9-0CF56B0CCFB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2B589-B94D-470C-958D-11BF5A1FB7C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379A9-4C96-4E50-8935-1E99BC47D5D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3221D-29E0-4831-B9E5-5C91A53EE017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59376-DBA5-4E41-A0B5-694316F72F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A4AAC-5DBC-4686-B159-7CD9075E4D10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3C3C-12F6-4BA4-8876-61029C60F4CB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1F25B-20AA-41B7-8C25-34C3E101217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DFD2-F64B-49D8-BDA6-B2789F0D8E9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3DC5-B810-4F78-A773-0876ECB2453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4A46F-C0DC-4D43-87E6-D4E5AFCF997A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23D0-88E0-4859-9A50-087741D7446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7A1E-9C6E-4D6E-AD42-D10D346B08A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7269-2A5C-4D61-A9B7-4EC304DFF7D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DBB59-8EDB-40B6-819F-991B1A6B50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4D25-143D-4D71-BD92-CF50258F7DA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0138F-A040-46F1-B16B-1B30F30E164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2942F-9F27-43E0-87FD-84B3BDE38E1F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F0E05B-942A-4725-8B5A-477E34ECD38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532B3-1A28-412B-BAAB-DAD68D266A5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760EB5-D76C-452D-8207-4F8AB6EFE7F7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545BF9-4F1C-42E9-9063-137F8D6A5A4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89CF98-048B-4172-94F5-9BDDFCE442F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CFF3F0-10F5-42AB-A90E-D88B0ACB640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6CFDC4-4FA5-4FF9-8307-24DC337124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D8293-7B56-486A-97FA-F295A1718EB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C9CD3B-C0C9-4BA9-95C8-312087634D86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599CC9-10AE-4120-926D-1F16A19A1ACF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0E0E6-38F6-497F-9F26-72FAA6AEB45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7D5DD-7EAA-45F2-BE7A-DF5D7B5F818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DDCDAD-D6C5-40D8-AB9C-BBBAED90C575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AA81C-51E7-4C61-8157-84A09603798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4F2C4-B9F9-438B-B792-0155CD18FA7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38F35-DB37-4FB0-820B-AA6BE0268DF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2828D-AAEF-49C5-8188-04C719C644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08D5C-4735-478A-A5FF-97C8FCDD3B3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F566D-DA5D-4265-990E-830823959AEE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AC732-817D-4473-BF7F-1DD1F3F8C561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573B9-DA4C-412D-A1E9-AE5CEF02644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A3FA9-8356-430A-AB06-DB4AE05D695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38EDD-1CB0-48A4-AEBE-A16520761AC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50FD-961F-47DB-967C-AAAC2630A31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6DD4-894E-4B60-9F8C-B6A75BB0F3D4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3D9D-4835-4C5B-BDFF-CAEA11937B2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71BD1-FEBE-4E2B-99F0-7E23BF6254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032FD-C58D-40C2-90E4-CB092BA53148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BA16E-6734-48C9-885A-2D48B5EBA49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B1DF-BBDD-439B-83F6-3B242E2FEB80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6E8C-F324-4AF8-9690-93AE8BF6626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56C6F-E7E5-491E-922C-03E19FAA338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89934-2012-4E33-B573-FC4CA1E49D45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0B3D-B3D0-4EB4-8E89-3CEB1894EEA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55AEA9-BD55-4D65-902E-897858BA256E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6337E-0747-4B26-AA46-2D2AB93AB33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DA39D2-0527-429A-BA3E-9100B99D1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6915A2-C9E3-4B45-968C-FF3CFD56ED69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1C7A96-7205-46E3-90A3-84013DD307AA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77838-F3E7-45F0-8EE1-DD53F1802649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0D4D5-9513-48EF-AD67-807A08648477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966A46-AFD7-4242-A8D3-28ECA44F4F9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9F60F3-438B-4B64-B385-8AFC95C0DE6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CF502-680F-42A5-B88A-CCB00AFD8F0F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BA05D-F042-4E34-88CC-7EDA8322297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2FC2B-E7ED-469F-91F6-DE6AC16F88F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00C7F-7AAA-4227-BDFB-59147C4897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50BA1-79E1-40D8-AFA8-8FE8BC303C9A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8D363-C7E6-4592-9422-265041259B8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EDC58-BA97-4AA7-9311-91930BCAD87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2CB1F-5C6B-4EBB-AC2E-6B032C893F1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E5BE9-27FF-43E1-B2EF-DE25F28EF18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DFC38-D7A2-4985-BCA5-B01E48E879AF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C78BF-3A4C-4D80-9BAE-D08C4508075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FA791-2127-4372-85C5-01D8DC1B7D9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516BD-3911-4021-AF6B-05F2AAF76B7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98267-3988-4D3F-A22F-1D8FCFA8BF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EB8C9-F555-42CA-A5B5-B46D738A1EB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362F-87B4-497E-82A2-FE461484E94D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13151-C1FB-43CC-8F80-50227B6AD66C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69DAC-C781-4071-B995-96ADC3376499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C33EC-C4D0-42C7-8879-403915F731BA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C8EEE-D39A-4BF4-83C3-90324170583D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156F-F0CA-4AE9-87D3-896BCCD349B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F614-BD26-4793-AD54-280CB1978B5A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A38E6-0C15-458D-B3B0-D47B8A8AFB70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E3C1-90FD-4BDB-92A3-38DC326DC5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0269-C9D0-410B-9C26-742E52C2917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9C43-90C1-4BA6-96E6-F2BD4D90C745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8671-049D-4FA9-8395-0A1837A72CE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A40484-8475-47E4-BF72-0ED57AF583C7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7518E6-349A-4ED5-82BC-B6E4C1993B6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0DCB2-703E-458D-976E-4BC1E8A9466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8D1CCD-312C-4A4E-B812-4FE3327B4BA3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9C794E-F578-4DFB-B57F-D1421614348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5E2138-D8F4-40DB-8BF7-89C0FE4B667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899C3F-17DA-4A11-A0A4-36B23329E7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3BA39-01D3-4D52-BDE6-7ED137D7655C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F8FB1D-9448-4363-AC1A-5913875A49E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58507D-069B-4ED8-9CC9-7544E69D98B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107D09-63B5-4F3C-A13B-5FF5E513E9F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CC410-D8F7-44B2-9B50-2F66660AF30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50A89-79B9-4780-8CCA-D528212CC28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478C4-9584-4115-A045-3E86FCE25075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FF1F6-1D46-46AC-BC22-ACD53C8F224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87AF6-9469-46AF-ABD9-E6A6D0344DA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3C7631-AE47-45C6-AAF5-7C68D67342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6F126-0336-4F2F-B108-E9230014D494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E2CFBC-B14B-4E1D-A9E6-9B2BFEAD71D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B3FCDF-C6F1-4A8D-8D8D-59B7F4E8BF57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A84C6-7DCF-40C4-BBAC-9E8E64D47EBE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44B6C6-F63D-4714-83EA-FC3001514F7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5FE35-7286-4020-8F83-83005147B516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67A72D-71FF-4CC8-8D25-2671EAC8DC0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9460-D928-4EBF-8E83-8E653535E71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B051C-0F84-4D94-91BA-401DF21FF35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875E-5163-4A10-89F4-308F1FE88B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592A1-668B-476B-9190-C66D8C4E292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04A13-B22B-4918-92BF-A4682CC8372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BA879-96FD-4F63-AF7B-0DCAE984ED6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FEF67-3F45-4EF9-9A7E-1FD7632A802C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B4B7E-363F-45DB-80D4-4045696AA043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35D7B-690E-4C9F-921E-07449F98598B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D1C70-AD8E-452C-8FC8-DA914214351E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A517-0264-43A5-B869-AF6B3B91AEF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0CD5B-C56A-40AC-B9FC-1CB563B97428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80280-CA3A-4BEB-B65B-2B928C9DC4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9426F-F1E0-43D9-8B5B-DAA1906FBE9D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B2CAC-192D-44A2-A8BA-F1975D11E14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901D9-03DE-476D-89E2-72AE2C7ACE62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54BC0-A2C0-4BD2-8378-B70BA096973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85E83-FF0A-487E-9A92-C869BA266AD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73791-9B77-491E-A216-5BF85C1D5FBC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AC61E-9D80-41DC-91CE-1DBC522D483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4B839-C57E-4C3B-A6E1-8CBA8B24059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B7091-2761-40DA-9E1F-CD9DACBD6622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7335B-BC63-46BB-8ACE-6EF27D8C74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205AB-2797-4189-9373-090262FD356B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E74B5-E874-432C-8DC5-D171790E3A4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95D055-ECF5-4FCD-928D-CB1EF1CAB1CE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384DBB-B1C0-4D67-A15C-554272B6230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8A57B6-C5E7-4E9A-A3DA-4FF0E12F71C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A465C-2E90-4CEB-98E5-BEA1C2B0D15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ABD39-65B3-4146-A803-9DEE0739C05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91FA6-4221-4A47-9FCF-C4DCE86E77C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0368F-2D69-48B8-B078-F024937CEEF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F182AD-457D-49F6-9F92-653BED35D3C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77677-0737-48C1-94E6-E0657B3A60BB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2004B4-97B4-4ED0-88F6-D193DB2AFCC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C871F-5016-4B04-8FDF-47FF670B637C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373A4-9787-4607-BE25-451327F69B1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78277-390A-4F9C-B953-7EB968011C8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D2D84-C2AD-482A-A719-75C25B258358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B3C7A-25DA-4D32-95A9-7D4B50803F8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70D02-BD0A-49F5-A369-2DCC56144BC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BA582-EE6F-4B53-B070-8733575F433F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38D5-3F40-4871-B43D-C6131ED15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6432A-074C-4F5E-9A52-F57F97BD90A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C24BE-16D0-453C-920B-3CD7E78495F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6C370-4A27-484F-8864-D41FE1DE5F75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BB4C9-DB5A-4FA2-BD84-5AA6AB17BF4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94D5-6961-437F-8545-0CFAB89EFE3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8B725-254D-4047-9BD8-3B354363AE7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1C91D-22F7-459C-B99F-3F1BA46C6F6C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AE7B3-A15F-4D18-8BFE-396482701DC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8CCFC-EE3A-48D2-9CAB-11858CE3071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A8515-0D20-4E86-882B-0A2AABBB61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06F20-28B2-46D7-8E0A-8E8ECD0D0E99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F2911-9EB8-457A-8CFB-2E651E16AAA4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98000-6EB3-4170-8C6B-FD42654FE63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65A04-1256-4BFC-A501-1CC7DE1C1F7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8BF1F-E7E9-4C9C-BFEE-8E33DBC17EB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634CE-3EC9-4C8C-8D5D-A332BB02D81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6C86D-BC76-48D2-9389-994A0B221381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3CC579-00C0-4A58-8F57-8FFB009D64AB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1FC30C-DFDA-41E3-BEC6-5DC50B21BFAF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DA325E-9B8B-4E0E-A770-29F37F9EE08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9802B6-4A0E-4499-BB6C-4A3A5B2236BA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A59012-23AC-458A-B499-78D50D74D88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142333-B7F2-46D3-A383-7A5FA017B0D4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3719D2-09B5-4AD3-8060-6AA3A1EBC88E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F9C26B-0198-4E4E-AEDD-56EF1B6EB4DB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3B6053-096C-4696-9BF4-A70463E9306D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7CF8D-2229-4F62-8381-E06CAB134774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D8E2B8-78EF-48B2-892E-629D450609BB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2C930-0CCE-404A-8590-FAF638801063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1EFC7-F3F5-49A7-A769-825151770C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ED81A-1CCC-49C7-9C5D-DEF111524077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F9162-552F-42D8-B0F7-8F8C369D1AC1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5E5FB-70E5-477D-B9B0-FB41AB30DD1E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27B9E-D154-487A-ACA3-DD2A5CC02C6E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67117-07FE-4CFC-BD55-C8D2C1916F6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75A3B-9FC0-4273-8319-350E0521063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1923A-94E4-42A5-90F9-D32363C7F72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4E028-B59B-47BE-90C1-28C996EF492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A01F9-12AC-4953-A06A-10A2C3251A20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60FBA-6F10-48EF-B550-A390072F47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A3B7A-E1A6-4DC7-9632-114B11B7ECE5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A63C06-8693-4848-90BB-25BAAEFC96F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012B0F-08DE-491C-B6F6-160366ED3E2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F5ACAD-A133-49BE-9600-BB97427BD10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B1F77E-0E5F-405C-9A67-8D2B6FB26B2C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D12CF1-3514-4CA7-8B4F-F4938438A1D8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01CB18-A205-4776-BC04-F38E80FC942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E2969F-41A2-43D1-9D59-3EE37FB65ADC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DA8659-7A2D-46A7-A355-848A2E48DE7E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DA29F7-42A6-4658-8BA6-B036644DB3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9A0314-27C8-479A-905B-37685C7D04DC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5D73CE-38EB-41A1-9E5C-9095417327ED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B5AC74-681B-4F5B-80C5-D4DBA27356A7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9B9AB3-D2C3-4213-9EC2-DD29F9E0D01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268FCE-4025-482D-80FB-C939FA4CD5EA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1A458D-6761-48BA-A389-FAC8558A7A56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825ADF-0380-47E8-985D-6BD2708E8E1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8528F9-2E2F-4548-A13B-C11B2C3F9A22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6F1498-8713-461C-9906-A6A8F8A798C6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3477AD-61F1-40BE-AD1D-B8D652DD397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3BCFB3-00FD-4647-8563-84B43E50380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24FD81-6E15-4457-969C-AAFD121026C2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5F3FB5-B4A1-44B3-8811-1CB75A093E7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2B527D-EE0C-4728-AE83-0AD87290F5EA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53CC65-529A-4DEA-8925-B3D02BC6D8E7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3FE51-1C0F-4C77-8BAF-7C787FF8CD1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82088-F1E3-4CC6-A6F6-5B6A7A1558F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2A3F5-5716-45CD-96A5-50A80D15DEF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F07A2-B649-4C27-BA59-AA40854E100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2F8B8-67AA-41EA-8590-A559107215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A313-4F08-4329-ABD2-CCB823265CB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86419-12E5-47FB-ABEC-112878B6EBC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E3A5-15C3-4DA3-8A7B-2194BE40BB6C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C9F9B-383E-4F77-A1B1-C6464503F2E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D8F0C-D95B-417D-B838-6794A95CBC1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862E8-EF23-427D-9725-83143A81DD6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9C860-A069-4B20-A73A-124846E4ED1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6073E-D430-470F-A5E9-D202DC3FD035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71CF7-BD03-4F4F-AFFC-3E2F118C5DEF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C3596-B654-4FA7-AE5D-729E7D4822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21D1C-EAE7-4A09-AD90-8FB94FF41053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B6C12-F8DC-4890-955D-8B8429C6609B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58824-04E0-4E02-BA32-20A255AB8DBB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70E3D-A18E-45ED-8F7E-72CF9379B33F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1C7A3-7C85-4BE7-8102-D5CC60A782C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DF28B-0C19-4BBF-8AAC-5AE42BBA5380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7DCF8-DD35-4677-A05E-BEB8D3C3A349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1817F-1385-4E47-8AA7-C3813D7FF58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7056B-37E0-4E5A-88F0-FDC9ACD4C816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01B089-971E-43BB-A55F-65CF9D57FF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75540E-ADA9-4505-8402-D51D7518193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9A36ED-74EB-4001-A730-47C38B37540E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0DDE1C-672E-4072-9309-6456E1FBF8A7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3329D1-9DC6-4F74-BE9F-9DC4FA79577D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3B964B-8E5F-4471-A47A-F9F3F2362F27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12FF02-6F9A-482C-919E-BA200E150BF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7C226F-51EF-43B7-83CE-FE161EFF1D36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05986F-268B-4F66-9EF2-34D4AB0EE292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189B6D-2EB2-4D3A-BBD5-270B6071693C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9AE598-04A5-4884-92CC-D9B5CA362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716186-B7BF-4DF2-BC65-D8AC109DF7C6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6616B-58E5-4402-A86E-BB0AF15DCF0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D9B22-A5DF-45EF-AD90-8EA130C680C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CED44-B3E7-4BF9-B3A2-39EBCA03ECB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A77BC-5AAD-486C-83E0-30F4C75CE72F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8CF16-4B73-469B-9A98-22B08D4A0A2A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4822B-BDB8-4E58-B462-A360F03AD101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1F778-1F58-4AE2-993A-E42C71E395D4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E85D0-535F-475E-97F4-0F480280D11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66F56-4840-4800-97C4-C9022BBC6D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19399-C4EE-46C7-A806-252DD3BF2ED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FBB6B-9F98-44E1-B565-E856236F1048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843A7-49A4-44F1-BDA1-1858A16B5A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81400" indent="-37296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0840" indent="-37224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63160" indent="-37332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52600" indent="-37188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43480" indent="-37332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c0c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EBF-610A-4316-B702-6C2AF29B521E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5A3C-7DB0-4595-98C3-A0A92A656FE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11FE-68E8-49BE-B98E-59CA8BE102ED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0D78-4B53-4452-AF27-3D67CA5643E8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749E-AFBB-4DF8-A297-BC48CFB31E2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7E9-242A-4A34-B5B2-42A85E4E998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sldNum" idx="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2497-0EFF-42A3-9DBB-ABD851DDBB4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sldNum" idx="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FE0A-1EC2-47AF-A87A-EAE24EED25F4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AA79-8532-4E6B-8BDB-32E3CD043B8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1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98A4-1CE8-4939-A0F1-4FEA5ACD76C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Num" idx="1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5BD-908D-49FE-AFD4-B473975B196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sldNum" idx="1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561F-0D83-4606-A596-95C815A3BC4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sldNum" idx="1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C2A-F9DE-4DCB-9EA6-0712B034ECD2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Num" idx="1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A0F-4390-4397-A354-B813A5F6F78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1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78AB-99EE-4768-B14E-65B062CC358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sldNum" idx="1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94F8-39E8-496B-9EB7-38FA5570BCB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sldNum" idx="1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299A-3546-4D25-A0B3-5D5C8D36EBA8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1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E99E-0BE2-4C47-B9FA-90CC562E91D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1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7B3E-D796-4700-AC97-479595871D83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2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A8A5-9939-4C78-A90C-F2F5782CF3F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sldNum" idx="2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838-4C34-4172-B027-FAEEAC5B6517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sldNum" idx="2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CC3B-66E1-482F-806B-586E21499B4E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sldNum" idx="2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0AB-87AA-4EFA-B1A3-B78E3CB3A173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sldNum" idx="2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9F9-F377-4801-AFE5-0E356B90A700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sldNum" idx="2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0BD9-3C65-4A0D-9200-E61FE75FAC6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sldNum" idx="2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177E-D20C-412B-8632-530724820645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sldNum" idx="2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2C3-AE81-4A8A-91FD-61C030BA7F1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sldNum" idx="2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482C-1EEF-4BE8-8FA4-BFBFE5F6E02D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sldNum" idx="2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445F-1128-4E66-99C5-9BBFDCCA2EBD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sldNum" idx="3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A4C1-567F-4CD8-8193-05EF58F2867F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Num" idx="3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D012-7FFC-49CA-A240-9C900B695EF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sldNum" idx="3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02A-F402-430C-B66A-2F62237A4A4B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sldNum" idx="3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5F65-880D-435E-9FBA-BB832004355F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sldNum" idx="3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6C6-C6DF-4FF0-A7DD-8D34EA4DA84E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a4"/>
            </a:gs>
            <a:gs pos="100000">
              <a:srgbClr val="4a4a4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sldNum" idx="3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504-20FE-4A47-982E-EDA6C59603C4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sldNum" idx="3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414141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D07C-DD4A-467D-8983-1B116CDD9C66}" type="slidenum">
              <a:rPr b="1" lang="zh-CN" sz="1300" spc="-1" strike="noStrike">
                <a:solidFill>
                  <a:srgbClr val="414141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"/>
          <p:cNvSpPr/>
          <p:nvPr/>
        </p:nvSpPr>
        <p:spPr>
          <a:xfrm>
            <a:off x="-106200" y="0"/>
            <a:ext cx="9286560" cy="6858000"/>
          </a:xfrm>
          <a:prstGeom prst="rect">
            <a:avLst/>
          </a:prstGeom>
          <a:solidFill>
            <a:srgbClr val="0c0c0c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6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" descr=""/>
          <p:cNvPicPr/>
          <p:nvPr/>
        </p:nvPicPr>
        <p:blipFill>
          <a:blip r:embed="rId2"/>
          <a:stretch/>
        </p:blipFill>
        <p:spPr>
          <a:xfrm>
            <a:off x="4680" y="-17640"/>
            <a:ext cx="9139320" cy="515016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3" descr=""/>
          <p:cNvPicPr/>
          <p:nvPr/>
        </p:nvPicPr>
        <p:blipFill>
          <a:blip r:embed="rId3"/>
          <a:srcRect l="6770" t="0" r="2801" b="0"/>
          <a:stretch/>
        </p:blipFill>
        <p:spPr>
          <a:xfrm>
            <a:off x="0" y="2924280"/>
            <a:ext cx="9144000" cy="323856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" descr=""/>
          <p:cNvPicPr/>
          <p:nvPr/>
        </p:nvPicPr>
        <p:blipFill>
          <a:blip r:embed="rId4"/>
          <a:stretch/>
        </p:blipFill>
        <p:spPr>
          <a:xfrm>
            <a:off x="5359320" y="189000"/>
            <a:ext cx="482760" cy="65556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3" descr=""/>
          <p:cNvPicPr/>
          <p:nvPr/>
        </p:nvPicPr>
        <p:blipFill>
          <a:blip r:embed="rId5"/>
          <a:stretch/>
        </p:blipFill>
        <p:spPr>
          <a:xfrm>
            <a:off x="3998880" y="844560"/>
            <a:ext cx="1000080" cy="1400040"/>
          </a:xfrm>
          <a:prstGeom prst="rect">
            <a:avLst/>
          </a:prstGeom>
          <a:ln w="0">
            <a:noFill/>
          </a:ln>
        </p:spPr>
      </p:pic>
      <p:sp>
        <p:nvSpPr>
          <p:cNvPr id="1981" name="矩形 220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2" name="Picture 4" descr=""/>
          <p:cNvPicPr/>
          <p:nvPr/>
        </p:nvPicPr>
        <p:blipFill>
          <a:blip r:embed="rId6"/>
          <a:stretch/>
        </p:blipFill>
        <p:spPr>
          <a:xfrm>
            <a:off x="2046240" y="2374920"/>
            <a:ext cx="4121280" cy="109692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5" descr=""/>
          <p:cNvPicPr/>
          <p:nvPr/>
        </p:nvPicPr>
        <p:blipFill>
          <a:blip r:embed="rId7"/>
          <a:stretch/>
        </p:blipFill>
        <p:spPr>
          <a:xfrm>
            <a:off x="446040" y="1827360"/>
            <a:ext cx="4125960" cy="1096920"/>
          </a:xfrm>
          <a:prstGeom prst="rect">
            <a:avLst/>
          </a:prstGeom>
          <a:ln w="0">
            <a:noFill/>
          </a:ln>
        </p:spPr>
      </p:pic>
      <p:sp>
        <p:nvSpPr>
          <p:cNvPr id="19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289240" y="95256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航海比赛运动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-2.77457E-006 L 0.71389 0.00532 E">
                                      <p:cBhvr>
                                        <p:cTn id="12" dur="4300" fill="hold"/>
                                        <p:tgtEl>
                                          <p:spTgt spid="1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" dur="4300" fill="hold"/>
                                        <p:tgtEl>
                                          <p:spTgt spid="19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11111E-006 -4.45087E-006 L 0.1783 0.00578 E">
                                      <p:cBhvr>
                                        <p:cTn id="16" dur="4300" fill="hold"/>
                                        <p:tgtEl>
                                          <p:spTgt spid="1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4300" fill="hold"/>
                                        <p:tgtEl>
                                          <p:spTgt spid="1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4300" fill="hold"/>
                                        <p:tgtEl>
                                          <p:spTgt spid="1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200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6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87" name="Picture 7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88" name="빛2-1" descr=""/>
          <p:cNvPicPr/>
          <p:nvPr/>
        </p:nvPicPr>
        <p:blipFill>
          <a:blip r:embed="rId3"/>
          <a:stretch/>
        </p:blipFill>
        <p:spPr>
          <a:xfrm rot="20684400">
            <a:off x="6454440" y="-407880"/>
            <a:ext cx="2416320" cy="29415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235" descr=""/>
          <p:cNvPicPr/>
          <p:nvPr/>
        </p:nvPicPr>
        <p:blipFill>
          <a:blip r:embed="rId4"/>
          <a:stretch/>
        </p:blipFill>
        <p:spPr>
          <a:xfrm>
            <a:off x="7518240" y="870120"/>
            <a:ext cx="654120" cy="408780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3" descr=""/>
          <p:cNvPicPr/>
          <p:nvPr/>
        </p:nvPicPr>
        <p:blipFill>
          <a:blip r:embed="rId5"/>
          <a:srcRect l="6770" t="0" r="2801" b="0"/>
          <a:stretch/>
        </p:blipFill>
        <p:spPr>
          <a:xfrm>
            <a:off x="0" y="2924280"/>
            <a:ext cx="9144000" cy="32385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63" descr=""/>
          <p:cNvPicPr/>
          <p:nvPr/>
        </p:nvPicPr>
        <p:blipFill>
          <a:blip r:embed="rId6"/>
          <a:stretch/>
        </p:blipFill>
        <p:spPr>
          <a:xfrm>
            <a:off x="6496200" y="988920"/>
            <a:ext cx="380880" cy="135000"/>
          </a:xfrm>
          <a:prstGeom prst="rect">
            <a:avLst/>
          </a:prstGeom>
          <a:ln w="0">
            <a:noFill/>
          </a:ln>
        </p:spPr>
      </p:pic>
      <p:sp>
        <p:nvSpPr>
          <p:cNvPr id="1992" name="矩形 181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8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3284 C -0.0191 -0.03284 -0.04653 0.09641 -0.04653 0.25248 C -0.04653 0.4067 -0.0191 0.53364 0.01649 0.53364 E">
                                      <p:cBhvr>
                                        <p:cTn id="51" dur="2000" fill="hold"/>
                                        <p:tgtEl>
                                          <p:spTgt spid="1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6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59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43021 0.29873 C -0.43837 0.26381 -0.36233 0.20092 -0.26094 0.15468 C -0.15712 0.10636 -0.06684 0.0941 -0.05816 0.12786 C -0.04861 0.16254 0.03958 0.15121 0.14444 0.10289 C 0.246 0.05641 0.32309 -0.00763 0.31319 -0.04185 E">
                                      <p:cBhvr>
                                        <p:cTn id="61" dur="3200" fill="hold"/>
                                        <p:tgtEl>
                                          <p:spTgt spid="1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900" spc="-1" strike="noStrike">
                <a:solidFill>
                  <a:srgbClr val="000000"/>
                </a:solidFill>
                <a:latin typeface="Gill Sans"/>
              </a:rPr>
              <a:t>使用规范说明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7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1998" name="Group 3"/>
          <p:cNvGrpSpPr/>
          <p:nvPr/>
        </p:nvGrpSpPr>
        <p:grpSpPr>
          <a:xfrm>
            <a:off x="3419640" y="1998720"/>
            <a:ext cx="2232000" cy="2664000"/>
            <a:chOff x="3419640" y="1998720"/>
            <a:chExt cx="2232000" cy="2664000"/>
          </a:xfrm>
        </p:grpSpPr>
        <p:grpSp>
          <p:nvGrpSpPr>
            <p:cNvPr id="1999" name="Group 4"/>
            <p:cNvGrpSpPr/>
            <p:nvPr/>
          </p:nvGrpSpPr>
          <p:grpSpPr>
            <a:xfrm>
              <a:off x="3665160" y="1998720"/>
              <a:ext cx="1410480" cy="1735200"/>
              <a:chOff x="3665160" y="1998720"/>
              <a:chExt cx="1410480" cy="1735200"/>
            </a:xfrm>
          </p:grpSpPr>
          <p:grpSp>
            <p:nvGrpSpPr>
              <p:cNvPr id="2000" name="Group 5"/>
              <p:cNvGrpSpPr/>
              <p:nvPr/>
            </p:nvGrpSpPr>
            <p:grpSpPr>
              <a:xfrm>
                <a:off x="3665160" y="1998720"/>
                <a:ext cx="1410480" cy="1735200"/>
                <a:chOff x="3665160" y="1998720"/>
                <a:chExt cx="1410480" cy="1735200"/>
              </a:xfrm>
            </p:grpSpPr>
            <p:sp>
              <p:nvSpPr>
                <p:cNvPr id="2001" name="AutoShape 131"/>
                <p:cNvSpPr/>
                <p:nvPr/>
              </p:nvSpPr>
              <p:spPr>
                <a:xfrm>
                  <a:off x="3665160" y="1998720"/>
                  <a:ext cx="1410480" cy="17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Rectangle 140"/>
                <p:cNvSpPr/>
                <p:nvPr/>
              </p:nvSpPr>
              <p:spPr>
                <a:xfrm>
                  <a:off x="4995720" y="3666600"/>
                  <a:ext cx="6516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Rectangle 141"/>
                <p:cNvSpPr/>
                <p:nvPr/>
              </p:nvSpPr>
              <p:spPr>
                <a:xfrm>
                  <a:off x="5000400" y="3658680"/>
                  <a:ext cx="5544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Rectangle 142"/>
                <p:cNvSpPr/>
                <p:nvPr/>
              </p:nvSpPr>
              <p:spPr>
                <a:xfrm>
                  <a:off x="4989240" y="3675600"/>
                  <a:ext cx="78480" cy="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Rectangle 143"/>
                <p:cNvSpPr/>
                <p:nvPr/>
              </p:nvSpPr>
              <p:spPr>
                <a:xfrm>
                  <a:off x="5009400" y="3654720"/>
                  <a:ext cx="900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Rectangle 144"/>
                <p:cNvSpPr/>
                <p:nvPr/>
              </p:nvSpPr>
              <p:spPr>
                <a:xfrm>
                  <a:off x="5023440" y="3699360"/>
                  <a:ext cx="8640" cy="24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Rectangle 145"/>
                <p:cNvSpPr/>
                <p:nvPr/>
              </p:nvSpPr>
              <p:spPr>
                <a:xfrm>
                  <a:off x="5040000" y="3654720"/>
                  <a:ext cx="7920" cy="23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Rectangle 150"/>
                <p:cNvSpPr/>
                <p:nvPr/>
              </p:nvSpPr>
              <p:spPr>
                <a:xfrm>
                  <a:off x="4655880" y="3659760"/>
                  <a:ext cx="1008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Rectangle 153"/>
                <p:cNvSpPr/>
                <p:nvPr/>
              </p:nvSpPr>
              <p:spPr>
                <a:xfrm>
                  <a:off x="4621680" y="3659760"/>
                  <a:ext cx="9360" cy="71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Rectangle 158"/>
                <p:cNvSpPr/>
                <p:nvPr/>
              </p:nvSpPr>
              <p:spPr>
                <a:xfrm>
                  <a:off x="401508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Rectangle 159"/>
                <p:cNvSpPr/>
                <p:nvPr/>
              </p:nvSpPr>
              <p:spPr>
                <a:xfrm>
                  <a:off x="405180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Rectangle 160"/>
                <p:cNvSpPr/>
                <p:nvPr/>
              </p:nvSpPr>
              <p:spPr>
                <a:xfrm>
                  <a:off x="401832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Rectangle 161"/>
                <p:cNvSpPr/>
                <p:nvPr/>
              </p:nvSpPr>
              <p:spPr>
                <a:xfrm>
                  <a:off x="4071600" y="3534840"/>
                  <a:ext cx="9000" cy="6408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Rectangle 162"/>
                <p:cNvSpPr/>
                <p:nvPr/>
              </p:nvSpPr>
              <p:spPr>
                <a:xfrm>
                  <a:off x="4071600" y="3534840"/>
                  <a:ext cx="446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Rectangle 163"/>
                <p:cNvSpPr/>
                <p:nvPr/>
              </p:nvSpPr>
              <p:spPr>
                <a:xfrm>
                  <a:off x="4085640" y="3576240"/>
                  <a:ext cx="3060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Rectangle 164"/>
                <p:cNvSpPr/>
                <p:nvPr/>
              </p:nvSpPr>
              <p:spPr>
                <a:xfrm>
                  <a:off x="4107240" y="3534840"/>
                  <a:ext cx="900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Rectangle 166"/>
                <p:cNvSpPr/>
                <p:nvPr/>
              </p:nvSpPr>
              <p:spPr>
                <a:xfrm>
                  <a:off x="4804200" y="3534840"/>
                  <a:ext cx="864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Rectangle 167"/>
                <p:cNvSpPr/>
                <p:nvPr/>
              </p:nvSpPr>
              <p:spPr>
                <a:xfrm>
                  <a:off x="4804200" y="3576240"/>
                  <a:ext cx="4212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Rectangle 168"/>
                <p:cNvSpPr/>
                <p:nvPr/>
              </p:nvSpPr>
              <p:spPr>
                <a:xfrm>
                  <a:off x="4804200" y="3534840"/>
                  <a:ext cx="421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Rectangle 169"/>
                <p:cNvSpPr/>
                <p:nvPr/>
              </p:nvSpPr>
              <p:spPr>
                <a:xfrm>
                  <a:off x="4838400" y="3534840"/>
                  <a:ext cx="10080" cy="302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Rectangle 170"/>
                <p:cNvSpPr/>
                <p:nvPr/>
              </p:nvSpPr>
              <p:spPr>
                <a:xfrm>
                  <a:off x="4817880" y="3555360"/>
                  <a:ext cx="284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Rectangle 171"/>
                <p:cNvSpPr/>
                <p:nvPr/>
              </p:nvSpPr>
              <p:spPr>
                <a:xfrm>
                  <a:off x="4858560" y="3534840"/>
                  <a:ext cx="45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Rectangle 172"/>
                <p:cNvSpPr/>
                <p:nvPr/>
              </p:nvSpPr>
              <p:spPr>
                <a:xfrm>
                  <a:off x="4858560" y="3576240"/>
                  <a:ext cx="316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Rectangle 173"/>
                <p:cNvSpPr/>
                <p:nvPr/>
              </p:nvSpPr>
              <p:spPr>
                <a:xfrm>
                  <a:off x="485856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Rectangle 175"/>
                <p:cNvSpPr/>
                <p:nvPr/>
              </p:nvSpPr>
              <p:spPr>
                <a:xfrm>
                  <a:off x="4894200" y="3534840"/>
                  <a:ext cx="10080" cy="6120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Rectangle 176"/>
                <p:cNvSpPr/>
                <p:nvPr/>
              </p:nvSpPr>
              <p:spPr>
                <a:xfrm>
                  <a:off x="4948920" y="3534840"/>
                  <a:ext cx="864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Rectangle 177"/>
                <p:cNvSpPr/>
                <p:nvPr/>
              </p:nvSpPr>
              <p:spPr>
                <a:xfrm>
                  <a:off x="4915440" y="3534840"/>
                  <a:ext cx="421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Rectangle 178"/>
                <p:cNvSpPr/>
                <p:nvPr/>
              </p:nvSpPr>
              <p:spPr>
                <a:xfrm>
                  <a:off x="4915440" y="3576240"/>
                  <a:ext cx="4212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Rectangle 179"/>
                <p:cNvSpPr/>
                <p:nvPr/>
              </p:nvSpPr>
              <p:spPr>
                <a:xfrm>
                  <a:off x="4912920" y="3555360"/>
                  <a:ext cx="1008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Rectangle 180"/>
                <p:cNvSpPr/>
                <p:nvPr/>
              </p:nvSpPr>
              <p:spPr>
                <a:xfrm>
                  <a:off x="491544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Rectangle 181"/>
                <p:cNvSpPr/>
                <p:nvPr/>
              </p:nvSpPr>
              <p:spPr>
                <a:xfrm>
                  <a:off x="4962960" y="3534840"/>
                  <a:ext cx="316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Rectangle 182"/>
                <p:cNvSpPr/>
                <p:nvPr/>
              </p:nvSpPr>
              <p:spPr>
                <a:xfrm>
                  <a:off x="4969440" y="3515040"/>
                  <a:ext cx="900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Rectangle 183"/>
                <p:cNvSpPr/>
                <p:nvPr/>
              </p:nvSpPr>
              <p:spPr>
                <a:xfrm>
                  <a:off x="4997160" y="3534840"/>
                  <a:ext cx="316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Rectangle 184"/>
                <p:cNvSpPr/>
                <p:nvPr/>
              </p:nvSpPr>
              <p:spPr>
                <a:xfrm>
                  <a:off x="5004360" y="3515040"/>
                  <a:ext cx="864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Rectangle 185"/>
                <p:cNvSpPr/>
                <p:nvPr/>
              </p:nvSpPr>
              <p:spPr>
                <a:xfrm>
                  <a:off x="506484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Rectangle 186"/>
                <p:cNvSpPr/>
                <p:nvPr/>
              </p:nvSpPr>
              <p:spPr>
                <a:xfrm>
                  <a:off x="5035320" y="3534840"/>
                  <a:ext cx="3960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Rectangle 187"/>
                <p:cNvSpPr/>
                <p:nvPr/>
              </p:nvSpPr>
              <p:spPr>
                <a:xfrm>
                  <a:off x="503208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Rectangle 188"/>
                <p:cNvSpPr/>
                <p:nvPr/>
              </p:nvSpPr>
              <p:spPr>
                <a:xfrm>
                  <a:off x="5030280" y="3555360"/>
                  <a:ext cx="936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Rectangle 189"/>
                <p:cNvSpPr/>
                <p:nvPr/>
              </p:nvSpPr>
              <p:spPr>
                <a:xfrm>
                  <a:off x="503208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Rectangle 190"/>
                <p:cNvSpPr/>
                <p:nvPr/>
              </p:nvSpPr>
              <p:spPr>
                <a:xfrm>
                  <a:off x="4737600" y="3515040"/>
                  <a:ext cx="4824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Rectangle 191"/>
                <p:cNvSpPr/>
                <p:nvPr/>
              </p:nvSpPr>
              <p:spPr>
                <a:xfrm>
                  <a:off x="4752720" y="3555360"/>
                  <a:ext cx="33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Rectangle 192"/>
                <p:cNvSpPr/>
                <p:nvPr/>
              </p:nvSpPr>
              <p:spPr>
                <a:xfrm>
                  <a:off x="4778280" y="35150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Rectangle 193"/>
                <p:cNvSpPr/>
                <p:nvPr/>
              </p:nvSpPr>
              <p:spPr>
                <a:xfrm>
                  <a:off x="4737600" y="3515040"/>
                  <a:ext cx="936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Rectangle 195"/>
                <p:cNvSpPr/>
                <p:nvPr/>
              </p:nvSpPr>
              <p:spPr>
                <a:xfrm>
                  <a:off x="4761360" y="3559320"/>
                  <a:ext cx="9360" cy="15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Rectangle 196"/>
                <p:cNvSpPr/>
                <p:nvPr/>
              </p:nvSpPr>
              <p:spPr>
                <a:xfrm>
                  <a:off x="420660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Rectangle 197"/>
                <p:cNvSpPr/>
                <p:nvPr/>
              </p:nvSpPr>
              <p:spPr>
                <a:xfrm>
                  <a:off x="4169880" y="3534840"/>
                  <a:ext cx="464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Rectangle 198"/>
                <p:cNvSpPr/>
                <p:nvPr/>
              </p:nvSpPr>
              <p:spPr>
                <a:xfrm>
                  <a:off x="4221720" y="3534840"/>
                  <a:ext cx="3060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Rectangle 199"/>
                <p:cNvSpPr/>
                <p:nvPr/>
              </p:nvSpPr>
              <p:spPr>
                <a:xfrm>
                  <a:off x="416988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Rectangle 200"/>
                <p:cNvSpPr/>
                <p:nvPr/>
              </p:nvSpPr>
              <p:spPr>
                <a:xfrm>
                  <a:off x="4227840" y="3515040"/>
                  <a:ext cx="936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Rectangle 201"/>
                <p:cNvSpPr/>
                <p:nvPr/>
              </p:nvSpPr>
              <p:spPr>
                <a:xfrm>
                  <a:off x="425808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Rectangle 202"/>
                <p:cNvSpPr/>
                <p:nvPr/>
              </p:nvSpPr>
              <p:spPr>
                <a:xfrm>
                  <a:off x="425808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Rectangle 203"/>
                <p:cNvSpPr/>
                <p:nvPr/>
              </p:nvSpPr>
              <p:spPr>
                <a:xfrm>
                  <a:off x="4258080" y="3534840"/>
                  <a:ext cx="42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Rectangle 204"/>
                <p:cNvSpPr/>
                <p:nvPr/>
              </p:nvSpPr>
              <p:spPr>
                <a:xfrm>
                  <a:off x="4293000" y="3534840"/>
                  <a:ext cx="10080" cy="302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Rectangle 205"/>
                <p:cNvSpPr/>
                <p:nvPr/>
              </p:nvSpPr>
              <p:spPr>
                <a:xfrm>
                  <a:off x="427320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Rectangle 207"/>
                <p:cNvSpPr/>
                <p:nvPr/>
              </p:nvSpPr>
              <p:spPr>
                <a:xfrm>
                  <a:off x="4312080" y="3544560"/>
                  <a:ext cx="8640" cy="403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Rectangle 208"/>
                <p:cNvSpPr/>
                <p:nvPr/>
              </p:nvSpPr>
              <p:spPr>
                <a:xfrm>
                  <a:off x="4377240" y="3534840"/>
                  <a:ext cx="900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Rectangle 209"/>
                <p:cNvSpPr/>
                <p:nvPr/>
              </p:nvSpPr>
              <p:spPr>
                <a:xfrm>
                  <a:off x="4340520" y="3534840"/>
                  <a:ext cx="45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Rectangle 210"/>
                <p:cNvSpPr/>
                <p:nvPr/>
              </p:nvSpPr>
              <p:spPr>
                <a:xfrm>
                  <a:off x="434052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Rectangle 211"/>
                <p:cNvSpPr/>
                <p:nvPr/>
              </p:nvSpPr>
              <p:spPr>
                <a:xfrm>
                  <a:off x="443376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Rectangle 212"/>
                <p:cNvSpPr/>
                <p:nvPr/>
              </p:nvSpPr>
              <p:spPr>
                <a:xfrm>
                  <a:off x="4401000" y="3534840"/>
                  <a:ext cx="42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Rectangle 213"/>
                <p:cNvSpPr/>
                <p:nvPr/>
              </p:nvSpPr>
              <p:spPr>
                <a:xfrm>
                  <a:off x="440100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Rectangle 214"/>
                <p:cNvSpPr/>
                <p:nvPr/>
              </p:nvSpPr>
              <p:spPr>
                <a:xfrm>
                  <a:off x="4399200" y="3555360"/>
                  <a:ext cx="936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Rectangle 215"/>
                <p:cNvSpPr/>
                <p:nvPr/>
              </p:nvSpPr>
              <p:spPr>
                <a:xfrm>
                  <a:off x="440100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Rectangle 216"/>
                <p:cNvSpPr/>
                <p:nvPr/>
              </p:nvSpPr>
              <p:spPr>
                <a:xfrm>
                  <a:off x="4451760" y="3534840"/>
                  <a:ext cx="3060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Rectangle 217"/>
                <p:cNvSpPr/>
                <p:nvPr/>
              </p:nvSpPr>
              <p:spPr>
                <a:xfrm>
                  <a:off x="4457520" y="3515040"/>
                  <a:ext cx="1008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Rectangle 218"/>
                <p:cNvSpPr/>
                <p:nvPr/>
              </p:nvSpPr>
              <p:spPr>
                <a:xfrm>
                  <a:off x="4678920" y="3515040"/>
                  <a:ext cx="10080" cy="698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Rectangle 219"/>
                <p:cNvSpPr/>
                <p:nvPr/>
              </p:nvSpPr>
              <p:spPr>
                <a:xfrm>
                  <a:off x="4488480" y="3532680"/>
                  <a:ext cx="10080" cy="5220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Rectangle 220"/>
                <p:cNvSpPr/>
                <p:nvPr/>
              </p:nvSpPr>
              <p:spPr>
                <a:xfrm>
                  <a:off x="4543200" y="3534840"/>
                  <a:ext cx="864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Rectangle 221"/>
                <p:cNvSpPr/>
                <p:nvPr/>
              </p:nvSpPr>
              <p:spPr>
                <a:xfrm>
                  <a:off x="4506480" y="3534840"/>
                  <a:ext cx="4536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Rectangle 222"/>
                <p:cNvSpPr/>
                <p:nvPr/>
              </p:nvSpPr>
              <p:spPr>
                <a:xfrm>
                  <a:off x="4506480" y="3534840"/>
                  <a:ext cx="936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Rectangle 223"/>
                <p:cNvSpPr/>
                <p:nvPr/>
              </p:nvSpPr>
              <p:spPr>
                <a:xfrm>
                  <a:off x="4506480" y="3576240"/>
                  <a:ext cx="4536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Rectangle 224"/>
                <p:cNvSpPr/>
                <p:nvPr/>
              </p:nvSpPr>
              <p:spPr>
                <a:xfrm>
                  <a:off x="4601880" y="3534840"/>
                  <a:ext cx="936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Rectangle 225"/>
                <p:cNvSpPr/>
                <p:nvPr/>
              </p:nvSpPr>
              <p:spPr>
                <a:xfrm>
                  <a:off x="4564800" y="3534840"/>
                  <a:ext cx="4644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Rectangle 226"/>
                <p:cNvSpPr/>
                <p:nvPr/>
              </p:nvSpPr>
              <p:spPr>
                <a:xfrm>
                  <a:off x="456480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Rectangle 227"/>
                <p:cNvSpPr/>
                <p:nvPr/>
              </p:nvSpPr>
              <p:spPr>
                <a:xfrm>
                  <a:off x="4659840" y="3534840"/>
                  <a:ext cx="10080" cy="500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Rectangle 228"/>
                <p:cNvSpPr/>
                <p:nvPr/>
              </p:nvSpPr>
              <p:spPr>
                <a:xfrm>
                  <a:off x="4627440" y="3534840"/>
                  <a:ext cx="4248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Rectangle 229"/>
                <p:cNvSpPr/>
                <p:nvPr/>
              </p:nvSpPr>
              <p:spPr>
                <a:xfrm>
                  <a:off x="4627440" y="3576240"/>
                  <a:ext cx="4248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Rectangle 230"/>
                <p:cNvSpPr/>
                <p:nvPr/>
              </p:nvSpPr>
              <p:spPr>
                <a:xfrm>
                  <a:off x="4625640" y="3555360"/>
                  <a:ext cx="8640" cy="2952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Rectangle 231"/>
                <p:cNvSpPr/>
                <p:nvPr/>
              </p:nvSpPr>
              <p:spPr>
                <a:xfrm>
                  <a:off x="4627440" y="3555360"/>
                  <a:ext cx="27720" cy="936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Rectangle 233"/>
                <p:cNvSpPr/>
                <p:nvPr/>
              </p:nvSpPr>
              <p:spPr>
                <a:xfrm>
                  <a:off x="4488480" y="3515040"/>
                  <a:ext cx="10080" cy="104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Rectangle 234"/>
                <p:cNvSpPr/>
                <p:nvPr/>
              </p:nvSpPr>
              <p:spPr>
                <a:xfrm>
                  <a:off x="4678920" y="3576240"/>
                  <a:ext cx="25920" cy="8640"/>
                </a:xfrm>
                <a:prstGeom prst="rect">
                  <a:avLst/>
                </a:prstGeom>
                <a:solidFill>
                  <a:srgbClr val="9fd9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2" name="Picture 23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2098440"/>
                <a:ext cx="181800" cy="113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3" name="Group 109"/>
            <p:cNvGrpSpPr/>
            <p:nvPr/>
          </p:nvGrpSpPr>
          <p:grpSpPr>
            <a:xfrm>
              <a:off x="3419640" y="3778920"/>
              <a:ext cx="2232000" cy="883800"/>
              <a:chOff x="3419640" y="3778920"/>
              <a:chExt cx="2232000" cy="883800"/>
            </a:xfrm>
          </p:grpSpPr>
          <p:sp>
            <p:nvSpPr>
              <p:cNvPr id="2084" name="矩形 210"/>
              <p:cNvSpPr/>
              <p:nvPr/>
            </p:nvSpPr>
            <p:spPr>
              <a:xfrm>
                <a:off x="3419640" y="4014360"/>
                <a:ext cx="223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0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月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6-29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日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·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深圳大亚湾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圆角矩形 212"/>
              <p:cNvSpPr/>
              <p:nvPr/>
            </p:nvSpPr>
            <p:spPr>
              <a:xfrm>
                <a:off x="3923640" y="4223520"/>
                <a:ext cx="1394640" cy="222840"/>
              </a:xfrm>
              <a:prstGeom prst="roundRect">
                <a:avLst>
                  <a:gd name="adj" fmla="val 16667"/>
                </a:avLst>
              </a:prstGeom>
              <a:solidFill>
                <a:srgbClr val="a2a2e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矩形 214"/>
              <p:cNvSpPr/>
              <p:nvPr/>
            </p:nvSpPr>
            <p:spPr>
              <a:xfrm>
                <a:off x="3899160" y="4200480"/>
                <a:ext cx="110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矩形 215"/>
              <p:cNvSpPr/>
              <p:nvPr/>
            </p:nvSpPr>
            <p:spPr>
              <a:xfrm>
                <a:off x="4235760" y="4416480"/>
                <a:ext cx="74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汉仪细圆简"/>
                    <a:ea typeface="汉仪细圆简"/>
                  </a:rPr>
                  <a:t>@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汉仪细圆简"/>
                    <a:ea typeface="汉仪细圆简"/>
                  </a:rPr>
                  <a:t>中国杯帆船赛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8" name="Picture 62" descr=""/>
              <p:cNvPicPr/>
              <p:nvPr/>
            </p:nvPicPr>
            <p:blipFill>
              <a:blip r:embed="rId3"/>
              <a:stretch/>
            </p:blipFill>
            <p:spPr>
              <a:xfrm>
                <a:off x="3910680" y="4446360"/>
                <a:ext cx="227520" cy="1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9" name="矩形 217"/>
              <p:cNvSpPr/>
              <p:nvPr/>
            </p:nvSpPr>
            <p:spPr>
              <a:xfrm>
                <a:off x="3766680" y="3778920"/>
                <a:ext cx="1609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000"/>
                    </a:solidFill>
                    <a:latin typeface="汉仪细圆简"/>
                    <a:ea typeface="汉仪细圆简"/>
                  </a:rPr>
                  <a:t>2012</a:t>
                </a:r>
                <a:r>
                  <a:rPr b="1" lang="zh-CN" sz="1400" spc="-1" strike="noStrike">
                    <a:solidFill>
                      <a:srgbClr val="ffc000"/>
                    </a:solidFill>
                    <a:latin typeface="汉仪细圆简"/>
                    <a:ea typeface="汉仪细圆简"/>
                  </a:rPr>
                  <a:t>第六届中国杯帆船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0" name="矩形 114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1" name="Group 118"/>
          <p:cNvGrpSpPr/>
          <p:nvPr/>
        </p:nvGrpSpPr>
        <p:grpSpPr>
          <a:xfrm>
            <a:off x="4932360" y="3294000"/>
            <a:ext cx="565200" cy="711360"/>
            <a:chOff x="4932360" y="3294000"/>
            <a:chExt cx="565200" cy="711360"/>
          </a:xfrm>
        </p:grpSpPr>
        <p:sp>
          <p:nvSpPr>
            <p:cNvPr id="2092" name="椭圆 118"/>
            <p:cNvSpPr/>
            <p:nvPr/>
          </p:nvSpPr>
          <p:spPr>
            <a:xfrm>
              <a:off x="4932360" y="3376800"/>
              <a:ext cx="5652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椭圆 119"/>
            <p:cNvSpPr/>
            <p:nvPr/>
          </p:nvSpPr>
          <p:spPr>
            <a:xfrm>
              <a:off x="5186520" y="362268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4" name="Group 121"/>
            <p:cNvGrpSpPr/>
            <p:nvPr/>
          </p:nvGrpSpPr>
          <p:grpSpPr>
            <a:xfrm>
              <a:off x="5205240" y="3294000"/>
              <a:ext cx="24480" cy="711360"/>
              <a:chOff x="5205240" y="3294000"/>
              <a:chExt cx="24480" cy="711360"/>
            </a:xfrm>
          </p:grpSpPr>
          <p:sp>
            <p:nvSpPr>
              <p:cNvPr id="2095" name="等腰三角形 130"/>
              <p:cNvSpPr/>
              <p:nvPr/>
            </p:nvSpPr>
            <p:spPr>
              <a:xfrm flipH="1" rot="10800000">
                <a:off x="5205240" y="364608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等腰三角形 131"/>
              <p:cNvSpPr/>
              <p:nvPr/>
            </p:nvSpPr>
            <p:spPr>
              <a:xfrm flipH="1">
                <a:off x="5205240" y="329400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4"/>
            <p:cNvGrpSpPr/>
            <p:nvPr/>
          </p:nvGrpSpPr>
          <p:grpSpPr>
            <a:xfrm>
              <a:off x="4958280" y="3640680"/>
              <a:ext cx="527040" cy="25200"/>
              <a:chOff x="4958280" y="3640680"/>
              <a:chExt cx="527040" cy="25200"/>
            </a:xfrm>
          </p:grpSpPr>
          <p:sp>
            <p:nvSpPr>
              <p:cNvPr id="2098" name="等腰三角形 128"/>
              <p:cNvSpPr/>
              <p:nvPr/>
            </p:nvSpPr>
            <p:spPr>
              <a:xfrm flipH="1" rot="5400000">
                <a:off x="5341320" y="352116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等腰三角形 129"/>
              <p:cNvSpPr/>
              <p:nvPr/>
            </p:nvSpPr>
            <p:spPr>
              <a:xfrm rot="16200000">
                <a:off x="5077800" y="352188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0" name="Group 127"/>
            <p:cNvGrpSpPr/>
            <p:nvPr/>
          </p:nvGrpSpPr>
          <p:grpSpPr>
            <a:xfrm>
              <a:off x="5123520" y="3521880"/>
              <a:ext cx="190800" cy="290160"/>
              <a:chOff x="5123520" y="3521880"/>
              <a:chExt cx="190800" cy="290160"/>
            </a:xfrm>
          </p:grpSpPr>
          <p:sp>
            <p:nvSpPr>
              <p:cNvPr id="2101" name="等腰三角形 126"/>
              <p:cNvSpPr/>
              <p:nvPr/>
            </p:nvSpPr>
            <p:spPr>
              <a:xfrm flipH="1" rot="12716400">
                <a:off x="5165640" y="36511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等腰三角形 127"/>
              <p:cNvSpPr/>
              <p:nvPr/>
            </p:nvSpPr>
            <p:spPr>
              <a:xfrm rot="1955400">
                <a:off x="5253120" y="35132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3" name="Group 130"/>
            <p:cNvGrpSpPr/>
            <p:nvPr/>
          </p:nvGrpSpPr>
          <p:grpSpPr>
            <a:xfrm>
              <a:off x="5060520" y="3551400"/>
              <a:ext cx="277200" cy="189000"/>
              <a:chOff x="5060520" y="3551400"/>
              <a:chExt cx="277200" cy="189000"/>
            </a:xfrm>
          </p:grpSpPr>
          <p:sp>
            <p:nvSpPr>
              <p:cNvPr id="2104" name="等腰三角形 124"/>
              <p:cNvSpPr/>
              <p:nvPr/>
            </p:nvSpPr>
            <p:spPr>
              <a:xfrm flipH="1" rot="7386600">
                <a:off x="5258880" y="361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等腰三角形 125"/>
              <p:cNvSpPr/>
              <p:nvPr/>
            </p:nvSpPr>
            <p:spPr>
              <a:xfrm flipH="1" rot="18164400">
                <a:off x="5123160" y="352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6" name="Group 133"/>
          <p:cNvGrpSpPr/>
          <p:nvPr/>
        </p:nvGrpSpPr>
        <p:grpSpPr>
          <a:xfrm>
            <a:off x="4579920" y="1503360"/>
            <a:ext cx="566640" cy="711360"/>
            <a:chOff x="4579920" y="1503360"/>
            <a:chExt cx="566640" cy="711360"/>
          </a:xfrm>
        </p:grpSpPr>
        <p:sp>
          <p:nvSpPr>
            <p:cNvPr id="2107" name="椭圆 133"/>
            <p:cNvSpPr/>
            <p:nvPr/>
          </p:nvSpPr>
          <p:spPr>
            <a:xfrm>
              <a:off x="4579920" y="158616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椭圆 134"/>
            <p:cNvSpPr/>
            <p:nvPr/>
          </p:nvSpPr>
          <p:spPr>
            <a:xfrm>
              <a:off x="4834800" y="183204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9" name="Group 136"/>
            <p:cNvGrpSpPr/>
            <p:nvPr/>
          </p:nvGrpSpPr>
          <p:grpSpPr>
            <a:xfrm>
              <a:off x="4853520" y="1503360"/>
              <a:ext cx="24480" cy="711360"/>
              <a:chOff x="4853520" y="1503360"/>
              <a:chExt cx="24480" cy="711360"/>
            </a:xfrm>
          </p:grpSpPr>
          <p:sp>
            <p:nvSpPr>
              <p:cNvPr id="2110" name="等腰三角形 145"/>
              <p:cNvSpPr/>
              <p:nvPr/>
            </p:nvSpPr>
            <p:spPr>
              <a:xfrm flipH="1" rot="10800000">
                <a:off x="4853520" y="185544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等腰三角形 146"/>
              <p:cNvSpPr/>
              <p:nvPr/>
            </p:nvSpPr>
            <p:spPr>
              <a:xfrm flipH="1">
                <a:off x="4853520" y="150336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2" name="Group 139"/>
            <p:cNvGrpSpPr/>
            <p:nvPr/>
          </p:nvGrpSpPr>
          <p:grpSpPr>
            <a:xfrm>
              <a:off x="4606200" y="1850040"/>
              <a:ext cx="528480" cy="25200"/>
              <a:chOff x="4606200" y="1850040"/>
              <a:chExt cx="528480" cy="25200"/>
            </a:xfrm>
          </p:grpSpPr>
          <p:sp>
            <p:nvSpPr>
              <p:cNvPr id="2113" name="等腰三角形 143"/>
              <p:cNvSpPr/>
              <p:nvPr/>
            </p:nvSpPr>
            <p:spPr>
              <a:xfrm flipH="1" rot="5400000">
                <a:off x="4990320" y="173016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等腰三角形 144"/>
              <p:cNvSpPr/>
              <p:nvPr/>
            </p:nvSpPr>
            <p:spPr>
              <a:xfrm rot="16200000">
                <a:off x="4726080" y="173088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5" name="Group 142"/>
            <p:cNvGrpSpPr/>
            <p:nvPr/>
          </p:nvGrpSpPr>
          <p:grpSpPr>
            <a:xfrm>
              <a:off x="4771800" y="1731240"/>
              <a:ext cx="191160" cy="290160"/>
              <a:chOff x="4771800" y="1731240"/>
              <a:chExt cx="191160" cy="290160"/>
            </a:xfrm>
          </p:grpSpPr>
          <p:sp>
            <p:nvSpPr>
              <p:cNvPr id="2116" name="等腰三角形 141"/>
              <p:cNvSpPr/>
              <p:nvPr/>
            </p:nvSpPr>
            <p:spPr>
              <a:xfrm flipH="1" rot="12716400">
                <a:off x="4813920" y="18604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等腰三角形 142"/>
              <p:cNvSpPr/>
              <p:nvPr/>
            </p:nvSpPr>
            <p:spPr>
              <a:xfrm rot="1955400">
                <a:off x="4901760" y="172260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145"/>
            <p:cNvGrpSpPr/>
            <p:nvPr/>
          </p:nvGrpSpPr>
          <p:grpSpPr>
            <a:xfrm>
              <a:off x="4707720" y="1760760"/>
              <a:ext cx="278280" cy="189000"/>
              <a:chOff x="4707720" y="1760760"/>
              <a:chExt cx="278280" cy="189000"/>
            </a:xfrm>
          </p:grpSpPr>
          <p:sp>
            <p:nvSpPr>
              <p:cNvPr id="2119" name="等腰三角形 139"/>
              <p:cNvSpPr/>
              <p:nvPr/>
            </p:nvSpPr>
            <p:spPr>
              <a:xfrm flipH="1" rot="7386600">
                <a:off x="4907160" y="182052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等腰三角形 140"/>
              <p:cNvSpPr/>
              <p:nvPr/>
            </p:nvSpPr>
            <p:spPr>
              <a:xfrm flipH="1" rot="18164400">
                <a:off x="4770000" y="173052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1" name="Group 148"/>
          <p:cNvGrpSpPr/>
          <p:nvPr/>
        </p:nvGrpSpPr>
        <p:grpSpPr>
          <a:xfrm>
            <a:off x="3502080" y="4014720"/>
            <a:ext cx="565200" cy="709200"/>
            <a:chOff x="3502080" y="4014720"/>
            <a:chExt cx="565200" cy="709200"/>
          </a:xfrm>
        </p:grpSpPr>
        <p:sp>
          <p:nvSpPr>
            <p:cNvPr id="2122" name="椭圆 148"/>
            <p:cNvSpPr/>
            <p:nvPr/>
          </p:nvSpPr>
          <p:spPr>
            <a:xfrm>
              <a:off x="3502080" y="4097520"/>
              <a:ext cx="56520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椭圆 149"/>
            <p:cNvSpPr/>
            <p:nvPr/>
          </p:nvSpPr>
          <p:spPr>
            <a:xfrm>
              <a:off x="3756240" y="43423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4" name="Group 151"/>
            <p:cNvGrpSpPr/>
            <p:nvPr/>
          </p:nvGrpSpPr>
          <p:grpSpPr>
            <a:xfrm>
              <a:off x="3774960" y="4014720"/>
              <a:ext cx="24480" cy="709200"/>
              <a:chOff x="3774960" y="4014720"/>
              <a:chExt cx="24480" cy="709200"/>
            </a:xfrm>
          </p:grpSpPr>
          <p:sp>
            <p:nvSpPr>
              <p:cNvPr id="2125" name="等腰三角形 160"/>
              <p:cNvSpPr/>
              <p:nvPr/>
            </p:nvSpPr>
            <p:spPr>
              <a:xfrm flipH="1" rot="10800000">
                <a:off x="3774960" y="43657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等腰三角形 161"/>
              <p:cNvSpPr/>
              <p:nvPr/>
            </p:nvSpPr>
            <p:spPr>
              <a:xfrm flipH="1">
                <a:off x="3774960" y="40147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154"/>
            <p:cNvGrpSpPr/>
            <p:nvPr/>
          </p:nvGrpSpPr>
          <p:grpSpPr>
            <a:xfrm>
              <a:off x="3528000" y="4360320"/>
              <a:ext cx="527040" cy="25200"/>
              <a:chOff x="3528000" y="4360320"/>
              <a:chExt cx="527040" cy="25200"/>
            </a:xfrm>
          </p:grpSpPr>
          <p:sp>
            <p:nvSpPr>
              <p:cNvPr id="2128" name="等腰三角形 158"/>
              <p:cNvSpPr/>
              <p:nvPr/>
            </p:nvSpPr>
            <p:spPr>
              <a:xfrm flipH="1" rot="5400000">
                <a:off x="3911040" y="42408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等腰三角形 159"/>
              <p:cNvSpPr/>
              <p:nvPr/>
            </p:nvSpPr>
            <p:spPr>
              <a:xfrm rot="16200000">
                <a:off x="3647520" y="42415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57"/>
            <p:cNvGrpSpPr/>
            <p:nvPr/>
          </p:nvGrpSpPr>
          <p:grpSpPr>
            <a:xfrm>
              <a:off x="3693240" y="4242240"/>
              <a:ext cx="190440" cy="289080"/>
              <a:chOff x="3693240" y="4242240"/>
              <a:chExt cx="190440" cy="289080"/>
            </a:xfrm>
          </p:grpSpPr>
          <p:sp>
            <p:nvSpPr>
              <p:cNvPr id="2131" name="等腰三角形 156"/>
              <p:cNvSpPr/>
              <p:nvPr/>
            </p:nvSpPr>
            <p:spPr>
              <a:xfrm flipH="1" rot="12716400">
                <a:off x="3735000" y="43714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等腰三角形 157"/>
              <p:cNvSpPr/>
              <p:nvPr/>
            </p:nvSpPr>
            <p:spPr>
              <a:xfrm rot="1955400">
                <a:off x="3822480" y="42336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3" name="Group 160"/>
            <p:cNvGrpSpPr/>
            <p:nvPr/>
          </p:nvGrpSpPr>
          <p:grpSpPr>
            <a:xfrm>
              <a:off x="3630240" y="4271400"/>
              <a:ext cx="277200" cy="188640"/>
              <a:chOff x="3630240" y="4271400"/>
              <a:chExt cx="277200" cy="188640"/>
            </a:xfrm>
          </p:grpSpPr>
          <p:sp>
            <p:nvSpPr>
              <p:cNvPr id="2134" name="等腰三角形 154"/>
              <p:cNvSpPr/>
              <p:nvPr/>
            </p:nvSpPr>
            <p:spPr>
              <a:xfrm flipH="1" rot="7386600">
                <a:off x="3828600" y="43308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等腰三角形 155"/>
              <p:cNvSpPr/>
              <p:nvPr/>
            </p:nvSpPr>
            <p:spPr>
              <a:xfrm flipH="1" rot="18164400">
                <a:off x="3692880" y="424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8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75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75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75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78" dur="2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">
                                      <p:cBhvr>
                                        <p:cTn id="90" dur="125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75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">
                                      <p:cBhvr>
                                        <p:cTn id="102" dur="275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75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3:2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25Z</dcterms:modified>
  <cp:revision>4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