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AD8-C3BF-470D-9738-7FF9850B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77A-0DFB-47FA-8771-F4494B2C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CC1-0F39-47FE-86D9-2EE4E768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BFF-BB4D-4DD9-A2FB-8527789F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1BB-E4C0-4665-A0DB-92A484C1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00A-BA06-41FF-8798-A6DCCF3B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322-D6C3-42D9-8B4B-828F4DAE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FA9-5F8B-4756-B265-27F505A9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AEB-6D7B-4678-9376-963A53B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510-4CC3-418A-9C0B-CC0A717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89B-842B-4B1F-A148-AF779D43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5B8-C4E8-4A46-9439-4A47081C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D13D-0BBE-4111-BB9A-CFD1A0185A8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71BD-233B-425F-9567-71DE0A16429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214880" y="3786120"/>
            <a:ext cx="357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适用于母亲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5a5a5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4286160" y="4286160"/>
            <a:ext cx="3000600" cy="180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6640" y="189000"/>
            <a:ext cx="75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红灰母亲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A3F-72E6-4805-B539-F05C65963A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五边形 11"/>
          <p:cNvSpPr/>
          <p:nvPr/>
        </p:nvSpPr>
        <p:spPr>
          <a:xfrm rot="10800000">
            <a:off x="1500120" y="1713960"/>
            <a:ext cx="3286080" cy="2786040"/>
          </a:xfrm>
          <a:custGeom>
            <a:avLst/>
            <a:gdLst>
              <a:gd name="textAreaLeft" fmla="*/ 0 w 3286080"/>
              <a:gd name="textAreaRight" fmla="*/ 3286440 w 3286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五边形 12"/>
          <p:cNvSpPr/>
          <p:nvPr/>
        </p:nvSpPr>
        <p:spPr>
          <a:xfrm flipH="1" rot="10800000">
            <a:off x="4786200" y="1714320"/>
            <a:ext cx="3286080" cy="2786040"/>
          </a:xfrm>
          <a:custGeom>
            <a:avLst/>
            <a:gdLst>
              <a:gd name="textAreaLeft" fmla="*/ 360 w 3286080"/>
              <a:gd name="textAreaRight" fmla="*/ 3286800 w 3286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208368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47268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心形 9"/>
          <p:cNvSpPr/>
          <p:nvPr/>
        </p:nvSpPr>
        <p:spPr>
          <a:xfrm>
            <a:off x="3643200" y="1785960"/>
            <a:ext cx="465120" cy="465120"/>
          </a:xfrm>
          <a:custGeom>
            <a:avLst/>
            <a:gdLst>
              <a:gd name="textAreaLeft" fmla="*/ 109080 w 465120"/>
              <a:gd name="textAreaRight" fmla="*/ 355680 w 465120"/>
              <a:gd name="textAreaTop" fmla="*/ 54720 h 465120"/>
              <a:gd name="textAreaBottom" fmla="*/ 291960 h 46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心形 10"/>
          <p:cNvSpPr/>
          <p:nvPr/>
        </p:nvSpPr>
        <p:spPr>
          <a:xfrm>
            <a:off x="3643200" y="2428920"/>
            <a:ext cx="465120" cy="465120"/>
          </a:xfrm>
          <a:custGeom>
            <a:avLst/>
            <a:gdLst>
              <a:gd name="textAreaLeft" fmla="*/ 109080 w 465120"/>
              <a:gd name="textAreaRight" fmla="*/ 355680 w 465120"/>
              <a:gd name="textAreaTop" fmla="*/ 54720 h 465120"/>
              <a:gd name="textAreaBottom" fmla="*/ 291960 h 46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心形 11"/>
          <p:cNvSpPr/>
          <p:nvPr/>
        </p:nvSpPr>
        <p:spPr>
          <a:xfrm>
            <a:off x="3643200" y="3108240"/>
            <a:ext cx="465120" cy="465120"/>
          </a:xfrm>
          <a:custGeom>
            <a:avLst/>
            <a:gdLst>
              <a:gd name="textAreaLeft" fmla="*/ 109080 w 465120"/>
              <a:gd name="textAreaRight" fmla="*/ 355680 w 465120"/>
              <a:gd name="textAreaTop" fmla="*/ 54720 h 465120"/>
              <a:gd name="textAreaBottom" fmla="*/ 291960 h 46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心形 12"/>
          <p:cNvSpPr/>
          <p:nvPr/>
        </p:nvSpPr>
        <p:spPr>
          <a:xfrm>
            <a:off x="3643200" y="3751200"/>
            <a:ext cx="465120" cy="465120"/>
          </a:xfrm>
          <a:custGeom>
            <a:avLst/>
            <a:gdLst>
              <a:gd name="textAreaLeft" fmla="*/ 109080 w 465120"/>
              <a:gd name="textAreaRight" fmla="*/ 355680 w 465120"/>
              <a:gd name="textAreaTop" fmla="*/ 54720 h 465120"/>
              <a:gd name="textAreaBottom" fmla="*/ 291960 h 46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3763080" y="3108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3763080" y="1822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3763080" y="2465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3836160" y="3751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燕尾形 10"/>
          <p:cNvSpPr/>
          <p:nvPr/>
        </p:nvSpPr>
        <p:spPr>
          <a:xfrm>
            <a:off x="1571760" y="1928880"/>
            <a:ext cx="2214360" cy="221436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4" y="0"/>
                </a:lnTo>
                <a:lnTo>
                  <a:pt x="21600" y="10800"/>
                </a:lnTo>
                <a:lnTo>
                  <a:pt x="10804" y="21600"/>
                </a:lnTo>
                <a:lnTo>
                  <a:pt x="0" y="21600"/>
                </a:lnTo>
                <a:lnTo>
                  <a:pt x="10796" y="10800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燕尾形 11"/>
          <p:cNvSpPr/>
          <p:nvPr/>
        </p:nvSpPr>
        <p:spPr>
          <a:xfrm>
            <a:off x="2928960" y="1928880"/>
            <a:ext cx="2214720" cy="221436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燕尾形 12"/>
          <p:cNvSpPr/>
          <p:nvPr/>
        </p:nvSpPr>
        <p:spPr>
          <a:xfrm>
            <a:off x="4286160" y="1928880"/>
            <a:ext cx="2214720" cy="221436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4" y="0"/>
                </a:lnTo>
                <a:lnTo>
                  <a:pt x="21600" y="10800"/>
                </a:lnTo>
                <a:lnTo>
                  <a:pt x="10804" y="21600"/>
                </a:lnTo>
                <a:lnTo>
                  <a:pt x="0" y="21600"/>
                </a:lnTo>
                <a:lnTo>
                  <a:pt x="10796" y="10800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燕尾形 13"/>
          <p:cNvSpPr/>
          <p:nvPr/>
        </p:nvSpPr>
        <p:spPr>
          <a:xfrm>
            <a:off x="5643720" y="1928880"/>
            <a:ext cx="2214360" cy="221436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35121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29820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7977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空心弧 11"/>
          <p:cNvSpPr/>
          <p:nvPr/>
        </p:nvSpPr>
        <p:spPr>
          <a:xfrm>
            <a:off x="2786040" y="1292400"/>
            <a:ext cx="3994200" cy="3993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空心弧 12"/>
          <p:cNvSpPr/>
          <p:nvPr/>
        </p:nvSpPr>
        <p:spPr>
          <a:xfrm flipV="1">
            <a:off x="2786040" y="1292040"/>
            <a:ext cx="3994200" cy="3993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351216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15504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半闭框 11"/>
          <p:cNvSpPr/>
          <p:nvPr/>
        </p:nvSpPr>
        <p:spPr>
          <a:xfrm>
            <a:off x="4857840" y="3260880"/>
            <a:ext cx="2168280" cy="2168280"/>
          </a:xfrm>
          <a:prstGeom prst="pie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半闭框 12"/>
          <p:cNvSpPr/>
          <p:nvPr/>
        </p:nvSpPr>
        <p:spPr>
          <a:xfrm flipH="1">
            <a:off x="2714040" y="3260880"/>
            <a:ext cx="2168280" cy="216828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半闭框 13"/>
          <p:cNvSpPr/>
          <p:nvPr/>
        </p:nvSpPr>
        <p:spPr>
          <a:xfrm flipH="1" flipV="1">
            <a:off x="2714040" y="1093680"/>
            <a:ext cx="2168280" cy="2167200"/>
          </a:xfrm>
          <a:prstGeom prst="pie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半闭框 14"/>
          <p:cNvSpPr/>
          <p:nvPr/>
        </p:nvSpPr>
        <p:spPr>
          <a:xfrm flipV="1">
            <a:off x="4857840" y="1093320"/>
            <a:ext cx="2168280" cy="21672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194076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494100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501264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86912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流程图: 离页连接符 11"/>
          <p:cNvSpPr/>
          <p:nvPr/>
        </p:nvSpPr>
        <p:spPr>
          <a:xfrm>
            <a:off x="3571920" y="1857240"/>
            <a:ext cx="2143080" cy="2143440"/>
          </a:xfrm>
          <a:prstGeom prst="flowChartOffpageConnector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离页连接符 12"/>
          <p:cNvSpPr/>
          <p:nvPr/>
        </p:nvSpPr>
        <p:spPr>
          <a:xfrm>
            <a:off x="1428840" y="1857240"/>
            <a:ext cx="2143080" cy="2143440"/>
          </a:xfrm>
          <a:prstGeom prst="flowChartOffpageConnector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离页连接符 13"/>
          <p:cNvSpPr/>
          <p:nvPr/>
        </p:nvSpPr>
        <p:spPr>
          <a:xfrm>
            <a:off x="5715000" y="1857240"/>
            <a:ext cx="2143080" cy="2143440"/>
          </a:xfrm>
          <a:prstGeom prst="flowChartOffpageConnector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5369760" y="255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155040" y="255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108504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流程图: 卡片 11"/>
          <p:cNvSpPr/>
          <p:nvPr/>
        </p:nvSpPr>
        <p:spPr>
          <a:xfrm>
            <a:off x="3071880" y="1114560"/>
            <a:ext cx="1819080" cy="1743120"/>
          </a:xfrm>
          <a:prstGeom prst="flowChartPunchedCard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卡片 12"/>
          <p:cNvSpPr/>
          <p:nvPr/>
        </p:nvSpPr>
        <p:spPr>
          <a:xfrm flipH="1">
            <a:off x="5000040" y="1114560"/>
            <a:ext cx="1819080" cy="1743120"/>
          </a:xfrm>
          <a:prstGeom prst="flowChartPunchedCard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流程图: 卡片 13"/>
          <p:cNvSpPr/>
          <p:nvPr/>
        </p:nvSpPr>
        <p:spPr>
          <a:xfrm flipH="1" flipV="1">
            <a:off x="5000040" y="2971800"/>
            <a:ext cx="1819080" cy="1743120"/>
          </a:xfrm>
          <a:prstGeom prst="flowChartPunchedCard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流程图: 卡片 14"/>
          <p:cNvSpPr/>
          <p:nvPr/>
        </p:nvSpPr>
        <p:spPr>
          <a:xfrm flipV="1">
            <a:off x="3071880" y="2971800"/>
            <a:ext cx="1819080" cy="1743120"/>
          </a:xfrm>
          <a:prstGeom prst="flowChartPunchedCard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51260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486972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222660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25120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流程图: 摘录 12"/>
          <p:cNvSpPr/>
          <p:nvPr/>
        </p:nvSpPr>
        <p:spPr>
          <a:xfrm>
            <a:off x="1357200" y="2071800"/>
            <a:ext cx="1643040" cy="1643040"/>
          </a:xfrm>
          <a:prstGeom prst="flowChartExtract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流程图: 摘录 13"/>
          <p:cNvSpPr/>
          <p:nvPr/>
        </p:nvSpPr>
        <p:spPr>
          <a:xfrm flipV="1">
            <a:off x="2357280" y="2071800"/>
            <a:ext cx="1643400" cy="164304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流程图: 摘录 14"/>
          <p:cNvSpPr/>
          <p:nvPr/>
        </p:nvSpPr>
        <p:spPr>
          <a:xfrm>
            <a:off x="3357720" y="2071800"/>
            <a:ext cx="1643040" cy="1643040"/>
          </a:xfrm>
          <a:prstGeom prst="flowChartExtract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流程图: 摘录 15"/>
          <p:cNvSpPr/>
          <p:nvPr/>
        </p:nvSpPr>
        <p:spPr>
          <a:xfrm flipV="1">
            <a:off x="4357800" y="2071800"/>
            <a:ext cx="1643040" cy="164304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流程图: 摘录 16"/>
          <p:cNvSpPr/>
          <p:nvPr/>
        </p:nvSpPr>
        <p:spPr>
          <a:xfrm>
            <a:off x="5357880" y="2071800"/>
            <a:ext cx="1643040" cy="1643040"/>
          </a:xfrm>
          <a:prstGeom prst="flowChartExtract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流程图: 摘录 17"/>
          <p:cNvSpPr/>
          <p:nvPr/>
        </p:nvSpPr>
        <p:spPr>
          <a:xfrm flipV="1">
            <a:off x="6357960" y="2071800"/>
            <a:ext cx="1643040" cy="164304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601272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344088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1548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左右箭头 10"/>
          <p:cNvSpPr/>
          <p:nvPr/>
        </p:nvSpPr>
        <p:spPr>
          <a:xfrm>
            <a:off x="2643120" y="2286000"/>
            <a:ext cx="4481640" cy="1785960"/>
          </a:xfrm>
          <a:prstGeom prst="leftRightArrow">
            <a:avLst>
              <a:gd name="adj1" fmla="val 50000"/>
              <a:gd name="adj2" fmla="val 50013"/>
            </a:avLst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左右箭头 11"/>
          <p:cNvSpPr/>
          <p:nvPr/>
        </p:nvSpPr>
        <p:spPr>
          <a:xfrm rot="16200000">
            <a:off x="2652480" y="2366640"/>
            <a:ext cx="4481640" cy="1785600"/>
          </a:xfrm>
          <a:prstGeom prst="leftRightArrow">
            <a:avLst>
              <a:gd name="adj1" fmla="val 50000"/>
              <a:gd name="adj2" fmla="val 50011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3583800" y="1428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4410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351216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12978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46Z</dcterms:modified>
  <cp:revision>2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