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E37-C374-425E-B761-CE124D4C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57A-DF27-4613-9B1E-883AB9DF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FD0-2990-48DD-8070-5137804D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0F4-09B8-48E7-9A37-623567D3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7B3B-33CD-4274-ADB5-BDA9BBBE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15EA-BE2B-4958-AD43-94ED1D73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313F-A5F9-4BA7-91AD-4C9E2642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F1A-D72F-478D-AF3D-7CF673E3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D6C1-5EC8-4B65-BE6A-661744F4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DD41-0B02-46A1-B4F5-B51D0FB6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B4F4-9B1D-46A7-B658-0DFEA91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A72-4153-432C-93CB-F40AEA1D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21BE-F9F1-43E0-899A-8DE1E6E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15F2-4A74-41D9-8401-61E93AC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ED4-EBA3-40F0-AB3D-579BE329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BDF0-1E10-49C0-BB73-741F5FF0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E54-4E4B-47F6-8261-1233A337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AC30-37E8-4E04-9B3A-15B8A664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D88A-D9D9-459F-9506-A210DB4A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5117-B965-4C14-8BBA-919C743E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E754-4B51-493E-9C4A-C673629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BE87-FCC0-45B1-A08E-A90EA6D4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60A-AA74-4A3A-B2EA-73E29657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CEA69-98A2-4C04-838D-9126D7E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8A6C0-EA14-4414-A661-8F26BE2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9C21-874F-4386-B44E-E5F1734D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4C8F-87C5-42BE-AD2E-5F91C90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D40E-48FB-420E-88C1-F588D43C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0E7B-4C91-4E71-A0EA-3D734CDB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680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9680" y="38862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3356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5680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9680" y="4563000"/>
            <a:ext cx="154548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657A-2921-42A0-9AAD-B2E82402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D64-CB1F-41D4-96F9-40AD8A6B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48C-82DE-4F96-ACD6-CEA4D0B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33560" y="3048120"/>
            <a:ext cx="4800600" cy="42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71F-049A-4180-A388-2444D13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116-7882-45FD-9492-4EC7752D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93440" y="45630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9E4-E541-410C-BBF0-6912C9A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3356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93440" y="3886200"/>
            <a:ext cx="23425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33560" y="4563000"/>
            <a:ext cx="48006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67-96DF-48A7-9787-7A7762D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982-A919-4EBB-B05E-0B95547BEB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3048120"/>
            <a:ext cx="48006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960-F366-4037-B3C6-C4F4A07F75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D0A9-A139-40AA-918A-0C29500018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DEA2-9803-4BCB-B8FD-B93482A9EA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76000" y="3644640"/>
            <a:ext cx="72010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00"/>
                </a:solidFill>
                <a:latin typeface="Arial Black"/>
                <a:ea typeface="宋体"/>
              </a:rPr>
              <a:t> 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29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54000" y="2708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画画学习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5:54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3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