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E21E-E109-4361-8E40-F7C2DBDF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8755-F91C-4F0B-AEDA-4F55099F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152A-50E3-4C8C-A0F8-7FEC66ADF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EF43-D26B-48E2-9138-23215C69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814C-0789-4A1F-8742-B6C58111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3F80-C1BC-48E5-9E23-6D74AB77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BBF4-837B-45F5-9372-D352414A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3F74-97E4-45B5-B7AF-07C0CF71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0A37-8667-4BAB-B37E-0AFC1959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82D1-638D-4328-971C-DB2E639C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E9C4-9E92-42CC-8C86-38394C3E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5514-6D3C-4647-854E-68EA1E68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9131-835F-4BA7-9D45-8AF50FB2C7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图片6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2646000" y="16286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欢乐小鸟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95B0-0798-4995-BE68-90DCADD270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2" descr="22.jpg"/>
          <p:cNvPicPr/>
          <p:nvPr/>
        </p:nvPicPr>
        <p:blipFill>
          <a:blip r:embed="rId2"/>
          <a:stretch/>
        </p:blipFill>
        <p:spPr>
          <a:xfrm>
            <a:off x="0" y="600084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8:15:1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0:58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