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50E-E67D-4B90-8DA7-80F3EB1C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11D-760A-49CF-8C68-6F632741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DB8-BE75-4F78-B802-925B879E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91F-31EF-4719-8552-3E778CE9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EF2-BEF5-400A-AE32-AF9FEDAD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9AA-6B0B-49F8-BAD6-B0977054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655-8680-4C42-9132-5C10F5C3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6D9-D2E1-4FCD-B605-6469863B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E81-553C-4D5B-92FA-3D3BB719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299-37D3-4F13-ADAB-5DF63D1A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D93-2188-4E6C-BBEB-6FFF1B83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3E3-2FF7-41E7-B9D5-23DD6B74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5FB33-ECB4-4A5B-9E1D-00E40926AE5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E2137-C9CB-410C-BC1A-9AC1F67043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内容占位符 5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2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1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 1"/>
          <p:cNvGrpSpPr/>
          <p:nvPr/>
        </p:nvGrpSpPr>
        <p:grpSpPr>
          <a:xfrm>
            <a:off x="0" y="162000"/>
            <a:ext cx="5210280" cy="3536640"/>
            <a:chOff x="0" y="162000"/>
            <a:chExt cx="5210280" cy="3536640"/>
          </a:xfrm>
        </p:grpSpPr>
        <p:sp>
          <p:nvSpPr>
            <p:cNvPr id="44" name="文本框 7"/>
            <p:cNvSpPr/>
            <p:nvPr/>
          </p:nvSpPr>
          <p:spPr>
            <a:xfrm>
              <a:off x="3382200" y="3238920"/>
              <a:ext cx="18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6efc9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2400" spc="-1" strike="noStrike">
                  <a:solidFill>
                    <a:srgbClr val="f6efc9"/>
                  </a:solidFill>
                  <a:latin typeface="华文楷体"/>
                  <a:ea typeface="华文楷体"/>
                </a:rPr>
                <a:t>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8"/>
            <p:cNvSpPr/>
            <p:nvPr/>
          </p:nvSpPr>
          <p:spPr>
            <a:xfrm>
              <a:off x="0" y="162000"/>
              <a:ext cx="48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名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0760" y="51246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ff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ff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34640" y="7779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欢乐中国年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5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2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F27-F1F1-4A7E-AD7B-AF166036F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内容占位符 4" descr="2.jpg"/>
          <p:cNvPicPr/>
          <p:nvPr/>
        </p:nvPicPr>
        <p:blipFill>
          <a:blip r:embed="rId1"/>
          <a:stretch/>
        </p:blipFill>
        <p:spPr>
          <a:xfrm rot="10800000">
            <a:off x="-360" y="-360"/>
            <a:ext cx="917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1:46:00Z</dcterms:created>
  <dc:creator>pc</dc:creator>
  <dc:description>www.eeppt.com;</dc:description>
  <cp:keywords>www.eeppt.com</cp:keywords>
  <dc:language>en-US</dc:language>
  <cp:lastModifiedBy>haobaopc04</cp:lastModifiedBy>
  <dcterms:modified xsi:type="dcterms:W3CDTF">2015-09-18T13:20:58Z</dcterms:modified>
  <cp:revision>1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