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8356-EFEF-47CC-8F28-7F6CBDD00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9792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8458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591360"/>
            <a:ext cx="8458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A3B3-2269-4A15-B1A2-31E6BFE1C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9792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0880" y="68580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59136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0880" y="359136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1DF7-BBFA-401D-BDC2-E74858996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9792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272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6680" y="685800"/>
            <a:ext cx="272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6880" y="685800"/>
            <a:ext cx="272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591360"/>
            <a:ext cx="272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6680" y="3591360"/>
            <a:ext cx="272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6880" y="3591360"/>
            <a:ext cx="272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D30A-5D59-4961-ABE6-8141F55FA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2EAD4-0ECE-48A1-B2AF-782620A4D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9792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7FB8F-353A-45AE-B1C3-808E59D8A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9792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14540-EE36-4F75-B819-E3427E9DE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9792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4127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90880" y="685800"/>
            <a:ext cx="4127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2F37B-F990-4877-95AE-CAC0E9E6C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9792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2A3EB-5CDE-4A30-BE7A-C41233E3E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DB96E-EFB7-4569-8763-3E261E315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9792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90880" y="685800"/>
            <a:ext cx="4127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59136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22012-295D-4ED1-8519-EB060B36B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9792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7C83-352B-4523-81DC-F2BD66A60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9792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4127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68580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90880" y="359136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1071B-875C-4159-8E7E-7C6EB8BE7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9792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0880" y="68580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591360"/>
            <a:ext cx="8458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E0AD1-BD16-49BE-9089-CBA87B2A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9792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8458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591360"/>
            <a:ext cx="8458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8DBFE-CBBC-4027-A31B-8B7ACBFD0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9792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90880" y="68580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59136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90880" y="359136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353BD-6C79-425B-A093-008759C48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9792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272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6680" y="685800"/>
            <a:ext cx="272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76880" y="685800"/>
            <a:ext cx="272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591360"/>
            <a:ext cx="272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6680" y="3591360"/>
            <a:ext cx="272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76880" y="3591360"/>
            <a:ext cx="272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9FAF4-FFB5-4E20-80B1-0862E83E4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9792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8C24-6F56-4643-B824-2997D29D6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9792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4127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0880" y="685800"/>
            <a:ext cx="4127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4F07-6904-4090-B5DE-BD58DDC65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9792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7078-1DAA-4CA1-80E1-BDC251F79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26DB-C124-4E50-973C-B3C1CC4A7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9792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0880" y="685800"/>
            <a:ext cx="4127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59136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7E6A-BB62-4ACF-9AE9-A3F649009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9792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4127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0880" y="68580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0880" y="359136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CC18-DBB9-403B-B124-FA62AEF96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9792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0880" y="68580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591360"/>
            <a:ext cx="8458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8AF4-D1B6-4D06-BDDF-7FBDA4634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68580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705360"/>
            <a:ext cx="28958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210E8-7101-49B8-A45D-BE80A0B6BBFC}" type="slidenum">
              <a:rPr b="1" lang="en-US" sz="10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40384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705360"/>
            <a:ext cx="28958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3888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25525-1D6E-466E-8AB2-4FA048157C7C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40384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Impact"/>
              </a:rPr>
              <a:t>Loches</a:t>
            </a: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457164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subtitle goes he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7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419560" y="838080"/>
            <a:ext cx="434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红色动感企业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subtopic goes he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40384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Transitional Page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457164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Impact"/>
              </a:rPr>
              <a:t>使用规范说明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953E-4BBB-441D-AABB-F189141390D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2300"/>
                </a:solidFill>
                <a:latin typeface="Impact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82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2300"/>
                </a:solidFill>
                <a:latin typeface="Arial"/>
              </a:rPr>
              <a:t>Your subtopic goes he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6T16:04:47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3:46Z</dcterms:modified>
  <cp:revision>1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