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F404-DBBB-44BA-9898-129AA422E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ACF8-0678-432D-B831-C1997025F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0243-6677-412F-B6AF-1C8EF85DC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B56C-FE29-4DF7-AE85-E22E91F4C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6E33-FD19-4B1F-9632-29AA3E8C8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5D67-1A89-43D0-A5D9-56D5B5F9D3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324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18120" y="107604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836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324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18120" y="3745080"/>
            <a:ext cx="26424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2FEB-F400-417E-B25A-E90C8C1B7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FC71-7A3B-4C24-BD98-621C4C186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5000" y="175680"/>
            <a:ext cx="6470640" cy="29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C768-0179-49B5-9F78-572D2CFB1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7139-87AB-46E6-8E9B-9DF4C3447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4508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41DE-171F-4993-A3BE-E0CB22B204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076040"/>
            <a:ext cx="400500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45080"/>
            <a:ext cx="8207280" cy="24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4ABB-7E11-4246-8543-29C48CFC4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bg2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685B701-7443-4928-9DEE-7B3BFCCC53B2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68360" y="2952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5c1f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Line 23"/>
            <p:cNvSpPr/>
            <p:nvPr/>
          </p:nvSpPr>
          <p:spPr>
            <a:xfrm>
              <a:off x="3349080" y="1486080"/>
              <a:ext cx="0" cy="576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4" descr="bg1"/>
          <p:cNvPicPr/>
          <p:nvPr/>
        </p:nvPicPr>
        <p:blipFill>
          <a:blip r:embed="rId2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68360" y="1076040"/>
            <a:ext cx="820728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1f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68360" y="43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5c1f00"/>
                </a:solidFill>
                <a:latin typeface="Arial"/>
              </a:rPr>
              <a:t>情人节快乐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5680" y="14540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红色浪漫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F7674D5-0BE5-4EEE-8A7D-415C5BE2A2F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544400"/>
            <a:ext cx="820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DC3335AF-4B68-4219-B740-69B51137B913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5000" y="175680"/>
            <a:ext cx="647064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c1f00"/>
              </a:solidFill>
              <a:latin typeface="Arial"/>
            </a:endParaRPr>
          </a:p>
        </p:txBody>
      </p:sp>
      <p:pic>
        <p:nvPicPr>
          <p:cNvPr id="146" name="Object 3" descr=""/>
          <p:cNvPicPr/>
          <p:nvPr/>
        </p:nvPicPr>
        <p:blipFill>
          <a:blip r:embed="rId1"/>
          <a:stretch/>
        </p:blipFill>
        <p:spPr>
          <a:xfrm>
            <a:off x="679320" y="1319040"/>
            <a:ext cx="8769600" cy="3705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c1f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5c1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3CB1-BE45-4BC6-ADFA-61E232A1B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0" descr="bg3"/>
          <p:cNvPicPr/>
          <p:nvPr/>
        </p:nvPicPr>
        <p:blipFill>
          <a:blip r:embed="rId1"/>
          <a:stretch/>
        </p:blipFill>
        <p:spPr>
          <a:xfrm>
            <a:off x="-15840" y="-111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468360" y="4219560"/>
            <a:ext cx="820728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3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      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53Z</dcterms:modified>
  <cp:revision>1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