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C39-3C04-4B93-A198-EF15833C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CB5-AD56-4478-AA90-FEAD87FA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7A10-F5D2-4C60-B47F-2044E7E1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C37-D3BF-4E6B-84B1-5EB120D1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C665-2EAA-43C8-8CA5-D57C8EC0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D07D-A5B3-4DED-913C-C72FA90F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2C2E-48D2-423C-81FA-F3C44ED6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9972-4A8D-43F2-8BD8-E7979091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DED1-60CD-49FF-8BAC-5D745BDD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4387-9F6E-4756-99FC-3BA6E132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00B4-8DC3-43BA-A9E4-E76E209C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3AA-25E8-4DBF-8A27-6CEA7D25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9C8D-83F2-496E-A296-CD584CC5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E7B4-3D3B-46A5-A2E0-B38345CC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7AAA-281D-43E1-A928-85EF74B4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1296-0969-48DF-B0B8-3DEB7EC7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A2B7-8580-4633-B09B-7E03C274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D3A6-DFFB-471A-A359-973BEA38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5DD-4B3D-4E24-9FD0-DAB49D8A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8DC-265A-4CD9-9BBA-D7B1CAAD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E2A-C033-43F2-9E7B-8E2A87F1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050-0D91-4B64-8B1F-FD7B7CAD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FBD-5545-466A-873E-0099328C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88B8-187F-4EF9-B11F-DECA0754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28440" y="-20520"/>
            <a:ext cx="9172440" cy="6878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5E1A-63EF-44DA-AF2B-11BA0784CB7D}" type="datetime">
              <a:rPr b="0" lang="zh-CN" sz="1200" spc="-1" strike="noStrike">
                <a:solidFill>
                  <a:srgbClr val="fefefe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413F-CB31-4A57-A278-FD8101027077}" type="slidenum">
              <a:rPr b="0" lang="zh-CN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DEA9-297A-4157-8DBE-A7A8CD3643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ppt.com/jieri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85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917720"/>
            <a:ext cx="83534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红色幕布新年快乐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2708280"/>
            <a:ext cx="835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点击此处添加幻灯副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3300"/>
                </a:solidFill>
                <a:latin typeface="Arial"/>
              </a:rPr>
              <a:t>谢谢观赏</a:t>
            </a:r>
            <a:r>
              <a:rPr b="1" i="1" lang="en-US" sz="6000" spc="-1" strike="noStrike">
                <a:solidFill>
                  <a:srgbClr val="9933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日期占位符 3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5512-656D-434D-B6E2-B727FFCA79E5}" type="datetime">
              <a:rPr b="0" lang="zh-CN" sz="1200" spc="-1" strike="noStrike">
                <a:solidFill>
                  <a:srgbClr val="fefefe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页脚占位符 4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灯片编号占位符 5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4701-A5A1-442D-BEAF-72D534B59CC7}" type="slidenum">
              <a:rPr b="0" lang="zh-CN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使用说明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395280" y="1565280"/>
            <a:ext cx="696960" cy="38412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1092240" y="1565280"/>
            <a:ext cx="6969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1789200" y="1565280"/>
            <a:ext cx="696960" cy="3841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2482920" y="1565280"/>
            <a:ext cx="696960" cy="384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3179880" y="1565280"/>
            <a:ext cx="696960" cy="38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矩形 17"/>
          <p:cNvSpPr/>
          <p:nvPr/>
        </p:nvSpPr>
        <p:spPr>
          <a:xfrm>
            <a:off x="3876840" y="1565280"/>
            <a:ext cx="684000" cy="384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矩形 18"/>
          <p:cNvSpPr/>
          <p:nvPr/>
        </p:nvSpPr>
        <p:spPr>
          <a:xfrm>
            <a:off x="4560840" y="1565280"/>
            <a:ext cx="709560" cy="38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矩形 19"/>
          <p:cNvSpPr/>
          <p:nvPr/>
        </p:nvSpPr>
        <p:spPr>
          <a:xfrm>
            <a:off x="5267160" y="1565280"/>
            <a:ext cx="696960" cy="38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矩形 22"/>
          <p:cNvSpPr/>
          <p:nvPr/>
        </p:nvSpPr>
        <p:spPr>
          <a:xfrm>
            <a:off x="5964120" y="1565280"/>
            <a:ext cx="696960" cy="384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矩形 23"/>
          <p:cNvSpPr/>
          <p:nvPr/>
        </p:nvSpPr>
        <p:spPr>
          <a:xfrm>
            <a:off x="6661080" y="1565280"/>
            <a:ext cx="696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矩形 24"/>
          <p:cNvSpPr/>
          <p:nvPr/>
        </p:nvSpPr>
        <p:spPr>
          <a:xfrm>
            <a:off x="7358040" y="1565280"/>
            <a:ext cx="696960" cy="384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矩形 25"/>
          <p:cNvSpPr/>
          <p:nvPr/>
        </p:nvSpPr>
        <p:spPr>
          <a:xfrm>
            <a:off x="8051760" y="1565280"/>
            <a:ext cx="696960" cy="384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直接连接符 31"/>
          <p:cNvSpPr/>
          <p:nvPr/>
        </p:nvSpPr>
        <p:spPr>
          <a:xfrm>
            <a:off x="395280" y="1565280"/>
            <a:ext cx="8353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2057"/>
          <p:cNvSpPr/>
          <p:nvPr/>
        </p:nvSpPr>
        <p:spPr>
          <a:xfrm>
            <a:off x="519120" y="2227320"/>
            <a:ext cx="9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文本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背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115"/>
          <p:cNvSpPr/>
          <p:nvPr/>
        </p:nvSpPr>
        <p:spPr>
          <a:xfrm>
            <a:off x="3265200" y="2227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填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16"/>
          <p:cNvSpPr/>
          <p:nvPr/>
        </p:nvSpPr>
        <p:spPr>
          <a:xfrm>
            <a:off x="7484760" y="222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超链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17"/>
          <p:cNvSpPr/>
          <p:nvPr/>
        </p:nvSpPr>
        <p:spPr>
          <a:xfrm>
            <a:off x="449640" y="1965240"/>
            <a:ext cx="61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</a:rPr>
              <a:t>浅 </a:t>
            </a:r>
            <a:r>
              <a:rPr b="0" lang="en-US" sz="1100" spc="-1" strike="noStrike">
                <a:solidFill>
                  <a:srgbClr val="dddddd"/>
                </a:solidFill>
                <a:latin typeface="Arial"/>
              </a:rPr>
              <a:t>/ </a:t>
            </a:r>
            <a:r>
              <a:rPr b="0" lang="zh-CN" sz="1100" spc="-1" strike="noStrike">
                <a:solidFill>
                  <a:srgbClr val="dddddd"/>
                </a:solidFill>
                <a:latin typeface="Arial"/>
              </a:rPr>
              <a:t>深色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124"/>
          <p:cNvSpPr/>
          <p:nvPr/>
        </p:nvSpPr>
        <p:spPr>
          <a:xfrm>
            <a:off x="3394080" y="196524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</a:rPr>
              <a:t>一级填充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125"/>
          <p:cNvSpPr/>
          <p:nvPr/>
        </p:nvSpPr>
        <p:spPr>
          <a:xfrm>
            <a:off x="744588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</a:rPr>
              <a:t>未访问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126"/>
          <p:cNvSpPr/>
          <p:nvPr/>
        </p:nvSpPr>
        <p:spPr>
          <a:xfrm>
            <a:off x="468468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</a:rPr>
              <a:t>二级填充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127"/>
          <p:cNvSpPr/>
          <p:nvPr/>
        </p:nvSpPr>
        <p:spPr>
          <a:xfrm>
            <a:off x="608076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</a:rPr>
              <a:t>三级填充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128"/>
          <p:cNvSpPr/>
          <p:nvPr/>
        </p:nvSpPr>
        <p:spPr>
          <a:xfrm>
            <a:off x="813960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</a:rPr>
              <a:t>已访问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直接连接符 133"/>
          <p:cNvSpPr/>
          <p:nvPr/>
        </p:nvSpPr>
        <p:spPr>
          <a:xfrm flipV="1">
            <a:off x="8748720" y="1565280"/>
            <a:ext cx="1440" cy="10000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直接连接符 134"/>
          <p:cNvSpPr/>
          <p:nvPr/>
        </p:nvSpPr>
        <p:spPr>
          <a:xfrm flipV="1">
            <a:off x="395280" y="1565280"/>
            <a:ext cx="1440" cy="10000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直接连接符 132"/>
          <p:cNvSpPr/>
          <p:nvPr/>
        </p:nvSpPr>
        <p:spPr>
          <a:xfrm>
            <a:off x="395280" y="2563920"/>
            <a:ext cx="8353440" cy="14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直接连接符 141"/>
          <p:cNvSpPr/>
          <p:nvPr/>
        </p:nvSpPr>
        <p:spPr>
          <a:xfrm>
            <a:off x="395280" y="2198520"/>
            <a:ext cx="8353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直接连接符 145"/>
          <p:cNvSpPr/>
          <p:nvPr/>
        </p:nvSpPr>
        <p:spPr>
          <a:xfrm flipV="1">
            <a:off x="3179880" y="1565280"/>
            <a:ext cx="1440" cy="10000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直接连接符 146"/>
          <p:cNvSpPr/>
          <p:nvPr/>
        </p:nvSpPr>
        <p:spPr>
          <a:xfrm flipV="1">
            <a:off x="7358040" y="1565280"/>
            <a:ext cx="1440" cy="10000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直接连接符 142"/>
          <p:cNvSpPr/>
          <p:nvPr/>
        </p:nvSpPr>
        <p:spPr>
          <a:xfrm flipV="1">
            <a:off x="4560840" y="1564920"/>
            <a:ext cx="0" cy="6332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直接连接符 147"/>
          <p:cNvSpPr/>
          <p:nvPr/>
        </p:nvSpPr>
        <p:spPr>
          <a:xfrm flipV="1">
            <a:off x="5964120" y="1564920"/>
            <a:ext cx="1800" cy="6332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直接连接符 152"/>
          <p:cNvSpPr/>
          <p:nvPr/>
        </p:nvSpPr>
        <p:spPr>
          <a:xfrm flipV="1">
            <a:off x="8051760" y="1564920"/>
            <a:ext cx="0" cy="6332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135"/>
          <p:cNvSpPr/>
          <p:nvPr/>
        </p:nvSpPr>
        <p:spPr>
          <a:xfrm>
            <a:off x="2510280" y="196524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</a:rPr>
              <a:t>描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矩形 2061"/>
          <p:cNvSpPr/>
          <p:nvPr/>
        </p:nvSpPr>
        <p:spPr>
          <a:xfrm>
            <a:off x="403200" y="3370320"/>
            <a:ext cx="2082960" cy="379440"/>
          </a:xfrm>
          <a:prstGeom prst="rect">
            <a:avLst/>
          </a:prstGeom>
          <a:solidFill>
            <a:srgbClr val="c00000"/>
          </a:solidFill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矩形 155"/>
          <p:cNvSpPr/>
          <p:nvPr/>
        </p:nvSpPr>
        <p:spPr>
          <a:xfrm>
            <a:off x="403200" y="3821040"/>
            <a:ext cx="20829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7f6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矩形 156"/>
          <p:cNvSpPr/>
          <p:nvPr/>
        </p:nvSpPr>
        <p:spPr>
          <a:xfrm>
            <a:off x="403200" y="4273560"/>
            <a:ext cx="2082960" cy="377640"/>
          </a:xfrm>
          <a:prstGeom prst="rect">
            <a:avLst/>
          </a:prstGeom>
          <a:solidFill>
            <a:srgbClr val="ff6600"/>
          </a:solidFill>
          <a:ln w="9360">
            <a:solidFill>
              <a:srgbClr val="7f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矩形 157"/>
          <p:cNvSpPr/>
          <p:nvPr/>
        </p:nvSpPr>
        <p:spPr>
          <a:xfrm>
            <a:off x="403200" y="4724280"/>
            <a:ext cx="2082960" cy="379440"/>
          </a:xfrm>
          <a:prstGeom prst="rect">
            <a:avLst/>
          </a:prstGeom>
          <a:solidFill>
            <a:srgbClr val="a5a5a5"/>
          </a:solidFill>
          <a:ln w="9360">
            <a:solidFill>
              <a:srgbClr val="52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般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矩形 158"/>
          <p:cNvSpPr/>
          <p:nvPr/>
        </p:nvSpPr>
        <p:spPr>
          <a:xfrm>
            <a:off x="403200" y="5175360"/>
            <a:ext cx="1386000" cy="379440"/>
          </a:xfrm>
          <a:prstGeom prst="rect">
            <a:avLst/>
          </a:prstGeom>
          <a:solidFill>
            <a:srgbClr val="dddddd"/>
          </a:solidFill>
          <a:ln w="9360">
            <a:solidFill>
              <a:srgbClr val="3737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样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161"/>
          <p:cNvSpPr/>
          <p:nvPr/>
        </p:nvSpPr>
        <p:spPr>
          <a:xfrm>
            <a:off x="7763400" y="5375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</a:rPr>
              <a:t>注释文字样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矩形 2063"/>
          <p:cNvSpPr/>
          <p:nvPr/>
        </p:nvSpPr>
        <p:spPr>
          <a:xfrm>
            <a:off x="554400" y="12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配色方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矩形 163"/>
          <p:cNvSpPr/>
          <p:nvPr/>
        </p:nvSpPr>
        <p:spPr>
          <a:xfrm>
            <a:off x="595800" y="300024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填充样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矩形 164"/>
          <p:cNvSpPr/>
          <p:nvPr/>
        </p:nvSpPr>
        <p:spPr>
          <a:xfrm>
            <a:off x="3369240" y="30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数据图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内容占位符 6"/>
          <p:cNvSpPr/>
          <p:nvPr/>
        </p:nvSpPr>
        <p:spPr>
          <a:xfrm>
            <a:off x="3179880" y="3332160"/>
            <a:ext cx="5568840" cy="20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直接连接符 149"/>
          <p:cNvSpPr/>
          <p:nvPr/>
        </p:nvSpPr>
        <p:spPr>
          <a:xfrm flipV="1">
            <a:off x="2482920" y="1564920"/>
            <a:ext cx="0" cy="6332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直接连接符 150"/>
          <p:cNvSpPr/>
          <p:nvPr/>
        </p:nvSpPr>
        <p:spPr>
          <a:xfrm>
            <a:off x="395280" y="1940040"/>
            <a:ext cx="8353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矩形 2053"/>
          <p:cNvSpPr/>
          <p:nvPr/>
        </p:nvSpPr>
        <p:spPr>
          <a:xfrm>
            <a:off x="1948320" y="5210280"/>
            <a:ext cx="50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ddddd"/>
                </a:solidFill>
                <a:uFillTx/>
                <a:latin typeface="Arial"/>
              </a:rPr>
              <a:t>超链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39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822400"/>
            <a:ext cx="8353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点击此处添加幻灯节标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35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3578-CF67-4189-9D0E-6EE7DF4EFD9D}" type="datetime">
              <a:rPr b="0" lang="zh-CN" sz="1200" spc="-1" strike="noStrike">
                <a:solidFill>
                  <a:srgbClr val="fefefe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页脚占位符 4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6533-AD80-45F4-8175-E61E1A1FAB8E}" type="slidenum">
              <a:rPr b="0" lang="zh-CN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6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sp>
        <p:nvSpPr>
          <p:cNvPr id="147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443C-552B-45C9-A9E0-960B84DBCF10}" type="datetime">
              <a:rPr b="0" lang="zh-CN" sz="1200" spc="-1" strike="noStrike">
                <a:solidFill>
                  <a:srgbClr val="fefefe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页脚占位符 4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灯片编号占位符 5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BB4D-2A1D-42C0-B58F-DC0E7F7BB489}" type="slidenum">
              <a:rPr b="0" lang="zh-CN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阵列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内容占位符 12"/>
          <p:cNvSpPr/>
          <p:nvPr/>
        </p:nvSpPr>
        <p:spPr>
          <a:xfrm>
            <a:off x="395280" y="1339920"/>
            <a:ext cx="8353440" cy="46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ddddd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3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89B3-EFB1-408F-9A26-A3980E383C95}" type="datetime">
              <a:rPr b="0" lang="zh-CN" sz="1200" spc="-1" strike="noStrike">
                <a:solidFill>
                  <a:srgbClr val="fefefe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页脚占位符 4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38C6-BB86-4850-9388-47D0D8D1195A}" type="slidenum">
              <a:rPr b="0" lang="zh-CN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表格样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95280" y="1339920"/>
          <a:ext cx="8353440" cy="446544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040"/>
                <a:gridCol w="1671840"/>
                <a:gridCol w="1670040"/>
              </a:tblGrid>
              <a:tr h="59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60" name="TextBox 10"/>
          <p:cNvSpPr/>
          <p:nvPr/>
        </p:nvSpPr>
        <p:spPr>
          <a:xfrm>
            <a:off x="7338960" y="5819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2"/>
          <p:cNvSpPr/>
          <p:nvPr/>
        </p:nvSpPr>
        <p:spPr>
          <a:xfrm>
            <a:off x="3076920" y="3259080"/>
            <a:ext cx="29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1"/>
              </a:rPr>
              <a:t>www.1ppt.com/jier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26FC-9581-4A0D-8EC9-B5CF8A32E760}" type="datetime">
              <a:rPr b="0" lang="zh-CN" sz="1200" spc="-1" strike="noStrike">
                <a:solidFill>
                  <a:srgbClr val="fefefe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页脚占位符 4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灯片编号占位符 5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2338-FFBE-4143-B882-0D888BD2AD4F}" type="slidenum">
              <a:rPr b="0" lang="zh-CN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6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sp>
        <p:nvSpPr>
          <p:cNvPr id="167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3952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D78E-64BB-4F2E-8134-AC393690B113}" type="datetime">
              <a:rPr b="0" lang="zh-CN" sz="1200" spc="-1" strike="noStrike">
                <a:solidFill>
                  <a:srgbClr val="fefefe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页脚占位符 4"/>
          <p:cNvSpPr/>
          <p:nvPr/>
        </p:nvSpPr>
        <p:spPr>
          <a:xfrm>
            <a:off x="312408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fefe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B9B3-55DF-4A14-B535-6FD2F0FCC29B}" type="slidenum">
              <a:rPr b="0" lang="zh-CN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2"/>
          <p:cNvGrpSpPr/>
          <p:nvPr/>
        </p:nvGrpSpPr>
        <p:grpSpPr>
          <a:xfrm>
            <a:off x="3642480" y="2943360"/>
            <a:ext cx="39240" cy="33840"/>
            <a:chOff x="3642480" y="2943360"/>
            <a:chExt cx="39240" cy="33840"/>
          </a:xfrm>
        </p:grpSpPr>
        <p:sp>
          <p:nvSpPr>
            <p:cNvPr id="172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c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矩形 18"/>
          <p:cNvSpPr/>
          <p:nvPr/>
        </p:nvSpPr>
        <p:spPr>
          <a:xfrm>
            <a:off x="631800" y="2268360"/>
            <a:ext cx="1735200" cy="6303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矩形 19"/>
          <p:cNvSpPr/>
          <p:nvPr/>
        </p:nvSpPr>
        <p:spPr>
          <a:xfrm>
            <a:off x="2682720" y="2268360"/>
            <a:ext cx="1735200" cy="6303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矩形 20"/>
          <p:cNvSpPr/>
          <p:nvPr/>
        </p:nvSpPr>
        <p:spPr>
          <a:xfrm>
            <a:off x="4734000" y="2268360"/>
            <a:ext cx="1735200" cy="6303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矩形 21"/>
          <p:cNvSpPr/>
          <p:nvPr/>
        </p:nvSpPr>
        <p:spPr>
          <a:xfrm>
            <a:off x="6784920" y="2268360"/>
            <a:ext cx="1735200" cy="6303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dfdfdf">
              <a:alpha val="2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单击此处添加图片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图片描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dddddd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21A-1DD6-434E-A945-C8E2560735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1:22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52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70C368A-58BF-4048-951A-57C3AC664DA9</vt:lpwstr>
  </property>
  <property fmtid="{D5CDD505-2E9C-101B-9397-08002B2CF9AE}" pid="3" name="ArticulatePath">
    <vt:lpwstr>点击此处添加幻灯主标题</vt:lpwstr>
  </property>
  <property fmtid="{D5CDD505-2E9C-101B-9397-08002B2CF9AE}" pid="4" name="ArticulateProjectFull">
    <vt:lpwstr>D:\SLIDEtoME\TP模板\点击此处添加幻灯主标题.ppta</vt:lpwstr>
  </property>
  <property fmtid="{D5CDD505-2E9C-101B-9397-08002B2CF9AE}" pid="5" name="ArticulateUseProject">
    <vt:lpwstr>1</vt:lpwstr>
  </property>
  <property fmtid="{D5CDD505-2E9C-101B-9397-08002B2CF9AE}" pid="6" name="KSOProductBuildVer">
    <vt:lpwstr>2052-9.1.0.5132</vt:lpwstr>
  </property>
</Properties>
</file>