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8999538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9346-51BA-41E7-BBCD-0D636E2C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0360" y="1595160"/>
            <a:ext cx="810108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0360" y="3953520"/>
            <a:ext cx="810108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B761-8760-480A-BD0D-68A7AC69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0360" y="1595160"/>
            <a:ext cx="3953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1520" y="1595160"/>
            <a:ext cx="3953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0360" y="3953520"/>
            <a:ext cx="3953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01520" y="3953520"/>
            <a:ext cx="3953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75D7-1A39-4BE3-9671-416BA5439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0360" y="1595160"/>
            <a:ext cx="260820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240" y="1595160"/>
            <a:ext cx="260820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8480" y="1595160"/>
            <a:ext cx="260820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0360" y="3953520"/>
            <a:ext cx="260820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240" y="3953520"/>
            <a:ext cx="260820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8480" y="3953520"/>
            <a:ext cx="260820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D0E0-4BAC-45FA-81AA-AC1A9FD3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0360" y="1595160"/>
            <a:ext cx="81010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B189-87A3-4389-B64E-1D200B36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0360" y="1595160"/>
            <a:ext cx="810108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EC5C-F5FC-43C5-A9F5-BEDF74D4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0360" y="1595160"/>
            <a:ext cx="39531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1520" y="1595160"/>
            <a:ext cx="39531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B554-C7B0-4591-8894-F8F5BD0B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7C7E-2A98-4FAB-92BB-5721EB5C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036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CCDE-1CA1-448B-9865-F9866E98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0360" y="1595160"/>
            <a:ext cx="3953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1520" y="1595160"/>
            <a:ext cx="39531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0360" y="3953520"/>
            <a:ext cx="3953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F610-679A-4C2A-BA22-A51FEB23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0360" y="1595160"/>
            <a:ext cx="39531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520" y="1595160"/>
            <a:ext cx="3953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01520" y="3953520"/>
            <a:ext cx="3953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E490-84D9-4166-9A22-BD4C0DE8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0360" y="1595160"/>
            <a:ext cx="3953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520" y="1595160"/>
            <a:ext cx="3953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0360" y="3953520"/>
            <a:ext cx="810108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5C02-C046-47C2-B37D-C18CD6FA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母版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001080" cy="6838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0360" y="1595160"/>
            <a:ext cx="810108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0720" y="6229440"/>
            <a:ext cx="210024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74760" y="6229440"/>
            <a:ext cx="285084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1560" y="6229440"/>
            <a:ext cx="210024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CD4A3D8F-F105-4AE7-BB37-B6E3415F6E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1026"/>
          <p:cNvGrpSpPr/>
          <p:nvPr/>
        </p:nvGrpSpPr>
        <p:grpSpPr>
          <a:xfrm>
            <a:off x="2590920" y="2514600"/>
            <a:ext cx="2590200" cy="342720"/>
            <a:chOff x="2590920" y="2514600"/>
            <a:chExt cx="2590200" cy="342720"/>
          </a:xfrm>
        </p:grpSpPr>
        <p:pic>
          <p:nvPicPr>
            <p:cNvPr id="43" name="Picture 1027" descr="下方向箭頭"/>
            <p:cNvPicPr/>
            <p:nvPr/>
          </p:nvPicPr>
          <p:blipFill>
            <a:blip r:embed="rId1"/>
            <a:stretch/>
          </p:blipFill>
          <p:spPr>
            <a:xfrm>
              <a:off x="2590920" y="2514600"/>
              <a:ext cx="215640" cy="32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1028" descr="11"/>
            <p:cNvPicPr/>
            <p:nvPr/>
          </p:nvPicPr>
          <p:blipFill>
            <a:blip r:embed="rId2"/>
            <a:stretch/>
          </p:blipFill>
          <p:spPr>
            <a:xfrm>
              <a:off x="2901960" y="2534040"/>
              <a:ext cx="114984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1029" descr="22"/>
            <p:cNvPicPr/>
            <p:nvPr/>
          </p:nvPicPr>
          <p:blipFill>
            <a:blip r:embed="rId3"/>
            <a:stretch/>
          </p:blipFill>
          <p:spPr>
            <a:xfrm>
              <a:off x="4118400" y="2643480"/>
              <a:ext cx="1062720" cy="213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32" descr="手型"/>
          <p:cNvPicPr/>
          <p:nvPr/>
        </p:nvPicPr>
        <p:blipFill>
          <a:blip r:embed="rId4"/>
          <a:stretch/>
        </p:blipFill>
        <p:spPr>
          <a:xfrm>
            <a:off x="4846680" y="2546280"/>
            <a:ext cx="2392200" cy="4294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53760" y="68436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黑色企业宣传介绍动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9520" y="914040"/>
            <a:ext cx="39625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文鼎CS中黑"/>
                <a:ea typeface="文鼎CS中黑"/>
              </a:rPr>
              <a:t>//1 </a:t>
            </a:r>
            <a:r>
              <a:rPr b="1" lang="en-US" sz="2000" spc="-1" strike="noStrike">
                <a:solidFill>
                  <a:srgbClr val="ffcc00"/>
                </a:solidFill>
                <a:latin typeface="文鼎CS中黑"/>
                <a:ea typeface="文鼎CS中黑"/>
              </a:rPr>
              <a:t>LOGO / 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5840" y="2133720"/>
            <a:ext cx="289548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文鼎CS中黑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深圳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文鼎CS中黑"/>
              </a:rPr>
              <a:t>——</a:t>
            </a:r>
            <a:r>
              <a:rPr b="0" lang="zh-CN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沃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文鼎CS中黑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深圳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文鼎CS中黑"/>
              </a:rPr>
              <a:t>——</a:t>
            </a:r>
            <a:r>
              <a:rPr b="0" lang="zh-CN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美都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文鼎CS中黑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深圳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文鼎CS中黑"/>
              </a:rPr>
              <a:t>——</a:t>
            </a:r>
            <a:r>
              <a:rPr b="0" lang="zh-CN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诺亚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文鼎CS中黑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深圳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文鼎CS中黑"/>
              </a:rPr>
              <a:t>——</a:t>
            </a:r>
            <a:r>
              <a:rPr b="0" lang="zh-CN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伊宝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文鼎CS中黑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深圳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文鼎CS中黑"/>
              </a:rPr>
              <a:t>——</a:t>
            </a:r>
            <a:r>
              <a:rPr b="0" lang="zh-CN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尚城视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文鼎CS中黑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深圳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文鼎CS中黑"/>
              </a:rPr>
              <a:t>——</a:t>
            </a:r>
            <a:r>
              <a:rPr b="0" lang="en-US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26</a:t>
            </a:r>
            <a:r>
              <a:rPr b="0" lang="zh-CN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度传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文鼎CS中黑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深圳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文鼎CS中黑"/>
              </a:rPr>
              <a:t>——</a:t>
            </a:r>
            <a:r>
              <a:rPr b="0" lang="zh-CN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海王集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文鼎CS中黑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深圳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文鼎CS中黑"/>
              </a:rPr>
              <a:t>——</a:t>
            </a:r>
            <a:r>
              <a:rPr b="0" lang="zh-CN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拓迈科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文鼎CS中黑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广州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文鼎CS中黑"/>
              </a:rPr>
              <a:t>——</a:t>
            </a:r>
            <a:r>
              <a:rPr b="0" lang="zh-CN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蝶恋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文鼎CS中黑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惠州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文鼎CS中黑"/>
              </a:rPr>
              <a:t>——</a:t>
            </a:r>
            <a:r>
              <a:rPr b="0" lang="zh-CN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惠康医疗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文鼎CS中黑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天津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文鼎CS中黑"/>
              </a:rPr>
              <a:t>——</a:t>
            </a:r>
            <a:r>
              <a:rPr b="0" lang="zh-CN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爱梦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4"/>
          <p:cNvSpPr/>
          <p:nvPr/>
        </p:nvSpPr>
        <p:spPr>
          <a:xfrm>
            <a:off x="3886200" y="1981080"/>
            <a:ext cx="44956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1528920" y="2309760"/>
            <a:ext cx="5329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学敏姓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视觉形象运营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做一件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在商业设计中寻求视觉美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下方向箭頭"/>
          <p:cNvPicPr/>
          <p:nvPr/>
        </p:nvPicPr>
        <p:blipFill>
          <a:blip r:embed="rId1"/>
          <a:stretch/>
        </p:blipFill>
        <p:spPr>
          <a:xfrm>
            <a:off x="3976560" y="4330800"/>
            <a:ext cx="362160" cy="2412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1"/>
          <p:cNvSpPr/>
          <p:nvPr/>
        </p:nvSpPr>
        <p:spPr>
          <a:xfrm>
            <a:off x="1817640" y="2386080"/>
            <a:ext cx="216000" cy="1439640"/>
          </a:xfrm>
          <a:custGeom>
            <a:avLst/>
            <a:gdLst>
              <a:gd name="textAreaLeft" fmla="*/ 63360 w 216000"/>
              <a:gd name="textAreaRight" fmla="*/ 216360 w 216000"/>
              <a:gd name="textAreaTop" fmla="*/ 59760 h 1439640"/>
              <a:gd name="textAreaBottom" fmla="*/ 137988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/>
          <p:cNvSpPr/>
          <p:nvPr/>
        </p:nvSpPr>
        <p:spPr>
          <a:xfrm flipH="1">
            <a:off x="6281640" y="2457360"/>
            <a:ext cx="216000" cy="1440000"/>
          </a:xfrm>
          <a:custGeom>
            <a:avLst/>
            <a:gdLst>
              <a:gd name="textAreaLeft" fmla="*/ 63720 w 216000"/>
              <a:gd name="textAreaRight" fmla="*/ 216720 w 216000"/>
              <a:gd name="textAreaTop" fmla="*/ 59760 h 1440000"/>
              <a:gd name="textAreaBottom" fmla="*/ 138024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026"/>
          <p:cNvSpPr/>
          <p:nvPr/>
        </p:nvSpPr>
        <p:spPr>
          <a:xfrm>
            <a:off x="3807000" y="47973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四大战役，全面出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7"/>
          <p:cNvSpPr/>
          <p:nvPr/>
        </p:nvSpPr>
        <p:spPr>
          <a:xfrm>
            <a:off x="684360" y="2276640"/>
            <a:ext cx="1368360" cy="1438200"/>
          </a:xfrm>
          <a:prstGeom prst="rect">
            <a:avLst/>
          </a:prstGeom>
          <a:solidFill>
            <a:srgbClr val="4d4d4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28"/>
          <p:cNvSpPr/>
          <p:nvPr/>
        </p:nvSpPr>
        <p:spPr>
          <a:xfrm>
            <a:off x="2700360" y="2276640"/>
            <a:ext cx="1368360" cy="1438200"/>
          </a:xfrm>
          <a:prstGeom prst="rect">
            <a:avLst/>
          </a:prstGeom>
          <a:solidFill>
            <a:srgbClr val="4d4d4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杂志画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29"/>
          <p:cNvSpPr/>
          <p:nvPr/>
        </p:nvSpPr>
        <p:spPr>
          <a:xfrm>
            <a:off x="4716360" y="2276640"/>
            <a:ext cx="1368360" cy="1438200"/>
          </a:xfrm>
          <a:prstGeom prst="rect">
            <a:avLst/>
          </a:prstGeom>
          <a:solidFill>
            <a:srgbClr val="4d4d4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环境空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0"/>
          <p:cNvSpPr/>
          <p:nvPr/>
        </p:nvSpPr>
        <p:spPr>
          <a:xfrm>
            <a:off x="6732720" y="2276640"/>
            <a:ext cx="1368360" cy="1438200"/>
          </a:xfrm>
          <a:prstGeom prst="rect">
            <a:avLst/>
          </a:prstGeom>
          <a:solidFill>
            <a:srgbClr val="4d4d4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包装单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31" descr="下方向箭頭"/>
          <p:cNvPicPr/>
          <p:nvPr/>
        </p:nvPicPr>
        <p:blipFill>
          <a:blip r:embed="rId1"/>
          <a:stretch/>
        </p:blipFill>
        <p:spPr>
          <a:xfrm>
            <a:off x="2268360" y="2924280"/>
            <a:ext cx="193680" cy="290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32" descr="下方向箭頭"/>
          <p:cNvPicPr/>
          <p:nvPr/>
        </p:nvPicPr>
        <p:blipFill>
          <a:blip r:embed="rId2"/>
          <a:stretch/>
        </p:blipFill>
        <p:spPr>
          <a:xfrm>
            <a:off x="4248000" y="2924280"/>
            <a:ext cx="181080" cy="272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33" descr="下方向箭頭"/>
          <p:cNvPicPr/>
          <p:nvPr/>
        </p:nvPicPr>
        <p:blipFill>
          <a:blip r:embed="rId3"/>
          <a:stretch/>
        </p:blipFill>
        <p:spPr>
          <a:xfrm>
            <a:off x="6300720" y="2905200"/>
            <a:ext cx="204840" cy="307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12720" y="40687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5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75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75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75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75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75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75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914400" y="2286000"/>
            <a:ext cx="1368360" cy="1008000"/>
          </a:xfrm>
          <a:prstGeom prst="rect">
            <a:avLst/>
          </a:prstGeom>
          <a:solidFill>
            <a:srgbClr val="4d4d4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环境空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右箭頭"/>
          <p:cNvPicPr/>
          <p:nvPr/>
        </p:nvPicPr>
        <p:blipFill>
          <a:blip r:embed="rId1"/>
          <a:stretch/>
        </p:blipFill>
        <p:spPr>
          <a:xfrm>
            <a:off x="7485120" y="2514600"/>
            <a:ext cx="287280" cy="182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右箭頭"/>
          <p:cNvPicPr/>
          <p:nvPr/>
        </p:nvPicPr>
        <p:blipFill>
          <a:blip r:embed="rId2"/>
          <a:stretch/>
        </p:blipFill>
        <p:spPr>
          <a:xfrm>
            <a:off x="2354400" y="2514600"/>
            <a:ext cx="287280" cy="182520"/>
          </a:xfrm>
          <a:prstGeom prst="rect">
            <a:avLst/>
          </a:prstGeom>
          <a:ln w="0">
            <a:noFill/>
          </a:ln>
        </p:spPr>
      </p:pic>
      <p:sp>
        <p:nvSpPr>
          <p:cNvPr id="68" name="Line 5"/>
          <p:cNvSpPr/>
          <p:nvPr/>
        </p:nvSpPr>
        <p:spPr>
          <a:xfrm>
            <a:off x="2641680" y="2860560"/>
            <a:ext cx="4968720" cy="0"/>
          </a:xfrm>
          <a:prstGeom prst="line">
            <a:avLst/>
          </a:prstGeom>
          <a:ln w="93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647800" y="23749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华文细黑"/>
              </a:rPr>
              <a:t>26</a:t>
            </a:r>
            <a:r>
              <a:rPr b="1" i="1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度：不只是最佳温度，最广气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571840" y="2884320"/>
            <a:ext cx="51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Not only the best temperature , the widest m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0080" y="189000"/>
            <a:ext cx="8080200" cy="57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5840" y="1266840"/>
            <a:ext cx="8788680" cy="520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172280" y="333360"/>
            <a:ext cx="1368360" cy="347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9280-86A9-4E3E-8DB7-5DD4252EB5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3851280" y="5784840"/>
            <a:ext cx="4033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宋体"/>
              </a:rPr>
              <a:t>Power Presented b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"/>
          <p:cNvSpPr/>
          <p:nvPr/>
        </p:nvSpPr>
        <p:spPr>
          <a:xfrm>
            <a:off x="3881520" y="6381720"/>
            <a:ext cx="4362480" cy="144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>
            <a:off x="3881520" y="5805360"/>
            <a:ext cx="4362480" cy="180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3780000" y="4869000"/>
            <a:ext cx="460836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ffcc00"/>
                </a:solidFill>
                <a:latin typeface="Arial Black"/>
                <a:ea typeface="宋体"/>
              </a:rPr>
              <a:t>Thanks! 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2"/>
          <p:cNvGrpSpPr/>
          <p:nvPr/>
        </p:nvGrpSpPr>
        <p:grpSpPr>
          <a:xfrm>
            <a:off x="6324480" y="5943600"/>
            <a:ext cx="1919160" cy="271080"/>
            <a:chOff x="6324480" y="5943600"/>
            <a:chExt cx="1919160" cy="271080"/>
          </a:xfrm>
        </p:grpSpPr>
        <p:pic>
          <p:nvPicPr>
            <p:cNvPr id="79" name="Picture 10" descr="11"/>
            <p:cNvPicPr/>
            <p:nvPr/>
          </p:nvPicPr>
          <p:blipFill>
            <a:blip r:embed="rId1"/>
            <a:stretch/>
          </p:blipFill>
          <p:spPr>
            <a:xfrm>
              <a:off x="6324480" y="5943600"/>
              <a:ext cx="9680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11" descr="22"/>
            <p:cNvPicPr/>
            <p:nvPr/>
          </p:nvPicPr>
          <p:blipFill>
            <a:blip r:embed="rId2"/>
            <a:stretch/>
          </p:blipFill>
          <p:spPr>
            <a:xfrm>
              <a:off x="7348680" y="6035400"/>
              <a:ext cx="894960" cy="179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76"/>
                            </p:stCondLst>
                            <p:childTnLst>
                              <p:par>
                                <p:cTn id="1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76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76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0T12:29:46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6:27Z</dcterms:modified>
  <cp:revision>17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