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2.png"/>
          <p:cNvPicPr/>
          <p:nvPr/>
        </p:nvPicPr>
        <p:blipFill>
          <a:blip r:embed="rId2"/>
          <a:srcRect l="0" t="0" r="0" b="8987"/>
          <a:stretch/>
        </p:blipFill>
        <p:spPr>
          <a:xfrm>
            <a:off x="0" y="0"/>
            <a:ext cx="9144000" cy="62420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" descr="3.png"/>
          <p:cNvPicPr/>
          <p:nvPr/>
        </p:nvPicPr>
        <p:blipFill>
          <a:blip r:embed="rId3"/>
          <a:stretch/>
        </p:blipFill>
        <p:spPr>
          <a:xfrm>
            <a:off x="1428840" y="4002120"/>
            <a:ext cx="2905200" cy="2212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6" descr="4.png"/>
          <p:cNvPicPr/>
          <p:nvPr/>
        </p:nvPicPr>
        <p:blipFill>
          <a:blip r:embed="rId4"/>
          <a:stretch/>
        </p:blipFill>
        <p:spPr>
          <a:xfrm>
            <a:off x="1928880" y="4521240"/>
            <a:ext cx="3946320" cy="1908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4.png"/>
          <p:cNvPicPr/>
          <p:nvPr/>
        </p:nvPicPr>
        <p:blipFill>
          <a:blip r:embed="rId5"/>
          <a:srcRect l="23437" t="63386" r="32177" b="5207"/>
          <a:stretch/>
        </p:blipFill>
        <p:spPr>
          <a:xfrm>
            <a:off x="2143080" y="4375080"/>
            <a:ext cx="3737160" cy="19828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" descr="5.png"/>
          <p:cNvPicPr/>
          <p:nvPr/>
        </p:nvPicPr>
        <p:blipFill>
          <a:blip r:embed="rId6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6.png"/>
          <p:cNvPicPr/>
          <p:nvPr/>
        </p:nvPicPr>
        <p:blipFill>
          <a:blip r:embed="rId7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" descr="7.png"/>
          <p:cNvPicPr/>
          <p:nvPr/>
        </p:nvPicPr>
        <p:blipFill>
          <a:blip r:embed="rId8"/>
          <a:stretch/>
        </p:blipFill>
        <p:spPr>
          <a:xfrm>
            <a:off x="0" y="2643120"/>
            <a:ext cx="3071880" cy="42148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8.png"/>
          <p:cNvPicPr/>
          <p:nvPr/>
        </p:nvPicPr>
        <p:blipFill>
          <a:blip r:embed="rId9"/>
          <a:stretch/>
        </p:blipFill>
        <p:spPr>
          <a:xfrm>
            <a:off x="0" y="464328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9.png"/>
          <p:cNvPicPr/>
          <p:nvPr/>
        </p:nvPicPr>
        <p:blipFill>
          <a:blip r:embed="rId10"/>
          <a:stretch/>
        </p:blipFill>
        <p:spPr>
          <a:xfrm>
            <a:off x="4572000" y="0"/>
            <a:ext cx="4572000" cy="3929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2" descr="10.png"/>
          <p:cNvPicPr/>
          <p:nvPr/>
        </p:nvPicPr>
        <p:blipFill>
          <a:blip r:embed="rId11"/>
          <a:srcRect l="58594" t="0" r="0" b="55213"/>
          <a:stretch/>
        </p:blipFill>
        <p:spPr>
          <a:xfrm>
            <a:off x="5357880" y="0"/>
            <a:ext cx="3786120" cy="3071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3" descr="11.png"/>
          <p:cNvPicPr/>
          <p:nvPr/>
        </p:nvPicPr>
        <p:blipFill>
          <a:blip r:embed="rId12"/>
          <a:stretch/>
        </p:blipFill>
        <p:spPr>
          <a:xfrm>
            <a:off x="7786800" y="4071960"/>
            <a:ext cx="1500120" cy="1785960"/>
          </a:xfrm>
          <a:prstGeom prst="rect">
            <a:avLst/>
          </a:prstGeom>
          <a:ln w="0">
            <a:noFill/>
          </a:ln>
        </p:spPr>
      </p:pic>
      <p:sp>
        <p:nvSpPr>
          <p:cNvPr id="89" name="TextBox 15"/>
          <p:cNvSpPr/>
          <p:nvPr/>
        </p:nvSpPr>
        <p:spPr>
          <a:xfrm>
            <a:off x="5329800" y="4429080"/>
            <a:ext cx="2737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暖了，花开了，碧水庭院，该买了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在繁华都市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居住，我更喜欢安静点的地方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欢那种离尘不离城的悠然空间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种繁华之外的宁静生活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春暖花开的日子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民心河畔邂逅碧水庭院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年的居住理想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此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了清晰的图象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7" descr="5.png"/>
          <p:cNvPicPr/>
          <p:nvPr/>
        </p:nvPicPr>
        <p:blipFill>
          <a:blip r:embed="rId1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8" descr="5.png"/>
          <p:cNvPicPr/>
          <p:nvPr/>
        </p:nvPicPr>
        <p:blipFill>
          <a:blip r:embed="rId1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1"/>
          <p:cNvSpPr/>
          <p:nvPr/>
        </p:nvSpPr>
        <p:spPr>
          <a:xfrm>
            <a:off x="5357880" y="6383160"/>
            <a:ext cx="37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中秋专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39680" y="9097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荷塘月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9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1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" fill="hold">
                                          <p:stCondLst>
                                            <p:cond delay="81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8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3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800"/>
                            </p:stCondLst>
                            <p:childTnLst>
                              <p:par>
                                <p:cTn id="35" nodeType="after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C 0.0757 -0.05 0.14445 -0.08333 0.25209 -0.03055 C 0.25209 -0.03032 0.32014 0.03334 0.42986 0.03889 C 0.52848 0.03611 0.62361 -0.03078 0.62361 -0.03055 C 0.67014 -0.04745 0.6882 -0.03611 0.71042 -0.00532 E">
                                      <p:cBhvr>
                                        <p:cTn id="4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2.96296E-006 C 0.07049 -0.05 0.13421 -0.08334 0.23455 -0.03056 C 0.23455 -0.03033 0.29792 0.03333 0.40018 0.03889 C 0.49202 0.03611 0.58056 -0.03079 0.58056 -0.03056 C 0.62379 -0.04746 0.64063 -0.03611 0.66146 -0.00533 E">
                                      <p:cBhvr>
                                        <p:cTn id="45" dur="18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61111E-006 -2.59259E-006 C 0.0757 -0.05 0.14445 -0.08333 0.25209 -0.03055 C 0.25209 -0.03032 0.32014 0.03334 0.42986 0.03889 C 0.52848 0.03611 0.62361 -0.03078 0.62361 -0.03055 C 0.67014 -0.04745 0.6882 -0.03611 0.71042 -0.00532 E">
                                      <p:cBhvr>
                                        <p:cTn id="47" dur="17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4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643800" y="45720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 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85880" y="1828800"/>
            <a:ext cx="7215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唐朝，最富有传奇色彩的就是游夜宫的传说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相传唐玄宗与申天师及道士鸿都中秋望月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突然玄宗兴起游月宫之念，于是天师作法，三人一起步上青云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漫游月宫，但宫前有守卫森严，无法进入，只能在外俯瞰长安皇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此之际，忽闻仙声阵阵，清丽奇绝，宛转动人！唐玄宗素来熟通音律，于是默记心中。这正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此曲只应天上有，人间哪得几回闻！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后玄宗回忆月宫仙娥的音乐歌声，自己又谱曲编舞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便是历史上有名的“霓裳羽衣曲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52"/>
          <p:cNvGrpSpPr/>
          <p:nvPr/>
        </p:nvGrpSpPr>
        <p:grpSpPr>
          <a:xfrm>
            <a:off x="1143000" y="2000160"/>
            <a:ext cx="6429240" cy="719280"/>
            <a:chOff x="1143000" y="2000160"/>
            <a:chExt cx="6429240" cy="719280"/>
          </a:xfrm>
        </p:grpSpPr>
        <p:grpSp>
          <p:nvGrpSpPr>
            <p:cNvPr id="98" name="组合 26"/>
            <p:cNvGrpSpPr/>
            <p:nvPr/>
          </p:nvGrpSpPr>
          <p:grpSpPr>
            <a:xfrm>
              <a:off x="1143000" y="2000160"/>
              <a:ext cx="6429240" cy="719280"/>
              <a:chOff x="1143000" y="2000160"/>
              <a:chExt cx="6429240" cy="719280"/>
            </a:xfrm>
          </p:grpSpPr>
          <p:sp>
            <p:nvSpPr>
              <p:cNvPr id="99" name="AutoShape 3"/>
              <p:cNvSpPr/>
              <p:nvPr/>
            </p:nvSpPr>
            <p:spPr>
              <a:xfrm>
                <a:off x="1144440" y="2000160"/>
                <a:ext cx="642636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bacc6"/>
                  </a:gs>
                  <a:gs pos="100000">
                    <a:srgbClr val="2159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3"/>
              <p:cNvSpPr/>
              <p:nvPr/>
            </p:nvSpPr>
            <p:spPr>
              <a:xfrm>
                <a:off x="1143000" y="2089080"/>
                <a:ext cx="6429240" cy="54144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Box 38"/>
            <p:cNvSpPr/>
            <p:nvPr/>
          </p:nvSpPr>
          <p:spPr>
            <a:xfrm>
              <a:off x="2788920" y="2175120"/>
              <a:ext cx="313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51"/>
          <p:cNvGrpSpPr/>
          <p:nvPr/>
        </p:nvGrpSpPr>
        <p:grpSpPr>
          <a:xfrm>
            <a:off x="1143000" y="3139920"/>
            <a:ext cx="6429240" cy="719280"/>
            <a:chOff x="1143000" y="3139920"/>
            <a:chExt cx="6429240" cy="719280"/>
          </a:xfrm>
        </p:grpSpPr>
        <p:grpSp>
          <p:nvGrpSpPr>
            <p:cNvPr id="103" name="组合 42"/>
            <p:cNvGrpSpPr/>
            <p:nvPr/>
          </p:nvGrpSpPr>
          <p:grpSpPr>
            <a:xfrm>
              <a:off x="1143000" y="3139920"/>
              <a:ext cx="6429240" cy="719280"/>
              <a:chOff x="1143000" y="3139920"/>
              <a:chExt cx="6429240" cy="719280"/>
            </a:xfrm>
          </p:grpSpPr>
          <p:sp>
            <p:nvSpPr>
              <p:cNvPr id="104" name="AutoShape 3"/>
              <p:cNvSpPr/>
              <p:nvPr/>
            </p:nvSpPr>
            <p:spPr>
              <a:xfrm>
                <a:off x="1144440" y="3139920"/>
                <a:ext cx="642636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bacc6"/>
                  </a:gs>
                  <a:gs pos="100000">
                    <a:srgbClr val="2159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3"/>
              <p:cNvSpPr/>
              <p:nvPr/>
            </p:nvSpPr>
            <p:spPr>
              <a:xfrm>
                <a:off x="1143000" y="3228840"/>
                <a:ext cx="6429240" cy="54144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Box 45"/>
            <p:cNvSpPr/>
            <p:nvPr/>
          </p:nvSpPr>
          <p:spPr>
            <a:xfrm>
              <a:off x="2788920" y="3314880"/>
              <a:ext cx="313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50"/>
          <p:cNvGrpSpPr/>
          <p:nvPr/>
        </p:nvGrpSpPr>
        <p:grpSpPr>
          <a:xfrm>
            <a:off x="1143000" y="4290840"/>
            <a:ext cx="6429240" cy="719280"/>
            <a:chOff x="1143000" y="4290840"/>
            <a:chExt cx="6429240" cy="719280"/>
          </a:xfrm>
        </p:grpSpPr>
        <p:grpSp>
          <p:nvGrpSpPr>
            <p:cNvPr id="108" name="组合 46"/>
            <p:cNvGrpSpPr/>
            <p:nvPr/>
          </p:nvGrpSpPr>
          <p:grpSpPr>
            <a:xfrm>
              <a:off x="1143000" y="4290840"/>
              <a:ext cx="6429240" cy="719280"/>
              <a:chOff x="1143000" y="4290840"/>
              <a:chExt cx="6429240" cy="719280"/>
            </a:xfrm>
          </p:grpSpPr>
          <p:sp>
            <p:nvSpPr>
              <p:cNvPr id="109" name="AutoShape 3"/>
              <p:cNvSpPr/>
              <p:nvPr/>
            </p:nvSpPr>
            <p:spPr>
              <a:xfrm>
                <a:off x="1144440" y="4290840"/>
                <a:ext cx="642636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bacc6"/>
                  </a:gs>
                  <a:gs pos="100000">
                    <a:srgbClr val="2159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3"/>
              <p:cNvSpPr/>
              <p:nvPr/>
            </p:nvSpPr>
            <p:spPr>
              <a:xfrm>
                <a:off x="1143000" y="4379760"/>
                <a:ext cx="6429240" cy="541440"/>
              </a:xfrm>
              <a:prstGeom prst="roundRect">
                <a:avLst>
                  <a:gd name="adj" fmla="val 16667"/>
                </a:avLst>
              </a:prstGeom>
              <a:solidFill>
                <a:srgbClr val="7f7f7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49"/>
            <p:cNvSpPr/>
            <p:nvPr/>
          </p:nvSpPr>
          <p:spPr>
            <a:xfrm>
              <a:off x="2788920" y="4465800"/>
              <a:ext cx="313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1"/>
          <p:cNvSpPr/>
          <p:nvPr/>
        </p:nvSpPr>
        <p:spPr>
          <a:xfrm>
            <a:off x="6643800" y="45720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6643800" y="38592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6" descr="1.png"/>
          <p:cNvPicPr/>
          <p:nvPr/>
        </p:nvPicPr>
        <p:blipFill>
          <a:blip r:embed="rId1"/>
          <a:stretch/>
        </p:blipFill>
        <p:spPr>
          <a:xfrm>
            <a:off x="1384200" y="1042920"/>
            <a:ext cx="5911920" cy="39625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1357200" y="507204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朝末年，汉人打算起来反抗蒙古人的统治，却苦于无从传递消息。后来刘伯温想出一条计策，到处散布流言，说有冬瘟流行，除非家家户户都在中秋节买月饼来吃，才能避免。人们买了月饼回到家中，发觉里面藏着纸条，上面写着：“中秋夜，杀鞑子，迎义军！” 于是众人纷纷起义反抗统治者，中秋节吃月饼的习俗就是这样留下来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4" descr="2.png"/>
          <p:cNvPicPr/>
          <p:nvPr/>
        </p:nvPicPr>
        <p:blipFill>
          <a:blip r:embed="rId2"/>
          <a:srcRect l="0" t="0" r="0" b="8987"/>
          <a:stretch/>
        </p:blipFill>
        <p:spPr>
          <a:xfrm>
            <a:off x="0" y="0"/>
            <a:ext cx="9144000" cy="624204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5" descr="3.png"/>
          <p:cNvPicPr/>
          <p:nvPr/>
        </p:nvPicPr>
        <p:blipFill>
          <a:blip r:embed="rId3"/>
          <a:stretch/>
        </p:blipFill>
        <p:spPr>
          <a:xfrm>
            <a:off x="1428840" y="4002120"/>
            <a:ext cx="2905200" cy="22129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6" descr="4.png"/>
          <p:cNvPicPr/>
          <p:nvPr/>
        </p:nvPicPr>
        <p:blipFill>
          <a:blip r:embed="rId4"/>
          <a:stretch/>
        </p:blipFill>
        <p:spPr>
          <a:xfrm>
            <a:off x="1928880" y="4521240"/>
            <a:ext cx="3946320" cy="1908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6" descr="4.png"/>
          <p:cNvPicPr/>
          <p:nvPr/>
        </p:nvPicPr>
        <p:blipFill>
          <a:blip r:embed="rId5"/>
          <a:srcRect l="23437" t="63386" r="32177" b="5207"/>
          <a:stretch/>
        </p:blipFill>
        <p:spPr>
          <a:xfrm>
            <a:off x="2143080" y="4375080"/>
            <a:ext cx="3737160" cy="1982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7" descr="5.png"/>
          <p:cNvPicPr/>
          <p:nvPr/>
        </p:nvPicPr>
        <p:blipFill>
          <a:blip r:embed="rId6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" descr="6.png"/>
          <p:cNvPicPr/>
          <p:nvPr/>
        </p:nvPicPr>
        <p:blipFill>
          <a:blip r:embed="rId7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" descr="7.png"/>
          <p:cNvPicPr/>
          <p:nvPr/>
        </p:nvPicPr>
        <p:blipFill>
          <a:blip r:embed="rId8"/>
          <a:stretch/>
        </p:blipFill>
        <p:spPr>
          <a:xfrm>
            <a:off x="0" y="2643120"/>
            <a:ext cx="3071880" cy="42148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8.png"/>
          <p:cNvPicPr/>
          <p:nvPr/>
        </p:nvPicPr>
        <p:blipFill>
          <a:blip r:embed="rId9"/>
          <a:stretch/>
        </p:blipFill>
        <p:spPr>
          <a:xfrm>
            <a:off x="0" y="464328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9.png"/>
          <p:cNvPicPr/>
          <p:nvPr/>
        </p:nvPicPr>
        <p:blipFill>
          <a:blip r:embed="rId10"/>
          <a:stretch/>
        </p:blipFill>
        <p:spPr>
          <a:xfrm>
            <a:off x="4572000" y="0"/>
            <a:ext cx="4572000" cy="39290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2" descr="10.png"/>
          <p:cNvPicPr/>
          <p:nvPr/>
        </p:nvPicPr>
        <p:blipFill>
          <a:blip r:embed="rId11"/>
          <a:srcRect l="58594" t="0" r="0" b="55213"/>
          <a:stretch/>
        </p:blipFill>
        <p:spPr>
          <a:xfrm>
            <a:off x="5357880" y="0"/>
            <a:ext cx="3786120" cy="30718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3" descr="11.png"/>
          <p:cNvPicPr/>
          <p:nvPr/>
        </p:nvPicPr>
        <p:blipFill>
          <a:blip r:embed="rId12"/>
          <a:stretch/>
        </p:blipFill>
        <p:spPr>
          <a:xfrm>
            <a:off x="7786800" y="4071960"/>
            <a:ext cx="1500120" cy="1785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5"/>
          <p:cNvSpPr/>
          <p:nvPr/>
        </p:nvSpPr>
        <p:spPr>
          <a:xfrm>
            <a:off x="5329800" y="4429080"/>
            <a:ext cx="2737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暖了，花开了，碧水庭院，该买了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在繁华都市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居住，我更喜欢安静点的地方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欢那种离尘不离城的悠然空间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种繁华之外的宁静生活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春暖花开的日子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民心河畔邂逅碧水庭院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年的居住理想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此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了清晰的图象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7" descr="5.png"/>
          <p:cNvPicPr/>
          <p:nvPr/>
        </p:nvPicPr>
        <p:blipFill>
          <a:blip r:embed="rId1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8" descr="5.png"/>
          <p:cNvPicPr/>
          <p:nvPr/>
        </p:nvPicPr>
        <p:blipFill>
          <a:blip r:embed="rId1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9"/>
          <p:cNvSpPr/>
          <p:nvPr/>
        </p:nvSpPr>
        <p:spPr>
          <a:xfrm>
            <a:off x="6858000" y="614376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6962760" y="638316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9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1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" fill="hold">
                                          <p:stCondLst>
                                            <p:cond delay="81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8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3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2" nodeType="after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C 0.0757 -0.05 0.14445 -0.08333 0.25209 -0.03055 C 0.25209 -0.03032 0.32014 0.03334 0.42986 0.03889 C 0.52848 0.03611 0.62361 -0.03078 0.62361 -0.03055 C 0.67014 -0.04745 0.6882 -0.03611 0.71042 -0.00532 E">
                                      <p:cBhvr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2.96296E-006 C 0.07049 -0.05 0.13421 -0.08334 0.23455 -0.03056 C 0.23455 -0.03033 0.29792 0.03333 0.40018 0.03889 C 0.49202 0.03611 0.58056 -0.03079 0.58056 -0.03056 C 0.62379 -0.04746 0.64063 -0.03611 0.66146 -0.00533 E">
                                      <p:cBhvr>
                                        <p:cTn id="132" dur="18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61111E-006 -2.59259E-006 C 0.0757 -0.05 0.14445 -0.08333 0.25209 -0.03055 C 0.25209 -0.03032 0.32014 0.03334 0.42986 0.03889 C 0.52848 0.03611 0.62361 -0.03078 0.62361 -0.03055 C 0.67014 -0.04745 0.6882 -0.03611 0.71042 -0.00532 E">
                                      <p:cBhvr>
                                        <p:cTn id="134" dur="17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4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1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8:17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37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