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44F8-FBA5-4683-AB81-C0E17EA5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EF92-584A-47C1-B45D-70C5A3C6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9976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5F58-F638-49CC-ABB1-97263A6A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9976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9976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1870-CB7A-4566-B3D3-5DF0204A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B9DF-83FC-40CD-B354-183B991D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9976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3DBF-0BD4-46C3-B3FD-4881278C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D10B-8DA1-4E5A-88C4-9BCA19CA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401580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99760"/>
            <a:ext cx="401580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BB05-EB67-4797-A526-9C8EFF26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413B-EF95-4646-95AC-948FBF9F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642960"/>
            <a:ext cx="822960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CA77-12A5-4150-AFB3-F9503ABB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99760"/>
            <a:ext cx="401580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3F7F-2DBD-4E68-81C9-01977FC7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9976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0C98-501E-40D6-9A23-AE5D8E13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401580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9976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3852-8480-41C8-9444-A32BBF2D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9976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0E77-075A-491F-8164-831B5D36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0447-1682-417E-BAA9-FE8CAF6A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9976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BCD0-1C72-480D-81C9-2C2D829A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9976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9976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E25F-37BA-444F-AC5E-D657D384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D4F7-B183-4B62-8679-6AD04924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401580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99760"/>
            <a:ext cx="401580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2402-EF11-43DD-9EB5-D4A4BBC7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154A-6B68-42A2-98D1-45F6EE2F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42960"/>
            <a:ext cx="822960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4006-52FE-4C65-AF0A-334300BD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99760"/>
            <a:ext cx="401580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ED16-EE68-494F-8D9D-85A61297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401580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9976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82DD-00C9-4CF2-9C61-B2F6CF91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9976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C278-6A94-4A70-AB27-6BD2EA70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鱼不愚\桌面\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粗倩简体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9976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ACE0-FE2D-40FA-8F8C-ADD7C8403E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鱼不愚\桌面\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:\Documents and Settings\鱼不愚\桌面\未标题-1副本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粗倩简体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9976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CA84-DA4B-455D-AE40-4820EDBE57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47640" y="2501640"/>
            <a:ext cx="702504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粗倩简体"/>
              </a:rPr>
              <a:t>虎运连年幻灯片在线下载</a:t>
            </a:r>
            <a:endParaRPr b="0" lang="en-US" sz="4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29120" y="3571560"/>
            <a:ext cx="357192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7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倩简体"/>
              </a:rPr>
              <a:t>模板使用说明</a:t>
            </a: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9976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添加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0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版本选择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】——【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】——【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下调整；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07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版本选择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】——【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在模板中添加您的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图片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字体格式的设置：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本模板默认标题字体为“方正粗倩简体”，文本字体为“微软雅黑”，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如需修改字体请在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下载使用须知：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转载时请注明原创作者，请勿私自改动后提供该模板的下载，免费模板设计素材来自网络共享资源，请勿将模板应用于任何商业行为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"/>
          <p:cNvSpPr/>
          <p:nvPr/>
        </p:nvSpPr>
        <p:spPr>
          <a:xfrm>
            <a:off x="466560" y="1270080"/>
            <a:ext cx="503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倩简体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92F0-4A62-4BBC-8EE6-E4D344C7D9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3200" y="2500200"/>
            <a:ext cx="5143680" cy="13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粗倩简体"/>
              </a:rPr>
              <a:t>       </a:t>
            </a:r>
            <a:r>
              <a:rPr b="0" i="1" lang="zh-CN" sz="4800" spc="-1" strike="noStrike">
                <a:solidFill>
                  <a:srgbClr val="ffffff"/>
                </a:solidFill>
                <a:latin typeface="方正粗倩简体"/>
              </a:rPr>
              <a:t>感谢聆听！</a:t>
            </a:r>
            <a:endParaRPr b="0" lang="en-US" sz="48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142880" y="3571560"/>
            <a:ext cx="4714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微软雅黑"/>
              </a:rPr>
              <a:t>Thanks for your time!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2:13:05Z</dcterms:created>
  <dc:creator>pc</dc:creator>
  <dc:description>www.eeppt.com;</dc:description>
  <cp:keywords>www.eeppt.com</cp:keywords>
  <dc:language>en-US</dc:language>
  <cp:lastModifiedBy>jccook</cp:lastModifiedBy>
  <dcterms:modified xsi:type="dcterms:W3CDTF">2015-09-18T13:25:09Z</dcterms:modified>
  <cp:revision>10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