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A4C-9D60-4144-8E4F-2CCFA08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0C1-F6C0-41DA-B34C-E9DF1335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81C-411E-4D4F-8A11-5DB41088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F18-557C-4A45-AB7B-E2C0C005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EC6-A3B6-4767-8702-B72F6871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F4F-2D4D-4DCC-8E62-B4C3A8B6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A4E-37B9-4F0C-B806-5B109EE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074-2244-4834-A424-B550EC8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F5B-9B21-415A-9759-BC15B605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DDA-AF79-42A5-8A02-C71D766D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B9D-7FB9-4FEE-8D32-F649A57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991-752E-4C8F-803C-F3AD9BA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1BC7-0915-4B54-A96D-DDF7ECB18F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898520" y="1357200"/>
            <a:ext cx="6670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958640" y="2517480"/>
            <a:ext cx="54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535720" y="1357200"/>
            <a:ext cx="393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382360" y="1357200"/>
            <a:ext cx="3326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71320" y="44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鸿运羊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CAC-56E1-4940-97F0-D1F4B78A7C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50695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4977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4977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2140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712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426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211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42892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06908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140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783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497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497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426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426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2997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3140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2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