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C28-2A2D-46D7-B082-2F6921DF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184-EDCE-4C23-9882-30AE2C6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AEC-A81D-4D41-BF5D-FF26BF1A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7D6-7CDE-4CC4-B95B-3971CACD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3436-AC4F-4AC0-B4B3-61A462FC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E22B-9AC6-4EDC-8B1F-78214D38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E7AD-BFB9-40F1-9FD7-2EAFD48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9B95-0C5F-48A6-8203-5B8AC9A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D6CD-7AB0-47A2-BF04-4E18DF5B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051-E335-46BB-9D91-E5AEB92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6813-A3EF-4C6B-B38D-DC0F9E9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78D-6C7C-49AB-A1C3-9C5C864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35FF-F347-41B7-B6AD-632CCC0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E3EF-597C-4BCD-AA41-EE112F7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29F-4DB5-4E64-96F7-040940C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F34E-BF03-4815-8121-6F0E624B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35053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704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677-02D4-4523-B891-F3170AB1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A49-D620-4B10-A511-A1DD1961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82F-E704-41A3-AE7D-26B20D5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7EF-7221-4EA1-9731-757822C3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F10-7CD3-4A47-86C7-8BA249A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2F9-26C6-448E-B35A-0F9BD0D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704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742-AAAD-461F-BFB8-5AE0A57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35053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04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07E-A463-4CA1-83C4-0DA0367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81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81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BD2E-FC0B-4351-BC6D-F6354A800A92}" type="slidenum"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231040" cy="309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52280" y="5943600"/>
            <a:ext cx="883944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larendon Condensed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-36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09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larendon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EAC-ECDD-4382-B8D2-9EA32ACE577C}" type="slidenum">
              <a:rPr b="1" lang="en-US" sz="1400" spc="-1" strike="noStrike">
                <a:solidFill>
                  <a:srgbClr val="ffffff"/>
                </a:solidFill>
                <a:latin typeface="Clarendon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8231040" cy="30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larendon Condensed"/>
              </a:rPr>
              <a:t>Simple By Choice</a:t>
            </a:r>
            <a:endParaRPr b="1" lang="en-US" sz="5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1360" y="9144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简洁大方蓝色企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37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Transitional Pag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828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larendon Condensed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larendon Condensed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larendon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Medium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9CA-91D9-4CD6-AAE2-E5B40BFE5505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larendon Condensed"/>
              </a:rPr>
              <a:t>Elements</a:t>
            </a:r>
            <a:endParaRPr b="1" lang="en-US" sz="4800" spc="-1" strike="noStrike">
              <a:solidFill>
                <a:srgbClr val="ffffff"/>
              </a:solidFill>
              <a:latin typeface="Clarendon Condense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31040" cy="309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52280" y="1981080"/>
            <a:ext cx="8839440" cy="784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